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57165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67D6-82FF-447C-BD92-71AA6840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3840" y="546444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A08E-0511-4797-A7EA-852E4C6B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1960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98E9-C656-4E15-AB75-288B11B7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6028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2708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384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6028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2708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5C3D-FE26-4803-8BCC-10C905E32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08E8-88DF-4F74-93D7-86596FE5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A96B-4B20-4EDA-8975-0A2FAE44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9377-F901-4530-9F8C-E519BEC5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3973-D275-485B-897B-87F1A8F8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8946-D58E-496F-9F02-D2ED5477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3840" y="487440"/>
            <a:ext cx="4929120" cy="81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0FE9-54B9-41E6-B956-6AD6C175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ABF6-85B6-43DD-937E-8572FABB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7546-6939-44FC-956A-45901C77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1960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324D-9777-412A-AF55-F5986797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BD60-32D4-41A0-A6E0-FD5FE109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3840" y="546444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48FC-E908-4326-BB8E-EDFCF79D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1960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B669-49D0-4AF7-9EDC-421F94998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06028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2708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384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06028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2708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9C6E-026F-4D5E-872B-7F91ACB9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03EE-3EEB-4309-9E5E-77D9FBE3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AD75-4761-4B3C-B72E-B2973632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058B-6337-4D6E-841C-6FDCC9F3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3840" y="487440"/>
            <a:ext cx="4929120" cy="81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8715-86E5-436B-8ABC-1FB51C18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4DFC-8C2C-4547-B582-1A8E81FB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1960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7427-1A83-458E-A970-73AF1707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E8C5-07D1-44FB-8CD4-37B71027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40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1" marL="2890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2" marL="480960" indent="-95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3" marL="674640" indent="-95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4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5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6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3480" y="8475480"/>
            <a:ext cx="1285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5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5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93960" y="8475480"/>
            <a:ext cx="19288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37040" y="8475480"/>
            <a:ext cx="1285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5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8F740040-9301-4EE2-99A9-4626400B3F8A}" type="slidenum">
              <a:rPr b="0" lang="zh-CN" sz="5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40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1" marL="2890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2" marL="480960" indent="-95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3" marL="674640" indent="-95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4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5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6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93480" y="8475480"/>
            <a:ext cx="1285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just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30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just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0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3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893960" y="8475480"/>
            <a:ext cx="19288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037040" y="8475480"/>
            <a:ext cx="1285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just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30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just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5ADCF61A-7039-4E45-9667-E1B7D1CA273E}" type="slidenum">
              <a:rPr b="0" lang="zh-CN" sz="30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hapter 1-3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后练习</a:t>
            </a: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3" name="矩形 2"/>
          <p:cNvSpPr/>
          <p:nvPr/>
        </p:nvSpPr>
        <p:spPr>
          <a:xfrm>
            <a:off x="127080" y="7873920"/>
            <a:ext cx="5460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等线"/>
              </a:rPr>
              <a:t>*</a:t>
            </a:r>
            <a:r>
              <a:rPr b="0" lang="zh-CN" sz="2000" spc="-1" strike="noStrike">
                <a:solidFill>
                  <a:srgbClr val="ff0000"/>
                </a:solidFill>
                <a:latin typeface="等线"/>
              </a:rPr>
              <a:t>此封面页请勿删除，删除后将无法上传至试卷库，添加菜单栏任意题型即可制作试卷。本提示将在上传时自动隐藏。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7"/>
          <p:cNvSpPr/>
          <p:nvPr/>
        </p:nvSpPr>
        <p:spPr>
          <a:xfrm>
            <a:off x="571680" y="1359000"/>
            <a:ext cx="4508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 indent="-360360"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6. 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关于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DNA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双螺旋结构学说的叙述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哪一项是错误的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9" name="矩形 8"/>
          <p:cNvSpPr/>
          <p:nvPr/>
        </p:nvSpPr>
        <p:spPr>
          <a:xfrm>
            <a:off x="1174680" y="3213000"/>
            <a:ext cx="3905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由两条反向平行的</a:t>
            </a:r>
            <a:r>
              <a:rPr b="0" lang="en-US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链组成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0" name="椭圆 9"/>
          <p:cNvSpPr/>
          <p:nvPr/>
        </p:nvSpPr>
        <p:spPr>
          <a:xfrm>
            <a:off x="571680" y="3200400"/>
            <a:ext cx="549000" cy="549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1" name="矩形 10"/>
          <p:cNvSpPr/>
          <p:nvPr/>
        </p:nvSpPr>
        <p:spPr>
          <a:xfrm>
            <a:off x="1174680" y="4113000"/>
            <a:ext cx="3913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碱基具有严格的配对关系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2" name="椭圆 11"/>
          <p:cNvSpPr/>
          <p:nvPr/>
        </p:nvSpPr>
        <p:spPr>
          <a:xfrm>
            <a:off x="571680" y="4114800"/>
            <a:ext cx="549000" cy="549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3" name="矩形 12"/>
          <p:cNvSpPr/>
          <p:nvPr/>
        </p:nvSpPr>
        <p:spPr>
          <a:xfrm>
            <a:off x="1174680" y="5041800"/>
            <a:ext cx="3814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戊糖和磷酸组成的骨架在外侧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4" name="椭圆 13"/>
          <p:cNvSpPr/>
          <p:nvPr/>
        </p:nvSpPr>
        <p:spPr>
          <a:xfrm>
            <a:off x="571680" y="5029200"/>
            <a:ext cx="549000" cy="549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5" name="矩形 14"/>
          <p:cNvSpPr/>
          <p:nvPr/>
        </p:nvSpPr>
        <p:spPr>
          <a:xfrm>
            <a:off x="1174680" y="5941800"/>
            <a:ext cx="3583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碱基平面垂直于中心轴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6" name="椭圆 15"/>
          <p:cNvSpPr/>
          <p:nvPr/>
        </p:nvSpPr>
        <p:spPr>
          <a:xfrm>
            <a:off x="571680" y="5943600"/>
            <a:ext cx="549000" cy="549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7" name="矩形 16"/>
          <p:cNvSpPr/>
          <p:nvPr/>
        </p:nvSpPr>
        <p:spPr>
          <a:xfrm>
            <a:off x="1174680" y="6869520"/>
            <a:ext cx="3905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生物细胞中所有</a:t>
            </a:r>
            <a:r>
              <a:rPr b="0" lang="en-US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二级结构都是右手螺旋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8" name="椭圆 17"/>
          <p:cNvSpPr/>
          <p:nvPr/>
        </p:nvSpPr>
        <p:spPr>
          <a:xfrm>
            <a:off x="571680" y="6858000"/>
            <a:ext cx="549000" cy="54936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89" name="组合 6"/>
          <p:cNvGrpSpPr/>
          <p:nvPr/>
        </p:nvGrpSpPr>
        <p:grpSpPr>
          <a:xfrm>
            <a:off x="0" y="0"/>
            <a:ext cx="5715000" cy="635040"/>
            <a:chOff x="0" y="0"/>
            <a:chExt cx="5715000" cy="635040"/>
          </a:xfrm>
        </p:grpSpPr>
        <p:sp>
          <p:nvSpPr>
            <p:cNvPr id="190" name="TitleBackground"/>
            <p:cNvSpPr/>
            <p:nvPr/>
          </p:nvSpPr>
          <p:spPr>
            <a:xfrm>
              <a:off x="0" y="0"/>
              <a:ext cx="5715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1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2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单选题</a:t>
              </a:r>
              <a:endParaRPr b="0" lang="en-US" sz="2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3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94" name="图片 1" descr=""/>
          <p:cNvPicPr/>
          <p:nvPr/>
        </p:nvPicPr>
        <p:blipFill>
          <a:blip r:embed="rId1"/>
          <a:stretch/>
        </p:blipFill>
        <p:spPr>
          <a:xfrm>
            <a:off x="4165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矩形 7"/>
          <p:cNvSpPr/>
          <p:nvPr/>
        </p:nvSpPr>
        <p:spPr>
          <a:xfrm>
            <a:off x="571680" y="1656000"/>
            <a:ext cx="44179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 indent="-360360"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7. 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下列关于核酸结构的叙述错误的是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6" name="矩形 8"/>
          <p:cNvSpPr/>
          <p:nvPr/>
        </p:nvSpPr>
        <p:spPr>
          <a:xfrm>
            <a:off x="1152360" y="3166920"/>
            <a:ext cx="4096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双螺旋表面有一深沟和浅沟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7" name="椭圆 9"/>
          <p:cNvSpPr/>
          <p:nvPr/>
        </p:nvSpPr>
        <p:spPr>
          <a:xfrm>
            <a:off x="547560" y="3154320"/>
            <a:ext cx="549360" cy="549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8" name="矩形 10"/>
          <p:cNvSpPr/>
          <p:nvPr/>
        </p:nvSpPr>
        <p:spPr>
          <a:xfrm>
            <a:off x="1152360" y="4080240"/>
            <a:ext cx="4096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双螺旋结构中上、下碱基间存在碱基堆积力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9" name="椭圆 11"/>
          <p:cNvSpPr/>
          <p:nvPr/>
        </p:nvSpPr>
        <p:spPr>
          <a:xfrm>
            <a:off x="547560" y="4068720"/>
            <a:ext cx="549360" cy="549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0" name="矩形 12"/>
          <p:cNvSpPr/>
          <p:nvPr/>
        </p:nvSpPr>
        <p:spPr>
          <a:xfrm>
            <a:off x="1152360" y="4995720"/>
            <a:ext cx="4192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双螺旋结构仅存在于</a:t>
            </a:r>
            <a:r>
              <a:rPr b="0" lang="en-US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分子中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1" name="椭圆 13"/>
          <p:cNvSpPr/>
          <p:nvPr/>
        </p:nvSpPr>
        <p:spPr>
          <a:xfrm>
            <a:off x="547560" y="4983120"/>
            <a:ext cx="549360" cy="54936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2" name="矩形 14"/>
          <p:cNvSpPr/>
          <p:nvPr/>
        </p:nvSpPr>
        <p:spPr>
          <a:xfrm>
            <a:off x="1152360" y="5910120"/>
            <a:ext cx="4156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双螺旋结构也存在于</a:t>
            </a:r>
            <a:r>
              <a:rPr b="0" lang="en-US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RNA</a:t>
            </a: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分子中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3" name="椭圆 15"/>
          <p:cNvSpPr/>
          <p:nvPr/>
        </p:nvSpPr>
        <p:spPr>
          <a:xfrm>
            <a:off x="547560" y="5897520"/>
            <a:ext cx="549360" cy="549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4" name="矩形 16"/>
          <p:cNvSpPr/>
          <p:nvPr/>
        </p:nvSpPr>
        <p:spPr>
          <a:xfrm>
            <a:off x="1152360" y="6824520"/>
            <a:ext cx="4096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双螺旋结构区存在有碱基互补关系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5" name="椭圆 17"/>
          <p:cNvSpPr/>
          <p:nvPr/>
        </p:nvSpPr>
        <p:spPr>
          <a:xfrm>
            <a:off x="547560" y="6811920"/>
            <a:ext cx="549360" cy="549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06" name="组合 6"/>
          <p:cNvGrpSpPr/>
          <p:nvPr/>
        </p:nvGrpSpPr>
        <p:grpSpPr>
          <a:xfrm>
            <a:off x="0" y="0"/>
            <a:ext cx="5715000" cy="635040"/>
            <a:chOff x="0" y="0"/>
            <a:chExt cx="5715000" cy="635040"/>
          </a:xfrm>
        </p:grpSpPr>
        <p:sp>
          <p:nvSpPr>
            <p:cNvPr id="207" name="TitleBackground"/>
            <p:cNvSpPr/>
            <p:nvPr/>
          </p:nvSpPr>
          <p:spPr>
            <a:xfrm>
              <a:off x="0" y="0"/>
              <a:ext cx="5715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8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9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单选题</a:t>
              </a:r>
              <a:endParaRPr b="0" lang="en-US" sz="2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0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211" name="图片 1" descr=""/>
          <p:cNvPicPr/>
          <p:nvPr/>
        </p:nvPicPr>
        <p:blipFill>
          <a:blip r:embed="rId1"/>
          <a:stretch/>
        </p:blipFill>
        <p:spPr>
          <a:xfrm>
            <a:off x="4165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矩形 7"/>
          <p:cNvSpPr/>
          <p:nvPr/>
        </p:nvSpPr>
        <p:spPr>
          <a:xfrm>
            <a:off x="571680" y="1359360"/>
            <a:ext cx="4508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 indent="-360360"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1.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促进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DNA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双螺旋结构稳定的作用力主要包括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3" name="矩形 8"/>
          <p:cNvSpPr/>
          <p:nvPr/>
        </p:nvSpPr>
        <p:spPr>
          <a:xfrm>
            <a:off x="1322280" y="3215160"/>
            <a:ext cx="32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分子中的磷酸二酯键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4" name="矩形 9"/>
          <p:cNvSpPr/>
          <p:nvPr/>
        </p:nvSpPr>
        <p:spPr>
          <a:xfrm>
            <a:off x="719280" y="3139920"/>
            <a:ext cx="547560" cy="5493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5" name="矩形 10"/>
          <p:cNvSpPr/>
          <p:nvPr/>
        </p:nvSpPr>
        <p:spPr>
          <a:xfrm>
            <a:off x="1322280" y="4129560"/>
            <a:ext cx="292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碱基对之间的氢键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6" name="矩形 11"/>
          <p:cNvSpPr/>
          <p:nvPr/>
        </p:nvSpPr>
        <p:spPr>
          <a:xfrm>
            <a:off x="719280" y="4054320"/>
            <a:ext cx="547560" cy="54936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7" name="矩形 12"/>
          <p:cNvSpPr/>
          <p:nvPr/>
        </p:nvSpPr>
        <p:spPr>
          <a:xfrm>
            <a:off x="1322280" y="5043960"/>
            <a:ext cx="32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碱基平面间的堆积力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8" name="矩形 13"/>
          <p:cNvSpPr/>
          <p:nvPr/>
        </p:nvSpPr>
        <p:spPr>
          <a:xfrm>
            <a:off x="719280" y="4968720"/>
            <a:ext cx="547560" cy="54936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9" name="矩形 14"/>
          <p:cNvSpPr/>
          <p:nvPr/>
        </p:nvSpPr>
        <p:spPr>
          <a:xfrm>
            <a:off x="1322280" y="5958360"/>
            <a:ext cx="35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磷酸戊糖骨架的支撑力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0" name="矩形 15"/>
          <p:cNvSpPr/>
          <p:nvPr/>
        </p:nvSpPr>
        <p:spPr>
          <a:xfrm>
            <a:off x="719280" y="5883120"/>
            <a:ext cx="547560" cy="5493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1" name="矩形 16"/>
          <p:cNvSpPr/>
          <p:nvPr/>
        </p:nvSpPr>
        <p:spPr>
          <a:xfrm>
            <a:off x="1322280" y="6885360"/>
            <a:ext cx="38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骨架上磷酸之间的负电排斥力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2" name="矩形 17"/>
          <p:cNvSpPr/>
          <p:nvPr/>
        </p:nvSpPr>
        <p:spPr>
          <a:xfrm>
            <a:off x="719280" y="6797520"/>
            <a:ext cx="547560" cy="5493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23" name="组合 22"/>
          <p:cNvGrpSpPr/>
          <p:nvPr/>
        </p:nvGrpSpPr>
        <p:grpSpPr>
          <a:xfrm>
            <a:off x="0" y="0"/>
            <a:ext cx="5715000" cy="635040"/>
            <a:chOff x="0" y="0"/>
            <a:chExt cx="5715000" cy="635040"/>
          </a:xfrm>
        </p:grpSpPr>
        <p:sp>
          <p:nvSpPr>
            <p:cNvPr id="224" name="TitleBackground"/>
            <p:cNvSpPr/>
            <p:nvPr/>
          </p:nvSpPr>
          <p:spPr>
            <a:xfrm>
              <a:off x="0" y="0"/>
              <a:ext cx="5715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5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6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多选题</a:t>
              </a:r>
              <a:endParaRPr b="0" lang="en-US" sz="2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7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228" name="图片 1" descr=""/>
          <p:cNvPicPr/>
          <p:nvPr/>
        </p:nvPicPr>
        <p:blipFill>
          <a:blip r:embed="rId1"/>
          <a:stretch/>
        </p:blipFill>
        <p:spPr>
          <a:xfrm>
            <a:off x="4165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7"/>
          <p:cNvSpPr/>
          <p:nvPr/>
        </p:nvSpPr>
        <p:spPr>
          <a:xfrm>
            <a:off x="403200" y="1280160"/>
            <a:ext cx="4473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 indent="-360360"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2. 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关于 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DNA 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双螺旋结构模型的描述正确的有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0" name="矩形 8"/>
          <p:cNvSpPr/>
          <p:nvPr/>
        </p:nvSpPr>
        <p:spPr>
          <a:xfrm>
            <a:off x="1103400" y="3121560"/>
            <a:ext cx="3879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腺嘌呤的分子数等于胸腺嘧啶的分子数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1" name="矩形 9"/>
          <p:cNvSpPr/>
          <p:nvPr/>
        </p:nvSpPr>
        <p:spPr>
          <a:xfrm>
            <a:off x="500040" y="3110040"/>
            <a:ext cx="547560" cy="54756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2" name="矩形 10"/>
          <p:cNvSpPr/>
          <p:nvPr/>
        </p:nvSpPr>
        <p:spPr>
          <a:xfrm>
            <a:off x="1103400" y="4035240"/>
            <a:ext cx="4484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双螺旋中碱基对位于内侧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3" name="矩形 11"/>
          <p:cNvSpPr/>
          <p:nvPr/>
        </p:nvSpPr>
        <p:spPr>
          <a:xfrm>
            <a:off x="500040" y="4024440"/>
            <a:ext cx="547560" cy="54756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4" name="矩形 12"/>
          <p:cNvSpPr/>
          <p:nvPr/>
        </p:nvSpPr>
        <p:spPr>
          <a:xfrm>
            <a:off x="1103400" y="4949640"/>
            <a:ext cx="4311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每</a:t>
            </a:r>
            <a:r>
              <a:rPr b="0" lang="en-US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10.5</a:t>
            </a: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个</a:t>
            </a:r>
            <a:r>
              <a:rPr b="0" lang="en-US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bp </a:t>
            </a: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盘绕一周</a:t>
            </a:r>
            <a:r>
              <a:rPr b="0" lang="en-US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螺距为</a:t>
            </a:r>
            <a:r>
              <a:rPr b="0" lang="en-US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3.4nm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5" name="矩形 13"/>
          <p:cNvSpPr/>
          <p:nvPr/>
        </p:nvSpPr>
        <p:spPr>
          <a:xfrm>
            <a:off x="500040" y="4938840"/>
            <a:ext cx="547560" cy="54756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6" name="矩形 14"/>
          <p:cNvSpPr/>
          <p:nvPr/>
        </p:nvSpPr>
        <p:spPr>
          <a:xfrm>
            <a:off x="1103400" y="5601240"/>
            <a:ext cx="400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双螺旋结构的稳定 </a:t>
            </a:r>
            <a:r>
              <a:rPr b="0" lang="en-US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横向依靠两条链互补碱基间的氢键维系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7" name="矩形 15"/>
          <p:cNvSpPr/>
          <p:nvPr/>
        </p:nvSpPr>
        <p:spPr>
          <a:xfrm>
            <a:off x="500040" y="5883120"/>
            <a:ext cx="547560" cy="54936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8" name="矩形 16"/>
          <p:cNvSpPr/>
          <p:nvPr/>
        </p:nvSpPr>
        <p:spPr>
          <a:xfrm>
            <a:off x="1103400" y="6661800"/>
            <a:ext cx="400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双螺旋结构的稳定纵向依靠碱基平面的疏水性堆积力维系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9" name="矩形 17"/>
          <p:cNvSpPr/>
          <p:nvPr/>
        </p:nvSpPr>
        <p:spPr>
          <a:xfrm>
            <a:off x="500040" y="6897600"/>
            <a:ext cx="547560" cy="54936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40" name="组合 22"/>
          <p:cNvGrpSpPr/>
          <p:nvPr/>
        </p:nvGrpSpPr>
        <p:grpSpPr>
          <a:xfrm>
            <a:off x="0" y="0"/>
            <a:ext cx="5715000" cy="635040"/>
            <a:chOff x="0" y="0"/>
            <a:chExt cx="5715000" cy="635040"/>
          </a:xfrm>
        </p:grpSpPr>
        <p:sp>
          <p:nvSpPr>
            <p:cNvPr id="241" name="TitleBackground"/>
            <p:cNvSpPr/>
            <p:nvPr/>
          </p:nvSpPr>
          <p:spPr>
            <a:xfrm>
              <a:off x="0" y="0"/>
              <a:ext cx="5715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2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3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多选题</a:t>
              </a:r>
              <a:endParaRPr b="0" lang="en-US" sz="2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4" name="TipText"/>
            <p:cNvSpPr/>
            <p:nvPr/>
          </p:nvSpPr>
          <p:spPr>
            <a:xfrm>
              <a:off x="1525680" y="10944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245" name="图片 1" descr=""/>
          <p:cNvPicPr/>
          <p:nvPr/>
        </p:nvPicPr>
        <p:blipFill>
          <a:blip r:embed="rId1"/>
          <a:stretch/>
        </p:blipFill>
        <p:spPr>
          <a:xfrm>
            <a:off x="4165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7"/>
          <p:cNvSpPr/>
          <p:nvPr/>
        </p:nvSpPr>
        <p:spPr>
          <a:xfrm>
            <a:off x="571680" y="1656000"/>
            <a:ext cx="45003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 indent="-360360"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3. 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关于 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DNA 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的碱基组成，正确的说法是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7" name="矩形 8"/>
          <p:cNvSpPr/>
          <p:nvPr/>
        </p:nvSpPr>
        <p:spPr>
          <a:xfrm>
            <a:off x="1166760" y="3102120"/>
            <a:ext cx="389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腺嘌呤与鸟嘌呤分子数相等，胞嘧啶与胸腺嘧啶分子数相等</a:t>
            </a:r>
            <a:endParaRPr b="0" lang="en-US" sz="2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8" name="矩形 9"/>
          <p:cNvSpPr/>
          <p:nvPr/>
        </p:nvSpPr>
        <p:spPr>
          <a:xfrm>
            <a:off x="507960" y="3238560"/>
            <a:ext cx="549360" cy="5493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9" name="矩形 10"/>
          <p:cNvSpPr/>
          <p:nvPr/>
        </p:nvSpPr>
        <p:spPr>
          <a:xfrm>
            <a:off x="1166760" y="4226400"/>
            <a:ext cx="389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不同种属 </a:t>
            </a:r>
            <a:r>
              <a:rPr b="0" lang="en-US" sz="22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DNA </a:t>
            </a:r>
            <a:r>
              <a:rPr b="0" lang="zh-CN" sz="22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碱基组成比例不同</a:t>
            </a:r>
            <a:endParaRPr b="0" lang="en-US" sz="2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0" name="矩形 11"/>
          <p:cNvSpPr/>
          <p:nvPr/>
        </p:nvSpPr>
        <p:spPr>
          <a:xfrm>
            <a:off x="507960" y="4152960"/>
            <a:ext cx="549360" cy="54936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1" name="矩形 12"/>
          <p:cNvSpPr/>
          <p:nvPr/>
        </p:nvSpPr>
        <p:spPr>
          <a:xfrm>
            <a:off x="1166760" y="5140800"/>
            <a:ext cx="389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同一生物的不同器官</a:t>
            </a:r>
            <a:r>
              <a:rPr b="0" lang="en-US" sz="22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DNA</a:t>
            </a:r>
            <a:r>
              <a:rPr b="0" lang="zh-CN" sz="22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碱基组成不同</a:t>
            </a:r>
            <a:endParaRPr b="0" lang="en-US" sz="2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2" name="矩形 13"/>
          <p:cNvSpPr/>
          <p:nvPr/>
        </p:nvSpPr>
        <p:spPr>
          <a:xfrm>
            <a:off x="507960" y="5067360"/>
            <a:ext cx="549360" cy="5493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3" name="矩形 14"/>
          <p:cNvSpPr/>
          <p:nvPr/>
        </p:nvSpPr>
        <p:spPr>
          <a:xfrm>
            <a:off x="1166760" y="6055200"/>
            <a:ext cx="429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年龄增长但 </a:t>
            </a:r>
            <a:r>
              <a:rPr b="0" lang="en-US" sz="22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DNA </a:t>
            </a:r>
            <a:r>
              <a:rPr b="0" lang="zh-CN" sz="22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碱基组成不变</a:t>
            </a:r>
            <a:endParaRPr b="0" lang="en-US" sz="2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4" name="矩形 15"/>
          <p:cNvSpPr/>
          <p:nvPr/>
        </p:nvSpPr>
        <p:spPr>
          <a:xfrm>
            <a:off x="507960" y="5981760"/>
            <a:ext cx="549360" cy="54936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5" name="矩形 16"/>
          <p:cNvSpPr/>
          <p:nvPr/>
        </p:nvSpPr>
        <p:spPr>
          <a:xfrm>
            <a:off x="1166760" y="6955920"/>
            <a:ext cx="3111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DNA </a:t>
            </a:r>
            <a:r>
              <a:rPr b="0" lang="zh-CN" sz="22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中含有尿嘧啶</a:t>
            </a:r>
            <a:endParaRPr b="0" lang="en-US" sz="2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6" name="矩形 17"/>
          <p:cNvSpPr/>
          <p:nvPr/>
        </p:nvSpPr>
        <p:spPr>
          <a:xfrm>
            <a:off x="507960" y="6896160"/>
            <a:ext cx="549360" cy="5493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57" name="组合 22"/>
          <p:cNvGrpSpPr/>
          <p:nvPr/>
        </p:nvGrpSpPr>
        <p:grpSpPr>
          <a:xfrm>
            <a:off x="0" y="0"/>
            <a:ext cx="5715000" cy="635040"/>
            <a:chOff x="0" y="0"/>
            <a:chExt cx="5715000" cy="635040"/>
          </a:xfrm>
        </p:grpSpPr>
        <p:sp>
          <p:nvSpPr>
            <p:cNvPr id="258" name="TitleBackground"/>
            <p:cNvSpPr/>
            <p:nvPr/>
          </p:nvSpPr>
          <p:spPr>
            <a:xfrm>
              <a:off x="0" y="0"/>
              <a:ext cx="5715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9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0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多选题</a:t>
              </a:r>
              <a:endParaRPr b="0" lang="en-US" sz="2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1" name="TipText"/>
            <p:cNvSpPr/>
            <p:nvPr/>
          </p:nvSpPr>
          <p:spPr>
            <a:xfrm>
              <a:off x="1525680" y="10944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262" name="图片 1" descr=""/>
          <p:cNvPicPr/>
          <p:nvPr/>
        </p:nvPicPr>
        <p:blipFill>
          <a:blip r:embed="rId1"/>
          <a:stretch/>
        </p:blipFill>
        <p:spPr>
          <a:xfrm>
            <a:off x="4165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直接连接符 6"/>
          <p:cNvSpPr/>
          <p:nvPr/>
        </p:nvSpPr>
        <p:spPr>
          <a:xfrm>
            <a:off x="2738520" y="4519440"/>
            <a:ext cx="24526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64" name="矩形 4" descr=""/>
          <p:cNvPicPr/>
          <p:nvPr/>
        </p:nvPicPr>
        <p:blipFill>
          <a:blip r:embed="rId1"/>
          <a:stretch/>
        </p:blipFill>
        <p:spPr>
          <a:xfrm>
            <a:off x="3121200" y="3754440"/>
            <a:ext cx="1841400" cy="61596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7" descr=""/>
          <p:cNvPicPr/>
          <p:nvPr/>
        </p:nvPicPr>
        <p:blipFill>
          <a:blip r:embed="rId2"/>
          <a:stretch/>
        </p:blipFill>
        <p:spPr>
          <a:xfrm>
            <a:off x="0" y="5329080"/>
            <a:ext cx="571500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5760" y="425520"/>
            <a:ext cx="1575000" cy="45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hapter 1-3</a:t>
            </a: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36680" y="1476360"/>
            <a:ext cx="27194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Nucleic Acids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08040" y="3782880"/>
            <a:ext cx="48308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4760" indent="-104760">
              <a:lnSpc>
                <a:spcPct val="150000"/>
              </a:lnSpc>
              <a:spcBef>
                <a:spcPts val="425"/>
              </a:spcBef>
              <a:buClr>
                <a:srgbClr val="44546a"/>
              </a:buClr>
              <a:buSzPct val="85000"/>
              <a:buFont typeface="Arial"/>
              <a:buChar char="•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 double helix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marL="104760" indent="-104760">
              <a:lnSpc>
                <a:spcPct val="150000"/>
              </a:lnSpc>
              <a:spcBef>
                <a:spcPts val="425"/>
              </a:spcBef>
              <a:buClr>
                <a:srgbClr val="44546a"/>
              </a:buClr>
              <a:buSzPct val="85000"/>
              <a:buFont typeface="Arial"/>
              <a:buChar char="•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lternate secondary structure of DNA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7" name="文本框 1"/>
          <p:cNvSpPr/>
          <p:nvPr/>
        </p:nvSpPr>
        <p:spPr>
          <a:xfrm>
            <a:off x="930240" y="2233440"/>
            <a:ext cx="3610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迷人的双螺旋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88" name="图片 1" descr=""/>
          <p:cNvPicPr/>
          <p:nvPr/>
        </p:nvPicPr>
        <p:blipFill>
          <a:blip r:embed="rId1"/>
          <a:stretch/>
        </p:blipFill>
        <p:spPr>
          <a:xfrm>
            <a:off x="0" y="5329080"/>
            <a:ext cx="571500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68000" y="1149480"/>
            <a:ext cx="4807080" cy="733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．掌握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螺旋结构的特点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链间序列互补，反向平行，双螺旋的直径约为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nm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完整的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螺旋中含有约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.5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碱基对，螺距约为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4nm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螺旋形成大沟和小沟及其生物学意义；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螺旋的不同构象：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B-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-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Z-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特点及其存在环境。了解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螺旋结构并非刚性十足，一成不变的，其骨架链具有一定的灵活性，碱基可以反转到糖磷酸骨架链的外侧，为理解第四讲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损伤修复中碱基的切除打下基础。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8440" y="286920"/>
            <a:ext cx="2930760" cy="530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节重点内容</a:t>
            </a:r>
            <a:endParaRPr b="0" lang="en-US" sz="2800" spc="-1" strike="noStrike">
              <a:solidFill>
                <a:srgbClr val="000000"/>
              </a:solidFill>
              <a:latin typeface="等线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68000" y="1149480"/>
            <a:ext cx="4807080" cy="733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．了解其他的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级结构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滑动结构、十字交叉结构、三股螺旋及四股螺旋结构。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解二级结构的异常可能会影响基因的功能，导致疾病的发生。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8440" y="286920"/>
            <a:ext cx="2930760" cy="530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节重点内容</a:t>
            </a:r>
            <a:endParaRPr b="0" lang="en-US" sz="2800" spc="-1" strike="noStrike">
              <a:solidFill>
                <a:srgbClr val="000000"/>
              </a:solidFill>
              <a:latin typeface="等线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9"/>
          <p:cNvSpPr/>
          <p:nvPr/>
        </p:nvSpPr>
        <p:spPr>
          <a:xfrm>
            <a:off x="571680" y="1359000"/>
            <a:ext cx="4454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 indent="-360360"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1. 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关于 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DNA 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的二级结构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叙述错误的是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4" name="矩形 10"/>
          <p:cNvSpPr/>
          <p:nvPr/>
        </p:nvSpPr>
        <p:spPr>
          <a:xfrm>
            <a:off x="1174680" y="2985480"/>
            <a:ext cx="39006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和</a:t>
            </a:r>
            <a:r>
              <a:rPr b="0" lang="en-US" sz="22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T</a:t>
            </a:r>
            <a:r>
              <a:rPr b="0" lang="zh-CN" sz="22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之间形成三个氢键</a:t>
            </a:r>
            <a:r>
              <a:rPr b="0" lang="en-US" sz="22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,G</a:t>
            </a:r>
            <a:r>
              <a:rPr b="0" lang="zh-CN" sz="22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和</a:t>
            </a:r>
            <a:r>
              <a:rPr b="0" lang="en-US" sz="22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C</a:t>
            </a:r>
            <a:r>
              <a:rPr b="0" lang="zh-CN" sz="22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之间形成两个氢键</a:t>
            </a:r>
            <a:endParaRPr b="0" lang="en-US" sz="2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5" name="椭圆 11"/>
          <p:cNvSpPr/>
          <p:nvPr/>
        </p:nvSpPr>
        <p:spPr>
          <a:xfrm>
            <a:off x="571680" y="3247920"/>
            <a:ext cx="549000" cy="54936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1174680" y="4138920"/>
            <a:ext cx="3913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碱基位于双螺旋结构内侧</a:t>
            </a:r>
            <a:endParaRPr b="0" lang="en-US" sz="2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7" name="椭圆 13"/>
          <p:cNvSpPr/>
          <p:nvPr/>
        </p:nvSpPr>
        <p:spPr>
          <a:xfrm>
            <a:off x="571680" y="4162320"/>
            <a:ext cx="549000" cy="549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8" name="矩形 14"/>
          <p:cNvSpPr/>
          <p:nvPr/>
        </p:nvSpPr>
        <p:spPr>
          <a:xfrm>
            <a:off x="1174680" y="5053320"/>
            <a:ext cx="3583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碱基对之间存在堆积力</a:t>
            </a:r>
            <a:endParaRPr b="0" lang="en-US" sz="2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9" name="椭圆 15"/>
          <p:cNvSpPr/>
          <p:nvPr/>
        </p:nvSpPr>
        <p:spPr>
          <a:xfrm>
            <a:off x="571680" y="5076720"/>
            <a:ext cx="549000" cy="549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0" name="矩形 16"/>
          <p:cNvSpPr/>
          <p:nvPr/>
        </p:nvSpPr>
        <p:spPr>
          <a:xfrm>
            <a:off x="1174680" y="5967720"/>
            <a:ext cx="2922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两条链的走向相反</a:t>
            </a:r>
            <a:endParaRPr b="0" lang="en-US" sz="2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1" name="椭圆 17"/>
          <p:cNvSpPr/>
          <p:nvPr/>
        </p:nvSpPr>
        <p:spPr>
          <a:xfrm>
            <a:off x="571680" y="5991120"/>
            <a:ext cx="549000" cy="549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2" name="矩形 18"/>
          <p:cNvSpPr/>
          <p:nvPr/>
        </p:nvSpPr>
        <p:spPr>
          <a:xfrm>
            <a:off x="1174680" y="6894720"/>
            <a:ext cx="3814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双螺旋结构表面有大沟和小沟</a:t>
            </a:r>
            <a:endParaRPr b="0" lang="en-US" sz="2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3" name="椭圆 19"/>
          <p:cNvSpPr/>
          <p:nvPr/>
        </p:nvSpPr>
        <p:spPr>
          <a:xfrm>
            <a:off x="571680" y="6905520"/>
            <a:ext cx="549000" cy="549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04" name="组合 8"/>
          <p:cNvGrpSpPr/>
          <p:nvPr/>
        </p:nvGrpSpPr>
        <p:grpSpPr>
          <a:xfrm>
            <a:off x="0" y="0"/>
            <a:ext cx="5715000" cy="635040"/>
            <a:chOff x="0" y="0"/>
            <a:chExt cx="5715000" cy="635040"/>
          </a:xfrm>
        </p:grpSpPr>
        <p:sp>
          <p:nvSpPr>
            <p:cNvPr id="105" name="TitleBackground"/>
            <p:cNvSpPr/>
            <p:nvPr/>
          </p:nvSpPr>
          <p:spPr>
            <a:xfrm>
              <a:off x="0" y="0"/>
              <a:ext cx="5715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6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7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单选题</a:t>
              </a:r>
              <a:endParaRPr b="0" lang="en-US" sz="2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8" name="TipText"/>
            <p:cNvSpPr/>
            <p:nvPr/>
          </p:nvSpPr>
          <p:spPr>
            <a:xfrm>
              <a:off x="1525680" y="10944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09" name="图片 3" descr=""/>
          <p:cNvPicPr/>
          <p:nvPr/>
        </p:nvPicPr>
        <p:blipFill>
          <a:blip r:embed="rId1"/>
          <a:stretch/>
        </p:blipFill>
        <p:spPr>
          <a:xfrm>
            <a:off x="4165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7"/>
          <p:cNvSpPr/>
          <p:nvPr/>
        </p:nvSpPr>
        <p:spPr>
          <a:xfrm>
            <a:off x="571680" y="1359360"/>
            <a:ext cx="4375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 indent="-360360"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2. 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自然界 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DNA 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以螺旋结构存在的主要方式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1" name="矩形 8"/>
          <p:cNvSpPr/>
          <p:nvPr/>
        </p:nvSpPr>
        <p:spPr>
          <a:xfrm>
            <a:off x="1697040" y="3229560"/>
            <a:ext cx="140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A-DNA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2" name="椭圆 9"/>
          <p:cNvSpPr/>
          <p:nvPr/>
        </p:nvSpPr>
        <p:spPr>
          <a:xfrm>
            <a:off x="1092240" y="3200400"/>
            <a:ext cx="549360" cy="549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3" name="矩形 10"/>
          <p:cNvSpPr/>
          <p:nvPr/>
        </p:nvSpPr>
        <p:spPr>
          <a:xfrm>
            <a:off x="1697040" y="4143960"/>
            <a:ext cx="138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B-DNA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4" name="椭圆 11"/>
          <p:cNvSpPr/>
          <p:nvPr/>
        </p:nvSpPr>
        <p:spPr>
          <a:xfrm>
            <a:off x="1092240" y="4114800"/>
            <a:ext cx="549360" cy="54936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5" name="矩形 12"/>
          <p:cNvSpPr/>
          <p:nvPr/>
        </p:nvSpPr>
        <p:spPr>
          <a:xfrm>
            <a:off x="1697040" y="5058360"/>
            <a:ext cx="1355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E-DNA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6" name="椭圆 13"/>
          <p:cNvSpPr/>
          <p:nvPr/>
        </p:nvSpPr>
        <p:spPr>
          <a:xfrm>
            <a:off x="1092240" y="5029200"/>
            <a:ext cx="549360" cy="549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7" name="矩形 14"/>
          <p:cNvSpPr/>
          <p:nvPr/>
        </p:nvSpPr>
        <p:spPr>
          <a:xfrm>
            <a:off x="1697040" y="5972760"/>
            <a:ext cx="137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Z-DNA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8" name="椭圆 15"/>
          <p:cNvSpPr/>
          <p:nvPr/>
        </p:nvSpPr>
        <p:spPr>
          <a:xfrm>
            <a:off x="1092240" y="5943600"/>
            <a:ext cx="549360" cy="549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9" name="矩形 16"/>
          <p:cNvSpPr/>
          <p:nvPr/>
        </p:nvSpPr>
        <p:spPr>
          <a:xfrm>
            <a:off x="1697040" y="6887160"/>
            <a:ext cx="1932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以上都不是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0" name="椭圆 17"/>
          <p:cNvSpPr/>
          <p:nvPr/>
        </p:nvSpPr>
        <p:spPr>
          <a:xfrm>
            <a:off x="1092240" y="6858000"/>
            <a:ext cx="549360" cy="549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21" name="组合 6"/>
          <p:cNvGrpSpPr/>
          <p:nvPr/>
        </p:nvGrpSpPr>
        <p:grpSpPr>
          <a:xfrm>
            <a:off x="0" y="0"/>
            <a:ext cx="5715000" cy="635040"/>
            <a:chOff x="0" y="0"/>
            <a:chExt cx="5715000" cy="635040"/>
          </a:xfrm>
        </p:grpSpPr>
        <p:sp>
          <p:nvSpPr>
            <p:cNvPr id="122" name="TitleBackground"/>
            <p:cNvSpPr/>
            <p:nvPr/>
          </p:nvSpPr>
          <p:spPr>
            <a:xfrm>
              <a:off x="0" y="0"/>
              <a:ext cx="5715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4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单选题</a:t>
              </a:r>
              <a:endParaRPr b="0" lang="en-US" sz="2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5" name="TipText"/>
            <p:cNvSpPr/>
            <p:nvPr/>
          </p:nvSpPr>
          <p:spPr>
            <a:xfrm>
              <a:off x="1525680" y="10944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26" name="图片 1" descr=""/>
          <p:cNvPicPr/>
          <p:nvPr/>
        </p:nvPicPr>
        <p:blipFill>
          <a:blip r:embed="rId1"/>
          <a:stretch/>
        </p:blipFill>
        <p:spPr>
          <a:xfrm>
            <a:off x="4165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7"/>
          <p:cNvSpPr/>
          <p:nvPr/>
        </p:nvSpPr>
        <p:spPr>
          <a:xfrm>
            <a:off x="571680" y="1755360"/>
            <a:ext cx="417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3. DNA 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的二级结构是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8" name="矩形 8"/>
          <p:cNvSpPr/>
          <p:nvPr/>
        </p:nvSpPr>
        <p:spPr>
          <a:xfrm>
            <a:off x="1735200" y="2976840"/>
            <a:ext cx="14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α- 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螺旋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9" name="椭圆 9"/>
          <p:cNvSpPr/>
          <p:nvPr/>
        </p:nvSpPr>
        <p:spPr>
          <a:xfrm>
            <a:off x="1131840" y="2948040"/>
            <a:ext cx="547560" cy="547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0" name="矩形 10"/>
          <p:cNvSpPr/>
          <p:nvPr/>
        </p:nvSpPr>
        <p:spPr>
          <a:xfrm>
            <a:off x="1735200" y="3891240"/>
            <a:ext cx="1380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β- 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折叠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1" name="椭圆 11"/>
          <p:cNvSpPr/>
          <p:nvPr/>
        </p:nvSpPr>
        <p:spPr>
          <a:xfrm>
            <a:off x="1131840" y="3862440"/>
            <a:ext cx="547560" cy="547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2" name="矩形 12"/>
          <p:cNvSpPr/>
          <p:nvPr/>
        </p:nvSpPr>
        <p:spPr>
          <a:xfrm>
            <a:off x="1735200" y="4805640"/>
            <a:ext cx="1380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β- 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转角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3" name="椭圆 13"/>
          <p:cNvSpPr/>
          <p:nvPr/>
        </p:nvSpPr>
        <p:spPr>
          <a:xfrm>
            <a:off x="1131840" y="4776840"/>
            <a:ext cx="547560" cy="547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4" name="矩形 14"/>
          <p:cNvSpPr/>
          <p:nvPr/>
        </p:nvSpPr>
        <p:spPr>
          <a:xfrm>
            <a:off x="1735200" y="5720040"/>
            <a:ext cx="127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双螺旋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5" name="椭圆 15"/>
          <p:cNvSpPr/>
          <p:nvPr/>
        </p:nvSpPr>
        <p:spPr>
          <a:xfrm>
            <a:off x="1131840" y="5691240"/>
            <a:ext cx="547560" cy="54756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6" name="矩形 16"/>
          <p:cNvSpPr/>
          <p:nvPr/>
        </p:nvSpPr>
        <p:spPr>
          <a:xfrm>
            <a:off x="1735200" y="6634440"/>
            <a:ext cx="160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无规卷曲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7" name="椭圆 17"/>
          <p:cNvSpPr/>
          <p:nvPr/>
        </p:nvSpPr>
        <p:spPr>
          <a:xfrm>
            <a:off x="1131840" y="6605640"/>
            <a:ext cx="547560" cy="547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38" name="组合 6"/>
          <p:cNvGrpSpPr/>
          <p:nvPr/>
        </p:nvGrpSpPr>
        <p:grpSpPr>
          <a:xfrm>
            <a:off x="0" y="0"/>
            <a:ext cx="5715000" cy="635040"/>
            <a:chOff x="0" y="0"/>
            <a:chExt cx="5715000" cy="635040"/>
          </a:xfrm>
        </p:grpSpPr>
        <p:sp>
          <p:nvSpPr>
            <p:cNvPr id="139" name="TitleBackground"/>
            <p:cNvSpPr/>
            <p:nvPr/>
          </p:nvSpPr>
          <p:spPr>
            <a:xfrm>
              <a:off x="0" y="0"/>
              <a:ext cx="5715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0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1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单选题</a:t>
              </a:r>
              <a:endParaRPr b="0" lang="en-US" sz="2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2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43" name="图片 1" descr=""/>
          <p:cNvPicPr/>
          <p:nvPr/>
        </p:nvPicPr>
        <p:blipFill>
          <a:blip r:embed="rId1"/>
          <a:stretch/>
        </p:blipFill>
        <p:spPr>
          <a:xfrm>
            <a:off x="4165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7"/>
          <p:cNvSpPr/>
          <p:nvPr/>
        </p:nvSpPr>
        <p:spPr>
          <a:xfrm>
            <a:off x="571680" y="1656360"/>
            <a:ext cx="45082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 indent="-360360"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4.DNA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分子碱基含量关系哪种是错误的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5" name="矩形 8"/>
          <p:cNvSpPr/>
          <p:nvPr/>
        </p:nvSpPr>
        <p:spPr>
          <a:xfrm>
            <a:off x="1643040" y="3153240"/>
            <a:ext cx="190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A+T=C+G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6" name="椭圆 9"/>
          <p:cNvSpPr/>
          <p:nvPr/>
        </p:nvSpPr>
        <p:spPr>
          <a:xfrm>
            <a:off x="1038240" y="3124080"/>
            <a:ext cx="549360" cy="54792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7" name="矩形 10"/>
          <p:cNvSpPr/>
          <p:nvPr/>
        </p:nvSpPr>
        <p:spPr>
          <a:xfrm>
            <a:off x="1643040" y="4067640"/>
            <a:ext cx="190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A+G=C+T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8" name="椭圆 11"/>
          <p:cNvSpPr/>
          <p:nvPr/>
        </p:nvSpPr>
        <p:spPr>
          <a:xfrm>
            <a:off x="1038240" y="4038480"/>
            <a:ext cx="549360" cy="5479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9" name="矩形 12"/>
          <p:cNvSpPr/>
          <p:nvPr/>
        </p:nvSpPr>
        <p:spPr>
          <a:xfrm>
            <a:off x="1643040" y="4982040"/>
            <a:ext cx="992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G=C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0" name="椭圆 13"/>
          <p:cNvSpPr/>
          <p:nvPr/>
        </p:nvSpPr>
        <p:spPr>
          <a:xfrm>
            <a:off x="1038240" y="4952880"/>
            <a:ext cx="549360" cy="5479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1" name="矩形 14"/>
          <p:cNvSpPr/>
          <p:nvPr/>
        </p:nvSpPr>
        <p:spPr>
          <a:xfrm>
            <a:off x="1643040" y="5896440"/>
            <a:ext cx="94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A=T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2" name="椭圆 15"/>
          <p:cNvSpPr/>
          <p:nvPr/>
        </p:nvSpPr>
        <p:spPr>
          <a:xfrm>
            <a:off x="1038240" y="5867280"/>
            <a:ext cx="549360" cy="5479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3" name="矩形 16"/>
          <p:cNvSpPr/>
          <p:nvPr/>
        </p:nvSpPr>
        <p:spPr>
          <a:xfrm>
            <a:off x="1643040" y="6810840"/>
            <a:ext cx="1695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A/T=G/C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4" name="椭圆 17"/>
          <p:cNvSpPr/>
          <p:nvPr/>
        </p:nvSpPr>
        <p:spPr>
          <a:xfrm>
            <a:off x="1038240" y="6781680"/>
            <a:ext cx="549360" cy="5479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55" name="组合 6"/>
          <p:cNvGrpSpPr/>
          <p:nvPr/>
        </p:nvGrpSpPr>
        <p:grpSpPr>
          <a:xfrm>
            <a:off x="0" y="0"/>
            <a:ext cx="5715000" cy="635040"/>
            <a:chOff x="0" y="0"/>
            <a:chExt cx="5715000" cy="635040"/>
          </a:xfrm>
        </p:grpSpPr>
        <p:sp>
          <p:nvSpPr>
            <p:cNvPr id="156" name="TitleBackground"/>
            <p:cNvSpPr/>
            <p:nvPr/>
          </p:nvSpPr>
          <p:spPr>
            <a:xfrm>
              <a:off x="0" y="0"/>
              <a:ext cx="5715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7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8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单选题</a:t>
              </a:r>
              <a:endParaRPr b="0" lang="en-US" sz="2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9" name="TipText"/>
            <p:cNvSpPr/>
            <p:nvPr/>
          </p:nvSpPr>
          <p:spPr>
            <a:xfrm>
              <a:off x="1525680" y="10944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60" name="图片 1" descr=""/>
          <p:cNvPicPr/>
          <p:nvPr/>
        </p:nvPicPr>
        <p:blipFill>
          <a:blip r:embed="rId1"/>
          <a:stretch/>
        </p:blipFill>
        <p:spPr>
          <a:xfrm>
            <a:off x="4165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7"/>
          <p:cNvSpPr/>
          <p:nvPr/>
        </p:nvSpPr>
        <p:spPr>
          <a:xfrm>
            <a:off x="571680" y="1755360"/>
            <a:ext cx="336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5. DNA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分子中不存在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2" name="矩形 8"/>
          <p:cNvSpPr/>
          <p:nvPr/>
        </p:nvSpPr>
        <p:spPr>
          <a:xfrm>
            <a:off x="1676520" y="2918160"/>
            <a:ext cx="1933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磷酸二酯键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3" name="椭圆 9"/>
          <p:cNvSpPr/>
          <p:nvPr/>
        </p:nvSpPr>
        <p:spPr>
          <a:xfrm>
            <a:off x="1073160" y="2889360"/>
            <a:ext cx="549360" cy="5490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4" name="矩形 10"/>
          <p:cNvSpPr/>
          <p:nvPr/>
        </p:nvSpPr>
        <p:spPr>
          <a:xfrm>
            <a:off x="1676520" y="3832560"/>
            <a:ext cx="1272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糖苷键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5" name="椭圆 11"/>
          <p:cNvSpPr/>
          <p:nvPr/>
        </p:nvSpPr>
        <p:spPr>
          <a:xfrm>
            <a:off x="1073160" y="3803760"/>
            <a:ext cx="549360" cy="5490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6" name="矩形 12"/>
          <p:cNvSpPr/>
          <p:nvPr/>
        </p:nvSpPr>
        <p:spPr>
          <a:xfrm>
            <a:off x="1676520" y="4746960"/>
            <a:ext cx="942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氢键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7" name="椭圆 13"/>
          <p:cNvSpPr/>
          <p:nvPr/>
        </p:nvSpPr>
        <p:spPr>
          <a:xfrm>
            <a:off x="1073160" y="4718160"/>
            <a:ext cx="549360" cy="5490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8" name="矩形 14"/>
          <p:cNvSpPr/>
          <p:nvPr/>
        </p:nvSpPr>
        <p:spPr>
          <a:xfrm>
            <a:off x="1676520" y="5661360"/>
            <a:ext cx="1272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二硫键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9" name="椭圆 15"/>
          <p:cNvSpPr/>
          <p:nvPr/>
        </p:nvSpPr>
        <p:spPr>
          <a:xfrm>
            <a:off x="1073160" y="5632560"/>
            <a:ext cx="549360" cy="54900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0" name="矩形 16"/>
          <p:cNvSpPr/>
          <p:nvPr/>
        </p:nvSpPr>
        <p:spPr>
          <a:xfrm>
            <a:off x="1676520" y="6575760"/>
            <a:ext cx="160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范德华力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1" name="椭圆 17"/>
          <p:cNvSpPr/>
          <p:nvPr/>
        </p:nvSpPr>
        <p:spPr>
          <a:xfrm>
            <a:off x="1073160" y="6546960"/>
            <a:ext cx="549360" cy="5490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72" name="组合 6"/>
          <p:cNvGrpSpPr/>
          <p:nvPr/>
        </p:nvGrpSpPr>
        <p:grpSpPr>
          <a:xfrm>
            <a:off x="0" y="0"/>
            <a:ext cx="5715000" cy="635040"/>
            <a:chOff x="0" y="0"/>
            <a:chExt cx="5715000" cy="635040"/>
          </a:xfrm>
        </p:grpSpPr>
        <p:sp>
          <p:nvSpPr>
            <p:cNvPr id="173" name="TitleBackground"/>
            <p:cNvSpPr/>
            <p:nvPr/>
          </p:nvSpPr>
          <p:spPr>
            <a:xfrm>
              <a:off x="0" y="0"/>
              <a:ext cx="5715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4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5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单选题</a:t>
              </a:r>
              <a:endParaRPr b="0" lang="en-US" sz="2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6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77" name="图片 1" descr=""/>
          <p:cNvPicPr/>
          <p:nvPr/>
        </p:nvPicPr>
        <p:blipFill>
          <a:blip r:embed="rId1"/>
          <a:stretch/>
        </p:blipFill>
        <p:spPr>
          <a:xfrm>
            <a:off x="4165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9T09:11:47Z</dcterms:created>
  <dc:creator>卢 晓云</dc:creator>
  <dc:description/>
  <dc:language>en-US</dc:language>
  <cp:lastModifiedBy>luxy</cp:lastModifiedBy>
  <dcterms:modified xsi:type="dcterms:W3CDTF">2018-11-15T07:20:41Z</dcterms:modified>
  <cp:revision>18</cp:revision>
  <dc:subject/>
  <dc:title>PowerPoint 演示文稿</dc:title>
</cp:coreProperties>
</file>