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5716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CE4-BACD-4A07-9B55-ADFE75D3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C5B-D8DA-457F-ADCC-D8BE2A49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02A-89D0-4A63-8B70-1389155D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5AB-AF05-4F0F-9426-2D3A7ED9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DE3A-C488-40D4-94CB-53240DFB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EF24-CDCF-4135-8F0A-7D78B206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6D8C-79CD-4397-974E-DC2EBD13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D839-EAA6-4710-AEAA-9DB7A93F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AB79-5705-40A7-AC89-D707D3AB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BB63-0F8C-4BFB-8A3F-D240235C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A76-BE44-4D65-ADC2-A9F2750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7FC-E20D-4C84-899F-B7DDCE65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EC9A-3FDE-49B0-830C-A5107ED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C2A-E83D-450B-B793-4DC90FB1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9ED1-DEAB-4AD5-A02F-527F41D7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FEDA-234A-4C5B-94F0-C170F1C2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19DD-E6BD-4C84-B37F-8BAB58CF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E5B-044B-46B0-9E86-DC8D717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212-807F-4D89-BD19-BC7E3F2C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196-3EAE-412E-AF0B-C7D82A1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444-D5D9-4990-8F71-E2A2CED3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A2C-9DC5-48DA-8982-8B72618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D49-3275-4F0C-AA2C-4978571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EC1-0876-4DB3-AC6F-94B8309D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5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A6AFD647-6035-46A4-9957-1CCA95A48426}" type="slidenum">
              <a:rPr b="0" lang="zh-CN" sz="5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0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10F85D74-2A6F-44BA-9FA0-02836DD61E2F}" type="slidenum">
              <a:rPr b="0" lang="zh-CN" sz="30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4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后练习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27080" y="7873920"/>
            <a:ext cx="546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*</a:t>
            </a: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此封面页请勿删除，删除后将无法上传至试卷库，添加菜单栏任意题型即可制作试卷。本提示将在上传时自动隐藏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5760" y="425520"/>
            <a:ext cx="157500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4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6680" y="1476360"/>
            <a:ext cx="27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890640" y="2502000"/>
            <a:ext cx="36100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螺旋的奥秘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日课后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7" name="组合 4"/>
          <p:cNvGrpSpPr/>
          <p:nvPr/>
        </p:nvGrpSpPr>
        <p:grpSpPr>
          <a:xfrm>
            <a:off x="0" y="4956120"/>
            <a:ext cx="5715000" cy="4187880"/>
            <a:chOff x="0" y="4956120"/>
            <a:chExt cx="5715000" cy="4187880"/>
          </a:xfrm>
        </p:grpSpPr>
        <p:sp>
          <p:nvSpPr>
            <p:cNvPr id="88" name="矩形 3"/>
            <p:cNvSpPr/>
            <p:nvPr/>
          </p:nvSpPr>
          <p:spPr>
            <a:xfrm>
              <a:off x="0" y="4956120"/>
              <a:ext cx="5715000" cy="418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89" name="图片 2" descr=""/>
            <p:cNvPicPr/>
            <p:nvPr/>
          </p:nvPicPr>
          <p:blipFill>
            <a:blip r:embed="rId1"/>
            <a:srcRect l="29181" t="0" r="0" b="10750"/>
            <a:stretch/>
          </p:blipFill>
          <p:spPr>
            <a:xfrm>
              <a:off x="8280" y="5379120"/>
              <a:ext cx="5706720" cy="338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520" y="72180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1928520"/>
            <a:ext cx="4686480" cy="65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超螺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螺旋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超螺旋与负超螺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k =Tw+ Wr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k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nking number,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w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wisting number,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缠绕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rithing number,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扭转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螺旋是闭合环状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性，天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通常都以负超螺旋形式存在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扑异构酶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opoisomerase)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扑异构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I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作用机理及两者作用方式的异同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2600" y="47592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思考问题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3" name="ZoneTexte 1"/>
          <p:cNvSpPr/>
          <p:nvPr/>
        </p:nvSpPr>
        <p:spPr>
          <a:xfrm>
            <a:off x="539640" y="1482840"/>
            <a:ext cx="463896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是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ccDNA?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2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么说闭合双链的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才能形成超螺旋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  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一条链闭合能形成双螺旋么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2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核细胞染色体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是线性的，它能形成负超螺旋么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2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闭合双链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，下列哪个值是确定的？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k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w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r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2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何谓正的超螺旋？如果双链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右手螺旋，负超螺旋的方向性如何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2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然界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以负超螺旋形式存在有什么生理意义？要增加负的超螺旋个数，是拓扑异构酶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作用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9"/>
          <p:cNvSpPr/>
          <p:nvPr/>
        </p:nvSpPr>
        <p:spPr>
          <a:xfrm>
            <a:off x="571680" y="1656000"/>
            <a:ext cx="4652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以下描述不属于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三级结构的是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1525680" y="3291480"/>
            <a:ext cx="160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链的扭结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922320" y="3260880"/>
            <a:ext cx="549360" cy="549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1525680" y="4205880"/>
            <a:ext cx="127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超螺旋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922320" y="4175280"/>
            <a:ext cx="549360" cy="549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1525680" y="5120280"/>
            <a:ext cx="226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单链形成的环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922320" y="5089680"/>
            <a:ext cx="549360" cy="5490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矩形 16"/>
          <p:cNvSpPr/>
          <p:nvPr/>
        </p:nvSpPr>
        <p:spPr>
          <a:xfrm>
            <a:off x="1525680" y="6034680"/>
            <a:ext cx="33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环状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中的连环体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922320" y="6004080"/>
            <a:ext cx="549360" cy="549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矩形 18"/>
          <p:cNvSpPr/>
          <p:nvPr/>
        </p:nvSpPr>
        <p:spPr>
          <a:xfrm>
            <a:off x="1525680" y="6949080"/>
            <a:ext cx="268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矩形 19"/>
          <p:cNvSpPr/>
          <p:nvPr/>
        </p:nvSpPr>
        <p:spPr>
          <a:xfrm>
            <a:off x="922320" y="6918480"/>
            <a:ext cx="549360" cy="5490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5" name="组合 2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06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多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0" name="图片 3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7"/>
          <p:cNvSpPr/>
          <p:nvPr/>
        </p:nvSpPr>
        <p:spPr>
          <a:xfrm>
            <a:off x="325440" y="1391040"/>
            <a:ext cx="5060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有关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超螺旋结构的特性，以下描述错误的是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1066680" y="3151080"/>
            <a:ext cx="431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是闭合环状 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的特性一旦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的一条链或双链断开，超螺旋即被松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椭圆 9"/>
          <p:cNvSpPr/>
          <p:nvPr/>
        </p:nvSpPr>
        <p:spPr>
          <a:xfrm>
            <a:off x="461880" y="308124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1066680" y="3836880"/>
            <a:ext cx="4111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细胞中存在的拓扑异构酶能够调控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的超螺旋水平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461880" y="3975120"/>
            <a:ext cx="549360" cy="547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1066680" y="4917960"/>
            <a:ext cx="431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细胞内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的超螺旋程度，是由拓扑异构酶来调节的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椭圆 13"/>
          <p:cNvSpPr/>
          <p:nvPr/>
        </p:nvSpPr>
        <p:spPr>
          <a:xfrm>
            <a:off x="461880" y="486720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1066680" y="5787000"/>
            <a:ext cx="395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超螺旋的形成需要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连接酶的参与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椭圆 15"/>
          <p:cNvSpPr/>
          <p:nvPr/>
        </p:nvSpPr>
        <p:spPr>
          <a:xfrm>
            <a:off x="461880" y="5737320"/>
            <a:ext cx="549360" cy="5475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矩形 16"/>
          <p:cNvSpPr/>
          <p:nvPr/>
        </p:nvSpPr>
        <p:spPr>
          <a:xfrm>
            <a:off x="1066680" y="6683040"/>
            <a:ext cx="42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细胞中几乎所有 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通常都以负超螺旋形式存在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椭圆 17"/>
          <p:cNvSpPr/>
          <p:nvPr/>
        </p:nvSpPr>
        <p:spPr>
          <a:xfrm>
            <a:off x="461880" y="667548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23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7"/>
          <p:cNvSpPr/>
          <p:nvPr/>
        </p:nvSpPr>
        <p:spPr>
          <a:xfrm>
            <a:off x="571680" y="1359000"/>
            <a:ext cx="4281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3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下列关于拓扑异构酶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II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描述正确的是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(    )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1174680" y="337392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其打断的是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链中的糖苷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椭圆 9"/>
          <p:cNvSpPr/>
          <p:nvPr/>
        </p:nvSpPr>
        <p:spPr>
          <a:xfrm>
            <a:off x="571680" y="3284640"/>
            <a:ext cx="54900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1174680" y="427392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其作用时不需要消耗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" name="椭圆 11"/>
          <p:cNvSpPr/>
          <p:nvPr/>
        </p:nvSpPr>
        <p:spPr>
          <a:xfrm>
            <a:off x="571680" y="4199040"/>
            <a:ext cx="54900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1174680" y="520272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其可以增加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负超螺旋的个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椭圆 13"/>
          <p:cNvSpPr/>
          <p:nvPr/>
        </p:nvSpPr>
        <p:spPr>
          <a:xfrm>
            <a:off x="571680" y="5113440"/>
            <a:ext cx="549000" cy="549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1174680" y="610272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稳定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拓扑构象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" name="椭圆 15"/>
          <p:cNvSpPr/>
          <p:nvPr/>
        </p:nvSpPr>
        <p:spPr>
          <a:xfrm>
            <a:off x="571680" y="6027840"/>
            <a:ext cx="54900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1174680" y="7017120"/>
            <a:ext cx="40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使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成为正超螺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" name="椭圆 17"/>
          <p:cNvSpPr/>
          <p:nvPr/>
        </p:nvSpPr>
        <p:spPr>
          <a:xfrm>
            <a:off x="571680" y="6942240"/>
            <a:ext cx="54900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9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40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461880" y="714240"/>
            <a:ext cx="47912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25000"/>
              </a:lnSpc>
              <a:buClr>
                <a:srgbClr val="000000"/>
              </a:buClr>
              <a:buFont typeface="Microsoft Yahei"/>
              <a:buAutoNum type="arabicPeriod" startAt="4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一个具有正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型构象的环状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在拓扑异构酶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的作用下减少了一个双链的交叉，则以下表述中错误的是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矩形 18"/>
          <p:cNvSpPr/>
          <p:nvPr/>
        </p:nvSpPr>
        <p:spPr>
          <a:xfrm>
            <a:off x="696960" y="3262320"/>
            <a:ext cx="47052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4760"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段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的连接数减少了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696960" y="4059360"/>
            <a:ext cx="470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4760"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过程中没有的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P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耗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矩形 20"/>
          <p:cNvSpPr/>
          <p:nvPr/>
        </p:nvSpPr>
        <p:spPr>
          <a:xfrm>
            <a:off x="696960" y="4994280"/>
            <a:ext cx="47052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4760"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分子还可以保持松弛的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双螺旋构象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696960" y="5981760"/>
            <a:ext cx="47052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4760"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若此分子还保持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双螺旋构象，则其会形成一个负超螺旋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矩形 22"/>
          <p:cNvSpPr/>
          <p:nvPr/>
        </p:nvSpPr>
        <p:spPr>
          <a:xfrm>
            <a:off x="471600" y="3382920"/>
            <a:ext cx="511200" cy="5112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矩形 23"/>
          <p:cNvSpPr/>
          <p:nvPr/>
        </p:nvSpPr>
        <p:spPr>
          <a:xfrm>
            <a:off x="471600" y="4189320"/>
            <a:ext cx="511200" cy="509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矩形 24"/>
          <p:cNvSpPr/>
          <p:nvPr/>
        </p:nvSpPr>
        <p:spPr>
          <a:xfrm>
            <a:off x="471600" y="5122800"/>
            <a:ext cx="511200" cy="5112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矩形 25"/>
          <p:cNvSpPr/>
          <p:nvPr/>
        </p:nvSpPr>
        <p:spPr>
          <a:xfrm>
            <a:off x="471600" y="6103800"/>
            <a:ext cx="511200" cy="5079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矩形 26"/>
          <p:cNvSpPr/>
          <p:nvPr/>
        </p:nvSpPr>
        <p:spPr>
          <a:xfrm>
            <a:off x="687240" y="6999120"/>
            <a:ext cx="47037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4760"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若此分子还保持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双螺旋构象，则其缠绕数不变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矩形 27"/>
          <p:cNvSpPr/>
          <p:nvPr/>
        </p:nvSpPr>
        <p:spPr>
          <a:xfrm>
            <a:off x="461880" y="7121520"/>
            <a:ext cx="507960" cy="5079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6" name="组合 3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57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多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6"/>
          <p:cNvSpPr/>
          <p:nvPr/>
        </p:nvSpPr>
        <p:spPr>
          <a:xfrm>
            <a:off x="2738520" y="4519440"/>
            <a:ext cx="24526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3" name="矩形 4" descr=""/>
          <p:cNvPicPr/>
          <p:nvPr/>
        </p:nvPicPr>
        <p:blipFill>
          <a:blip r:embed="rId1"/>
          <a:stretch/>
        </p:blipFill>
        <p:spPr>
          <a:xfrm>
            <a:off x="3121200" y="3754440"/>
            <a:ext cx="1841400" cy="61596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8"/>
          <p:cNvGrpSpPr/>
          <p:nvPr/>
        </p:nvGrpSpPr>
        <p:grpSpPr>
          <a:xfrm>
            <a:off x="0" y="4956120"/>
            <a:ext cx="5715000" cy="4187880"/>
            <a:chOff x="0" y="4956120"/>
            <a:chExt cx="5715000" cy="4187880"/>
          </a:xfrm>
        </p:grpSpPr>
        <p:sp>
          <p:nvSpPr>
            <p:cNvPr id="165" name="矩形 9"/>
            <p:cNvSpPr/>
            <p:nvPr/>
          </p:nvSpPr>
          <p:spPr>
            <a:xfrm>
              <a:off x="0" y="4956120"/>
              <a:ext cx="5715000" cy="418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66" name="图片 10" descr=""/>
            <p:cNvPicPr/>
            <p:nvPr/>
          </p:nvPicPr>
          <p:blipFill>
            <a:blip r:embed="rId2"/>
            <a:srcRect l="29181" t="0" r="0" b="10750"/>
            <a:stretch/>
          </p:blipFill>
          <p:spPr>
            <a:xfrm>
              <a:off x="8280" y="5379120"/>
              <a:ext cx="5706720" cy="338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09:11:47Z</dcterms:created>
  <dc:creator>卢 晓云</dc:creator>
  <dc:description/>
  <dc:language>en-US</dc:language>
  <cp:lastModifiedBy>luxy</cp:lastModifiedBy>
  <dcterms:modified xsi:type="dcterms:W3CDTF">2018-11-15T07:23:08Z</dcterms:modified>
  <cp:revision>24</cp:revision>
  <dc:subject/>
  <dc:title>PowerPoint 演示文稿</dc:title>
</cp:coreProperties>
</file>