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5716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ADF-D56C-4F2A-9B54-BE979443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A93-458C-46E5-87EC-8FB2F926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7BC-7AAB-4175-A188-549874FA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ECC-E019-453B-92B7-98621B88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F86D-6928-4AD8-B367-64683402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4A9C-D3A5-4C14-AC2E-DA12BEA2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2AF7-A051-45A5-B0FB-5E90897B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0630-DED5-4791-9068-DD8BBD21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8326-28AB-4AF7-A723-19B803C7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5B8A-3077-4CFA-A88B-E16EBE59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029D-62B1-4936-9175-3A9EAAE6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997-54E0-44D7-831E-C9AB8CAB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EE5F-E78A-428D-A3FC-BBC3CF7B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894D-256A-4DE7-8255-0C361CA3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BB3A-8031-41E0-9715-F53843FD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4A2D-189C-4C64-B224-40AA42E0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602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27080" y="243360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384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602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27080" y="5464440"/>
            <a:ext cx="158688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CFBF-6F5C-42D3-BFB0-EA7725B4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0D6-4D11-404C-837D-87A843AE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3F1-45EE-4777-A3CA-A7B39845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724-20AA-4BA5-B66A-25456A98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487440"/>
            <a:ext cx="49291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DEC-2FFF-4C6A-9287-C068B76B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CAE-B2EE-4270-9C07-4FA1CCA6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19600" y="546444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5C0-C781-4B51-A3C6-783C66D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84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19600" y="2433600"/>
            <a:ext cx="240516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3840" y="5464440"/>
            <a:ext cx="4929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F77-D73E-41EB-8E09-041592D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5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5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F8DCDA5D-759A-4104-8B95-2DFE6F92EA1B}" type="slidenum">
              <a:rPr b="0" lang="zh-CN" sz="5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840" y="487440"/>
            <a:ext cx="49291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3840" y="2433600"/>
            <a:ext cx="4929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1" marL="2890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2" marL="48096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3" marL="674640" indent="-95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4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5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 lvl="6" marL="866880" indent="-954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3480" y="8475480"/>
            <a:ext cx="1285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0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893960" y="8475480"/>
            <a:ext cx="1928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037040" y="8475480"/>
            <a:ext cx="128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30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just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E50BA7DB-6FAA-42F0-B037-8C354CEC3AD2}" type="slidenum">
              <a:rPr b="0" lang="zh-CN" sz="30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5760" y="425520"/>
            <a:ext cx="157500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pter 1-2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6680" y="1476360"/>
            <a:ext cx="2719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819000" y="3067200"/>
            <a:ext cx="44593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4760" indent="-104760">
              <a:lnSpc>
                <a:spcPct val="150000"/>
              </a:lnSpc>
              <a:spcBef>
                <a:spcPts val="425"/>
              </a:spcBef>
              <a:buClr>
                <a:srgbClr val="44546a"/>
              </a:buClr>
              <a:buSzPct val="85000"/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components of nucleic acids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104760" indent="-104760">
              <a:lnSpc>
                <a:spcPct val="150000"/>
              </a:lnSpc>
              <a:spcBef>
                <a:spcPts val="425"/>
              </a:spcBef>
              <a:buClr>
                <a:srgbClr val="44546a"/>
              </a:buClr>
              <a:buSzPct val="85000"/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imary structure of DNA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104760" indent="-104760">
              <a:lnSpc>
                <a:spcPct val="150000"/>
              </a:lnSpc>
              <a:spcBef>
                <a:spcPts val="425"/>
              </a:spcBef>
              <a:buClr>
                <a:srgbClr val="44546a"/>
              </a:buClr>
              <a:buSzPct val="85000"/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condary structure of DNA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930240" y="2233440"/>
            <a:ext cx="3826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遗传物质的化学本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4201" t="0" r="0" b="0"/>
          <a:stretch/>
        </p:blipFill>
        <p:spPr>
          <a:xfrm>
            <a:off x="0" y="4911840"/>
            <a:ext cx="57150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00" y="387000"/>
            <a:ext cx="3397320" cy="5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预习指导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60360" y="1709280"/>
            <a:ext cx="47721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节课我们学习的主要内容包括核酸的基本化学组成单元、核酸的一级结构及核酸链的方向性和表示方法等。掌握上述内容是进一步理解核酸高级结构及其性质的基础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268200" indent="-268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268200" indent="-268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学习核酸的具体组成和结构之前，你可以问问自己，是谁发现的核酸？又是谁鉴定了它的化学组成呢？在你学习过这节知识之后，也不妨回顾一下，生物体内这些组成核酸的基本成分是从哪里来的呢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080" y="448920"/>
            <a:ext cx="49701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预习视频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193680" y="2392200"/>
            <a:ext cx="5376960" cy="3840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5680" rIns="35568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慕课视频片段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视频名称：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Lecture 2 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揭秘遗传物质的化学本质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The nature of genetic material:Lecture 2 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揭秘遗传物质的化学本质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100" spc="-1" strike="noStrike">
                <a:solidFill>
                  <a:srgbClr val="c8c8c8"/>
                </a:solidFill>
                <a:latin typeface="Microsoft Yahei"/>
                <a:ea typeface="Microsoft Yahei"/>
              </a:rPr>
              <a:t>温馨提示：此视频框在点击“上传手机课件”时会进行转换，用手机进行观看时则会变为可点击的视频。此视频框可被拖动移位和修改大小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440" y="286920"/>
            <a:ext cx="293076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重点内容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2" name="内容占位符 2"/>
          <p:cNvSpPr/>
          <p:nvPr/>
        </p:nvSpPr>
        <p:spPr>
          <a:xfrm>
            <a:off x="492120" y="1366920"/>
            <a:ext cx="4702320" cy="70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构成核酸的基本化学单元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戊糖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中戊糖环的差异及其意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碱基的分类、命名、简写字母，组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碱基种类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磷酸根及其对核酸分子带电性质的影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苷与核苷酸的组成及基团连接方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的核苷及核苷酸的命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酸的一级结构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聚核苷酸、磷酸二酯键、糖磷酸骨架链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 marL="360360" indent="-36036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3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酸链的方向性、书写规则和长度表示方法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6"/>
          <p:cNvSpPr/>
          <p:nvPr/>
        </p:nvSpPr>
        <p:spPr>
          <a:xfrm>
            <a:off x="2738520" y="4519440"/>
            <a:ext cx="24526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4" name="矩形 4" descr=""/>
          <p:cNvPicPr/>
          <p:nvPr/>
        </p:nvPicPr>
        <p:blipFill>
          <a:blip r:embed="rId1"/>
          <a:stretch/>
        </p:blipFill>
        <p:spPr>
          <a:xfrm>
            <a:off x="3121200" y="3754440"/>
            <a:ext cx="1841400" cy="615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2"/>
          <a:srcRect l="4201" t="0" r="0" b="0"/>
          <a:stretch/>
        </p:blipFill>
        <p:spPr>
          <a:xfrm>
            <a:off x="0" y="4911840"/>
            <a:ext cx="57150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09:11:47Z</dcterms:created>
  <dc:creator>卢 晓云</dc:creator>
  <dc:description/>
  <dc:language>en-US</dc:language>
  <cp:lastModifiedBy>卢 晓云</cp:lastModifiedBy>
  <dcterms:modified xsi:type="dcterms:W3CDTF">2018-07-19T13:06:27Z</dcterms:modified>
  <cp:revision>6</cp:revision>
  <dc:subject/>
  <dc:title>PowerPoint 演示文稿</dc:title>
</cp:coreProperties>
</file>