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5716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7060-E164-4D47-BFB4-B03A8D0A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3840" y="546444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D9EB-27D9-41A4-B95E-B0D33B43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1960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E38C-EEAB-479D-B818-72EC4CEB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6028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2708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384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6028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2708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6BC8-8540-4094-B289-D7724072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1683-F8EC-455F-B3A6-D78CDE62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0172-F69F-4D40-AE15-5957A145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C130-B176-475D-ABA9-73314830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9A8E-7017-4B6C-8E53-EF520C72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285E-032A-4A3D-AABB-149C1372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3840" y="487440"/>
            <a:ext cx="4929120" cy="81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0D6C-03B3-4057-AC67-25A5CCBD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3682-33DC-4AF1-BF3B-055C3AA2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4B5E-915E-4251-B7D9-5E3AD9BF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1960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CB38-9335-4BC9-A893-2BB2DB72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D6E5-AB31-4722-90D8-36F4085F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3840" y="546444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2CA3-D907-41D4-B20B-8369F887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1960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23C3-E765-451D-9BF0-1760A99F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6028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2708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384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06028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2708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7E7B-F47B-4B3C-896F-A6440028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6D2A-9548-4B5A-ACE8-C5B5A7B9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BF6B-E010-418C-8F45-B23B2861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01CB-BF79-4CF8-B444-DB669B39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3840" y="487440"/>
            <a:ext cx="4929120" cy="81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DDEB-1E27-4783-B8D5-7941A896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A7AD-289E-4C4E-B651-71372BD4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1960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E969-B7B6-4D25-9CAA-16F8A657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4AB1-8DCB-4FBB-AA46-6AC4FCBA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1" marL="2890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2" marL="480960" indent="-95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3" marL="674640" indent="-95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4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5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6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3480" y="8475480"/>
            <a:ext cx="1285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5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5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93960" y="8475480"/>
            <a:ext cx="19288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37040" y="8475480"/>
            <a:ext cx="1285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5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9C146E80-D38D-4C8A-B667-FE4B4FD3D822}" type="slidenum">
              <a:rPr b="0" lang="zh-CN" sz="5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1" marL="2890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2" marL="480960" indent="-95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3" marL="674640" indent="-95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4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5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6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93480" y="8475480"/>
            <a:ext cx="1285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just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30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just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0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3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893960" y="8475480"/>
            <a:ext cx="19288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037040" y="8475480"/>
            <a:ext cx="1285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just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30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just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211577A3-437D-4F3E-983D-6A563A5AC5EA}" type="slidenum">
              <a:rPr b="0" lang="zh-CN" sz="30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5760" y="425520"/>
            <a:ext cx="1575000" cy="45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apter 1-3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6680" y="1476360"/>
            <a:ext cx="27194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Nucleic Acids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08040" y="3782880"/>
            <a:ext cx="48308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4760" indent="-104760">
              <a:lnSpc>
                <a:spcPct val="150000"/>
              </a:lnSpc>
              <a:spcBef>
                <a:spcPts val="425"/>
              </a:spcBef>
              <a:buClr>
                <a:srgbClr val="44546a"/>
              </a:buClr>
              <a:buSzPct val="85000"/>
              <a:buFont typeface="Arial"/>
              <a:buChar char="•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 double helix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marL="104760" indent="-104760">
              <a:lnSpc>
                <a:spcPct val="150000"/>
              </a:lnSpc>
              <a:spcBef>
                <a:spcPts val="425"/>
              </a:spcBef>
              <a:buClr>
                <a:srgbClr val="44546a"/>
              </a:buClr>
              <a:buSzPct val="85000"/>
              <a:buFont typeface="Arial"/>
              <a:buChar char="•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lternate secondary structure of DNA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930240" y="2233440"/>
            <a:ext cx="3610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迷人的双螺旋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86" name="图片 1" descr=""/>
          <p:cNvPicPr/>
          <p:nvPr/>
        </p:nvPicPr>
        <p:blipFill>
          <a:blip r:embed="rId1"/>
          <a:stretch/>
        </p:blipFill>
        <p:spPr>
          <a:xfrm>
            <a:off x="0" y="5329080"/>
            <a:ext cx="57150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8000" y="387000"/>
            <a:ext cx="3397320" cy="53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节预习指导</a:t>
            </a:r>
            <a:endParaRPr b="0" lang="en-US" sz="2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8" name="内容占位符 2"/>
          <p:cNvSpPr/>
          <p:nvPr/>
        </p:nvSpPr>
        <p:spPr>
          <a:xfrm>
            <a:off x="297000" y="1533600"/>
            <a:ext cx="5040000" cy="63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 algn="just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螺旋结构的提出是分子生物学建立的标志性事件。这一节中我们重点给大家介绍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螺旋结构的形成和维持。同学们通过学习要掌握使得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螺旋结构稳定的作用力，三种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螺旋的构象及各自的特点，并了解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以形成的其他二级结构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marL="264960" indent="-264960" algn="just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marL="264960" indent="-264960" algn="just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学习这一节内容的同时，你可以问问自己，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结构是如何获得的？解析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的技术还可以用来研究哪些领域的问题？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3080" y="448920"/>
            <a:ext cx="4970160" cy="530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节预习视频</a:t>
            </a:r>
            <a:endParaRPr b="0" lang="en-US" sz="2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185760" y="2222640"/>
            <a:ext cx="5376960" cy="3840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5680" rIns="35568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慕课视频片段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视频名称：</a:t>
            </a:r>
            <a:r>
              <a:rPr b="0" lang="en-US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Lecture 3 </a:t>
            </a:r>
            <a:r>
              <a:rPr b="0" lang="zh-CN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迷人的双螺旋</a:t>
            </a:r>
            <a:r>
              <a:rPr b="0" lang="en-US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Structure of DNA double strain helix:</a:t>
            </a:r>
            <a:r>
              <a:rPr b="0" lang="zh-CN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视频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100" spc="-1" strike="noStrike">
                <a:solidFill>
                  <a:srgbClr val="c8c8c8"/>
                </a:solidFill>
                <a:latin typeface="Microsoft Yahei"/>
                <a:ea typeface="Microsoft Yahei"/>
              </a:rPr>
              <a:t>温馨提示：此视频框在点击“上传手机课件”时会进行转换，用手机进行观看时则会变为可点击的视频。此视频框可被拖动移位和修改大小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000" y="1149480"/>
            <a:ext cx="4807080" cy="73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．掌握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螺旋结构的特点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链间序列互补，反向平行，双螺旋的直径约为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nm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完整的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螺旋中含有约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.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碱基对，螺距约为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4nm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螺旋形成大沟和小沟及其生物学意义；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螺旋的不同构象：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B-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-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Z-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特点及其存在环境。了解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螺旋结构并非刚性十足，一成不变的，其骨架链具有一定的灵活性，碱基可以反转到糖磷酸骨架链的外侧，为理解第四讲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损伤修复中碱基的切除打下基础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8440" y="286920"/>
            <a:ext cx="2930760" cy="530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节重点内容</a:t>
            </a:r>
            <a:endParaRPr b="0" lang="en-US" sz="28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68000" y="1149480"/>
            <a:ext cx="4807080" cy="73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．了解其他的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级结构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滑动结构、十字交叉结构、三股螺旋及四股螺旋结构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解二级结构的异常可能会影响基因的功能，导致疾病的发生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8440" y="286920"/>
            <a:ext cx="2930760" cy="530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节重点内容</a:t>
            </a:r>
            <a:endParaRPr b="0" lang="en-US" sz="28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直接连接符 6"/>
          <p:cNvSpPr/>
          <p:nvPr/>
        </p:nvSpPr>
        <p:spPr>
          <a:xfrm>
            <a:off x="2738520" y="4519440"/>
            <a:ext cx="24526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96" name="矩形 4" descr=""/>
          <p:cNvPicPr/>
          <p:nvPr/>
        </p:nvPicPr>
        <p:blipFill>
          <a:blip r:embed="rId1"/>
          <a:stretch/>
        </p:blipFill>
        <p:spPr>
          <a:xfrm>
            <a:off x="3121200" y="3754440"/>
            <a:ext cx="1841400" cy="6159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7" descr=""/>
          <p:cNvPicPr/>
          <p:nvPr/>
        </p:nvPicPr>
        <p:blipFill>
          <a:blip r:embed="rId2"/>
          <a:stretch/>
        </p:blipFill>
        <p:spPr>
          <a:xfrm>
            <a:off x="0" y="5329080"/>
            <a:ext cx="57150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9T09:11:47Z</dcterms:created>
  <dc:creator>卢 晓云</dc:creator>
  <dc:description/>
  <dc:language>en-US</dc:language>
  <cp:lastModifiedBy>卢 晓云</cp:lastModifiedBy>
  <dcterms:modified xsi:type="dcterms:W3CDTF">2018-07-19T14:30:52Z</dcterms:modified>
  <cp:revision>9</cp:revision>
  <dc:subject/>
  <dc:title>PowerPoint 演示文稿</dc:title>
</cp:coreProperties>
</file>