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5716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A36-26A6-4A62-AAF6-29D6BDE7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CC3-0247-429B-9F49-06526C6D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78A-966D-4A67-B8CA-9A9669D5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315-53C4-4FB6-950D-2D19E026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6F3C-ADB5-4B78-9A36-290FF985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C028-16DE-4566-B22E-58A40568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CC36-F381-4448-83B9-B7F13A7E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784E-9193-4473-AD17-2D907628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4860-BA2E-4041-B8DE-D58F2B3A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555C-AA4A-4999-A8C1-F08B030D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ADE2-B5EF-4642-931A-40E6E23C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777-CAF9-4CF9-B130-24CB47C2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2EBB-600D-4845-BA57-D764F14D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30CB-0B45-47C8-84C0-C3C1B8FB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B0B6-EB9B-4391-A279-87E20B54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4B52-942C-47A3-8278-3470A1BA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52A6-55D3-49EE-ACAD-591E556C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C4E-A35F-434F-8390-8B932FF6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205-A722-4C57-BCF4-EFDF90FE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FD32-8BEF-46A8-A2C9-C9525C69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9E2-DD8A-4817-9F4D-225E7964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5F6-C9B6-4995-8F26-7EA5E4F1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F5D-7230-4F22-8E67-88922D8A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562-3965-4311-B9F4-C1962C54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5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72F491F1-ADD6-4706-A735-7059D3CF1725}" type="slidenum">
              <a:rPr b="0" lang="zh-CN" sz="5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0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B04C0FA5-112B-4EBF-9508-9C854D4A8FC2}" type="slidenum">
              <a:rPr b="0" lang="zh-CN" sz="30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pter 1-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后练习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127080" y="7873920"/>
            <a:ext cx="5460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等线"/>
              </a:rPr>
              <a:t>*</a:t>
            </a:r>
            <a:r>
              <a:rPr b="0" lang="zh-CN" sz="2000" spc="-1" strike="noStrike">
                <a:solidFill>
                  <a:srgbClr val="ff0000"/>
                </a:solidFill>
                <a:latin typeface="等线"/>
              </a:rPr>
              <a:t>此封面页请勿删除，删除后将无法上传至试卷库，添加菜单栏任意题型即可制作试卷。本提示将在上传时自动隐藏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5760" y="425520"/>
            <a:ext cx="157500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pter 1-5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6680" y="1476360"/>
            <a:ext cx="2719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930240" y="2233440"/>
            <a:ext cx="36100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酸变性复性及杂交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日课后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7" name="组合 8"/>
          <p:cNvGrpSpPr/>
          <p:nvPr/>
        </p:nvGrpSpPr>
        <p:grpSpPr>
          <a:xfrm>
            <a:off x="0" y="4917960"/>
            <a:ext cx="5715000" cy="4226040"/>
            <a:chOff x="0" y="4917960"/>
            <a:chExt cx="5715000" cy="4226040"/>
          </a:xfrm>
        </p:grpSpPr>
        <p:sp>
          <p:nvSpPr>
            <p:cNvPr id="88" name="矩形 7"/>
            <p:cNvSpPr/>
            <p:nvPr/>
          </p:nvSpPr>
          <p:spPr>
            <a:xfrm>
              <a:off x="0" y="4917960"/>
              <a:ext cx="5715000" cy="422604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89" name="图片 5" descr=""/>
            <p:cNvPicPr/>
            <p:nvPr/>
          </p:nvPicPr>
          <p:blipFill>
            <a:blip r:embed="rId1"/>
            <a:stretch/>
          </p:blipFill>
          <p:spPr>
            <a:xfrm>
              <a:off x="0" y="5824080"/>
              <a:ext cx="571500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520" y="752040"/>
            <a:ext cx="293076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重点内容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1" name="内容占位符 2"/>
          <p:cNvSpPr/>
          <p:nvPr/>
        </p:nvSpPr>
        <p:spPr>
          <a:xfrm>
            <a:off x="460440" y="1959120"/>
            <a:ext cx="4635360" cy="63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5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核酸的紫外吸收特性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酸分子的最大吸收波长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色现象及其原因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酸定量：通过核酸紫外吸光度值计算各种核酸样品浓度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纯度分析：通过样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0n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80n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紫外吸光度的比值判断样品纯度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变性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概念，导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变性的因素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熔解温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T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值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影响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值的因素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解碱性条件下碱基的互变异构及其对碱基配对的影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性及核酸杂交的概念及原理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性概念，了解影响复性过程的因素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酸杂交技术的原理：探针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uthern Blo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rthern Blot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9"/>
          <p:cNvSpPr/>
          <p:nvPr/>
        </p:nvSpPr>
        <p:spPr>
          <a:xfrm>
            <a:off x="571680" y="1656360"/>
            <a:ext cx="4417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1.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核酸的最大紫外光吸收值一般在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" name="矩形 10"/>
          <p:cNvSpPr/>
          <p:nvPr/>
        </p:nvSpPr>
        <p:spPr>
          <a:xfrm>
            <a:off x="1711440" y="3130200"/>
            <a:ext cx="137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80nm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" name="椭圆 11"/>
          <p:cNvSpPr/>
          <p:nvPr/>
        </p:nvSpPr>
        <p:spPr>
          <a:xfrm>
            <a:off x="1108080" y="310032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1711440" y="4044600"/>
            <a:ext cx="137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60nm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" name="椭圆 13"/>
          <p:cNvSpPr/>
          <p:nvPr/>
        </p:nvSpPr>
        <p:spPr>
          <a:xfrm>
            <a:off x="1108080" y="4014720"/>
            <a:ext cx="549360" cy="5493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1711440" y="4959000"/>
            <a:ext cx="137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40nm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椭圆 15"/>
          <p:cNvSpPr/>
          <p:nvPr/>
        </p:nvSpPr>
        <p:spPr>
          <a:xfrm>
            <a:off x="1108080" y="492912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矩形 16"/>
          <p:cNvSpPr/>
          <p:nvPr/>
        </p:nvSpPr>
        <p:spPr>
          <a:xfrm>
            <a:off x="1711440" y="5873400"/>
            <a:ext cx="137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20nm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椭圆 17"/>
          <p:cNvSpPr/>
          <p:nvPr/>
        </p:nvSpPr>
        <p:spPr>
          <a:xfrm>
            <a:off x="1108080" y="584352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矩形 18"/>
          <p:cNvSpPr/>
          <p:nvPr/>
        </p:nvSpPr>
        <p:spPr>
          <a:xfrm>
            <a:off x="1711440" y="6787800"/>
            <a:ext cx="137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490nm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椭圆 19"/>
          <p:cNvSpPr/>
          <p:nvPr/>
        </p:nvSpPr>
        <p:spPr>
          <a:xfrm>
            <a:off x="1108080" y="675792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3" name="组合 8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04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6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08" name="图片 3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7"/>
          <p:cNvSpPr/>
          <p:nvPr/>
        </p:nvSpPr>
        <p:spPr>
          <a:xfrm>
            <a:off x="571680" y="1656360"/>
            <a:ext cx="4417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.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正确解释核酸具有紫外吸收能力的是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1076400" y="3341160"/>
            <a:ext cx="45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嘌呤和嘧啶环中有共轭双键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椭圆 9"/>
          <p:cNvSpPr/>
          <p:nvPr/>
        </p:nvSpPr>
        <p:spPr>
          <a:xfrm>
            <a:off x="473040" y="3282840"/>
            <a:ext cx="547560" cy="5493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1076400" y="4242960"/>
            <a:ext cx="42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嘌呤和嘧啶连接了核糖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椭圆 11"/>
          <p:cNvSpPr/>
          <p:nvPr/>
        </p:nvSpPr>
        <p:spPr>
          <a:xfrm>
            <a:off x="473040" y="4197240"/>
            <a:ext cx="5475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1076400" y="5157360"/>
            <a:ext cx="46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嘌呤和嘧啶中含有氮原子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椭圆 13"/>
          <p:cNvSpPr/>
          <p:nvPr/>
        </p:nvSpPr>
        <p:spPr>
          <a:xfrm>
            <a:off x="473040" y="5111640"/>
            <a:ext cx="5475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1076400" y="6084360"/>
            <a:ext cx="45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嘌呤和嘧啶连接了核糖和磷酸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椭圆 15"/>
          <p:cNvSpPr/>
          <p:nvPr/>
        </p:nvSpPr>
        <p:spPr>
          <a:xfrm>
            <a:off x="473040" y="6026040"/>
            <a:ext cx="5475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矩形 16"/>
          <p:cNvSpPr/>
          <p:nvPr/>
        </p:nvSpPr>
        <p:spPr>
          <a:xfrm>
            <a:off x="1076400" y="6998760"/>
            <a:ext cx="45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嘌呤和嘧啶连接了磷酸基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椭圆 17"/>
          <p:cNvSpPr/>
          <p:nvPr/>
        </p:nvSpPr>
        <p:spPr>
          <a:xfrm>
            <a:off x="473040" y="6940440"/>
            <a:ext cx="5475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0" name="组合 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21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7"/>
          <p:cNvSpPr/>
          <p:nvPr/>
        </p:nvSpPr>
        <p:spPr>
          <a:xfrm>
            <a:off x="571680" y="1755360"/>
            <a:ext cx="301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3. 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变性是指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矩形 8"/>
          <p:cNvSpPr/>
          <p:nvPr/>
        </p:nvSpPr>
        <p:spPr>
          <a:xfrm>
            <a:off x="1297080" y="3191400"/>
            <a:ext cx="25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多核苷酸链解聚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椭圆 9"/>
          <p:cNvSpPr/>
          <p:nvPr/>
        </p:nvSpPr>
        <p:spPr>
          <a:xfrm>
            <a:off x="693720" y="3162240"/>
            <a:ext cx="5475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矩形 10"/>
          <p:cNvSpPr/>
          <p:nvPr/>
        </p:nvSpPr>
        <p:spPr>
          <a:xfrm>
            <a:off x="1297080" y="4119840"/>
            <a:ext cx="36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分子由超螺旋变为双螺旋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椭圆 11"/>
          <p:cNvSpPr/>
          <p:nvPr/>
        </p:nvSpPr>
        <p:spPr>
          <a:xfrm>
            <a:off x="693720" y="4076640"/>
            <a:ext cx="5475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1297080" y="5020200"/>
            <a:ext cx="358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分子中磷酸二酯键断裂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" name="椭圆 13"/>
          <p:cNvSpPr/>
          <p:nvPr/>
        </p:nvSpPr>
        <p:spPr>
          <a:xfrm>
            <a:off x="693720" y="4991040"/>
            <a:ext cx="5475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1297080" y="5934600"/>
            <a:ext cx="25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碱基间氢键断裂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椭圆 15"/>
          <p:cNvSpPr/>
          <p:nvPr/>
        </p:nvSpPr>
        <p:spPr>
          <a:xfrm>
            <a:off x="693720" y="5905440"/>
            <a:ext cx="547560" cy="5493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5" name="矩形 16"/>
          <p:cNvSpPr/>
          <p:nvPr/>
        </p:nvSpPr>
        <p:spPr>
          <a:xfrm>
            <a:off x="1297080" y="6849000"/>
            <a:ext cx="325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核酸分子的完全水解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" name="椭圆 17"/>
          <p:cNvSpPr/>
          <p:nvPr/>
        </p:nvSpPr>
        <p:spPr>
          <a:xfrm>
            <a:off x="693720" y="6819840"/>
            <a:ext cx="5475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7" name="组合 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38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7"/>
          <p:cNvSpPr/>
          <p:nvPr/>
        </p:nvSpPr>
        <p:spPr>
          <a:xfrm>
            <a:off x="254160" y="991440"/>
            <a:ext cx="51163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4.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核酸分子杂交可发生在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和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R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之间、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和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之间，那么单链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 </a:t>
            </a:r>
            <a:r>
              <a:rPr b="1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5′-CGGTA-3′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可以与下列哪一种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R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发生杂交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矩形 8"/>
          <p:cNvSpPr/>
          <p:nvPr/>
        </p:nvSpPr>
        <p:spPr>
          <a:xfrm>
            <a:off x="1749600" y="3805560"/>
            <a:ext cx="22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5′-UACCG-3′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椭圆 9"/>
          <p:cNvSpPr/>
          <p:nvPr/>
        </p:nvSpPr>
        <p:spPr>
          <a:xfrm>
            <a:off x="1146240" y="3776760"/>
            <a:ext cx="549360" cy="5490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矩形 10"/>
          <p:cNvSpPr/>
          <p:nvPr/>
        </p:nvSpPr>
        <p:spPr>
          <a:xfrm>
            <a:off x="1749600" y="4719960"/>
            <a:ext cx="227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5′-GCCAU-3′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椭圆 11"/>
          <p:cNvSpPr/>
          <p:nvPr/>
        </p:nvSpPr>
        <p:spPr>
          <a:xfrm>
            <a:off x="1146240" y="4691160"/>
            <a:ext cx="549360" cy="549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1749600" y="5634360"/>
            <a:ext cx="229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5′-GCCUU-3′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椭圆 13"/>
          <p:cNvSpPr/>
          <p:nvPr/>
        </p:nvSpPr>
        <p:spPr>
          <a:xfrm>
            <a:off x="1146240" y="5605560"/>
            <a:ext cx="549360" cy="549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1749600" y="6548760"/>
            <a:ext cx="22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5′-AUCCG-3′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椭圆 15"/>
          <p:cNvSpPr/>
          <p:nvPr/>
        </p:nvSpPr>
        <p:spPr>
          <a:xfrm>
            <a:off x="1146240" y="6519960"/>
            <a:ext cx="549360" cy="549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矩形 16"/>
          <p:cNvSpPr/>
          <p:nvPr/>
        </p:nvSpPr>
        <p:spPr>
          <a:xfrm>
            <a:off x="1749600" y="7463160"/>
            <a:ext cx="230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5′-UAGGC-3′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" name="椭圆 17"/>
          <p:cNvSpPr/>
          <p:nvPr/>
        </p:nvSpPr>
        <p:spPr>
          <a:xfrm>
            <a:off x="1146240" y="7434360"/>
            <a:ext cx="549360" cy="549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4" name="组合 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55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7"/>
          <p:cNvSpPr/>
          <p:nvPr/>
        </p:nvSpPr>
        <p:spPr>
          <a:xfrm>
            <a:off x="571680" y="1359000"/>
            <a:ext cx="4316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5.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下列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分子具有较高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Tm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值的是：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1143000" y="39268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5′-ATATCATATGATATGTA-3′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椭圆 9"/>
          <p:cNvSpPr/>
          <p:nvPr/>
        </p:nvSpPr>
        <p:spPr>
          <a:xfrm>
            <a:off x="539640" y="3868560"/>
            <a:ext cx="54792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1143000" y="490788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5′-CGGTACTCGTGCAGGT-3′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" name="椭圆 11"/>
          <p:cNvSpPr/>
          <p:nvPr/>
        </p:nvSpPr>
        <p:spPr>
          <a:xfrm>
            <a:off x="539640" y="4876920"/>
            <a:ext cx="547920" cy="5490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5" name="组合 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66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直接连接符 6"/>
          <p:cNvSpPr/>
          <p:nvPr/>
        </p:nvSpPr>
        <p:spPr>
          <a:xfrm>
            <a:off x="2738520" y="4519440"/>
            <a:ext cx="24526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2" name="矩形 4" descr=""/>
          <p:cNvPicPr/>
          <p:nvPr/>
        </p:nvPicPr>
        <p:blipFill>
          <a:blip r:embed="rId1"/>
          <a:stretch/>
        </p:blipFill>
        <p:spPr>
          <a:xfrm>
            <a:off x="3121200" y="3754440"/>
            <a:ext cx="1841400" cy="615960"/>
          </a:xfrm>
          <a:prstGeom prst="rect">
            <a:avLst/>
          </a:prstGeom>
          <a:ln w="0">
            <a:noFill/>
          </a:ln>
        </p:spPr>
      </p:pic>
      <p:grpSp>
        <p:nvGrpSpPr>
          <p:cNvPr id="173" name="组合 11"/>
          <p:cNvGrpSpPr/>
          <p:nvPr/>
        </p:nvGrpSpPr>
        <p:grpSpPr>
          <a:xfrm>
            <a:off x="0" y="4917960"/>
            <a:ext cx="5715000" cy="4226040"/>
            <a:chOff x="0" y="4917960"/>
            <a:chExt cx="5715000" cy="4226040"/>
          </a:xfrm>
        </p:grpSpPr>
        <p:sp>
          <p:nvSpPr>
            <p:cNvPr id="174" name="矩形 12"/>
            <p:cNvSpPr/>
            <p:nvPr/>
          </p:nvSpPr>
          <p:spPr>
            <a:xfrm>
              <a:off x="0" y="4917960"/>
              <a:ext cx="5715000" cy="422604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175" name="图片 13" descr=""/>
            <p:cNvPicPr/>
            <p:nvPr/>
          </p:nvPicPr>
          <p:blipFill>
            <a:blip r:embed="rId2"/>
            <a:stretch/>
          </p:blipFill>
          <p:spPr>
            <a:xfrm>
              <a:off x="0" y="5824080"/>
              <a:ext cx="571500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09:11:47Z</dcterms:created>
  <dc:creator>卢 晓云</dc:creator>
  <dc:description/>
  <dc:language>en-US</dc:language>
  <cp:lastModifiedBy>luxy</cp:lastModifiedBy>
  <dcterms:modified xsi:type="dcterms:W3CDTF">2018-11-15T07:23:59Z</dcterms:modified>
  <cp:revision>18</cp:revision>
  <dc:subject/>
  <dc:title>PowerPoint 演示文稿</dc:title>
</cp:coreProperties>
</file>