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5716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8D6-B1ED-4D64-950A-8C3AE3C6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14D-FD4E-446B-9381-6AE2F7CE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3E2-C8AB-4706-8C42-6B0F574A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F2B-8D02-4B2F-B1B6-2978A1F8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0C93-8271-4210-BA16-3D69AA55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725F-5B4D-4B77-81F5-1EEE4942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0169-377B-4482-B16D-71DBC848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DCD9-DBAC-47F6-BB53-B97287DB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3F5D-1AFD-42D1-B091-64D52CD7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5D89-15DD-4A8E-8F3D-414B9A18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174A-F1FA-42A9-8D8D-1C19DF7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91D-1E3A-4C6A-85F3-805BF683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46C0-E4F4-4C3C-BEF5-1EE6C21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77FB-C93E-46BD-AED2-C2C4FF1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83A1-90E5-4A93-B121-A5C39BB5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FFC1-6322-44C4-B8B5-44F9188D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6B43-32BE-4913-8ED6-956E169E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C5F-FB5D-4BCA-A7CB-AD568A7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D47-377C-474C-A96E-28BEA4D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D58-D27A-4708-82FD-F5FB3494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EE4-503D-4971-8124-61AEE5B1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1E0-ED5B-4D66-A157-86573C5A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727-4231-49D8-85D4-2A5450DB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1A6-7328-4A85-B257-FE25D20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5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6AA9DCE3-1AC0-419D-9DCB-99F1360655B3}" type="slidenum">
              <a:rPr b="0" lang="zh-CN" sz="5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0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FA627AB8-6796-4D1F-B679-55ED32A5266B}" type="slidenum">
              <a:rPr b="0" lang="zh-CN" sz="30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后练习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27080" y="7873920"/>
            <a:ext cx="546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*</a:t>
            </a: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此封面页请勿删除，删除后将无法上传至试卷库，添加菜单栏任意题型即可制作试卷。本提示将在上传时自动隐藏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8"/>
          <p:cNvSpPr/>
          <p:nvPr/>
        </p:nvSpPr>
        <p:spPr>
          <a:xfrm>
            <a:off x="398520" y="1722600"/>
            <a:ext cx="51894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icrosoft Yahei"/>
              <a:buAutoNum type="arabicPeriod" startAt="7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核酸的一级结构实质上就是：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1303200" y="2997360"/>
            <a:ext cx="3824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多核苷酸链中的碱基排列顺序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1303200" y="3854520"/>
            <a:ext cx="3824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多核苷酸链中的碱基配对关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1303200" y="4711680"/>
            <a:ext cx="3824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多核苷酸链中的碱基比例关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矩形 22"/>
          <p:cNvSpPr/>
          <p:nvPr/>
        </p:nvSpPr>
        <p:spPr>
          <a:xfrm>
            <a:off x="1303200" y="5568840"/>
            <a:ext cx="3824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多核苷酸链的盘绕、折叠方式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8" name="椭圆 23"/>
          <p:cNvSpPr/>
          <p:nvPr/>
        </p:nvSpPr>
        <p:spPr>
          <a:xfrm>
            <a:off x="658800" y="2997360"/>
            <a:ext cx="51444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9" name="椭圆 24"/>
          <p:cNvSpPr/>
          <p:nvPr/>
        </p:nvSpPr>
        <p:spPr>
          <a:xfrm>
            <a:off x="658800" y="385452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椭圆 25"/>
          <p:cNvSpPr/>
          <p:nvPr/>
        </p:nvSpPr>
        <p:spPr>
          <a:xfrm>
            <a:off x="658800" y="47116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椭圆 26"/>
          <p:cNvSpPr/>
          <p:nvPr/>
        </p:nvSpPr>
        <p:spPr>
          <a:xfrm>
            <a:off x="658800" y="556884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矩形 27"/>
          <p:cNvSpPr/>
          <p:nvPr/>
        </p:nvSpPr>
        <p:spPr>
          <a:xfrm>
            <a:off x="1308240" y="6448320"/>
            <a:ext cx="3824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多核苷酸链之间的连接方式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椭圆 28"/>
          <p:cNvSpPr/>
          <p:nvPr/>
        </p:nvSpPr>
        <p:spPr>
          <a:xfrm>
            <a:off x="663480" y="64468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4" name="组合 1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205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09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6"/>
          <p:cNvSpPr/>
          <p:nvPr/>
        </p:nvSpPr>
        <p:spPr>
          <a:xfrm>
            <a:off x="2738520" y="4519440"/>
            <a:ext cx="24526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1" name="矩形 4" descr=""/>
          <p:cNvPicPr/>
          <p:nvPr/>
        </p:nvPicPr>
        <p:blipFill>
          <a:blip r:embed="rId1"/>
          <a:stretch/>
        </p:blipFill>
        <p:spPr>
          <a:xfrm>
            <a:off x="3121200" y="3754440"/>
            <a:ext cx="184140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2"/>
          <a:srcRect l="4201" t="0" r="0" b="0"/>
          <a:stretch/>
        </p:blipFill>
        <p:spPr>
          <a:xfrm>
            <a:off x="0" y="4911840"/>
            <a:ext cx="57150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5760" y="425520"/>
            <a:ext cx="157500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2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6680" y="1476360"/>
            <a:ext cx="27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930240" y="2233440"/>
            <a:ext cx="3826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遗传物质的化学本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rcRect l="4201" t="0" r="0" b="0"/>
          <a:stretch/>
        </p:blipFill>
        <p:spPr>
          <a:xfrm>
            <a:off x="0" y="4911840"/>
            <a:ext cx="5715000" cy="423216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2242440" y="3419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日课后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63288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内容占位符 2"/>
          <p:cNvSpPr/>
          <p:nvPr/>
        </p:nvSpPr>
        <p:spPr>
          <a:xfrm>
            <a:off x="492120" y="1852560"/>
            <a:ext cx="47023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构成核酸的基本化学单元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戊糖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中戊糖环的差异及其意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碱基的分类、命名、简写字母，组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碱基种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磷酸根及其对核酸分子带电性质的影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苷与核苷酸的组成及基团连接方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的核苷及核苷酸的命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酸的一级结构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聚核苷酸、磷酸二酯键、糖磷酸骨架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3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酸链的方向性、书写规则和长度表示方法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0"/>
          <p:cNvSpPr/>
          <p:nvPr/>
        </p:nvSpPr>
        <p:spPr>
          <a:xfrm>
            <a:off x="765000" y="1704960"/>
            <a:ext cx="4264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、核酸的基本组成单位是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矩形 21"/>
          <p:cNvSpPr/>
          <p:nvPr/>
        </p:nvSpPr>
        <p:spPr>
          <a:xfrm>
            <a:off x="1585800" y="3002040"/>
            <a:ext cx="2716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磷酸和核糖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矩形 22"/>
          <p:cNvSpPr/>
          <p:nvPr/>
        </p:nvSpPr>
        <p:spPr>
          <a:xfrm>
            <a:off x="1585800" y="3859200"/>
            <a:ext cx="2716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核苷和碱基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矩形 23"/>
          <p:cNvSpPr/>
          <p:nvPr/>
        </p:nvSpPr>
        <p:spPr>
          <a:xfrm>
            <a:off x="1585800" y="4716360"/>
            <a:ext cx="2716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单核苷酸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矩形 24"/>
          <p:cNvSpPr/>
          <p:nvPr/>
        </p:nvSpPr>
        <p:spPr>
          <a:xfrm>
            <a:off x="1585800" y="5573880"/>
            <a:ext cx="271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含氮碱基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椭圆 25"/>
          <p:cNvSpPr/>
          <p:nvPr/>
        </p:nvSpPr>
        <p:spPr>
          <a:xfrm>
            <a:off x="871560" y="3067200"/>
            <a:ext cx="51444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椭圆 26"/>
          <p:cNvSpPr/>
          <p:nvPr/>
        </p:nvSpPr>
        <p:spPr>
          <a:xfrm>
            <a:off x="871560" y="392436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椭圆 27"/>
          <p:cNvSpPr/>
          <p:nvPr/>
        </p:nvSpPr>
        <p:spPr>
          <a:xfrm>
            <a:off x="871560" y="478152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椭圆 28"/>
          <p:cNvSpPr/>
          <p:nvPr/>
        </p:nvSpPr>
        <p:spPr>
          <a:xfrm>
            <a:off x="871560" y="56386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矩形 29"/>
          <p:cNvSpPr/>
          <p:nvPr/>
        </p:nvSpPr>
        <p:spPr>
          <a:xfrm>
            <a:off x="1590840" y="6453360"/>
            <a:ext cx="271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脱氧核苷和碱基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椭圆 30"/>
          <p:cNvSpPr/>
          <p:nvPr/>
        </p:nvSpPr>
        <p:spPr>
          <a:xfrm>
            <a:off x="876240" y="651672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2" name="组合 18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03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07" name="图片 3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8"/>
          <p:cNvSpPr/>
          <p:nvPr/>
        </p:nvSpPr>
        <p:spPr>
          <a:xfrm>
            <a:off x="552600" y="1641600"/>
            <a:ext cx="38638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、自然界游离核苷酸中的磷酸基最常位于：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矩形 19"/>
          <p:cNvSpPr/>
          <p:nvPr/>
        </p:nvSpPr>
        <p:spPr>
          <a:xfrm>
            <a:off x="1879560" y="3209760"/>
            <a:ext cx="24274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戊糖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1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上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矩形 20"/>
          <p:cNvSpPr/>
          <p:nvPr/>
        </p:nvSpPr>
        <p:spPr>
          <a:xfrm>
            <a:off x="1879560" y="4067280"/>
            <a:ext cx="242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戊糖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2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上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1879560" y="4924440"/>
            <a:ext cx="242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戊糖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3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上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矩形 22"/>
          <p:cNvSpPr/>
          <p:nvPr/>
        </p:nvSpPr>
        <p:spPr>
          <a:xfrm>
            <a:off x="1879560" y="5781600"/>
            <a:ext cx="242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戊糖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4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上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椭圆 23"/>
          <p:cNvSpPr/>
          <p:nvPr/>
        </p:nvSpPr>
        <p:spPr>
          <a:xfrm>
            <a:off x="1165320" y="320976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椭圆 24"/>
          <p:cNvSpPr/>
          <p:nvPr/>
        </p:nvSpPr>
        <p:spPr>
          <a:xfrm>
            <a:off x="1165320" y="406728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椭圆 25"/>
          <p:cNvSpPr/>
          <p:nvPr/>
        </p:nvSpPr>
        <p:spPr>
          <a:xfrm>
            <a:off x="1165320" y="49244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椭圆 26"/>
          <p:cNvSpPr/>
          <p:nvPr/>
        </p:nvSpPr>
        <p:spPr>
          <a:xfrm>
            <a:off x="1165320" y="57816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矩形 27"/>
          <p:cNvSpPr/>
          <p:nvPr/>
        </p:nvSpPr>
        <p:spPr>
          <a:xfrm>
            <a:off x="1884240" y="6661080"/>
            <a:ext cx="242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戊糖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5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上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椭圆 28"/>
          <p:cNvSpPr/>
          <p:nvPr/>
        </p:nvSpPr>
        <p:spPr>
          <a:xfrm>
            <a:off x="1170000" y="665964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9" name="组合 1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20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8"/>
          <p:cNvSpPr/>
          <p:nvPr/>
        </p:nvSpPr>
        <p:spPr>
          <a:xfrm>
            <a:off x="390600" y="1530360"/>
            <a:ext cx="429876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Microsoft Yahei"/>
              <a:buAutoNum type="arabicPeriod" startAt="3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在核酸中，核苷酸之间的连接键是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1663560" y="3048120"/>
            <a:ext cx="2930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糖苷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矩形 20"/>
          <p:cNvSpPr/>
          <p:nvPr/>
        </p:nvSpPr>
        <p:spPr>
          <a:xfrm>
            <a:off x="1663560" y="3905280"/>
            <a:ext cx="2930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氢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1663560" y="4762440"/>
            <a:ext cx="2930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3′,5′-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磷酸二酯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矩形 22"/>
          <p:cNvSpPr/>
          <p:nvPr/>
        </p:nvSpPr>
        <p:spPr>
          <a:xfrm>
            <a:off x="1663560" y="5619600"/>
            <a:ext cx="29307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肽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椭圆 23"/>
          <p:cNvSpPr/>
          <p:nvPr/>
        </p:nvSpPr>
        <p:spPr>
          <a:xfrm>
            <a:off x="949320" y="3048120"/>
            <a:ext cx="51444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椭圆 24"/>
          <p:cNvSpPr/>
          <p:nvPr/>
        </p:nvSpPr>
        <p:spPr>
          <a:xfrm>
            <a:off x="949320" y="39052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" name="椭圆 25"/>
          <p:cNvSpPr/>
          <p:nvPr/>
        </p:nvSpPr>
        <p:spPr>
          <a:xfrm>
            <a:off x="949320" y="476244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椭圆 26"/>
          <p:cNvSpPr/>
          <p:nvPr/>
        </p:nvSpPr>
        <p:spPr>
          <a:xfrm>
            <a:off x="949320" y="561960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矩形 27"/>
          <p:cNvSpPr/>
          <p:nvPr/>
        </p:nvSpPr>
        <p:spPr>
          <a:xfrm>
            <a:off x="1668600" y="6499080"/>
            <a:ext cx="2930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′,5′- 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磷酸二酯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" name="椭圆 28"/>
          <p:cNvSpPr/>
          <p:nvPr/>
        </p:nvSpPr>
        <p:spPr>
          <a:xfrm>
            <a:off x="954000" y="649764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6" name="组合 1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37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1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8"/>
          <p:cNvSpPr/>
          <p:nvPr/>
        </p:nvSpPr>
        <p:spPr>
          <a:xfrm>
            <a:off x="507960" y="1460520"/>
            <a:ext cx="383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Microsoft Yahei"/>
              <a:buAutoNum type="arabicPeriod" startAt="4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核酸所含的元素中，含量较稳定的是：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矩形 19"/>
          <p:cNvSpPr/>
          <p:nvPr/>
        </p:nvSpPr>
        <p:spPr>
          <a:xfrm>
            <a:off x="1871640" y="3043080"/>
            <a:ext cx="1490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碳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矩形 20"/>
          <p:cNvSpPr/>
          <p:nvPr/>
        </p:nvSpPr>
        <p:spPr>
          <a:xfrm>
            <a:off x="1871640" y="3929040"/>
            <a:ext cx="1490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氢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矩形 21"/>
          <p:cNvSpPr/>
          <p:nvPr/>
        </p:nvSpPr>
        <p:spPr>
          <a:xfrm>
            <a:off x="1871640" y="4844880"/>
            <a:ext cx="1490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氮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矩形 22"/>
          <p:cNvSpPr/>
          <p:nvPr/>
        </p:nvSpPr>
        <p:spPr>
          <a:xfrm>
            <a:off x="1871640" y="5765760"/>
            <a:ext cx="1490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氧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椭圆 23"/>
          <p:cNvSpPr/>
          <p:nvPr/>
        </p:nvSpPr>
        <p:spPr>
          <a:xfrm>
            <a:off x="1157400" y="3108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椭圆 24"/>
          <p:cNvSpPr/>
          <p:nvPr/>
        </p:nvSpPr>
        <p:spPr>
          <a:xfrm>
            <a:off x="1157400" y="3992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椭圆 25"/>
          <p:cNvSpPr/>
          <p:nvPr/>
        </p:nvSpPr>
        <p:spPr>
          <a:xfrm>
            <a:off x="1157400" y="49100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椭圆 26"/>
          <p:cNvSpPr/>
          <p:nvPr/>
        </p:nvSpPr>
        <p:spPr>
          <a:xfrm>
            <a:off x="1157400" y="582948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1893960" y="6726240"/>
            <a:ext cx="1490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磷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椭圆 28"/>
          <p:cNvSpPr/>
          <p:nvPr/>
        </p:nvSpPr>
        <p:spPr>
          <a:xfrm>
            <a:off x="1157400" y="675324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3" name="组合 1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54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8"/>
          <p:cNvSpPr/>
          <p:nvPr/>
        </p:nvSpPr>
        <p:spPr>
          <a:xfrm>
            <a:off x="797040" y="1552680"/>
            <a:ext cx="40798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Microsoft Yahei"/>
              <a:buAutoNum type="arabicPeriod" startAt="5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通常既不见于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又不见于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RNA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的碱基是：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矩形 19"/>
          <p:cNvSpPr/>
          <p:nvPr/>
        </p:nvSpPr>
        <p:spPr>
          <a:xfrm>
            <a:off x="2154240" y="3112920"/>
            <a:ext cx="27874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腺嘌呤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矩形 20"/>
          <p:cNvSpPr/>
          <p:nvPr/>
        </p:nvSpPr>
        <p:spPr>
          <a:xfrm>
            <a:off x="2154240" y="3970440"/>
            <a:ext cx="278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黄嘌呤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矩形 21"/>
          <p:cNvSpPr/>
          <p:nvPr/>
        </p:nvSpPr>
        <p:spPr>
          <a:xfrm>
            <a:off x="2154240" y="4827600"/>
            <a:ext cx="278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鸟嘌呤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矩形 22"/>
          <p:cNvSpPr/>
          <p:nvPr/>
        </p:nvSpPr>
        <p:spPr>
          <a:xfrm>
            <a:off x="2154240" y="5684760"/>
            <a:ext cx="278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胸腺嘧啶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椭圆 23"/>
          <p:cNvSpPr/>
          <p:nvPr/>
        </p:nvSpPr>
        <p:spPr>
          <a:xfrm>
            <a:off x="1440000" y="311292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1440000" y="397044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椭圆 25"/>
          <p:cNvSpPr/>
          <p:nvPr/>
        </p:nvSpPr>
        <p:spPr>
          <a:xfrm>
            <a:off x="1440000" y="48276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椭圆 26"/>
          <p:cNvSpPr/>
          <p:nvPr/>
        </p:nvSpPr>
        <p:spPr>
          <a:xfrm>
            <a:off x="1440000" y="568476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矩形 27"/>
          <p:cNvSpPr/>
          <p:nvPr/>
        </p:nvSpPr>
        <p:spPr>
          <a:xfrm>
            <a:off x="2158920" y="6564240"/>
            <a:ext cx="2787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尿密啶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椭圆 28"/>
          <p:cNvSpPr/>
          <p:nvPr/>
        </p:nvSpPr>
        <p:spPr>
          <a:xfrm>
            <a:off x="1444680" y="656280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0" name="组合 1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71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8"/>
          <p:cNvSpPr/>
          <p:nvPr/>
        </p:nvSpPr>
        <p:spPr>
          <a:xfrm>
            <a:off x="376200" y="1398600"/>
            <a:ext cx="49626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Microsoft Yahei"/>
              <a:buAutoNum type="arabicPeriod" startAt="6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在核苷酸分子中戊糖（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R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）、碱基（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N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）和磷酸（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P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）的连接关系是：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" name="矩形 19"/>
          <p:cNvSpPr/>
          <p:nvPr/>
        </p:nvSpPr>
        <p:spPr>
          <a:xfrm>
            <a:off x="1990800" y="3355920"/>
            <a:ext cx="2068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N-R-P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矩形 20"/>
          <p:cNvSpPr/>
          <p:nvPr/>
        </p:nvSpPr>
        <p:spPr>
          <a:xfrm>
            <a:off x="1990800" y="4213080"/>
            <a:ext cx="20685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N-P-R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9" name="矩形 21"/>
          <p:cNvSpPr/>
          <p:nvPr/>
        </p:nvSpPr>
        <p:spPr>
          <a:xfrm>
            <a:off x="1990800" y="5070600"/>
            <a:ext cx="2068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P-N-R 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矩形 22"/>
          <p:cNvSpPr/>
          <p:nvPr/>
        </p:nvSpPr>
        <p:spPr>
          <a:xfrm>
            <a:off x="1990800" y="5927760"/>
            <a:ext cx="2068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R-N-P 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椭圆 23"/>
          <p:cNvSpPr/>
          <p:nvPr/>
        </p:nvSpPr>
        <p:spPr>
          <a:xfrm>
            <a:off x="1276200" y="335592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1276200" y="42130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3" name="椭圆 25"/>
          <p:cNvSpPr/>
          <p:nvPr/>
        </p:nvSpPr>
        <p:spPr>
          <a:xfrm>
            <a:off x="1276200" y="5070600"/>
            <a:ext cx="51444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椭圆 26"/>
          <p:cNvSpPr/>
          <p:nvPr/>
        </p:nvSpPr>
        <p:spPr>
          <a:xfrm>
            <a:off x="1276200" y="592776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矩形 27"/>
          <p:cNvSpPr/>
          <p:nvPr/>
        </p:nvSpPr>
        <p:spPr>
          <a:xfrm>
            <a:off x="1995480" y="6807240"/>
            <a:ext cx="2068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R-P-N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椭圆 28"/>
          <p:cNvSpPr/>
          <p:nvPr/>
        </p:nvSpPr>
        <p:spPr>
          <a:xfrm>
            <a:off x="1281240" y="68054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7" name="组合 1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88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TipText"/>
            <p:cNvSpPr/>
            <p:nvPr/>
          </p:nvSpPr>
          <p:spPr>
            <a:xfrm>
              <a:off x="1525680" y="10944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92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09:11:47Z</dcterms:created>
  <dc:creator>卢 晓云</dc:creator>
  <dc:description/>
  <dc:language>en-US</dc:language>
  <cp:lastModifiedBy>luxy</cp:lastModifiedBy>
  <dcterms:modified xsi:type="dcterms:W3CDTF">2018-11-15T07:20:32Z</dcterms:modified>
  <cp:revision>16</cp:revision>
  <dc:subject/>
  <dc:title>PowerPoint 演示文稿</dc:title>
</cp:coreProperties>
</file>