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5716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60D4-150A-4157-8EFE-9D3046D5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300A-D852-4FDF-8866-583A88C1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998-5449-47B8-B0E5-EB375750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602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270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384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602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270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8BB-F253-4B1A-B61C-D387345B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0696-F378-4F92-BA67-AB1DF4FF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23A2-EF3B-418E-AEF3-3C85A593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0702-7929-4226-B4D0-A0365752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4DFB-CE5C-419B-991E-A03E550B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10A5-0E9A-48B3-A7B2-CA358368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3840" y="487440"/>
            <a:ext cx="492912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670A-485E-466A-AB7A-6BDAEEF4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AEB3-A0DD-4504-AAFD-6A3F31E8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D6A-DE5A-437B-B856-0C8EDCD3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281E-F28C-4247-9F71-9BE14BE1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F50F-A6FC-45DD-8C24-1AA3F32E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999B-ED77-4734-87C9-CD452282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CA3D-A68E-476C-A4FA-68EA00A2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602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270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384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602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270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7C38-7E9D-4ABA-AD49-FACF7882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335-44FC-41CF-B1A3-B9B8FE50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1FA-D851-425C-A0EE-582550A3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C36-84E6-4A65-A2AE-B5FB476F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3840" y="487440"/>
            <a:ext cx="492912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B6F-2E2F-43B6-8A12-0F338341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3A4C-1722-4FFE-B2C3-8E9F4B24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1148-F085-4142-823F-55062504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A20-8BBB-4C11-9010-64BBF43B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1" marL="2890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2" marL="48096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3" marL="67464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4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5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6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3480" y="8475480"/>
            <a:ext cx="1285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5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5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93960" y="8475480"/>
            <a:ext cx="1928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37040" y="8475480"/>
            <a:ext cx="1285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5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6B60ED52-E75F-40B2-A355-999232DF2BDB}" type="slidenum">
              <a:rPr b="0" lang="zh-CN" sz="5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1" marL="2890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2" marL="48096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3" marL="67464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4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5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6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93480" y="8475480"/>
            <a:ext cx="1285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30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0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893960" y="8475480"/>
            <a:ext cx="1928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037040" y="8475480"/>
            <a:ext cx="1285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30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EEFB9AC3-8A13-4D29-8A13-BBF613B27A4E}" type="slidenum">
              <a:rPr b="0" lang="zh-CN" sz="30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apter 1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后练习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127080" y="7873920"/>
            <a:ext cx="5460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等线"/>
              </a:rPr>
              <a:t>*</a:t>
            </a:r>
            <a:r>
              <a:rPr b="0" lang="zh-CN" sz="2000" spc="-1" strike="noStrike">
                <a:solidFill>
                  <a:srgbClr val="ff0000"/>
                </a:solidFill>
                <a:latin typeface="等线"/>
              </a:rPr>
              <a:t>此封面页请勿删除，删除后将无法上传至试卷库，添加菜单栏任意题型即可制作试卷。本提示将在上传时自动隐藏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5760" y="425520"/>
            <a:ext cx="1575000" cy="45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apter 1-1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36680" y="1476360"/>
            <a:ext cx="27194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Nucleic Acids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930240" y="2233440"/>
            <a:ext cx="3826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子生物学的前世今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rcRect l="4201" t="0" r="0" b="0"/>
          <a:stretch/>
        </p:blipFill>
        <p:spPr>
          <a:xfrm>
            <a:off x="0" y="4911840"/>
            <a:ext cx="5715000" cy="423216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1"/>
          <p:cNvSpPr/>
          <p:nvPr/>
        </p:nvSpPr>
        <p:spPr>
          <a:xfrm>
            <a:off x="2242440" y="3419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日课后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2920" y="54900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节重点内容</a:t>
            </a:r>
            <a:endParaRPr b="0" lang="en-US" sz="2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0" name="内容占位符 2"/>
          <p:cNvSpPr/>
          <p:nvPr/>
        </p:nvSpPr>
        <p:spPr>
          <a:xfrm>
            <a:off x="492120" y="1596960"/>
            <a:ext cx="4702320" cy="70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子生物学是如何建立的，其标志性事件是什么？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 startAt="2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遗传物质是如何被一步步发现和证明的？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 startAt="2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 startAt="2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认为分子生物学建立以来得以快速发展的根本原因是什么？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 startAt="2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 startAt="2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认为分子生物学的发展对生命科学以及人类社会的发展有何作用？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9"/>
          <p:cNvSpPr/>
          <p:nvPr/>
        </p:nvSpPr>
        <p:spPr>
          <a:xfrm>
            <a:off x="428760" y="1351080"/>
            <a:ext cx="485748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1953</a:t>
            </a:r>
            <a:r>
              <a:rPr b="0" lang="zh-CN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Watson</a:t>
            </a:r>
            <a:r>
              <a:rPr b="0" lang="zh-CN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Crick</a:t>
            </a:r>
            <a:r>
              <a:rPr b="0" lang="zh-CN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提出（   ）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" name="矩形 31"/>
          <p:cNvSpPr/>
          <p:nvPr/>
        </p:nvSpPr>
        <p:spPr>
          <a:xfrm>
            <a:off x="1270080" y="2727360"/>
            <a:ext cx="4016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核苷酸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链通过氢键连接成一个双螺旋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3" name="矩形 32"/>
          <p:cNvSpPr/>
          <p:nvPr/>
        </p:nvSpPr>
        <p:spPr>
          <a:xfrm>
            <a:off x="1270080" y="3614760"/>
            <a:ext cx="4016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复制是半保留的，常常形成亲本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代双螺旋杂合链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4" name="矩形 33"/>
          <p:cNvSpPr/>
          <p:nvPr/>
        </p:nvSpPr>
        <p:spPr>
          <a:xfrm>
            <a:off x="1270080" y="4502160"/>
            <a:ext cx="4016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个连续的核苷酸代表一个遗传密码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5" name="矩形 34"/>
          <p:cNvSpPr/>
          <p:nvPr/>
        </p:nvSpPr>
        <p:spPr>
          <a:xfrm>
            <a:off x="1270080" y="5383080"/>
            <a:ext cx="4016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遗传物质通常是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非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RNA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" name="椭圆 35"/>
          <p:cNvSpPr/>
          <p:nvPr/>
        </p:nvSpPr>
        <p:spPr>
          <a:xfrm>
            <a:off x="555480" y="2790720"/>
            <a:ext cx="51444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" name="椭圆 36"/>
          <p:cNvSpPr/>
          <p:nvPr/>
        </p:nvSpPr>
        <p:spPr>
          <a:xfrm>
            <a:off x="555480" y="367812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" name="椭圆 37"/>
          <p:cNvSpPr/>
          <p:nvPr/>
        </p:nvSpPr>
        <p:spPr>
          <a:xfrm>
            <a:off x="555480" y="456552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椭圆 38"/>
          <p:cNvSpPr/>
          <p:nvPr/>
        </p:nvSpPr>
        <p:spPr>
          <a:xfrm>
            <a:off x="555480" y="544680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0" name="组合 18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01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3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05" name="图片 3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9"/>
          <p:cNvSpPr/>
          <p:nvPr/>
        </p:nvSpPr>
        <p:spPr>
          <a:xfrm>
            <a:off x="307800" y="1243080"/>
            <a:ext cx="51166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中心法则中生物信息传递的顺序是</a:t>
            </a: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" name="矩形 30"/>
          <p:cNvSpPr/>
          <p:nvPr/>
        </p:nvSpPr>
        <p:spPr>
          <a:xfrm>
            <a:off x="1611360" y="2351160"/>
            <a:ext cx="3398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&gt;</a:t>
            </a:r>
            <a:r>
              <a:rPr b="0" lang="zh-CN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蛋白质</a:t>
            </a: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&gt;RNA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8" name="矩形 31"/>
          <p:cNvSpPr/>
          <p:nvPr/>
        </p:nvSpPr>
        <p:spPr>
          <a:xfrm>
            <a:off x="1611360" y="3208320"/>
            <a:ext cx="3398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RNA&gt;DNA&gt;</a:t>
            </a:r>
            <a:r>
              <a:rPr b="0" lang="zh-CN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蛋白质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" name="矩形 32"/>
          <p:cNvSpPr/>
          <p:nvPr/>
        </p:nvSpPr>
        <p:spPr>
          <a:xfrm>
            <a:off x="1611360" y="4065480"/>
            <a:ext cx="3398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DNA&gt;RNA&gt;</a:t>
            </a:r>
            <a:r>
              <a:rPr b="0" lang="zh-CN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蛋白质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" name="矩形 33"/>
          <p:cNvSpPr/>
          <p:nvPr/>
        </p:nvSpPr>
        <p:spPr>
          <a:xfrm>
            <a:off x="1611360" y="4923000"/>
            <a:ext cx="33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蛋白质</a:t>
            </a: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&gt;DNA&gt;RNA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椭圆 34"/>
          <p:cNvSpPr/>
          <p:nvPr/>
        </p:nvSpPr>
        <p:spPr>
          <a:xfrm>
            <a:off x="896760" y="241452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椭圆 35"/>
          <p:cNvSpPr/>
          <p:nvPr/>
        </p:nvSpPr>
        <p:spPr>
          <a:xfrm>
            <a:off x="896760" y="327168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椭圆 36"/>
          <p:cNvSpPr/>
          <p:nvPr/>
        </p:nvSpPr>
        <p:spPr>
          <a:xfrm>
            <a:off x="896760" y="4129200"/>
            <a:ext cx="514440" cy="514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椭圆 37"/>
          <p:cNvSpPr/>
          <p:nvPr/>
        </p:nvSpPr>
        <p:spPr>
          <a:xfrm>
            <a:off x="896760" y="498636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15" name="组合 16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16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9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29"/>
          <p:cNvSpPr/>
          <p:nvPr/>
        </p:nvSpPr>
        <p:spPr>
          <a:xfrm>
            <a:off x="507960" y="1214280"/>
            <a:ext cx="502452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人类基因组计划的完成时间是？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" name="矩形 30"/>
          <p:cNvSpPr/>
          <p:nvPr/>
        </p:nvSpPr>
        <p:spPr>
          <a:xfrm>
            <a:off x="1725480" y="2454120"/>
            <a:ext cx="3346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3" name="矩形 31"/>
          <p:cNvSpPr/>
          <p:nvPr/>
        </p:nvSpPr>
        <p:spPr>
          <a:xfrm>
            <a:off x="1725480" y="3311640"/>
            <a:ext cx="3346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4" name="矩形 32"/>
          <p:cNvSpPr/>
          <p:nvPr/>
        </p:nvSpPr>
        <p:spPr>
          <a:xfrm>
            <a:off x="1725480" y="4168800"/>
            <a:ext cx="3346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矩形 33"/>
          <p:cNvSpPr/>
          <p:nvPr/>
        </p:nvSpPr>
        <p:spPr>
          <a:xfrm>
            <a:off x="1725480" y="5025960"/>
            <a:ext cx="3346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" name="椭圆 34"/>
          <p:cNvSpPr/>
          <p:nvPr/>
        </p:nvSpPr>
        <p:spPr>
          <a:xfrm>
            <a:off x="1011240" y="251928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7" name="椭圆 35"/>
          <p:cNvSpPr/>
          <p:nvPr/>
        </p:nvSpPr>
        <p:spPr>
          <a:xfrm>
            <a:off x="1011240" y="337644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" name="椭圆 36"/>
          <p:cNvSpPr/>
          <p:nvPr/>
        </p:nvSpPr>
        <p:spPr>
          <a:xfrm>
            <a:off x="1011240" y="4233960"/>
            <a:ext cx="51444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椭圆 37"/>
          <p:cNvSpPr/>
          <p:nvPr/>
        </p:nvSpPr>
        <p:spPr>
          <a:xfrm>
            <a:off x="1011240" y="5091120"/>
            <a:ext cx="51444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30" name="组合 16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31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35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9"/>
          <p:cNvSpPr/>
          <p:nvPr/>
        </p:nvSpPr>
        <p:spPr>
          <a:xfrm>
            <a:off x="0" y="7810560"/>
            <a:ext cx="5715000" cy="476280"/>
          </a:xfrm>
          <a:prstGeom prst="rect">
            <a:avLst/>
          </a:prstGeom>
          <a:solidFill>
            <a:srgbClr val="fbfa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500" spc="-1" strike="noStrike">
                <a:solidFill>
                  <a:srgbClr val="f84f41"/>
                </a:solidFill>
                <a:latin typeface="Microsoft Yahei"/>
                <a:ea typeface="Microsoft Yahei"/>
              </a:rPr>
              <a:t>正常使用主观题需</a:t>
            </a:r>
            <a:r>
              <a:rPr b="0" lang="en-US" sz="1500" spc="-1" strike="noStrike">
                <a:solidFill>
                  <a:srgbClr val="f84f41"/>
                </a:solidFill>
                <a:latin typeface="Microsoft Yahei"/>
                <a:ea typeface="Microsoft Yahei"/>
              </a:rPr>
              <a:t>2.0</a:t>
            </a:r>
            <a:r>
              <a:rPr b="0" lang="zh-CN" sz="1500" spc="-1" strike="noStrike">
                <a:solidFill>
                  <a:srgbClr val="f84f41"/>
                </a:solidFill>
                <a:latin typeface="Microsoft Yahei"/>
                <a:ea typeface="Microsoft Yahei"/>
              </a:rPr>
              <a:t>以上版本雨课堂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7" name="内容占位符 2"/>
          <p:cNvSpPr/>
          <p:nvPr/>
        </p:nvSpPr>
        <p:spPr>
          <a:xfrm>
            <a:off x="349200" y="1509840"/>
            <a:ext cx="49291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Avery, MacLeod, and McCarty concluded that DNA contained the genetic information to transform nonpathogenic R (rough) </a:t>
            </a:r>
            <a:r>
              <a:rPr b="0" i="1" lang="en-US" sz="2000" spc="-1" strike="noStrike">
                <a:solidFill>
                  <a:srgbClr val="000000"/>
                </a:solidFill>
                <a:latin typeface="微软雅黑"/>
              </a:rPr>
              <a:t>Streptococcus pneumoniae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 to pathogenic S (smooth) </a:t>
            </a:r>
            <a:r>
              <a:rPr b="0" i="1" lang="en-US" sz="2000" spc="-1" strike="noStrike">
                <a:solidFill>
                  <a:srgbClr val="000000"/>
                </a:solidFill>
                <a:latin typeface="微软雅黑"/>
              </a:rPr>
              <a:t>S. pneumoniae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. Explain the experimental logic behind treatment of the active purified fraction with dexoyribonuclease,  ribonuclease, or proteolytic enzymes.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38" name="组合 8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39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1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主观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2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0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43" name="图片 1" descr=""/>
          <p:cNvPicPr/>
          <p:nvPr/>
        </p:nvPicPr>
        <p:blipFill>
          <a:blip r:embed="rId1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9"/>
          <p:cNvSpPr/>
          <p:nvPr/>
        </p:nvSpPr>
        <p:spPr>
          <a:xfrm>
            <a:off x="0" y="8667720"/>
            <a:ext cx="5715000" cy="476280"/>
          </a:xfrm>
          <a:prstGeom prst="rect">
            <a:avLst/>
          </a:prstGeom>
          <a:solidFill>
            <a:srgbClr val="fbfa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500" spc="-1" strike="noStrike">
                <a:solidFill>
                  <a:srgbClr val="f84f41"/>
                </a:solidFill>
                <a:latin typeface="Microsoft Yahei"/>
                <a:ea typeface="Microsoft Yahei"/>
              </a:rPr>
              <a:t>正常使用主观题需</a:t>
            </a:r>
            <a:r>
              <a:rPr b="0" lang="en-US" sz="1500" spc="-1" strike="noStrike">
                <a:solidFill>
                  <a:srgbClr val="f84f41"/>
                </a:solidFill>
                <a:latin typeface="Microsoft Yahei"/>
                <a:ea typeface="Microsoft Yahei"/>
              </a:rPr>
              <a:t>2.0</a:t>
            </a:r>
            <a:r>
              <a:rPr b="0" lang="zh-CN" sz="1500" spc="-1" strike="noStrike">
                <a:solidFill>
                  <a:srgbClr val="f84f41"/>
                </a:solidFill>
                <a:latin typeface="Microsoft Yahei"/>
                <a:ea typeface="Microsoft Yahei"/>
              </a:rPr>
              <a:t>以上版本雨课堂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" name="矩形 1"/>
          <p:cNvSpPr/>
          <p:nvPr/>
        </p:nvSpPr>
        <p:spPr>
          <a:xfrm>
            <a:off x="379440" y="798480"/>
            <a:ext cx="5094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 the 1952 Hershey–Chase experiment (shown in the left figure), explain why the protein is labeled with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35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and the DNA is labeled with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. Is it possible to do the reverse labeling (DNA with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35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and protein with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)?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46" name="图片 2" descr=""/>
          <p:cNvPicPr/>
          <p:nvPr/>
        </p:nvPicPr>
        <p:blipFill>
          <a:blip r:embed="rId1"/>
          <a:stretch/>
        </p:blipFill>
        <p:spPr>
          <a:xfrm>
            <a:off x="465120" y="3252960"/>
            <a:ext cx="2446200" cy="5365440"/>
          </a:xfrm>
          <a:prstGeom prst="rect">
            <a:avLst/>
          </a:prstGeom>
          <a:ln w="0">
            <a:noFill/>
          </a:ln>
        </p:spPr>
      </p:pic>
      <p:sp>
        <p:nvSpPr>
          <p:cNvPr id="147" name="矩形 3"/>
          <p:cNvSpPr/>
          <p:nvPr/>
        </p:nvSpPr>
        <p:spPr>
          <a:xfrm>
            <a:off x="2987640" y="7027920"/>
            <a:ext cx="250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Molecular Biolo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of the ge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igure 2-3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48" name="组合 8"/>
          <p:cNvGrpSpPr/>
          <p:nvPr/>
        </p:nvGrpSpPr>
        <p:grpSpPr>
          <a:xfrm>
            <a:off x="0" y="0"/>
            <a:ext cx="5715000" cy="635040"/>
            <a:chOff x="0" y="0"/>
            <a:chExt cx="5715000" cy="635040"/>
          </a:xfrm>
        </p:grpSpPr>
        <p:sp>
          <p:nvSpPr>
            <p:cNvPr id="149" name="TitleBackground"/>
            <p:cNvSpPr/>
            <p:nvPr/>
          </p:nvSpPr>
          <p:spPr>
            <a:xfrm>
              <a:off x="0" y="0"/>
              <a:ext cx="5715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0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1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主观题</a:t>
              </a:r>
              <a:endParaRPr b="0" lang="en-US" sz="2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2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0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53" name="图片 1" descr=""/>
          <p:cNvPicPr/>
          <p:nvPr/>
        </p:nvPicPr>
        <p:blipFill>
          <a:blip r:embed="rId2"/>
          <a:stretch/>
        </p:blipFill>
        <p:spPr>
          <a:xfrm>
            <a:off x="4165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直接连接符 6"/>
          <p:cNvSpPr/>
          <p:nvPr/>
        </p:nvSpPr>
        <p:spPr>
          <a:xfrm>
            <a:off x="2738520" y="4519440"/>
            <a:ext cx="24526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55" name="矩形 4" descr=""/>
          <p:cNvPicPr/>
          <p:nvPr/>
        </p:nvPicPr>
        <p:blipFill>
          <a:blip r:embed="rId1"/>
          <a:stretch/>
        </p:blipFill>
        <p:spPr>
          <a:xfrm>
            <a:off x="3121200" y="3754440"/>
            <a:ext cx="1841400" cy="615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2"/>
          <a:srcRect l="4201" t="0" r="0" b="0"/>
          <a:stretch/>
        </p:blipFill>
        <p:spPr>
          <a:xfrm>
            <a:off x="0" y="4911840"/>
            <a:ext cx="57150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09:11:47Z</dcterms:created>
  <dc:creator>卢 晓云</dc:creator>
  <dc:description/>
  <dc:language>en-US</dc:language>
  <cp:lastModifiedBy>卢 晓云</cp:lastModifiedBy>
  <dcterms:modified xsi:type="dcterms:W3CDTF">2018-09-18T13:29:57Z</dcterms:modified>
  <cp:revision>17</cp:revision>
  <dc:subject/>
  <dc:title>PowerPoint 演示文稿</dc:title>
</cp:coreProperties>
</file>