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行楷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14E5-9849-4451-A016-AA5A3D02DDE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97F4-5A7E-4ED9-98FF-90C10D6C39A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4D7C-280B-4745-8E28-167007D8FFE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book we used is a photolithographic book published by Science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8F2-686F-4870-B19E-4E4DFF21EA9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A610-46DF-494B-A70F-34925C13F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8B6E-64CA-475D-BB5C-0E91FCAA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A2C8-2405-43E0-88E8-57D2721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9EB6-D098-4FA0-B1FA-38899EEE4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8920" y="20484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B5B3-CCAD-41F0-BF3D-E115CC24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A26C-82B3-443E-89C0-1D95113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4DCC-81D5-418F-ADDD-CE3E6C5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B01B-66B2-4ACA-B286-1890B9BF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8920" y="20484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C4F2-D1A9-4782-843B-17280692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501B-D58D-4466-B846-6A5B1DF4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A30B-BE62-4F8E-A348-35402873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12744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C9BD-9891-427D-A1D4-7D90264E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232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68"/>
          <p:cNvSpPr/>
          <p:nvPr/>
        </p:nvSpPr>
        <p:spPr>
          <a:xfrm>
            <a:off x="0" y="857160"/>
            <a:ext cx="9144000" cy="123840"/>
          </a:xfrm>
          <a:prstGeom prst="rect">
            <a:avLst/>
          </a:prstGeom>
          <a:solidFill>
            <a:srgbClr val="2a6d7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7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723B-66F5-4CFE-97D6-580E3FB01B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4"/>
          <p:cNvSpPr/>
          <p:nvPr/>
        </p:nvSpPr>
        <p:spPr>
          <a:xfrm>
            <a:off x="3240" y="836640"/>
            <a:ext cx="9140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78920" y="20484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50000"/>
              </a:lnSpc>
              <a:spcBef>
                <a:spcPts val="601"/>
              </a:spcBef>
              <a:buClr>
                <a:srgbClr val="feb80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Line 184"/>
          <p:cNvSpPr/>
          <p:nvPr/>
        </p:nvSpPr>
        <p:spPr>
          <a:xfrm>
            <a:off x="7259760" y="0"/>
            <a:ext cx="1440" cy="835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6838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0484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50000"/>
              </a:lnSpc>
              <a:spcBef>
                <a:spcPts val="601"/>
              </a:spcBef>
              <a:buClr>
                <a:srgbClr val="feb80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52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矩形 3" descr=""/>
          <p:cNvPicPr/>
          <p:nvPr/>
        </p:nvPicPr>
        <p:blipFill>
          <a:blip r:embed="rId1"/>
          <a:stretch/>
        </p:blipFill>
        <p:spPr>
          <a:xfrm>
            <a:off x="3060720" y="762120"/>
            <a:ext cx="6119640" cy="2255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4932360" y="3716280"/>
            <a:ext cx="403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20000"/>
              </a:lnSpc>
              <a:spcBef>
                <a:spcPts val="451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Instructor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卢晓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51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Tel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153537138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51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E-mail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luxy05@xjtu.edu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04840"/>
            <a:ext cx="658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简介</a:t>
            </a:r>
            <a:endParaRPr b="0" lang="en-US" sz="2800" spc="-1" strike="noStrike">
              <a:solidFill>
                <a:srgbClr val="ffffff"/>
              </a:solidFill>
              <a:latin typeface="华文行楷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874280" cy="4032360"/>
          </a:xfrm>
          <a:prstGeom prst="rect">
            <a:avLst/>
          </a:prstGeom>
          <a:ln w="0">
            <a:noFill/>
          </a:ln>
        </p:spPr>
      </p:pic>
      <p:sp>
        <p:nvSpPr>
          <p:cNvPr id="98" name="矩形 3"/>
          <p:cNvSpPr/>
          <p:nvPr/>
        </p:nvSpPr>
        <p:spPr>
          <a:xfrm>
            <a:off x="1223640" y="1413000"/>
            <a:ext cx="63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门课程配套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OC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源请访问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xuetang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04840"/>
            <a:ext cx="28083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材及参考书</a:t>
            </a:r>
            <a:endParaRPr b="0" lang="en-US" sz="2400" spc="-1" strike="noStrike">
              <a:solidFill>
                <a:srgbClr val="ffffff"/>
              </a:solidFill>
              <a:latin typeface="华文行楷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2997360"/>
            <a:ext cx="662472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0000"/>
              </a:lnSpc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dc765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8dc765"/>
                </a:solidFill>
                <a:latin typeface="Calibri"/>
                <a:ea typeface="宋体"/>
              </a:rPr>
              <a:t>Recommend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Gene X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Benjamin Lew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Molecular Biology of the Cell (5th Edition by B Alber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3. Molecular Cell Biology (5th Edition by H Lodis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4. Molecular Biology (Fifth Edition, by Weav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5219640" y="1190520"/>
            <a:ext cx="1562040" cy="2094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2" name="组合 2"/>
          <p:cNvGrpSpPr/>
          <p:nvPr/>
        </p:nvGrpSpPr>
        <p:grpSpPr>
          <a:xfrm>
            <a:off x="652320" y="4941720"/>
            <a:ext cx="5954760" cy="1619280"/>
            <a:chOff x="652320" y="4941720"/>
            <a:chExt cx="5954760" cy="1619280"/>
          </a:xfrm>
        </p:grpSpPr>
        <p:pic>
          <p:nvPicPr>
            <p:cNvPr id="103" name="Picture 4" descr=""/>
            <p:cNvPicPr/>
            <p:nvPr/>
          </p:nvPicPr>
          <p:blipFill>
            <a:blip r:embed="rId2"/>
            <a:stretch/>
          </p:blipFill>
          <p:spPr>
            <a:xfrm>
              <a:off x="652320" y="4947840"/>
              <a:ext cx="1266840" cy="1613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04" name="Picture 4" descr=""/>
            <p:cNvPicPr/>
            <p:nvPr/>
          </p:nvPicPr>
          <p:blipFill>
            <a:blip r:embed="rId3"/>
            <a:stretch/>
          </p:blipFill>
          <p:spPr>
            <a:xfrm>
              <a:off x="3749400" y="4947840"/>
              <a:ext cx="1241280" cy="1613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05" name="Picture 5" descr=""/>
            <p:cNvPicPr/>
            <p:nvPr/>
          </p:nvPicPr>
          <p:blipFill>
            <a:blip r:embed="rId4"/>
            <a:stretch/>
          </p:blipFill>
          <p:spPr>
            <a:xfrm>
              <a:off x="5262480" y="4947840"/>
              <a:ext cx="1344600" cy="1613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06" name="Picture 10" descr=""/>
            <p:cNvPicPr/>
            <p:nvPr/>
          </p:nvPicPr>
          <p:blipFill>
            <a:blip r:embed="rId5"/>
            <a:stretch/>
          </p:blipFill>
          <p:spPr>
            <a:xfrm>
              <a:off x="2199960" y="4941720"/>
              <a:ext cx="1290600" cy="1614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07" name="图片 1" descr=""/>
          <p:cNvPicPr/>
          <p:nvPr/>
        </p:nvPicPr>
        <p:blipFill>
          <a:blip r:embed="rId6"/>
          <a:stretch/>
        </p:blipFill>
        <p:spPr>
          <a:xfrm>
            <a:off x="7042320" y="1176480"/>
            <a:ext cx="1562040" cy="2108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8" name="Rectangle 3"/>
          <p:cNvSpPr/>
          <p:nvPr/>
        </p:nvSpPr>
        <p:spPr>
          <a:xfrm>
            <a:off x="250920" y="1157400"/>
            <a:ext cx="518472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dc765"/>
                </a:solidFill>
                <a:latin typeface="Calibri"/>
                <a:ea typeface="宋体"/>
              </a:rPr>
              <a:t>Requi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buClr>
                <a:srgbClr val="4f27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Fundammental Molecular Biology (Third Edition), Lizabeth A. All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buClr>
                <a:srgbClr val="4f271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Molecular Biology of the gene, Watson J. D. (7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12"/>
          <p:cNvGrpSpPr/>
          <p:nvPr/>
        </p:nvGrpSpPr>
        <p:grpSpPr>
          <a:xfrm>
            <a:off x="826920" y="1341360"/>
            <a:ext cx="7561440" cy="4751640"/>
            <a:chOff x="826920" y="1341360"/>
            <a:chExt cx="7561440" cy="4751640"/>
          </a:xfrm>
        </p:grpSpPr>
        <p:sp>
          <p:nvSpPr>
            <p:cNvPr id="110" name="矩形 10"/>
            <p:cNvSpPr/>
            <p:nvPr/>
          </p:nvSpPr>
          <p:spPr>
            <a:xfrm>
              <a:off x="833040" y="3762360"/>
              <a:ext cx="7555320" cy="233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9"/>
            <p:cNvSpPr/>
            <p:nvPr/>
          </p:nvSpPr>
          <p:spPr>
            <a:xfrm>
              <a:off x="826920" y="2550960"/>
              <a:ext cx="7555320" cy="1120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826920" y="1341360"/>
              <a:ext cx="7555320" cy="1120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7"/>
            <p:cNvSpPr/>
            <p:nvPr/>
          </p:nvSpPr>
          <p:spPr>
            <a:xfrm>
              <a:off x="6266880" y="16700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遗传物质的组成及结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8"/>
            <p:cNvSpPr/>
            <p:nvPr/>
          </p:nvSpPr>
          <p:spPr>
            <a:xfrm>
              <a:off x="6266880" y="29235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遗传信息的维持和稳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1"/>
            <p:cNvSpPr/>
            <p:nvPr/>
          </p:nvSpPr>
          <p:spPr>
            <a:xfrm>
              <a:off x="6266880" y="465840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遗传信息的表达及调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1042920" y="1413000"/>
          <a:ext cx="7416720" cy="45622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第一章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遗传信息的物质基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第二章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从核苷酸到染色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第三章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DNA</a:t>
                      </a: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的复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第四章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DNA</a:t>
                      </a: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的损伤及修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第五章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原核细胞转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第六章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真核细胞的转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第七章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加工及转录后基因表达调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第八章 </a:t>
                      </a:r>
                      <a:r>
                        <a:rPr b="1" lang="en-US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zh-CN" sz="1800" spc="-1" strike="noStrike">
                          <a:solidFill>
                            <a:srgbClr val="4b3e21"/>
                          </a:solidFill>
                          <a:latin typeface="微软雅黑"/>
                          <a:ea typeface="微软雅黑"/>
                        </a:rPr>
                        <a:t>蛋白质的翻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7"/>
          <p:cNvSpPr/>
          <p:nvPr/>
        </p:nvSpPr>
        <p:spPr>
          <a:xfrm>
            <a:off x="428760" y="204840"/>
            <a:ext cx="683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urse Contents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826920" y="134136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欢迎你跟我一起开启分子生物学之旅，在学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生物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绪论课之前，我希望你能带着问题去学习，在学习的过程中不断思考，看看自己学习过后是不是能想清楚下面几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分子生物学主要研究的领域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分子生物学和生命科学其他学科的关系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分子生物学何时诞生？其标志性事件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分子生物学发展历史上有哪些重大发现让你印象深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着这些问题，我们一起开始学习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428760" y="204840"/>
            <a:ext cx="683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课预习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1332000" y="1341360"/>
            <a:ext cx="6530760" cy="466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5680" rIns="35568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慕课视频片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名称：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Lecture 1 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分子生物学的前世今生  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The past and present journey of molecular biology: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8c8c8"/>
                </a:solidFill>
                <a:latin typeface="Microsoft Yahei"/>
                <a:ea typeface="Microsoft Yahei"/>
              </a:rPr>
              <a:t>温馨提示：此视频框在点击“上传手机课件”时会进行转换，用手机进行观看时则会变为可点击的视频。此视频框可被拖动移位和修改大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428760" y="204840"/>
            <a:ext cx="683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课预习视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539640" y="1268280"/>
            <a:ext cx="820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D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遗传物质的发现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rederick Griffith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展的细菌毒力转化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swald T. Aver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人证明了纯化了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使得细菌毒力发生转化的物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 Hershey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rtha Chas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射性标记的噬菌体侵染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Chargaff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掌握：某物中通过已知的某一种碱基含量计算其他各种碱基含量的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不同物种基因组中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含量可以有较大差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心法则及其完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掌握：能够画出中心法则的各步骤的图示，知道各步骤的名称及遗传信息流动的方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28760" y="204840"/>
            <a:ext cx="683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课重点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4859280" y="155736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dc765"/>
                    </a:gs>
                    <a:gs pos="100000">
                      <a:srgbClr val="feb80a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dc765"/>
                  </a:gs>
                  <a:gs pos="100000">
                    <a:srgbClr val="feb80a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pic>
        <p:nvPicPr>
          <p:cNvPr id="125" name="Picture 9" descr="8"/>
          <p:cNvPicPr/>
          <p:nvPr/>
        </p:nvPicPr>
        <p:blipFill>
          <a:blip r:embed="rId1"/>
          <a:stretch/>
        </p:blipFill>
        <p:spPr>
          <a:xfrm>
            <a:off x="5148360" y="5315040"/>
            <a:ext cx="37353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02:11:40Z</dcterms:created>
  <dc:creator>微软用户</dc:creator>
  <dc:description/>
  <dc:language>en-US</dc:language>
  <cp:lastModifiedBy>卢 晓云</cp:lastModifiedBy>
  <dcterms:modified xsi:type="dcterms:W3CDTF">2018-07-16T12:58:33Z</dcterms:modified>
  <cp:revision>253</cp:revision>
  <dc:subject/>
  <dc:title>分 子 生 物 学 Molecular Biology</dc:title>
</cp:coreProperties>
</file>