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5716588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045D-B5C2-43B2-88C7-2C08F0247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492912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3840" y="5464440"/>
            <a:ext cx="492912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132D-9F3E-4F44-B6E5-B05F09D7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384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91960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3067-0236-4E02-A50D-04795379F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60280" y="243360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27080" y="243360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3840" y="546444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60280" y="546444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27080" y="546444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D94E-3EB0-467B-A885-2C784A0E6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EF44-250B-48FD-A58A-BEB78877C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3840" y="2433600"/>
            <a:ext cx="4929120" cy="58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BFEB-01D2-4E7A-ACE5-7374AA2E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492912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F8F9-25F7-45BD-A711-7B341B47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5E13-F45B-4281-9C8D-C5EFAACA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DF52-6FA8-4E48-89E2-21948893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3840" y="487440"/>
            <a:ext cx="4929120" cy="81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C950-C642-463D-883F-92C64A0C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384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4338-3A67-483F-B6CB-1FDBA137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3840" y="2433600"/>
            <a:ext cx="4929120" cy="58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EB7C-7BD9-445F-8429-3EFE01B8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1960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AB66-94A7-491B-89D8-AFF0ADA0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3840" y="5464440"/>
            <a:ext cx="492912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EF88-B95E-4BFE-98BE-55811096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492912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3840" y="5464440"/>
            <a:ext cx="492912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27B8-7EC1-4EA1-B898-B6A9E801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384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1960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DC9C-FEAE-4288-B91C-AE34C7559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060280" y="243360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27080" y="243360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3840" y="546444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060280" y="546444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27080" y="546444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F535-5E5A-4BDA-B7AA-3B8C54E32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492912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ABED-46D8-4CB8-A977-F47BD0FC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2C31-2A9B-4748-A14C-C100EB55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ADCB-B107-4D53-B067-C226B94F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3840" y="487440"/>
            <a:ext cx="4929120" cy="81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CC17-681C-43E1-8BEB-F2622245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384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96F2-687E-4962-A1A2-EC212A3F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1960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1CE8-637E-4953-A592-8367CDE1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3840" y="5464440"/>
            <a:ext cx="492912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8A2E-5B96-4D8A-ABCC-41F1E949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3840" y="2433600"/>
            <a:ext cx="492912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40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1" marL="2890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2" marL="480960" indent="-95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3" marL="674640" indent="-95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4" marL="8668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5" marL="8668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6" marL="8668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3480" y="8475480"/>
            <a:ext cx="1285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zh-CN" sz="5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5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93960" y="8475480"/>
            <a:ext cx="192888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37040" y="8475480"/>
            <a:ext cx="12859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zh-CN" sz="5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92D78B74-E528-4551-968C-ABC44B139290}" type="slidenum">
              <a:rPr b="0" lang="zh-CN" sz="5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3840" y="2433600"/>
            <a:ext cx="492912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40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1" marL="2890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2" marL="480960" indent="-95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3" marL="674640" indent="-95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4" marL="8668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5" marL="8668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6" marL="8668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93480" y="8475480"/>
            <a:ext cx="1285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just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zh-CN" sz="30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just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30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3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893960" y="8475480"/>
            <a:ext cx="192888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037040" y="8475480"/>
            <a:ext cx="12859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just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zh-CN" sz="30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just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7A993C35-AF56-421D-B0EE-CC176C65015F}" type="slidenum">
              <a:rPr b="0" lang="zh-CN" sz="30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5760" y="425520"/>
            <a:ext cx="1575000" cy="45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hapter 1-4</a:t>
            </a: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6680" y="1476360"/>
            <a:ext cx="27194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Nucleic Acids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123920" y="3525840"/>
            <a:ext cx="36831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4760" indent="-104760">
              <a:lnSpc>
                <a:spcPct val="150000"/>
              </a:lnSpc>
              <a:spcBef>
                <a:spcPts val="425"/>
              </a:spcBef>
              <a:buClr>
                <a:srgbClr val="44546a"/>
              </a:buClr>
              <a:buSzPct val="85000"/>
              <a:buFont typeface="Arial"/>
              <a:buChar char="•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rtiary structure of DNA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marL="104760" indent="-104760">
              <a:lnSpc>
                <a:spcPct val="150000"/>
              </a:lnSpc>
              <a:spcBef>
                <a:spcPts val="425"/>
              </a:spcBef>
              <a:buClr>
                <a:srgbClr val="44546a"/>
              </a:buClr>
              <a:buSzPct val="85000"/>
              <a:buFont typeface="Arial"/>
              <a:buChar char="•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opoisomerases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5" name="文本框 1"/>
          <p:cNvSpPr/>
          <p:nvPr/>
        </p:nvSpPr>
        <p:spPr>
          <a:xfrm>
            <a:off x="930240" y="2233440"/>
            <a:ext cx="3610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超螺旋的奥秘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86" name="组合 4"/>
          <p:cNvGrpSpPr/>
          <p:nvPr/>
        </p:nvGrpSpPr>
        <p:grpSpPr>
          <a:xfrm>
            <a:off x="0" y="4956120"/>
            <a:ext cx="5715000" cy="4187880"/>
            <a:chOff x="0" y="4956120"/>
            <a:chExt cx="5715000" cy="4187880"/>
          </a:xfrm>
        </p:grpSpPr>
        <p:sp>
          <p:nvSpPr>
            <p:cNvPr id="87" name="矩形 3"/>
            <p:cNvSpPr/>
            <p:nvPr/>
          </p:nvSpPr>
          <p:spPr>
            <a:xfrm>
              <a:off x="0" y="4956120"/>
              <a:ext cx="5715000" cy="4187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88" name="图片 2" descr=""/>
            <p:cNvPicPr/>
            <p:nvPr/>
          </p:nvPicPr>
          <p:blipFill>
            <a:blip r:embed="rId1"/>
            <a:srcRect l="29181" t="0" r="0" b="10750"/>
            <a:stretch/>
          </p:blipFill>
          <p:spPr>
            <a:xfrm>
              <a:off x="8280" y="5379120"/>
              <a:ext cx="5706720" cy="3382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8000" y="387000"/>
            <a:ext cx="3397320" cy="53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节预习指导</a:t>
            </a:r>
            <a:endParaRPr b="0" lang="en-US" sz="2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0" name="内容占位符 2"/>
          <p:cNvSpPr/>
          <p:nvPr/>
        </p:nvSpPr>
        <p:spPr>
          <a:xfrm>
            <a:off x="469800" y="1101600"/>
            <a:ext cx="47037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了解了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螺旋结构的基础上，本节为大家介绍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三级结构，即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超螺旋</a:t>
            </a: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(supercoiling)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构。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超螺旋是在细胞内特定的离子浓度、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H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条件以及拓扑异构酶的作用下闭合、环状、双链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子紧密卷曲形成的三级结构。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超螺旋又可以分为正超螺旋和负超螺旋。几乎所有天然状态的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都是以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负超螺旋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形式存在。通过本节课的学习希望大家能够掌握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超螺旋的概念，表征方式，正负超螺旋的区分，以及超螺旋状态可以通过拓扑异构酶切断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单链或双链而改变。并了解体内环境中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以负超螺旋状态存在的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生理意义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以及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复制及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RNA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转录过程中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超螺旋状态的改变。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3080" y="448920"/>
            <a:ext cx="4970160" cy="530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节预习视频</a:t>
            </a:r>
            <a:endParaRPr b="0" lang="en-US" sz="2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2" name="矩形 5"/>
          <p:cNvSpPr/>
          <p:nvPr/>
        </p:nvSpPr>
        <p:spPr>
          <a:xfrm>
            <a:off x="179280" y="1908000"/>
            <a:ext cx="5364360" cy="3832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55680" rIns="35568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慕课视频片段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600" spc="-1" strike="noStrike">
                <a:solidFill>
                  <a:srgbClr val="f8f8f8"/>
                </a:solidFill>
                <a:latin typeface="Microsoft Yahei"/>
                <a:ea typeface="Microsoft Yahei"/>
              </a:rPr>
              <a:t>视频名称：</a:t>
            </a:r>
            <a:r>
              <a:rPr b="0" lang="en-US" sz="1600" spc="-1" strike="noStrike">
                <a:solidFill>
                  <a:srgbClr val="f8f8f8"/>
                </a:solidFill>
                <a:latin typeface="Microsoft Yahei"/>
                <a:ea typeface="Microsoft Yahei"/>
              </a:rPr>
              <a:t>Lecture 4 </a:t>
            </a:r>
            <a:r>
              <a:rPr b="0" lang="zh-CN" sz="1600" spc="-1" strike="noStrike">
                <a:solidFill>
                  <a:srgbClr val="f8f8f8"/>
                </a:solidFill>
                <a:latin typeface="Microsoft Yahei"/>
                <a:ea typeface="Microsoft Yahei"/>
              </a:rPr>
              <a:t>螺旋之螺旋</a:t>
            </a:r>
            <a:r>
              <a:rPr b="0" lang="en-US" sz="1600" spc="-1" strike="noStrike">
                <a:solidFill>
                  <a:srgbClr val="f8f8f8"/>
                </a:solidFill>
                <a:latin typeface="Microsoft Yahei"/>
                <a:ea typeface="Microsoft Yahei"/>
              </a:rPr>
              <a:t>——</a:t>
            </a:r>
            <a:r>
              <a:rPr b="0" lang="zh-CN" sz="1600" spc="-1" strike="noStrike">
                <a:solidFill>
                  <a:srgbClr val="f8f8f8"/>
                </a:solidFill>
                <a:latin typeface="Microsoft Yahei"/>
                <a:ea typeface="Microsoft Yahei"/>
              </a:rPr>
              <a:t>超螺旋的奥秘</a:t>
            </a:r>
            <a:r>
              <a:rPr b="0" lang="en-US" sz="1600" spc="-1" strike="noStrike">
                <a:solidFill>
                  <a:srgbClr val="f8f8f8"/>
                </a:solidFill>
                <a:latin typeface="Microsoft Yahei"/>
                <a:ea typeface="Microsoft Yahei"/>
              </a:rPr>
              <a:t>Supercoiled DNA:</a:t>
            </a:r>
            <a:r>
              <a:rPr b="0" lang="zh-CN" sz="1600" spc="-1" strike="noStrike">
                <a:solidFill>
                  <a:srgbClr val="f8f8f8"/>
                </a:solidFill>
                <a:latin typeface="Microsoft Yahei"/>
                <a:ea typeface="Microsoft Yahei"/>
              </a:rPr>
              <a:t>视频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100" spc="-1" strike="noStrike">
                <a:solidFill>
                  <a:srgbClr val="c8c8c8"/>
                </a:solidFill>
                <a:latin typeface="Microsoft Yahei"/>
                <a:ea typeface="Microsoft Yahei"/>
              </a:rPr>
              <a:t>温馨提示：此视频框在点击“上传手机课件”时会进行转换，用手机进行观看时则会变为可点击的视频。此视频框可被拖动移位和修改大小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8440" y="383760"/>
            <a:ext cx="2930760" cy="530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节重点内容</a:t>
            </a:r>
            <a:endParaRPr b="0" lang="en-US" sz="2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00040" y="1490760"/>
            <a:ext cx="4686480" cy="697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．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超螺旋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超螺旋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超螺旋与负超螺旋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Lk =Tw+ Wr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Lk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linking number,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连接数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Tw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twisting number,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缠绕数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r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rithing number,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扭转数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超螺旋是闭合环状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特性，天然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子通常都以负超螺旋形式存在。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拓扑异构酶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Topoisomerase)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拓扑异构酶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I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II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作用机理及两者作用方式的异同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直接连接符 6"/>
          <p:cNvSpPr/>
          <p:nvPr/>
        </p:nvSpPr>
        <p:spPr>
          <a:xfrm>
            <a:off x="2738520" y="4519440"/>
            <a:ext cx="245268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96" name="矩形 4" descr=""/>
          <p:cNvPicPr/>
          <p:nvPr/>
        </p:nvPicPr>
        <p:blipFill>
          <a:blip r:embed="rId1"/>
          <a:stretch/>
        </p:blipFill>
        <p:spPr>
          <a:xfrm>
            <a:off x="3121200" y="3754440"/>
            <a:ext cx="1841400" cy="615960"/>
          </a:xfrm>
          <a:prstGeom prst="rect">
            <a:avLst/>
          </a:prstGeom>
          <a:ln w="0">
            <a:noFill/>
          </a:ln>
        </p:spPr>
      </p:pic>
      <p:grpSp>
        <p:nvGrpSpPr>
          <p:cNvPr id="97" name="组合 8"/>
          <p:cNvGrpSpPr/>
          <p:nvPr/>
        </p:nvGrpSpPr>
        <p:grpSpPr>
          <a:xfrm>
            <a:off x="0" y="4956120"/>
            <a:ext cx="5715000" cy="4187880"/>
            <a:chOff x="0" y="4956120"/>
            <a:chExt cx="5715000" cy="4187880"/>
          </a:xfrm>
        </p:grpSpPr>
        <p:sp>
          <p:nvSpPr>
            <p:cNvPr id="98" name="矩形 9"/>
            <p:cNvSpPr/>
            <p:nvPr/>
          </p:nvSpPr>
          <p:spPr>
            <a:xfrm>
              <a:off x="0" y="4956120"/>
              <a:ext cx="5715000" cy="4187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99" name="图片 10" descr=""/>
            <p:cNvPicPr/>
            <p:nvPr/>
          </p:nvPicPr>
          <p:blipFill>
            <a:blip r:embed="rId2"/>
            <a:srcRect l="29181" t="0" r="0" b="10750"/>
            <a:stretch/>
          </p:blipFill>
          <p:spPr>
            <a:xfrm>
              <a:off x="8280" y="5379120"/>
              <a:ext cx="5706720" cy="3382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9T09:11:47Z</dcterms:created>
  <dc:creator>卢 晓云</dc:creator>
  <dc:description/>
  <dc:language>en-US</dc:language>
  <cp:lastModifiedBy>卢 晓云</cp:lastModifiedBy>
  <dcterms:modified xsi:type="dcterms:W3CDTF">2018-07-19T13:29:03Z</dcterms:modified>
  <cp:revision>10</cp:revision>
  <dc:subject/>
  <dc:title>PowerPoint 演示文稿</dc:title>
</cp:coreProperties>
</file>