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png" ContentType="image/png"/>
  <Override PartName="/ppt/media/image3.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Lst>
  <p:sldSz cx="5716588" cy="9144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5FC76F-0955-4D5E-8187-2AA118DD51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93840" y="487440"/>
            <a:ext cx="4929120" cy="1766880"/>
          </a:xfrm>
          <a:prstGeom prst="rect">
            <a:avLst/>
          </a:prstGeom>
          <a:noFill/>
          <a:ln w="0">
            <a:noFill/>
          </a:ln>
        </p:spPr>
        <p:txBody>
          <a:bodyPr lIns="90000" rIns="90000" tIns="46800" bIns="46800" anchor="ctr">
            <a:noAutofit/>
          </a:bodyPr>
          <a:p>
            <a:pPr indent="0">
              <a:lnSpc>
                <a:spcPct val="90000"/>
              </a:lnSpc>
              <a:buNone/>
              <a:tabLst>
                <a:tab algn="l" pos="0"/>
                <a:tab algn="l" pos="385920"/>
                <a:tab algn="l" pos="771480"/>
                <a:tab algn="l" pos="1157400"/>
                <a:tab algn="l" pos="1542960"/>
                <a:tab algn="l" pos="1928880"/>
                <a:tab algn="l" pos="2314440"/>
                <a:tab algn="l" pos="2700360"/>
                <a:tab algn="l" pos="3086280"/>
                <a:tab algn="l" pos="3471840"/>
                <a:tab algn="l" pos="3857760"/>
                <a:tab algn="l" pos="4243320"/>
                <a:tab algn="l" pos="4629240"/>
                <a:tab algn="l" pos="5014800"/>
                <a:tab algn="l" pos="5400720"/>
                <a:tab algn="l" pos="5786280"/>
                <a:tab algn="l" pos="6172200"/>
                <a:tab algn="l" pos="6558120"/>
                <a:tab algn="l" pos="6943680"/>
                <a:tab algn="l" pos="7329600"/>
                <a:tab algn="l" pos="7715160"/>
              </a:tabLst>
            </a:pPr>
            <a:endParaRPr b="0" lang="en-US" sz="1800" spc="-1" strike="noStrike">
              <a:solidFill>
                <a:srgbClr val="000000"/>
              </a:solidFill>
              <a:latin typeface="等线 Light"/>
            </a:endParaRPr>
          </a:p>
        </p:txBody>
      </p:sp>
      <p:sp>
        <p:nvSpPr>
          <p:cNvPr id="27" name="PlaceHolder 2"/>
          <p:cNvSpPr>
            <a:spLocks noGrp="1"/>
          </p:cNvSpPr>
          <p:nvPr>
            <p:ph/>
          </p:nvPr>
        </p:nvSpPr>
        <p:spPr>
          <a:xfrm>
            <a:off x="393840" y="2433600"/>
            <a:ext cx="4929120" cy="2767680"/>
          </a:xfrm>
          <a:prstGeom prst="rect">
            <a:avLst/>
          </a:prstGeom>
          <a:noFill/>
          <a:ln w="0">
            <a:noFill/>
          </a:ln>
        </p:spPr>
        <p:txBody>
          <a:bodyPr lIns="90000" rIns="90000" tIns="46800" bIns="46800" anchor="t">
            <a:normAutofit/>
          </a:bodyPr>
          <a:p>
            <a:pPr indent="0">
              <a:lnSpc>
                <a:spcPct val="90000"/>
              </a:lnSpc>
              <a:spcBef>
                <a:spcPts val="425"/>
              </a:spcBef>
              <a:buNone/>
              <a:tabLst>
                <a:tab algn="l" pos="385920"/>
                <a:tab algn="l" pos="771480"/>
                <a:tab algn="l" pos="1157400"/>
                <a:tab algn="l" pos="1542960"/>
                <a:tab algn="l" pos="1928880"/>
                <a:tab algn="l" pos="2314440"/>
                <a:tab algn="l" pos="2700360"/>
                <a:tab algn="l" pos="3086280"/>
                <a:tab algn="l" pos="3471840"/>
                <a:tab algn="l" pos="3857760"/>
                <a:tab algn="l" pos="4243320"/>
                <a:tab algn="l" pos="4629240"/>
                <a:tab algn="l" pos="5014800"/>
                <a:tab algn="l" pos="5400720"/>
                <a:tab algn="l" pos="5786280"/>
                <a:tab algn="l" pos="6172200"/>
                <a:tab algn="l" pos="6558120"/>
                <a:tab algn="l" pos="6943680"/>
                <a:tab algn="l" pos="7329600"/>
                <a:tab algn="l" pos="7715160"/>
              </a:tabLst>
            </a:pPr>
            <a:endParaRPr b="0" lang="en-US" sz="1100" spc="-1" strike="noStrike">
              <a:solidFill>
                <a:srgbClr val="000000"/>
              </a:solidFill>
              <a:latin typeface="等线"/>
            </a:endParaRPr>
          </a:p>
        </p:txBody>
      </p:sp>
      <p:sp>
        <p:nvSpPr>
          <p:cNvPr id="28" name="PlaceHolder 3"/>
          <p:cNvSpPr>
            <a:spLocks noGrp="1"/>
          </p:cNvSpPr>
          <p:nvPr>
            <p:ph/>
          </p:nvPr>
        </p:nvSpPr>
        <p:spPr>
          <a:xfrm>
            <a:off x="393840" y="5464440"/>
            <a:ext cx="4929120" cy="2767680"/>
          </a:xfrm>
          <a:prstGeom prst="rect">
            <a:avLst/>
          </a:prstGeom>
          <a:noFill/>
          <a:ln w="0">
            <a:noFill/>
          </a:ln>
        </p:spPr>
        <p:txBody>
          <a:bodyPr lIns="90000" rIns="90000" tIns="46800" bIns="46800" anchor="t">
            <a:normAutofit/>
          </a:bodyPr>
          <a:p>
            <a:pPr indent="0">
              <a:lnSpc>
                <a:spcPct val="90000"/>
              </a:lnSpc>
              <a:spcBef>
                <a:spcPts val="425"/>
              </a:spcBef>
              <a:buNone/>
              <a:tabLst>
                <a:tab algn="l" pos="385920"/>
                <a:tab algn="l" pos="771480"/>
                <a:tab algn="l" pos="1157400"/>
                <a:tab algn="l" pos="1542960"/>
                <a:tab algn="l" pos="1928880"/>
                <a:tab algn="l" pos="2314440"/>
                <a:tab algn="l" pos="2700360"/>
                <a:tab algn="l" pos="3086280"/>
                <a:tab algn="l" pos="3471840"/>
                <a:tab algn="l" pos="3857760"/>
                <a:tab algn="l" pos="4243320"/>
                <a:tab algn="l" pos="4629240"/>
                <a:tab algn="l" pos="5014800"/>
                <a:tab algn="l" pos="5400720"/>
                <a:tab algn="l" pos="5786280"/>
                <a:tab algn="l" pos="6172200"/>
                <a:tab algn="l" pos="6558120"/>
                <a:tab algn="l" pos="6943680"/>
                <a:tab algn="l" pos="7329600"/>
                <a:tab algn="l" pos="7715160"/>
              </a:tabLst>
            </a:pPr>
            <a:endParaRPr b="0" lang="en-US" sz="1100" spc="-1" strike="noStrike">
              <a:solidFill>
                <a:srgbClr val="000000"/>
              </a:solidFill>
              <a:latin typeface="等线"/>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51659C-77B8-4ADA-98D5-9699BF7FE2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93840" y="487440"/>
            <a:ext cx="4929120" cy="1766880"/>
          </a:xfrm>
          <a:prstGeom prst="rect">
            <a:avLst/>
          </a:prstGeom>
          <a:noFill/>
          <a:ln w="0">
            <a:noFill/>
          </a:ln>
        </p:spPr>
        <p:txBody>
          <a:bodyPr lIns="90000" rIns="90000" tIns="46800" bIns="46800" anchor="ctr">
            <a:noAutofit/>
          </a:bodyPr>
          <a:p>
            <a:pPr indent="0">
              <a:lnSpc>
                <a:spcPct val="90000"/>
              </a:lnSpc>
              <a:buNone/>
              <a:tabLst>
                <a:tab algn="l" pos="0"/>
                <a:tab algn="l" pos="385920"/>
                <a:tab algn="l" pos="771480"/>
                <a:tab algn="l" pos="1157400"/>
                <a:tab algn="l" pos="1542960"/>
                <a:tab algn="l" pos="1928880"/>
                <a:tab algn="l" pos="2314440"/>
                <a:tab algn="l" pos="2700360"/>
                <a:tab algn="l" pos="3086280"/>
                <a:tab algn="l" pos="3471840"/>
                <a:tab algn="l" pos="3857760"/>
                <a:tab algn="l" pos="4243320"/>
                <a:tab algn="l" pos="4629240"/>
                <a:tab algn="l" pos="5014800"/>
                <a:tab algn="l" pos="5400720"/>
                <a:tab algn="l" pos="5786280"/>
                <a:tab algn="l" pos="6172200"/>
                <a:tab algn="l" pos="6558120"/>
                <a:tab algn="l" pos="6943680"/>
                <a:tab algn="l" pos="7329600"/>
                <a:tab algn="l" pos="7715160"/>
              </a:tabLst>
            </a:pPr>
            <a:endParaRPr b="0" lang="en-US" sz="1800" spc="-1" strike="noStrike">
              <a:solidFill>
                <a:srgbClr val="000000"/>
              </a:solidFill>
              <a:latin typeface="等线 Light"/>
            </a:endParaRPr>
          </a:p>
        </p:txBody>
      </p:sp>
      <p:sp>
        <p:nvSpPr>
          <p:cNvPr id="30" name="PlaceHolder 2"/>
          <p:cNvSpPr>
            <a:spLocks noGrp="1"/>
          </p:cNvSpPr>
          <p:nvPr>
            <p:ph/>
          </p:nvPr>
        </p:nvSpPr>
        <p:spPr>
          <a:xfrm>
            <a:off x="393840" y="2433600"/>
            <a:ext cx="2405160" cy="2767680"/>
          </a:xfrm>
          <a:prstGeom prst="rect">
            <a:avLst/>
          </a:prstGeom>
          <a:noFill/>
          <a:ln w="0">
            <a:noFill/>
          </a:ln>
        </p:spPr>
        <p:txBody>
          <a:bodyPr lIns="90000" rIns="90000" tIns="46800" bIns="46800" anchor="t">
            <a:normAutofit/>
          </a:bodyPr>
          <a:p>
            <a:pPr indent="0">
              <a:lnSpc>
                <a:spcPct val="90000"/>
              </a:lnSpc>
              <a:spcBef>
                <a:spcPts val="425"/>
              </a:spcBef>
              <a:buNone/>
              <a:tabLst>
                <a:tab algn="l" pos="385920"/>
                <a:tab algn="l" pos="771480"/>
                <a:tab algn="l" pos="1157400"/>
                <a:tab algn="l" pos="1542960"/>
                <a:tab algn="l" pos="1928880"/>
                <a:tab algn="l" pos="2314440"/>
                <a:tab algn="l" pos="2700360"/>
                <a:tab algn="l" pos="3086280"/>
                <a:tab algn="l" pos="3471840"/>
                <a:tab algn="l" pos="3857760"/>
                <a:tab algn="l" pos="4243320"/>
                <a:tab algn="l" pos="4629240"/>
                <a:tab algn="l" pos="5014800"/>
                <a:tab algn="l" pos="5400720"/>
                <a:tab algn="l" pos="5786280"/>
                <a:tab algn="l" pos="6172200"/>
                <a:tab algn="l" pos="6558120"/>
                <a:tab algn="l" pos="6943680"/>
                <a:tab algn="l" pos="7329600"/>
                <a:tab algn="l" pos="7715160"/>
              </a:tabLst>
            </a:pPr>
            <a:endParaRPr b="0" lang="en-US" sz="1100" spc="-1" strike="noStrike">
              <a:solidFill>
                <a:srgbClr val="000000"/>
              </a:solidFill>
              <a:latin typeface="等线"/>
            </a:endParaRPr>
          </a:p>
        </p:txBody>
      </p:sp>
      <p:sp>
        <p:nvSpPr>
          <p:cNvPr id="31" name="PlaceHolder 3"/>
          <p:cNvSpPr>
            <a:spLocks noGrp="1"/>
          </p:cNvSpPr>
          <p:nvPr>
            <p:ph/>
          </p:nvPr>
        </p:nvSpPr>
        <p:spPr>
          <a:xfrm>
            <a:off x="2919600" y="2433600"/>
            <a:ext cx="2405160" cy="2767680"/>
          </a:xfrm>
          <a:prstGeom prst="rect">
            <a:avLst/>
          </a:prstGeom>
          <a:noFill/>
          <a:ln w="0">
            <a:noFill/>
          </a:ln>
        </p:spPr>
        <p:txBody>
          <a:bodyPr lIns="90000" rIns="90000" tIns="46800" bIns="46800" anchor="t">
            <a:normAutofit/>
          </a:bodyPr>
          <a:p>
            <a:pPr indent="0">
              <a:lnSpc>
                <a:spcPct val="90000"/>
              </a:lnSpc>
              <a:spcBef>
                <a:spcPts val="425"/>
              </a:spcBef>
              <a:buNone/>
              <a:tabLst>
                <a:tab algn="l" pos="385920"/>
                <a:tab algn="l" pos="771480"/>
                <a:tab algn="l" pos="1157400"/>
                <a:tab algn="l" pos="1542960"/>
                <a:tab algn="l" pos="1928880"/>
                <a:tab algn="l" pos="2314440"/>
                <a:tab algn="l" pos="2700360"/>
                <a:tab algn="l" pos="3086280"/>
                <a:tab algn="l" pos="3471840"/>
                <a:tab algn="l" pos="3857760"/>
                <a:tab algn="l" pos="4243320"/>
                <a:tab algn="l" pos="4629240"/>
                <a:tab algn="l" pos="5014800"/>
                <a:tab algn="l" pos="5400720"/>
                <a:tab algn="l" pos="5786280"/>
                <a:tab algn="l" pos="6172200"/>
                <a:tab algn="l" pos="6558120"/>
                <a:tab algn="l" pos="6943680"/>
                <a:tab algn="l" pos="7329600"/>
                <a:tab algn="l" pos="7715160"/>
              </a:tabLst>
            </a:pPr>
            <a:endParaRPr b="0" lang="en-US" sz="1100" spc="-1" strike="noStrike">
              <a:solidFill>
                <a:srgbClr val="000000"/>
              </a:solidFill>
              <a:latin typeface="等线"/>
            </a:endParaRPr>
          </a:p>
        </p:txBody>
      </p:sp>
      <p:sp>
        <p:nvSpPr>
          <p:cNvPr id="32" name="PlaceHolder 4"/>
          <p:cNvSpPr>
            <a:spLocks noGrp="1"/>
          </p:cNvSpPr>
          <p:nvPr>
            <p:ph/>
          </p:nvPr>
        </p:nvSpPr>
        <p:spPr>
          <a:xfrm>
            <a:off x="393840" y="5464440"/>
            <a:ext cx="2405160" cy="2767680"/>
          </a:xfrm>
          <a:prstGeom prst="rect">
            <a:avLst/>
          </a:prstGeom>
          <a:noFill/>
          <a:ln w="0">
            <a:noFill/>
          </a:ln>
        </p:spPr>
        <p:txBody>
          <a:bodyPr lIns="90000" rIns="90000" tIns="46800" bIns="46800" anchor="t">
            <a:normAutofit/>
          </a:bodyPr>
          <a:p>
            <a:pPr indent="0">
              <a:lnSpc>
                <a:spcPct val="90000"/>
              </a:lnSpc>
              <a:spcBef>
                <a:spcPts val="425"/>
              </a:spcBef>
              <a:buNone/>
              <a:tabLst>
                <a:tab algn="l" pos="385920"/>
                <a:tab algn="l" pos="771480"/>
                <a:tab algn="l" pos="1157400"/>
                <a:tab algn="l" pos="1542960"/>
                <a:tab algn="l" pos="1928880"/>
                <a:tab algn="l" pos="2314440"/>
                <a:tab algn="l" pos="2700360"/>
                <a:tab algn="l" pos="3086280"/>
                <a:tab algn="l" pos="3471840"/>
                <a:tab algn="l" pos="3857760"/>
                <a:tab algn="l" pos="4243320"/>
                <a:tab algn="l" pos="4629240"/>
                <a:tab algn="l" pos="5014800"/>
                <a:tab algn="l" pos="5400720"/>
                <a:tab algn="l" pos="5786280"/>
                <a:tab algn="l" pos="6172200"/>
                <a:tab algn="l" pos="6558120"/>
                <a:tab algn="l" pos="6943680"/>
                <a:tab algn="l" pos="7329600"/>
                <a:tab algn="l" pos="7715160"/>
              </a:tabLst>
            </a:pPr>
            <a:endParaRPr b="0" lang="en-US" sz="1100" spc="-1" strike="noStrike">
              <a:solidFill>
                <a:srgbClr val="000000"/>
              </a:solidFill>
              <a:latin typeface="等线"/>
            </a:endParaRPr>
          </a:p>
        </p:txBody>
      </p:sp>
      <p:sp>
        <p:nvSpPr>
          <p:cNvPr id="33" name="PlaceHolder 5"/>
          <p:cNvSpPr>
            <a:spLocks noGrp="1"/>
          </p:cNvSpPr>
          <p:nvPr>
            <p:ph/>
          </p:nvPr>
        </p:nvSpPr>
        <p:spPr>
          <a:xfrm>
            <a:off x="2919600" y="5464440"/>
            <a:ext cx="2405160" cy="2767680"/>
          </a:xfrm>
          <a:prstGeom prst="rect">
            <a:avLst/>
          </a:prstGeom>
          <a:noFill/>
          <a:ln w="0">
            <a:noFill/>
          </a:ln>
        </p:spPr>
        <p:txBody>
          <a:bodyPr lIns="90000" rIns="90000" tIns="46800" bIns="46800" anchor="t">
            <a:normAutofit/>
          </a:bodyPr>
          <a:p>
            <a:pPr indent="0">
              <a:lnSpc>
                <a:spcPct val="90000"/>
              </a:lnSpc>
              <a:spcBef>
                <a:spcPts val="425"/>
              </a:spcBef>
              <a:buNone/>
              <a:tabLst>
                <a:tab algn="l" pos="385920"/>
                <a:tab algn="l" pos="771480"/>
                <a:tab algn="l" pos="1157400"/>
                <a:tab algn="l" pos="1542960"/>
                <a:tab algn="l" pos="1928880"/>
                <a:tab algn="l" pos="2314440"/>
                <a:tab algn="l" pos="2700360"/>
                <a:tab algn="l" pos="3086280"/>
                <a:tab algn="l" pos="3471840"/>
                <a:tab algn="l" pos="3857760"/>
                <a:tab algn="l" pos="4243320"/>
                <a:tab algn="l" pos="4629240"/>
                <a:tab algn="l" pos="5014800"/>
                <a:tab algn="l" pos="5400720"/>
                <a:tab algn="l" pos="5786280"/>
                <a:tab algn="l" pos="6172200"/>
                <a:tab algn="l" pos="6558120"/>
                <a:tab algn="l" pos="6943680"/>
                <a:tab algn="l" pos="7329600"/>
                <a:tab algn="l" pos="7715160"/>
              </a:tabLst>
            </a:pPr>
            <a:endParaRPr b="0" lang="en-US" sz="1100" spc="-1" strike="noStrike">
              <a:solidFill>
                <a:srgbClr val="000000"/>
              </a:solidFill>
              <a:latin typeface="等线"/>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FC39F3-6ECC-48C0-8E36-44F8FD63F3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93840" y="487440"/>
            <a:ext cx="4929120" cy="1766880"/>
          </a:xfrm>
          <a:prstGeom prst="rect">
            <a:avLst/>
          </a:prstGeom>
          <a:noFill/>
          <a:ln w="0">
            <a:noFill/>
          </a:ln>
        </p:spPr>
        <p:txBody>
          <a:bodyPr lIns="90000" rIns="90000" tIns="46800" bIns="46800" anchor="ctr">
            <a:noAutofit/>
          </a:bodyPr>
          <a:p>
            <a:pPr indent="0">
              <a:lnSpc>
                <a:spcPct val="90000"/>
              </a:lnSpc>
              <a:buNone/>
              <a:tabLst>
                <a:tab algn="l" pos="0"/>
                <a:tab algn="l" pos="385920"/>
                <a:tab algn="l" pos="771480"/>
                <a:tab algn="l" pos="1157400"/>
                <a:tab algn="l" pos="1542960"/>
                <a:tab algn="l" pos="1928880"/>
                <a:tab algn="l" pos="2314440"/>
                <a:tab algn="l" pos="2700360"/>
                <a:tab algn="l" pos="3086280"/>
                <a:tab algn="l" pos="3471840"/>
                <a:tab algn="l" pos="3857760"/>
                <a:tab algn="l" pos="4243320"/>
                <a:tab algn="l" pos="4629240"/>
                <a:tab algn="l" pos="5014800"/>
                <a:tab algn="l" pos="5400720"/>
                <a:tab algn="l" pos="5786280"/>
                <a:tab algn="l" pos="6172200"/>
                <a:tab algn="l" pos="6558120"/>
                <a:tab algn="l" pos="6943680"/>
                <a:tab algn="l" pos="7329600"/>
                <a:tab algn="l" pos="7715160"/>
              </a:tabLst>
            </a:pPr>
            <a:endParaRPr b="0" lang="en-US" sz="1800" spc="-1" strike="noStrike">
              <a:solidFill>
                <a:srgbClr val="000000"/>
              </a:solidFill>
              <a:latin typeface="等线 Light"/>
            </a:endParaRPr>
          </a:p>
        </p:txBody>
      </p:sp>
      <p:sp>
        <p:nvSpPr>
          <p:cNvPr id="35" name="PlaceHolder 2"/>
          <p:cNvSpPr>
            <a:spLocks noGrp="1"/>
          </p:cNvSpPr>
          <p:nvPr>
            <p:ph/>
          </p:nvPr>
        </p:nvSpPr>
        <p:spPr>
          <a:xfrm>
            <a:off x="393840" y="2433600"/>
            <a:ext cx="1586880" cy="2767680"/>
          </a:xfrm>
          <a:prstGeom prst="rect">
            <a:avLst/>
          </a:prstGeom>
          <a:noFill/>
          <a:ln w="0">
            <a:noFill/>
          </a:ln>
        </p:spPr>
        <p:txBody>
          <a:bodyPr lIns="90000" rIns="90000" tIns="46800" bIns="46800" anchor="t">
            <a:normAutofit/>
          </a:bodyPr>
          <a:p>
            <a:pPr indent="0">
              <a:lnSpc>
                <a:spcPct val="90000"/>
              </a:lnSpc>
              <a:spcBef>
                <a:spcPts val="425"/>
              </a:spcBef>
              <a:buNone/>
              <a:tabLst>
                <a:tab algn="l" pos="385920"/>
                <a:tab algn="l" pos="771480"/>
                <a:tab algn="l" pos="1157400"/>
                <a:tab algn="l" pos="1542960"/>
                <a:tab algn="l" pos="1928880"/>
                <a:tab algn="l" pos="2314440"/>
                <a:tab algn="l" pos="2700360"/>
                <a:tab algn="l" pos="3086280"/>
                <a:tab algn="l" pos="3471840"/>
                <a:tab algn="l" pos="3857760"/>
                <a:tab algn="l" pos="4243320"/>
                <a:tab algn="l" pos="4629240"/>
                <a:tab algn="l" pos="5014800"/>
                <a:tab algn="l" pos="5400720"/>
                <a:tab algn="l" pos="5786280"/>
                <a:tab algn="l" pos="6172200"/>
                <a:tab algn="l" pos="6558120"/>
                <a:tab algn="l" pos="6943680"/>
                <a:tab algn="l" pos="7329600"/>
                <a:tab algn="l" pos="7715160"/>
              </a:tabLst>
            </a:pPr>
            <a:endParaRPr b="0" lang="en-US" sz="1100" spc="-1" strike="noStrike">
              <a:solidFill>
                <a:srgbClr val="000000"/>
              </a:solidFill>
              <a:latin typeface="等线"/>
            </a:endParaRPr>
          </a:p>
        </p:txBody>
      </p:sp>
      <p:sp>
        <p:nvSpPr>
          <p:cNvPr id="36" name="PlaceHolder 3"/>
          <p:cNvSpPr>
            <a:spLocks noGrp="1"/>
          </p:cNvSpPr>
          <p:nvPr>
            <p:ph/>
          </p:nvPr>
        </p:nvSpPr>
        <p:spPr>
          <a:xfrm>
            <a:off x="2060280" y="2433600"/>
            <a:ext cx="1586880" cy="2767680"/>
          </a:xfrm>
          <a:prstGeom prst="rect">
            <a:avLst/>
          </a:prstGeom>
          <a:noFill/>
          <a:ln w="0">
            <a:noFill/>
          </a:ln>
        </p:spPr>
        <p:txBody>
          <a:bodyPr lIns="90000" rIns="90000" tIns="46800" bIns="46800" anchor="t">
            <a:normAutofit/>
          </a:bodyPr>
          <a:p>
            <a:pPr indent="0">
              <a:lnSpc>
                <a:spcPct val="90000"/>
              </a:lnSpc>
              <a:spcBef>
                <a:spcPts val="425"/>
              </a:spcBef>
              <a:buNone/>
              <a:tabLst>
                <a:tab algn="l" pos="385920"/>
                <a:tab algn="l" pos="771480"/>
                <a:tab algn="l" pos="1157400"/>
                <a:tab algn="l" pos="1542960"/>
                <a:tab algn="l" pos="1928880"/>
                <a:tab algn="l" pos="2314440"/>
                <a:tab algn="l" pos="2700360"/>
                <a:tab algn="l" pos="3086280"/>
                <a:tab algn="l" pos="3471840"/>
                <a:tab algn="l" pos="3857760"/>
                <a:tab algn="l" pos="4243320"/>
                <a:tab algn="l" pos="4629240"/>
                <a:tab algn="l" pos="5014800"/>
                <a:tab algn="l" pos="5400720"/>
                <a:tab algn="l" pos="5786280"/>
                <a:tab algn="l" pos="6172200"/>
                <a:tab algn="l" pos="6558120"/>
                <a:tab algn="l" pos="6943680"/>
                <a:tab algn="l" pos="7329600"/>
                <a:tab algn="l" pos="7715160"/>
              </a:tabLst>
            </a:pPr>
            <a:endParaRPr b="0" lang="en-US" sz="1100" spc="-1" strike="noStrike">
              <a:solidFill>
                <a:srgbClr val="000000"/>
              </a:solidFill>
              <a:latin typeface="等线"/>
            </a:endParaRPr>
          </a:p>
        </p:txBody>
      </p:sp>
      <p:sp>
        <p:nvSpPr>
          <p:cNvPr id="37" name="PlaceHolder 4"/>
          <p:cNvSpPr>
            <a:spLocks noGrp="1"/>
          </p:cNvSpPr>
          <p:nvPr>
            <p:ph/>
          </p:nvPr>
        </p:nvSpPr>
        <p:spPr>
          <a:xfrm>
            <a:off x="3727080" y="2433600"/>
            <a:ext cx="1586880" cy="2767680"/>
          </a:xfrm>
          <a:prstGeom prst="rect">
            <a:avLst/>
          </a:prstGeom>
          <a:noFill/>
          <a:ln w="0">
            <a:noFill/>
          </a:ln>
        </p:spPr>
        <p:txBody>
          <a:bodyPr lIns="90000" rIns="90000" tIns="46800" bIns="46800" anchor="t">
            <a:normAutofit/>
          </a:bodyPr>
          <a:p>
            <a:pPr indent="0">
              <a:lnSpc>
                <a:spcPct val="90000"/>
              </a:lnSpc>
              <a:spcBef>
                <a:spcPts val="425"/>
              </a:spcBef>
              <a:buNone/>
              <a:tabLst>
                <a:tab algn="l" pos="385920"/>
                <a:tab algn="l" pos="771480"/>
                <a:tab algn="l" pos="1157400"/>
                <a:tab algn="l" pos="1542960"/>
                <a:tab algn="l" pos="1928880"/>
                <a:tab algn="l" pos="2314440"/>
                <a:tab algn="l" pos="2700360"/>
                <a:tab algn="l" pos="3086280"/>
                <a:tab algn="l" pos="3471840"/>
                <a:tab algn="l" pos="3857760"/>
                <a:tab algn="l" pos="4243320"/>
                <a:tab algn="l" pos="4629240"/>
                <a:tab algn="l" pos="5014800"/>
                <a:tab algn="l" pos="5400720"/>
                <a:tab algn="l" pos="5786280"/>
                <a:tab algn="l" pos="6172200"/>
                <a:tab algn="l" pos="6558120"/>
                <a:tab algn="l" pos="6943680"/>
                <a:tab algn="l" pos="7329600"/>
                <a:tab algn="l" pos="7715160"/>
              </a:tabLst>
            </a:pPr>
            <a:endParaRPr b="0" lang="en-US" sz="1100" spc="-1" strike="noStrike">
              <a:solidFill>
                <a:srgbClr val="000000"/>
              </a:solidFill>
              <a:latin typeface="等线"/>
            </a:endParaRPr>
          </a:p>
        </p:txBody>
      </p:sp>
      <p:sp>
        <p:nvSpPr>
          <p:cNvPr id="38" name="PlaceHolder 5"/>
          <p:cNvSpPr>
            <a:spLocks noGrp="1"/>
          </p:cNvSpPr>
          <p:nvPr>
            <p:ph/>
          </p:nvPr>
        </p:nvSpPr>
        <p:spPr>
          <a:xfrm>
            <a:off x="393840" y="5464440"/>
            <a:ext cx="1586880" cy="2767680"/>
          </a:xfrm>
          <a:prstGeom prst="rect">
            <a:avLst/>
          </a:prstGeom>
          <a:noFill/>
          <a:ln w="0">
            <a:noFill/>
          </a:ln>
        </p:spPr>
        <p:txBody>
          <a:bodyPr lIns="90000" rIns="90000" tIns="46800" bIns="46800" anchor="t">
            <a:normAutofit/>
          </a:bodyPr>
          <a:p>
            <a:pPr indent="0">
              <a:lnSpc>
                <a:spcPct val="90000"/>
              </a:lnSpc>
              <a:spcBef>
                <a:spcPts val="425"/>
              </a:spcBef>
              <a:buNone/>
              <a:tabLst>
                <a:tab algn="l" pos="385920"/>
                <a:tab algn="l" pos="771480"/>
                <a:tab algn="l" pos="1157400"/>
                <a:tab algn="l" pos="1542960"/>
                <a:tab algn="l" pos="1928880"/>
                <a:tab algn="l" pos="2314440"/>
                <a:tab algn="l" pos="2700360"/>
                <a:tab algn="l" pos="3086280"/>
                <a:tab algn="l" pos="3471840"/>
                <a:tab algn="l" pos="3857760"/>
                <a:tab algn="l" pos="4243320"/>
                <a:tab algn="l" pos="4629240"/>
                <a:tab algn="l" pos="5014800"/>
                <a:tab algn="l" pos="5400720"/>
                <a:tab algn="l" pos="5786280"/>
                <a:tab algn="l" pos="6172200"/>
                <a:tab algn="l" pos="6558120"/>
                <a:tab algn="l" pos="6943680"/>
                <a:tab algn="l" pos="7329600"/>
                <a:tab algn="l" pos="7715160"/>
              </a:tabLst>
            </a:pPr>
            <a:endParaRPr b="0" lang="en-US" sz="1100" spc="-1" strike="noStrike">
              <a:solidFill>
                <a:srgbClr val="000000"/>
              </a:solidFill>
              <a:latin typeface="等线"/>
            </a:endParaRPr>
          </a:p>
        </p:txBody>
      </p:sp>
      <p:sp>
        <p:nvSpPr>
          <p:cNvPr id="39" name="PlaceHolder 6"/>
          <p:cNvSpPr>
            <a:spLocks noGrp="1"/>
          </p:cNvSpPr>
          <p:nvPr>
            <p:ph/>
          </p:nvPr>
        </p:nvSpPr>
        <p:spPr>
          <a:xfrm>
            <a:off x="2060280" y="5464440"/>
            <a:ext cx="1586880" cy="2767680"/>
          </a:xfrm>
          <a:prstGeom prst="rect">
            <a:avLst/>
          </a:prstGeom>
          <a:noFill/>
          <a:ln w="0">
            <a:noFill/>
          </a:ln>
        </p:spPr>
        <p:txBody>
          <a:bodyPr lIns="90000" rIns="90000" tIns="46800" bIns="46800" anchor="t">
            <a:normAutofit/>
          </a:bodyPr>
          <a:p>
            <a:pPr indent="0">
              <a:lnSpc>
                <a:spcPct val="90000"/>
              </a:lnSpc>
              <a:spcBef>
                <a:spcPts val="425"/>
              </a:spcBef>
              <a:buNone/>
              <a:tabLst>
                <a:tab algn="l" pos="385920"/>
                <a:tab algn="l" pos="771480"/>
                <a:tab algn="l" pos="1157400"/>
                <a:tab algn="l" pos="1542960"/>
                <a:tab algn="l" pos="1928880"/>
                <a:tab algn="l" pos="2314440"/>
                <a:tab algn="l" pos="2700360"/>
                <a:tab algn="l" pos="3086280"/>
                <a:tab algn="l" pos="3471840"/>
                <a:tab algn="l" pos="3857760"/>
                <a:tab algn="l" pos="4243320"/>
                <a:tab algn="l" pos="4629240"/>
                <a:tab algn="l" pos="5014800"/>
                <a:tab algn="l" pos="5400720"/>
                <a:tab algn="l" pos="5786280"/>
                <a:tab algn="l" pos="6172200"/>
                <a:tab algn="l" pos="6558120"/>
                <a:tab algn="l" pos="6943680"/>
                <a:tab algn="l" pos="7329600"/>
                <a:tab algn="l" pos="7715160"/>
              </a:tabLst>
            </a:pPr>
            <a:endParaRPr b="0" lang="en-US" sz="1100" spc="-1" strike="noStrike">
              <a:solidFill>
                <a:srgbClr val="000000"/>
              </a:solidFill>
              <a:latin typeface="等线"/>
            </a:endParaRPr>
          </a:p>
        </p:txBody>
      </p:sp>
      <p:sp>
        <p:nvSpPr>
          <p:cNvPr id="40" name="PlaceHolder 7"/>
          <p:cNvSpPr>
            <a:spLocks noGrp="1"/>
          </p:cNvSpPr>
          <p:nvPr>
            <p:ph/>
          </p:nvPr>
        </p:nvSpPr>
        <p:spPr>
          <a:xfrm>
            <a:off x="3727080" y="5464440"/>
            <a:ext cx="1586880" cy="2767680"/>
          </a:xfrm>
          <a:prstGeom prst="rect">
            <a:avLst/>
          </a:prstGeom>
          <a:noFill/>
          <a:ln w="0">
            <a:noFill/>
          </a:ln>
        </p:spPr>
        <p:txBody>
          <a:bodyPr lIns="90000" rIns="90000" tIns="46800" bIns="46800" anchor="t">
            <a:normAutofit/>
          </a:bodyPr>
          <a:p>
            <a:pPr indent="0">
              <a:lnSpc>
                <a:spcPct val="90000"/>
              </a:lnSpc>
              <a:spcBef>
                <a:spcPts val="425"/>
              </a:spcBef>
              <a:buNone/>
              <a:tabLst>
                <a:tab algn="l" pos="385920"/>
                <a:tab algn="l" pos="771480"/>
                <a:tab algn="l" pos="1157400"/>
                <a:tab algn="l" pos="1542960"/>
                <a:tab algn="l" pos="1928880"/>
                <a:tab algn="l" pos="2314440"/>
                <a:tab algn="l" pos="2700360"/>
                <a:tab algn="l" pos="3086280"/>
                <a:tab algn="l" pos="3471840"/>
                <a:tab algn="l" pos="3857760"/>
                <a:tab algn="l" pos="4243320"/>
                <a:tab algn="l" pos="4629240"/>
                <a:tab algn="l" pos="5014800"/>
                <a:tab algn="l" pos="5400720"/>
                <a:tab algn="l" pos="5786280"/>
                <a:tab algn="l" pos="6172200"/>
                <a:tab algn="l" pos="6558120"/>
                <a:tab algn="l" pos="6943680"/>
                <a:tab algn="l" pos="7329600"/>
                <a:tab algn="l" pos="7715160"/>
              </a:tabLst>
            </a:pPr>
            <a:endParaRPr b="0" lang="en-US" sz="1100" spc="-1" strike="noStrike">
              <a:solidFill>
                <a:srgbClr val="000000"/>
              </a:solidFill>
              <a:latin typeface="等线"/>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92B1B9-A178-4FCE-BC6A-5E32BDDC21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BD6C537-49B6-461D-96B2-1AF6725CFF9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93840" y="487440"/>
            <a:ext cx="4929120" cy="1766880"/>
          </a:xfrm>
          <a:prstGeom prst="rect">
            <a:avLst/>
          </a:prstGeom>
          <a:noFill/>
          <a:ln w="0">
            <a:noFill/>
          </a:ln>
        </p:spPr>
        <p:txBody>
          <a:bodyPr lIns="90000" rIns="90000" tIns="46800" bIns="46800" anchor="ctr">
            <a:noAutofit/>
          </a:bodyPr>
          <a:p>
            <a:pPr indent="0">
              <a:lnSpc>
                <a:spcPct val="90000"/>
              </a:lnSpc>
              <a:buNone/>
              <a:tabLst>
                <a:tab algn="l" pos="0"/>
                <a:tab algn="l" pos="385920"/>
                <a:tab algn="l" pos="771480"/>
                <a:tab algn="l" pos="1157400"/>
                <a:tab algn="l" pos="1542960"/>
                <a:tab algn="l" pos="1928880"/>
                <a:tab algn="l" pos="2314440"/>
                <a:tab algn="l" pos="2700360"/>
                <a:tab algn="l" pos="3086280"/>
                <a:tab algn="l" pos="3471840"/>
                <a:tab algn="l" pos="3857760"/>
                <a:tab algn="l" pos="4243320"/>
                <a:tab algn="l" pos="4629240"/>
                <a:tab algn="l" pos="5014800"/>
                <a:tab algn="l" pos="5400720"/>
                <a:tab algn="l" pos="5786280"/>
                <a:tab algn="l" pos="6172200"/>
                <a:tab algn="l" pos="6558120"/>
                <a:tab algn="l" pos="6943680"/>
                <a:tab algn="l" pos="7329600"/>
                <a:tab algn="l" pos="7715160"/>
              </a:tabLst>
            </a:pPr>
            <a:endParaRPr b="0" lang="en-US" sz="1800" spc="-1" strike="noStrike">
              <a:solidFill>
                <a:srgbClr val="000000"/>
              </a:solidFill>
              <a:latin typeface="等线 Light"/>
            </a:endParaRPr>
          </a:p>
        </p:txBody>
      </p:sp>
      <p:sp>
        <p:nvSpPr>
          <p:cNvPr id="47" name="PlaceHolder 2"/>
          <p:cNvSpPr>
            <a:spLocks noGrp="1"/>
          </p:cNvSpPr>
          <p:nvPr>
            <p:ph type="subTitle"/>
          </p:nvPr>
        </p:nvSpPr>
        <p:spPr>
          <a:xfrm>
            <a:off x="393840" y="2433600"/>
            <a:ext cx="4929120" cy="5802480"/>
          </a:xfrm>
          <a:prstGeom prst="rect">
            <a:avLst/>
          </a:prstGeom>
          <a:noFill/>
          <a:ln w="0">
            <a:noFill/>
          </a:ln>
        </p:spPr>
        <p:txBody>
          <a:bodyPr lIns="0" rIns="0" tIns="0" bIns="0" anchor="ctr">
            <a:noAutofit/>
          </a:bodyPr>
          <a:p>
            <a:pPr indent="0" algn="ctr">
              <a:lnSpc>
                <a:spcPct val="90000"/>
              </a:lnSpc>
              <a:spcBef>
                <a:spcPts val="425"/>
              </a:spcBef>
              <a:buNone/>
              <a:tabLst>
                <a:tab algn="l" pos="0"/>
                <a:tab algn="l" pos="385920"/>
                <a:tab algn="l" pos="771480"/>
                <a:tab algn="l" pos="1157400"/>
                <a:tab algn="l" pos="1542960"/>
                <a:tab algn="l" pos="1928880"/>
                <a:tab algn="l" pos="2314440"/>
                <a:tab algn="l" pos="2700360"/>
                <a:tab algn="l" pos="3086280"/>
                <a:tab algn="l" pos="3471840"/>
                <a:tab algn="l" pos="3857760"/>
                <a:tab algn="l" pos="4243320"/>
                <a:tab algn="l" pos="4629240"/>
                <a:tab algn="l" pos="5014800"/>
                <a:tab algn="l" pos="5400720"/>
                <a:tab algn="l" pos="5786280"/>
                <a:tab algn="l" pos="6172200"/>
                <a:tab algn="l" pos="6558120"/>
                <a:tab algn="l" pos="6943680"/>
                <a:tab algn="l" pos="7329600"/>
                <a:tab algn="l" pos="7715160"/>
              </a:tabLst>
            </a:pPr>
            <a:endParaRPr b="0" lang="en-US" sz="1100" spc="-1" strike="noStrike">
              <a:solidFill>
                <a:srgbClr val="000000"/>
              </a:solidFill>
              <a:latin typeface="等线"/>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201217-5EE1-4FF0-A490-51D4D55770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93840" y="487440"/>
            <a:ext cx="4929120" cy="1766880"/>
          </a:xfrm>
          <a:prstGeom prst="rect">
            <a:avLst/>
          </a:prstGeom>
          <a:noFill/>
          <a:ln w="0">
            <a:noFill/>
          </a:ln>
        </p:spPr>
        <p:txBody>
          <a:bodyPr lIns="90000" rIns="90000" tIns="46800" bIns="46800" anchor="ctr">
            <a:noAutofit/>
          </a:bodyPr>
          <a:p>
            <a:pPr indent="0">
              <a:lnSpc>
                <a:spcPct val="90000"/>
              </a:lnSpc>
              <a:buNone/>
              <a:tabLst>
                <a:tab algn="l" pos="0"/>
                <a:tab algn="l" pos="385920"/>
                <a:tab algn="l" pos="771480"/>
                <a:tab algn="l" pos="1157400"/>
                <a:tab algn="l" pos="1542960"/>
                <a:tab algn="l" pos="1928880"/>
                <a:tab algn="l" pos="2314440"/>
                <a:tab algn="l" pos="2700360"/>
                <a:tab algn="l" pos="3086280"/>
                <a:tab algn="l" pos="3471840"/>
                <a:tab algn="l" pos="3857760"/>
                <a:tab algn="l" pos="4243320"/>
                <a:tab algn="l" pos="4629240"/>
                <a:tab algn="l" pos="5014800"/>
                <a:tab algn="l" pos="5400720"/>
                <a:tab algn="l" pos="5786280"/>
                <a:tab algn="l" pos="6172200"/>
                <a:tab algn="l" pos="6558120"/>
                <a:tab algn="l" pos="6943680"/>
                <a:tab algn="l" pos="7329600"/>
                <a:tab algn="l" pos="7715160"/>
              </a:tabLst>
            </a:pPr>
            <a:endParaRPr b="0" lang="en-US" sz="1800" spc="-1" strike="noStrike">
              <a:solidFill>
                <a:srgbClr val="000000"/>
              </a:solidFill>
              <a:latin typeface="等线 Light"/>
            </a:endParaRPr>
          </a:p>
        </p:txBody>
      </p:sp>
      <p:sp>
        <p:nvSpPr>
          <p:cNvPr id="49" name="PlaceHolder 2"/>
          <p:cNvSpPr>
            <a:spLocks noGrp="1"/>
          </p:cNvSpPr>
          <p:nvPr>
            <p:ph/>
          </p:nvPr>
        </p:nvSpPr>
        <p:spPr>
          <a:xfrm>
            <a:off x="393840" y="2433600"/>
            <a:ext cx="4929120" cy="5802480"/>
          </a:xfrm>
          <a:prstGeom prst="rect">
            <a:avLst/>
          </a:prstGeom>
          <a:noFill/>
          <a:ln w="0">
            <a:noFill/>
          </a:ln>
        </p:spPr>
        <p:txBody>
          <a:bodyPr lIns="90000" rIns="90000" tIns="46800" bIns="46800" anchor="t">
            <a:normAutofit/>
          </a:bodyPr>
          <a:p>
            <a:pPr indent="0">
              <a:lnSpc>
                <a:spcPct val="90000"/>
              </a:lnSpc>
              <a:spcBef>
                <a:spcPts val="425"/>
              </a:spcBef>
              <a:buNone/>
              <a:tabLst>
                <a:tab algn="l" pos="385920"/>
                <a:tab algn="l" pos="771480"/>
                <a:tab algn="l" pos="1157400"/>
                <a:tab algn="l" pos="1542960"/>
                <a:tab algn="l" pos="1928880"/>
                <a:tab algn="l" pos="2314440"/>
                <a:tab algn="l" pos="2700360"/>
                <a:tab algn="l" pos="3086280"/>
                <a:tab algn="l" pos="3471840"/>
                <a:tab algn="l" pos="3857760"/>
                <a:tab algn="l" pos="4243320"/>
                <a:tab algn="l" pos="4629240"/>
                <a:tab algn="l" pos="5014800"/>
                <a:tab algn="l" pos="5400720"/>
                <a:tab algn="l" pos="5786280"/>
                <a:tab algn="l" pos="6172200"/>
                <a:tab algn="l" pos="6558120"/>
                <a:tab algn="l" pos="6943680"/>
                <a:tab algn="l" pos="7329600"/>
                <a:tab algn="l" pos="7715160"/>
              </a:tabLst>
            </a:pPr>
            <a:endParaRPr b="0" lang="en-US" sz="1100" spc="-1" strike="noStrike">
              <a:solidFill>
                <a:srgbClr val="000000"/>
              </a:solidFill>
              <a:latin typeface="等线"/>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2DED90-3D7D-46CD-98B1-B7566B5EA5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93840" y="487440"/>
            <a:ext cx="4929120" cy="1766880"/>
          </a:xfrm>
          <a:prstGeom prst="rect">
            <a:avLst/>
          </a:prstGeom>
          <a:noFill/>
          <a:ln w="0">
            <a:noFill/>
          </a:ln>
        </p:spPr>
        <p:txBody>
          <a:bodyPr lIns="90000" rIns="90000" tIns="46800" bIns="46800" anchor="ctr">
            <a:noAutofit/>
          </a:bodyPr>
          <a:p>
            <a:pPr indent="0">
              <a:lnSpc>
                <a:spcPct val="90000"/>
              </a:lnSpc>
              <a:buNone/>
              <a:tabLst>
                <a:tab algn="l" pos="0"/>
                <a:tab algn="l" pos="385920"/>
                <a:tab algn="l" pos="771480"/>
                <a:tab algn="l" pos="1157400"/>
                <a:tab algn="l" pos="1542960"/>
                <a:tab algn="l" pos="1928880"/>
                <a:tab algn="l" pos="2314440"/>
                <a:tab algn="l" pos="2700360"/>
                <a:tab algn="l" pos="3086280"/>
                <a:tab algn="l" pos="3471840"/>
                <a:tab algn="l" pos="3857760"/>
                <a:tab algn="l" pos="4243320"/>
                <a:tab algn="l" pos="4629240"/>
                <a:tab algn="l" pos="5014800"/>
                <a:tab algn="l" pos="5400720"/>
                <a:tab algn="l" pos="5786280"/>
                <a:tab algn="l" pos="6172200"/>
                <a:tab algn="l" pos="6558120"/>
                <a:tab algn="l" pos="6943680"/>
                <a:tab algn="l" pos="7329600"/>
                <a:tab algn="l" pos="7715160"/>
              </a:tabLst>
            </a:pPr>
            <a:endParaRPr b="0" lang="en-US" sz="1800" spc="-1" strike="noStrike">
              <a:solidFill>
                <a:srgbClr val="000000"/>
              </a:solidFill>
              <a:latin typeface="等线 Light"/>
            </a:endParaRPr>
          </a:p>
        </p:txBody>
      </p:sp>
      <p:sp>
        <p:nvSpPr>
          <p:cNvPr id="51" name="PlaceHolder 2"/>
          <p:cNvSpPr>
            <a:spLocks noGrp="1"/>
          </p:cNvSpPr>
          <p:nvPr>
            <p:ph/>
          </p:nvPr>
        </p:nvSpPr>
        <p:spPr>
          <a:xfrm>
            <a:off x="393840" y="2433600"/>
            <a:ext cx="2405160" cy="5802480"/>
          </a:xfrm>
          <a:prstGeom prst="rect">
            <a:avLst/>
          </a:prstGeom>
          <a:noFill/>
          <a:ln w="0">
            <a:noFill/>
          </a:ln>
        </p:spPr>
        <p:txBody>
          <a:bodyPr lIns="90000" rIns="90000" tIns="46800" bIns="46800" anchor="t">
            <a:normAutofit/>
          </a:bodyPr>
          <a:p>
            <a:pPr indent="0">
              <a:lnSpc>
                <a:spcPct val="90000"/>
              </a:lnSpc>
              <a:spcBef>
                <a:spcPts val="425"/>
              </a:spcBef>
              <a:buNone/>
              <a:tabLst>
                <a:tab algn="l" pos="385920"/>
                <a:tab algn="l" pos="771480"/>
                <a:tab algn="l" pos="1157400"/>
                <a:tab algn="l" pos="1542960"/>
                <a:tab algn="l" pos="1928880"/>
                <a:tab algn="l" pos="2314440"/>
                <a:tab algn="l" pos="2700360"/>
                <a:tab algn="l" pos="3086280"/>
                <a:tab algn="l" pos="3471840"/>
                <a:tab algn="l" pos="3857760"/>
                <a:tab algn="l" pos="4243320"/>
                <a:tab algn="l" pos="4629240"/>
                <a:tab algn="l" pos="5014800"/>
                <a:tab algn="l" pos="5400720"/>
                <a:tab algn="l" pos="5786280"/>
                <a:tab algn="l" pos="6172200"/>
                <a:tab algn="l" pos="6558120"/>
                <a:tab algn="l" pos="6943680"/>
                <a:tab algn="l" pos="7329600"/>
                <a:tab algn="l" pos="7715160"/>
              </a:tabLst>
            </a:pPr>
            <a:endParaRPr b="0" lang="en-US" sz="1100" spc="-1" strike="noStrike">
              <a:solidFill>
                <a:srgbClr val="000000"/>
              </a:solidFill>
              <a:latin typeface="等线"/>
            </a:endParaRPr>
          </a:p>
        </p:txBody>
      </p:sp>
      <p:sp>
        <p:nvSpPr>
          <p:cNvPr id="52" name="PlaceHolder 3"/>
          <p:cNvSpPr>
            <a:spLocks noGrp="1"/>
          </p:cNvSpPr>
          <p:nvPr>
            <p:ph/>
          </p:nvPr>
        </p:nvSpPr>
        <p:spPr>
          <a:xfrm>
            <a:off x="2919600" y="2433600"/>
            <a:ext cx="2405160" cy="5802480"/>
          </a:xfrm>
          <a:prstGeom prst="rect">
            <a:avLst/>
          </a:prstGeom>
          <a:noFill/>
          <a:ln w="0">
            <a:noFill/>
          </a:ln>
        </p:spPr>
        <p:txBody>
          <a:bodyPr lIns="90000" rIns="90000" tIns="46800" bIns="46800" anchor="t">
            <a:normAutofit/>
          </a:bodyPr>
          <a:p>
            <a:pPr indent="0">
              <a:lnSpc>
                <a:spcPct val="90000"/>
              </a:lnSpc>
              <a:spcBef>
                <a:spcPts val="425"/>
              </a:spcBef>
              <a:buNone/>
              <a:tabLst>
                <a:tab algn="l" pos="385920"/>
                <a:tab algn="l" pos="771480"/>
                <a:tab algn="l" pos="1157400"/>
                <a:tab algn="l" pos="1542960"/>
                <a:tab algn="l" pos="1928880"/>
                <a:tab algn="l" pos="2314440"/>
                <a:tab algn="l" pos="2700360"/>
                <a:tab algn="l" pos="3086280"/>
                <a:tab algn="l" pos="3471840"/>
                <a:tab algn="l" pos="3857760"/>
                <a:tab algn="l" pos="4243320"/>
                <a:tab algn="l" pos="4629240"/>
                <a:tab algn="l" pos="5014800"/>
                <a:tab algn="l" pos="5400720"/>
                <a:tab algn="l" pos="5786280"/>
                <a:tab algn="l" pos="6172200"/>
                <a:tab algn="l" pos="6558120"/>
                <a:tab algn="l" pos="6943680"/>
                <a:tab algn="l" pos="7329600"/>
                <a:tab algn="l" pos="7715160"/>
              </a:tabLst>
            </a:pPr>
            <a:endParaRPr b="0" lang="en-US" sz="1100" spc="-1" strike="noStrike">
              <a:solidFill>
                <a:srgbClr val="000000"/>
              </a:solidFill>
              <a:latin typeface="等线"/>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DA2C77-1679-4ED5-97BD-ED7AE6D6DD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93840" y="487440"/>
            <a:ext cx="4929120" cy="1766880"/>
          </a:xfrm>
          <a:prstGeom prst="rect">
            <a:avLst/>
          </a:prstGeom>
          <a:noFill/>
          <a:ln w="0">
            <a:noFill/>
          </a:ln>
        </p:spPr>
        <p:txBody>
          <a:bodyPr lIns="90000" rIns="90000" tIns="46800" bIns="46800" anchor="ctr">
            <a:noAutofit/>
          </a:bodyPr>
          <a:p>
            <a:pPr indent="0">
              <a:lnSpc>
                <a:spcPct val="90000"/>
              </a:lnSpc>
              <a:buNone/>
              <a:tabLst>
                <a:tab algn="l" pos="0"/>
                <a:tab algn="l" pos="385920"/>
                <a:tab algn="l" pos="771480"/>
                <a:tab algn="l" pos="1157400"/>
                <a:tab algn="l" pos="1542960"/>
                <a:tab algn="l" pos="1928880"/>
                <a:tab algn="l" pos="2314440"/>
                <a:tab algn="l" pos="2700360"/>
                <a:tab algn="l" pos="3086280"/>
                <a:tab algn="l" pos="3471840"/>
                <a:tab algn="l" pos="3857760"/>
                <a:tab algn="l" pos="4243320"/>
                <a:tab algn="l" pos="4629240"/>
                <a:tab algn="l" pos="5014800"/>
                <a:tab algn="l" pos="5400720"/>
                <a:tab algn="l" pos="5786280"/>
                <a:tab algn="l" pos="6172200"/>
                <a:tab algn="l" pos="6558120"/>
                <a:tab algn="l" pos="6943680"/>
                <a:tab algn="l" pos="7329600"/>
                <a:tab algn="l" pos="7715160"/>
              </a:tabLst>
            </a:pPr>
            <a:endParaRPr b="0" lang="en-US" sz="1800" spc="-1" strike="noStrike">
              <a:solidFill>
                <a:srgbClr val="000000"/>
              </a:solidFill>
              <a:latin typeface="等线 Ligh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770CB9-0813-4248-93E0-672C85EEA8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93840" y="487440"/>
            <a:ext cx="4929120" cy="8191440"/>
          </a:xfrm>
          <a:prstGeom prst="rect">
            <a:avLst/>
          </a:prstGeom>
          <a:noFill/>
          <a:ln w="0">
            <a:noFill/>
          </a:ln>
        </p:spPr>
        <p:txBody>
          <a:bodyPr lIns="0" rIns="0" tIns="0" bIns="0" anchor="ctr">
            <a:noAutofit/>
          </a:bodyPr>
          <a:p>
            <a:pPr algn="ctr">
              <a:lnSpc>
                <a:spcPct val="90000"/>
              </a:lnSpc>
              <a:spcBef>
                <a:spcPts val="425"/>
              </a:spcBef>
              <a:tabLst>
                <a:tab algn="l" pos="0"/>
                <a:tab algn="l" pos="385920"/>
                <a:tab algn="l" pos="771480"/>
                <a:tab algn="l" pos="1157400"/>
                <a:tab algn="l" pos="1542960"/>
                <a:tab algn="l" pos="1928880"/>
                <a:tab algn="l" pos="2314440"/>
                <a:tab algn="l" pos="2700360"/>
                <a:tab algn="l" pos="3086280"/>
                <a:tab algn="l" pos="3471840"/>
                <a:tab algn="l" pos="3857760"/>
                <a:tab algn="l" pos="4243320"/>
                <a:tab algn="l" pos="4629240"/>
                <a:tab algn="l" pos="5014800"/>
                <a:tab algn="l" pos="5400720"/>
                <a:tab algn="l" pos="5786280"/>
                <a:tab algn="l" pos="6172200"/>
                <a:tab algn="l" pos="6558120"/>
                <a:tab algn="l" pos="6943680"/>
                <a:tab algn="l" pos="7329600"/>
                <a:tab algn="l" pos="7715160"/>
              </a:tabLst>
            </a:pPr>
            <a:endParaRPr b="0" lang="en-US" sz="1100" spc="-1" strike="noStrike">
              <a:solidFill>
                <a:srgbClr val="000000"/>
              </a:solidFill>
              <a:latin typeface="等线"/>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759FAF-C6AC-45BF-AE22-DE5A25B7EB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93840" y="487440"/>
            <a:ext cx="4929120" cy="1766880"/>
          </a:xfrm>
          <a:prstGeom prst="rect">
            <a:avLst/>
          </a:prstGeom>
          <a:noFill/>
          <a:ln w="0">
            <a:noFill/>
          </a:ln>
        </p:spPr>
        <p:txBody>
          <a:bodyPr lIns="90000" rIns="90000" tIns="46800" bIns="46800" anchor="ctr">
            <a:noAutofit/>
          </a:bodyPr>
          <a:p>
            <a:pPr indent="0">
              <a:lnSpc>
                <a:spcPct val="90000"/>
              </a:lnSpc>
              <a:buNone/>
              <a:tabLst>
                <a:tab algn="l" pos="0"/>
                <a:tab algn="l" pos="385920"/>
                <a:tab algn="l" pos="771480"/>
                <a:tab algn="l" pos="1157400"/>
                <a:tab algn="l" pos="1542960"/>
                <a:tab algn="l" pos="1928880"/>
                <a:tab algn="l" pos="2314440"/>
                <a:tab algn="l" pos="2700360"/>
                <a:tab algn="l" pos="3086280"/>
                <a:tab algn="l" pos="3471840"/>
                <a:tab algn="l" pos="3857760"/>
                <a:tab algn="l" pos="4243320"/>
                <a:tab algn="l" pos="4629240"/>
                <a:tab algn="l" pos="5014800"/>
                <a:tab algn="l" pos="5400720"/>
                <a:tab algn="l" pos="5786280"/>
                <a:tab algn="l" pos="6172200"/>
                <a:tab algn="l" pos="6558120"/>
                <a:tab algn="l" pos="6943680"/>
                <a:tab algn="l" pos="7329600"/>
                <a:tab algn="l" pos="7715160"/>
              </a:tabLst>
            </a:pPr>
            <a:endParaRPr b="0" lang="en-US" sz="1800" spc="-1" strike="noStrike">
              <a:solidFill>
                <a:srgbClr val="000000"/>
              </a:solidFill>
              <a:latin typeface="等线 Light"/>
            </a:endParaRPr>
          </a:p>
        </p:txBody>
      </p:sp>
      <p:sp>
        <p:nvSpPr>
          <p:cNvPr id="56" name="PlaceHolder 2"/>
          <p:cNvSpPr>
            <a:spLocks noGrp="1"/>
          </p:cNvSpPr>
          <p:nvPr>
            <p:ph/>
          </p:nvPr>
        </p:nvSpPr>
        <p:spPr>
          <a:xfrm>
            <a:off x="393840" y="2433600"/>
            <a:ext cx="2405160" cy="2767680"/>
          </a:xfrm>
          <a:prstGeom prst="rect">
            <a:avLst/>
          </a:prstGeom>
          <a:noFill/>
          <a:ln w="0">
            <a:noFill/>
          </a:ln>
        </p:spPr>
        <p:txBody>
          <a:bodyPr lIns="90000" rIns="90000" tIns="46800" bIns="46800" anchor="t">
            <a:normAutofit/>
          </a:bodyPr>
          <a:p>
            <a:pPr indent="0">
              <a:lnSpc>
                <a:spcPct val="90000"/>
              </a:lnSpc>
              <a:spcBef>
                <a:spcPts val="425"/>
              </a:spcBef>
              <a:buNone/>
              <a:tabLst>
                <a:tab algn="l" pos="385920"/>
                <a:tab algn="l" pos="771480"/>
                <a:tab algn="l" pos="1157400"/>
                <a:tab algn="l" pos="1542960"/>
                <a:tab algn="l" pos="1928880"/>
                <a:tab algn="l" pos="2314440"/>
                <a:tab algn="l" pos="2700360"/>
                <a:tab algn="l" pos="3086280"/>
                <a:tab algn="l" pos="3471840"/>
                <a:tab algn="l" pos="3857760"/>
                <a:tab algn="l" pos="4243320"/>
                <a:tab algn="l" pos="4629240"/>
                <a:tab algn="l" pos="5014800"/>
                <a:tab algn="l" pos="5400720"/>
                <a:tab algn="l" pos="5786280"/>
                <a:tab algn="l" pos="6172200"/>
                <a:tab algn="l" pos="6558120"/>
                <a:tab algn="l" pos="6943680"/>
                <a:tab algn="l" pos="7329600"/>
                <a:tab algn="l" pos="7715160"/>
              </a:tabLst>
            </a:pPr>
            <a:endParaRPr b="0" lang="en-US" sz="1100" spc="-1" strike="noStrike">
              <a:solidFill>
                <a:srgbClr val="000000"/>
              </a:solidFill>
              <a:latin typeface="等线"/>
            </a:endParaRPr>
          </a:p>
        </p:txBody>
      </p:sp>
      <p:sp>
        <p:nvSpPr>
          <p:cNvPr id="57" name="PlaceHolder 3"/>
          <p:cNvSpPr>
            <a:spLocks noGrp="1"/>
          </p:cNvSpPr>
          <p:nvPr>
            <p:ph/>
          </p:nvPr>
        </p:nvSpPr>
        <p:spPr>
          <a:xfrm>
            <a:off x="2919600" y="2433600"/>
            <a:ext cx="2405160" cy="5802480"/>
          </a:xfrm>
          <a:prstGeom prst="rect">
            <a:avLst/>
          </a:prstGeom>
          <a:noFill/>
          <a:ln w="0">
            <a:noFill/>
          </a:ln>
        </p:spPr>
        <p:txBody>
          <a:bodyPr lIns="90000" rIns="90000" tIns="46800" bIns="46800" anchor="t">
            <a:normAutofit/>
          </a:bodyPr>
          <a:p>
            <a:pPr indent="0">
              <a:lnSpc>
                <a:spcPct val="90000"/>
              </a:lnSpc>
              <a:spcBef>
                <a:spcPts val="425"/>
              </a:spcBef>
              <a:buNone/>
              <a:tabLst>
                <a:tab algn="l" pos="385920"/>
                <a:tab algn="l" pos="771480"/>
                <a:tab algn="l" pos="1157400"/>
                <a:tab algn="l" pos="1542960"/>
                <a:tab algn="l" pos="1928880"/>
                <a:tab algn="l" pos="2314440"/>
                <a:tab algn="l" pos="2700360"/>
                <a:tab algn="l" pos="3086280"/>
                <a:tab algn="l" pos="3471840"/>
                <a:tab algn="l" pos="3857760"/>
                <a:tab algn="l" pos="4243320"/>
                <a:tab algn="l" pos="4629240"/>
                <a:tab algn="l" pos="5014800"/>
                <a:tab algn="l" pos="5400720"/>
                <a:tab algn="l" pos="5786280"/>
                <a:tab algn="l" pos="6172200"/>
                <a:tab algn="l" pos="6558120"/>
                <a:tab algn="l" pos="6943680"/>
                <a:tab algn="l" pos="7329600"/>
                <a:tab algn="l" pos="7715160"/>
              </a:tabLst>
            </a:pPr>
            <a:endParaRPr b="0" lang="en-US" sz="1100" spc="-1" strike="noStrike">
              <a:solidFill>
                <a:srgbClr val="000000"/>
              </a:solidFill>
              <a:latin typeface="等线"/>
            </a:endParaRPr>
          </a:p>
        </p:txBody>
      </p:sp>
      <p:sp>
        <p:nvSpPr>
          <p:cNvPr id="58" name="PlaceHolder 4"/>
          <p:cNvSpPr>
            <a:spLocks noGrp="1"/>
          </p:cNvSpPr>
          <p:nvPr>
            <p:ph/>
          </p:nvPr>
        </p:nvSpPr>
        <p:spPr>
          <a:xfrm>
            <a:off x="393840" y="5464440"/>
            <a:ext cx="2405160" cy="2767680"/>
          </a:xfrm>
          <a:prstGeom prst="rect">
            <a:avLst/>
          </a:prstGeom>
          <a:noFill/>
          <a:ln w="0">
            <a:noFill/>
          </a:ln>
        </p:spPr>
        <p:txBody>
          <a:bodyPr lIns="90000" rIns="90000" tIns="46800" bIns="46800" anchor="t">
            <a:normAutofit/>
          </a:bodyPr>
          <a:p>
            <a:pPr indent="0">
              <a:lnSpc>
                <a:spcPct val="90000"/>
              </a:lnSpc>
              <a:spcBef>
                <a:spcPts val="425"/>
              </a:spcBef>
              <a:buNone/>
              <a:tabLst>
                <a:tab algn="l" pos="385920"/>
                <a:tab algn="l" pos="771480"/>
                <a:tab algn="l" pos="1157400"/>
                <a:tab algn="l" pos="1542960"/>
                <a:tab algn="l" pos="1928880"/>
                <a:tab algn="l" pos="2314440"/>
                <a:tab algn="l" pos="2700360"/>
                <a:tab algn="l" pos="3086280"/>
                <a:tab algn="l" pos="3471840"/>
                <a:tab algn="l" pos="3857760"/>
                <a:tab algn="l" pos="4243320"/>
                <a:tab algn="l" pos="4629240"/>
                <a:tab algn="l" pos="5014800"/>
                <a:tab algn="l" pos="5400720"/>
                <a:tab algn="l" pos="5786280"/>
                <a:tab algn="l" pos="6172200"/>
                <a:tab algn="l" pos="6558120"/>
                <a:tab algn="l" pos="6943680"/>
                <a:tab algn="l" pos="7329600"/>
                <a:tab algn="l" pos="7715160"/>
              </a:tabLst>
            </a:pPr>
            <a:endParaRPr b="0" lang="en-US" sz="1100" spc="-1" strike="noStrike">
              <a:solidFill>
                <a:srgbClr val="000000"/>
              </a:solidFill>
              <a:latin typeface="等线"/>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1907D9-CE52-432D-B627-3D703C8AAF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93840" y="487440"/>
            <a:ext cx="4929120" cy="1766880"/>
          </a:xfrm>
          <a:prstGeom prst="rect">
            <a:avLst/>
          </a:prstGeom>
          <a:noFill/>
          <a:ln w="0">
            <a:noFill/>
          </a:ln>
        </p:spPr>
        <p:txBody>
          <a:bodyPr lIns="90000" rIns="90000" tIns="46800" bIns="46800" anchor="ctr">
            <a:noAutofit/>
          </a:bodyPr>
          <a:p>
            <a:pPr indent="0">
              <a:lnSpc>
                <a:spcPct val="90000"/>
              </a:lnSpc>
              <a:buNone/>
              <a:tabLst>
                <a:tab algn="l" pos="0"/>
                <a:tab algn="l" pos="385920"/>
                <a:tab algn="l" pos="771480"/>
                <a:tab algn="l" pos="1157400"/>
                <a:tab algn="l" pos="1542960"/>
                <a:tab algn="l" pos="1928880"/>
                <a:tab algn="l" pos="2314440"/>
                <a:tab algn="l" pos="2700360"/>
                <a:tab algn="l" pos="3086280"/>
                <a:tab algn="l" pos="3471840"/>
                <a:tab algn="l" pos="3857760"/>
                <a:tab algn="l" pos="4243320"/>
                <a:tab algn="l" pos="4629240"/>
                <a:tab algn="l" pos="5014800"/>
                <a:tab algn="l" pos="5400720"/>
                <a:tab algn="l" pos="5786280"/>
                <a:tab algn="l" pos="6172200"/>
                <a:tab algn="l" pos="6558120"/>
                <a:tab algn="l" pos="6943680"/>
                <a:tab algn="l" pos="7329600"/>
                <a:tab algn="l" pos="7715160"/>
              </a:tabLst>
            </a:pPr>
            <a:endParaRPr b="0" lang="en-US" sz="1800" spc="-1" strike="noStrike">
              <a:solidFill>
                <a:srgbClr val="000000"/>
              </a:solidFill>
              <a:latin typeface="等线 Light"/>
            </a:endParaRPr>
          </a:p>
        </p:txBody>
      </p:sp>
      <p:sp>
        <p:nvSpPr>
          <p:cNvPr id="6" name="PlaceHolder 2"/>
          <p:cNvSpPr>
            <a:spLocks noGrp="1"/>
          </p:cNvSpPr>
          <p:nvPr>
            <p:ph type="subTitle"/>
          </p:nvPr>
        </p:nvSpPr>
        <p:spPr>
          <a:xfrm>
            <a:off x="393840" y="2433600"/>
            <a:ext cx="4929120" cy="5802480"/>
          </a:xfrm>
          <a:prstGeom prst="rect">
            <a:avLst/>
          </a:prstGeom>
          <a:noFill/>
          <a:ln w="0">
            <a:noFill/>
          </a:ln>
        </p:spPr>
        <p:txBody>
          <a:bodyPr lIns="0" rIns="0" tIns="0" bIns="0" anchor="ctr">
            <a:noAutofit/>
          </a:bodyPr>
          <a:p>
            <a:pPr indent="0" algn="ctr">
              <a:lnSpc>
                <a:spcPct val="90000"/>
              </a:lnSpc>
              <a:spcBef>
                <a:spcPts val="425"/>
              </a:spcBef>
              <a:buNone/>
              <a:tabLst>
                <a:tab algn="l" pos="0"/>
                <a:tab algn="l" pos="385920"/>
                <a:tab algn="l" pos="771480"/>
                <a:tab algn="l" pos="1157400"/>
                <a:tab algn="l" pos="1542960"/>
                <a:tab algn="l" pos="1928880"/>
                <a:tab algn="l" pos="2314440"/>
                <a:tab algn="l" pos="2700360"/>
                <a:tab algn="l" pos="3086280"/>
                <a:tab algn="l" pos="3471840"/>
                <a:tab algn="l" pos="3857760"/>
                <a:tab algn="l" pos="4243320"/>
                <a:tab algn="l" pos="4629240"/>
                <a:tab algn="l" pos="5014800"/>
                <a:tab algn="l" pos="5400720"/>
                <a:tab algn="l" pos="5786280"/>
                <a:tab algn="l" pos="6172200"/>
                <a:tab algn="l" pos="6558120"/>
                <a:tab algn="l" pos="6943680"/>
                <a:tab algn="l" pos="7329600"/>
                <a:tab algn="l" pos="7715160"/>
              </a:tabLst>
            </a:pPr>
            <a:endParaRPr b="0" lang="en-US" sz="1100" spc="-1" strike="noStrike">
              <a:solidFill>
                <a:srgbClr val="000000"/>
              </a:solidFill>
              <a:latin typeface="等线"/>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B87B13-17D8-486C-BCEE-84547001AA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93840" y="487440"/>
            <a:ext cx="4929120" cy="1766880"/>
          </a:xfrm>
          <a:prstGeom prst="rect">
            <a:avLst/>
          </a:prstGeom>
          <a:noFill/>
          <a:ln w="0">
            <a:noFill/>
          </a:ln>
        </p:spPr>
        <p:txBody>
          <a:bodyPr lIns="90000" rIns="90000" tIns="46800" bIns="46800" anchor="ctr">
            <a:noAutofit/>
          </a:bodyPr>
          <a:p>
            <a:pPr indent="0">
              <a:lnSpc>
                <a:spcPct val="90000"/>
              </a:lnSpc>
              <a:buNone/>
              <a:tabLst>
                <a:tab algn="l" pos="0"/>
                <a:tab algn="l" pos="385920"/>
                <a:tab algn="l" pos="771480"/>
                <a:tab algn="l" pos="1157400"/>
                <a:tab algn="l" pos="1542960"/>
                <a:tab algn="l" pos="1928880"/>
                <a:tab algn="l" pos="2314440"/>
                <a:tab algn="l" pos="2700360"/>
                <a:tab algn="l" pos="3086280"/>
                <a:tab algn="l" pos="3471840"/>
                <a:tab algn="l" pos="3857760"/>
                <a:tab algn="l" pos="4243320"/>
                <a:tab algn="l" pos="4629240"/>
                <a:tab algn="l" pos="5014800"/>
                <a:tab algn="l" pos="5400720"/>
                <a:tab algn="l" pos="5786280"/>
                <a:tab algn="l" pos="6172200"/>
                <a:tab algn="l" pos="6558120"/>
                <a:tab algn="l" pos="6943680"/>
                <a:tab algn="l" pos="7329600"/>
                <a:tab algn="l" pos="7715160"/>
              </a:tabLst>
            </a:pPr>
            <a:endParaRPr b="0" lang="en-US" sz="1800" spc="-1" strike="noStrike">
              <a:solidFill>
                <a:srgbClr val="000000"/>
              </a:solidFill>
              <a:latin typeface="等线 Light"/>
            </a:endParaRPr>
          </a:p>
        </p:txBody>
      </p:sp>
      <p:sp>
        <p:nvSpPr>
          <p:cNvPr id="60" name="PlaceHolder 2"/>
          <p:cNvSpPr>
            <a:spLocks noGrp="1"/>
          </p:cNvSpPr>
          <p:nvPr>
            <p:ph/>
          </p:nvPr>
        </p:nvSpPr>
        <p:spPr>
          <a:xfrm>
            <a:off x="393840" y="2433600"/>
            <a:ext cx="2405160" cy="5802480"/>
          </a:xfrm>
          <a:prstGeom prst="rect">
            <a:avLst/>
          </a:prstGeom>
          <a:noFill/>
          <a:ln w="0">
            <a:noFill/>
          </a:ln>
        </p:spPr>
        <p:txBody>
          <a:bodyPr lIns="90000" rIns="90000" tIns="46800" bIns="46800" anchor="t">
            <a:normAutofit/>
          </a:bodyPr>
          <a:p>
            <a:pPr indent="0">
              <a:lnSpc>
                <a:spcPct val="90000"/>
              </a:lnSpc>
              <a:spcBef>
                <a:spcPts val="425"/>
              </a:spcBef>
              <a:buNone/>
              <a:tabLst>
                <a:tab algn="l" pos="385920"/>
                <a:tab algn="l" pos="771480"/>
                <a:tab algn="l" pos="1157400"/>
                <a:tab algn="l" pos="1542960"/>
                <a:tab algn="l" pos="1928880"/>
                <a:tab algn="l" pos="2314440"/>
                <a:tab algn="l" pos="2700360"/>
                <a:tab algn="l" pos="3086280"/>
                <a:tab algn="l" pos="3471840"/>
                <a:tab algn="l" pos="3857760"/>
                <a:tab algn="l" pos="4243320"/>
                <a:tab algn="l" pos="4629240"/>
                <a:tab algn="l" pos="5014800"/>
                <a:tab algn="l" pos="5400720"/>
                <a:tab algn="l" pos="5786280"/>
                <a:tab algn="l" pos="6172200"/>
                <a:tab algn="l" pos="6558120"/>
                <a:tab algn="l" pos="6943680"/>
                <a:tab algn="l" pos="7329600"/>
                <a:tab algn="l" pos="7715160"/>
              </a:tabLst>
            </a:pPr>
            <a:endParaRPr b="0" lang="en-US" sz="1100" spc="-1" strike="noStrike">
              <a:solidFill>
                <a:srgbClr val="000000"/>
              </a:solidFill>
              <a:latin typeface="等线"/>
            </a:endParaRPr>
          </a:p>
        </p:txBody>
      </p:sp>
      <p:sp>
        <p:nvSpPr>
          <p:cNvPr id="61" name="PlaceHolder 3"/>
          <p:cNvSpPr>
            <a:spLocks noGrp="1"/>
          </p:cNvSpPr>
          <p:nvPr>
            <p:ph/>
          </p:nvPr>
        </p:nvSpPr>
        <p:spPr>
          <a:xfrm>
            <a:off x="2919600" y="2433600"/>
            <a:ext cx="2405160" cy="2767680"/>
          </a:xfrm>
          <a:prstGeom prst="rect">
            <a:avLst/>
          </a:prstGeom>
          <a:noFill/>
          <a:ln w="0">
            <a:noFill/>
          </a:ln>
        </p:spPr>
        <p:txBody>
          <a:bodyPr lIns="90000" rIns="90000" tIns="46800" bIns="46800" anchor="t">
            <a:normAutofit/>
          </a:bodyPr>
          <a:p>
            <a:pPr indent="0">
              <a:lnSpc>
                <a:spcPct val="90000"/>
              </a:lnSpc>
              <a:spcBef>
                <a:spcPts val="425"/>
              </a:spcBef>
              <a:buNone/>
              <a:tabLst>
                <a:tab algn="l" pos="385920"/>
                <a:tab algn="l" pos="771480"/>
                <a:tab algn="l" pos="1157400"/>
                <a:tab algn="l" pos="1542960"/>
                <a:tab algn="l" pos="1928880"/>
                <a:tab algn="l" pos="2314440"/>
                <a:tab algn="l" pos="2700360"/>
                <a:tab algn="l" pos="3086280"/>
                <a:tab algn="l" pos="3471840"/>
                <a:tab algn="l" pos="3857760"/>
                <a:tab algn="l" pos="4243320"/>
                <a:tab algn="l" pos="4629240"/>
                <a:tab algn="l" pos="5014800"/>
                <a:tab algn="l" pos="5400720"/>
                <a:tab algn="l" pos="5786280"/>
                <a:tab algn="l" pos="6172200"/>
                <a:tab algn="l" pos="6558120"/>
                <a:tab algn="l" pos="6943680"/>
                <a:tab algn="l" pos="7329600"/>
                <a:tab algn="l" pos="7715160"/>
              </a:tabLst>
            </a:pPr>
            <a:endParaRPr b="0" lang="en-US" sz="1100" spc="-1" strike="noStrike">
              <a:solidFill>
                <a:srgbClr val="000000"/>
              </a:solidFill>
              <a:latin typeface="等线"/>
            </a:endParaRPr>
          </a:p>
        </p:txBody>
      </p:sp>
      <p:sp>
        <p:nvSpPr>
          <p:cNvPr id="62" name="PlaceHolder 4"/>
          <p:cNvSpPr>
            <a:spLocks noGrp="1"/>
          </p:cNvSpPr>
          <p:nvPr>
            <p:ph/>
          </p:nvPr>
        </p:nvSpPr>
        <p:spPr>
          <a:xfrm>
            <a:off x="2919600" y="5464440"/>
            <a:ext cx="2405160" cy="2767680"/>
          </a:xfrm>
          <a:prstGeom prst="rect">
            <a:avLst/>
          </a:prstGeom>
          <a:noFill/>
          <a:ln w="0">
            <a:noFill/>
          </a:ln>
        </p:spPr>
        <p:txBody>
          <a:bodyPr lIns="90000" rIns="90000" tIns="46800" bIns="46800" anchor="t">
            <a:normAutofit/>
          </a:bodyPr>
          <a:p>
            <a:pPr indent="0">
              <a:lnSpc>
                <a:spcPct val="90000"/>
              </a:lnSpc>
              <a:spcBef>
                <a:spcPts val="425"/>
              </a:spcBef>
              <a:buNone/>
              <a:tabLst>
                <a:tab algn="l" pos="385920"/>
                <a:tab algn="l" pos="771480"/>
                <a:tab algn="l" pos="1157400"/>
                <a:tab algn="l" pos="1542960"/>
                <a:tab algn="l" pos="1928880"/>
                <a:tab algn="l" pos="2314440"/>
                <a:tab algn="l" pos="2700360"/>
                <a:tab algn="l" pos="3086280"/>
                <a:tab algn="l" pos="3471840"/>
                <a:tab algn="l" pos="3857760"/>
                <a:tab algn="l" pos="4243320"/>
                <a:tab algn="l" pos="4629240"/>
                <a:tab algn="l" pos="5014800"/>
                <a:tab algn="l" pos="5400720"/>
                <a:tab algn="l" pos="5786280"/>
                <a:tab algn="l" pos="6172200"/>
                <a:tab algn="l" pos="6558120"/>
                <a:tab algn="l" pos="6943680"/>
                <a:tab algn="l" pos="7329600"/>
                <a:tab algn="l" pos="7715160"/>
              </a:tabLst>
            </a:pPr>
            <a:endParaRPr b="0" lang="en-US" sz="1100" spc="-1" strike="noStrike">
              <a:solidFill>
                <a:srgbClr val="000000"/>
              </a:solidFill>
              <a:latin typeface="等线"/>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2A8F2A-8F37-443B-8281-CF07A4A4C0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93840" y="487440"/>
            <a:ext cx="4929120" cy="1766880"/>
          </a:xfrm>
          <a:prstGeom prst="rect">
            <a:avLst/>
          </a:prstGeom>
          <a:noFill/>
          <a:ln w="0">
            <a:noFill/>
          </a:ln>
        </p:spPr>
        <p:txBody>
          <a:bodyPr lIns="90000" rIns="90000" tIns="46800" bIns="46800" anchor="ctr">
            <a:noAutofit/>
          </a:bodyPr>
          <a:p>
            <a:pPr indent="0">
              <a:lnSpc>
                <a:spcPct val="90000"/>
              </a:lnSpc>
              <a:buNone/>
              <a:tabLst>
                <a:tab algn="l" pos="0"/>
                <a:tab algn="l" pos="385920"/>
                <a:tab algn="l" pos="771480"/>
                <a:tab algn="l" pos="1157400"/>
                <a:tab algn="l" pos="1542960"/>
                <a:tab algn="l" pos="1928880"/>
                <a:tab algn="l" pos="2314440"/>
                <a:tab algn="l" pos="2700360"/>
                <a:tab algn="l" pos="3086280"/>
                <a:tab algn="l" pos="3471840"/>
                <a:tab algn="l" pos="3857760"/>
                <a:tab algn="l" pos="4243320"/>
                <a:tab algn="l" pos="4629240"/>
                <a:tab algn="l" pos="5014800"/>
                <a:tab algn="l" pos="5400720"/>
                <a:tab algn="l" pos="5786280"/>
                <a:tab algn="l" pos="6172200"/>
                <a:tab algn="l" pos="6558120"/>
                <a:tab algn="l" pos="6943680"/>
                <a:tab algn="l" pos="7329600"/>
                <a:tab algn="l" pos="7715160"/>
              </a:tabLst>
            </a:pPr>
            <a:endParaRPr b="0" lang="en-US" sz="1800" spc="-1" strike="noStrike">
              <a:solidFill>
                <a:srgbClr val="000000"/>
              </a:solidFill>
              <a:latin typeface="等线 Light"/>
            </a:endParaRPr>
          </a:p>
        </p:txBody>
      </p:sp>
      <p:sp>
        <p:nvSpPr>
          <p:cNvPr id="64" name="PlaceHolder 2"/>
          <p:cNvSpPr>
            <a:spLocks noGrp="1"/>
          </p:cNvSpPr>
          <p:nvPr>
            <p:ph/>
          </p:nvPr>
        </p:nvSpPr>
        <p:spPr>
          <a:xfrm>
            <a:off x="393840" y="2433600"/>
            <a:ext cx="2405160" cy="2767680"/>
          </a:xfrm>
          <a:prstGeom prst="rect">
            <a:avLst/>
          </a:prstGeom>
          <a:noFill/>
          <a:ln w="0">
            <a:noFill/>
          </a:ln>
        </p:spPr>
        <p:txBody>
          <a:bodyPr lIns="90000" rIns="90000" tIns="46800" bIns="46800" anchor="t">
            <a:normAutofit/>
          </a:bodyPr>
          <a:p>
            <a:pPr indent="0">
              <a:lnSpc>
                <a:spcPct val="90000"/>
              </a:lnSpc>
              <a:spcBef>
                <a:spcPts val="425"/>
              </a:spcBef>
              <a:buNone/>
              <a:tabLst>
                <a:tab algn="l" pos="385920"/>
                <a:tab algn="l" pos="771480"/>
                <a:tab algn="l" pos="1157400"/>
                <a:tab algn="l" pos="1542960"/>
                <a:tab algn="l" pos="1928880"/>
                <a:tab algn="l" pos="2314440"/>
                <a:tab algn="l" pos="2700360"/>
                <a:tab algn="l" pos="3086280"/>
                <a:tab algn="l" pos="3471840"/>
                <a:tab algn="l" pos="3857760"/>
                <a:tab algn="l" pos="4243320"/>
                <a:tab algn="l" pos="4629240"/>
                <a:tab algn="l" pos="5014800"/>
                <a:tab algn="l" pos="5400720"/>
                <a:tab algn="l" pos="5786280"/>
                <a:tab algn="l" pos="6172200"/>
                <a:tab algn="l" pos="6558120"/>
                <a:tab algn="l" pos="6943680"/>
                <a:tab algn="l" pos="7329600"/>
                <a:tab algn="l" pos="7715160"/>
              </a:tabLst>
            </a:pPr>
            <a:endParaRPr b="0" lang="en-US" sz="1100" spc="-1" strike="noStrike">
              <a:solidFill>
                <a:srgbClr val="000000"/>
              </a:solidFill>
              <a:latin typeface="等线"/>
            </a:endParaRPr>
          </a:p>
        </p:txBody>
      </p:sp>
      <p:sp>
        <p:nvSpPr>
          <p:cNvPr id="65" name="PlaceHolder 3"/>
          <p:cNvSpPr>
            <a:spLocks noGrp="1"/>
          </p:cNvSpPr>
          <p:nvPr>
            <p:ph/>
          </p:nvPr>
        </p:nvSpPr>
        <p:spPr>
          <a:xfrm>
            <a:off x="2919600" y="2433600"/>
            <a:ext cx="2405160" cy="2767680"/>
          </a:xfrm>
          <a:prstGeom prst="rect">
            <a:avLst/>
          </a:prstGeom>
          <a:noFill/>
          <a:ln w="0">
            <a:noFill/>
          </a:ln>
        </p:spPr>
        <p:txBody>
          <a:bodyPr lIns="90000" rIns="90000" tIns="46800" bIns="46800" anchor="t">
            <a:normAutofit/>
          </a:bodyPr>
          <a:p>
            <a:pPr indent="0">
              <a:lnSpc>
                <a:spcPct val="90000"/>
              </a:lnSpc>
              <a:spcBef>
                <a:spcPts val="425"/>
              </a:spcBef>
              <a:buNone/>
              <a:tabLst>
                <a:tab algn="l" pos="385920"/>
                <a:tab algn="l" pos="771480"/>
                <a:tab algn="l" pos="1157400"/>
                <a:tab algn="l" pos="1542960"/>
                <a:tab algn="l" pos="1928880"/>
                <a:tab algn="l" pos="2314440"/>
                <a:tab algn="l" pos="2700360"/>
                <a:tab algn="l" pos="3086280"/>
                <a:tab algn="l" pos="3471840"/>
                <a:tab algn="l" pos="3857760"/>
                <a:tab algn="l" pos="4243320"/>
                <a:tab algn="l" pos="4629240"/>
                <a:tab algn="l" pos="5014800"/>
                <a:tab algn="l" pos="5400720"/>
                <a:tab algn="l" pos="5786280"/>
                <a:tab algn="l" pos="6172200"/>
                <a:tab algn="l" pos="6558120"/>
                <a:tab algn="l" pos="6943680"/>
                <a:tab algn="l" pos="7329600"/>
                <a:tab algn="l" pos="7715160"/>
              </a:tabLst>
            </a:pPr>
            <a:endParaRPr b="0" lang="en-US" sz="1100" spc="-1" strike="noStrike">
              <a:solidFill>
                <a:srgbClr val="000000"/>
              </a:solidFill>
              <a:latin typeface="等线"/>
            </a:endParaRPr>
          </a:p>
        </p:txBody>
      </p:sp>
      <p:sp>
        <p:nvSpPr>
          <p:cNvPr id="66" name="PlaceHolder 4"/>
          <p:cNvSpPr>
            <a:spLocks noGrp="1"/>
          </p:cNvSpPr>
          <p:nvPr>
            <p:ph/>
          </p:nvPr>
        </p:nvSpPr>
        <p:spPr>
          <a:xfrm>
            <a:off x="393840" y="5464440"/>
            <a:ext cx="4929120" cy="2767680"/>
          </a:xfrm>
          <a:prstGeom prst="rect">
            <a:avLst/>
          </a:prstGeom>
          <a:noFill/>
          <a:ln w="0">
            <a:noFill/>
          </a:ln>
        </p:spPr>
        <p:txBody>
          <a:bodyPr lIns="90000" rIns="90000" tIns="46800" bIns="46800" anchor="t">
            <a:normAutofit/>
          </a:bodyPr>
          <a:p>
            <a:pPr indent="0">
              <a:lnSpc>
                <a:spcPct val="90000"/>
              </a:lnSpc>
              <a:spcBef>
                <a:spcPts val="425"/>
              </a:spcBef>
              <a:buNone/>
              <a:tabLst>
                <a:tab algn="l" pos="385920"/>
                <a:tab algn="l" pos="771480"/>
                <a:tab algn="l" pos="1157400"/>
                <a:tab algn="l" pos="1542960"/>
                <a:tab algn="l" pos="1928880"/>
                <a:tab algn="l" pos="2314440"/>
                <a:tab algn="l" pos="2700360"/>
                <a:tab algn="l" pos="3086280"/>
                <a:tab algn="l" pos="3471840"/>
                <a:tab algn="l" pos="3857760"/>
                <a:tab algn="l" pos="4243320"/>
                <a:tab algn="l" pos="4629240"/>
                <a:tab algn="l" pos="5014800"/>
                <a:tab algn="l" pos="5400720"/>
                <a:tab algn="l" pos="5786280"/>
                <a:tab algn="l" pos="6172200"/>
                <a:tab algn="l" pos="6558120"/>
                <a:tab algn="l" pos="6943680"/>
                <a:tab algn="l" pos="7329600"/>
                <a:tab algn="l" pos="7715160"/>
              </a:tabLst>
            </a:pPr>
            <a:endParaRPr b="0" lang="en-US" sz="1100" spc="-1" strike="noStrike">
              <a:solidFill>
                <a:srgbClr val="000000"/>
              </a:solidFill>
              <a:latin typeface="等线"/>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B31DF3-8B33-46FF-B9CA-FE15A376A3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93840" y="487440"/>
            <a:ext cx="4929120" cy="1766880"/>
          </a:xfrm>
          <a:prstGeom prst="rect">
            <a:avLst/>
          </a:prstGeom>
          <a:noFill/>
          <a:ln w="0">
            <a:noFill/>
          </a:ln>
        </p:spPr>
        <p:txBody>
          <a:bodyPr lIns="90000" rIns="90000" tIns="46800" bIns="46800" anchor="ctr">
            <a:noAutofit/>
          </a:bodyPr>
          <a:p>
            <a:pPr indent="0">
              <a:lnSpc>
                <a:spcPct val="90000"/>
              </a:lnSpc>
              <a:buNone/>
              <a:tabLst>
                <a:tab algn="l" pos="0"/>
                <a:tab algn="l" pos="385920"/>
                <a:tab algn="l" pos="771480"/>
                <a:tab algn="l" pos="1157400"/>
                <a:tab algn="l" pos="1542960"/>
                <a:tab algn="l" pos="1928880"/>
                <a:tab algn="l" pos="2314440"/>
                <a:tab algn="l" pos="2700360"/>
                <a:tab algn="l" pos="3086280"/>
                <a:tab algn="l" pos="3471840"/>
                <a:tab algn="l" pos="3857760"/>
                <a:tab algn="l" pos="4243320"/>
                <a:tab algn="l" pos="4629240"/>
                <a:tab algn="l" pos="5014800"/>
                <a:tab algn="l" pos="5400720"/>
                <a:tab algn="l" pos="5786280"/>
                <a:tab algn="l" pos="6172200"/>
                <a:tab algn="l" pos="6558120"/>
                <a:tab algn="l" pos="6943680"/>
                <a:tab algn="l" pos="7329600"/>
                <a:tab algn="l" pos="7715160"/>
              </a:tabLst>
            </a:pPr>
            <a:endParaRPr b="0" lang="en-US" sz="1800" spc="-1" strike="noStrike">
              <a:solidFill>
                <a:srgbClr val="000000"/>
              </a:solidFill>
              <a:latin typeface="等线 Light"/>
            </a:endParaRPr>
          </a:p>
        </p:txBody>
      </p:sp>
      <p:sp>
        <p:nvSpPr>
          <p:cNvPr id="68" name="PlaceHolder 2"/>
          <p:cNvSpPr>
            <a:spLocks noGrp="1"/>
          </p:cNvSpPr>
          <p:nvPr>
            <p:ph/>
          </p:nvPr>
        </p:nvSpPr>
        <p:spPr>
          <a:xfrm>
            <a:off x="393840" y="2433600"/>
            <a:ext cx="4929120" cy="2767680"/>
          </a:xfrm>
          <a:prstGeom prst="rect">
            <a:avLst/>
          </a:prstGeom>
          <a:noFill/>
          <a:ln w="0">
            <a:noFill/>
          </a:ln>
        </p:spPr>
        <p:txBody>
          <a:bodyPr lIns="90000" rIns="90000" tIns="46800" bIns="46800" anchor="t">
            <a:normAutofit/>
          </a:bodyPr>
          <a:p>
            <a:pPr indent="0">
              <a:lnSpc>
                <a:spcPct val="90000"/>
              </a:lnSpc>
              <a:spcBef>
                <a:spcPts val="425"/>
              </a:spcBef>
              <a:buNone/>
              <a:tabLst>
                <a:tab algn="l" pos="385920"/>
                <a:tab algn="l" pos="771480"/>
                <a:tab algn="l" pos="1157400"/>
                <a:tab algn="l" pos="1542960"/>
                <a:tab algn="l" pos="1928880"/>
                <a:tab algn="l" pos="2314440"/>
                <a:tab algn="l" pos="2700360"/>
                <a:tab algn="l" pos="3086280"/>
                <a:tab algn="l" pos="3471840"/>
                <a:tab algn="l" pos="3857760"/>
                <a:tab algn="l" pos="4243320"/>
                <a:tab algn="l" pos="4629240"/>
                <a:tab algn="l" pos="5014800"/>
                <a:tab algn="l" pos="5400720"/>
                <a:tab algn="l" pos="5786280"/>
                <a:tab algn="l" pos="6172200"/>
                <a:tab algn="l" pos="6558120"/>
                <a:tab algn="l" pos="6943680"/>
                <a:tab algn="l" pos="7329600"/>
                <a:tab algn="l" pos="7715160"/>
              </a:tabLst>
            </a:pPr>
            <a:endParaRPr b="0" lang="en-US" sz="1100" spc="-1" strike="noStrike">
              <a:solidFill>
                <a:srgbClr val="000000"/>
              </a:solidFill>
              <a:latin typeface="等线"/>
            </a:endParaRPr>
          </a:p>
        </p:txBody>
      </p:sp>
      <p:sp>
        <p:nvSpPr>
          <p:cNvPr id="69" name="PlaceHolder 3"/>
          <p:cNvSpPr>
            <a:spLocks noGrp="1"/>
          </p:cNvSpPr>
          <p:nvPr>
            <p:ph/>
          </p:nvPr>
        </p:nvSpPr>
        <p:spPr>
          <a:xfrm>
            <a:off x="393840" y="5464440"/>
            <a:ext cx="4929120" cy="2767680"/>
          </a:xfrm>
          <a:prstGeom prst="rect">
            <a:avLst/>
          </a:prstGeom>
          <a:noFill/>
          <a:ln w="0">
            <a:noFill/>
          </a:ln>
        </p:spPr>
        <p:txBody>
          <a:bodyPr lIns="90000" rIns="90000" tIns="46800" bIns="46800" anchor="t">
            <a:normAutofit/>
          </a:bodyPr>
          <a:p>
            <a:pPr indent="0">
              <a:lnSpc>
                <a:spcPct val="90000"/>
              </a:lnSpc>
              <a:spcBef>
                <a:spcPts val="425"/>
              </a:spcBef>
              <a:buNone/>
              <a:tabLst>
                <a:tab algn="l" pos="385920"/>
                <a:tab algn="l" pos="771480"/>
                <a:tab algn="l" pos="1157400"/>
                <a:tab algn="l" pos="1542960"/>
                <a:tab algn="l" pos="1928880"/>
                <a:tab algn="l" pos="2314440"/>
                <a:tab algn="l" pos="2700360"/>
                <a:tab algn="l" pos="3086280"/>
                <a:tab algn="l" pos="3471840"/>
                <a:tab algn="l" pos="3857760"/>
                <a:tab algn="l" pos="4243320"/>
                <a:tab algn="l" pos="4629240"/>
                <a:tab algn="l" pos="5014800"/>
                <a:tab algn="l" pos="5400720"/>
                <a:tab algn="l" pos="5786280"/>
                <a:tab algn="l" pos="6172200"/>
                <a:tab algn="l" pos="6558120"/>
                <a:tab algn="l" pos="6943680"/>
                <a:tab algn="l" pos="7329600"/>
                <a:tab algn="l" pos="7715160"/>
              </a:tabLst>
            </a:pPr>
            <a:endParaRPr b="0" lang="en-US" sz="1100" spc="-1" strike="noStrike">
              <a:solidFill>
                <a:srgbClr val="000000"/>
              </a:solidFill>
              <a:latin typeface="等线"/>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BF75E64-6F25-4D72-B70A-1FC2CB78DF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93840" y="487440"/>
            <a:ext cx="4929120" cy="1766880"/>
          </a:xfrm>
          <a:prstGeom prst="rect">
            <a:avLst/>
          </a:prstGeom>
          <a:noFill/>
          <a:ln w="0">
            <a:noFill/>
          </a:ln>
        </p:spPr>
        <p:txBody>
          <a:bodyPr lIns="90000" rIns="90000" tIns="46800" bIns="46800" anchor="ctr">
            <a:noAutofit/>
          </a:bodyPr>
          <a:p>
            <a:pPr indent="0">
              <a:lnSpc>
                <a:spcPct val="90000"/>
              </a:lnSpc>
              <a:buNone/>
              <a:tabLst>
                <a:tab algn="l" pos="0"/>
                <a:tab algn="l" pos="385920"/>
                <a:tab algn="l" pos="771480"/>
                <a:tab algn="l" pos="1157400"/>
                <a:tab algn="l" pos="1542960"/>
                <a:tab algn="l" pos="1928880"/>
                <a:tab algn="l" pos="2314440"/>
                <a:tab algn="l" pos="2700360"/>
                <a:tab algn="l" pos="3086280"/>
                <a:tab algn="l" pos="3471840"/>
                <a:tab algn="l" pos="3857760"/>
                <a:tab algn="l" pos="4243320"/>
                <a:tab algn="l" pos="4629240"/>
                <a:tab algn="l" pos="5014800"/>
                <a:tab algn="l" pos="5400720"/>
                <a:tab algn="l" pos="5786280"/>
                <a:tab algn="l" pos="6172200"/>
                <a:tab algn="l" pos="6558120"/>
                <a:tab algn="l" pos="6943680"/>
                <a:tab algn="l" pos="7329600"/>
                <a:tab algn="l" pos="7715160"/>
              </a:tabLst>
            </a:pPr>
            <a:endParaRPr b="0" lang="en-US" sz="1800" spc="-1" strike="noStrike">
              <a:solidFill>
                <a:srgbClr val="000000"/>
              </a:solidFill>
              <a:latin typeface="等线 Light"/>
            </a:endParaRPr>
          </a:p>
        </p:txBody>
      </p:sp>
      <p:sp>
        <p:nvSpPr>
          <p:cNvPr id="71" name="PlaceHolder 2"/>
          <p:cNvSpPr>
            <a:spLocks noGrp="1"/>
          </p:cNvSpPr>
          <p:nvPr>
            <p:ph/>
          </p:nvPr>
        </p:nvSpPr>
        <p:spPr>
          <a:xfrm>
            <a:off x="393840" y="2433600"/>
            <a:ext cx="2405160" cy="2767680"/>
          </a:xfrm>
          <a:prstGeom prst="rect">
            <a:avLst/>
          </a:prstGeom>
          <a:noFill/>
          <a:ln w="0">
            <a:noFill/>
          </a:ln>
        </p:spPr>
        <p:txBody>
          <a:bodyPr lIns="90000" rIns="90000" tIns="46800" bIns="46800" anchor="t">
            <a:normAutofit/>
          </a:bodyPr>
          <a:p>
            <a:pPr indent="0">
              <a:lnSpc>
                <a:spcPct val="90000"/>
              </a:lnSpc>
              <a:spcBef>
                <a:spcPts val="425"/>
              </a:spcBef>
              <a:buNone/>
              <a:tabLst>
                <a:tab algn="l" pos="385920"/>
                <a:tab algn="l" pos="771480"/>
                <a:tab algn="l" pos="1157400"/>
                <a:tab algn="l" pos="1542960"/>
                <a:tab algn="l" pos="1928880"/>
                <a:tab algn="l" pos="2314440"/>
                <a:tab algn="l" pos="2700360"/>
                <a:tab algn="l" pos="3086280"/>
                <a:tab algn="l" pos="3471840"/>
                <a:tab algn="l" pos="3857760"/>
                <a:tab algn="l" pos="4243320"/>
                <a:tab algn="l" pos="4629240"/>
                <a:tab algn="l" pos="5014800"/>
                <a:tab algn="l" pos="5400720"/>
                <a:tab algn="l" pos="5786280"/>
                <a:tab algn="l" pos="6172200"/>
                <a:tab algn="l" pos="6558120"/>
                <a:tab algn="l" pos="6943680"/>
                <a:tab algn="l" pos="7329600"/>
                <a:tab algn="l" pos="7715160"/>
              </a:tabLst>
            </a:pPr>
            <a:endParaRPr b="0" lang="en-US" sz="1100" spc="-1" strike="noStrike">
              <a:solidFill>
                <a:srgbClr val="000000"/>
              </a:solidFill>
              <a:latin typeface="等线"/>
            </a:endParaRPr>
          </a:p>
        </p:txBody>
      </p:sp>
      <p:sp>
        <p:nvSpPr>
          <p:cNvPr id="72" name="PlaceHolder 3"/>
          <p:cNvSpPr>
            <a:spLocks noGrp="1"/>
          </p:cNvSpPr>
          <p:nvPr>
            <p:ph/>
          </p:nvPr>
        </p:nvSpPr>
        <p:spPr>
          <a:xfrm>
            <a:off x="2919600" y="2433600"/>
            <a:ext cx="2405160" cy="2767680"/>
          </a:xfrm>
          <a:prstGeom prst="rect">
            <a:avLst/>
          </a:prstGeom>
          <a:noFill/>
          <a:ln w="0">
            <a:noFill/>
          </a:ln>
        </p:spPr>
        <p:txBody>
          <a:bodyPr lIns="90000" rIns="90000" tIns="46800" bIns="46800" anchor="t">
            <a:normAutofit/>
          </a:bodyPr>
          <a:p>
            <a:pPr indent="0">
              <a:lnSpc>
                <a:spcPct val="90000"/>
              </a:lnSpc>
              <a:spcBef>
                <a:spcPts val="425"/>
              </a:spcBef>
              <a:buNone/>
              <a:tabLst>
                <a:tab algn="l" pos="385920"/>
                <a:tab algn="l" pos="771480"/>
                <a:tab algn="l" pos="1157400"/>
                <a:tab algn="l" pos="1542960"/>
                <a:tab algn="l" pos="1928880"/>
                <a:tab algn="l" pos="2314440"/>
                <a:tab algn="l" pos="2700360"/>
                <a:tab algn="l" pos="3086280"/>
                <a:tab algn="l" pos="3471840"/>
                <a:tab algn="l" pos="3857760"/>
                <a:tab algn="l" pos="4243320"/>
                <a:tab algn="l" pos="4629240"/>
                <a:tab algn="l" pos="5014800"/>
                <a:tab algn="l" pos="5400720"/>
                <a:tab algn="l" pos="5786280"/>
                <a:tab algn="l" pos="6172200"/>
                <a:tab algn="l" pos="6558120"/>
                <a:tab algn="l" pos="6943680"/>
                <a:tab algn="l" pos="7329600"/>
                <a:tab algn="l" pos="7715160"/>
              </a:tabLst>
            </a:pPr>
            <a:endParaRPr b="0" lang="en-US" sz="1100" spc="-1" strike="noStrike">
              <a:solidFill>
                <a:srgbClr val="000000"/>
              </a:solidFill>
              <a:latin typeface="等线"/>
            </a:endParaRPr>
          </a:p>
        </p:txBody>
      </p:sp>
      <p:sp>
        <p:nvSpPr>
          <p:cNvPr id="73" name="PlaceHolder 4"/>
          <p:cNvSpPr>
            <a:spLocks noGrp="1"/>
          </p:cNvSpPr>
          <p:nvPr>
            <p:ph/>
          </p:nvPr>
        </p:nvSpPr>
        <p:spPr>
          <a:xfrm>
            <a:off x="393840" y="5464440"/>
            <a:ext cx="2405160" cy="2767680"/>
          </a:xfrm>
          <a:prstGeom prst="rect">
            <a:avLst/>
          </a:prstGeom>
          <a:noFill/>
          <a:ln w="0">
            <a:noFill/>
          </a:ln>
        </p:spPr>
        <p:txBody>
          <a:bodyPr lIns="90000" rIns="90000" tIns="46800" bIns="46800" anchor="t">
            <a:normAutofit/>
          </a:bodyPr>
          <a:p>
            <a:pPr indent="0">
              <a:lnSpc>
                <a:spcPct val="90000"/>
              </a:lnSpc>
              <a:spcBef>
                <a:spcPts val="425"/>
              </a:spcBef>
              <a:buNone/>
              <a:tabLst>
                <a:tab algn="l" pos="385920"/>
                <a:tab algn="l" pos="771480"/>
                <a:tab algn="l" pos="1157400"/>
                <a:tab algn="l" pos="1542960"/>
                <a:tab algn="l" pos="1928880"/>
                <a:tab algn="l" pos="2314440"/>
                <a:tab algn="l" pos="2700360"/>
                <a:tab algn="l" pos="3086280"/>
                <a:tab algn="l" pos="3471840"/>
                <a:tab algn="l" pos="3857760"/>
                <a:tab algn="l" pos="4243320"/>
                <a:tab algn="l" pos="4629240"/>
                <a:tab algn="l" pos="5014800"/>
                <a:tab algn="l" pos="5400720"/>
                <a:tab algn="l" pos="5786280"/>
                <a:tab algn="l" pos="6172200"/>
                <a:tab algn="l" pos="6558120"/>
                <a:tab algn="l" pos="6943680"/>
                <a:tab algn="l" pos="7329600"/>
                <a:tab algn="l" pos="7715160"/>
              </a:tabLst>
            </a:pPr>
            <a:endParaRPr b="0" lang="en-US" sz="1100" spc="-1" strike="noStrike">
              <a:solidFill>
                <a:srgbClr val="000000"/>
              </a:solidFill>
              <a:latin typeface="等线"/>
            </a:endParaRPr>
          </a:p>
        </p:txBody>
      </p:sp>
      <p:sp>
        <p:nvSpPr>
          <p:cNvPr id="74" name="PlaceHolder 5"/>
          <p:cNvSpPr>
            <a:spLocks noGrp="1"/>
          </p:cNvSpPr>
          <p:nvPr>
            <p:ph/>
          </p:nvPr>
        </p:nvSpPr>
        <p:spPr>
          <a:xfrm>
            <a:off x="2919600" y="5464440"/>
            <a:ext cx="2405160" cy="2767680"/>
          </a:xfrm>
          <a:prstGeom prst="rect">
            <a:avLst/>
          </a:prstGeom>
          <a:noFill/>
          <a:ln w="0">
            <a:noFill/>
          </a:ln>
        </p:spPr>
        <p:txBody>
          <a:bodyPr lIns="90000" rIns="90000" tIns="46800" bIns="46800" anchor="t">
            <a:normAutofit/>
          </a:bodyPr>
          <a:p>
            <a:pPr indent="0">
              <a:lnSpc>
                <a:spcPct val="90000"/>
              </a:lnSpc>
              <a:spcBef>
                <a:spcPts val="425"/>
              </a:spcBef>
              <a:buNone/>
              <a:tabLst>
                <a:tab algn="l" pos="385920"/>
                <a:tab algn="l" pos="771480"/>
                <a:tab algn="l" pos="1157400"/>
                <a:tab algn="l" pos="1542960"/>
                <a:tab algn="l" pos="1928880"/>
                <a:tab algn="l" pos="2314440"/>
                <a:tab algn="l" pos="2700360"/>
                <a:tab algn="l" pos="3086280"/>
                <a:tab algn="l" pos="3471840"/>
                <a:tab algn="l" pos="3857760"/>
                <a:tab algn="l" pos="4243320"/>
                <a:tab algn="l" pos="4629240"/>
                <a:tab algn="l" pos="5014800"/>
                <a:tab algn="l" pos="5400720"/>
                <a:tab algn="l" pos="5786280"/>
                <a:tab algn="l" pos="6172200"/>
                <a:tab algn="l" pos="6558120"/>
                <a:tab algn="l" pos="6943680"/>
                <a:tab algn="l" pos="7329600"/>
                <a:tab algn="l" pos="7715160"/>
              </a:tabLst>
            </a:pPr>
            <a:endParaRPr b="0" lang="en-US" sz="1100" spc="-1" strike="noStrike">
              <a:solidFill>
                <a:srgbClr val="000000"/>
              </a:solidFill>
              <a:latin typeface="等线"/>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A167969-1484-4006-97E0-17614016485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93840" y="487440"/>
            <a:ext cx="4929120" cy="1766880"/>
          </a:xfrm>
          <a:prstGeom prst="rect">
            <a:avLst/>
          </a:prstGeom>
          <a:noFill/>
          <a:ln w="0">
            <a:noFill/>
          </a:ln>
        </p:spPr>
        <p:txBody>
          <a:bodyPr lIns="90000" rIns="90000" tIns="46800" bIns="46800" anchor="ctr">
            <a:noAutofit/>
          </a:bodyPr>
          <a:p>
            <a:pPr indent="0">
              <a:lnSpc>
                <a:spcPct val="90000"/>
              </a:lnSpc>
              <a:buNone/>
              <a:tabLst>
                <a:tab algn="l" pos="0"/>
                <a:tab algn="l" pos="385920"/>
                <a:tab algn="l" pos="771480"/>
                <a:tab algn="l" pos="1157400"/>
                <a:tab algn="l" pos="1542960"/>
                <a:tab algn="l" pos="1928880"/>
                <a:tab algn="l" pos="2314440"/>
                <a:tab algn="l" pos="2700360"/>
                <a:tab algn="l" pos="3086280"/>
                <a:tab algn="l" pos="3471840"/>
                <a:tab algn="l" pos="3857760"/>
                <a:tab algn="l" pos="4243320"/>
                <a:tab algn="l" pos="4629240"/>
                <a:tab algn="l" pos="5014800"/>
                <a:tab algn="l" pos="5400720"/>
                <a:tab algn="l" pos="5786280"/>
                <a:tab algn="l" pos="6172200"/>
                <a:tab algn="l" pos="6558120"/>
                <a:tab algn="l" pos="6943680"/>
                <a:tab algn="l" pos="7329600"/>
                <a:tab algn="l" pos="7715160"/>
              </a:tabLst>
            </a:pPr>
            <a:endParaRPr b="0" lang="en-US" sz="1800" spc="-1" strike="noStrike">
              <a:solidFill>
                <a:srgbClr val="000000"/>
              </a:solidFill>
              <a:latin typeface="等线 Light"/>
            </a:endParaRPr>
          </a:p>
        </p:txBody>
      </p:sp>
      <p:sp>
        <p:nvSpPr>
          <p:cNvPr id="76" name="PlaceHolder 2"/>
          <p:cNvSpPr>
            <a:spLocks noGrp="1"/>
          </p:cNvSpPr>
          <p:nvPr>
            <p:ph/>
          </p:nvPr>
        </p:nvSpPr>
        <p:spPr>
          <a:xfrm>
            <a:off x="393840" y="2433600"/>
            <a:ext cx="1586880" cy="2767680"/>
          </a:xfrm>
          <a:prstGeom prst="rect">
            <a:avLst/>
          </a:prstGeom>
          <a:noFill/>
          <a:ln w="0">
            <a:noFill/>
          </a:ln>
        </p:spPr>
        <p:txBody>
          <a:bodyPr lIns="90000" rIns="90000" tIns="46800" bIns="46800" anchor="t">
            <a:normAutofit/>
          </a:bodyPr>
          <a:p>
            <a:pPr indent="0">
              <a:lnSpc>
                <a:spcPct val="90000"/>
              </a:lnSpc>
              <a:spcBef>
                <a:spcPts val="425"/>
              </a:spcBef>
              <a:buNone/>
              <a:tabLst>
                <a:tab algn="l" pos="385920"/>
                <a:tab algn="l" pos="771480"/>
                <a:tab algn="l" pos="1157400"/>
                <a:tab algn="l" pos="1542960"/>
                <a:tab algn="l" pos="1928880"/>
                <a:tab algn="l" pos="2314440"/>
                <a:tab algn="l" pos="2700360"/>
                <a:tab algn="l" pos="3086280"/>
                <a:tab algn="l" pos="3471840"/>
                <a:tab algn="l" pos="3857760"/>
                <a:tab algn="l" pos="4243320"/>
                <a:tab algn="l" pos="4629240"/>
                <a:tab algn="l" pos="5014800"/>
                <a:tab algn="l" pos="5400720"/>
                <a:tab algn="l" pos="5786280"/>
                <a:tab algn="l" pos="6172200"/>
                <a:tab algn="l" pos="6558120"/>
                <a:tab algn="l" pos="6943680"/>
                <a:tab algn="l" pos="7329600"/>
                <a:tab algn="l" pos="7715160"/>
              </a:tabLst>
            </a:pPr>
            <a:endParaRPr b="0" lang="en-US" sz="1100" spc="-1" strike="noStrike">
              <a:solidFill>
                <a:srgbClr val="000000"/>
              </a:solidFill>
              <a:latin typeface="等线"/>
            </a:endParaRPr>
          </a:p>
        </p:txBody>
      </p:sp>
      <p:sp>
        <p:nvSpPr>
          <p:cNvPr id="77" name="PlaceHolder 3"/>
          <p:cNvSpPr>
            <a:spLocks noGrp="1"/>
          </p:cNvSpPr>
          <p:nvPr>
            <p:ph/>
          </p:nvPr>
        </p:nvSpPr>
        <p:spPr>
          <a:xfrm>
            <a:off x="2060280" y="2433600"/>
            <a:ext cx="1586880" cy="2767680"/>
          </a:xfrm>
          <a:prstGeom prst="rect">
            <a:avLst/>
          </a:prstGeom>
          <a:noFill/>
          <a:ln w="0">
            <a:noFill/>
          </a:ln>
        </p:spPr>
        <p:txBody>
          <a:bodyPr lIns="90000" rIns="90000" tIns="46800" bIns="46800" anchor="t">
            <a:normAutofit/>
          </a:bodyPr>
          <a:p>
            <a:pPr indent="0">
              <a:lnSpc>
                <a:spcPct val="90000"/>
              </a:lnSpc>
              <a:spcBef>
                <a:spcPts val="425"/>
              </a:spcBef>
              <a:buNone/>
              <a:tabLst>
                <a:tab algn="l" pos="385920"/>
                <a:tab algn="l" pos="771480"/>
                <a:tab algn="l" pos="1157400"/>
                <a:tab algn="l" pos="1542960"/>
                <a:tab algn="l" pos="1928880"/>
                <a:tab algn="l" pos="2314440"/>
                <a:tab algn="l" pos="2700360"/>
                <a:tab algn="l" pos="3086280"/>
                <a:tab algn="l" pos="3471840"/>
                <a:tab algn="l" pos="3857760"/>
                <a:tab algn="l" pos="4243320"/>
                <a:tab algn="l" pos="4629240"/>
                <a:tab algn="l" pos="5014800"/>
                <a:tab algn="l" pos="5400720"/>
                <a:tab algn="l" pos="5786280"/>
                <a:tab algn="l" pos="6172200"/>
                <a:tab algn="l" pos="6558120"/>
                <a:tab algn="l" pos="6943680"/>
                <a:tab algn="l" pos="7329600"/>
                <a:tab algn="l" pos="7715160"/>
              </a:tabLst>
            </a:pPr>
            <a:endParaRPr b="0" lang="en-US" sz="1100" spc="-1" strike="noStrike">
              <a:solidFill>
                <a:srgbClr val="000000"/>
              </a:solidFill>
              <a:latin typeface="等线"/>
            </a:endParaRPr>
          </a:p>
        </p:txBody>
      </p:sp>
      <p:sp>
        <p:nvSpPr>
          <p:cNvPr id="78" name="PlaceHolder 4"/>
          <p:cNvSpPr>
            <a:spLocks noGrp="1"/>
          </p:cNvSpPr>
          <p:nvPr>
            <p:ph/>
          </p:nvPr>
        </p:nvSpPr>
        <p:spPr>
          <a:xfrm>
            <a:off x="3727080" y="2433600"/>
            <a:ext cx="1586880" cy="2767680"/>
          </a:xfrm>
          <a:prstGeom prst="rect">
            <a:avLst/>
          </a:prstGeom>
          <a:noFill/>
          <a:ln w="0">
            <a:noFill/>
          </a:ln>
        </p:spPr>
        <p:txBody>
          <a:bodyPr lIns="90000" rIns="90000" tIns="46800" bIns="46800" anchor="t">
            <a:normAutofit/>
          </a:bodyPr>
          <a:p>
            <a:pPr indent="0">
              <a:lnSpc>
                <a:spcPct val="90000"/>
              </a:lnSpc>
              <a:spcBef>
                <a:spcPts val="425"/>
              </a:spcBef>
              <a:buNone/>
              <a:tabLst>
                <a:tab algn="l" pos="385920"/>
                <a:tab algn="l" pos="771480"/>
                <a:tab algn="l" pos="1157400"/>
                <a:tab algn="l" pos="1542960"/>
                <a:tab algn="l" pos="1928880"/>
                <a:tab algn="l" pos="2314440"/>
                <a:tab algn="l" pos="2700360"/>
                <a:tab algn="l" pos="3086280"/>
                <a:tab algn="l" pos="3471840"/>
                <a:tab algn="l" pos="3857760"/>
                <a:tab algn="l" pos="4243320"/>
                <a:tab algn="l" pos="4629240"/>
                <a:tab algn="l" pos="5014800"/>
                <a:tab algn="l" pos="5400720"/>
                <a:tab algn="l" pos="5786280"/>
                <a:tab algn="l" pos="6172200"/>
                <a:tab algn="l" pos="6558120"/>
                <a:tab algn="l" pos="6943680"/>
                <a:tab algn="l" pos="7329600"/>
                <a:tab algn="l" pos="7715160"/>
              </a:tabLst>
            </a:pPr>
            <a:endParaRPr b="0" lang="en-US" sz="1100" spc="-1" strike="noStrike">
              <a:solidFill>
                <a:srgbClr val="000000"/>
              </a:solidFill>
              <a:latin typeface="等线"/>
            </a:endParaRPr>
          </a:p>
        </p:txBody>
      </p:sp>
      <p:sp>
        <p:nvSpPr>
          <p:cNvPr id="79" name="PlaceHolder 5"/>
          <p:cNvSpPr>
            <a:spLocks noGrp="1"/>
          </p:cNvSpPr>
          <p:nvPr>
            <p:ph/>
          </p:nvPr>
        </p:nvSpPr>
        <p:spPr>
          <a:xfrm>
            <a:off x="393840" y="5464440"/>
            <a:ext cx="1586880" cy="2767680"/>
          </a:xfrm>
          <a:prstGeom prst="rect">
            <a:avLst/>
          </a:prstGeom>
          <a:noFill/>
          <a:ln w="0">
            <a:noFill/>
          </a:ln>
        </p:spPr>
        <p:txBody>
          <a:bodyPr lIns="90000" rIns="90000" tIns="46800" bIns="46800" anchor="t">
            <a:normAutofit/>
          </a:bodyPr>
          <a:p>
            <a:pPr indent="0">
              <a:lnSpc>
                <a:spcPct val="90000"/>
              </a:lnSpc>
              <a:spcBef>
                <a:spcPts val="425"/>
              </a:spcBef>
              <a:buNone/>
              <a:tabLst>
                <a:tab algn="l" pos="385920"/>
                <a:tab algn="l" pos="771480"/>
                <a:tab algn="l" pos="1157400"/>
                <a:tab algn="l" pos="1542960"/>
                <a:tab algn="l" pos="1928880"/>
                <a:tab algn="l" pos="2314440"/>
                <a:tab algn="l" pos="2700360"/>
                <a:tab algn="l" pos="3086280"/>
                <a:tab algn="l" pos="3471840"/>
                <a:tab algn="l" pos="3857760"/>
                <a:tab algn="l" pos="4243320"/>
                <a:tab algn="l" pos="4629240"/>
                <a:tab algn="l" pos="5014800"/>
                <a:tab algn="l" pos="5400720"/>
                <a:tab algn="l" pos="5786280"/>
                <a:tab algn="l" pos="6172200"/>
                <a:tab algn="l" pos="6558120"/>
                <a:tab algn="l" pos="6943680"/>
                <a:tab algn="l" pos="7329600"/>
                <a:tab algn="l" pos="7715160"/>
              </a:tabLst>
            </a:pPr>
            <a:endParaRPr b="0" lang="en-US" sz="1100" spc="-1" strike="noStrike">
              <a:solidFill>
                <a:srgbClr val="000000"/>
              </a:solidFill>
              <a:latin typeface="等线"/>
            </a:endParaRPr>
          </a:p>
        </p:txBody>
      </p:sp>
      <p:sp>
        <p:nvSpPr>
          <p:cNvPr id="80" name="PlaceHolder 6"/>
          <p:cNvSpPr>
            <a:spLocks noGrp="1"/>
          </p:cNvSpPr>
          <p:nvPr>
            <p:ph/>
          </p:nvPr>
        </p:nvSpPr>
        <p:spPr>
          <a:xfrm>
            <a:off x="2060280" y="5464440"/>
            <a:ext cx="1586880" cy="2767680"/>
          </a:xfrm>
          <a:prstGeom prst="rect">
            <a:avLst/>
          </a:prstGeom>
          <a:noFill/>
          <a:ln w="0">
            <a:noFill/>
          </a:ln>
        </p:spPr>
        <p:txBody>
          <a:bodyPr lIns="90000" rIns="90000" tIns="46800" bIns="46800" anchor="t">
            <a:normAutofit/>
          </a:bodyPr>
          <a:p>
            <a:pPr indent="0">
              <a:lnSpc>
                <a:spcPct val="90000"/>
              </a:lnSpc>
              <a:spcBef>
                <a:spcPts val="425"/>
              </a:spcBef>
              <a:buNone/>
              <a:tabLst>
                <a:tab algn="l" pos="385920"/>
                <a:tab algn="l" pos="771480"/>
                <a:tab algn="l" pos="1157400"/>
                <a:tab algn="l" pos="1542960"/>
                <a:tab algn="l" pos="1928880"/>
                <a:tab algn="l" pos="2314440"/>
                <a:tab algn="l" pos="2700360"/>
                <a:tab algn="l" pos="3086280"/>
                <a:tab algn="l" pos="3471840"/>
                <a:tab algn="l" pos="3857760"/>
                <a:tab algn="l" pos="4243320"/>
                <a:tab algn="l" pos="4629240"/>
                <a:tab algn="l" pos="5014800"/>
                <a:tab algn="l" pos="5400720"/>
                <a:tab algn="l" pos="5786280"/>
                <a:tab algn="l" pos="6172200"/>
                <a:tab algn="l" pos="6558120"/>
                <a:tab algn="l" pos="6943680"/>
                <a:tab algn="l" pos="7329600"/>
                <a:tab algn="l" pos="7715160"/>
              </a:tabLst>
            </a:pPr>
            <a:endParaRPr b="0" lang="en-US" sz="1100" spc="-1" strike="noStrike">
              <a:solidFill>
                <a:srgbClr val="000000"/>
              </a:solidFill>
              <a:latin typeface="等线"/>
            </a:endParaRPr>
          </a:p>
        </p:txBody>
      </p:sp>
      <p:sp>
        <p:nvSpPr>
          <p:cNvPr id="81" name="PlaceHolder 7"/>
          <p:cNvSpPr>
            <a:spLocks noGrp="1"/>
          </p:cNvSpPr>
          <p:nvPr>
            <p:ph/>
          </p:nvPr>
        </p:nvSpPr>
        <p:spPr>
          <a:xfrm>
            <a:off x="3727080" y="5464440"/>
            <a:ext cx="1586880" cy="2767680"/>
          </a:xfrm>
          <a:prstGeom prst="rect">
            <a:avLst/>
          </a:prstGeom>
          <a:noFill/>
          <a:ln w="0">
            <a:noFill/>
          </a:ln>
        </p:spPr>
        <p:txBody>
          <a:bodyPr lIns="90000" rIns="90000" tIns="46800" bIns="46800" anchor="t">
            <a:normAutofit/>
          </a:bodyPr>
          <a:p>
            <a:pPr indent="0">
              <a:lnSpc>
                <a:spcPct val="90000"/>
              </a:lnSpc>
              <a:spcBef>
                <a:spcPts val="425"/>
              </a:spcBef>
              <a:buNone/>
              <a:tabLst>
                <a:tab algn="l" pos="385920"/>
                <a:tab algn="l" pos="771480"/>
                <a:tab algn="l" pos="1157400"/>
                <a:tab algn="l" pos="1542960"/>
                <a:tab algn="l" pos="1928880"/>
                <a:tab algn="l" pos="2314440"/>
                <a:tab algn="l" pos="2700360"/>
                <a:tab algn="l" pos="3086280"/>
                <a:tab algn="l" pos="3471840"/>
                <a:tab algn="l" pos="3857760"/>
                <a:tab algn="l" pos="4243320"/>
                <a:tab algn="l" pos="4629240"/>
                <a:tab algn="l" pos="5014800"/>
                <a:tab algn="l" pos="5400720"/>
                <a:tab algn="l" pos="5786280"/>
                <a:tab algn="l" pos="6172200"/>
                <a:tab algn="l" pos="6558120"/>
                <a:tab algn="l" pos="6943680"/>
                <a:tab algn="l" pos="7329600"/>
                <a:tab algn="l" pos="7715160"/>
              </a:tabLst>
            </a:pPr>
            <a:endParaRPr b="0" lang="en-US" sz="1100" spc="-1" strike="noStrike">
              <a:solidFill>
                <a:srgbClr val="000000"/>
              </a:solidFill>
              <a:latin typeface="等线"/>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2725D39-1BDD-4AB1-BCB8-8223B72A3DD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93840" y="487440"/>
            <a:ext cx="4929120" cy="1766880"/>
          </a:xfrm>
          <a:prstGeom prst="rect">
            <a:avLst/>
          </a:prstGeom>
          <a:noFill/>
          <a:ln w="0">
            <a:noFill/>
          </a:ln>
        </p:spPr>
        <p:txBody>
          <a:bodyPr lIns="90000" rIns="90000" tIns="46800" bIns="46800" anchor="ctr">
            <a:noAutofit/>
          </a:bodyPr>
          <a:p>
            <a:pPr indent="0">
              <a:lnSpc>
                <a:spcPct val="90000"/>
              </a:lnSpc>
              <a:buNone/>
              <a:tabLst>
                <a:tab algn="l" pos="0"/>
                <a:tab algn="l" pos="385920"/>
                <a:tab algn="l" pos="771480"/>
                <a:tab algn="l" pos="1157400"/>
                <a:tab algn="l" pos="1542960"/>
                <a:tab algn="l" pos="1928880"/>
                <a:tab algn="l" pos="2314440"/>
                <a:tab algn="l" pos="2700360"/>
                <a:tab algn="l" pos="3086280"/>
                <a:tab algn="l" pos="3471840"/>
                <a:tab algn="l" pos="3857760"/>
                <a:tab algn="l" pos="4243320"/>
                <a:tab algn="l" pos="4629240"/>
                <a:tab algn="l" pos="5014800"/>
                <a:tab algn="l" pos="5400720"/>
                <a:tab algn="l" pos="5786280"/>
                <a:tab algn="l" pos="6172200"/>
                <a:tab algn="l" pos="6558120"/>
                <a:tab algn="l" pos="6943680"/>
                <a:tab algn="l" pos="7329600"/>
                <a:tab algn="l" pos="7715160"/>
              </a:tabLst>
            </a:pPr>
            <a:endParaRPr b="0" lang="en-US" sz="1800" spc="-1" strike="noStrike">
              <a:solidFill>
                <a:srgbClr val="000000"/>
              </a:solidFill>
              <a:latin typeface="等线 Light"/>
            </a:endParaRPr>
          </a:p>
        </p:txBody>
      </p:sp>
      <p:sp>
        <p:nvSpPr>
          <p:cNvPr id="8" name="PlaceHolder 2"/>
          <p:cNvSpPr>
            <a:spLocks noGrp="1"/>
          </p:cNvSpPr>
          <p:nvPr>
            <p:ph/>
          </p:nvPr>
        </p:nvSpPr>
        <p:spPr>
          <a:xfrm>
            <a:off x="393840" y="2433600"/>
            <a:ext cx="4929120" cy="5802480"/>
          </a:xfrm>
          <a:prstGeom prst="rect">
            <a:avLst/>
          </a:prstGeom>
          <a:noFill/>
          <a:ln w="0">
            <a:noFill/>
          </a:ln>
        </p:spPr>
        <p:txBody>
          <a:bodyPr lIns="90000" rIns="90000" tIns="46800" bIns="46800" anchor="t">
            <a:normAutofit/>
          </a:bodyPr>
          <a:p>
            <a:pPr indent="0">
              <a:lnSpc>
                <a:spcPct val="90000"/>
              </a:lnSpc>
              <a:spcBef>
                <a:spcPts val="425"/>
              </a:spcBef>
              <a:buNone/>
              <a:tabLst>
                <a:tab algn="l" pos="385920"/>
                <a:tab algn="l" pos="771480"/>
                <a:tab algn="l" pos="1157400"/>
                <a:tab algn="l" pos="1542960"/>
                <a:tab algn="l" pos="1928880"/>
                <a:tab algn="l" pos="2314440"/>
                <a:tab algn="l" pos="2700360"/>
                <a:tab algn="l" pos="3086280"/>
                <a:tab algn="l" pos="3471840"/>
                <a:tab algn="l" pos="3857760"/>
                <a:tab algn="l" pos="4243320"/>
                <a:tab algn="l" pos="4629240"/>
                <a:tab algn="l" pos="5014800"/>
                <a:tab algn="l" pos="5400720"/>
                <a:tab algn="l" pos="5786280"/>
                <a:tab algn="l" pos="6172200"/>
                <a:tab algn="l" pos="6558120"/>
                <a:tab algn="l" pos="6943680"/>
                <a:tab algn="l" pos="7329600"/>
                <a:tab algn="l" pos="7715160"/>
              </a:tabLst>
            </a:pPr>
            <a:endParaRPr b="0" lang="en-US" sz="1100" spc="-1" strike="noStrike">
              <a:solidFill>
                <a:srgbClr val="000000"/>
              </a:solidFill>
              <a:latin typeface="等线"/>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0B0AD2-A410-416C-9B73-298C899401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93840" y="487440"/>
            <a:ext cx="4929120" cy="1766880"/>
          </a:xfrm>
          <a:prstGeom prst="rect">
            <a:avLst/>
          </a:prstGeom>
          <a:noFill/>
          <a:ln w="0">
            <a:noFill/>
          </a:ln>
        </p:spPr>
        <p:txBody>
          <a:bodyPr lIns="90000" rIns="90000" tIns="46800" bIns="46800" anchor="ctr">
            <a:noAutofit/>
          </a:bodyPr>
          <a:p>
            <a:pPr indent="0">
              <a:lnSpc>
                <a:spcPct val="90000"/>
              </a:lnSpc>
              <a:buNone/>
              <a:tabLst>
                <a:tab algn="l" pos="0"/>
                <a:tab algn="l" pos="385920"/>
                <a:tab algn="l" pos="771480"/>
                <a:tab algn="l" pos="1157400"/>
                <a:tab algn="l" pos="1542960"/>
                <a:tab algn="l" pos="1928880"/>
                <a:tab algn="l" pos="2314440"/>
                <a:tab algn="l" pos="2700360"/>
                <a:tab algn="l" pos="3086280"/>
                <a:tab algn="l" pos="3471840"/>
                <a:tab algn="l" pos="3857760"/>
                <a:tab algn="l" pos="4243320"/>
                <a:tab algn="l" pos="4629240"/>
                <a:tab algn="l" pos="5014800"/>
                <a:tab algn="l" pos="5400720"/>
                <a:tab algn="l" pos="5786280"/>
                <a:tab algn="l" pos="6172200"/>
                <a:tab algn="l" pos="6558120"/>
                <a:tab algn="l" pos="6943680"/>
                <a:tab algn="l" pos="7329600"/>
                <a:tab algn="l" pos="7715160"/>
              </a:tabLst>
            </a:pPr>
            <a:endParaRPr b="0" lang="en-US" sz="1800" spc="-1" strike="noStrike">
              <a:solidFill>
                <a:srgbClr val="000000"/>
              </a:solidFill>
              <a:latin typeface="等线 Light"/>
            </a:endParaRPr>
          </a:p>
        </p:txBody>
      </p:sp>
      <p:sp>
        <p:nvSpPr>
          <p:cNvPr id="10" name="PlaceHolder 2"/>
          <p:cNvSpPr>
            <a:spLocks noGrp="1"/>
          </p:cNvSpPr>
          <p:nvPr>
            <p:ph/>
          </p:nvPr>
        </p:nvSpPr>
        <p:spPr>
          <a:xfrm>
            <a:off x="393840" y="2433600"/>
            <a:ext cx="2405160" cy="5802480"/>
          </a:xfrm>
          <a:prstGeom prst="rect">
            <a:avLst/>
          </a:prstGeom>
          <a:noFill/>
          <a:ln w="0">
            <a:noFill/>
          </a:ln>
        </p:spPr>
        <p:txBody>
          <a:bodyPr lIns="90000" rIns="90000" tIns="46800" bIns="46800" anchor="t">
            <a:normAutofit/>
          </a:bodyPr>
          <a:p>
            <a:pPr indent="0">
              <a:lnSpc>
                <a:spcPct val="90000"/>
              </a:lnSpc>
              <a:spcBef>
                <a:spcPts val="425"/>
              </a:spcBef>
              <a:buNone/>
              <a:tabLst>
                <a:tab algn="l" pos="385920"/>
                <a:tab algn="l" pos="771480"/>
                <a:tab algn="l" pos="1157400"/>
                <a:tab algn="l" pos="1542960"/>
                <a:tab algn="l" pos="1928880"/>
                <a:tab algn="l" pos="2314440"/>
                <a:tab algn="l" pos="2700360"/>
                <a:tab algn="l" pos="3086280"/>
                <a:tab algn="l" pos="3471840"/>
                <a:tab algn="l" pos="3857760"/>
                <a:tab algn="l" pos="4243320"/>
                <a:tab algn="l" pos="4629240"/>
                <a:tab algn="l" pos="5014800"/>
                <a:tab algn="l" pos="5400720"/>
                <a:tab algn="l" pos="5786280"/>
                <a:tab algn="l" pos="6172200"/>
                <a:tab algn="l" pos="6558120"/>
                <a:tab algn="l" pos="6943680"/>
                <a:tab algn="l" pos="7329600"/>
                <a:tab algn="l" pos="7715160"/>
              </a:tabLst>
            </a:pPr>
            <a:endParaRPr b="0" lang="en-US" sz="1100" spc="-1" strike="noStrike">
              <a:solidFill>
                <a:srgbClr val="000000"/>
              </a:solidFill>
              <a:latin typeface="等线"/>
            </a:endParaRPr>
          </a:p>
        </p:txBody>
      </p:sp>
      <p:sp>
        <p:nvSpPr>
          <p:cNvPr id="11" name="PlaceHolder 3"/>
          <p:cNvSpPr>
            <a:spLocks noGrp="1"/>
          </p:cNvSpPr>
          <p:nvPr>
            <p:ph/>
          </p:nvPr>
        </p:nvSpPr>
        <p:spPr>
          <a:xfrm>
            <a:off x="2919600" y="2433600"/>
            <a:ext cx="2405160" cy="5802480"/>
          </a:xfrm>
          <a:prstGeom prst="rect">
            <a:avLst/>
          </a:prstGeom>
          <a:noFill/>
          <a:ln w="0">
            <a:noFill/>
          </a:ln>
        </p:spPr>
        <p:txBody>
          <a:bodyPr lIns="90000" rIns="90000" tIns="46800" bIns="46800" anchor="t">
            <a:normAutofit/>
          </a:bodyPr>
          <a:p>
            <a:pPr indent="0">
              <a:lnSpc>
                <a:spcPct val="90000"/>
              </a:lnSpc>
              <a:spcBef>
                <a:spcPts val="425"/>
              </a:spcBef>
              <a:buNone/>
              <a:tabLst>
                <a:tab algn="l" pos="385920"/>
                <a:tab algn="l" pos="771480"/>
                <a:tab algn="l" pos="1157400"/>
                <a:tab algn="l" pos="1542960"/>
                <a:tab algn="l" pos="1928880"/>
                <a:tab algn="l" pos="2314440"/>
                <a:tab algn="l" pos="2700360"/>
                <a:tab algn="l" pos="3086280"/>
                <a:tab algn="l" pos="3471840"/>
                <a:tab algn="l" pos="3857760"/>
                <a:tab algn="l" pos="4243320"/>
                <a:tab algn="l" pos="4629240"/>
                <a:tab algn="l" pos="5014800"/>
                <a:tab algn="l" pos="5400720"/>
                <a:tab algn="l" pos="5786280"/>
                <a:tab algn="l" pos="6172200"/>
                <a:tab algn="l" pos="6558120"/>
                <a:tab algn="l" pos="6943680"/>
                <a:tab algn="l" pos="7329600"/>
                <a:tab algn="l" pos="7715160"/>
              </a:tabLst>
            </a:pPr>
            <a:endParaRPr b="0" lang="en-US" sz="1100" spc="-1" strike="noStrike">
              <a:solidFill>
                <a:srgbClr val="000000"/>
              </a:solidFill>
              <a:latin typeface="等线"/>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422002-3C12-4871-B24E-7BE00C0BCB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93840" y="487440"/>
            <a:ext cx="4929120" cy="1766880"/>
          </a:xfrm>
          <a:prstGeom prst="rect">
            <a:avLst/>
          </a:prstGeom>
          <a:noFill/>
          <a:ln w="0">
            <a:noFill/>
          </a:ln>
        </p:spPr>
        <p:txBody>
          <a:bodyPr lIns="90000" rIns="90000" tIns="46800" bIns="46800" anchor="ctr">
            <a:noAutofit/>
          </a:bodyPr>
          <a:p>
            <a:pPr indent="0">
              <a:lnSpc>
                <a:spcPct val="90000"/>
              </a:lnSpc>
              <a:buNone/>
              <a:tabLst>
                <a:tab algn="l" pos="0"/>
                <a:tab algn="l" pos="385920"/>
                <a:tab algn="l" pos="771480"/>
                <a:tab algn="l" pos="1157400"/>
                <a:tab algn="l" pos="1542960"/>
                <a:tab algn="l" pos="1928880"/>
                <a:tab algn="l" pos="2314440"/>
                <a:tab algn="l" pos="2700360"/>
                <a:tab algn="l" pos="3086280"/>
                <a:tab algn="l" pos="3471840"/>
                <a:tab algn="l" pos="3857760"/>
                <a:tab algn="l" pos="4243320"/>
                <a:tab algn="l" pos="4629240"/>
                <a:tab algn="l" pos="5014800"/>
                <a:tab algn="l" pos="5400720"/>
                <a:tab algn="l" pos="5786280"/>
                <a:tab algn="l" pos="6172200"/>
                <a:tab algn="l" pos="6558120"/>
                <a:tab algn="l" pos="6943680"/>
                <a:tab algn="l" pos="7329600"/>
                <a:tab algn="l" pos="7715160"/>
              </a:tabLst>
            </a:pPr>
            <a:endParaRPr b="0" lang="en-US" sz="1800" spc="-1" strike="noStrike">
              <a:solidFill>
                <a:srgbClr val="000000"/>
              </a:solidFill>
              <a:latin typeface="等线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11A3AB-5DFF-4242-B38F-D57EB8A583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93840" y="487440"/>
            <a:ext cx="4929120" cy="8191440"/>
          </a:xfrm>
          <a:prstGeom prst="rect">
            <a:avLst/>
          </a:prstGeom>
          <a:noFill/>
          <a:ln w="0">
            <a:noFill/>
          </a:ln>
        </p:spPr>
        <p:txBody>
          <a:bodyPr lIns="0" rIns="0" tIns="0" bIns="0" anchor="ctr">
            <a:noAutofit/>
          </a:bodyPr>
          <a:p>
            <a:pPr algn="ctr">
              <a:lnSpc>
                <a:spcPct val="90000"/>
              </a:lnSpc>
              <a:spcBef>
                <a:spcPts val="425"/>
              </a:spcBef>
              <a:tabLst>
                <a:tab algn="l" pos="0"/>
                <a:tab algn="l" pos="385920"/>
                <a:tab algn="l" pos="771480"/>
                <a:tab algn="l" pos="1157400"/>
                <a:tab algn="l" pos="1542960"/>
                <a:tab algn="l" pos="1928880"/>
                <a:tab algn="l" pos="2314440"/>
                <a:tab algn="l" pos="2700360"/>
                <a:tab algn="l" pos="3086280"/>
                <a:tab algn="l" pos="3471840"/>
                <a:tab algn="l" pos="3857760"/>
                <a:tab algn="l" pos="4243320"/>
                <a:tab algn="l" pos="4629240"/>
                <a:tab algn="l" pos="5014800"/>
                <a:tab algn="l" pos="5400720"/>
                <a:tab algn="l" pos="5786280"/>
                <a:tab algn="l" pos="6172200"/>
                <a:tab algn="l" pos="6558120"/>
                <a:tab algn="l" pos="6943680"/>
                <a:tab algn="l" pos="7329600"/>
                <a:tab algn="l" pos="7715160"/>
              </a:tabLst>
            </a:pPr>
            <a:endParaRPr b="0" lang="en-US" sz="1100" spc="-1" strike="noStrike">
              <a:solidFill>
                <a:srgbClr val="000000"/>
              </a:solidFill>
              <a:latin typeface="等线"/>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0EB7B4-393C-4272-A97B-50CE33DFDA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93840" y="487440"/>
            <a:ext cx="4929120" cy="1766880"/>
          </a:xfrm>
          <a:prstGeom prst="rect">
            <a:avLst/>
          </a:prstGeom>
          <a:noFill/>
          <a:ln w="0">
            <a:noFill/>
          </a:ln>
        </p:spPr>
        <p:txBody>
          <a:bodyPr lIns="90000" rIns="90000" tIns="46800" bIns="46800" anchor="ctr">
            <a:noAutofit/>
          </a:bodyPr>
          <a:p>
            <a:pPr indent="0">
              <a:lnSpc>
                <a:spcPct val="90000"/>
              </a:lnSpc>
              <a:buNone/>
              <a:tabLst>
                <a:tab algn="l" pos="0"/>
                <a:tab algn="l" pos="385920"/>
                <a:tab algn="l" pos="771480"/>
                <a:tab algn="l" pos="1157400"/>
                <a:tab algn="l" pos="1542960"/>
                <a:tab algn="l" pos="1928880"/>
                <a:tab algn="l" pos="2314440"/>
                <a:tab algn="l" pos="2700360"/>
                <a:tab algn="l" pos="3086280"/>
                <a:tab algn="l" pos="3471840"/>
                <a:tab algn="l" pos="3857760"/>
                <a:tab algn="l" pos="4243320"/>
                <a:tab algn="l" pos="4629240"/>
                <a:tab algn="l" pos="5014800"/>
                <a:tab algn="l" pos="5400720"/>
                <a:tab algn="l" pos="5786280"/>
                <a:tab algn="l" pos="6172200"/>
                <a:tab algn="l" pos="6558120"/>
                <a:tab algn="l" pos="6943680"/>
                <a:tab algn="l" pos="7329600"/>
                <a:tab algn="l" pos="7715160"/>
              </a:tabLst>
            </a:pPr>
            <a:endParaRPr b="0" lang="en-US" sz="1800" spc="-1" strike="noStrike">
              <a:solidFill>
                <a:srgbClr val="000000"/>
              </a:solidFill>
              <a:latin typeface="等线 Light"/>
            </a:endParaRPr>
          </a:p>
        </p:txBody>
      </p:sp>
      <p:sp>
        <p:nvSpPr>
          <p:cNvPr id="15" name="PlaceHolder 2"/>
          <p:cNvSpPr>
            <a:spLocks noGrp="1"/>
          </p:cNvSpPr>
          <p:nvPr>
            <p:ph/>
          </p:nvPr>
        </p:nvSpPr>
        <p:spPr>
          <a:xfrm>
            <a:off x="393840" y="2433600"/>
            <a:ext cx="2405160" cy="2767680"/>
          </a:xfrm>
          <a:prstGeom prst="rect">
            <a:avLst/>
          </a:prstGeom>
          <a:noFill/>
          <a:ln w="0">
            <a:noFill/>
          </a:ln>
        </p:spPr>
        <p:txBody>
          <a:bodyPr lIns="90000" rIns="90000" tIns="46800" bIns="46800" anchor="t">
            <a:normAutofit/>
          </a:bodyPr>
          <a:p>
            <a:pPr indent="0">
              <a:lnSpc>
                <a:spcPct val="90000"/>
              </a:lnSpc>
              <a:spcBef>
                <a:spcPts val="425"/>
              </a:spcBef>
              <a:buNone/>
              <a:tabLst>
                <a:tab algn="l" pos="385920"/>
                <a:tab algn="l" pos="771480"/>
                <a:tab algn="l" pos="1157400"/>
                <a:tab algn="l" pos="1542960"/>
                <a:tab algn="l" pos="1928880"/>
                <a:tab algn="l" pos="2314440"/>
                <a:tab algn="l" pos="2700360"/>
                <a:tab algn="l" pos="3086280"/>
                <a:tab algn="l" pos="3471840"/>
                <a:tab algn="l" pos="3857760"/>
                <a:tab algn="l" pos="4243320"/>
                <a:tab algn="l" pos="4629240"/>
                <a:tab algn="l" pos="5014800"/>
                <a:tab algn="l" pos="5400720"/>
                <a:tab algn="l" pos="5786280"/>
                <a:tab algn="l" pos="6172200"/>
                <a:tab algn="l" pos="6558120"/>
                <a:tab algn="l" pos="6943680"/>
                <a:tab algn="l" pos="7329600"/>
                <a:tab algn="l" pos="7715160"/>
              </a:tabLst>
            </a:pPr>
            <a:endParaRPr b="0" lang="en-US" sz="1100" spc="-1" strike="noStrike">
              <a:solidFill>
                <a:srgbClr val="000000"/>
              </a:solidFill>
              <a:latin typeface="等线"/>
            </a:endParaRPr>
          </a:p>
        </p:txBody>
      </p:sp>
      <p:sp>
        <p:nvSpPr>
          <p:cNvPr id="16" name="PlaceHolder 3"/>
          <p:cNvSpPr>
            <a:spLocks noGrp="1"/>
          </p:cNvSpPr>
          <p:nvPr>
            <p:ph/>
          </p:nvPr>
        </p:nvSpPr>
        <p:spPr>
          <a:xfrm>
            <a:off x="2919600" y="2433600"/>
            <a:ext cx="2405160" cy="5802480"/>
          </a:xfrm>
          <a:prstGeom prst="rect">
            <a:avLst/>
          </a:prstGeom>
          <a:noFill/>
          <a:ln w="0">
            <a:noFill/>
          </a:ln>
        </p:spPr>
        <p:txBody>
          <a:bodyPr lIns="90000" rIns="90000" tIns="46800" bIns="46800" anchor="t">
            <a:normAutofit/>
          </a:bodyPr>
          <a:p>
            <a:pPr indent="0">
              <a:lnSpc>
                <a:spcPct val="90000"/>
              </a:lnSpc>
              <a:spcBef>
                <a:spcPts val="425"/>
              </a:spcBef>
              <a:buNone/>
              <a:tabLst>
                <a:tab algn="l" pos="385920"/>
                <a:tab algn="l" pos="771480"/>
                <a:tab algn="l" pos="1157400"/>
                <a:tab algn="l" pos="1542960"/>
                <a:tab algn="l" pos="1928880"/>
                <a:tab algn="l" pos="2314440"/>
                <a:tab algn="l" pos="2700360"/>
                <a:tab algn="l" pos="3086280"/>
                <a:tab algn="l" pos="3471840"/>
                <a:tab algn="l" pos="3857760"/>
                <a:tab algn="l" pos="4243320"/>
                <a:tab algn="l" pos="4629240"/>
                <a:tab algn="l" pos="5014800"/>
                <a:tab algn="l" pos="5400720"/>
                <a:tab algn="l" pos="5786280"/>
                <a:tab algn="l" pos="6172200"/>
                <a:tab algn="l" pos="6558120"/>
                <a:tab algn="l" pos="6943680"/>
                <a:tab algn="l" pos="7329600"/>
                <a:tab algn="l" pos="7715160"/>
              </a:tabLst>
            </a:pPr>
            <a:endParaRPr b="0" lang="en-US" sz="1100" spc="-1" strike="noStrike">
              <a:solidFill>
                <a:srgbClr val="000000"/>
              </a:solidFill>
              <a:latin typeface="等线"/>
            </a:endParaRPr>
          </a:p>
        </p:txBody>
      </p:sp>
      <p:sp>
        <p:nvSpPr>
          <p:cNvPr id="17" name="PlaceHolder 4"/>
          <p:cNvSpPr>
            <a:spLocks noGrp="1"/>
          </p:cNvSpPr>
          <p:nvPr>
            <p:ph/>
          </p:nvPr>
        </p:nvSpPr>
        <p:spPr>
          <a:xfrm>
            <a:off x="393840" y="5464440"/>
            <a:ext cx="2405160" cy="2767680"/>
          </a:xfrm>
          <a:prstGeom prst="rect">
            <a:avLst/>
          </a:prstGeom>
          <a:noFill/>
          <a:ln w="0">
            <a:noFill/>
          </a:ln>
        </p:spPr>
        <p:txBody>
          <a:bodyPr lIns="90000" rIns="90000" tIns="46800" bIns="46800" anchor="t">
            <a:normAutofit/>
          </a:bodyPr>
          <a:p>
            <a:pPr indent="0">
              <a:lnSpc>
                <a:spcPct val="90000"/>
              </a:lnSpc>
              <a:spcBef>
                <a:spcPts val="425"/>
              </a:spcBef>
              <a:buNone/>
              <a:tabLst>
                <a:tab algn="l" pos="385920"/>
                <a:tab algn="l" pos="771480"/>
                <a:tab algn="l" pos="1157400"/>
                <a:tab algn="l" pos="1542960"/>
                <a:tab algn="l" pos="1928880"/>
                <a:tab algn="l" pos="2314440"/>
                <a:tab algn="l" pos="2700360"/>
                <a:tab algn="l" pos="3086280"/>
                <a:tab algn="l" pos="3471840"/>
                <a:tab algn="l" pos="3857760"/>
                <a:tab algn="l" pos="4243320"/>
                <a:tab algn="l" pos="4629240"/>
                <a:tab algn="l" pos="5014800"/>
                <a:tab algn="l" pos="5400720"/>
                <a:tab algn="l" pos="5786280"/>
                <a:tab algn="l" pos="6172200"/>
                <a:tab algn="l" pos="6558120"/>
                <a:tab algn="l" pos="6943680"/>
                <a:tab algn="l" pos="7329600"/>
                <a:tab algn="l" pos="7715160"/>
              </a:tabLst>
            </a:pPr>
            <a:endParaRPr b="0" lang="en-US" sz="1100" spc="-1" strike="noStrike">
              <a:solidFill>
                <a:srgbClr val="000000"/>
              </a:solidFill>
              <a:latin typeface="等线"/>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A12D4F-444D-47F2-8261-7BF1DB35A3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93840" y="487440"/>
            <a:ext cx="4929120" cy="1766880"/>
          </a:xfrm>
          <a:prstGeom prst="rect">
            <a:avLst/>
          </a:prstGeom>
          <a:noFill/>
          <a:ln w="0">
            <a:noFill/>
          </a:ln>
        </p:spPr>
        <p:txBody>
          <a:bodyPr lIns="90000" rIns="90000" tIns="46800" bIns="46800" anchor="ctr">
            <a:noAutofit/>
          </a:bodyPr>
          <a:p>
            <a:pPr indent="0">
              <a:lnSpc>
                <a:spcPct val="90000"/>
              </a:lnSpc>
              <a:buNone/>
              <a:tabLst>
                <a:tab algn="l" pos="0"/>
                <a:tab algn="l" pos="385920"/>
                <a:tab algn="l" pos="771480"/>
                <a:tab algn="l" pos="1157400"/>
                <a:tab algn="l" pos="1542960"/>
                <a:tab algn="l" pos="1928880"/>
                <a:tab algn="l" pos="2314440"/>
                <a:tab algn="l" pos="2700360"/>
                <a:tab algn="l" pos="3086280"/>
                <a:tab algn="l" pos="3471840"/>
                <a:tab algn="l" pos="3857760"/>
                <a:tab algn="l" pos="4243320"/>
                <a:tab algn="l" pos="4629240"/>
                <a:tab algn="l" pos="5014800"/>
                <a:tab algn="l" pos="5400720"/>
                <a:tab algn="l" pos="5786280"/>
                <a:tab algn="l" pos="6172200"/>
                <a:tab algn="l" pos="6558120"/>
                <a:tab algn="l" pos="6943680"/>
                <a:tab algn="l" pos="7329600"/>
                <a:tab algn="l" pos="7715160"/>
              </a:tabLst>
            </a:pPr>
            <a:endParaRPr b="0" lang="en-US" sz="1800" spc="-1" strike="noStrike">
              <a:solidFill>
                <a:srgbClr val="000000"/>
              </a:solidFill>
              <a:latin typeface="等线 Light"/>
            </a:endParaRPr>
          </a:p>
        </p:txBody>
      </p:sp>
      <p:sp>
        <p:nvSpPr>
          <p:cNvPr id="19" name="PlaceHolder 2"/>
          <p:cNvSpPr>
            <a:spLocks noGrp="1"/>
          </p:cNvSpPr>
          <p:nvPr>
            <p:ph/>
          </p:nvPr>
        </p:nvSpPr>
        <p:spPr>
          <a:xfrm>
            <a:off x="393840" y="2433600"/>
            <a:ext cx="2405160" cy="5802480"/>
          </a:xfrm>
          <a:prstGeom prst="rect">
            <a:avLst/>
          </a:prstGeom>
          <a:noFill/>
          <a:ln w="0">
            <a:noFill/>
          </a:ln>
        </p:spPr>
        <p:txBody>
          <a:bodyPr lIns="90000" rIns="90000" tIns="46800" bIns="46800" anchor="t">
            <a:normAutofit/>
          </a:bodyPr>
          <a:p>
            <a:pPr indent="0">
              <a:lnSpc>
                <a:spcPct val="90000"/>
              </a:lnSpc>
              <a:spcBef>
                <a:spcPts val="425"/>
              </a:spcBef>
              <a:buNone/>
              <a:tabLst>
                <a:tab algn="l" pos="385920"/>
                <a:tab algn="l" pos="771480"/>
                <a:tab algn="l" pos="1157400"/>
                <a:tab algn="l" pos="1542960"/>
                <a:tab algn="l" pos="1928880"/>
                <a:tab algn="l" pos="2314440"/>
                <a:tab algn="l" pos="2700360"/>
                <a:tab algn="l" pos="3086280"/>
                <a:tab algn="l" pos="3471840"/>
                <a:tab algn="l" pos="3857760"/>
                <a:tab algn="l" pos="4243320"/>
                <a:tab algn="l" pos="4629240"/>
                <a:tab algn="l" pos="5014800"/>
                <a:tab algn="l" pos="5400720"/>
                <a:tab algn="l" pos="5786280"/>
                <a:tab algn="l" pos="6172200"/>
                <a:tab algn="l" pos="6558120"/>
                <a:tab algn="l" pos="6943680"/>
                <a:tab algn="l" pos="7329600"/>
                <a:tab algn="l" pos="7715160"/>
              </a:tabLst>
            </a:pPr>
            <a:endParaRPr b="0" lang="en-US" sz="1100" spc="-1" strike="noStrike">
              <a:solidFill>
                <a:srgbClr val="000000"/>
              </a:solidFill>
              <a:latin typeface="等线"/>
            </a:endParaRPr>
          </a:p>
        </p:txBody>
      </p:sp>
      <p:sp>
        <p:nvSpPr>
          <p:cNvPr id="20" name="PlaceHolder 3"/>
          <p:cNvSpPr>
            <a:spLocks noGrp="1"/>
          </p:cNvSpPr>
          <p:nvPr>
            <p:ph/>
          </p:nvPr>
        </p:nvSpPr>
        <p:spPr>
          <a:xfrm>
            <a:off x="2919600" y="2433600"/>
            <a:ext cx="2405160" cy="2767680"/>
          </a:xfrm>
          <a:prstGeom prst="rect">
            <a:avLst/>
          </a:prstGeom>
          <a:noFill/>
          <a:ln w="0">
            <a:noFill/>
          </a:ln>
        </p:spPr>
        <p:txBody>
          <a:bodyPr lIns="90000" rIns="90000" tIns="46800" bIns="46800" anchor="t">
            <a:normAutofit/>
          </a:bodyPr>
          <a:p>
            <a:pPr indent="0">
              <a:lnSpc>
                <a:spcPct val="90000"/>
              </a:lnSpc>
              <a:spcBef>
                <a:spcPts val="425"/>
              </a:spcBef>
              <a:buNone/>
              <a:tabLst>
                <a:tab algn="l" pos="385920"/>
                <a:tab algn="l" pos="771480"/>
                <a:tab algn="l" pos="1157400"/>
                <a:tab algn="l" pos="1542960"/>
                <a:tab algn="l" pos="1928880"/>
                <a:tab algn="l" pos="2314440"/>
                <a:tab algn="l" pos="2700360"/>
                <a:tab algn="l" pos="3086280"/>
                <a:tab algn="l" pos="3471840"/>
                <a:tab algn="l" pos="3857760"/>
                <a:tab algn="l" pos="4243320"/>
                <a:tab algn="l" pos="4629240"/>
                <a:tab algn="l" pos="5014800"/>
                <a:tab algn="l" pos="5400720"/>
                <a:tab algn="l" pos="5786280"/>
                <a:tab algn="l" pos="6172200"/>
                <a:tab algn="l" pos="6558120"/>
                <a:tab algn="l" pos="6943680"/>
                <a:tab algn="l" pos="7329600"/>
                <a:tab algn="l" pos="7715160"/>
              </a:tabLst>
            </a:pPr>
            <a:endParaRPr b="0" lang="en-US" sz="1100" spc="-1" strike="noStrike">
              <a:solidFill>
                <a:srgbClr val="000000"/>
              </a:solidFill>
              <a:latin typeface="等线"/>
            </a:endParaRPr>
          </a:p>
        </p:txBody>
      </p:sp>
      <p:sp>
        <p:nvSpPr>
          <p:cNvPr id="21" name="PlaceHolder 4"/>
          <p:cNvSpPr>
            <a:spLocks noGrp="1"/>
          </p:cNvSpPr>
          <p:nvPr>
            <p:ph/>
          </p:nvPr>
        </p:nvSpPr>
        <p:spPr>
          <a:xfrm>
            <a:off x="2919600" y="5464440"/>
            <a:ext cx="2405160" cy="2767680"/>
          </a:xfrm>
          <a:prstGeom prst="rect">
            <a:avLst/>
          </a:prstGeom>
          <a:noFill/>
          <a:ln w="0">
            <a:noFill/>
          </a:ln>
        </p:spPr>
        <p:txBody>
          <a:bodyPr lIns="90000" rIns="90000" tIns="46800" bIns="46800" anchor="t">
            <a:normAutofit/>
          </a:bodyPr>
          <a:p>
            <a:pPr indent="0">
              <a:lnSpc>
                <a:spcPct val="90000"/>
              </a:lnSpc>
              <a:spcBef>
                <a:spcPts val="425"/>
              </a:spcBef>
              <a:buNone/>
              <a:tabLst>
                <a:tab algn="l" pos="385920"/>
                <a:tab algn="l" pos="771480"/>
                <a:tab algn="l" pos="1157400"/>
                <a:tab algn="l" pos="1542960"/>
                <a:tab algn="l" pos="1928880"/>
                <a:tab algn="l" pos="2314440"/>
                <a:tab algn="l" pos="2700360"/>
                <a:tab algn="l" pos="3086280"/>
                <a:tab algn="l" pos="3471840"/>
                <a:tab algn="l" pos="3857760"/>
                <a:tab algn="l" pos="4243320"/>
                <a:tab algn="l" pos="4629240"/>
                <a:tab algn="l" pos="5014800"/>
                <a:tab algn="l" pos="5400720"/>
                <a:tab algn="l" pos="5786280"/>
                <a:tab algn="l" pos="6172200"/>
                <a:tab algn="l" pos="6558120"/>
                <a:tab algn="l" pos="6943680"/>
                <a:tab algn="l" pos="7329600"/>
                <a:tab algn="l" pos="7715160"/>
              </a:tabLst>
            </a:pPr>
            <a:endParaRPr b="0" lang="en-US" sz="1100" spc="-1" strike="noStrike">
              <a:solidFill>
                <a:srgbClr val="000000"/>
              </a:solidFill>
              <a:latin typeface="等线"/>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6FBC24-EAEA-402C-92EA-29A142D99A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93840" y="487440"/>
            <a:ext cx="4929120" cy="1766880"/>
          </a:xfrm>
          <a:prstGeom prst="rect">
            <a:avLst/>
          </a:prstGeom>
          <a:noFill/>
          <a:ln w="0">
            <a:noFill/>
          </a:ln>
        </p:spPr>
        <p:txBody>
          <a:bodyPr lIns="90000" rIns="90000" tIns="46800" bIns="46800" anchor="ctr">
            <a:noAutofit/>
          </a:bodyPr>
          <a:p>
            <a:pPr indent="0">
              <a:lnSpc>
                <a:spcPct val="90000"/>
              </a:lnSpc>
              <a:buNone/>
              <a:tabLst>
                <a:tab algn="l" pos="0"/>
                <a:tab algn="l" pos="385920"/>
                <a:tab algn="l" pos="771480"/>
                <a:tab algn="l" pos="1157400"/>
                <a:tab algn="l" pos="1542960"/>
                <a:tab algn="l" pos="1928880"/>
                <a:tab algn="l" pos="2314440"/>
                <a:tab algn="l" pos="2700360"/>
                <a:tab algn="l" pos="3086280"/>
                <a:tab algn="l" pos="3471840"/>
                <a:tab algn="l" pos="3857760"/>
                <a:tab algn="l" pos="4243320"/>
                <a:tab algn="l" pos="4629240"/>
                <a:tab algn="l" pos="5014800"/>
                <a:tab algn="l" pos="5400720"/>
                <a:tab algn="l" pos="5786280"/>
                <a:tab algn="l" pos="6172200"/>
                <a:tab algn="l" pos="6558120"/>
                <a:tab algn="l" pos="6943680"/>
                <a:tab algn="l" pos="7329600"/>
                <a:tab algn="l" pos="7715160"/>
              </a:tabLst>
            </a:pPr>
            <a:endParaRPr b="0" lang="en-US" sz="1800" spc="-1" strike="noStrike">
              <a:solidFill>
                <a:srgbClr val="000000"/>
              </a:solidFill>
              <a:latin typeface="等线 Light"/>
            </a:endParaRPr>
          </a:p>
        </p:txBody>
      </p:sp>
      <p:sp>
        <p:nvSpPr>
          <p:cNvPr id="23" name="PlaceHolder 2"/>
          <p:cNvSpPr>
            <a:spLocks noGrp="1"/>
          </p:cNvSpPr>
          <p:nvPr>
            <p:ph/>
          </p:nvPr>
        </p:nvSpPr>
        <p:spPr>
          <a:xfrm>
            <a:off x="393840" y="2433600"/>
            <a:ext cx="2405160" cy="2767680"/>
          </a:xfrm>
          <a:prstGeom prst="rect">
            <a:avLst/>
          </a:prstGeom>
          <a:noFill/>
          <a:ln w="0">
            <a:noFill/>
          </a:ln>
        </p:spPr>
        <p:txBody>
          <a:bodyPr lIns="90000" rIns="90000" tIns="46800" bIns="46800" anchor="t">
            <a:normAutofit/>
          </a:bodyPr>
          <a:p>
            <a:pPr indent="0">
              <a:lnSpc>
                <a:spcPct val="90000"/>
              </a:lnSpc>
              <a:spcBef>
                <a:spcPts val="425"/>
              </a:spcBef>
              <a:buNone/>
              <a:tabLst>
                <a:tab algn="l" pos="385920"/>
                <a:tab algn="l" pos="771480"/>
                <a:tab algn="l" pos="1157400"/>
                <a:tab algn="l" pos="1542960"/>
                <a:tab algn="l" pos="1928880"/>
                <a:tab algn="l" pos="2314440"/>
                <a:tab algn="l" pos="2700360"/>
                <a:tab algn="l" pos="3086280"/>
                <a:tab algn="l" pos="3471840"/>
                <a:tab algn="l" pos="3857760"/>
                <a:tab algn="l" pos="4243320"/>
                <a:tab algn="l" pos="4629240"/>
                <a:tab algn="l" pos="5014800"/>
                <a:tab algn="l" pos="5400720"/>
                <a:tab algn="l" pos="5786280"/>
                <a:tab algn="l" pos="6172200"/>
                <a:tab algn="l" pos="6558120"/>
                <a:tab algn="l" pos="6943680"/>
                <a:tab algn="l" pos="7329600"/>
                <a:tab algn="l" pos="7715160"/>
              </a:tabLst>
            </a:pPr>
            <a:endParaRPr b="0" lang="en-US" sz="1100" spc="-1" strike="noStrike">
              <a:solidFill>
                <a:srgbClr val="000000"/>
              </a:solidFill>
              <a:latin typeface="等线"/>
            </a:endParaRPr>
          </a:p>
        </p:txBody>
      </p:sp>
      <p:sp>
        <p:nvSpPr>
          <p:cNvPr id="24" name="PlaceHolder 3"/>
          <p:cNvSpPr>
            <a:spLocks noGrp="1"/>
          </p:cNvSpPr>
          <p:nvPr>
            <p:ph/>
          </p:nvPr>
        </p:nvSpPr>
        <p:spPr>
          <a:xfrm>
            <a:off x="2919600" y="2433600"/>
            <a:ext cx="2405160" cy="2767680"/>
          </a:xfrm>
          <a:prstGeom prst="rect">
            <a:avLst/>
          </a:prstGeom>
          <a:noFill/>
          <a:ln w="0">
            <a:noFill/>
          </a:ln>
        </p:spPr>
        <p:txBody>
          <a:bodyPr lIns="90000" rIns="90000" tIns="46800" bIns="46800" anchor="t">
            <a:normAutofit/>
          </a:bodyPr>
          <a:p>
            <a:pPr indent="0">
              <a:lnSpc>
                <a:spcPct val="90000"/>
              </a:lnSpc>
              <a:spcBef>
                <a:spcPts val="425"/>
              </a:spcBef>
              <a:buNone/>
              <a:tabLst>
                <a:tab algn="l" pos="385920"/>
                <a:tab algn="l" pos="771480"/>
                <a:tab algn="l" pos="1157400"/>
                <a:tab algn="l" pos="1542960"/>
                <a:tab algn="l" pos="1928880"/>
                <a:tab algn="l" pos="2314440"/>
                <a:tab algn="l" pos="2700360"/>
                <a:tab algn="l" pos="3086280"/>
                <a:tab algn="l" pos="3471840"/>
                <a:tab algn="l" pos="3857760"/>
                <a:tab algn="l" pos="4243320"/>
                <a:tab algn="l" pos="4629240"/>
                <a:tab algn="l" pos="5014800"/>
                <a:tab algn="l" pos="5400720"/>
                <a:tab algn="l" pos="5786280"/>
                <a:tab algn="l" pos="6172200"/>
                <a:tab algn="l" pos="6558120"/>
                <a:tab algn="l" pos="6943680"/>
                <a:tab algn="l" pos="7329600"/>
                <a:tab algn="l" pos="7715160"/>
              </a:tabLst>
            </a:pPr>
            <a:endParaRPr b="0" lang="en-US" sz="1100" spc="-1" strike="noStrike">
              <a:solidFill>
                <a:srgbClr val="000000"/>
              </a:solidFill>
              <a:latin typeface="等线"/>
            </a:endParaRPr>
          </a:p>
        </p:txBody>
      </p:sp>
      <p:sp>
        <p:nvSpPr>
          <p:cNvPr id="25" name="PlaceHolder 4"/>
          <p:cNvSpPr>
            <a:spLocks noGrp="1"/>
          </p:cNvSpPr>
          <p:nvPr>
            <p:ph/>
          </p:nvPr>
        </p:nvSpPr>
        <p:spPr>
          <a:xfrm>
            <a:off x="393840" y="5464440"/>
            <a:ext cx="4929120" cy="2767680"/>
          </a:xfrm>
          <a:prstGeom prst="rect">
            <a:avLst/>
          </a:prstGeom>
          <a:noFill/>
          <a:ln w="0">
            <a:noFill/>
          </a:ln>
        </p:spPr>
        <p:txBody>
          <a:bodyPr lIns="90000" rIns="90000" tIns="46800" bIns="46800" anchor="t">
            <a:normAutofit/>
          </a:bodyPr>
          <a:p>
            <a:pPr indent="0">
              <a:lnSpc>
                <a:spcPct val="90000"/>
              </a:lnSpc>
              <a:spcBef>
                <a:spcPts val="425"/>
              </a:spcBef>
              <a:buNone/>
              <a:tabLst>
                <a:tab algn="l" pos="385920"/>
                <a:tab algn="l" pos="771480"/>
                <a:tab algn="l" pos="1157400"/>
                <a:tab algn="l" pos="1542960"/>
                <a:tab algn="l" pos="1928880"/>
                <a:tab algn="l" pos="2314440"/>
                <a:tab algn="l" pos="2700360"/>
                <a:tab algn="l" pos="3086280"/>
                <a:tab algn="l" pos="3471840"/>
                <a:tab algn="l" pos="3857760"/>
                <a:tab algn="l" pos="4243320"/>
                <a:tab algn="l" pos="4629240"/>
                <a:tab algn="l" pos="5014800"/>
                <a:tab algn="l" pos="5400720"/>
                <a:tab algn="l" pos="5786280"/>
                <a:tab algn="l" pos="6172200"/>
                <a:tab algn="l" pos="6558120"/>
                <a:tab algn="l" pos="6943680"/>
                <a:tab algn="l" pos="7329600"/>
                <a:tab algn="l" pos="7715160"/>
              </a:tabLst>
            </a:pPr>
            <a:endParaRPr b="0" lang="en-US" sz="1100" spc="-1" strike="noStrike">
              <a:solidFill>
                <a:srgbClr val="000000"/>
              </a:solidFill>
              <a:latin typeface="等线"/>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AF2170-5B1D-4B13-AA83-DFEB63C4CB6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93840" y="487440"/>
            <a:ext cx="4929120" cy="1766880"/>
          </a:xfrm>
          <a:prstGeom prst="rect">
            <a:avLst/>
          </a:prstGeom>
          <a:noFill/>
          <a:ln w="0">
            <a:noFill/>
          </a:ln>
        </p:spPr>
        <p:txBody>
          <a:bodyPr lIns="90000" rIns="90000" tIns="46800" bIns="46800" anchor="ctr">
            <a:noAutofit/>
          </a:bodyPr>
          <a:p>
            <a:pPr indent="0">
              <a:lnSpc>
                <a:spcPct val="90000"/>
              </a:lnSpc>
              <a:buNone/>
              <a:tabLst>
                <a:tab algn="l" pos="0"/>
                <a:tab algn="l" pos="385920"/>
                <a:tab algn="l" pos="771480"/>
                <a:tab algn="l" pos="1157400"/>
                <a:tab algn="l" pos="1542960"/>
                <a:tab algn="l" pos="1928880"/>
                <a:tab algn="l" pos="2314440"/>
                <a:tab algn="l" pos="2700360"/>
                <a:tab algn="l" pos="3086280"/>
                <a:tab algn="l" pos="3471840"/>
                <a:tab algn="l" pos="3857760"/>
                <a:tab algn="l" pos="4243320"/>
                <a:tab algn="l" pos="4629240"/>
                <a:tab algn="l" pos="5014800"/>
                <a:tab algn="l" pos="5400720"/>
                <a:tab algn="l" pos="5786280"/>
                <a:tab algn="l" pos="6172200"/>
                <a:tab algn="l" pos="6558120"/>
                <a:tab algn="l" pos="6943680"/>
                <a:tab algn="l" pos="7329600"/>
                <a:tab algn="l" pos="7715160"/>
              </a:tabLst>
            </a:pPr>
            <a:r>
              <a:rPr b="0" lang="en-US" sz="1800" spc="-1" strike="noStrike">
                <a:solidFill>
                  <a:srgbClr val="000000"/>
                </a:solidFill>
                <a:latin typeface="等线 Light"/>
              </a:rPr>
              <a:t>Click to edit the title text format</a:t>
            </a:r>
            <a:endParaRPr b="0" lang="en-US" sz="1800" spc="-1" strike="noStrike">
              <a:solidFill>
                <a:srgbClr val="000000"/>
              </a:solidFill>
              <a:latin typeface="等线 Light"/>
            </a:endParaRPr>
          </a:p>
        </p:txBody>
      </p:sp>
      <p:sp>
        <p:nvSpPr>
          <p:cNvPr id="1" name="PlaceHolder 2"/>
          <p:cNvSpPr>
            <a:spLocks noGrp="1"/>
          </p:cNvSpPr>
          <p:nvPr>
            <p:ph type="body"/>
          </p:nvPr>
        </p:nvSpPr>
        <p:spPr>
          <a:xfrm>
            <a:off x="393840" y="2433600"/>
            <a:ext cx="4929120" cy="5802480"/>
          </a:xfrm>
          <a:prstGeom prst="rect">
            <a:avLst/>
          </a:prstGeom>
          <a:noFill/>
          <a:ln w="0">
            <a:noFill/>
          </a:ln>
        </p:spPr>
        <p:txBody>
          <a:bodyPr lIns="90000" rIns="90000" tIns="46800" bIns="46800" anchor="t">
            <a:normAutofit/>
          </a:bodyPr>
          <a:p>
            <a:pPr marL="95400" indent="-95400">
              <a:lnSpc>
                <a:spcPct val="90000"/>
              </a:lnSpc>
              <a:spcBef>
                <a:spcPts val="425"/>
              </a:spcBef>
              <a:buClr>
                <a:srgbClr val="000000"/>
              </a:buClr>
              <a:buFont typeface="Arial"/>
              <a:buChar char="•"/>
              <a:tabLst>
                <a:tab algn="l" pos="385920"/>
                <a:tab algn="l" pos="771480"/>
                <a:tab algn="l" pos="1157400"/>
                <a:tab algn="l" pos="1542960"/>
                <a:tab algn="l" pos="1928880"/>
                <a:tab algn="l" pos="2314440"/>
                <a:tab algn="l" pos="2700360"/>
                <a:tab algn="l" pos="3086280"/>
                <a:tab algn="l" pos="3471840"/>
                <a:tab algn="l" pos="3857760"/>
                <a:tab algn="l" pos="4243320"/>
                <a:tab algn="l" pos="4629240"/>
                <a:tab algn="l" pos="5014800"/>
                <a:tab algn="l" pos="5400720"/>
                <a:tab algn="l" pos="5786280"/>
                <a:tab algn="l" pos="6172200"/>
                <a:tab algn="l" pos="6558120"/>
                <a:tab algn="l" pos="6943680"/>
                <a:tab algn="l" pos="7329600"/>
                <a:tab algn="l" pos="7715160"/>
              </a:tabLst>
            </a:pPr>
            <a:r>
              <a:rPr b="0" lang="en-US" sz="1100" spc="-1" strike="noStrike">
                <a:solidFill>
                  <a:srgbClr val="000000"/>
                </a:solidFill>
                <a:latin typeface="等线"/>
              </a:rPr>
              <a:t>Click to edit the outline text format</a:t>
            </a:r>
            <a:endParaRPr b="0" lang="en-US" sz="1100" spc="-1" strike="noStrike">
              <a:solidFill>
                <a:srgbClr val="000000"/>
              </a:solidFill>
              <a:latin typeface="等线"/>
            </a:endParaRPr>
          </a:p>
          <a:p>
            <a:pPr lvl="1" marL="289080" indent="-95400">
              <a:lnSpc>
                <a:spcPct val="90000"/>
              </a:lnSpc>
              <a:spcBef>
                <a:spcPts val="425"/>
              </a:spcBef>
              <a:buClr>
                <a:srgbClr val="000000"/>
              </a:buClr>
              <a:buFont typeface="Arial"/>
              <a:buChar char="•"/>
              <a:tabLst>
                <a:tab algn="l" pos="385920"/>
                <a:tab algn="l" pos="771480"/>
                <a:tab algn="l" pos="1157400"/>
                <a:tab algn="l" pos="1542960"/>
                <a:tab algn="l" pos="1928880"/>
                <a:tab algn="l" pos="2314440"/>
                <a:tab algn="l" pos="2700360"/>
                <a:tab algn="l" pos="3086280"/>
                <a:tab algn="l" pos="3471840"/>
                <a:tab algn="l" pos="3857760"/>
                <a:tab algn="l" pos="4243320"/>
                <a:tab algn="l" pos="4629240"/>
                <a:tab algn="l" pos="5014800"/>
                <a:tab algn="l" pos="5400720"/>
                <a:tab algn="l" pos="5786280"/>
                <a:tab algn="l" pos="6172200"/>
                <a:tab algn="l" pos="6558120"/>
                <a:tab algn="l" pos="6943680"/>
                <a:tab algn="l" pos="7329600"/>
                <a:tab algn="l" pos="7715160"/>
              </a:tabLst>
            </a:pPr>
            <a:r>
              <a:rPr b="0" lang="en-US" sz="1100" spc="-1" strike="noStrike">
                <a:solidFill>
                  <a:srgbClr val="000000"/>
                </a:solidFill>
                <a:latin typeface="等线"/>
              </a:rPr>
              <a:t>Second Outline Level</a:t>
            </a:r>
            <a:endParaRPr b="0" lang="en-US" sz="1100" spc="-1" strike="noStrike">
              <a:solidFill>
                <a:srgbClr val="000000"/>
              </a:solidFill>
              <a:latin typeface="等线"/>
            </a:endParaRPr>
          </a:p>
          <a:p>
            <a:pPr lvl="2" marL="480960" indent="-95040">
              <a:lnSpc>
                <a:spcPct val="90000"/>
              </a:lnSpc>
              <a:spcBef>
                <a:spcPts val="425"/>
              </a:spcBef>
              <a:buClr>
                <a:srgbClr val="000000"/>
              </a:buClr>
              <a:buFont typeface="Arial"/>
              <a:buChar char="•"/>
              <a:tabLst>
                <a:tab algn="l" pos="385920"/>
                <a:tab algn="l" pos="771480"/>
                <a:tab algn="l" pos="1157400"/>
                <a:tab algn="l" pos="1542960"/>
                <a:tab algn="l" pos="1928880"/>
                <a:tab algn="l" pos="2314440"/>
                <a:tab algn="l" pos="2700360"/>
                <a:tab algn="l" pos="3086280"/>
                <a:tab algn="l" pos="3471840"/>
                <a:tab algn="l" pos="3857760"/>
                <a:tab algn="l" pos="4243320"/>
                <a:tab algn="l" pos="4629240"/>
                <a:tab algn="l" pos="5014800"/>
                <a:tab algn="l" pos="5400720"/>
                <a:tab algn="l" pos="5786280"/>
                <a:tab algn="l" pos="6172200"/>
                <a:tab algn="l" pos="6558120"/>
                <a:tab algn="l" pos="6943680"/>
                <a:tab algn="l" pos="7329600"/>
                <a:tab algn="l" pos="7715160"/>
              </a:tabLst>
            </a:pPr>
            <a:r>
              <a:rPr b="0" lang="en-US" sz="1100" spc="-1" strike="noStrike">
                <a:solidFill>
                  <a:srgbClr val="000000"/>
                </a:solidFill>
                <a:latin typeface="等线"/>
              </a:rPr>
              <a:t>Third Outline Level</a:t>
            </a:r>
            <a:endParaRPr b="0" lang="en-US" sz="1100" spc="-1" strike="noStrike">
              <a:solidFill>
                <a:srgbClr val="000000"/>
              </a:solidFill>
              <a:latin typeface="等线"/>
            </a:endParaRPr>
          </a:p>
          <a:p>
            <a:pPr lvl="3" marL="674640" indent="-95040">
              <a:lnSpc>
                <a:spcPct val="90000"/>
              </a:lnSpc>
              <a:spcBef>
                <a:spcPts val="425"/>
              </a:spcBef>
              <a:buClr>
                <a:srgbClr val="000000"/>
              </a:buClr>
              <a:buFont typeface="Arial"/>
              <a:buChar char="•"/>
              <a:tabLst>
                <a:tab algn="l" pos="385920"/>
                <a:tab algn="l" pos="771480"/>
                <a:tab algn="l" pos="1157400"/>
                <a:tab algn="l" pos="1542960"/>
                <a:tab algn="l" pos="1928880"/>
                <a:tab algn="l" pos="2314440"/>
                <a:tab algn="l" pos="2700360"/>
                <a:tab algn="l" pos="3086280"/>
                <a:tab algn="l" pos="3471840"/>
                <a:tab algn="l" pos="3857760"/>
                <a:tab algn="l" pos="4243320"/>
                <a:tab algn="l" pos="4629240"/>
                <a:tab algn="l" pos="5014800"/>
                <a:tab algn="l" pos="5400720"/>
                <a:tab algn="l" pos="5786280"/>
                <a:tab algn="l" pos="6172200"/>
                <a:tab algn="l" pos="6558120"/>
                <a:tab algn="l" pos="6943680"/>
                <a:tab algn="l" pos="7329600"/>
                <a:tab algn="l" pos="7715160"/>
              </a:tabLst>
            </a:pPr>
            <a:r>
              <a:rPr b="0" lang="en-US" sz="1100" spc="-1" strike="noStrike">
                <a:solidFill>
                  <a:srgbClr val="000000"/>
                </a:solidFill>
                <a:latin typeface="等线"/>
              </a:rPr>
              <a:t>Fourth Outline Level</a:t>
            </a:r>
            <a:endParaRPr b="0" lang="en-US" sz="1100" spc="-1" strike="noStrike">
              <a:solidFill>
                <a:srgbClr val="000000"/>
              </a:solidFill>
              <a:latin typeface="等线"/>
            </a:endParaRPr>
          </a:p>
          <a:p>
            <a:pPr lvl="4" marL="866880" indent="-95400">
              <a:lnSpc>
                <a:spcPct val="90000"/>
              </a:lnSpc>
              <a:spcBef>
                <a:spcPts val="425"/>
              </a:spcBef>
              <a:buClr>
                <a:srgbClr val="000000"/>
              </a:buClr>
              <a:buFont typeface="Arial"/>
              <a:buChar char="•"/>
              <a:tabLst>
                <a:tab algn="l" pos="385920"/>
                <a:tab algn="l" pos="771480"/>
                <a:tab algn="l" pos="1157400"/>
                <a:tab algn="l" pos="1542960"/>
                <a:tab algn="l" pos="1928880"/>
                <a:tab algn="l" pos="2314440"/>
                <a:tab algn="l" pos="2700360"/>
                <a:tab algn="l" pos="3086280"/>
                <a:tab algn="l" pos="3471840"/>
                <a:tab algn="l" pos="3857760"/>
                <a:tab algn="l" pos="4243320"/>
                <a:tab algn="l" pos="4629240"/>
                <a:tab algn="l" pos="5014800"/>
                <a:tab algn="l" pos="5400720"/>
                <a:tab algn="l" pos="5786280"/>
                <a:tab algn="l" pos="6172200"/>
                <a:tab algn="l" pos="6558120"/>
                <a:tab algn="l" pos="6943680"/>
                <a:tab algn="l" pos="7329600"/>
                <a:tab algn="l" pos="7715160"/>
              </a:tabLst>
            </a:pPr>
            <a:r>
              <a:rPr b="0" lang="en-US" sz="1100" spc="-1" strike="noStrike">
                <a:solidFill>
                  <a:srgbClr val="000000"/>
                </a:solidFill>
                <a:latin typeface="等线"/>
              </a:rPr>
              <a:t>Fifth Outline Level</a:t>
            </a:r>
            <a:endParaRPr b="0" lang="en-US" sz="1100" spc="-1" strike="noStrike">
              <a:solidFill>
                <a:srgbClr val="000000"/>
              </a:solidFill>
              <a:latin typeface="等线"/>
            </a:endParaRPr>
          </a:p>
          <a:p>
            <a:pPr lvl="5" marL="866880" indent="-95400">
              <a:lnSpc>
                <a:spcPct val="90000"/>
              </a:lnSpc>
              <a:spcBef>
                <a:spcPts val="425"/>
              </a:spcBef>
              <a:buClr>
                <a:srgbClr val="000000"/>
              </a:buClr>
              <a:buFont typeface="Arial"/>
              <a:buChar char="•"/>
              <a:tabLst>
                <a:tab algn="l" pos="385920"/>
                <a:tab algn="l" pos="771480"/>
                <a:tab algn="l" pos="1157400"/>
                <a:tab algn="l" pos="1542960"/>
                <a:tab algn="l" pos="1928880"/>
                <a:tab algn="l" pos="2314440"/>
                <a:tab algn="l" pos="2700360"/>
                <a:tab algn="l" pos="3086280"/>
                <a:tab algn="l" pos="3471840"/>
                <a:tab algn="l" pos="3857760"/>
                <a:tab algn="l" pos="4243320"/>
                <a:tab algn="l" pos="4629240"/>
                <a:tab algn="l" pos="5014800"/>
                <a:tab algn="l" pos="5400720"/>
                <a:tab algn="l" pos="5786280"/>
                <a:tab algn="l" pos="6172200"/>
                <a:tab algn="l" pos="6558120"/>
                <a:tab algn="l" pos="6943680"/>
                <a:tab algn="l" pos="7329600"/>
                <a:tab algn="l" pos="7715160"/>
              </a:tabLst>
            </a:pPr>
            <a:r>
              <a:rPr b="0" lang="en-US" sz="1100" spc="-1" strike="noStrike">
                <a:solidFill>
                  <a:srgbClr val="000000"/>
                </a:solidFill>
                <a:latin typeface="等线"/>
              </a:rPr>
              <a:t>Sixth Outline Level</a:t>
            </a:r>
            <a:endParaRPr b="0" lang="en-US" sz="1100" spc="-1" strike="noStrike">
              <a:solidFill>
                <a:srgbClr val="000000"/>
              </a:solidFill>
              <a:latin typeface="等线"/>
            </a:endParaRPr>
          </a:p>
          <a:p>
            <a:pPr lvl="6" marL="866880" indent="-95400">
              <a:lnSpc>
                <a:spcPct val="90000"/>
              </a:lnSpc>
              <a:spcBef>
                <a:spcPts val="425"/>
              </a:spcBef>
              <a:buClr>
                <a:srgbClr val="000000"/>
              </a:buClr>
              <a:buFont typeface="Arial"/>
              <a:buChar char="•"/>
              <a:tabLst>
                <a:tab algn="l" pos="385920"/>
                <a:tab algn="l" pos="771480"/>
                <a:tab algn="l" pos="1157400"/>
                <a:tab algn="l" pos="1542960"/>
                <a:tab algn="l" pos="1928880"/>
                <a:tab algn="l" pos="2314440"/>
                <a:tab algn="l" pos="2700360"/>
                <a:tab algn="l" pos="3086280"/>
                <a:tab algn="l" pos="3471840"/>
                <a:tab algn="l" pos="3857760"/>
                <a:tab algn="l" pos="4243320"/>
                <a:tab algn="l" pos="4629240"/>
                <a:tab algn="l" pos="5014800"/>
                <a:tab algn="l" pos="5400720"/>
                <a:tab algn="l" pos="5786280"/>
                <a:tab algn="l" pos="6172200"/>
                <a:tab algn="l" pos="6558120"/>
                <a:tab algn="l" pos="6943680"/>
                <a:tab algn="l" pos="7329600"/>
                <a:tab algn="l" pos="7715160"/>
              </a:tabLst>
            </a:pPr>
            <a:r>
              <a:rPr b="0" lang="en-US" sz="1100" spc="-1" strike="noStrike">
                <a:solidFill>
                  <a:srgbClr val="000000"/>
                </a:solidFill>
                <a:latin typeface="等线"/>
              </a:rPr>
              <a:t>Seventh Outline Level</a:t>
            </a:r>
            <a:endParaRPr b="0" lang="en-US" sz="1100" spc="-1" strike="noStrike">
              <a:solidFill>
                <a:srgbClr val="000000"/>
              </a:solidFill>
              <a:latin typeface="等线"/>
            </a:endParaRPr>
          </a:p>
        </p:txBody>
      </p:sp>
      <p:sp>
        <p:nvSpPr>
          <p:cNvPr id="2" name="PlaceHolder 3"/>
          <p:cNvSpPr>
            <a:spLocks noGrp="1"/>
          </p:cNvSpPr>
          <p:nvPr>
            <p:ph type="dt" idx="1"/>
          </p:nvPr>
        </p:nvSpPr>
        <p:spPr>
          <a:xfrm>
            <a:off x="393480" y="8475480"/>
            <a:ext cx="1285560" cy="485640"/>
          </a:xfrm>
          <a:prstGeom prst="rect">
            <a:avLst/>
          </a:prstGeom>
          <a:noFill/>
          <a:ln w="0">
            <a:noFill/>
          </a:ln>
        </p:spPr>
        <p:txBody>
          <a:bodyPr lIns="90000" rIns="90000" tIns="46800" bIns="46800" anchor="ctr">
            <a:noAutofit/>
          </a:bodyPr>
          <a:lstStyle>
            <a:lvl1pPr indent="0">
              <a:buNone/>
              <a:tabLst>
                <a:tab algn="l" pos="0"/>
                <a:tab algn="l" pos="712800"/>
                <a:tab algn="l" pos="1425600"/>
                <a:tab algn="l" pos="2138400"/>
                <a:tab algn="l" pos="2851200"/>
                <a:tab algn="l" pos="3564000"/>
                <a:tab algn="l" pos="4276800"/>
                <a:tab algn="l" pos="4989600"/>
                <a:tab algn="l" pos="5702400"/>
                <a:tab algn="l" pos="6415200"/>
                <a:tab algn="l" pos="7128000"/>
                <a:tab algn="l" pos="7840800"/>
                <a:tab algn="l" pos="8553600"/>
                <a:tab algn="l" pos="9266400"/>
                <a:tab algn="l" pos="9979200"/>
                <a:tab algn="l" pos="10691640"/>
              </a:tabLst>
              <a:defRPr b="0" lang="zh-CN" sz="500" spc="-1" strike="noStrike">
                <a:solidFill>
                  <a:srgbClr val="898989"/>
                </a:solidFill>
                <a:latin typeface="等线"/>
              </a:defRPr>
            </a:lvl1pPr>
          </a:lstStyle>
          <a:p>
            <a:pPr indent="0">
              <a:buNone/>
              <a:tabLst>
                <a:tab algn="l" pos="0"/>
                <a:tab algn="l" pos="712800"/>
                <a:tab algn="l" pos="1425600"/>
                <a:tab algn="l" pos="2138400"/>
                <a:tab algn="l" pos="2851200"/>
                <a:tab algn="l" pos="3564000"/>
                <a:tab algn="l" pos="4276800"/>
                <a:tab algn="l" pos="4989600"/>
                <a:tab algn="l" pos="5702400"/>
                <a:tab algn="l" pos="6415200"/>
                <a:tab algn="l" pos="7128000"/>
                <a:tab algn="l" pos="7840800"/>
                <a:tab algn="l" pos="8553600"/>
                <a:tab algn="l" pos="9266400"/>
                <a:tab algn="l" pos="9979200"/>
                <a:tab algn="l" pos="10691640"/>
              </a:tabLst>
            </a:pPr>
            <a:r>
              <a:rPr b="0" lang="zh-CN" sz="500" spc="-1" strike="noStrike">
                <a:solidFill>
                  <a:srgbClr val="898989"/>
                </a:solidFill>
                <a:latin typeface="等线"/>
              </a:rPr>
              <a:t>&lt;date/time&gt;</a:t>
            </a:r>
            <a:endParaRPr b="0" lang="en-US" sz="500" spc="-1" strike="noStrike">
              <a:solidFill>
                <a:srgbClr val="000000"/>
              </a:solidFill>
              <a:latin typeface="等线"/>
            </a:endParaRPr>
          </a:p>
        </p:txBody>
      </p:sp>
      <p:sp>
        <p:nvSpPr>
          <p:cNvPr id="3" name="PlaceHolder 4"/>
          <p:cNvSpPr>
            <a:spLocks noGrp="1"/>
          </p:cNvSpPr>
          <p:nvPr>
            <p:ph type="ftr" idx="2"/>
          </p:nvPr>
        </p:nvSpPr>
        <p:spPr>
          <a:xfrm>
            <a:off x="1893960" y="8475480"/>
            <a:ext cx="1928880" cy="485640"/>
          </a:xfrm>
          <a:prstGeom prst="rect">
            <a:avLst/>
          </a:prstGeom>
          <a:noFill/>
          <a:ln w="0">
            <a:noFill/>
          </a:ln>
        </p:spPr>
        <p:txBody>
          <a:bodyPr lIns="90000" rIns="90000" tIns="46800" bIns="46800" anchor="ctr">
            <a:noAutofit/>
          </a:bodyPr>
          <a:p>
            <a:pPr indent="0">
              <a:buNone/>
              <a:tabLst>
                <a:tab algn="l" pos="0"/>
                <a:tab algn="l" pos="712800"/>
                <a:tab algn="l" pos="1425600"/>
                <a:tab algn="l" pos="2138400"/>
                <a:tab algn="l" pos="2851200"/>
                <a:tab algn="l" pos="3564000"/>
                <a:tab algn="l" pos="4276800"/>
                <a:tab algn="l" pos="4989600"/>
                <a:tab algn="l" pos="5702400"/>
                <a:tab algn="l" pos="6415200"/>
                <a:tab algn="l" pos="7128000"/>
                <a:tab algn="l" pos="7840800"/>
                <a:tab algn="l" pos="8553600"/>
                <a:tab algn="l" pos="9266400"/>
                <a:tab algn="l" pos="9979200"/>
                <a:tab algn="l" pos="10691640"/>
              </a:tabLst>
            </a:pPr>
            <a:endParaRPr b="0" lang="en-US" sz="1400" spc="-1" strike="noStrike">
              <a:solidFill>
                <a:srgbClr val="000000"/>
              </a:solidFill>
              <a:latin typeface="等线"/>
            </a:endParaRPr>
          </a:p>
        </p:txBody>
      </p:sp>
      <p:sp>
        <p:nvSpPr>
          <p:cNvPr id="4" name="PlaceHolder 5"/>
          <p:cNvSpPr>
            <a:spLocks noGrp="1"/>
          </p:cNvSpPr>
          <p:nvPr>
            <p:ph type="sldNum" idx="3"/>
          </p:nvPr>
        </p:nvSpPr>
        <p:spPr>
          <a:xfrm>
            <a:off x="4037040" y="8475480"/>
            <a:ext cx="1285920" cy="485640"/>
          </a:xfrm>
          <a:prstGeom prst="rect">
            <a:avLst/>
          </a:prstGeom>
          <a:noFill/>
          <a:ln w="0">
            <a:noFill/>
          </a:ln>
        </p:spPr>
        <p:txBody>
          <a:bodyPr lIns="90000" rIns="90000" tIns="46800" bIns="46800" anchor="ctr">
            <a:noAutofit/>
          </a:bodyPr>
          <a:lstStyle>
            <a:lvl1pPr indent="0" algn="r">
              <a:buNone/>
              <a:tabLst>
                <a:tab algn="l" pos="0"/>
                <a:tab algn="l" pos="712800"/>
                <a:tab algn="l" pos="1425600"/>
                <a:tab algn="l" pos="2138400"/>
                <a:tab algn="l" pos="2851200"/>
                <a:tab algn="l" pos="3564000"/>
                <a:tab algn="l" pos="4276800"/>
                <a:tab algn="l" pos="4989600"/>
                <a:tab algn="l" pos="5702400"/>
                <a:tab algn="l" pos="6415200"/>
                <a:tab algn="l" pos="7128000"/>
                <a:tab algn="l" pos="7840800"/>
                <a:tab algn="l" pos="8553600"/>
                <a:tab algn="l" pos="9266400"/>
                <a:tab algn="l" pos="9979200"/>
                <a:tab algn="l" pos="10691640"/>
              </a:tabLst>
              <a:defRPr b="0" lang="zh-CN" sz="500" spc="-1" strike="noStrike">
                <a:solidFill>
                  <a:srgbClr val="898989"/>
                </a:solidFill>
                <a:latin typeface="等线"/>
              </a:defRPr>
            </a:lvl1pPr>
          </a:lstStyle>
          <a:p>
            <a:pPr indent="0" algn="r">
              <a:buNone/>
              <a:tabLst>
                <a:tab algn="l" pos="0"/>
                <a:tab algn="l" pos="712800"/>
                <a:tab algn="l" pos="1425600"/>
                <a:tab algn="l" pos="2138400"/>
                <a:tab algn="l" pos="2851200"/>
                <a:tab algn="l" pos="3564000"/>
                <a:tab algn="l" pos="4276800"/>
                <a:tab algn="l" pos="4989600"/>
                <a:tab algn="l" pos="5702400"/>
                <a:tab algn="l" pos="6415200"/>
                <a:tab algn="l" pos="7128000"/>
                <a:tab algn="l" pos="7840800"/>
                <a:tab algn="l" pos="8553600"/>
                <a:tab algn="l" pos="9266400"/>
                <a:tab algn="l" pos="9979200"/>
                <a:tab algn="l" pos="10691640"/>
              </a:tabLst>
            </a:pPr>
            <a:fld id="{A46E03B5-315C-4235-A5F9-6BDA008E6E45}" type="slidenum">
              <a:rPr b="0" lang="zh-CN" sz="500" spc="-1" strike="noStrike">
                <a:solidFill>
                  <a:srgbClr val="898989"/>
                </a:solidFill>
                <a:latin typeface="等线"/>
              </a:rPr>
              <a:t>&lt;number&gt;</a:t>
            </a:fld>
            <a:endParaRPr b="0" lang="en-US" sz="500" spc="-1" strike="noStrike">
              <a:solidFill>
                <a:srgbClr val="000000"/>
              </a:solidFill>
              <a:latin typeface="等线"/>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93840" y="487440"/>
            <a:ext cx="4929120" cy="1766880"/>
          </a:xfrm>
          <a:prstGeom prst="rect">
            <a:avLst/>
          </a:prstGeom>
          <a:noFill/>
          <a:ln w="0">
            <a:noFill/>
          </a:ln>
        </p:spPr>
        <p:txBody>
          <a:bodyPr lIns="90000" rIns="90000" tIns="46800" bIns="46800" anchor="ctr">
            <a:noAutofit/>
          </a:bodyPr>
          <a:p>
            <a:pPr indent="0">
              <a:lnSpc>
                <a:spcPct val="90000"/>
              </a:lnSpc>
              <a:buNone/>
              <a:tabLst>
                <a:tab algn="l" pos="0"/>
                <a:tab algn="l" pos="385920"/>
                <a:tab algn="l" pos="771480"/>
                <a:tab algn="l" pos="1157400"/>
                <a:tab algn="l" pos="1542960"/>
                <a:tab algn="l" pos="1928880"/>
                <a:tab algn="l" pos="2314440"/>
                <a:tab algn="l" pos="2700360"/>
                <a:tab algn="l" pos="3086280"/>
                <a:tab algn="l" pos="3471840"/>
                <a:tab algn="l" pos="3857760"/>
                <a:tab algn="l" pos="4243320"/>
                <a:tab algn="l" pos="4629240"/>
                <a:tab algn="l" pos="5014800"/>
                <a:tab algn="l" pos="5400720"/>
                <a:tab algn="l" pos="5786280"/>
                <a:tab algn="l" pos="6172200"/>
                <a:tab algn="l" pos="6558120"/>
                <a:tab algn="l" pos="6943680"/>
                <a:tab algn="l" pos="7329600"/>
                <a:tab algn="l" pos="7715160"/>
              </a:tabLst>
            </a:pPr>
            <a:r>
              <a:rPr b="0" lang="en-US" sz="1800" spc="-1" strike="noStrike">
                <a:solidFill>
                  <a:srgbClr val="000000"/>
                </a:solidFill>
                <a:latin typeface="等线 Light"/>
              </a:rPr>
              <a:t>Click to edit the title text format</a:t>
            </a:r>
            <a:endParaRPr b="0" lang="en-US" sz="1800" spc="-1" strike="noStrike">
              <a:solidFill>
                <a:srgbClr val="000000"/>
              </a:solidFill>
              <a:latin typeface="等线 Light"/>
            </a:endParaRPr>
          </a:p>
        </p:txBody>
      </p:sp>
      <p:sp>
        <p:nvSpPr>
          <p:cNvPr id="42" name="PlaceHolder 2"/>
          <p:cNvSpPr>
            <a:spLocks noGrp="1"/>
          </p:cNvSpPr>
          <p:nvPr>
            <p:ph type="body"/>
          </p:nvPr>
        </p:nvSpPr>
        <p:spPr>
          <a:xfrm>
            <a:off x="393840" y="2433600"/>
            <a:ext cx="4929120" cy="5802480"/>
          </a:xfrm>
          <a:prstGeom prst="rect">
            <a:avLst/>
          </a:prstGeom>
          <a:noFill/>
          <a:ln w="0">
            <a:noFill/>
          </a:ln>
        </p:spPr>
        <p:txBody>
          <a:bodyPr lIns="90000" rIns="90000" tIns="46800" bIns="46800" anchor="t">
            <a:normAutofit/>
          </a:bodyPr>
          <a:p>
            <a:pPr marL="95400" indent="-95400">
              <a:lnSpc>
                <a:spcPct val="90000"/>
              </a:lnSpc>
              <a:spcBef>
                <a:spcPts val="425"/>
              </a:spcBef>
              <a:buClr>
                <a:srgbClr val="000000"/>
              </a:buClr>
              <a:buFont typeface="Arial"/>
              <a:buChar char="•"/>
              <a:tabLst>
                <a:tab algn="l" pos="385920"/>
                <a:tab algn="l" pos="771480"/>
                <a:tab algn="l" pos="1157400"/>
                <a:tab algn="l" pos="1542960"/>
                <a:tab algn="l" pos="1928880"/>
                <a:tab algn="l" pos="2314440"/>
                <a:tab algn="l" pos="2700360"/>
                <a:tab algn="l" pos="3086280"/>
                <a:tab algn="l" pos="3471840"/>
                <a:tab algn="l" pos="3857760"/>
                <a:tab algn="l" pos="4243320"/>
                <a:tab algn="l" pos="4629240"/>
                <a:tab algn="l" pos="5014800"/>
                <a:tab algn="l" pos="5400720"/>
                <a:tab algn="l" pos="5786280"/>
                <a:tab algn="l" pos="6172200"/>
                <a:tab algn="l" pos="6558120"/>
                <a:tab algn="l" pos="6943680"/>
                <a:tab algn="l" pos="7329600"/>
                <a:tab algn="l" pos="7715160"/>
              </a:tabLst>
            </a:pPr>
            <a:r>
              <a:rPr b="0" lang="en-US" sz="1100" spc="-1" strike="noStrike">
                <a:solidFill>
                  <a:srgbClr val="000000"/>
                </a:solidFill>
                <a:latin typeface="等线"/>
              </a:rPr>
              <a:t>Click to edit the outline text format</a:t>
            </a:r>
            <a:endParaRPr b="0" lang="en-US" sz="1100" spc="-1" strike="noStrike">
              <a:solidFill>
                <a:srgbClr val="000000"/>
              </a:solidFill>
              <a:latin typeface="等线"/>
            </a:endParaRPr>
          </a:p>
          <a:p>
            <a:pPr lvl="1" marL="289080" indent="-95400">
              <a:lnSpc>
                <a:spcPct val="90000"/>
              </a:lnSpc>
              <a:spcBef>
                <a:spcPts val="425"/>
              </a:spcBef>
              <a:buClr>
                <a:srgbClr val="000000"/>
              </a:buClr>
              <a:buFont typeface="Arial"/>
              <a:buChar char="•"/>
              <a:tabLst>
                <a:tab algn="l" pos="385920"/>
                <a:tab algn="l" pos="771480"/>
                <a:tab algn="l" pos="1157400"/>
                <a:tab algn="l" pos="1542960"/>
                <a:tab algn="l" pos="1928880"/>
                <a:tab algn="l" pos="2314440"/>
                <a:tab algn="l" pos="2700360"/>
                <a:tab algn="l" pos="3086280"/>
                <a:tab algn="l" pos="3471840"/>
                <a:tab algn="l" pos="3857760"/>
                <a:tab algn="l" pos="4243320"/>
                <a:tab algn="l" pos="4629240"/>
                <a:tab algn="l" pos="5014800"/>
                <a:tab algn="l" pos="5400720"/>
                <a:tab algn="l" pos="5786280"/>
                <a:tab algn="l" pos="6172200"/>
                <a:tab algn="l" pos="6558120"/>
                <a:tab algn="l" pos="6943680"/>
                <a:tab algn="l" pos="7329600"/>
                <a:tab algn="l" pos="7715160"/>
              </a:tabLst>
            </a:pPr>
            <a:r>
              <a:rPr b="0" lang="en-US" sz="1100" spc="-1" strike="noStrike">
                <a:solidFill>
                  <a:srgbClr val="000000"/>
                </a:solidFill>
                <a:latin typeface="等线"/>
              </a:rPr>
              <a:t>Second Outline Level</a:t>
            </a:r>
            <a:endParaRPr b="0" lang="en-US" sz="1100" spc="-1" strike="noStrike">
              <a:solidFill>
                <a:srgbClr val="000000"/>
              </a:solidFill>
              <a:latin typeface="等线"/>
            </a:endParaRPr>
          </a:p>
          <a:p>
            <a:pPr lvl="2" marL="480960" indent="-95040">
              <a:lnSpc>
                <a:spcPct val="90000"/>
              </a:lnSpc>
              <a:spcBef>
                <a:spcPts val="425"/>
              </a:spcBef>
              <a:buClr>
                <a:srgbClr val="000000"/>
              </a:buClr>
              <a:buFont typeface="Arial"/>
              <a:buChar char="•"/>
              <a:tabLst>
                <a:tab algn="l" pos="385920"/>
                <a:tab algn="l" pos="771480"/>
                <a:tab algn="l" pos="1157400"/>
                <a:tab algn="l" pos="1542960"/>
                <a:tab algn="l" pos="1928880"/>
                <a:tab algn="l" pos="2314440"/>
                <a:tab algn="l" pos="2700360"/>
                <a:tab algn="l" pos="3086280"/>
                <a:tab algn="l" pos="3471840"/>
                <a:tab algn="l" pos="3857760"/>
                <a:tab algn="l" pos="4243320"/>
                <a:tab algn="l" pos="4629240"/>
                <a:tab algn="l" pos="5014800"/>
                <a:tab algn="l" pos="5400720"/>
                <a:tab algn="l" pos="5786280"/>
                <a:tab algn="l" pos="6172200"/>
                <a:tab algn="l" pos="6558120"/>
                <a:tab algn="l" pos="6943680"/>
                <a:tab algn="l" pos="7329600"/>
                <a:tab algn="l" pos="7715160"/>
              </a:tabLst>
            </a:pPr>
            <a:r>
              <a:rPr b="0" lang="en-US" sz="1100" spc="-1" strike="noStrike">
                <a:solidFill>
                  <a:srgbClr val="000000"/>
                </a:solidFill>
                <a:latin typeface="等线"/>
              </a:rPr>
              <a:t>Third Outline Level</a:t>
            </a:r>
            <a:endParaRPr b="0" lang="en-US" sz="1100" spc="-1" strike="noStrike">
              <a:solidFill>
                <a:srgbClr val="000000"/>
              </a:solidFill>
              <a:latin typeface="等线"/>
            </a:endParaRPr>
          </a:p>
          <a:p>
            <a:pPr lvl="3" marL="674640" indent="-95040">
              <a:lnSpc>
                <a:spcPct val="90000"/>
              </a:lnSpc>
              <a:spcBef>
                <a:spcPts val="425"/>
              </a:spcBef>
              <a:buClr>
                <a:srgbClr val="000000"/>
              </a:buClr>
              <a:buFont typeface="Arial"/>
              <a:buChar char="•"/>
              <a:tabLst>
                <a:tab algn="l" pos="385920"/>
                <a:tab algn="l" pos="771480"/>
                <a:tab algn="l" pos="1157400"/>
                <a:tab algn="l" pos="1542960"/>
                <a:tab algn="l" pos="1928880"/>
                <a:tab algn="l" pos="2314440"/>
                <a:tab algn="l" pos="2700360"/>
                <a:tab algn="l" pos="3086280"/>
                <a:tab algn="l" pos="3471840"/>
                <a:tab algn="l" pos="3857760"/>
                <a:tab algn="l" pos="4243320"/>
                <a:tab algn="l" pos="4629240"/>
                <a:tab algn="l" pos="5014800"/>
                <a:tab algn="l" pos="5400720"/>
                <a:tab algn="l" pos="5786280"/>
                <a:tab algn="l" pos="6172200"/>
                <a:tab algn="l" pos="6558120"/>
                <a:tab algn="l" pos="6943680"/>
                <a:tab algn="l" pos="7329600"/>
                <a:tab algn="l" pos="7715160"/>
              </a:tabLst>
            </a:pPr>
            <a:r>
              <a:rPr b="0" lang="en-US" sz="1100" spc="-1" strike="noStrike">
                <a:solidFill>
                  <a:srgbClr val="000000"/>
                </a:solidFill>
                <a:latin typeface="等线"/>
              </a:rPr>
              <a:t>Fourth Outline Level</a:t>
            </a:r>
            <a:endParaRPr b="0" lang="en-US" sz="1100" spc="-1" strike="noStrike">
              <a:solidFill>
                <a:srgbClr val="000000"/>
              </a:solidFill>
              <a:latin typeface="等线"/>
            </a:endParaRPr>
          </a:p>
          <a:p>
            <a:pPr lvl="4" marL="866880" indent="-95400">
              <a:lnSpc>
                <a:spcPct val="90000"/>
              </a:lnSpc>
              <a:spcBef>
                <a:spcPts val="425"/>
              </a:spcBef>
              <a:buClr>
                <a:srgbClr val="000000"/>
              </a:buClr>
              <a:buFont typeface="Arial"/>
              <a:buChar char="•"/>
              <a:tabLst>
                <a:tab algn="l" pos="385920"/>
                <a:tab algn="l" pos="771480"/>
                <a:tab algn="l" pos="1157400"/>
                <a:tab algn="l" pos="1542960"/>
                <a:tab algn="l" pos="1928880"/>
                <a:tab algn="l" pos="2314440"/>
                <a:tab algn="l" pos="2700360"/>
                <a:tab algn="l" pos="3086280"/>
                <a:tab algn="l" pos="3471840"/>
                <a:tab algn="l" pos="3857760"/>
                <a:tab algn="l" pos="4243320"/>
                <a:tab algn="l" pos="4629240"/>
                <a:tab algn="l" pos="5014800"/>
                <a:tab algn="l" pos="5400720"/>
                <a:tab algn="l" pos="5786280"/>
                <a:tab algn="l" pos="6172200"/>
                <a:tab algn="l" pos="6558120"/>
                <a:tab algn="l" pos="6943680"/>
                <a:tab algn="l" pos="7329600"/>
                <a:tab algn="l" pos="7715160"/>
              </a:tabLst>
            </a:pPr>
            <a:r>
              <a:rPr b="0" lang="en-US" sz="1100" spc="-1" strike="noStrike">
                <a:solidFill>
                  <a:srgbClr val="000000"/>
                </a:solidFill>
                <a:latin typeface="等线"/>
              </a:rPr>
              <a:t>Fifth Outline Level</a:t>
            </a:r>
            <a:endParaRPr b="0" lang="en-US" sz="1100" spc="-1" strike="noStrike">
              <a:solidFill>
                <a:srgbClr val="000000"/>
              </a:solidFill>
              <a:latin typeface="等线"/>
            </a:endParaRPr>
          </a:p>
          <a:p>
            <a:pPr lvl="5" marL="866880" indent="-95400">
              <a:lnSpc>
                <a:spcPct val="90000"/>
              </a:lnSpc>
              <a:spcBef>
                <a:spcPts val="425"/>
              </a:spcBef>
              <a:buClr>
                <a:srgbClr val="000000"/>
              </a:buClr>
              <a:buFont typeface="Arial"/>
              <a:buChar char="•"/>
              <a:tabLst>
                <a:tab algn="l" pos="385920"/>
                <a:tab algn="l" pos="771480"/>
                <a:tab algn="l" pos="1157400"/>
                <a:tab algn="l" pos="1542960"/>
                <a:tab algn="l" pos="1928880"/>
                <a:tab algn="l" pos="2314440"/>
                <a:tab algn="l" pos="2700360"/>
                <a:tab algn="l" pos="3086280"/>
                <a:tab algn="l" pos="3471840"/>
                <a:tab algn="l" pos="3857760"/>
                <a:tab algn="l" pos="4243320"/>
                <a:tab algn="l" pos="4629240"/>
                <a:tab algn="l" pos="5014800"/>
                <a:tab algn="l" pos="5400720"/>
                <a:tab algn="l" pos="5786280"/>
                <a:tab algn="l" pos="6172200"/>
                <a:tab algn="l" pos="6558120"/>
                <a:tab algn="l" pos="6943680"/>
                <a:tab algn="l" pos="7329600"/>
                <a:tab algn="l" pos="7715160"/>
              </a:tabLst>
            </a:pPr>
            <a:r>
              <a:rPr b="0" lang="en-US" sz="1100" spc="-1" strike="noStrike">
                <a:solidFill>
                  <a:srgbClr val="000000"/>
                </a:solidFill>
                <a:latin typeface="等线"/>
              </a:rPr>
              <a:t>Sixth Outline Level</a:t>
            </a:r>
            <a:endParaRPr b="0" lang="en-US" sz="1100" spc="-1" strike="noStrike">
              <a:solidFill>
                <a:srgbClr val="000000"/>
              </a:solidFill>
              <a:latin typeface="等线"/>
            </a:endParaRPr>
          </a:p>
          <a:p>
            <a:pPr lvl="6" marL="866880" indent="-95400">
              <a:lnSpc>
                <a:spcPct val="90000"/>
              </a:lnSpc>
              <a:spcBef>
                <a:spcPts val="425"/>
              </a:spcBef>
              <a:buClr>
                <a:srgbClr val="000000"/>
              </a:buClr>
              <a:buFont typeface="Arial"/>
              <a:buChar char="•"/>
              <a:tabLst>
                <a:tab algn="l" pos="385920"/>
                <a:tab algn="l" pos="771480"/>
                <a:tab algn="l" pos="1157400"/>
                <a:tab algn="l" pos="1542960"/>
                <a:tab algn="l" pos="1928880"/>
                <a:tab algn="l" pos="2314440"/>
                <a:tab algn="l" pos="2700360"/>
                <a:tab algn="l" pos="3086280"/>
                <a:tab algn="l" pos="3471840"/>
                <a:tab algn="l" pos="3857760"/>
                <a:tab algn="l" pos="4243320"/>
                <a:tab algn="l" pos="4629240"/>
                <a:tab algn="l" pos="5014800"/>
                <a:tab algn="l" pos="5400720"/>
                <a:tab algn="l" pos="5786280"/>
                <a:tab algn="l" pos="6172200"/>
                <a:tab algn="l" pos="6558120"/>
                <a:tab algn="l" pos="6943680"/>
                <a:tab algn="l" pos="7329600"/>
                <a:tab algn="l" pos="7715160"/>
              </a:tabLst>
            </a:pPr>
            <a:r>
              <a:rPr b="0" lang="en-US" sz="1100" spc="-1" strike="noStrike">
                <a:solidFill>
                  <a:srgbClr val="000000"/>
                </a:solidFill>
                <a:latin typeface="等线"/>
              </a:rPr>
              <a:t>Seventh Outline Level</a:t>
            </a:r>
            <a:endParaRPr b="0" lang="en-US" sz="1100" spc="-1" strike="noStrike">
              <a:solidFill>
                <a:srgbClr val="000000"/>
              </a:solidFill>
              <a:latin typeface="等线"/>
            </a:endParaRPr>
          </a:p>
        </p:txBody>
      </p:sp>
      <p:sp>
        <p:nvSpPr>
          <p:cNvPr id="43" name="PlaceHolder 3"/>
          <p:cNvSpPr>
            <a:spLocks noGrp="1"/>
          </p:cNvSpPr>
          <p:nvPr>
            <p:ph type="dt" idx="4"/>
          </p:nvPr>
        </p:nvSpPr>
        <p:spPr>
          <a:xfrm>
            <a:off x="393480" y="8475480"/>
            <a:ext cx="1285560" cy="485640"/>
          </a:xfrm>
          <a:prstGeom prst="rect">
            <a:avLst/>
          </a:prstGeom>
          <a:noFill/>
          <a:ln w="0">
            <a:noFill/>
          </a:ln>
        </p:spPr>
        <p:txBody>
          <a:bodyPr lIns="90000" rIns="90000" tIns="46800" bIns="46800" anchor="t">
            <a:noAutofit/>
          </a:bodyPr>
          <a:lstStyle>
            <a:lvl1pPr indent="0" algn="just">
              <a:buNone/>
              <a:tabLst>
                <a:tab algn="l" pos="0"/>
                <a:tab algn="l" pos="712800"/>
                <a:tab algn="l" pos="1425600"/>
                <a:tab algn="l" pos="2138400"/>
                <a:tab algn="l" pos="2851200"/>
                <a:tab algn="l" pos="3564000"/>
                <a:tab algn="l" pos="4276800"/>
                <a:tab algn="l" pos="4989600"/>
                <a:tab algn="l" pos="5702400"/>
                <a:tab algn="l" pos="6415200"/>
                <a:tab algn="l" pos="7128000"/>
                <a:tab algn="l" pos="7840800"/>
                <a:tab algn="l" pos="8553600"/>
                <a:tab algn="l" pos="9266400"/>
                <a:tab algn="l" pos="9979200"/>
                <a:tab algn="l" pos="10691640"/>
              </a:tabLst>
              <a:defRPr b="0" lang="zh-CN" sz="3000" spc="-1" strike="noStrike">
                <a:solidFill>
                  <a:srgbClr val="898989"/>
                </a:solidFill>
                <a:latin typeface="等线"/>
              </a:defRPr>
            </a:lvl1pPr>
          </a:lstStyle>
          <a:p>
            <a:pPr indent="0" algn="just">
              <a:buNone/>
              <a:tabLst>
                <a:tab algn="l" pos="0"/>
                <a:tab algn="l" pos="712800"/>
                <a:tab algn="l" pos="1425600"/>
                <a:tab algn="l" pos="2138400"/>
                <a:tab algn="l" pos="2851200"/>
                <a:tab algn="l" pos="3564000"/>
                <a:tab algn="l" pos="4276800"/>
                <a:tab algn="l" pos="4989600"/>
                <a:tab algn="l" pos="5702400"/>
                <a:tab algn="l" pos="6415200"/>
                <a:tab algn="l" pos="7128000"/>
                <a:tab algn="l" pos="7840800"/>
                <a:tab algn="l" pos="8553600"/>
                <a:tab algn="l" pos="9266400"/>
                <a:tab algn="l" pos="9979200"/>
                <a:tab algn="l" pos="10691640"/>
              </a:tabLst>
            </a:pPr>
            <a:r>
              <a:rPr b="0" lang="zh-CN" sz="3000" spc="-1" strike="noStrike">
                <a:solidFill>
                  <a:srgbClr val="898989"/>
                </a:solidFill>
                <a:latin typeface="等线"/>
              </a:rPr>
              <a:t>&lt;date/time&gt;</a:t>
            </a:r>
            <a:endParaRPr b="0" lang="en-US" sz="3000" spc="-1" strike="noStrike">
              <a:solidFill>
                <a:srgbClr val="000000"/>
              </a:solidFill>
              <a:latin typeface="等线"/>
            </a:endParaRPr>
          </a:p>
        </p:txBody>
      </p:sp>
      <p:sp>
        <p:nvSpPr>
          <p:cNvPr id="44" name="PlaceHolder 4"/>
          <p:cNvSpPr>
            <a:spLocks noGrp="1"/>
          </p:cNvSpPr>
          <p:nvPr>
            <p:ph type="ftr" idx="5"/>
          </p:nvPr>
        </p:nvSpPr>
        <p:spPr>
          <a:xfrm>
            <a:off x="1893960" y="8475480"/>
            <a:ext cx="1928880" cy="485640"/>
          </a:xfrm>
          <a:prstGeom prst="rect">
            <a:avLst/>
          </a:prstGeom>
          <a:noFill/>
          <a:ln w="0">
            <a:noFill/>
          </a:ln>
        </p:spPr>
        <p:txBody>
          <a:bodyPr lIns="90000" rIns="90000" tIns="46800" bIns="46800" anchor="t">
            <a:noAutofit/>
          </a:bodyPr>
          <a:p>
            <a:pPr indent="0">
              <a:buNone/>
              <a:tabLst>
                <a:tab algn="l" pos="0"/>
                <a:tab algn="l" pos="712800"/>
                <a:tab algn="l" pos="1425600"/>
                <a:tab algn="l" pos="2138400"/>
                <a:tab algn="l" pos="2851200"/>
                <a:tab algn="l" pos="3564000"/>
                <a:tab algn="l" pos="4276800"/>
                <a:tab algn="l" pos="4989600"/>
                <a:tab algn="l" pos="5702400"/>
                <a:tab algn="l" pos="6415200"/>
                <a:tab algn="l" pos="7128000"/>
                <a:tab algn="l" pos="7840800"/>
                <a:tab algn="l" pos="8553600"/>
                <a:tab algn="l" pos="9266400"/>
                <a:tab algn="l" pos="9979200"/>
                <a:tab algn="l" pos="10691640"/>
              </a:tabLst>
            </a:pPr>
            <a:endParaRPr b="0" lang="en-US" sz="1400" spc="-1" strike="noStrike">
              <a:solidFill>
                <a:srgbClr val="000000"/>
              </a:solidFill>
              <a:latin typeface="等线"/>
            </a:endParaRPr>
          </a:p>
        </p:txBody>
      </p:sp>
      <p:sp>
        <p:nvSpPr>
          <p:cNvPr id="45" name="PlaceHolder 5"/>
          <p:cNvSpPr>
            <a:spLocks noGrp="1"/>
          </p:cNvSpPr>
          <p:nvPr>
            <p:ph type="sldNum" idx="6"/>
          </p:nvPr>
        </p:nvSpPr>
        <p:spPr>
          <a:xfrm>
            <a:off x="4037040" y="8475480"/>
            <a:ext cx="1285920" cy="485640"/>
          </a:xfrm>
          <a:prstGeom prst="rect">
            <a:avLst/>
          </a:prstGeom>
          <a:noFill/>
          <a:ln w="0">
            <a:noFill/>
          </a:ln>
        </p:spPr>
        <p:txBody>
          <a:bodyPr lIns="90000" rIns="90000" tIns="46800" bIns="46800" anchor="t">
            <a:noAutofit/>
          </a:bodyPr>
          <a:lstStyle>
            <a:lvl1pPr indent="0" algn="just">
              <a:buNone/>
              <a:tabLst>
                <a:tab algn="l" pos="0"/>
                <a:tab algn="l" pos="712800"/>
                <a:tab algn="l" pos="1425600"/>
                <a:tab algn="l" pos="2138400"/>
                <a:tab algn="l" pos="2851200"/>
                <a:tab algn="l" pos="3564000"/>
                <a:tab algn="l" pos="4276800"/>
                <a:tab algn="l" pos="4989600"/>
                <a:tab algn="l" pos="5702400"/>
                <a:tab algn="l" pos="6415200"/>
                <a:tab algn="l" pos="7128000"/>
                <a:tab algn="l" pos="7840800"/>
                <a:tab algn="l" pos="8553600"/>
                <a:tab algn="l" pos="9266400"/>
                <a:tab algn="l" pos="9979200"/>
                <a:tab algn="l" pos="10691640"/>
              </a:tabLst>
              <a:defRPr b="0" lang="zh-CN" sz="3000" spc="-1" strike="noStrike">
                <a:solidFill>
                  <a:srgbClr val="898989"/>
                </a:solidFill>
                <a:latin typeface="等线"/>
              </a:defRPr>
            </a:lvl1pPr>
          </a:lstStyle>
          <a:p>
            <a:pPr indent="0" algn="just">
              <a:buNone/>
              <a:tabLst>
                <a:tab algn="l" pos="0"/>
                <a:tab algn="l" pos="712800"/>
                <a:tab algn="l" pos="1425600"/>
                <a:tab algn="l" pos="2138400"/>
                <a:tab algn="l" pos="2851200"/>
                <a:tab algn="l" pos="3564000"/>
                <a:tab algn="l" pos="4276800"/>
                <a:tab algn="l" pos="4989600"/>
                <a:tab algn="l" pos="5702400"/>
                <a:tab algn="l" pos="6415200"/>
                <a:tab algn="l" pos="7128000"/>
                <a:tab algn="l" pos="7840800"/>
                <a:tab algn="l" pos="8553600"/>
                <a:tab algn="l" pos="9266400"/>
                <a:tab algn="l" pos="9979200"/>
                <a:tab algn="l" pos="10691640"/>
              </a:tabLst>
            </a:pPr>
            <a:fld id="{3D5DFA7E-3311-4815-8A67-6FB75CD8B2EE}" type="slidenum">
              <a:rPr b="0" lang="zh-CN" sz="3000" spc="-1" strike="noStrike">
                <a:solidFill>
                  <a:srgbClr val="898989"/>
                </a:solidFill>
                <a:latin typeface="等线"/>
              </a:rPr>
              <a:t>&lt;number&gt;</a:t>
            </a:fld>
            <a:endParaRPr b="0" lang="en-US" sz="3000" spc="-1" strike="noStrike">
              <a:solidFill>
                <a:srgbClr val="000000"/>
              </a:solidFill>
              <a:latin typeface="等线"/>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275760" y="425520"/>
            <a:ext cx="1575000" cy="450720"/>
          </a:xfrm>
          <a:prstGeom prst="rect">
            <a:avLst/>
          </a:prstGeom>
          <a:noFill/>
          <a:ln w="0">
            <a:noFill/>
          </a:ln>
        </p:spPr>
        <p:txBody>
          <a:bodyPr anchor="b">
            <a:noAutofit/>
          </a:bodyPr>
          <a:p>
            <a:pPr indent="0" algn="ctr">
              <a:lnSpc>
                <a:spcPct val="90000"/>
              </a:lnSpc>
              <a:buNone/>
              <a:tabLst>
                <a:tab algn="l" pos="0"/>
                <a:tab algn="l" pos="385920"/>
                <a:tab algn="l" pos="771480"/>
                <a:tab algn="l" pos="1157400"/>
                <a:tab algn="l" pos="1542960"/>
                <a:tab algn="l" pos="1928880"/>
                <a:tab algn="l" pos="2314440"/>
                <a:tab algn="l" pos="2700360"/>
                <a:tab algn="l" pos="3086280"/>
                <a:tab algn="l" pos="3471840"/>
                <a:tab algn="l" pos="3857760"/>
                <a:tab algn="l" pos="4243320"/>
                <a:tab algn="l" pos="4629240"/>
                <a:tab algn="l" pos="5014800"/>
                <a:tab algn="l" pos="5400720"/>
                <a:tab algn="l" pos="5786280"/>
                <a:tab algn="l" pos="6172200"/>
                <a:tab algn="l" pos="6558120"/>
                <a:tab algn="l" pos="6943680"/>
                <a:tab algn="l" pos="7329600"/>
                <a:tab algn="l" pos="7715160"/>
              </a:tabLst>
            </a:pPr>
            <a:r>
              <a:rPr b="1" lang="en-US" sz="1800" spc="-1" strike="noStrike">
                <a:solidFill>
                  <a:srgbClr val="000000"/>
                </a:solidFill>
                <a:latin typeface="微软雅黑"/>
                <a:ea typeface="微软雅黑"/>
              </a:rPr>
              <a:t>Chapter 1-5</a:t>
            </a:r>
            <a:endParaRPr b="0" lang="en-US" sz="1800" spc="-1" strike="noStrike">
              <a:solidFill>
                <a:srgbClr val="000000"/>
              </a:solidFill>
              <a:latin typeface="等线 Light"/>
            </a:endParaRPr>
          </a:p>
        </p:txBody>
      </p:sp>
      <p:sp>
        <p:nvSpPr>
          <p:cNvPr id="83" name="PlaceHolder 2"/>
          <p:cNvSpPr>
            <a:spLocks noGrp="1"/>
          </p:cNvSpPr>
          <p:nvPr>
            <p:ph type="subTitle"/>
          </p:nvPr>
        </p:nvSpPr>
        <p:spPr>
          <a:xfrm>
            <a:off x="1336680" y="1476360"/>
            <a:ext cx="2719440" cy="504720"/>
          </a:xfrm>
          <a:prstGeom prst="rect">
            <a:avLst/>
          </a:prstGeom>
          <a:noFill/>
          <a:ln w="0">
            <a:noFill/>
          </a:ln>
        </p:spPr>
        <p:txBody>
          <a:bodyPr anchor="t">
            <a:noAutofit/>
          </a:bodyPr>
          <a:p>
            <a:pPr indent="0" algn="ctr">
              <a:lnSpc>
                <a:spcPct val="90000"/>
              </a:lnSpc>
              <a:spcBef>
                <a:spcPts val="425"/>
              </a:spcBef>
              <a:buNone/>
              <a:tabLst>
                <a:tab algn="l" pos="0"/>
                <a:tab algn="l" pos="385920"/>
                <a:tab algn="l" pos="771480"/>
                <a:tab algn="l" pos="1157400"/>
                <a:tab algn="l" pos="1542960"/>
                <a:tab algn="l" pos="1928880"/>
                <a:tab algn="l" pos="2314440"/>
                <a:tab algn="l" pos="2700360"/>
                <a:tab algn="l" pos="3086280"/>
                <a:tab algn="l" pos="3471840"/>
                <a:tab algn="l" pos="3857760"/>
                <a:tab algn="l" pos="4243320"/>
                <a:tab algn="l" pos="4629240"/>
                <a:tab algn="l" pos="5014800"/>
                <a:tab algn="l" pos="5400720"/>
                <a:tab algn="l" pos="5786280"/>
                <a:tab algn="l" pos="6172200"/>
                <a:tab algn="l" pos="6558120"/>
                <a:tab algn="l" pos="6943680"/>
                <a:tab algn="l" pos="7329600"/>
                <a:tab algn="l" pos="7715160"/>
              </a:tabLst>
            </a:pPr>
            <a:r>
              <a:rPr b="1" lang="en-US" sz="2800" spc="-1" strike="noStrike">
                <a:solidFill>
                  <a:srgbClr val="c00000"/>
                </a:solidFill>
                <a:latin typeface="微软雅黑"/>
                <a:ea typeface="微软雅黑"/>
              </a:rPr>
              <a:t>Nucleic Acids</a:t>
            </a:r>
            <a:endParaRPr b="0" lang="en-US" sz="2800" spc="-1" strike="noStrike">
              <a:solidFill>
                <a:srgbClr val="000000"/>
              </a:solidFill>
              <a:latin typeface="等线"/>
            </a:endParaRPr>
          </a:p>
        </p:txBody>
      </p:sp>
      <p:sp>
        <p:nvSpPr>
          <p:cNvPr id="84" name="Rectangle 5"/>
          <p:cNvSpPr/>
          <p:nvPr/>
        </p:nvSpPr>
        <p:spPr>
          <a:xfrm>
            <a:off x="576360" y="3587760"/>
            <a:ext cx="4910040" cy="1512720"/>
          </a:xfrm>
          <a:prstGeom prst="rect">
            <a:avLst/>
          </a:prstGeom>
          <a:noFill/>
          <a:ln w="0">
            <a:noFill/>
          </a:ln>
        </p:spPr>
        <p:style>
          <a:lnRef idx="0"/>
          <a:fillRef idx="0"/>
          <a:effectRef idx="0"/>
          <a:fontRef idx="minor"/>
        </p:style>
        <p:txBody>
          <a:bodyPr lIns="90000" rIns="90000" tIns="46800" bIns="46800" anchor="t">
            <a:normAutofit/>
          </a:bodyPr>
          <a:p>
            <a:pPr marL="104760" indent="-104760">
              <a:lnSpc>
                <a:spcPct val="150000"/>
              </a:lnSpc>
              <a:spcBef>
                <a:spcPts val="425"/>
              </a:spcBef>
              <a:buClr>
                <a:srgbClr val="44546a"/>
              </a:buClr>
              <a:buSzPct val="85000"/>
              <a:buFont typeface="Arial"/>
              <a:buChar char="•"/>
              <a:tabLst>
                <a:tab algn="l" pos="712800"/>
                <a:tab algn="l" pos="1425600"/>
                <a:tab algn="l" pos="2138400"/>
                <a:tab algn="l" pos="2851200"/>
                <a:tab algn="l" pos="3564000"/>
                <a:tab algn="l" pos="4276800"/>
                <a:tab algn="l" pos="4989600"/>
                <a:tab algn="l" pos="5702400"/>
                <a:tab algn="l" pos="6415200"/>
                <a:tab algn="l" pos="7128000"/>
                <a:tab algn="l" pos="7840800"/>
                <a:tab algn="l" pos="8553600"/>
                <a:tab algn="l" pos="9266400"/>
                <a:tab algn="l" pos="9979200"/>
                <a:tab algn="l" pos="10691640"/>
              </a:tabLst>
            </a:pPr>
            <a:r>
              <a:rPr b="1" lang="en-US" sz="1800" spc="-1" strike="noStrike">
                <a:solidFill>
                  <a:srgbClr val="000000"/>
                </a:solidFill>
                <a:latin typeface="微软雅黑"/>
                <a:ea typeface="微软雅黑"/>
              </a:rPr>
              <a:t>DNA Denaturation and Renaturation</a:t>
            </a:r>
            <a:endParaRPr b="0" lang="en-US" sz="1800" spc="-1" strike="noStrike">
              <a:solidFill>
                <a:srgbClr val="000000"/>
              </a:solidFill>
              <a:latin typeface="等线"/>
            </a:endParaRPr>
          </a:p>
          <a:p>
            <a:pPr marL="104760" indent="-104760">
              <a:lnSpc>
                <a:spcPct val="150000"/>
              </a:lnSpc>
              <a:spcBef>
                <a:spcPts val="425"/>
              </a:spcBef>
              <a:buClr>
                <a:srgbClr val="44546a"/>
              </a:buClr>
              <a:buSzPct val="85000"/>
              <a:buFont typeface="Arial"/>
              <a:buChar char="•"/>
              <a:tabLst>
                <a:tab algn="l" pos="712800"/>
                <a:tab algn="l" pos="1425600"/>
                <a:tab algn="l" pos="2138400"/>
                <a:tab algn="l" pos="2851200"/>
                <a:tab algn="l" pos="3564000"/>
                <a:tab algn="l" pos="4276800"/>
                <a:tab algn="l" pos="4989600"/>
                <a:tab algn="l" pos="5702400"/>
                <a:tab algn="l" pos="6415200"/>
                <a:tab algn="l" pos="7128000"/>
                <a:tab algn="l" pos="7840800"/>
                <a:tab algn="l" pos="8553600"/>
                <a:tab algn="l" pos="9266400"/>
                <a:tab algn="l" pos="9979200"/>
                <a:tab algn="l" pos="10691640"/>
              </a:tabLst>
            </a:pPr>
            <a:r>
              <a:rPr b="1" lang="en-US" sz="1800" spc="-1" strike="noStrike">
                <a:solidFill>
                  <a:srgbClr val="000000"/>
                </a:solidFill>
                <a:latin typeface="微软雅黑"/>
                <a:ea typeface="微软雅黑"/>
              </a:rPr>
              <a:t>Nucleic acids hybridization</a:t>
            </a:r>
            <a:endParaRPr b="0" lang="en-US" sz="1800" spc="-1" strike="noStrike">
              <a:solidFill>
                <a:srgbClr val="000000"/>
              </a:solidFill>
              <a:latin typeface="等线"/>
            </a:endParaRPr>
          </a:p>
        </p:txBody>
      </p:sp>
      <p:sp>
        <p:nvSpPr>
          <p:cNvPr id="85" name="文本框 1"/>
          <p:cNvSpPr/>
          <p:nvPr/>
        </p:nvSpPr>
        <p:spPr>
          <a:xfrm>
            <a:off x="930240" y="2233440"/>
            <a:ext cx="3610080" cy="4777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712800"/>
                <a:tab algn="l" pos="1425600"/>
                <a:tab algn="l" pos="2138400"/>
                <a:tab algn="l" pos="2851200"/>
                <a:tab algn="l" pos="3564000"/>
                <a:tab algn="l" pos="4276800"/>
                <a:tab algn="l" pos="4989600"/>
                <a:tab algn="l" pos="5702400"/>
                <a:tab algn="l" pos="6415200"/>
                <a:tab algn="l" pos="7128000"/>
                <a:tab algn="l" pos="7840800"/>
                <a:tab algn="l" pos="8553600"/>
                <a:tab algn="l" pos="9266400"/>
                <a:tab algn="l" pos="9979200"/>
                <a:tab algn="l" pos="10691640"/>
              </a:tabLst>
            </a:pPr>
            <a:r>
              <a:rPr b="1" lang="zh-CN" sz="2800" spc="-1" strike="noStrike">
                <a:solidFill>
                  <a:srgbClr val="000000"/>
                </a:solidFill>
                <a:latin typeface="微软雅黑"/>
                <a:ea typeface="微软雅黑"/>
              </a:rPr>
              <a:t>核酸变性复性及杂交</a:t>
            </a:r>
            <a:endParaRPr b="0" lang="en-US" sz="2800" spc="-1" strike="noStrike">
              <a:solidFill>
                <a:srgbClr val="000000"/>
              </a:solidFill>
              <a:latin typeface="等线"/>
            </a:endParaRPr>
          </a:p>
        </p:txBody>
      </p:sp>
      <p:grpSp>
        <p:nvGrpSpPr>
          <p:cNvPr id="86" name="组合 8"/>
          <p:cNvGrpSpPr/>
          <p:nvPr/>
        </p:nvGrpSpPr>
        <p:grpSpPr>
          <a:xfrm>
            <a:off x="0" y="4917960"/>
            <a:ext cx="5715000" cy="4226040"/>
            <a:chOff x="0" y="4917960"/>
            <a:chExt cx="5715000" cy="4226040"/>
          </a:xfrm>
        </p:grpSpPr>
        <p:sp>
          <p:nvSpPr>
            <p:cNvPr id="87" name="矩形 7"/>
            <p:cNvSpPr/>
            <p:nvPr/>
          </p:nvSpPr>
          <p:spPr>
            <a:xfrm>
              <a:off x="0" y="4917960"/>
              <a:ext cx="5715000" cy="4226040"/>
            </a:xfrm>
            <a:prstGeom prst="rect">
              <a:avLst/>
            </a:prstGeom>
            <a:solidFill>
              <a:srgbClr val="e9e9e9"/>
            </a:solidFill>
            <a:ln w="0">
              <a:noFill/>
            </a:ln>
          </p:spPr>
          <p:style>
            <a:lnRef idx="0"/>
            <a:fillRef idx="0"/>
            <a:effectRef idx="0"/>
            <a:fontRef idx="minor"/>
          </p:style>
          <p:txBody>
            <a:bodyPr lIns="90000" rIns="90000" tIns="46800" bIns="46800" anchor="ctr">
              <a:noAutofit/>
            </a:bodyPr>
            <a:p>
              <a:pPr algn="ctr">
                <a:tabLst>
                  <a:tab algn="l" pos="0"/>
                  <a:tab algn="l" pos="712800"/>
                  <a:tab algn="l" pos="1425600"/>
                  <a:tab algn="l" pos="2138400"/>
                  <a:tab algn="l" pos="2851200"/>
                  <a:tab algn="l" pos="3564000"/>
                  <a:tab algn="l" pos="4276800"/>
                  <a:tab algn="l" pos="4989600"/>
                  <a:tab algn="l" pos="5702400"/>
                  <a:tab algn="l" pos="6415200"/>
                  <a:tab algn="l" pos="7128000"/>
                  <a:tab algn="l" pos="7840800"/>
                  <a:tab algn="l" pos="8553600"/>
                  <a:tab algn="l" pos="9266400"/>
                  <a:tab algn="l" pos="9979200"/>
                  <a:tab algn="l" pos="10691640"/>
                </a:tabLst>
              </a:pPr>
              <a:endParaRPr b="0" lang="en-US" sz="1400" spc="-1" strike="noStrike">
                <a:solidFill>
                  <a:srgbClr val="000000"/>
                </a:solidFill>
                <a:latin typeface="等线"/>
              </a:endParaRPr>
            </a:p>
          </p:txBody>
        </p:sp>
        <p:pic>
          <p:nvPicPr>
            <p:cNvPr id="88" name="图片 5" descr=""/>
            <p:cNvPicPr/>
            <p:nvPr/>
          </p:nvPicPr>
          <p:blipFill>
            <a:blip r:embed="rId1"/>
            <a:stretch/>
          </p:blipFill>
          <p:spPr>
            <a:xfrm>
              <a:off x="0" y="5824080"/>
              <a:ext cx="5715000" cy="1523880"/>
            </a:xfrm>
            <a:prstGeom prst="rect">
              <a:avLst/>
            </a:prstGeom>
            <a:ln w="0">
              <a:noFill/>
            </a:ln>
          </p:spPr>
        </p:pic>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198000" y="387000"/>
            <a:ext cx="3397320" cy="531720"/>
          </a:xfrm>
          <a:prstGeom prst="rect">
            <a:avLst/>
          </a:prstGeom>
          <a:noFill/>
          <a:ln w="0">
            <a:noFill/>
          </a:ln>
        </p:spPr>
        <p:txBody>
          <a:bodyPr anchor="ctr" anchorCtr="1">
            <a:noAutofit/>
          </a:bodyPr>
          <a:p>
            <a:pPr indent="0" algn="ctr">
              <a:lnSpc>
                <a:spcPct val="100000"/>
              </a:lnSpc>
              <a:buNone/>
              <a:tabLst>
                <a:tab algn="l" pos="0"/>
                <a:tab algn="l" pos="385920"/>
                <a:tab algn="l" pos="771480"/>
                <a:tab algn="l" pos="1157400"/>
                <a:tab algn="l" pos="1542960"/>
                <a:tab algn="l" pos="1928880"/>
                <a:tab algn="l" pos="2314440"/>
                <a:tab algn="l" pos="2700360"/>
                <a:tab algn="l" pos="3086280"/>
                <a:tab algn="l" pos="3471840"/>
                <a:tab algn="l" pos="3857760"/>
                <a:tab algn="l" pos="4243320"/>
                <a:tab algn="l" pos="4629240"/>
                <a:tab algn="l" pos="5014800"/>
                <a:tab algn="l" pos="5400720"/>
                <a:tab algn="l" pos="5786280"/>
                <a:tab algn="l" pos="6172200"/>
                <a:tab algn="l" pos="6558120"/>
                <a:tab algn="l" pos="6943680"/>
                <a:tab algn="l" pos="7329600"/>
                <a:tab algn="l" pos="7715160"/>
              </a:tabLst>
            </a:pPr>
            <a:r>
              <a:rPr b="1" lang="zh-CN" sz="2800" spc="-1" strike="noStrike">
                <a:solidFill>
                  <a:srgbClr val="000000"/>
                </a:solidFill>
                <a:latin typeface="微软雅黑"/>
                <a:ea typeface="微软雅黑"/>
              </a:rPr>
              <a:t>本节预习指导</a:t>
            </a:r>
            <a:endParaRPr b="0" lang="en-US" sz="2800" spc="-1" strike="noStrike">
              <a:solidFill>
                <a:srgbClr val="000000"/>
              </a:solidFill>
              <a:latin typeface="等线 Light"/>
            </a:endParaRPr>
          </a:p>
        </p:txBody>
      </p:sp>
      <p:sp>
        <p:nvSpPr>
          <p:cNvPr id="90" name=""/>
          <p:cNvSpPr txBox="1"/>
          <p:nvPr/>
        </p:nvSpPr>
        <p:spPr>
          <a:xfrm>
            <a:off x="445680" y="1628640"/>
            <a:ext cx="4853160" cy="4525920"/>
          </a:xfrm>
          <a:prstGeom prst="rect">
            <a:avLst/>
          </a:prstGeom>
          <a:noFill/>
          <a:ln w="0">
            <a:noFill/>
          </a:ln>
        </p:spPr>
        <p:txBody>
          <a:bodyPr anchor="t">
            <a:normAutofit/>
          </a:bodyPr>
          <a:p>
            <a:pPr marL="95400" indent="-95400" algn="just">
              <a:lnSpc>
                <a:spcPct val="150000"/>
              </a:lnSpc>
              <a:buClr>
                <a:srgbClr val="000000"/>
              </a:buClr>
              <a:buFont typeface="Arial"/>
              <a:buChar char="•"/>
              <a:tabLst>
                <a:tab algn="l" pos="385920"/>
                <a:tab algn="l" pos="771480"/>
                <a:tab algn="l" pos="1157400"/>
                <a:tab algn="l" pos="1542960"/>
                <a:tab algn="l" pos="1928880"/>
                <a:tab algn="l" pos="2314440"/>
                <a:tab algn="l" pos="2700360"/>
                <a:tab algn="l" pos="3086280"/>
                <a:tab algn="l" pos="3471840"/>
                <a:tab algn="l" pos="3857760"/>
                <a:tab algn="l" pos="4243320"/>
                <a:tab algn="l" pos="4629240"/>
                <a:tab algn="l" pos="5014800"/>
                <a:tab algn="l" pos="5400720"/>
                <a:tab algn="l" pos="5786280"/>
                <a:tab algn="l" pos="6172200"/>
                <a:tab algn="l" pos="6558120"/>
                <a:tab algn="l" pos="6943680"/>
                <a:tab algn="l" pos="7329600"/>
                <a:tab algn="l" pos="7715160"/>
              </a:tabLst>
            </a:pPr>
            <a:r>
              <a:rPr b="0" lang="zh-CN" sz="2000" spc="-1" strike="noStrike">
                <a:solidFill>
                  <a:srgbClr val="000000"/>
                </a:solidFill>
                <a:latin typeface="微软雅黑"/>
                <a:ea typeface="微软雅黑"/>
              </a:rPr>
              <a:t>前面我们学习了</a:t>
            </a:r>
            <a:r>
              <a:rPr b="0" lang="en-US" sz="2000" spc="-1" strike="noStrike">
                <a:solidFill>
                  <a:srgbClr val="000000"/>
                </a:solidFill>
                <a:latin typeface="微软雅黑"/>
                <a:ea typeface="微软雅黑"/>
              </a:rPr>
              <a:t>DNA</a:t>
            </a:r>
            <a:r>
              <a:rPr b="0" lang="zh-CN" sz="2000" spc="-1" strike="noStrike">
                <a:solidFill>
                  <a:srgbClr val="000000"/>
                </a:solidFill>
                <a:latin typeface="微软雅黑"/>
                <a:ea typeface="微软雅黑"/>
              </a:rPr>
              <a:t>的双螺旋结构，知道了维持双螺旋结构的作用力，这一节中为大家介绍</a:t>
            </a:r>
            <a:r>
              <a:rPr b="0" lang="en-US" sz="2000" spc="-1" strike="noStrike">
                <a:solidFill>
                  <a:srgbClr val="000000"/>
                </a:solidFill>
                <a:latin typeface="微软雅黑"/>
                <a:ea typeface="微软雅黑"/>
              </a:rPr>
              <a:t>DNA</a:t>
            </a:r>
            <a:r>
              <a:rPr b="0" lang="zh-CN" sz="2000" spc="-1" strike="noStrike">
                <a:solidFill>
                  <a:srgbClr val="000000"/>
                </a:solidFill>
                <a:latin typeface="微软雅黑"/>
                <a:ea typeface="微软雅黑"/>
              </a:rPr>
              <a:t>的变性、复性，其实就是这些维持双螺旋稳定作用的破坏和重建过程。</a:t>
            </a:r>
            <a:endParaRPr b="0" lang="en-US" sz="2000" spc="-1" strike="noStrike">
              <a:solidFill>
                <a:srgbClr val="000000"/>
              </a:solidFill>
              <a:latin typeface="等线"/>
            </a:endParaRPr>
          </a:p>
          <a:p>
            <a:pPr marL="95400" indent="-95400" algn="just">
              <a:lnSpc>
                <a:spcPct val="150000"/>
              </a:lnSpc>
              <a:buClr>
                <a:srgbClr val="000000"/>
              </a:buClr>
              <a:buFont typeface="Arial"/>
              <a:buChar char="•"/>
              <a:tabLst>
                <a:tab algn="l" pos="385920"/>
                <a:tab algn="l" pos="771480"/>
                <a:tab algn="l" pos="1157400"/>
                <a:tab algn="l" pos="1542960"/>
                <a:tab algn="l" pos="1928880"/>
                <a:tab algn="l" pos="2314440"/>
                <a:tab algn="l" pos="2700360"/>
                <a:tab algn="l" pos="3086280"/>
                <a:tab algn="l" pos="3471840"/>
                <a:tab algn="l" pos="3857760"/>
                <a:tab algn="l" pos="4243320"/>
                <a:tab algn="l" pos="4629240"/>
                <a:tab algn="l" pos="5014800"/>
                <a:tab algn="l" pos="5400720"/>
                <a:tab algn="l" pos="5786280"/>
                <a:tab algn="l" pos="6172200"/>
                <a:tab algn="l" pos="6558120"/>
                <a:tab algn="l" pos="6943680"/>
                <a:tab algn="l" pos="7329600"/>
                <a:tab algn="l" pos="7715160"/>
              </a:tabLst>
            </a:pPr>
            <a:endParaRPr b="0" lang="en-US" sz="2000" spc="-1" strike="noStrike">
              <a:solidFill>
                <a:srgbClr val="000000"/>
              </a:solidFill>
              <a:latin typeface="等线"/>
            </a:endParaRPr>
          </a:p>
          <a:p>
            <a:pPr marL="95400" indent="-95400" algn="just">
              <a:lnSpc>
                <a:spcPct val="150000"/>
              </a:lnSpc>
              <a:buClr>
                <a:srgbClr val="000000"/>
              </a:buClr>
              <a:buFont typeface="Arial"/>
              <a:buChar char="•"/>
              <a:tabLst>
                <a:tab algn="l" pos="385920"/>
                <a:tab algn="l" pos="771480"/>
                <a:tab algn="l" pos="1157400"/>
                <a:tab algn="l" pos="1542960"/>
                <a:tab algn="l" pos="1928880"/>
                <a:tab algn="l" pos="2314440"/>
                <a:tab algn="l" pos="2700360"/>
                <a:tab algn="l" pos="3086280"/>
                <a:tab algn="l" pos="3471840"/>
                <a:tab algn="l" pos="3857760"/>
                <a:tab algn="l" pos="4243320"/>
                <a:tab algn="l" pos="4629240"/>
                <a:tab algn="l" pos="5014800"/>
                <a:tab algn="l" pos="5400720"/>
                <a:tab algn="l" pos="5786280"/>
                <a:tab algn="l" pos="6172200"/>
                <a:tab algn="l" pos="6558120"/>
                <a:tab algn="l" pos="6943680"/>
                <a:tab algn="l" pos="7329600"/>
                <a:tab algn="l" pos="7715160"/>
              </a:tabLst>
            </a:pPr>
            <a:r>
              <a:rPr b="0" lang="zh-CN" sz="2000" spc="-1" strike="noStrike">
                <a:solidFill>
                  <a:srgbClr val="000000"/>
                </a:solidFill>
                <a:latin typeface="微软雅黑"/>
                <a:ea typeface="微软雅黑"/>
              </a:rPr>
              <a:t>同时在这一节中大家会学习到</a:t>
            </a:r>
            <a:r>
              <a:rPr b="0" lang="en-US" sz="2000" spc="-1" strike="noStrike">
                <a:solidFill>
                  <a:srgbClr val="000000"/>
                </a:solidFill>
                <a:latin typeface="微软雅黑"/>
                <a:ea typeface="微软雅黑"/>
              </a:rPr>
              <a:t>DNA</a:t>
            </a:r>
            <a:r>
              <a:rPr b="0" lang="zh-CN" sz="2000" spc="-1" strike="noStrike">
                <a:solidFill>
                  <a:srgbClr val="000000"/>
                </a:solidFill>
                <a:latin typeface="微软雅黑"/>
                <a:ea typeface="微软雅黑"/>
              </a:rPr>
              <a:t>的光谱学性质，通过核酸紫外吸收的特性，我们可以进行</a:t>
            </a:r>
            <a:r>
              <a:rPr b="0" lang="en-US" sz="2000" spc="-1" strike="noStrike">
                <a:solidFill>
                  <a:srgbClr val="000000"/>
                </a:solidFill>
                <a:latin typeface="微软雅黑"/>
                <a:ea typeface="微软雅黑"/>
              </a:rPr>
              <a:t>DNA</a:t>
            </a:r>
            <a:r>
              <a:rPr b="0" lang="zh-CN" sz="2000" spc="-1" strike="noStrike">
                <a:solidFill>
                  <a:srgbClr val="000000"/>
                </a:solidFill>
                <a:latin typeface="微软雅黑"/>
                <a:ea typeface="微软雅黑"/>
              </a:rPr>
              <a:t>的变性、复性的检测，核酸的定量及样品纯度的判断。利用核酸变性复性的原理，我们可以采用核酸杂交的方法在生物样品中进行特定序列核酸分子的检测。</a:t>
            </a:r>
            <a:endParaRPr b="0" lang="en-US" sz="2000" spc="-1" strike="noStrike">
              <a:solidFill>
                <a:srgbClr val="000000"/>
              </a:solidFill>
              <a:latin typeface="等线"/>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343080" y="448920"/>
            <a:ext cx="4970160" cy="530280"/>
          </a:xfrm>
          <a:prstGeom prst="rect">
            <a:avLst/>
          </a:prstGeom>
          <a:noFill/>
          <a:ln w="0">
            <a:noFill/>
          </a:ln>
        </p:spPr>
        <p:txBody>
          <a:bodyPr anchor="ctr" anchorCtr="1">
            <a:noAutofit/>
          </a:bodyPr>
          <a:p>
            <a:pPr indent="0" algn="ctr">
              <a:lnSpc>
                <a:spcPct val="100000"/>
              </a:lnSpc>
              <a:buNone/>
              <a:tabLst>
                <a:tab algn="l" pos="0"/>
                <a:tab algn="l" pos="385920"/>
                <a:tab algn="l" pos="771480"/>
                <a:tab algn="l" pos="1157400"/>
                <a:tab algn="l" pos="1542960"/>
                <a:tab algn="l" pos="1928880"/>
                <a:tab algn="l" pos="2314440"/>
                <a:tab algn="l" pos="2700360"/>
                <a:tab algn="l" pos="3086280"/>
                <a:tab algn="l" pos="3471840"/>
                <a:tab algn="l" pos="3857760"/>
                <a:tab algn="l" pos="4243320"/>
                <a:tab algn="l" pos="4629240"/>
                <a:tab algn="l" pos="5014800"/>
                <a:tab algn="l" pos="5400720"/>
                <a:tab algn="l" pos="5786280"/>
                <a:tab algn="l" pos="6172200"/>
                <a:tab algn="l" pos="6558120"/>
                <a:tab algn="l" pos="6943680"/>
                <a:tab algn="l" pos="7329600"/>
                <a:tab algn="l" pos="7715160"/>
              </a:tabLst>
            </a:pPr>
            <a:r>
              <a:rPr b="1" lang="zh-CN" sz="2800" spc="-1" strike="noStrike">
                <a:solidFill>
                  <a:srgbClr val="000000"/>
                </a:solidFill>
                <a:latin typeface="微软雅黑"/>
                <a:ea typeface="微软雅黑"/>
              </a:rPr>
              <a:t>本节预习视频</a:t>
            </a:r>
            <a:endParaRPr b="0" lang="en-US" sz="2800" spc="-1" strike="noStrike">
              <a:solidFill>
                <a:srgbClr val="000000"/>
              </a:solidFill>
              <a:latin typeface="等线 Light"/>
            </a:endParaRPr>
          </a:p>
        </p:txBody>
      </p:sp>
      <p:sp>
        <p:nvSpPr>
          <p:cNvPr id="92" name="矩形 6"/>
          <p:cNvSpPr/>
          <p:nvPr/>
        </p:nvSpPr>
        <p:spPr>
          <a:xfrm>
            <a:off x="171360" y="1730520"/>
            <a:ext cx="5375520" cy="3840120"/>
          </a:xfrm>
          <a:prstGeom prst="rect">
            <a:avLst/>
          </a:prstGeom>
          <a:blipFill rotWithShape="0">
            <a:blip r:embed="rId1"/>
            <a:srcRect/>
            <a:stretch/>
          </a:blipFill>
          <a:ln w="0">
            <a:noFill/>
          </a:ln>
        </p:spPr>
        <p:style>
          <a:lnRef idx="0"/>
          <a:fillRef idx="0"/>
          <a:effectRef idx="0"/>
          <a:fontRef idx="minor"/>
        </p:style>
        <p:txBody>
          <a:bodyPr lIns="355680" rIns="355680" tIns="46800" bIns="46800" anchor="ctr">
            <a:noAutofit/>
          </a:bodyPr>
          <a:p>
            <a:pPr algn="ctr">
              <a:lnSpc>
                <a:spcPct val="100000"/>
              </a:lnSpc>
              <a:tabLst>
                <a:tab algn="l" pos="0"/>
                <a:tab algn="l" pos="712800"/>
                <a:tab algn="l" pos="1425600"/>
                <a:tab algn="l" pos="2138400"/>
                <a:tab algn="l" pos="2851200"/>
                <a:tab algn="l" pos="3564000"/>
                <a:tab algn="l" pos="4276800"/>
                <a:tab algn="l" pos="4989600"/>
                <a:tab algn="l" pos="5702400"/>
                <a:tab algn="l" pos="6415200"/>
                <a:tab algn="l" pos="7128000"/>
                <a:tab algn="l" pos="7840800"/>
                <a:tab algn="l" pos="8553600"/>
                <a:tab algn="l" pos="9266400"/>
                <a:tab algn="l" pos="9979200"/>
                <a:tab algn="l" pos="10691640"/>
              </a:tabLst>
            </a:pPr>
            <a:r>
              <a:rPr b="0" lang="zh-CN" sz="2000" spc="-1" strike="noStrike">
                <a:solidFill>
                  <a:srgbClr val="ffffff"/>
                </a:solidFill>
                <a:latin typeface="Microsoft Yahei"/>
                <a:ea typeface="Microsoft Yahei"/>
              </a:rPr>
              <a:t>慕课视频片段</a:t>
            </a:r>
            <a:endParaRPr b="0" lang="en-US" sz="2000" spc="-1" strike="noStrike">
              <a:solidFill>
                <a:srgbClr val="000000"/>
              </a:solidFill>
              <a:latin typeface="等线"/>
            </a:endParaRPr>
          </a:p>
          <a:p>
            <a:pPr algn="just">
              <a:lnSpc>
                <a:spcPct val="100000"/>
              </a:lnSpc>
              <a:tabLst>
                <a:tab algn="l" pos="0"/>
                <a:tab algn="l" pos="712800"/>
                <a:tab algn="l" pos="1425600"/>
                <a:tab algn="l" pos="2138400"/>
                <a:tab algn="l" pos="2851200"/>
                <a:tab algn="l" pos="3564000"/>
                <a:tab algn="l" pos="4276800"/>
                <a:tab algn="l" pos="4989600"/>
                <a:tab algn="l" pos="5702400"/>
                <a:tab algn="l" pos="6415200"/>
                <a:tab algn="l" pos="7128000"/>
                <a:tab algn="l" pos="7840800"/>
                <a:tab algn="l" pos="8553600"/>
                <a:tab algn="l" pos="9266400"/>
                <a:tab algn="l" pos="9979200"/>
                <a:tab algn="l" pos="10691640"/>
              </a:tabLst>
            </a:pPr>
            <a:endParaRPr b="0" lang="en-US" sz="1600" spc="-1" strike="noStrike">
              <a:solidFill>
                <a:srgbClr val="000000"/>
              </a:solidFill>
              <a:latin typeface="等线"/>
            </a:endParaRPr>
          </a:p>
          <a:p>
            <a:pPr algn="just">
              <a:lnSpc>
                <a:spcPct val="100000"/>
              </a:lnSpc>
              <a:tabLst>
                <a:tab algn="l" pos="0"/>
                <a:tab algn="l" pos="712800"/>
                <a:tab algn="l" pos="1425600"/>
                <a:tab algn="l" pos="2138400"/>
                <a:tab algn="l" pos="2851200"/>
                <a:tab algn="l" pos="3564000"/>
                <a:tab algn="l" pos="4276800"/>
                <a:tab algn="l" pos="4989600"/>
                <a:tab algn="l" pos="5702400"/>
                <a:tab algn="l" pos="6415200"/>
                <a:tab algn="l" pos="7128000"/>
                <a:tab algn="l" pos="7840800"/>
                <a:tab algn="l" pos="8553600"/>
                <a:tab algn="l" pos="9266400"/>
                <a:tab algn="l" pos="9979200"/>
                <a:tab algn="l" pos="10691640"/>
              </a:tabLst>
            </a:pPr>
            <a:r>
              <a:rPr b="0" lang="zh-CN" sz="1600" spc="-1" strike="noStrike">
                <a:solidFill>
                  <a:srgbClr val="f8f8f8"/>
                </a:solidFill>
                <a:latin typeface="Microsoft Yahei"/>
                <a:ea typeface="Microsoft Yahei"/>
              </a:rPr>
              <a:t>视频名称：</a:t>
            </a:r>
            <a:r>
              <a:rPr b="0" lang="en-US" sz="1600" spc="-1" strike="noStrike">
                <a:solidFill>
                  <a:srgbClr val="f8f8f8"/>
                </a:solidFill>
                <a:latin typeface="Microsoft Yahei"/>
                <a:ea typeface="Microsoft Yahei"/>
              </a:rPr>
              <a:t>Lecture 5  DNA</a:t>
            </a:r>
            <a:r>
              <a:rPr b="0" lang="zh-CN" sz="1600" spc="-1" strike="noStrike">
                <a:solidFill>
                  <a:srgbClr val="f8f8f8"/>
                </a:solidFill>
                <a:latin typeface="Microsoft Yahei"/>
                <a:ea typeface="Microsoft Yahei"/>
              </a:rPr>
              <a:t>的变性与复性与核酸杂交技术</a:t>
            </a:r>
            <a:r>
              <a:rPr b="0" lang="en-US" sz="1600" spc="-1" strike="noStrike">
                <a:solidFill>
                  <a:srgbClr val="f8f8f8"/>
                </a:solidFill>
                <a:latin typeface="Microsoft Yahei"/>
                <a:ea typeface="Microsoft Yahei"/>
              </a:rPr>
              <a:t>DNA Denaturation, renaturation and  hybridization:</a:t>
            </a:r>
            <a:r>
              <a:rPr b="0" lang="zh-CN" sz="1600" spc="-1" strike="noStrike">
                <a:solidFill>
                  <a:srgbClr val="f8f8f8"/>
                </a:solidFill>
                <a:latin typeface="Microsoft Yahei"/>
                <a:ea typeface="Microsoft Yahei"/>
              </a:rPr>
              <a:t>视频</a:t>
            </a:r>
            <a:endParaRPr b="0" lang="en-US" sz="1600" spc="-1" strike="noStrike">
              <a:solidFill>
                <a:srgbClr val="000000"/>
              </a:solidFill>
              <a:latin typeface="等线"/>
            </a:endParaRPr>
          </a:p>
          <a:p>
            <a:pPr algn="just">
              <a:lnSpc>
                <a:spcPct val="100000"/>
              </a:lnSpc>
              <a:tabLst>
                <a:tab algn="l" pos="0"/>
                <a:tab algn="l" pos="712800"/>
                <a:tab algn="l" pos="1425600"/>
                <a:tab algn="l" pos="2138400"/>
                <a:tab algn="l" pos="2851200"/>
                <a:tab algn="l" pos="3564000"/>
                <a:tab algn="l" pos="4276800"/>
                <a:tab algn="l" pos="4989600"/>
                <a:tab algn="l" pos="5702400"/>
                <a:tab algn="l" pos="6415200"/>
                <a:tab algn="l" pos="7128000"/>
                <a:tab algn="l" pos="7840800"/>
                <a:tab algn="l" pos="8553600"/>
                <a:tab algn="l" pos="9266400"/>
                <a:tab algn="l" pos="9979200"/>
                <a:tab algn="l" pos="10691640"/>
              </a:tabLst>
            </a:pPr>
            <a:endParaRPr b="0" lang="en-US" sz="1600" spc="-1" strike="noStrike">
              <a:solidFill>
                <a:srgbClr val="000000"/>
              </a:solidFill>
              <a:latin typeface="等线"/>
            </a:endParaRPr>
          </a:p>
          <a:p>
            <a:pPr algn="just">
              <a:lnSpc>
                <a:spcPct val="100000"/>
              </a:lnSpc>
              <a:tabLst>
                <a:tab algn="l" pos="0"/>
                <a:tab algn="l" pos="712800"/>
                <a:tab algn="l" pos="1425600"/>
                <a:tab algn="l" pos="2138400"/>
                <a:tab algn="l" pos="2851200"/>
                <a:tab algn="l" pos="3564000"/>
                <a:tab algn="l" pos="4276800"/>
                <a:tab algn="l" pos="4989600"/>
                <a:tab algn="l" pos="5702400"/>
                <a:tab algn="l" pos="6415200"/>
                <a:tab algn="l" pos="7128000"/>
                <a:tab algn="l" pos="7840800"/>
                <a:tab algn="l" pos="8553600"/>
                <a:tab algn="l" pos="9266400"/>
                <a:tab algn="l" pos="9979200"/>
                <a:tab algn="l" pos="10691640"/>
              </a:tabLst>
            </a:pPr>
            <a:endParaRPr b="0" lang="en-US" sz="1600" spc="-1" strike="noStrike">
              <a:solidFill>
                <a:srgbClr val="000000"/>
              </a:solidFill>
              <a:latin typeface="等线"/>
            </a:endParaRPr>
          </a:p>
          <a:p>
            <a:pPr algn="just">
              <a:lnSpc>
                <a:spcPct val="100000"/>
              </a:lnSpc>
              <a:tabLst>
                <a:tab algn="l" pos="0"/>
                <a:tab algn="l" pos="712800"/>
                <a:tab algn="l" pos="1425600"/>
                <a:tab algn="l" pos="2138400"/>
                <a:tab algn="l" pos="2851200"/>
                <a:tab algn="l" pos="3564000"/>
                <a:tab algn="l" pos="4276800"/>
                <a:tab algn="l" pos="4989600"/>
                <a:tab algn="l" pos="5702400"/>
                <a:tab algn="l" pos="6415200"/>
                <a:tab algn="l" pos="7128000"/>
                <a:tab algn="l" pos="7840800"/>
                <a:tab algn="l" pos="8553600"/>
                <a:tab algn="l" pos="9266400"/>
                <a:tab algn="l" pos="9979200"/>
                <a:tab algn="l" pos="10691640"/>
              </a:tabLst>
            </a:pPr>
            <a:r>
              <a:rPr b="0" lang="zh-CN" sz="1100" spc="-1" strike="noStrike">
                <a:solidFill>
                  <a:srgbClr val="c8c8c8"/>
                </a:solidFill>
                <a:latin typeface="Microsoft Yahei"/>
                <a:ea typeface="Microsoft Yahei"/>
              </a:rPr>
              <a:t>温馨提示：此视频框在点击“上传手机课件”时会进行转换，用手机进行观看时则会变为可点击的视频。此视频框可被拖动移位和修改大小</a:t>
            </a:r>
            <a:endParaRPr b="0" lang="en-US" sz="1100" spc="-1" strike="noStrike">
              <a:solidFill>
                <a:srgbClr val="000000"/>
              </a:solidFill>
              <a:latin typeface="等线"/>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388440" y="383760"/>
            <a:ext cx="2930760" cy="530280"/>
          </a:xfrm>
          <a:prstGeom prst="rect">
            <a:avLst/>
          </a:prstGeom>
          <a:noFill/>
          <a:ln w="0">
            <a:noFill/>
          </a:ln>
        </p:spPr>
        <p:txBody>
          <a:bodyPr anchor="ctr" anchorCtr="1">
            <a:noAutofit/>
          </a:bodyPr>
          <a:p>
            <a:pPr indent="0" algn="ctr">
              <a:lnSpc>
                <a:spcPct val="100000"/>
              </a:lnSpc>
              <a:buNone/>
              <a:tabLst>
                <a:tab algn="l" pos="0"/>
                <a:tab algn="l" pos="385920"/>
                <a:tab algn="l" pos="771480"/>
                <a:tab algn="l" pos="1157400"/>
                <a:tab algn="l" pos="1542960"/>
                <a:tab algn="l" pos="1928880"/>
                <a:tab algn="l" pos="2314440"/>
                <a:tab algn="l" pos="2700360"/>
                <a:tab algn="l" pos="3086280"/>
                <a:tab algn="l" pos="3471840"/>
                <a:tab algn="l" pos="3857760"/>
                <a:tab algn="l" pos="4243320"/>
                <a:tab algn="l" pos="4629240"/>
                <a:tab algn="l" pos="5014800"/>
                <a:tab algn="l" pos="5400720"/>
                <a:tab algn="l" pos="5786280"/>
                <a:tab algn="l" pos="6172200"/>
                <a:tab algn="l" pos="6558120"/>
                <a:tab algn="l" pos="6943680"/>
                <a:tab algn="l" pos="7329600"/>
                <a:tab algn="l" pos="7715160"/>
              </a:tabLst>
            </a:pPr>
            <a:r>
              <a:rPr b="1" lang="zh-CN" sz="2800" spc="-1" strike="noStrike">
                <a:solidFill>
                  <a:srgbClr val="000000"/>
                </a:solidFill>
                <a:latin typeface="微软雅黑"/>
                <a:ea typeface="微软雅黑"/>
              </a:rPr>
              <a:t>本节重点内容</a:t>
            </a:r>
            <a:endParaRPr b="0" lang="en-US" sz="2800" spc="-1" strike="noStrike">
              <a:solidFill>
                <a:srgbClr val="000000"/>
              </a:solidFill>
              <a:latin typeface="等线 Light"/>
            </a:endParaRPr>
          </a:p>
        </p:txBody>
      </p:sp>
      <p:sp>
        <p:nvSpPr>
          <p:cNvPr id="94" name="内容占位符 2"/>
          <p:cNvSpPr/>
          <p:nvPr/>
        </p:nvSpPr>
        <p:spPr>
          <a:xfrm>
            <a:off x="460440" y="1413000"/>
            <a:ext cx="4635360" cy="6886440"/>
          </a:xfrm>
          <a:prstGeom prst="rect">
            <a:avLst/>
          </a:prstGeom>
          <a:noFill/>
          <a:ln w="0">
            <a:noFill/>
          </a:ln>
        </p:spPr>
        <p:style>
          <a:lnRef idx="0"/>
          <a:fillRef idx="0"/>
          <a:effectRef idx="0"/>
          <a:fontRef idx="minor"/>
        </p:style>
        <p:txBody>
          <a:bodyPr lIns="90000" rIns="90000" tIns="46800" bIns="46800" anchor="t">
            <a:normAutofit/>
          </a:bodyPr>
          <a:p>
            <a:pPr algn="just">
              <a:lnSpc>
                <a:spcPct val="125000"/>
              </a:lnSpc>
              <a:tabLst>
                <a:tab algn="l" pos="0"/>
                <a:tab algn="l" pos="385920"/>
                <a:tab algn="l" pos="771480"/>
                <a:tab algn="l" pos="1157400"/>
                <a:tab algn="l" pos="1542960"/>
                <a:tab algn="l" pos="1928880"/>
                <a:tab algn="l" pos="2314440"/>
                <a:tab algn="l" pos="2700360"/>
                <a:tab algn="l" pos="3086280"/>
                <a:tab algn="l" pos="3471840"/>
                <a:tab algn="l" pos="3857760"/>
                <a:tab algn="l" pos="4243320"/>
                <a:tab algn="l" pos="4629240"/>
                <a:tab algn="l" pos="5014800"/>
                <a:tab algn="l" pos="5400720"/>
                <a:tab algn="l" pos="5786280"/>
                <a:tab algn="l" pos="6172200"/>
                <a:tab algn="l" pos="6558120"/>
                <a:tab algn="l" pos="6943680"/>
                <a:tab algn="l" pos="7329600"/>
                <a:tab algn="l" pos="7715160"/>
              </a:tabLst>
            </a:pPr>
            <a:r>
              <a:rPr b="1" lang="en-US" sz="1800" spc="-1" strike="noStrike">
                <a:solidFill>
                  <a:srgbClr val="000000"/>
                </a:solidFill>
                <a:latin typeface="微软雅黑"/>
                <a:ea typeface="微软雅黑"/>
              </a:rPr>
              <a:t>1</a:t>
            </a:r>
            <a:r>
              <a:rPr b="1" lang="zh-CN" sz="1800" spc="-1" strike="noStrike">
                <a:solidFill>
                  <a:srgbClr val="000000"/>
                </a:solidFill>
                <a:latin typeface="微软雅黑"/>
                <a:ea typeface="微软雅黑"/>
              </a:rPr>
              <a:t>．核酸的紫外吸收特性</a:t>
            </a:r>
            <a:endParaRPr b="0" lang="en-US" sz="1800" spc="-1" strike="noStrike">
              <a:solidFill>
                <a:srgbClr val="000000"/>
              </a:solidFill>
              <a:latin typeface="等线"/>
            </a:endParaRPr>
          </a:p>
          <a:p>
            <a:pPr algn="just">
              <a:lnSpc>
                <a:spcPct val="125000"/>
              </a:lnSpc>
              <a:buClr>
                <a:srgbClr val="000000"/>
              </a:buClr>
              <a:buFont typeface="Arial"/>
              <a:buChar char="•"/>
              <a:tabLst>
                <a:tab algn="l" pos="385920"/>
                <a:tab algn="l" pos="771480"/>
                <a:tab algn="l" pos="1157400"/>
                <a:tab algn="l" pos="1542960"/>
                <a:tab algn="l" pos="1928880"/>
                <a:tab algn="l" pos="2314440"/>
                <a:tab algn="l" pos="2700360"/>
                <a:tab algn="l" pos="3086280"/>
                <a:tab algn="l" pos="3471840"/>
                <a:tab algn="l" pos="3857760"/>
                <a:tab algn="l" pos="4243320"/>
                <a:tab algn="l" pos="4629240"/>
                <a:tab algn="l" pos="5014800"/>
                <a:tab algn="l" pos="5400720"/>
                <a:tab algn="l" pos="5786280"/>
                <a:tab algn="l" pos="6172200"/>
                <a:tab algn="l" pos="6558120"/>
                <a:tab algn="l" pos="6943680"/>
                <a:tab algn="l" pos="7329600"/>
                <a:tab algn="l" pos="7715160"/>
              </a:tabLst>
            </a:pPr>
            <a:r>
              <a:rPr b="0" lang="zh-CN" sz="1800" spc="-1" strike="noStrike">
                <a:solidFill>
                  <a:srgbClr val="000000"/>
                </a:solidFill>
                <a:latin typeface="微软雅黑"/>
                <a:ea typeface="微软雅黑"/>
              </a:rPr>
              <a:t>核酸分子的最大吸收波长</a:t>
            </a:r>
            <a:endParaRPr b="0" lang="en-US" sz="1800" spc="-1" strike="noStrike">
              <a:solidFill>
                <a:srgbClr val="000000"/>
              </a:solidFill>
              <a:latin typeface="等线"/>
            </a:endParaRPr>
          </a:p>
          <a:p>
            <a:pPr algn="just">
              <a:lnSpc>
                <a:spcPct val="125000"/>
              </a:lnSpc>
              <a:buClr>
                <a:srgbClr val="000000"/>
              </a:buClr>
              <a:buFont typeface="Arial"/>
              <a:buChar char="•"/>
              <a:tabLst>
                <a:tab algn="l" pos="385920"/>
                <a:tab algn="l" pos="771480"/>
                <a:tab algn="l" pos="1157400"/>
                <a:tab algn="l" pos="1542960"/>
                <a:tab algn="l" pos="1928880"/>
                <a:tab algn="l" pos="2314440"/>
                <a:tab algn="l" pos="2700360"/>
                <a:tab algn="l" pos="3086280"/>
                <a:tab algn="l" pos="3471840"/>
                <a:tab algn="l" pos="3857760"/>
                <a:tab algn="l" pos="4243320"/>
                <a:tab algn="l" pos="4629240"/>
                <a:tab algn="l" pos="5014800"/>
                <a:tab algn="l" pos="5400720"/>
                <a:tab algn="l" pos="5786280"/>
                <a:tab algn="l" pos="6172200"/>
                <a:tab algn="l" pos="6558120"/>
                <a:tab algn="l" pos="6943680"/>
                <a:tab algn="l" pos="7329600"/>
                <a:tab algn="l" pos="7715160"/>
              </a:tabLst>
            </a:pPr>
            <a:r>
              <a:rPr b="0" lang="zh-CN" sz="1800" spc="-1" strike="noStrike">
                <a:solidFill>
                  <a:srgbClr val="000000"/>
                </a:solidFill>
                <a:latin typeface="微软雅黑"/>
                <a:ea typeface="微软雅黑"/>
              </a:rPr>
              <a:t>增色现象及其原因</a:t>
            </a:r>
            <a:endParaRPr b="0" lang="en-US" sz="1800" spc="-1" strike="noStrike">
              <a:solidFill>
                <a:srgbClr val="000000"/>
              </a:solidFill>
              <a:latin typeface="等线"/>
            </a:endParaRPr>
          </a:p>
          <a:p>
            <a:pPr algn="just">
              <a:lnSpc>
                <a:spcPct val="125000"/>
              </a:lnSpc>
              <a:buClr>
                <a:srgbClr val="000000"/>
              </a:buClr>
              <a:buFont typeface="Arial"/>
              <a:buChar char="•"/>
              <a:tabLst>
                <a:tab algn="l" pos="385920"/>
                <a:tab algn="l" pos="771480"/>
                <a:tab algn="l" pos="1157400"/>
                <a:tab algn="l" pos="1542960"/>
                <a:tab algn="l" pos="1928880"/>
                <a:tab algn="l" pos="2314440"/>
                <a:tab algn="l" pos="2700360"/>
                <a:tab algn="l" pos="3086280"/>
                <a:tab algn="l" pos="3471840"/>
                <a:tab algn="l" pos="3857760"/>
                <a:tab algn="l" pos="4243320"/>
                <a:tab algn="l" pos="4629240"/>
                <a:tab algn="l" pos="5014800"/>
                <a:tab algn="l" pos="5400720"/>
                <a:tab algn="l" pos="5786280"/>
                <a:tab algn="l" pos="6172200"/>
                <a:tab algn="l" pos="6558120"/>
                <a:tab algn="l" pos="6943680"/>
                <a:tab algn="l" pos="7329600"/>
                <a:tab algn="l" pos="7715160"/>
              </a:tabLst>
            </a:pPr>
            <a:r>
              <a:rPr b="0" lang="zh-CN" sz="1800" spc="-1" strike="noStrike">
                <a:solidFill>
                  <a:srgbClr val="000000"/>
                </a:solidFill>
                <a:latin typeface="微软雅黑"/>
                <a:ea typeface="微软雅黑"/>
              </a:rPr>
              <a:t>核酸定量：通过核酸紫外吸光度值计算各种核酸样品浓度</a:t>
            </a:r>
            <a:endParaRPr b="0" lang="en-US" sz="1800" spc="-1" strike="noStrike">
              <a:solidFill>
                <a:srgbClr val="000000"/>
              </a:solidFill>
              <a:latin typeface="等线"/>
            </a:endParaRPr>
          </a:p>
          <a:p>
            <a:pPr algn="just">
              <a:lnSpc>
                <a:spcPct val="125000"/>
              </a:lnSpc>
              <a:buClr>
                <a:srgbClr val="000000"/>
              </a:buClr>
              <a:buFont typeface="Arial"/>
              <a:buChar char="•"/>
              <a:tabLst>
                <a:tab algn="l" pos="385920"/>
                <a:tab algn="l" pos="771480"/>
                <a:tab algn="l" pos="1157400"/>
                <a:tab algn="l" pos="1542960"/>
                <a:tab algn="l" pos="1928880"/>
                <a:tab algn="l" pos="2314440"/>
                <a:tab algn="l" pos="2700360"/>
                <a:tab algn="l" pos="3086280"/>
                <a:tab algn="l" pos="3471840"/>
                <a:tab algn="l" pos="3857760"/>
                <a:tab algn="l" pos="4243320"/>
                <a:tab algn="l" pos="4629240"/>
                <a:tab algn="l" pos="5014800"/>
                <a:tab algn="l" pos="5400720"/>
                <a:tab algn="l" pos="5786280"/>
                <a:tab algn="l" pos="6172200"/>
                <a:tab algn="l" pos="6558120"/>
                <a:tab algn="l" pos="6943680"/>
                <a:tab algn="l" pos="7329600"/>
                <a:tab algn="l" pos="7715160"/>
              </a:tabLst>
            </a:pPr>
            <a:r>
              <a:rPr b="0" lang="zh-CN" sz="1800" spc="-1" strike="noStrike">
                <a:solidFill>
                  <a:srgbClr val="000000"/>
                </a:solidFill>
                <a:latin typeface="微软雅黑"/>
                <a:ea typeface="微软雅黑"/>
              </a:rPr>
              <a:t>纯度分析：通过样品</a:t>
            </a:r>
            <a:r>
              <a:rPr b="0" lang="en-US" sz="1800" spc="-1" strike="noStrike">
                <a:solidFill>
                  <a:srgbClr val="000000"/>
                </a:solidFill>
                <a:latin typeface="微软雅黑"/>
                <a:ea typeface="微软雅黑"/>
              </a:rPr>
              <a:t>260nm</a:t>
            </a:r>
            <a:r>
              <a:rPr b="0" lang="zh-CN" sz="1800" spc="-1" strike="noStrike">
                <a:solidFill>
                  <a:srgbClr val="000000"/>
                </a:solidFill>
                <a:latin typeface="微软雅黑"/>
                <a:ea typeface="微软雅黑"/>
              </a:rPr>
              <a:t>和</a:t>
            </a:r>
            <a:r>
              <a:rPr b="0" lang="en-US" sz="1800" spc="-1" strike="noStrike">
                <a:solidFill>
                  <a:srgbClr val="000000"/>
                </a:solidFill>
                <a:latin typeface="微软雅黑"/>
                <a:ea typeface="微软雅黑"/>
              </a:rPr>
              <a:t>280nm</a:t>
            </a:r>
            <a:r>
              <a:rPr b="0" lang="zh-CN" sz="1800" spc="-1" strike="noStrike">
                <a:solidFill>
                  <a:srgbClr val="000000"/>
                </a:solidFill>
                <a:latin typeface="微软雅黑"/>
                <a:ea typeface="微软雅黑"/>
              </a:rPr>
              <a:t>紫外吸光度的比值判断样品纯度</a:t>
            </a:r>
            <a:endParaRPr b="0" lang="en-US" sz="1800" spc="-1" strike="noStrike">
              <a:solidFill>
                <a:srgbClr val="000000"/>
              </a:solidFill>
              <a:latin typeface="等线"/>
            </a:endParaRPr>
          </a:p>
          <a:p>
            <a:pPr algn="just">
              <a:lnSpc>
                <a:spcPct val="125000"/>
              </a:lnSpc>
              <a:buClr>
                <a:srgbClr val="000000"/>
              </a:buClr>
              <a:buFont typeface="Arial"/>
              <a:buChar char="•"/>
              <a:tabLst>
                <a:tab algn="l" pos="385920"/>
                <a:tab algn="l" pos="771480"/>
                <a:tab algn="l" pos="1157400"/>
                <a:tab algn="l" pos="1542960"/>
                <a:tab algn="l" pos="1928880"/>
                <a:tab algn="l" pos="2314440"/>
                <a:tab algn="l" pos="2700360"/>
                <a:tab algn="l" pos="3086280"/>
                <a:tab algn="l" pos="3471840"/>
                <a:tab algn="l" pos="3857760"/>
                <a:tab algn="l" pos="4243320"/>
                <a:tab algn="l" pos="4629240"/>
                <a:tab algn="l" pos="5014800"/>
                <a:tab algn="l" pos="5400720"/>
                <a:tab algn="l" pos="5786280"/>
                <a:tab algn="l" pos="6172200"/>
                <a:tab algn="l" pos="6558120"/>
                <a:tab algn="l" pos="6943680"/>
                <a:tab algn="l" pos="7329600"/>
                <a:tab algn="l" pos="7715160"/>
              </a:tabLst>
            </a:pPr>
            <a:endParaRPr b="0" lang="en-US" sz="1800" spc="-1" strike="noStrike">
              <a:solidFill>
                <a:srgbClr val="000000"/>
              </a:solidFill>
              <a:latin typeface="等线"/>
            </a:endParaRPr>
          </a:p>
          <a:p>
            <a:pPr algn="just">
              <a:lnSpc>
                <a:spcPct val="125000"/>
              </a:lnSpc>
              <a:tabLst>
                <a:tab algn="l" pos="0"/>
                <a:tab algn="l" pos="385920"/>
                <a:tab algn="l" pos="771480"/>
                <a:tab algn="l" pos="1157400"/>
                <a:tab algn="l" pos="1542960"/>
                <a:tab algn="l" pos="1928880"/>
                <a:tab algn="l" pos="2314440"/>
                <a:tab algn="l" pos="2700360"/>
                <a:tab algn="l" pos="3086280"/>
                <a:tab algn="l" pos="3471840"/>
                <a:tab algn="l" pos="3857760"/>
                <a:tab algn="l" pos="4243320"/>
                <a:tab algn="l" pos="4629240"/>
                <a:tab algn="l" pos="5014800"/>
                <a:tab algn="l" pos="5400720"/>
                <a:tab algn="l" pos="5786280"/>
                <a:tab algn="l" pos="6172200"/>
                <a:tab algn="l" pos="6558120"/>
                <a:tab algn="l" pos="6943680"/>
                <a:tab algn="l" pos="7329600"/>
                <a:tab algn="l" pos="7715160"/>
              </a:tabLst>
            </a:pPr>
            <a:r>
              <a:rPr b="1" lang="en-US" sz="1800" spc="-1" strike="noStrike">
                <a:solidFill>
                  <a:srgbClr val="000000"/>
                </a:solidFill>
                <a:latin typeface="微软雅黑"/>
                <a:ea typeface="微软雅黑"/>
              </a:rPr>
              <a:t>2</a:t>
            </a:r>
            <a:r>
              <a:rPr b="1" lang="zh-CN" sz="1800" spc="-1" strike="noStrike">
                <a:solidFill>
                  <a:srgbClr val="000000"/>
                </a:solidFill>
                <a:latin typeface="微软雅黑"/>
                <a:ea typeface="微软雅黑"/>
              </a:rPr>
              <a:t>．</a:t>
            </a:r>
            <a:r>
              <a:rPr b="1" lang="en-US" sz="1800" spc="-1" strike="noStrike">
                <a:solidFill>
                  <a:srgbClr val="000000"/>
                </a:solidFill>
                <a:latin typeface="微软雅黑"/>
                <a:ea typeface="微软雅黑"/>
              </a:rPr>
              <a:t>DNA</a:t>
            </a:r>
            <a:r>
              <a:rPr b="1" lang="zh-CN" sz="1800" spc="-1" strike="noStrike">
                <a:solidFill>
                  <a:srgbClr val="000000"/>
                </a:solidFill>
                <a:latin typeface="微软雅黑"/>
                <a:ea typeface="微软雅黑"/>
              </a:rPr>
              <a:t>变性</a:t>
            </a:r>
            <a:endParaRPr b="0" lang="en-US" sz="1800" spc="-1" strike="noStrike">
              <a:solidFill>
                <a:srgbClr val="000000"/>
              </a:solidFill>
              <a:latin typeface="等线"/>
            </a:endParaRPr>
          </a:p>
          <a:p>
            <a:pPr algn="just">
              <a:lnSpc>
                <a:spcPct val="125000"/>
              </a:lnSpc>
              <a:buClr>
                <a:srgbClr val="000000"/>
              </a:buClr>
              <a:buFont typeface="Arial"/>
              <a:buChar char="•"/>
              <a:tabLst>
                <a:tab algn="l" pos="385920"/>
                <a:tab algn="l" pos="771480"/>
                <a:tab algn="l" pos="1157400"/>
                <a:tab algn="l" pos="1542960"/>
                <a:tab algn="l" pos="1928880"/>
                <a:tab algn="l" pos="2314440"/>
                <a:tab algn="l" pos="2700360"/>
                <a:tab algn="l" pos="3086280"/>
                <a:tab algn="l" pos="3471840"/>
                <a:tab algn="l" pos="3857760"/>
                <a:tab algn="l" pos="4243320"/>
                <a:tab algn="l" pos="4629240"/>
                <a:tab algn="l" pos="5014800"/>
                <a:tab algn="l" pos="5400720"/>
                <a:tab algn="l" pos="5786280"/>
                <a:tab algn="l" pos="6172200"/>
                <a:tab algn="l" pos="6558120"/>
                <a:tab algn="l" pos="6943680"/>
                <a:tab algn="l" pos="7329600"/>
                <a:tab algn="l" pos="7715160"/>
              </a:tabLst>
            </a:pPr>
            <a:r>
              <a:rPr b="0" lang="zh-CN" sz="1800" spc="-1" strike="noStrike">
                <a:solidFill>
                  <a:srgbClr val="000000"/>
                </a:solidFill>
                <a:latin typeface="微软雅黑"/>
                <a:ea typeface="微软雅黑"/>
              </a:rPr>
              <a:t>概念，导致</a:t>
            </a:r>
            <a:r>
              <a:rPr b="0" lang="en-US" sz="1800" spc="-1" strike="noStrike">
                <a:solidFill>
                  <a:srgbClr val="000000"/>
                </a:solidFill>
                <a:latin typeface="微软雅黑"/>
                <a:ea typeface="微软雅黑"/>
              </a:rPr>
              <a:t>DNA</a:t>
            </a:r>
            <a:r>
              <a:rPr b="0" lang="zh-CN" sz="1800" spc="-1" strike="noStrike">
                <a:solidFill>
                  <a:srgbClr val="000000"/>
                </a:solidFill>
                <a:latin typeface="微软雅黑"/>
                <a:ea typeface="微软雅黑"/>
              </a:rPr>
              <a:t>变性的因素</a:t>
            </a:r>
            <a:endParaRPr b="0" lang="en-US" sz="1800" spc="-1" strike="noStrike">
              <a:solidFill>
                <a:srgbClr val="000000"/>
              </a:solidFill>
              <a:latin typeface="等线"/>
            </a:endParaRPr>
          </a:p>
          <a:p>
            <a:pPr algn="just">
              <a:lnSpc>
                <a:spcPct val="125000"/>
              </a:lnSpc>
              <a:buClr>
                <a:srgbClr val="000000"/>
              </a:buClr>
              <a:buFont typeface="Arial"/>
              <a:buChar char="•"/>
              <a:tabLst>
                <a:tab algn="l" pos="385920"/>
                <a:tab algn="l" pos="771480"/>
                <a:tab algn="l" pos="1157400"/>
                <a:tab algn="l" pos="1542960"/>
                <a:tab algn="l" pos="1928880"/>
                <a:tab algn="l" pos="2314440"/>
                <a:tab algn="l" pos="2700360"/>
                <a:tab algn="l" pos="3086280"/>
                <a:tab algn="l" pos="3471840"/>
                <a:tab algn="l" pos="3857760"/>
                <a:tab algn="l" pos="4243320"/>
                <a:tab algn="l" pos="4629240"/>
                <a:tab algn="l" pos="5014800"/>
                <a:tab algn="l" pos="5400720"/>
                <a:tab algn="l" pos="5786280"/>
                <a:tab algn="l" pos="6172200"/>
                <a:tab algn="l" pos="6558120"/>
                <a:tab algn="l" pos="6943680"/>
                <a:tab algn="l" pos="7329600"/>
                <a:tab algn="l" pos="7715160"/>
              </a:tabLst>
            </a:pPr>
            <a:r>
              <a:rPr b="0" lang="zh-CN" sz="1800" spc="-1" strike="noStrike">
                <a:solidFill>
                  <a:srgbClr val="000000"/>
                </a:solidFill>
                <a:latin typeface="微软雅黑"/>
                <a:ea typeface="微软雅黑"/>
              </a:rPr>
              <a:t>熔解温度</a:t>
            </a:r>
            <a:r>
              <a:rPr b="0" lang="en-US" sz="1800" spc="-1" strike="noStrike">
                <a:solidFill>
                  <a:srgbClr val="000000"/>
                </a:solidFill>
                <a:latin typeface="微软雅黑"/>
                <a:ea typeface="微软雅黑"/>
              </a:rPr>
              <a:t>(Tm</a:t>
            </a:r>
            <a:r>
              <a:rPr b="0" lang="zh-CN" sz="1800" spc="-1" strike="noStrike">
                <a:solidFill>
                  <a:srgbClr val="000000"/>
                </a:solidFill>
                <a:latin typeface="微软雅黑"/>
                <a:ea typeface="微软雅黑"/>
              </a:rPr>
              <a:t>值</a:t>
            </a:r>
            <a:r>
              <a:rPr b="0" lang="en-US" sz="1800" spc="-1" strike="noStrike">
                <a:solidFill>
                  <a:srgbClr val="000000"/>
                </a:solidFill>
                <a:latin typeface="微软雅黑"/>
                <a:ea typeface="微软雅黑"/>
              </a:rPr>
              <a:t>) </a:t>
            </a:r>
            <a:r>
              <a:rPr b="0" lang="zh-CN" sz="1800" spc="-1" strike="noStrike">
                <a:solidFill>
                  <a:srgbClr val="000000"/>
                </a:solidFill>
                <a:latin typeface="微软雅黑"/>
                <a:ea typeface="微软雅黑"/>
              </a:rPr>
              <a:t>及影响</a:t>
            </a:r>
            <a:r>
              <a:rPr b="0" lang="en-US" sz="1800" spc="-1" strike="noStrike">
                <a:solidFill>
                  <a:srgbClr val="000000"/>
                </a:solidFill>
                <a:latin typeface="微软雅黑"/>
                <a:ea typeface="微软雅黑"/>
              </a:rPr>
              <a:t>Tm</a:t>
            </a:r>
            <a:r>
              <a:rPr b="0" lang="zh-CN" sz="1800" spc="-1" strike="noStrike">
                <a:solidFill>
                  <a:srgbClr val="000000"/>
                </a:solidFill>
                <a:latin typeface="微软雅黑"/>
                <a:ea typeface="微软雅黑"/>
              </a:rPr>
              <a:t>值的因素</a:t>
            </a:r>
            <a:endParaRPr b="0" lang="en-US" sz="1800" spc="-1" strike="noStrike">
              <a:solidFill>
                <a:srgbClr val="000000"/>
              </a:solidFill>
              <a:latin typeface="等线"/>
            </a:endParaRPr>
          </a:p>
          <a:p>
            <a:pPr algn="just">
              <a:lnSpc>
                <a:spcPct val="125000"/>
              </a:lnSpc>
              <a:buClr>
                <a:srgbClr val="000000"/>
              </a:buClr>
              <a:buFont typeface="Arial"/>
              <a:buChar char="•"/>
              <a:tabLst>
                <a:tab algn="l" pos="385920"/>
                <a:tab algn="l" pos="771480"/>
                <a:tab algn="l" pos="1157400"/>
                <a:tab algn="l" pos="1542960"/>
                <a:tab algn="l" pos="1928880"/>
                <a:tab algn="l" pos="2314440"/>
                <a:tab algn="l" pos="2700360"/>
                <a:tab algn="l" pos="3086280"/>
                <a:tab algn="l" pos="3471840"/>
                <a:tab algn="l" pos="3857760"/>
                <a:tab algn="l" pos="4243320"/>
                <a:tab algn="l" pos="4629240"/>
                <a:tab algn="l" pos="5014800"/>
                <a:tab algn="l" pos="5400720"/>
                <a:tab algn="l" pos="5786280"/>
                <a:tab algn="l" pos="6172200"/>
                <a:tab algn="l" pos="6558120"/>
                <a:tab algn="l" pos="6943680"/>
                <a:tab algn="l" pos="7329600"/>
                <a:tab algn="l" pos="7715160"/>
              </a:tabLst>
            </a:pPr>
            <a:r>
              <a:rPr b="0" lang="zh-CN" sz="1800" spc="-1" strike="noStrike">
                <a:solidFill>
                  <a:srgbClr val="000000"/>
                </a:solidFill>
                <a:latin typeface="微软雅黑"/>
                <a:ea typeface="微软雅黑"/>
              </a:rPr>
              <a:t>了解碱性条件下碱基的互变异构及其对碱基配对的影响</a:t>
            </a:r>
            <a:endParaRPr b="0" lang="en-US" sz="1800" spc="-1" strike="noStrike">
              <a:solidFill>
                <a:srgbClr val="000000"/>
              </a:solidFill>
              <a:latin typeface="等线"/>
            </a:endParaRPr>
          </a:p>
          <a:p>
            <a:pPr algn="just">
              <a:lnSpc>
                <a:spcPct val="125000"/>
              </a:lnSpc>
              <a:buClr>
                <a:srgbClr val="000000"/>
              </a:buClr>
              <a:buFont typeface="Arial"/>
              <a:buChar char="•"/>
              <a:tabLst>
                <a:tab algn="l" pos="385920"/>
                <a:tab algn="l" pos="771480"/>
                <a:tab algn="l" pos="1157400"/>
                <a:tab algn="l" pos="1542960"/>
                <a:tab algn="l" pos="1928880"/>
                <a:tab algn="l" pos="2314440"/>
                <a:tab algn="l" pos="2700360"/>
                <a:tab algn="l" pos="3086280"/>
                <a:tab algn="l" pos="3471840"/>
                <a:tab algn="l" pos="3857760"/>
                <a:tab algn="l" pos="4243320"/>
                <a:tab algn="l" pos="4629240"/>
                <a:tab algn="l" pos="5014800"/>
                <a:tab algn="l" pos="5400720"/>
                <a:tab algn="l" pos="5786280"/>
                <a:tab algn="l" pos="6172200"/>
                <a:tab algn="l" pos="6558120"/>
                <a:tab algn="l" pos="6943680"/>
                <a:tab algn="l" pos="7329600"/>
                <a:tab algn="l" pos="7715160"/>
              </a:tabLst>
            </a:pPr>
            <a:endParaRPr b="0" lang="en-US" sz="1800" spc="-1" strike="noStrike">
              <a:solidFill>
                <a:srgbClr val="000000"/>
              </a:solidFill>
              <a:latin typeface="等线"/>
            </a:endParaRPr>
          </a:p>
          <a:p>
            <a:pPr algn="just">
              <a:lnSpc>
                <a:spcPct val="125000"/>
              </a:lnSpc>
              <a:tabLst>
                <a:tab algn="l" pos="0"/>
                <a:tab algn="l" pos="385920"/>
                <a:tab algn="l" pos="771480"/>
                <a:tab algn="l" pos="1157400"/>
                <a:tab algn="l" pos="1542960"/>
                <a:tab algn="l" pos="1928880"/>
                <a:tab algn="l" pos="2314440"/>
                <a:tab algn="l" pos="2700360"/>
                <a:tab algn="l" pos="3086280"/>
                <a:tab algn="l" pos="3471840"/>
                <a:tab algn="l" pos="3857760"/>
                <a:tab algn="l" pos="4243320"/>
                <a:tab algn="l" pos="4629240"/>
                <a:tab algn="l" pos="5014800"/>
                <a:tab algn="l" pos="5400720"/>
                <a:tab algn="l" pos="5786280"/>
                <a:tab algn="l" pos="6172200"/>
                <a:tab algn="l" pos="6558120"/>
                <a:tab algn="l" pos="6943680"/>
                <a:tab algn="l" pos="7329600"/>
                <a:tab algn="l" pos="7715160"/>
              </a:tabLst>
            </a:pPr>
            <a:r>
              <a:rPr b="1" lang="en-US" sz="1800" spc="-1" strike="noStrike">
                <a:solidFill>
                  <a:srgbClr val="000000"/>
                </a:solidFill>
                <a:latin typeface="微软雅黑"/>
                <a:ea typeface="微软雅黑"/>
              </a:rPr>
              <a:t>3</a:t>
            </a:r>
            <a:r>
              <a:rPr b="1" lang="zh-CN" sz="1800" spc="-1" strike="noStrike">
                <a:solidFill>
                  <a:srgbClr val="000000"/>
                </a:solidFill>
                <a:latin typeface="微软雅黑"/>
                <a:ea typeface="微软雅黑"/>
              </a:rPr>
              <a:t>．</a:t>
            </a:r>
            <a:r>
              <a:rPr b="1" lang="en-US" sz="1800" spc="-1" strike="noStrike">
                <a:solidFill>
                  <a:srgbClr val="000000"/>
                </a:solidFill>
                <a:latin typeface="微软雅黑"/>
                <a:ea typeface="微软雅黑"/>
              </a:rPr>
              <a:t>DNA</a:t>
            </a:r>
            <a:r>
              <a:rPr b="1" lang="zh-CN" sz="1800" spc="-1" strike="noStrike">
                <a:solidFill>
                  <a:srgbClr val="000000"/>
                </a:solidFill>
                <a:latin typeface="微软雅黑"/>
                <a:ea typeface="微软雅黑"/>
              </a:rPr>
              <a:t>复性及核酸杂交的概念及原理</a:t>
            </a:r>
            <a:endParaRPr b="0" lang="en-US" sz="1800" spc="-1" strike="noStrike">
              <a:solidFill>
                <a:srgbClr val="000000"/>
              </a:solidFill>
              <a:latin typeface="等线"/>
            </a:endParaRPr>
          </a:p>
          <a:p>
            <a:pPr algn="just">
              <a:lnSpc>
                <a:spcPct val="125000"/>
              </a:lnSpc>
              <a:buClr>
                <a:srgbClr val="000000"/>
              </a:buClr>
              <a:buFont typeface="Arial"/>
              <a:buChar char="•"/>
              <a:tabLst>
                <a:tab algn="l" pos="385920"/>
                <a:tab algn="l" pos="771480"/>
                <a:tab algn="l" pos="1157400"/>
                <a:tab algn="l" pos="1542960"/>
                <a:tab algn="l" pos="1928880"/>
                <a:tab algn="l" pos="2314440"/>
                <a:tab algn="l" pos="2700360"/>
                <a:tab algn="l" pos="3086280"/>
                <a:tab algn="l" pos="3471840"/>
                <a:tab algn="l" pos="3857760"/>
                <a:tab algn="l" pos="4243320"/>
                <a:tab algn="l" pos="4629240"/>
                <a:tab algn="l" pos="5014800"/>
                <a:tab algn="l" pos="5400720"/>
                <a:tab algn="l" pos="5786280"/>
                <a:tab algn="l" pos="6172200"/>
                <a:tab algn="l" pos="6558120"/>
                <a:tab algn="l" pos="6943680"/>
                <a:tab algn="l" pos="7329600"/>
                <a:tab algn="l" pos="7715160"/>
              </a:tabLst>
            </a:pPr>
            <a:r>
              <a:rPr b="0" lang="en-US" sz="1800" spc="-1" strike="noStrike">
                <a:solidFill>
                  <a:srgbClr val="000000"/>
                </a:solidFill>
                <a:latin typeface="微软雅黑"/>
                <a:ea typeface="微软雅黑"/>
              </a:rPr>
              <a:t>DNA</a:t>
            </a:r>
            <a:r>
              <a:rPr b="0" lang="zh-CN" sz="1800" spc="-1" strike="noStrike">
                <a:solidFill>
                  <a:srgbClr val="000000"/>
                </a:solidFill>
                <a:latin typeface="微软雅黑"/>
                <a:ea typeface="微软雅黑"/>
              </a:rPr>
              <a:t>复性概念，了解影响复性过程的因素</a:t>
            </a:r>
            <a:endParaRPr b="0" lang="en-US" sz="1800" spc="-1" strike="noStrike">
              <a:solidFill>
                <a:srgbClr val="000000"/>
              </a:solidFill>
              <a:latin typeface="等线"/>
            </a:endParaRPr>
          </a:p>
          <a:p>
            <a:pPr algn="just">
              <a:lnSpc>
                <a:spcPct val="125000"/>
              </a:lnSpc>
              <a:buClr>
                <a:srgbClr val="000000"/>
              </a:buClr>
              <a:buFont typeface="Arial"/>
              <a:buChar char="•"/>
              <a:tabLst>
                <a:tab algn="l" pos="385920"/>
                <a:tab algn="l" pos="771480"/>
                <a:tab algn="l" pos="1157400"/>
                <a:tab algn="l" pos="1542960"/>
                <a:tab algn="l" pos="1928880"/>
                <a:tab algn="l" pos="2314440"/>
                <a:tab algn="l" pos="2700360"/>
                <a:tab algn="l" pos="3086280"/>
                <a:tab algn="l" pos="3471840"/>
                <a:tab algn="l" pos="3857760"/>
                <a:tab algn="l" pos="4243320"/>
                <a:tab algn="l" pos="4629240"/>
                <a:tab algn="l" pos="5014800"/>
                <a:tab algn="l" pos="5400720"/>
                <a:tab algn="l" pos="5786280"/>
                <a:tab algn="l" pos="6172200"/>
                <a:tab algn="l" pos="6558120"/>
                <a:tab algn="l" pos="6943680"/>
                <a:tab algn="l" pos="7329600"/>
                <a:tab algn="l" pos="7715160"/>
              </a:tabLst>
            </a:pPr>
            <a:r>
              <a:rPr b="0" lang="zh-CN" sz="1800" spc="-1" strike="noStrike">
                <a:solidFill>
                  <a:srgbClr val="000000"/>
                </a:solidFill>
                <a:latin typeface="微软雅黑"/>
                <a:ea typeface="微软雅黑"/>
              </a:rPr>
              <a:t>核酸杂交技术的原理：探针、</a:t>
            </a:r>
            <a:r>
              <a:rPr b="0" lang="en-US" sz="1800" spc="-1" strike="noStrike">
                <a:solidFill>
                  <a:srgbClr val="000000"/>
                </a:solidFill>
                <a:latin typeface="微软雅黑"/>
                <a:ea typeface="微软雅黑"/>
              </a:rPr>
              <a:t>Southern Blot</a:t>
            </a:r>
            <a:r>
              <a:rPr b="0" lang="zh-CN" sz="1800" spc="-1" strike="noStrike">
                <a:solidFill>
                  <a:srgbClr val="000000"/>
                </a:solidFill>
                <a:latin typeface="微软雅黑"/>
                <a:ea typeface="微软雅黑"/>
              </a:rPr>
              <a:t>、</a:t>
            </a:r>
            <a:r>
              <a:rPr b="0" lang="en-US" sz="1800" spc="-1" strike="noStrike">
                <a:solidFill>
                  <a:srgbClr val="000000"/>
                </a:solidFill>
                <a:latin typeface="微软雅黑"/>
                <a:ea typeface="微软雅黑"/>
              </a:rPr>
              <a:t>Northern Blot</a:t>
            </a:r>
            <a:endParaRPr b="0" lang="en-US" sz="1800" spc="-1" strike="noStrike">
              <a:solidFill>
                <a:srgbClr val="000000"/>
              </a:solidFill>
              <a:latin typeface="等线"/>
            </a:endParaRPr>
          </a:p>
          <a:p>
            <a:pPr algn="just">
              <a:lnSpc>
                <a:spcPct val="125000"/>
              </a:lnSpc>
              <a:buClr>
                <a:srgbClr val="000000"/>
              </a:buClr>
              <a:buFont typeface="Arial"/>
              <a:buChar char="•"/>
              <a:tabLst>
                <a:tab algn="l" pos="385920"/>
                <a:tab algn="l" pos="771480"/>
                <a:tab algn="l" pos="1157400"/>
                <a:tab algn="l" pos="1542960"/>
                <a:tab algn="l" pos="1928880"/>
                <a:tab algn="l" pos="2314440"/>
                <a:tab algn="l" pos="2700360"/>
                <a:tab algn="l" pos="3086280"/>
                <a:tab algn="l" pos="3471840"/>
                <a:tab algn="l" pos="3857760"/>
                <a:tab algn="l" pos="4243320"/>
                <a:tab algn="l" pos="4629240"/>
                <a:tab algn="l" pos="5014800"/>
                <a:tab algn="l" pos="5400720"/>
                <a:tab algn="l" pos="5786280"/>
                <a:tab algn="l" pos="6172200"/>
                <a:tab algn="l" pos="6558120"/>
                <a:tab algn="l" pos="6943680"/>
                <a:tab algn="l" pos="7329600"/>
                <a:tab algn="l" pos="7715160"/>
              </a:tabLst>
            </a:pPr>
            <a:endParaRPr b="0" lang="en-US" sz="1800" spc="-1" strike="noStrike">
              <a:solidFill>
                <a:srgbClr val="000000"/>
              </a:solidFill>
              <a:latin typeface="等线"/>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直接连接符 6"/>
          <p:cNvSpPr/>
          <p:nvPr/>
        </p:nvSpPr>
        <p:spPr>
          <a:xfrm>
            <a:off x="2738520" y="4519440"/>
            <a:ext cx="2452680" cy="1800"/>
          </a:xfrm>
          <a:prstGeom prst="line">
            <a:avLst/>
          </a:prstGeom>
          <a:ln w="6480">
            <a:solidFill>
              <a:srgbClr val="000000"/>
            </a:solidFill>
            <a:miter/>
          </a:ln>
        </p:spPr>
        <p:style>
          <a:lnRef idx="0"/>
          <a:fillRef idx="0"/>
          <a:effectRef idx="0"/>
          <a:fontRef idx="minor"/>
        </p:style>
        <p:txBody>
          <a:bodyPr lIns="90000" rIns="90000" tIns="-45000" bIns="-45000" anchor="t">
            <a:noAutofit/>
          </a:bodyPr>
          <a:p>
            <a:endParaRPr b="0" lang="en-US" sz="1400" spc="-1" strike="noStrike">
              <a:solidFill>
                <a:srgbClr val="000000"/>
              </a:solidFill>
              <a:latin typeface="等线"/>
            </a:endParaRPr>
          </a:p>
        </p:txBody>
      </p:sp>
      <p:pic>
        <p:nvPicPr>
          <p:cNvPr id="96" name="矩形 4" descr=""/>
          <p:cNvPicPr/>
          <p:nvPr/>
        </p:nvPicPr>
        <p:blipFill>
          <a:blip r:embed="rId1"/>
          <a:stretch/>
        </p:blipFill>
        <p:spPr>
          <a:xfrm>
            <a:off x="3121200" y="3754440"/>
            <a:ext cx="1841400" cy="615960"/>
          </a:xfrm>
          <a:prstGeom prst="rect">
            <a:avLst/>
          </a:prstGeom>
          <a:ln w="0">
            <a:noFill/>
          </a:ln>
        </p:spPr>
      </p:pic>
      <p:grpSp>
        <p:nvGrpSpPr>
          <p:cNvPr id="97" name="组合 11"/>
          <p:cNvGrpSpPr/>
          <p:nvPr/>
        </p:nvGrpSpPr>
        <p:grpSpPr>
          <a:xfrm>
            <a:off x="0" y="4917960"/>
            <a:ext cx="5715000" cy="4226040"/>
            <a:chOff x="0" y="4917960"/>
            <a:chExt cx="5715000" cy="4226040"/>
          </a:xfrm>
        </p:grpSpPr>
        <p:sp>
          <p:nvSpPr>
            <p:cNvPr id="98" name="矩形 12"/>
            <p:cNvSpPr/>
            <p:nvPr/>
          </p:nvSpPr>
          <p:spPr>
            <a:xfrm>
              <a:off x="0" y="4917960"/>
              <a:ext cx="5715000" cy="4226040"/>
            </a:xfrm>
            <a:prstGeom prst="rect">
              <a:avLst/>
            </a:prstGeom>
            <a:solidFill>
              <a:srgbClr val="e9e9e9"/>
            </a:solidFill>
            <a:ln w="0">
              <a:noFill/>
            </a:ln>
          </p:spPr>
          <p:style>
            <a:lnRef idx="0"/>
            <a:fillRef idx="0"/>
            <a:effectRef idx="0"/>
            <a:fontRef idx="minor"/>
          </p:style>
          <p:txBody>
            <a:bodyPr lIns="90000" rIns="90000" tIns="46800" bIns="46800" anchor="ctr">
              <a:noAutofit/>
            </a:bodyPr>
            <a:p>
              <a:pPr algn="ctr">
                <a:tabLst>
                  <a:tab algn="l" pos="0"/>
                  <a:tab algn="l" pos="712800"/>
                  <a:tab algn="l" pos="1425600"/>
                  <a:tab algn="l" pos="2138400"/>
                  <a:tab algn="l" pos="2851200"/>
                  <a:tab algn="l" pos="3564000"/>
                  <a:tab algn="l" pos="4276800"/>
                  <a:tab algn="l" pos="4989600"/>
                  <a:tab algn="l" pos="5702400"/>
                  <a:tab algn="l" pos="6415200"/>
                  <a:tab algn="l" pos="7128000"/>
                  <a:tab algn="l" pos="7840800"/>
                  <a:tab algn="l" pos="8553600"/>
                  <a:tab algn="l" pos="9266400"/>
                  <a:tab algn="l" pos="9979200"/>
                  <a:tab algn="l" pos="10691640"/>
                </a:tabLst>
              </a:pPr>
              <a:endParaRPr b="0" lang="en-US" sz="1400" spc="-1" strike="noStrike">
                <a:solidFill>
                  <a:srgbClr val="000000"/>
                </a:solidFill>
                <a:latin typeface="等线"/>
              </a:endParaRPr>
            </a:p>
          </p:txBody>
        </p:sp>
        <p:pic>
          <p:nvPicPr>
            <p:cNvPr id="99" name="图片 13" descr=""/>
            <p:cNvPicPr/>
            <p:nvPr/>
          </p:nvPicPr>
          <p:blipFill>
            <a:blip r:embed="rId2"/>
            <a:stretch/>
          </p:blipFill>
          <p:spPr>
            <a:xfrm>
              <a:off x="0" y="5824080"/>
              <a:ext cx="5715000" cy="1523880"/>
            </a:xfrm>
            <a:prstGeom prst="rect">
              <a:avLst/>
            </a:prstGeom>
            <a:ln w="0">
              <a:noFill/>
            </a:ln>
          </p:spPr>
        </p:pic>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7-19T09:11:47Z</dcterms:created>
  <dc:creator>卢 晓云</dc:creator>
  <dc:description/>
  <dc:language>en-US</dc:language>
  <cp:lastModifiedBy>卢 晓云</cp:lastModifiedBy>
  <dcterms:modified xsi:type="dcterms:W3CDTF">2018-07-19T13:48:06Z</dcterms:modified>
  <cp:revision>13</cp:revision>
  <dc:subject/>
  <dc:title>PowerPoint 演示文稿</dc:title>
</cp:coreProperties>
</file>