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283-465C-4549-84CE-4FE742AD5E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8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17D9-D8A3-4587-AFAF-3935DEA8AC1C}" type="slidenum">
              <a:rPr b="0" lang="zh-CN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病伤残后，没及时得到康复治疗导致的功能障碍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长期卧床：压疮、肺部感染、深静脉血栓、肢体孪缩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1984-FA7F-498D-B948-484C8A0B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E05D-99EB-4468-9CFB-162C466F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4CEA-561A-4A43-ABDC-55BCC86E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5877-4551-48CB-95A9-BD9F7CC8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E8911-973D-4A77-B9EA-1A20FAF9E8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FC24C-CA31-4E7C-89A7-14A923657A9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2E813-E7F1-40E9-A659-B1AAAAA046A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D63B6-E2D0-4C56-ADE4-231066A26DB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E6B49-2A30-4213-AF9C-EB595243567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9E067-8CB0-40C2-B63A-F31D532A72F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18D44-7874-4152-9E08-F75B936A29B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8BE8F-85FE-49A7-80F2-49DC819B8EA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A2965-D7AF-4581-805E-37486CDFD9F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9531D-A778-47C3-B408-BD5696FFE2D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65BC9-5EF3-48B5-B29F-711612CFD0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DCA38-BA71-4FA4-A189-D5995E9EAC5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CFB923-1EF0-4CDA-B91F-6B2756018BF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D1442-C946-4B9F-87B4-B9E79D5BD2D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DD07F-BCC2-4F30-85AE-212A7E02500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906A7-05F3-4F49-A87B-9B5C7319EF4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44E67-14E1-48A9-BD56-D51898790AD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BEE9A-D2CE-4A5A-914F-53CB6FBA7FA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587803-66D7-414D-8F7D-331458640BA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CA8DB1-591C-4065-810D-54508159DCB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3C499-B3EC-4831-941F-3E92C173D9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D4130-F00C-4513-B300-D27FA62EED7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5A517-4905-4534-995F-99ED336DBC1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0AF8B-FE40-4C7F-A463-C70A833E9E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F24A-C398-4A70-B1B4-5FB683E5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074D-D1FF-4E4E-8403-BC7AC635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F442-AB19-40A9-8A90-9D19288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9758-57B9-4E6C-9368-88432D35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39C5-0414-4834-847E-2569D5C4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C4A3-4AC1-4CC7-8AE8-59903A14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BA73-2060-4046-B311-7750F39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1B8B-D4C7-4815-B09B-0B1A77F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5C7C-8FA1-4E44-AEBD-F86D03930B3B}" type="slidenum"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Black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2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93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5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96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3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3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39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40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81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3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84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4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25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7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28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8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69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1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72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2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613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4"/>
          </p:nvPr>
        </p:nvSpPr>
        <p:spPr>
          <a:xfrm>
            <a:off x="7571880" y="70920"/>
            <a:ext cx="13575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Black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5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CA0D-3870-4DFC-A918-719CE4F00FD2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65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6"/>
          </p:nvPr>
        </p:nvSpPr>
        <p:spPr>
          <a:xfrm>
            <a:off x="6032520" y="70920"/>
            <a:ext cx="2897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Black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7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8640-CBA7-4673-B8AA-F00E56F039C6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4"/>
          <p:cNvSpPr/>
          <p:nvPr/>
        </p:nvSpPr>
        <p:spPr>
          <a:xfrm>
            <a:off x="3886200" y="59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" name="图片 18" descr=""/>
          <p:cNvPicPr/>
          <p:nvPr/>
        </p:nvPicPr>
        <p:blipFill>
          <a:blip r:embed="rId2"/>
          <a:stretch/>
        </p:blipFill>
        <p:spPr>
          <a:xfrm>
            <a:off x="7667640" y="15876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8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9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31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3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34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4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75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7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78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8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19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1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22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2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63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66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0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48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49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1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52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图片 4" descr=""/>
          <p:cNvPicPr/>
          <p:nvPr/>
        </p:nvPicPr>
        <p:blipFill>
          <a:blip r:embed="rId1"/>
          <a:stretch/>
        </p:blipFill>
        <p:spPr>
          <a:xfrm>
            <a:off x="-900000" y="1116000"/>
            <a:ext cx="8602560" cy="5742000"/>
          </a:xfrm>
          <a:prstGeom prst="rect">
            <a:avLst/>
          </a:prstGeom>
          <a:ln w="0">
            <a:noFill/>
          </a:ln>
        </p:spPr>
      </p:pic>
      <p:sp>
        <p:nvSpPr>
          <p:cNvPr id="707" name="TextBox 17"/>
          <p:cNvSpPr/>
          <p:nvPr/>
        </p:nvSpPr>
        <p:spPr>
          <a:xfrm>
            <a:off x="4309920" y="2909880"/>
            <a:ext cx="330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528d"/>
                </a:solidFill>
                <a:latin typeface="微软雅黑"/>
                <a:ea typeface="微软雅黑"/>
              </a:rPr>
              <a:t>第一章  康复护理导论</a:t>
            </a:r>
            <a:endParaRPr b="0" lang="en-US" sz="4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8" name="TextBox 18"/>
          <p:cNvSpPr/>
          <p:nvPr/>
        </p:nvSpPr>
        <p:spPr>
          <a:xfrm>
            <a:off x="4086360" y="20210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益阳医学高等专科学校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9" name="TextBox 7"/>
          <p:cNvSpPr/>
          <p:nvPr/>
        </p:nvSpPr>
        <p:spPr>
          <a:xfrm>
            <a:off x="4048200" y="4341960"/>
            <a:ext cx="512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李  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页脚占位符 7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2" name="灯片编号占位符 1"/>
          <p:cNvSpPr/>
          <p:nvPr/>
        </p:nvSpPr>
        <p:spPr>
          <a:xfrm>
            <a:off x="3429000" y="65088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3E37-BD13-44D6-8B93-7CA52812A4D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43" name="图示 5" descr=""/>
          <p:cNvPicPr/>
          <p:nvPr/>
        </p:nvPicPr>
        <p:blipFill>
          <a:blip r:embed="rId1"/>
          <a:stretch/>
        </p:blipFill>
        <p:spPr>
          <a:xfrm>
            <a:off x="225360" y="1054080"/>
            <a:ext cx="8540640" cy="3755880"/>
          </a:xfrm>
          <a:prstGeom prst="rect">
            <a:avLst/>
          </a:prstGeom>
          <a:ln w="0">
            <a:noFill/>
          </a:ln>
        </p:spPr>
      </p:pic>
      <p:sp>
        <p:nvSpPr>
          <p:cNvPr id="744" name="对话气泡: 椭圆形 1"/>
          <p:cNvSpPr/>
          <p:nvPr/>
        </p:nvSpPr>
        <p:spPr>
          <a:xfrm>
            <a:off x="5562720" y="4724280"/>
            <a:ext cx="2970000" cy="1584360"/>
          </a:xfrm>
          <a:prstGeom prst="wedgeEllipseCallout">
            <a:avLst>
              <a:gd name="adj1" fmla="val -52879"/>
              <a:gd name="adj2" fmla="val -654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微软雅黑"/>
                <a:ea typeface="微软雅黑"/>
              </a:rPr>
              <a:t>大家可以通过弹幕来举一些具体的例子么？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页脚占位符 7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6" name="灯片编号占位符 1"/>
          <p:cNvSpPr/>
          <p:nvPr/>
        </p:nvSpPr>
        <p:spPr>
          <a:xfrm>
            <a:off x="3429000" y="65088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E67A-35BA-4031-A38C-E14F2DEEF364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47" name="图示 5" descr=""/>
          <p:cNvPicPr/>
          <p:nvPr/>
        </p:nvPicPr>
        <p:blipFill>
          <a:blip r:embed="rId1"/>
          <a:stretch/>
        </p:blipFill>
        <p:spPr>
          <a:xfrm>
            <a:off x="304920" y="1298520"/>
            <a:ext cx="8534160" cy="3754440"/>
          </a:xfrm>
          <a:prstGeom prst="rect">
            <a:avLst/>
          </a:prstGeom>
          <a:ln w="0">
            <a:noFill/>
          </a:ln>
        </p:spPr>
      </p:pic>
      <p:sp>
        <p:nvSpPr>
          <p:cNvPr id="748" name="对话气泡: 椭圆形 4"/>
          <p:cNvSpPr/>
          <p:nvPr/>
        </p:nvSpPr>
        <p:spPr>
          <a:xfrm>
            <a:off x="5562720" y="4724280"/>
            <a:ext cx="2970000" cy="1584360"/>
          </a:xfrm>
          <a:prstGeom prst="wedgeEllipseCallout">
            <a:avLst>
              <a:gd name="adj1" fmla="val -52879"/>
              <a:gd name="adj2" fmla="val -654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微软雅黑"/>
                <a:ea typeface="微软雅黑"/>
              </a:rPr>
              <a:t>大家可以通过弹幕来举一些具体的例子么？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页脚占位符 7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灯片编号占位符 1"/>
          <p:cNvSpPr/>
          <p:nvPr/>
        </p:nvSpPr>
        <p:spPr>
          <a:xfrm>
            <a:off x="3429000" y="65088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3106-E684-4139-944B-6329754AC49B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51" name="图示 5" descr=""/>
          <p:cNvPicPr/>
          <p:nvPr/>
        </p:nvPicPr>
        <p:blipFill>
          <a:blip r:embed="rId1"/>
          <a:stretch/>
        </p:blipFill>
        <p:spPr>
          <a:xfrm>
            <a:off x="457200" y="1298520"/>
            <a:ext cx="8229600" cy="3754440"/>
          </a:xfrm>
          <a:prstGeom prst="rect">
            <a:avLst/>
          </a:prstGeom>
          <a:ln w="0">
            <a:noFill/>
          </a:ln>
        </p:spPr>
      </p:pic>
      <p:sp>
        <p:nvSpPr>
          <p:cNvPr id="752" name="对话气泡: 椭圆形 4"/>
          <p:cNvSpPr/>
          <p:nvPr/>
        </p:nvSpPr>
        <p:spPr>
          <a:xfrm>
            <a:off x="5562720" y="4724280"/>
            <a:ext cx="2970000" cy="1584360"/>
          </a:xfrm>
          <a:prstGeom prst="wedgeEllipseCallout">
            <a:avLst>
              <a:gd name="adj1" fmla="val -52879"/>
              <a:gd name="adj2" fmla="val -654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微软雅黑"/>
                <a:ea typeface="微软雅黑"/>
              </a:rPr>
              <a:t>大家可以通过弹幕来举一些具体的例子么？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页脚占位符 7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4" name="灯片编号占位符 1"/>
          <p:cNvSpPr/>
          <p:nvPr/>
        </p:nvSpPr>
        <p:spPr>
          <a:xfrm>
            <a:off x="3429000" y="65088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21C1-8FD7-421B-A1F7-AD8984AF590E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5" name="单圆角矩形 1"/>
          <p:cNvSpPr/>
          <p:nvPr/>
        </p:nvSpPr>
        <p:spPr>
          <a:xfrm>
            <a:off x="2506680" y="1349280"/>
            <a:ext cx="4319640" cy="1079640"/>
          </a:xfrm>
          <a:prstGeom prst="pie">
            <a:avLst/>
          </a:prstGeom>
          <a:solidFill>
            <a:srgbClr val="2b8a91"/>
          </a:solidFill>
          <a:ln w="25560">
            <a:solidFill>
              <a:srgbClr val="1d6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功能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6" name="单圆角矩形 2"/>
          <p:cNvSpPr/>
          <p:nvPr/>
        </p:nvSpPr>
        <p:spPr>
          <a:xfrm>
            <a:off x="507960" y="3798720"/>
            <a:ext cx="2840040" cy="1913040"/>
          </a:xfrm>
          <a:prstGeom prst="pie">
            <a:avLst/>
          </a:prstGeom>
          <a:solidFill>
            <a:srgbClr val="00b050"/>
          </a:solidFill>
          <a:ln w="25560">
            <a:solidFill>
              <a:srgbClr val="ad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活自理能力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7" name="单圆角矩形 3"/>
          <p:cNvSpPr/>
          <p:nvPr/>
        </p:nvSpPr>
        <p:spPr>
          <a:xfrm>
            <a:off x="5291280" y="3798720"/>
            <a:ext cx="3220920" cy="1911600"/>
          </a:xfrm>
          <a:prstGeom prst="pie">
            <a:avLst/>
          </a:prstGeom>
          <a:solidFill>
            <a:srgbClr val="ff9999"/>
          </a:solidFill>
          <a:ln w="25560">
            <a:solidFill>
              <a:srgbClr val="1d6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存质量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8" name="丁字箭头 6"/>
          <p:cNvSpPr/>
          <p:nvPr/>
        </p:nvSpPr>
        <p:spPr>
          <a:xfrm>
            <a:off x="3529080" y="2428920"/>
            <a:ext cx="1579320" cy="2254320"/>
          </a:xfrm>
          <a:custGeom>
            <a:avLst/>
            <a:gdLst/>
            <a:ahLst/>
            <a:rect l="l" t="t" r="r" b="b"/>
            <a:pathLst>
              <a:path w="1579562" h="2254250">
                <a:moveTo>
                  <a:pt x="0" y="1859360"/>
                </a:moveTo>
                <a:lnTo>
                  <a:pt x="394891" y="1464469"/>
                </a:lnTo>
                <a:lnTo>
                  <a:pt x="394891" y="1661914"/>
                </a:lnTo>
                <a:lnTo>
                  <a:pt x="592336" y="1661914"/>
                </a:lnTo>
                <a:lnTo>
                  <a:pt x="592336" y="394891"/>
                </a:lnTo>
                <a:lnTo>
                  <a:pt x="394891" y="394891"/>
                </a:lnTo>
                <a:lnTo>
                  <a:pt x="789781" y="0"/>
                </a:lnTo>
                <a:lnTo>
                  <a:pt x="1184672" y="394891"/>
                </a:lnTo>
                <a:lnTo>
                  <a:pt x="987226" y="394891"/>
                </a:lnTo>
                <a:lnTo>
                  <a:pt x="987226" y="1661914"/>
                </a:lnTo>
                <a:lnTo>
                  <a:pt x="1184672" y="1661914"/>
                </a:lnTo>
                <a:lnTo>
                  <a:pt x="1184672" y="1464469"/>
                </a:lnTo>
                <a:lnTo>
                  <a:pt x="1579562" y="1859360"/>
                </a:lnTo>
                <a:lnTo>
                  <a:pt x="1184672" y="2254250"/>
                </a:lnTo>
                <a:lnTo>
                  <a:pt x="1184672" y="2056805"/>
                </a:lnTo>
                <a:lnTo>
                  <a:pt x="394891" y="2056805"/>
                </a:lnTo>
                <a:lnTo>
                  <a:pt x="394891" y="2254250"/>
                </a:lnTo>
                <a:lnTo>
                  <a:pt x="0" y="1859360"/>
                </a:lnTo>
                <a:close/>
              </a:path>
            </a:pathLst>
          </a:custGeom>
          <a:solidFill>
            <a:srgbClr val="2b8a91"/>
          </a:solidFill>
          <a:ln w="25560">
            <a:solidFill>
              <a:srgbClr val="1d6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灯片编号占位符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ECFC-99D0-4DDC-A335-DCA2D0B0E99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762120" y="23889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卫生组织将康复医学、临床医学、预防医学、保健医学作为现代化医院的基本功能。这四个学科的关系不是以时间划分的阶段关系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互相关联、互相交错、四环相扣的关系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762120" y="1219320"/>
            <a:ext cx="7877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康复医学与其他医学学科的关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文本框 8"/>
          <p:cNvSpPr/>
          <p:nvPr/>
        </p:nvSpPr>
        <p:spPr>
          <a:xfrm>
            <a:off x="914400" y="1255320"/>
            <a:ext cx="4173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康复概念的理解应当为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( )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3" name="文本框 9"/>
          <p:cNvSpPr/>
          <p:nvPr/>
        </p:nvSpPr>
        <p:spPr>
          <a:xfrm>
            <a:off x="1763640" y="2275200"/>
            <a:ext cx="292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康复是单纯的治病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4" name="椭圆 10"/>
          <p:cNvSpPr/>
          <p:nvPr/>
        </p:nvSpPr>
        <p:spPr>
          <a:xfrm>
            <a:off x="1049400" y="22636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763640" y="2961000"/>
            <a:ext cx="226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康复就是养病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6" name="椭圆 12"/>
          <p:cNvSpPr/>
          <p:nvPr/>
        </p:nvSpPr>
        <p:spPr>
          <a:xfrm>
            <a:off x="1049400" y="29494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7" name="文本框 13"/>
          <p:cNvSpPr/>
          <p:nvPr/>
        </p:nvSpPr>
        <p:spPr>
          <a:xfrm>
            <a:off x="1763640" y="3646800"/>
            <a:ext cx="226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康复就是疗养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8" name="椭圆 14"/>
          <p:cNvSpPr/>
          <p:nvPr/>
        </p:nvSpPr>
        <p:spPr>
          <a:xfrm>
            <a:off x="1049400" y="36352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9" name="文本框 15"/>
          <p:cNvSpPr/>
          <p:nvPr/>
        </p:nvSpPr>
        <p:spPr>
          <a:xfrm>
            <a:off x="1763640" y="439596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不能单一认为康复是疾病的恢复而是“功能训练、全面康复、重返社会</a:t>
            </a:r>
            <a:r>
              <a:rPr b="0" lang="zh-CN" sz="21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”</a:t>
            </a:r>
            <a:endParaRPr b="0" lang="en-US" sz="2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0" name="椭圆 16"/>
          <p:cNvSpPr/>
          <p:nvPr/>
        </p:nvSpPr>
        <p:spPr>
          <a:xfrm>
            <a:off x="1049400" y="4321080"/>
            <a:ext cx="51444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1" name="文本框 17"/>
          <p:cNvSpPr/>
          <p:nvPr/>
        </p:nvSpPr>
        <p:spPr>
          <a:xfrm>
            <a:off x="1763640" y="5018400"/>
            <a:ext cx="391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康复就是单纯的疾病痊愈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2" name="椭圆 18"/>
          <p:cNvSpPr/>
          <p:nvPr/>
        </p:nvSpPr>
        <p:spPr>
          <a:xfrm>
            <a:off x="1049400" y="5006880"/>
            <a:ext cx="51444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矩形: 圆角 19"/>
          <p:cNvSpPr/>
          <p:nvPr/>
        </p:nvSpPr>
        <p:spPr>
          <a:xfrm>
            <a:off x="6107040" y="5627520"/>
            <a:ext cx="1542960" cy="412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4" name="组合 7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775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6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7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8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779" name="图片 2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灯片编号占位符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E05E-CA57-44C3-A8CA-92A493503C6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26828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1eb4"/>
                </a:solidFill>
                <a:latin typeface="微软雅黑"/>
                <a:ea typeface="微软雅黑"/>
              </a:rPr>
              <a:t>三、康复护理（</a:t>
            </a:r>
            <a:r>
              <a:rPr b="1" lang="en-US" sz="3200" spc="-1" strike="noStrike">
                <a:solidFill>
                  <a:srgbClr val="7b1eb4"/>
                </a:solidFill>
                <a:latin typeface="微软雅黑"/>
                <a:ea typeface="微软雅黑"/>
              </a:rPr>
              <a:t>rehabilitation nursing,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RN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护理学和康复医学结合所产生的一门专科护 理技术。对康复对象行基础护理和实施各种康复护理专门技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预防继发性残疾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轻残疾的影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最大限度地功能改善和重返社会</a:t>
            </a:r>
            <a:r>
              <a:rPr b="1" lang="zh-CN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。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灯片编号占位符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CF3F-BC01-465F-8477-5BAC15B8421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3" name="页脚占位符 1"/>
          <p:cNvSpPr/>
          <p:nvPr/>
        </p:nvSpPr>
        <p:spPr>
          <a:xfrm>
            <a:off x="0" y="638316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468360" y="985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狭 义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5" name="Rectangle 14"/>
          <p:cNvSpPr/>
          <p:nvPr/>
        </p:nvSpPr>
        <p:spPr>
          <a:xfrm>
            <a:off x="468360" y="1916280"/>
            <a:ext cx="748836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残者：由于损伤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残者：慢性病、老年病引起的功能障碍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天性残疾者：先天性发育障碍和异常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6" name="Text Box 4"/>
          <p:cNvSpPr/>
          <p:nvPr/>
        </p:nvSpPr>
        <p:spPr>
          <a:xfrm>
            <a:off x="495360" y="444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广 义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7" name="Rectangle 14"/>
          <p:cNvSpPr/>
          <p:nvPr/>
        </p:nvSpPr>
        <p:spPr>
          <a:xfrm>
            <a:off x="611280" y="548172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功能障碍者、老年人、群亚健康状态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灯片编号占位符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734E-0A79-48B4-ABE4-166FEF0EBAA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84360" y="250812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7621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康复护理特点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1" name="MH_Desc_1"/>
          <p:cNvSpPr/>
          <p:nvPr/>
        </p:nvSpPr>
        <p:spPr>
          <a:xfrm>
            <a:off x="1515960" y="2565360"/>
            <a:ext cx="60055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2" name="文本框 1"/>
          <p:cNvSpPr/>
          <p:nvPr/>
        </p:nvSpPr>
        <p:spPr>
          <a:xfrm>
            <a:off x="952560" y="2577960"/>
            <a:ext cx="7651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康复护理与临床护理的同源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变被动护理为主动护理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康复护理是协助康复治疗在病房的延续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康复护理涵盖了院内和院外两个阶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93" name="组合 4"/>
          <p:cNvGrpSpPr/>
          <p:nvPr/>
        </p:nvGrpSpPr>
        <p:grpSpPr>
          <a:xfrm>
            <a:off x="6149880" y="1273320"/>
            <a:ext cx="2880000" cy="1976400"/>
            <a:chOff x="6149880" y="1273320"/>
            <a:chExt cx="2880000" cy="1976400"/>
          </a:xfrm>
        </p:grpSpPr>
        <p:pic>
          <p:nvPicPr>
            <p:cNvPr id="794" name="图片 2" descr=""/>
            <p:cNvPicPr/>
            <p:nvPr/>
          </p:nvPicPr>
          <p:blipFill>
            <a:blip r:embed="rId1"/>
            <a:srcRect l="0" t="0" r="0" b="3039"/>
            <a:stretch/>
          </p:blipFill>
          <p:spPr>
            <a:xfrm>
              <a:off x="6149880" y="1273320"/>
              <a:ext cx="288000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文本框 3"/>
            <p:cNvSpPr/>
            <p:nvPr/>
          </p:nvSpPr>
          <p:spPr>
            <a:xfrm>
              <a:off x="7030440" y="1630080"/>
              <a:ext cx="127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重点</a:t>
              </a:r>
              <a:endParaRPr b="0" lang="en-US" sz="7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灯片编号占位符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78B7-BAAD-4D28-B29E-982865313AC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页脚占位符 1"/>
          <p:cNvSpPr/>
          <p:nvPr/>
        </p:nvSpPr>
        <p:spPr>
          <a:xfrm>
            <a:off x="0" y="638316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857160" y="2428920"/>
          <a:ext cx="8136000" cy="3403440"/>
        </p:xfrm>
        <a:graphic>
          <a:graphicData uri="http://schemas.openxmlformats.org/drawingml/2006/table">
            <a:tbl>
              <a:tblPr/>
              <a:tblGrid>
                <a:gridCol w="1943280"/>
                <a:gridCol w="2520720"/>
                <a:gridCol w="367200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项    目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康复护理学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临床护理学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护理对象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各种功能障碍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各系统疾病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护理重点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恢复功能为主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抢救生命、治疗疾病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护士作用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教师、促进者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行动者、知情者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病人作用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微软雅黑"/>
                        </a:rPr>
                        <a:t>主动者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被动者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护理手段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康复护理技术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临床护理技术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目    标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微软雅黑"/>
                        </a:rPr>
                        <a:t>减少功能障碍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恢复健康、逆转病情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9" name="Rectangle 4"/>
          <p:cNvSpPr/>
          <p:nvPr/>
        </p:nvSpPr>
        <p:spPr>
          <a:xfrm>
            <a:off x="357120" y="1112040"/>
            <a:ext cx="64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临床护理学的比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556920" y="1854000"/>
            <a:ext cx="769284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【教学目标】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1. 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熟悉康复护理的特点、内容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2. 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明确康复护理的定义极其工作内容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3. 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了解现代康复医学的特征、康复护理新进展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11" name="页脚占位符 6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12" name="灯片编号占位符 3"/>
          <p:cNvSpPr/>
          <p:nvPr/>
        </p:nvSpPr>
        <p:spPr>
          <a:xfrm>
            <a:off x="3429000" y="65088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1BFD-497A-4889-9170-27B538D0BCB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13" name="图片 1" descr=""/>
          <p:cNvPicPr/>
          <p:nvPr/>
        </p:nvPicPr>
        <p:blipFill>
          <a:blip r:embed="rId1"/>
          <a:stretch/>
        </p:blipFill>
        <p:spPr>
          <a:xfrm>
            <a:off x="7458120" y="955800"/>
            <a:ext cx="1585800" cy="30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1FB9-3225-42E5-8DF3-2B00BECEF5C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684360" y="2420640"/>
            <a:ext cx="807696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调自我护理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持续功能锻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因人而异，循序渐进，持之以恒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度重视心理护理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重团队协作进行治疗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762120" y="1219320"/>
            <a:ext cx="62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康复护理的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灯片编号占位符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D309-2EA8-4177-9578-E3164AFBD7F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页脚占位符 1"/>
          <p:cNvSpPr/>
          <p:nvPr/>
        </p:nvSpPr>
        <p:spPr>
          <a:xfrm>
            <a:off x="0" y="638316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5" name="矩形 3"/>
          <p:cNvSpPr/>
          <p:nvPr/>
        </p:nvSpPr>
        <p:spPr>
          <a:xfrm>
            <a:off x="725400" y="101268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康复护理程序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587520" y="2198520"/>
            <a:ext cx="7692840" cy="41846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7" name="任意多边形 8"/>
          <p:cNvSpPr/>
          <p:nvPr/>
        </p:nvSpPr>
        <p:spPr>
          <a:xfrm>
            <a:off x="1801800" y="2903400"/>
            <a:ext cx="646200" cy="765360"/>
          </a:xfrm>
          <a:prstGeom prst="pi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20" rIns="11520" tIns="238680" bIns="238680" anchor="ctr">
            <a:norm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sz="1800" spc="-1" strike="noStrike">
                <a:solidFill>
                  <a:srgbClr val="001a33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8" name="任意多边形 9"/>
          <p:cNvSpPr/>
          <p:nvPr/>
        </p:nvSpPr>
        <p:spPr>
          <a:xfrm>
            <a:off x="2448000" y="3032280"/>
            <a:ext cx="3432240" cy="501480"/>
          </a:xfrm>
          <a:prstGeom prst="pi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58320" tIns="58320" bIns="58320" anchor="ctr">
            <a:noAutofit/>
          </a:bodyPr>
          <a:p>
            <a:pPr lvl="1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sz="2400" spc="-1" strike="noStrike">
                <a:solidFill>
                  <a:srgbClr val="0e2947"/>
                </a:solidFill>
                <a:latin typeface="微软雅黑"/>
                <a:ea typeface="微软雅黑"/>
              </a:rPr>
              <a:t>收集患者资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801800" y="3533760"/>
            <a:ext cx="646200" cy="7653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" rIns="11520" tIns="238680" bIns="238680" anchor="ctr">
            <a:norm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0" name="任意多边形 7"/>
          <p:cNvSpPr/>
          <p:nvPr/>
        </p:nvSpPr>
        <p:spPr>
          <a:xfrm>
            <a:off x="1801800" y="4100400"/>
            <a:ext cx="646200" cy="7653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" rIns="11520" tIns="238680" bIns="238680" anchor="ctr">
            <a:norm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1" name="任意多边形 10"/>
          <p:cNvSpPr/>
          <p:nvPr/>
        </p:nvSpPr>
        <p:spPr>
          <a:xfrm>
            <a:off x="1801800" y="4699080"/>
            <a:ext cx="646200" cy="76500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" rIns="11520" tIns="238320" bIns="238320" anchor="ctr">
            <a:norm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2" name="任意多边形 11"/>
          <p:cNvSpPr/>
          <p:nvPr/>
        </p:nvSpPr>
        <p:spPr>
          <a:xfrm>
            <a:off x="1801800" y="5295960"/>
            <a:ext cx="646200" cy="76500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" rIns="11520" tIns="238320" bIns="238320" anchor="ctr">
            <a:norm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3" name="任意多边形 12"/>
          <p:cNvSpPr/>
          <p:nvPr/>
        </p:nvSpPr>
        <p:spPr>
          <a:xfrm>
            <a:off x="2448000" y="3605040"/>
            <a:ext cx="3432240" cy="481320"/>
          </a:xfrm>
          <a:prstGeom prst="pi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58320" tIns="58320" bIns="58320" anchor="ctr">
            <a:noAutofit/>
          </a:bodyPr>
          <a:p>
            <a:pPr lvl="1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sz="2400" spc="-1" strike="noStrike">
                <a:solidFill>
                  <a:srgbClr val="0e2947"/>
                </a:solidFill>
                <a:latin typeface="微软雅黑"/>
                <a:ea typeface="微软雅黑"/>
              </a:rPr>
              <a:t>评定康复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4" name="任意多边形 13"/>
          <p:cNvSpPr/>
          <p:nvPr/>
        </p:nvSpPr>
        <p:spPr>
          <a:xfrm>
            <a:off x="2448000" y="4172040"/>
            <a:ext cx="3432240" cy="511200"/>
          </a:xfrm>
          <a:prstGeom prst="pi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58320" tIns="58320" bIns="58320" anchor="ctr">
            <a:noAutofit/>
          </a:bodyPr>
          <a:p>
            <a:pPr lvl="1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sz="2400" spc="-1" strike="noStrike">
                <a:solidFill>
                  <a:srgbClr val="0e2947"/>
                </a:solidFill>
                <a:latin typeface="微软雅黑"/>
                <a:ea typeface="微软雅黑"/>
              </a:rPr>
              <a:t>制定康复护理计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5" name="任意多边形 14"/>
          <p:cNvSpPr/>
          <p:nvPr/>
        </p:nvSpPr>
        <p:spPr>
          <a:xfrm>
            <a:off x="2448000" y="4770360"/>
            <a:ext cx="3432240" cy="574920"/>
          </a:xfrm>
          <a:prstGeom prst="pi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58320" tIns="58320" bIns="58320" anchor="ctr">
            <a:noAutofit/>
          </a:bodyPr>
          <a:p>
            <a:pPr lvl="1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sz="2400" spc="-1" strike="noStrike">
                <a:solidFill>
                  <a:srgbClr val="0e2947"/>
                </a:solidFill>
                <a:latin typeface="微软雅黑"/>
                <a:ea typeface="微软雅黑"/>
              </a:rPr>
              <a:t>实施康复护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6" name="任意多边形 15"/>
          <p:cNvSpPr/>
          <p:nvPr/>
        </p:nvSpPr>
        <p:spPr>
          <a:xfrm>
            <a:off x="2448000" y="5361120"/>
            <a:ext cx="3432240" cy="525240"/>
          </a:xfrm>
          <a:prstGeom prst="pi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58320" tIns="58320" bIns="58320" anchor="ctr">
            <a:noAutofit/>
          </a:bodyPr>
          <a:p>
            <a:pPr lvl="1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sz="2400" spc="-1" strike="noStrike">
                <a:solidFill>
                  <a:srgbClr val="0e2947"/>
                </a:solidFill>
                <a:latin typeface="微软雅黑"/>
                <a:ea typeface="微软雅黑"/>
              </a:rPr>
              <a:t>评价康复护理效果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文本框 8"/>
          <p:cNvSpPr/>
          <p:nvPr/>
        </p:nvSpPr>
        <p:spPr>
          <a:xfrm>
            <a:off x="914400" y="1255320"/>
            <a:ext cx="615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康复护理与临床护理不同主要表现在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( )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8" name="文本框 9"/>
          <p:cNvSpPr/>
          <p:nvPr/>
        </p:nvSpPr>
        <p:spPr>
          <a:xfrm>
            <a:off x="1828800" y="2862720"/>
            <a:ext cx="160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替代护理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9" name="椭圆 10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0" name="文本框 11"/>
          <p:cNvSpPr/>
          <p:nvPr/>
        </p:nvSpPr>
        <p:spPr>
          <a:xfrm>
            <a:off x="1828800" y="3548520"/>
            <a:ext cx="160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皮肤护理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椭圆 12"/>
          <p:cNvSpPr/>
          <p:nvPr/>
        </p:nvSpPr>
        <p:spPr>
          <a:xfrm>
            <a:off x="1114560" y="35352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文本框 13"/>
          <p:cNvSpPr/>
          <p:nvPr/>
        </p:nvSpPr>
        <p:spPr>
          <a:xfrm>
            <a:off x="1828800" y="4234320"/>
            <a:ext cx="160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自我护理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椭圆 14"/>
          <p:cNvSpPr/>
          <p:nvPr/>
        </p:nvSpPr>
        <p:spPr>
          <a:xfrm>
            <a:off x="1114560" y="422100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4" name="文本框 15"/>
          <p:cNvSpPr/>
          <p:nvPr/>
        </p:nvSpPr>
        <p:spPr>
          <a:xfrm>
            <a:off x="1828800" y="4920120"/>
            <a:ext cx="160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心理护理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5" name="椭圆 16"/>
          <p:cNvSpPr/>
          <p:nvPr/>
        </p:nvSpPr>
        <p:spPr>
          <a:xfrm>
            <a:off x="1114560" y="49068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6" name="文本框 17"/>
          <p:cNvSpPr/>
          <p:nvPr/>
        </p:nvSpPr>
        <p:spPr>
          <a:xfrm>
            <a:off x="1828800" y="5605920"/>
            <a:ext cx="160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饮食护理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7" name="椭圆 18"/>
          <p:cNvSpPr/>
          <p:nvPr/>
        </p:nvSpPr>
        <p:spPr>
          <a:xfrm>
            <a:off x="1114560" y="55926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矩形: 圆角 19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29" name="组合 7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830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1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834" name="图片 2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灯片编号占位符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D271-A2F7-44C1-BAEC-F2736372301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6" name="页脚占位符 1"/>
          <p:cNvSpPr/>
          <p:nvPr/>
        </p:nvSpPr>
        <p:spPr>
          <a:xfrm>
            <a:off x="-264960" y="6180120"/>
            <a:ext cx="289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7" name="矩形 3"/>
          <p:cNvSpPr/>
          <p:nvPr/>
        </p:nvSpPr>
        <p:spPr>
          <a:xfrm>
            <a:off x="785880" y="100008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康复护理的内容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8" name="Rectangle 7"/>
          <p:cNvSpPr/>
          <p:nvPr/>
        </p:nvSpPr>
        <p:spPr>
          <a:xfrm>
            <a:off x="725400" y="2133720"/>
            <a:ext cx="769320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1eb4"/>
                </a:solidFill>
                <a:latin typeface="微软雅黑"/>
                <a:ea typeface="微软雅黑"/>
              </a:rPr>
              <a:t>（一）评定患者的残疾情况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1d528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9" name="组合 29"/>
          <p:cNvGrpSpPr/>
          <p:nvPr/>
        </p:nvGrpSpPr>
        <p:grpSpPr>
          <a:xfrm>
            <a:off x="627120" y="3216240"/>
            <a:ext cx="7789680" cy="2109960"/>
            <a:chOff x="627120" y="3216240"/>
            <a:chExt cx="7789680" cy="2109960"/>
          </a:xfrm>
        </p:grpSpPr>
        <p:sp>
          <p:nvSpPr>
            <p:cNvPr id="840" name="任意多边形 16"/>
            <p:cNvSpPr/>
            <p:nvPr/>
          </p:nvSpPr>
          <p:spPr>
            <a:xfrm>
              <a:off x="1758960" y="3269880"/>
              <a:ext cx="6657840" cy="527040"/>
            </a:xfrm>
            <a:prstGeom prst="pie">
              <a:avLst/>
            </a:prstGeom>
            <a:solidFill>
              <a:srgbClr val="d9d9d9">
                <a:alpha val="90000"/>
              </a:srgbClr>
            </a:solidFill>
            <a:ln w="25560">
              <a:solidFill>
                <a:srgbClr val="cddad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104400" tIns="70200" bIns="70200" anchor="ctr">
              <a:noAutofit/>
            </a:bodyPr>
            <a:p>
              <a:pPr lvl="1">
                <a:lnSpc>
                  <a:spcPct val="90000"/>
                </a:lnSpc>
                <a:spcAft>
                  <a:spcPts val="37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sz="2000" spc="-1" strike="noStrike">
                  <a:solidFill>
                    <a:srgbClr val="1d528d"/>
                  </a:solidFill>
                  <a:latin typeface="微软雅黑"/>
                  <a:ea typeface="微软雅黑"/>
                </a:rPr>
                <a:t>  </a:t>
              </a:r>
              <a:r>
                <a:rPr b="0" sz="2000" spc="-1" strike="noStrike">
                  <a:solidFill>
                    <a:srgbClr val="1d528d"/>
                  </a:solidFill>
                  <a:latin typeface="微软雅黑"/>
                  <a:ea typeface="微软雅黑"/>
                </a:rPr>
                <a:t>性质、部位、范围、严重程度、发展趋势、预后、结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任意多边形 17"/>
            <p:cNvSpPr/>
            <p:nvPr/>
          </p:nvSpPr>
          <p:spPr>
            <a:xfrm>
              <a:off x="627120" y="3216240"/>
              <a:ext cx="1137960" cy="604800"/>
            </a:xfrm>
            <a:prstGeom prst="pie">
              <a:avLst/>
            </a:prstGeom>
            <a:solidFill>
              <a:srgbClr val="16a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2400" rIns="212400" tIns="128520" bIns="128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初期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2" name="任意多边形 24"/>
            <p:cNvSpPr/>
            <p:nvPr/>
          </p:nvSpPr>
          <p:spPr>
            <a:xfrm>
              <a:off x="1758960" y="4022640"/>
              <a:ext cx="6657840" cy="527040"/>
            </a:xfrm>
            <a:prstGeom prst="pie">
              <a:avLst/>
            </a:prstGeom>
            <a:solidFill>
              <a:srgbClr val="d9d9d9">
                <a:alpha val="90000"/>
              </a:srgbClr>
            </a:solidFill>
            <a:ln w="25560">
              <a:solidFill>
                <a:srgbClr val="cddad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104400" tIns="70200" bIns="70200" anchor="ctr">
              <a:noAutofit/>
            </a:bodyPr>
            <a:p>
              <a:pPr lvl="1">
                <a:lnSpc>
                  <a:spcPct val="90000"/>
                </a:lnSpc>
                <a:spcAft>
                  <a:spcPts val="37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sz="2000" spc="-1" strike="noStrike">
                  <a:solidFill>
                    <a:srgbClr val="1d528d"/>
                  </a:solidFill>
                  <a:latin typeface="微软雅黑"/>
                  <a:ea typeface="微软雅黑"/>
                </a:rPr>
                <a:t>  </a:t>
              </a:r>
              <a:r>
                <a:rPr b="0" sz="2000" spc="-1" strike="noStrike">
                  <a:solidFill>
                    <a:srgbClr val="1d528d"/>
                  </a:solidFill>
                  <a:latin typeface="微软雅黑"/>
                  <a:ea typeface="微软雅黑"/>
                </a:rPr>
                <a:t>动态观察功能障碍的发展变化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3" name="任意多边形 25"/>
            <p:cNvSpPr/>
            <p:nvPr/>
          </p:nvSpPr>
          <p:spPr>
            <a:xfrm>
              <a:off x="627120" y="3968640"/>
              <a:ext cx="1137960" cy="604800"/>
            </a:xfrm>
            <a:prstGeom prst="pie">
              <a:avLst/>
            </a:prstGeom>
            <a:solidFill>
              <a:srgbClr val="16a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2400" rIns="212400" tIns="128520" bIns="128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期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任意多边形 27"/>
            <p:cNvSpPr/>
            <p:nvPr/>
          </p:nvSpPr>
          <p:spPr>
            <a:xfrm>
              <a:off x="1758960" y="4775400"/>
              <a:ext cx="6657840" cy="527040"/>
            </a:xfrm>
            <a:prstGeom prst="pie">
              <a:avLst/>
            </a:prstGeom>
            <a:solidFill>
              <a:srgbClr val="d9d9d9">
                <a:alpha val="90000"/>
              </a:srgbClr>
            </a:solidFill>
            <a:ln w="25560">
              <a:solidFill>
                <a:srgbClr val="cddad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104400" tIns="70200" bIns="70200" anchor="ctr">
              <a:noAutofit/>
            </a:bodyPr>
            <a:p>
              <a:pPr lvl="1">
                <a:lnSpc>
                  <a:spcPct val="90000"/>
                </a:lnSpc>
                <a:spcAft>
                  <a:spcPts val="37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sz="2000" spc="-1" strike="noStrike">
                  <a:solidFill>
                    <a:srgbClr val="1d528d"/>
                  </a:solidFill>
                  <a:latin typeface="微软雅黑"/>
                  <a:ea typeface="微软雅黑"/>
                </a:rPr>
                <a:t>  </a:t>
              </a:r>
              <a:r>
                <a:rPr b="0" sz="2000" spc="-1" strike="noStrike">
                  <a:solidFill>
                    <a:srgbClr val="1d528d"/>
                  </a:solidFill>
                  <a:latin typeface="微软雅黑"/>
                  <a:ea typeface="微软雅黑"/>
                </a:rPr>
                <a:t>评定康复治疗的效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任意多边形 28"/>
            <p:cNvSpPr/>
            <p:nvPr/>
          </p:nvSpPr>
          <p:spPr>
            <a:xfrm>
              <a:off x="627120" y="4721400"/>
              <a:ext cx="1137960" cy="604800"/>
            </a:xfrm>
            <a:prstGeom prst="pie">
              <a:avLst/>
            </a:prstGeom>
            <a:solidFill>
              <a:srgbClr val="16a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2400" rIns="212400" tIns="128520" bIns="128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后期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846" name="图片 13" descr=""/>
          <p:cNvPicPr/>
          <p:nvPr/>
        </p:nvPicPr>
        <p:blipFill>
          <a:blip r:embed="rId1"/>
          <a:srcRect l="0" t="0" r="0" b="3039"/>
          <a:stretch/>
        </p:blipFill>
        <p:spPr>
          <a:xfrm>
            <a:off x="6149880" y="1273320"/>
            <a:ext cx="2880000" cy="1976400"/>
          </a:xfrm>
          <a:prstGeom prst="rect">
            <a:avLst/>
          </a:prstGeom>
          <a:ln w="0">
            <a:noFill/>
          </a:ln>
        </p:spPr>
      </p:pic>
      <p:sp>
        <p:nvSpPr>
          <p:cNvPr id="847" name="文本框 14"/>
          <p:cNvSpPr/>
          <p:nvPr/>
        </p:nvSpPr>
        <p:spPr>
          <a:xfrm>
            <a:off x="7030080" y="16304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重点</a:t>
            </a:r>
            <a:endParaRPr b="0" lang="en-US" sz="7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灯片编号占位符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3A53-1B9C-4803-BC01-FA8DC12E097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9" name="页脚占位符 1"/>
          <p:cNvSpPr/>
          <p:nvPr/>
        </p:nvSpPr>
        <p:spPr>
          <a:xfrm>
            <a:off x="0" y="638316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611280" y="1773360"/>
            <a:ext cx="769284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1eb4"/>
                </a:solidFill>
                <a:latin typeface="微软雅黑"/>
                <a:ea typeface="微软雅黑"/>
              </a:rPr>
              <a:t>（二）做好基础护理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基础护理是康复护理技术的基础，康复护理必须依从基础护理的内容，做好日常护理工作。如一般评估、观察病情、执行医嘱、健康教育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灯片编号占位符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4ED1-54FA-43F5-9C00-5021182CBB8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2" name="页脚占位符 1"/>
          <p:cNvSpPr/>
          <p:nvPr/>
        </p:nvSpPr>
        <p:spPr>
          <a:xfrm>
            <a:off x="0" y="638316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3" name="矩形 3"/>
          <p:cNvSpPr/>
          <p:nvPr/>
        </p:nvSpPr>
        <p:spPr>
          <a:xfrm>
            <a:off x="785880" y="1000080"/>
            <a:ext cx="7072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1eb4"/>
                </a:solidFill>
                <a:latin typeface="微软雅黑"/>
                <a:ea typeface="微软雅黑"/>
              </a:rPr>
              <a:t>（三）贯彻康复护理的特色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785880" y="1405080"/>
            <a:ext cx="769284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55" name=" 167" descr=""/>
          <p:cNvPicPr/>
          <p:nvPr/>
        </p:nvPicPr>
        <p:blipFill>
          <a:blip r:embed="rId1"/>
          <a:stretch/>
        </p:blipFill>
        <p:spPr>
          <a:xfrm>
            <a:off x="884160" y="2286000"/>
            <a:ext cx="7290000" cy="828720"/>
          </a:xfrm>
          <a:prstGeom prst="rect">
            <a:avLst/>
          </a:prstGeom>
          <a:ln w="0">
            <a:noFill/>
          </a:ln>
        </p:spPr>
      </p:pic>
      <p:pic>
        <p:nvPicPr>
          <p:cNvPr id="856" name=" 167" descr=""/>
          <p:cNvPicPr/>
          <p:nvPr/>
        </p:nvPicPr>
        <p:blipFill>
          <a:blip r:embed="rId2"/>
          <a:stretch/>
        </p:blipFill>
        <p:spPr>
          <a:xfrm>
            <a:off x="884160" y="3408480"/>
            <a:ext cx="7290000" cy="822240"/>
          </a:xfrm>
          <a:prstGeom prst="rect">
            <a:avLst/>
          </a:prstGeom>
          <a:ln w="0">
            <a:noFill/>
          </a:ln>
        </p:spPr>
      </p:pic>
      <p:pic>
        <p:nvPicPr>
          <p:cNvPr id="857" name=" 167" descr=""/>
          <p:cNvPicPr/>
          <p:nvPr/>
        </p:nvPicPr>
        <p:blipFill>
          <a:blip r:embed="rId3"/>
          <a:stretch/>
        </p:blipFill>
        <p:spPr>
          <a:xfrm>
            <a:off x="884160" y="4363920"/>
            <a:ext cx="7290000" cy="824040"/>
          </a:xfrm>
          <a:prstGeom prst="rect">
            <a:avLst/>
          </a:prstGeom>
          <a:ln w="0">
            <a:noFill/>
          </a:ln>
        </p:spPr>
      </p:pic>
      <p:pic>
        <p:nvPicPr>
          <p:cNvPr id="858" name=" 167" descr=""/>
          <p:cNvPicPr/>
          <p:nvPr/>
        </p:nvPicPr>
        <p:blipFill>
          <a:blip r:embed="rId4"/>
          <a:stretch/>
        </p:blipFill>
        <p:spPr>
          <a:xfrm>
            <a:off x="884160" y="5303880"/>
            <a:ext cx="72900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F43F-F768-4FF8-BF75-C87F1AFC1FA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762120" y="1219320"/>
            <a:ext cx="70959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1eb4"/>
                </a:solidFill>
                <a:latin typeface="微软雅黑"/>
                <a:ea typeface="微软雅黑"/>
              </a:rPr>
              <a:t>（四）不同时期康复护理特点</a:t>
            </a:r>
            <a:r>
              <a:rPr b="1" sz="3200" spc="-1" strike="noStrike">
                <a:solidFill>
                  <a:srgbClr val="7b1eb4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684360" y="2128680"/>
            <a:ext cx="784224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疾病的早期：此期是以保护生命为原则，康复工作适当介入，以预防并发症为主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疾病的恢复期：此期是康复的最佳时期，应该尽早介入。重点是在医师的指导下，协助治疗师积极开展各种功能训练，加强心理支持，鼓励主动参与，尽可能改善器官功能，提高生活自理能力，尽早回归家庭和社会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0C53-0024-41F7-8DB6-5398D2767BE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539640" y="1557360"/>
            <a:ext cx="784224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疾病的后遗症期：主要任务是进一步改善恢复期处理不满意的问题，加以辅助帮助完善功能。此期患者容易产生焦虑和抑郁，对康复失去信心，应积极开展心理护理措施，鼓励患者接受康复治疗和锻炼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文本框 3"/>
          <p:cNvSpPr/>
          <p:nvPr/>
        </p:nvSpPr>
        <p:spPr>
          <a:xfrm>
            <a:off x="457200" y="2155680"/>
            <a:ext cx="78487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护士小王早上巡视病房，发现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床患者（高位脊髓损伤）面色潮红、神情紧张，护士耐心倾听患者的诉说，了解患者的症状，测量了患者的生命体征，初步判断患者是由于尿潴留引起的自主神经反射，小王立即遵医嘱对患者实施了导尿术，并进行了心理安慰及康复护理指导。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思考：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护士小王的作用有哪些？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些是康复护士所特有的作用？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5" name="矩形: 圆角 4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作答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6" name="矩形 10"/>
          <p:cNvSpPr/>
          <p:nvPr/>
        </p:nvSpPr>
        <p:spPr>
          <a:xfrm>
            <a:off x="0" y="5850000"/>
            <a:ext cx="9144000" cy="365040"/>
          </a:xfrm>
          <a:prstGeom prst="rect">
            <a:avLst/>
          </a:prstGeom>
          <a:solidFill>
            <a:srgbClr val="fbf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正常使用主观题需</a:t>
            </a:r>
            <a:r>
              <a:rPr b="0" lang="en-US" sz="12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2.0</a:t>
            </a:r>
            <a:r>
              <a:rPr b="0" lang="zh-CN" sz="12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以上版本雨课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67" name="组合 9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868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9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0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主观题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1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0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872" name="图片 2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55C-2957-4E2A-AE4A-7ED83170F42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4" name="Text Box 4"/>
          <p:cNvSpPr/>
          <p:nvPr/>
        </p:nvSpPr>
        <p:spPr>
          <a:xfrm>
            <a:off x="762120" y="11430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小结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826920" y="1865160"/>
            <a:ext cx="76932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1.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2.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什么样的人需要进行康复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3.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的内容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900000" y="2491920"/>
            <a:ext cx="76932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1.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2.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什么样的人需要进行康复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3.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的内容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15" name="页脚占位符 6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16" name="灯片编号占位符 3"/>
          <p:cNvSpPr/>
          <p:nvPr/>
        </p:nvSpPr>
        <p:spPr>
          <a:xfrm>
            <a:off x="3429000" y="65088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13EB-7FFC-4B33-803F-2ABBC4876550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75640" y="2637000"/>
            <a:ext cx="1585800" cy="3090600"/>
          </a:xfrm>
          <a:prstGeom prst="rect">
            <a:avLst/>
          </a:prstGeom>
          <a:ln w="0">
            <a:noFill/>
          </a:ln>
        </p:spPr>
      </p:pic>
      <p:sp>
        <p:nvSpPr>
          <p:cNvPr id="718" name="对话气泡: 圆角矩形 1"/>
          <p:cNvSpPr/>
          <p:nvPr/>
        </p:nvSpPr>
        <p:spPr>
          <a:xfrm>
            <a:off x="3851280" y="1052640"/>
            <a:ext cx="2665440" cy="1439640"/>
          </a:xfrm>
          <a:prstGeom prst="wedgeRoundRectCallout">
            <a:avLst>
              <a:gd name="adj1" fmla="val 44375"/>
              <a:gd name="adj2" fmla="val 8507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大家都预习了吧，现在是随机点名时间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文本框 8"/>
          <p:cNvSpPr/>
          <p:nvPr/>
        </p:nvSpPr>
        <p:spPr>
          <a:xfrm>
            <a:off x="914400" y="1255320"/>
            <a:ext cx="427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康复护理的最终目标是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(  )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7" name="文本框 9"/>
          <p:cNvSpPr/>
          <p:nvPr/>
        </p:nvSpPr>
        <p:spPr>
          <a:xfrm>
            <a:off x="1828800" y="2862720"/>
            <a:ext cx="300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减轻痛苦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促进康复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8" name="椭圆 10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9" name="文本框 11"/>
          <p:cNvSpPr/>
          <p:nvPr/>
        </p:nvSpPr>
        <p:spPr>
          <a:xfrm>
            <a:off x="1828800" y="3548520"/>
            <a:ext cx="45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使患者尽量减少继发性功能障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0" name="椭圆 12"/>
          <p:cNvSpPr/>
          <p:nvPr/>
        </p:nvSpPr>
        <p:spPr>
          <a:xfrm>
            <a:off x="1114560" y="35352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1" name="文本框 13"/>
          <p:cNvSpPr/>
          <p:nvPr/>
        </p:nvSpPr>
        <p:spPr>
          <a:xfrm>
            <a:off x="1828800" y="4234320"/>
            <a:ext cx="226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提高生存质量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2" name="椭圆 14"/>
          <p:cNvSpPr/>
          <p:nvPr/>
        </p:nvSpPr>
        <p:spPr>
          <a:xfrm>
            <a:off x="1114560" y="42210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3" name="文本框 15"/>
          <p:cNvSpPr/>
          <p:nvPr/>
        </p:nvSpPr>
        <p:spPr>
          <a:xfrm>
            <a:off x="1828800" y="4920120"/>
            <a:ext cx="300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重返家庭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回归社会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椭圆 16"/>
          <p:cNvSpPr/>
          <p:nvPr/>
        </p:nvSpPr>
        <p:spPr>
          <a:xfrm>
            <a:off x="1114560" y="490680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文本框 17"/>
          <p:cNvSpPr/>
          <p:nvPr/>
        </p:nvSpPr>
        <p:spPr>
          <a:xfrm>
            <a:off x="1828800" y="5605920"/>
            <a:ext cx="160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以上都是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6" name="椭圆 18"/>
          <p:cNvSpPr/>
          <p:nvPr/>
        </p:nvSpPr>
        <p:spPr>
          <a:xfrm>
            <a:off x="1114560" y="55926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7" name="矩形: 圆角 19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88" name="组合 7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889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0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1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2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893" name="图片 2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609480" y="87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一、康复及其内涵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609480" y="1697040"/>
            <a:ext cx="8210520" cy="46911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目前对康复的定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微软雅黑"/>
              </a:rPr>
              <a:t>综合协调地应用各种措施，消除或减轻病、伤、残者身心、社会功能障碍，以达到和保持生理、心理和社会功能方面的最佳状态，使病、伤、残者能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微软雅黑"/>
              </a:rPr>
              <a:t>提高生存质量并重返社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1" name="页脚占位符 7"/>
          <p:cNvSpPr/>
          <p:nvPr/>
        </p:nvSpPr>
        <p:spPr>
          <a:xfrm>
            <a:off x="6032520" y="7128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429000" y="65088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AB61-B31B-4D33-B69D-D02460A8F478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395280" y="11192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各种措施</a:t>
            </a:r>
            <a:r>
              <a:rPr b="1" lang="en-US" sz="4000" spc="-1" strike="noStrike">
                <a:solidFill>
                  <a:srgbClr val="7030a0"/>
                </a:solidFill>
                <a:latin typeface="微软雅黑"/>
                <a:ea typeface="微软雅黑"/>
              </a:rPr>
              <a:t>”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页脚占位符 7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5" name="矩形 1"/>
          <p:cNvSpPr/>
          <p:nvPr/>
        </p:nvSpPr>
        <p:spPr>
          <a:xfrm>
            <a:off x="1708560" y="2276640"/>
            <a:ext cx="39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e2947"/>
                </a:solidFill>
                <a:latin typeface="微软雅黑"/>
                <a:ea typeface="微软雅黑"/>
              </a:rPr>
              <a:t>1.</a:t>
            </a:r>
            <a:r>
              <a:rPr b="1" sz="2800" spc="-1" strike="noStrike">
                <a:solidFill>
                  <a:srgbClr val="0e2947"/>
                </a:solidFill>
                <a:latin typeface="微软雅黑"/>
                <a:ea typeface="微软雅黑"/>
              </a:rPr>
              <a:t>医学康复    利用医疗手段促进康复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6" name="矩形 2"/>
          <p:cNvSpPr/>
          <p:nvPr/>
        </p:nvSpPr>
        <p:spPr>
          <a:xfrm>
            <a:off x="1688040" y="3233880"/>
            <a:ext cx="36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e2947"/>
                </a:solidFill>
                <a:latin typeface="微软雅黑"/>
                <a:ea typeface="微软雅黑"/>
              </a:rPr>
              <a:t>2.</a:t>
            </a:r>
            <a:r>
              <a:rPr b="1" sz="2800" spc="-1" strike="noStrike">
                <a:solidFill>
                  <a:srgbClr val="0e2947"/>
                </a:solidFill>
                <a:latin typeface="微软雅黑"/>
                <a:ea typeface="微软雅黑"/>
              </a:rPr>
              <a:t>教育康复   通过特殊教育和培训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7" name="矩形 3"/>
          <p:cNvSpPr/>
          <p:nvPr/>
        </p:nvSpPr>
        <p:spPr>
          <a:xfrm>
            <a:off x="1542240" y="3975120"/>
            <a:ext cx="31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e2947"/>
                </a:solidFill>
                <a:latin typeface="微软雅黑"/>
                <a:ea typeface="微软雅黑"/>
              </a:rPr>
              <a:t>3.</a:t>
            </a:r>
            <a:r>
              <a:rPr b="1" sz="2800" spc="-1" strike="noStrike">
                <a:solidFill>
                  <a:srgbClr val="0e2947"/>
                </a:solidFill>
                <a:latin typeface="微软雅黑"/>
                <a:ea typeface="微软雅黑"/>
              </a:rPr>
              <a:t>职业康复   促进残疾人就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8" name="矩形 4"/>
          <p:cNvSpPr/>
          <p:nvPr/>
        </p:nvSpPr>
        <p:spPr>
          <a:xfrm>
            <a:off x="1703880" y="4718160"/>
            <a:ext cx="36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e2947"/>
                </a:solidFill>
                <a:latin typeface="微软雅黑"/>
                <a:ea typeface="微软雅黑"/>
              </a:rPr>
              <a:t>4.</a:t>
            </a:r>
            <a:r>
              <a:rPr b="1" sz="2800" spc="-1" strike="noStrike">
                <a:solidFill>
                  <a:srgbClr val="0e2947"/>
                </a:solidFill>
                <a:latin typeface="微软雅黑"/>
                <a:ea typeface="微软雅黑"/>
              </a:rPr>
              <a:t>社会康复   为重返社会创造条件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灯片编号占位符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4800-B044-4E2A-8B26-DCCD5EC3D9A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46800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康复医学</a:t>
            </a:r>
            <a:r>
              <a:rPr b="1" i="1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rehabilitation medicine, RM)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身残者和精神障碍者，在身体上、精神上和经济上使其尽快恢复所采取的全部措施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康复医学贯穿于疾病康复治疗的全过程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762120" y="1219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康复医学及其发展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灯片编号占位符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EE6F-F7F4-4788-9C69-1D73CC3953F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现代康复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现代医学的基本理论为基础，在人体的发育学、解剖学、生理学、病理学等基本理论指导下，针对疾病遗留的残疾进行治疗的方法。利用各种手法和器械帮助患者进行健康恢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981000" y="1096920"/>
            <a:ext cx="71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二</a:t>
            </a:r>
            <a:r>
              <a:rPr b="1" lang="en-US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7030a0"/>
                </a:solidFill>
                <a:latin typeface="微软雅黑"/>
                <a:ea typeface="微软雅黑"/>
              </a:rPr>
              <a:t>现代康复与传统康复的概念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灯片编号占位符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878F-5BB1-41A6-8919-CF38FDD4111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725400" y="162864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统康复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（中国传统康复治疗技术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中医理论为基础，运用中医传统的技术和方法，达到治疗和减轻病痛，改善患者功能，提高生活自理能力及生活质量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临床常见：中药康复疗法、推拿、针灸、气功和食疗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468000" y="1274760"/>
            <a:ext cx="794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评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在临床检查的基础上，对病、伤、残患者的功能状况及其水平进行客观、定性和（或）定量的描述（评价），并对结果作出合理解释的过程</a:t>
            </a:r>
            <a:r>
              <a:rPr b="1" lang="zh-CN" sz="2400" spc="-1" strike="noStrike">
                <a:solidFill>
                  <a:srgbClr val="1d528d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8" name="页脚占位符 7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9" name="灯片编号占位符 1"/>
          <p:cNvSpPr/>
          <p:nvPr/>
        </p:nvSpPr>
        <p:spPr>
          <a:xfrm>
            <a:off x="3295800" y="627372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5296-15D9-4D07-88DE-D3B56072486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40" name="图示 5" descr=""/>
          <p:cNvPicPr/>
          <p:nvPr/>
        </p:nvPicPr>
        <p:blipFill>
          <a:blip r:embed="rId1"/>
          <a:stretch/>
        </p:blipFill>
        <p:spPr>
          <a:xfrm>
            <a:off x="542880" y="3645000"/>
            <a:ext cx="8210520" cy="23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1:17:38Z</dcterms:created>
  <dc:creator>我爱崧屹</dc:creator>
  <dc:description/>
  <dc:language>en-US</dc:language>
  <cp:lastModifiedBy> </cp:lastModifiedBy>
  <dcterms:modified xsi:type="dcterms:W3CDTF">2018-12-17T11:56:32Z</dcterms:modified>
  <cp:revision>362</cp:revision>
  <dc:subject/>
  <dc:title>第十一章  肿瘤病人的护理</dc:title>
</cp:coreProperties>
</file>