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F46F-CE54-43AF-9974-6A4608A52F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7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8B94-EF48-4CDB-955D-645B069C3DFB}" type="slidenum">
              <a:rPr b="0" lang="zh-CN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92F3-87E0-4B73-915E-7CE7F250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8209-A60D-4CAC-B402-759E0A3D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7AF1-DCA8-417C-B243-3D482851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D8C7-DCE8-49A0-A63E-6DD77EFD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C95AC-C371-4C99-9670-3C2CBD7E57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E8C55-1F3B-4A98-A7F4-6DC906F57EF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5F92A-85DA-4835-ADFE-880CDB38611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F43CA-2AD6-4D48-88B5-FC086701EBC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93EAB-C4BF-422D-9AB0-D172F758727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13A03-69AA-4620-AB44-8A83FA3F507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D3045-9FB8-4917-9942-3AA55369E98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004F5-201D-4136-9BAB-81F8E0A6A54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7EF48-2E25-40DF-94A1-05FDFA49B01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41AB8-E061-4B59-A8BA-606ADC13ECC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564E6-59E3-47DD-B94F-7E07BE6A3B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7C7C7-3DBE-446D-87A8-B1DA8B049F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1EF8-1ED4-4244-9132-74C182B2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00B0-F827-4A8A-B03C-B683458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5064-127A-4914-A397-7580542E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0776-5F11-47D7-B9F3-14D04E7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E8C9-0988-430F-A7D0-9437659E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E36F-F84E-425A-8EE9-24E4576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F709-3C3D-4F13-91C3-BAF2FF8A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BCA7-F7F4-44BC-9B35-8A077B39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7B8-6313-4279-8A23-D36A8629BF97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Black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2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93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5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96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3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3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39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40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81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3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84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4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25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7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28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8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69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1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72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2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613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4"/>
          </p:nvPr>
        </p:nvSpPr>
        <p:spPr>
          <a:xfrm>
            <a:off x="7571880" y="70920"/>
            <a:ext cx="13575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Black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5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28C8-EC71-4E98-A135-8A7D8FF2516B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4"/>
          <p:cNvSpPr/>
          <p:nvPr/>
        </p:nvSpPr>
        <p:spPr>
          <a:xfrm>
            <a:off x="388620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" name="图片 18" descr=""/>
          <p:cNvPicPr/>
          <p:nvPr/>
        </p:nvPicPr>
        <p:blipFill>
          <a:blip r:embed="rId2"/>
          <a:stretch/>
        </p:blipFill>
        <p:spPr>
          <a:xfrm>
            <a:off x="7667640" y="15876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8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9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31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3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34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4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75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7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78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8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19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1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22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2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63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66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0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48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49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1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52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4" descr=""/>
          <p:cNvPicPr/>
          <p:nvPr/>
        </p:nvPicPr>
        <p:blipFill>
          <a:blip r:embed="rId1"/>
          <a:stretch/>
        </p:blipFill>
        <p:spPr>
          <a:xfrm>
            <a:off x="-900000" y="1116000"/>
            <a:ext cx="8602560" cy="574200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7"/>
          <p:cNvSpPr/>
          <p:nvPr/>
        </p:nvSpPr>
        <p:spPr>
          <a:xfrm>
            <a:off x="4309920" y="2909880"/>
            <a:ext cx="33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528d"/>
                </a:solidFill>
                <a:latin typeface="微软雅黑"/>
                <a:ea typeface="微软雅黑"/>
              </a:rPr>
              <a:t>第一章  康复护理导论</a:t>
            </a:r>
            <a:endParaRPr b="0" lang="en-US" sz="4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TextBox 18"/>
          <p:cNvSpPr/>
          <p:nvPr/>
        </p:nvSpPr>
        <p:spPr>
          <a:xfrm>
            <a:off x="4086360" y="20210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益阳医学高等专科学校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4048200" y="4341960"/>
            <a:ext cx="512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外科护理学教研室   李  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556920" y="1281240"/>
            <a:ext cx="769284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大家是否遇到过脑血管意外卧床不起的病人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25800" indent="-325800">
              <a:lnSpc>
                <a:spcPct val="1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是否遇到过骨折损伤后肢体运动障碍的病人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25800" indent="-325800">
              <a:lnSpc>
                <a:spcPct val="1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是否遇到过小儿脑瘫终生残疾的病人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25800" indent="-325800">
              <a:lnSpc>
                <a:spcPct val="1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大家想一下，如果这些病人想要重新恢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25800" indent="-325800"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复正常的生活应该做些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7" name="页脚占位符 6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8" name="灯片编号占位符 3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4B5-5A4B-4DEF-B543-E1EC10842657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69" name="Picture 2" descr="C:\Users\Thinkpad\Desktop\医疗PNG\1_0003_图层-6.png"/>
          <p:cNvPicPr/>
          <p:nvPr/>
        </p:nvPicPr>
        <p:blipFill>
          <a:blip r:embed="rId1"/>
          <a:stretch/>
        </p:blipFill>
        <p:spPr>
          <a:xfrm>
            <a:off x="7389720" y="2901960"/>
            <a:ext cx="1168560" cy="3139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468000" y="1120320"/>
            <a:ext cx="769284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前面提到的病人都需要做康复治疗，那么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1.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2.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什么样的人需要进行康复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3.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的内容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请大家课前了解交流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1" name="页脚占位符 6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2" name="灯片编号占位符 3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72DA-84F3-4255-9A92-7CF15297085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875640" y="2637000"/>
            <a:ext cx="1585800" cy="309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1:17:38Z</dcterms:created>
  <dc:creator>我爱崧屹</dc:creator>
  <dc:description/>
  <dc:language>en-US</dc:language>
  <cp:lastModifiedBy> </cp:lastModifiedBy>
  <dcterms:modified xsi:type="dcterms:W3CDTF">2018-12-17T13:05:02Z</dcterms:modified>
  <cp:revision>347</cp:revision>
  <dc:subject/>
  <dc:title>第十一章  肿瘤病人的护理</dc:title>
</cp:coreProperties>
</file>