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8C0D-6ABB-4C21-ADBD-C6ADE41B51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CB98-358D-4B22-BB89-F84766CE12EC}" type="slidenum">
              <a:rPr b="0" lang="zh-CN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36B9-FBE0-40C8-AA54-9E020405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D1BC-50E0-4A28-873F-59B07230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EB63-F309-4682-B824-6E1E6E33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DF23-3EFC-41E1-A60C-7FF09AB3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EFC82-1729-475E-A04B-A7CA71EADE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DBA29-3DE6-413D-B095-B35616A9543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1B84E-D351-40C9-82C7-240EC0DB881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0ECA8-09B5-4521-AD2A-A87359B26C6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3541C-7F3B-4B32-B092-15CDBF6645B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F4738-4917-451E-A869-1CDFF9E6E6B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AF237-8559-4A83-8DE3-CBEB98DCFB5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97A9B-3420-4549-9D03-642A6D1F93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F840F-478A-4D2D-8863-370E5914634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60E21-139E-48A0-97AA-917FDAC4925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6F6B7-F240-4C6E-B23E-43577B71C8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6504C-DC60-4A7A-BCD7-49198978A7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57C9-1372-4421-8C36-6B68B188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DFCD-6A07-4ECA-A4D8-D31C501E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6A1B-8572-4567-AEE7-5A2800F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FA94-AEE8-4DD6-A7BF-8E246890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865A-C413-43B2-BA69-CB3BDDDE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8C47-985B-4E50-8E89-D3A12897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063E-36BF-46BF-88AE-5DAF717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02B3-778A-4118-A48D-2E6CBD1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71D9-A0CD-4621-834A-EEFF6EBB8266}" type="slidenum"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Black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2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93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5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96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3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3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39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40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81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3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84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4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25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7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28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8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69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1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572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2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613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4"/>
          </p:nvPr>
        </p:nvSpPr>
        <p:spPr>
          <a:xfrm>
            <a:off x="7571880" y="70920"/>
            <a:ext cx="13575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Black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5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90AF-EC09-4479-8D48-68D899EE3E38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4"/>
          <p:cNvSpPr/>
          <p:nvPr/>
        </p:nvSpPr>
        <p:spPr>
          <a:xfrm>
            <a:off x="3886200" y="59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" name="图片 18" descr=""/>
          <p:cNvPicPr/>
          <p:nvPr/>
        </p:nvPicPr>
        <p:blipFill>
          <a:blip r:embed="rId2"/>
          <a:stretch/>
        </p:blipFill>
        <p:spPr>
          <a:xfrm>
            <a:off x="7667640" y="15876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8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9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31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3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34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4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75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7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178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8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19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1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22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2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63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266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6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07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48" name="图片 18" descr=""/>
          <p:cNvPicPr/>
          <p:nvPr/>
        </p:nvPicPr>
        <p:blipFill>
          <a:blip r:embed="rId2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49" name="直接连接符 8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矩形 10"/>
          <p:cNvSpPr/>
          <p:nvPr/>
        </p:nvSpPr>
        <p:spPr>
          <a:xfrm>
            <a:off x="521280" y="26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导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1" name="图片 18" descr=""/>
          <p:cNvPicPr/>
          <p:nvPr/>
        </p:nvPicPr>
        <p:blipFill>
          <a:blip r:embed="rId3"/>
          <a:stretch/>
        </p:blipFill>
        <p:spPr>
          <a:xfrm>
            <a:off x="8024760" y="30240"/>
            <a:ext cx="1042920" cy="1112760"/>
          </a:xfrm>
          <a:prstGeom prst="rect">
            <a:avLst/>
          </a:prstGeom>
          <a:ln w="0">
            <a:noFill/>
          </a:ln>
        </p:spPr>
      </p:pic>
      <p:sp>
        <p:nvSpPr>
          <p:cNvPr id="352" name="直接连接符 12"/>
          <p:cNvSpPr/>
          <p:nvPr/>
        </p:nvSpPr>
        <p:spPr>
          <a:xfrm>
            <a:off x="0" y="662040"/>
            <a:ext cx="8101080" cy="0"/>
          </a:xfrm>
          <a:prstGeom prst="line">
            <a:avLst/>
          </a:prstGeom>
          <a:ln w="38160">
            <a:solidFill>
              <a:srgbClr val="2f9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4" descr=""/>
          <p:cNvPicPr/>
          <p:nvPr/>
        </p:nvPicPr>
        <p:blipFill>
          <a:blip r:embed="rId1"/>
          <a:stretch/>
        </p:blipFill>
        <p:spPr>
          <a:xfrm>
            <a:off x="-900000" y="1116000"/>
            <a:ext cx="8602560" cy="574200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7"/>
          <p:cNvSpPr/>
          <p:nvPr/>
        </p:nvSpPr>
        <p:spPr>
          <a:xfrm>
            <a:off x="4309920" y="2909880"/>
            <a:ext cx="330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528d"/>
                </a:solidFill>
                <a:latin typeface="微软雅黑"/>
                <a:ea typeface="微软雅黑"/>
              </a:rPr>
              <a:t>第一章  康复护理导论</a:t>
            </a:r>
            <a:endParaRPr b="0" lang="en-US" sz="4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TextBox 18"/>
          <p:cNvSpPr/>
          <p:nvPr/>
        </p:nvSpPr>
        <p:spPr>
          <a:xfrm>
            <a:off x="4086360" y="20210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益阳医学高等专科学校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4048200" y="4341960"/>
            <a:ext cx="512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李  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662040" y="1125360"/>
            <a:ext cx="6680160" cy="520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       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医学是一门新兴的学科，是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20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世纪中期出现的一个新的概念。康复医学和预防医学、保健医学、临床医学并称为“四大医学”，它是一门以消除和减轻人的功能障碍，弥补和重建人的功能缺失，设法改善和提高人的各方面功能的医学学科，让我们先一起了解一下，激发大家学习的兴趣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7" name="页脚占位符 6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8" name="灯片编号占位符 3"/>
          <p:cNvSpPr/>
          <p:nvPr/>
        </p:nvSpPr>
        <p:spPr>
          <a:xfrm>
            <a:off x="3429000" y="65088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8FC9-5722-4B44-86A0-DC2EEB6E8A64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69" name="图片 1" descr=""/>
          <p:cNvPicPr/>
          <p:nvPr/>
        </p:nvPicPr>
        <p:blipFill>
          <a:blip r:embed="rId1"/>
          <a:stretch/>
        </p:blipFill>
        <p:spPr>
          <a:xfrm>
            <a:off x="7343640" y="2892600"/>
            <a:ext cx="1586160" cy="30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矩形 1"/>
          <p:cNvSpPr/>
          <p:nvPr/>
        </p:nvSpPr>
        <p:spPr>
          <a:xfrm>
            <a:off x="1306440" y="1096920"/>
            <a:ext cx="6531120" cy="466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5680" rIns="35568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网络视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https://v.youku.com/v_show/id_XMzQyNDI5NTQ4.html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8c8c8"/>
                </a:solidFill>
                <a:latin typeface="Microsoft Yahei"/>
                <a:ea typeface="Microsoft Yahei"/>
              </a:rPr>
              <a:t>温馨提示：此视频框在点击“上传手机课件”时会进行转换，用手机进行观看时则会变为可点击的视频。此视频框可被拖动移位和修改大小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662040" y="1125360"/>
            <a:ext cx="6680160" cy="520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      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患者在不同阶段都会有不同的体位要求，同时在患者转运中体位还有一些注意事项，大家可以先行预习一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下节课提问内容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1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的原则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2</a:t>
            </a:r>
            <a:r>
              <a:rPr b="1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1d528d"/>
                </a:solidFill>
                <a:latin typeface="微软雅黑"/>
                <a:ea typeface="微软雅黑"/>
              </a:rPr>
              <a:t>康复护理的内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2" name="页脚占位符 6"/>
          <p:cNvSpPr/>
          <p:nvPr/>
        </p:nvSpPr>
        <p:spPr>
          <a:xfrm>
            <a:off x="7572240" y="7128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微软雅黑"/>
              </a:rPr>
              <a:t> 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3" name="灯片编号占位符 3"/>
          <p:cNvSpPr/>
          <p:nvPr/>
        </p:nvSpPr>
        <p:spPr>
          <a:xfrm>
            <a:off x="3429000" y="65088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6206-A36E-4E75-8B7E-F1E1C75317C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74" name="图片 1" descr=""/>
          <p:cNvPicPr/>
          <p:nvPr/>
        </p:nvPicPr>
        <p:blipFill>
          <a:blip r:embed="rId1"/>
          <a:stretch/>
        </p:blipFill>
        <p:spPr>
          <a:xfrm>
            <a:off x="7343640" y="2892600"/>
            <a:ext cx="1586160" cy="309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1:17:38Z</dcterms:created>
  <dc:creator>我爱崧屹</dc:creator>
  <dc:description/>
  <dc:language>en-US</dc:language>
  <cp:lastModifiedBy> </cp:lastModifiedBy>
  <dcterms:modified xsi:type="dcterms:W3CDTF">2018-12-14T12:54:56Z</dcterms:modified>
  <cp:revision>357</cp:revision>
  <dc:subject/>
  <dc:title>第十一章  肿瘤病人的护理</dc:title>
</cp:coreProperties>
</file>