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AA6-0ACA-4B8B-BEAE-495FF67A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DB9-FF67-494B-968C-6C1D4423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420-0206-4F7C-8064-037453AA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7C0-020F-48E0-B7A3-70EF444E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992-5BEC-490F-9EF4-F6B8760F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28A-037D-41B2-B56C-FC070311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837-8DE0-43D6-AC75-DB0C4EBD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FC6-2A02-4B48-85EB-D37AF6E1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BBC-348C-4AD5-9305-DB1C7C26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696-F942-4E40-B569-DB2996AB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85F-7F8D-4D71-93B5-76944CF1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185-1F9C-4B60-9D4B-6FAEFB6A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C1D0-E400-4640-B49F-150C5A3B8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uhainana@163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bb.neu.edu.c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24000" y="1413000"/>
            <a:ext cx="8424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marL="75240" indent="-75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物理与人类未来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  <a:p>
            <a:pPr marL="75240" indent="-75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cs and the future of humanity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  <a:p>
            <a:pPr marL="75240" indent="-75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授课班级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校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75240" indent="-7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讲教师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吴海娜        东北大学 理学院 物理系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75240" indent="-75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联系方式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uhainana@163.com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75240" indent="-75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8463409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75240" indent="-75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微信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ina2014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75240" indent="-7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9"/>
          <p:cNvSpPr/>
          <p:nvPr/>
        </p:nvSpPr>
        <p:spPr>
          <a:xfrm>
            <a:off x="6156360" y="5983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2484360" y="233280"/>
            <a:ext cx="44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学期主要内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39640" y="1413000"/>
          <a:ext cx="8209080" cy="5121000"/>
        </p:xfrm>
        <a:graphic>
          <a:graphicData uri="http://schemas.openxmlformats.org/drawingml/2006/table">
            <a:tbl>
              <a:tblPr/>
              <a:tblGrid>
                <a:gridCol w="8209080"/>
              </a:tblGrid>
              <a:tr h="731880">
                <a:tc>
                  <a:txBody>
                    <a:bodyPr lIns="68400" rIns="68400" tIns="0" bIns="0" anchor="ctr">
                      <a:noAutofit/>
                    </a:bodyPr>
                    <a:p>
                      <a:pPr marL="200160" indent="-200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章：经典物理学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7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章：量子物理学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1320">
                <a:tc>
                  <a:txBody>
                    <a:bodyPr lIns="68400" rIns="68400" tIns="0" bIns="0" anchor="ctr">
                      <a:noAutofit/>
                    </a:bodyPr>
                    <a:p>
                      <a:pPr marL="266760" indent="-2667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章：量子力学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marL="266760" indent="-2667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四章：相对论与现代时空观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marL="266760" indent="-2667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五章：物理学与社会学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marL="266760" indent="-2667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六章：物理学与金融学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marL="266760" indent="-2667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七章：物理学在未来科技和社会中的作用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marL="266760" indent="-2667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marL="266760" indent="-2667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marL="266760" indent="-2667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9"/>
          <p:cNvSpPr/>
          <p:nvPr/>
        </p:nvSpPr>
        <p:spPr>
          <a:xfrm>
            <a:off x="6156360" y="5983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6" name="Text Box 30"/>
          <p:cNvSpPr/>
          <p:nvPr/>
        </p:nvSpPr>
        <p:spPr>
          <a:xfrm>
            <a:off x="2484360" y="233280"/>
            <a:ext cx="44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学期主要内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679320" y="154764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用教材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28520" y="2235240"/>
            <a:ext cx="869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物理学概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吴海娜 编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华大学出版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2018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395280" y="3716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课安排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十二周， 每周三学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57120" y="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绩评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04760" y="795240"/>
            <a:ext cx="88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成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＝中国大学慕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)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线下课堂学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)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04760" y="14461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以上为优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为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为中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为及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104760" y="511488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注：期末课堂答辩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，每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每组陈述限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分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回答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内容与课程内容相关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4760" y="2178000"/>
            <a:ext cx="888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大学慕课：满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元测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%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讨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%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期末考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学堂在线：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20840" y="269244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获得慕课证书即得总成绩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30320" y="3533760"/>
            <a:ext cx="888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线下课堂学习：期末答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PT 30% +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时讨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% +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期末课堂答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以小组为单位）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79280" y="115920"/>
            <a:ext cx="842508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平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堂模式：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大学慕课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物理与人类未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主学习模式：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堂在线：物理与人类未来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课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Blackboar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平台：教务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源平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学平台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  https://bb.neu.edu.cn/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1:45:01Z</dcterms:created>
  <dc:creator>WHN</dc:creator>
  <dc:description/>
  <dc:language>en-US</dc:language>
  <cp:lastModifiedBy>Wu</cp:lastModifiedBy>
  <dcterms:modified xsi:type="dcterms:W3CDTF">2018-07-03T06:12:19Z</dcterms:modified>
  <cp:revision>293</cp:revision>
  <dc:subject/>
  <dc:title>幻灯片 1</dc:title>
</cp:coreProperties>
</file>