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png" ContentType="image/png"/>
  <Override PartName="/ppt/media/image12.wmf" ContentType="image/x-wmf"/>
  <Override PartName="/ppt/media/image20.png" ContentType="image/png"/>
  <Override PartName="/ppt/media/image28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25.png" ContentType="image/png"/>
  <Override PartName="/ppt/media/image29.wmf" ContentType="image/x-wmf"/>
  <Override PartName="/ppt/media/image11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EFA9-5D81-41A2-91B9-B98F76617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911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8095-BCD8-4EEE-A53C-3EC7D539D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792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699B-A883-46B4-8BAE-3BBFCC3F4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332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576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332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576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E41E-B796-43DB-B9A5-2662E383D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87280" y="404640"/>
            <a:ext cx="6839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AE21-0643-434D-BB31-F930CF18F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792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911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792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332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5760" y="14475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332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5760" y="3911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A46C-FCD3-49EC-805B-E163B5255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772E-6349-417D-887F-DF40700D5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32CF-9FAE-40DB-B62C-764EDBDB4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404640"/>
            <a:ext cx="6839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6A3F-BCCE-43BF-928E-FDFBC6B13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97A0-1CB1-4B78-81A5-375EB6703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7920" y="3911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5A39-446F-4570-8CA5-48B1591A9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396000"/>
            <a:ext cx="683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7920" y="14475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45D5-553F-436D-9CAD-1BE6BE5F5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ca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9b8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52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DDAE-2C42-41EC-A19D-800B3220565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39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32" descr="06_icon"/>
          <p:cNvPicPr/>
          <p:nvPr/>
        </p:nvPicPr>
        <p:blipFill>
          <a:blip r:embed="rId3"/>
          <a:stretch/>
        </p:blipFill>
        <p:spPr>
          <a:xfrm>
            <a:off x="395280" y="333360"/>
            <a:ext cx="7905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3"/>
          <p:cNvSpPr/>
          <p:nvPr/>
        </p:nvSpPr>
        <p:spPr>
          <a:xfrm>
            <a:off x="1042920" y="5950080"/>
            <a:ext cx="0" cy="4572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Line 24"/>
          <p:cNvSpPr/>
          <p:nvPr/>
        </p:nvSpPr>
        <p:spPr>
          <a:xfrm>
            <a:off x="1042920" y="6381720"/>
            <a:ext cx="7772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" name="Picture 25" descr="06_icon_f"/>
          <p:cNvPicPr/>
          <p:nvPr/>
        </p:nvPicPr>
        <p:blipFill>
          <a:blip r:embed="rId3"/>
          <a:stretch/>
        </p:blipFill>
        <p:spPr>
          <a:xfrm>
            <a:off x="179280" y="4653000"/>
            <a:ext cx="1728720" cy="1727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ca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9b8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caa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39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23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604360" y="624852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5C1A-CA32-4A20-8527-03815F7CC064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Rectangle 37"/>
          <p:cNvSpPr/>
          <p:nvPr/>
        </p:nvSpPr>
        <p:spPr>
          <a:xfrm>
            <a:off x="490680" y="1141560"/>
            <a:ext cx="5114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Verdana"/>
                <a:ea typeface="楷体"/>
              </a:rPr>
              <a:t>第二章 光谱分析法导论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Picture 7" descr="imagesCAQ7VIY1"/>
          <p:cNvPicPr/>
          <p:nvPr/>
        </p:nvPicPr>
        <p:blipFill>
          <a:blip r:embed="rId1"/>
          <a:stretch/>
        </p:blipFill>
        <p:spPr>
          <a:xfrm>
            <a:off x="6012000" y="189000"/>
            <a:ext cx="2950920" cy="1928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309109"/>
          <p:cNvPicPr/>
          <p:nvPr/>
        </p:nvPicPr>
        <p:blipFill>
          <a:blip r:embed="rId2"/>
          <a:stretch/>
        </p:blipFill>
        <p:spPr>
          <a:xfrm>
            <a:off x="324000" y="2276640"/>
            <a:ext cx="4600440" cy="389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2007320184615248"/>
          <p:cNvPicPr/>
          <p:nvPr/>
        </p:nvPicPr>
        <p:blipFill>
          <a:blip r:embed="rId3"/>
          <a:stretch/>
        </p:blipFill>
        <p:spPr>
          <a:xfrm>
            <a:off x="5003640" y="2421000"/>
            <a:ext cx="3816360" cy="3441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547640" y="6165720"/>
            <a:ext cx="633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"/>
              </a:rPr>
              <a:t>原子吸收光谱仪                     紫外分光光度计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53880" y="1746360"/>
            <a:ext cx="53881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Introduction to Spectral Analysi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901800" y="1052640"/>
            <a:ext cx="76896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原子吸收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原子外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电子任意两能级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之间的能量差所对应的频率基本上处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紫外或可见光区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，气态自由原子主要吸收紫外或可见电磁辐射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3325680" y="333360"/>
            <a:ext cx="2843280" cy="685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(1)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吸收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rcRect l="0" t="1822" r="2036" b="6581"/>
          <a:stretch/>
        </p:blipFill>
        <p:spPr>
          <a:xfrm>
            <a:off x="1908000" y="3002040"/>
            <a:ext cx="4896000" cy="2881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684360" y="609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原子通常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基态跃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到第一、第二或第三激发态等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8532720" y="650088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24A3-8F8C-44B3-80E7-1C3DBFA15534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486864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原子光谱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"/>
              </a:rPr>
              <a:t>线状光谱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395280" y="2781360"/>
          <a:ext cx="8424720" cy="15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781360"/>
                    <a:ext cx="8424720" cy="1596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9" name="Text Box 7"/>
          <p:cNvSpPr/>
          <p:nvPr/>
        </p:nvSpPr>
        <p:spPr>
          <a:xfrm>
            <a:off x="3419640" y="1844640"/>
            <a:ext cx="3600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原子光谱图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1392-AC67-4599-9A99-999B3EE39869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114800" cy="3727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343400" cy="38638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0" y="623736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楷体"/>
              </a:rPr>
              <a:t>电子能级的吸收跃迁示意图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4356000" y="62373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楷体"/>
              </a:rPr>
              <a:t>分子振动能级的吸收跃迁示意图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332000" y="404640"/>
            <a:ext cx="68389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分子吸收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电子能级、振动能级、转动能级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Ｅ</a:t>
            </a:r>
            <a:r>
              <a:rPr b="1" lang="zh-CN" sz="3200" spc="-1" strike="noStrike" baseline="-25000">
                <a:solidFill>
                  <a:srgbClr val="000066"/>
                </a:solidFill>
                <a:latin typeface="Times New Roman"/>
                <a:ea typeface="楷体"/>
              </a:rPr>
              <a:t>分子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＝Ｅ</a:t>
            </a:r>
            <a:r>
              <a:rPr b="1" lang="zh-CN" sz="3200" spc="-1" strike="noStrike" baseline="-25000">
                <a:solidFill>
                  <a:srgbClr val="000066"/>
                </a:solidFill>
                <a:latin typeface="Times New Roman"/>
                <a:ea typeface="楷体"/>
              </a:rPr>
              <a:t>电子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＋Ｅ</a:t>
            </a:r>
            <a:r>
              <a:rPr b="1" lang="zh-CN" sz="3200" spc="-1" strike="noStrike" baseline="-25000">
                <a:solidFill>
                  <a:srgbClr val="000066"/>
                </a:solidFill>
                <a:latin typeface="Times New Roman"/>
                <a:ea typeface="楷体"/>
              </a:rPr>
              <a:t>振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＋Ｅ</a:t>
            </a:r>
            <a:r>
              <a:rPr b="1" lang="zh-CN" sz="3200" spc="-1" strike="noStrike" baseline="-25000">
                <a:solidFill>
                  <a:srgbClr val="000066"/>
                </a:solidFill>
                <a:latin typeface="Times New Roman"/>
                <a:ea typeface="楷体"/>
              </a:rPr>
              <a:t>转动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Oval 8">
            <a:hlinkClick r:id="rId3" action="ppaction://hlinksldjump"/>
          </p:cNvPr>
          <p:cNvSpPr/>
          <p:nvPr/>
        </p:nvSpPr>
        <p:spPr>
          <a:xfrm>
            <a:off x="3780000" y="5589720"/>
            <a:ext cx="68580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Oval 9">
            <a:hlinkClick r:id="rId4" action="ppaction://hlinksldjump"/>
          </p:cNvPr>
          <p:cNvSpPr/>
          <p:nvPr/>
        </p:nvSpPr>
        <p:spPr>
          <a:xfrm>
            <a:off x="3851280" y="3860640"/>
            <a:ext cx="6858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Oval 10">
            <a:hlinkClick r:id="rId5" action="ppaction://hlinksldjump"/>
          </p:cNvPr>
          <p:cNvSpPr/>
          <p:nvPr/>
        </p:nvSpPr>
        <p:spPr>
          <a:xfrm>
            <a:off x="3492360" y="4941720"/>
            <a:ext cx="6858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Oval 11">
            <a:hlinkClick r:id="rId6" action="ppaction://hlinksldjump"/>
          </p:cNvPr>
          <p:cNvSpPr/>
          <p:nvPr/>
        </p:nvSpPr>
        <p:spPr>
          <a:xfrm>
            <a:off x="8172360" y="2060640"/>
            <a:ext cx="68580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Oval 12">
            <a:hlinkClick r:id="rId7" action="ppaction://hlinksldjump"/>
          </p:cNvPr>
          <p:cNvSpPr/>
          <p:nvPr/>
        </p:nvSpPr>
        <p:spPr>
          <a:xfrm>
            <a:off x="6877080" y="2421000"/>
            <a:ext cx="68580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Oval 12">
            <a:hlinkClick r:id="rId8" action="ppaction://hlinksldjump"/>
          </p:cNvPr>
          <p:cNvSpPr/>
          <p:nvPr/>
        </p:nvSpPr>
        <p:spPr>
          <a:xfrm>
            <a:off x="8116920" y="5499000"/>
            <a:ext cx="6858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32720" y="642780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9011-76BF-4EE3-96B6-0565309EED83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2"/>
          <p:cNvSpPr/>
          <p:nvPr/>
        </p:nvSpPr>
        <p:spPr>
          <a:xfrm>
            <a:off x="1116000" y="98100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分子光谱负载了分子能级信息，而分子能级包括转动能级和振动能级两种能级层次，这些能级都是量子化的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3492360" y="3368520"/>
            <a:ext cx="107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正确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3492360" y="4226040"/>
            <a:ext cx="107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错误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椭圆 7"/>
          <p:cNvSpPr/>
          <p:nvPr/>
        </p:nvSpPr>
        <p:spPr>
          <a:xfrm>
            <a:off x="2916360" y="34336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椭圆 8"/>
          <p:cNvSpPr/>
          <p:nvPr/>
        </p:nvSpPr>
        <p:spPr>
          <a:xfrm>
            <a:off x="2916360" y="429084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提交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8604360" y="624852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38AB-BF4E-4E5E-A88B-D0CD04E89D46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0" name="组合 4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31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ColorBlock"/>
            <p:cNvSpPr/>
            <p:nvPr/>
          </p:nvSpPr>
          <p:spPr>
            <a:xfrm>
              <a:off x="0" y="0"/>
              <a:ext cx="25380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TypeText"/>
            <p:cNvSpPr/>
            <p:nvPr/>
          </p:nvSpPr>
          <p:spPr>
            <a:xfrm>
              <a:off x="253800" y="0"/>
              <a:ext cx="126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选题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TipText"/>
            <p:cNvSpPr/>
            <p:nvPr/>
          </p:nvSpPr>
          <p:spPr>
            <a:xfrm>
              <a:off x="1606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1" lang="zh-CN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2556000" y="836640"/>
                <a:ext cx="3744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电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振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转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3"/>
              <p:cNvSpPr txBox="1"/>
              <p:nvPr/>
            </p:nvSpPr>
            <p:spPr>
              <a:xfrm>
                <a:off x="1187280" y="1844640"/>
                <a:ext cx="734544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电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↔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μ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紫外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可见吸收光谱</m:t>
                        </m:r>
                      </m:e>
                      <m:e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振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↔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μ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红外吸收光谱</m:t>
                        </m:r>
                      </m:e>
                      <m:e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转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↔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μ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远红外吸收光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Oval 7">
            <a:hlinkClick r:id="rId1" action="ppaction://hlinksldjump"/>
          </p:cNvPr>
          <p:cNvSpPr/>
          <p:nvPr/>
        </p:nvSpPr>
        <p:spPr>
          <a:xfrm>
            <a:off x="1619280" y="2060640"/>
            <a:ext cx="68580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Oval 8">
            <a:hlinkClick r:id="rId2" action="ppaction://hlinksldjump"/>
          </p:cNvPr>
          <p:cNvSpPr/>
          <p:nvPr/>
        </p:nvSpPr>
        <p:spPr>
          <a:xfrm>
            <a:off x="1619280" y="3357720"/>
            <a:ext cx="68580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Oval 9">
            <a:hlinkClick r:id="rId3" action="ppaction://hlinksldjump"/>
          </p:cNvPr>
          <p:cNvSpPr/>
          <p:nvPr/>
        </p:nvSpPr>
        <p:spPr>
          <a:xfrm>
            <a:off x="1547640" y="4797360"/>
            <a:ext cx="6858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BC3C-C82B-4988-9953-B82A55930A6D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1116000" y="98100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分子的转动能量比分子的振动能量高，因此，当外界能量引起分子的振动能级发生跃迁时，必然同时伴随着转动能级之间的跃迁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3492360" y="3368520"/>
            <a:ext cx="107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正确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3492360" y="4226040"/>
            <a:ext cx="107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错误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椭圆 7"/>
          <p:cNvSpPr/>
          <p:nvPr/>
        </p:nvSpPr>
        <p:spPr>
          <a:xfrm>
            <a:off x="2916360" y="34336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椭圆 8"/>
          <p:cNvSpPr/>
          <p:nvPr/>
        </p:nvSpPr>
        <p:spPr>
          <a:xfrm>
            <a:off x="2916360" y="429084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提交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604360" y="624852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A88B-3A20-4C1A-AACC-50A370A9A9FC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9" name="组合 4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5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ColorBlock"/>
            <p:cNvSpPr/>
            <p:nvPr/>
          </p:nvSpPr>
          <p:spPr>
            <a:xfrm>
              <a:off x="0" y="0"/>
              <a:ext cx="25380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TypeText"/>
            <p:cNvSpPr/>
            <p:nvPr/>
          </p:nvSpPr>
          <p:spPr>
            <a:xfrm>
              <a:off x="253800" y="0"/>
              <a:ext cx="126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选题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TipText"/>
            <p:cNvSpPr/>
            <p:nvPr/>
          </p:nvSpPr>
          <p:spPr>
            <a:xfrm>
              <a:off x="1606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1" lang="zh-CN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254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3"/>
          <p:cNvSpPr/>
          <p:nvPr/>
        </p:nvSpPr>
        <p:spPr>
          <a:xfrm>
            <a:off x="179280" y="458136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由于转动能级间的能量差很小，检测系统很难分辨振动能级相同但转动能级不同的跃迁，因此，表现为对特定波长段的电磁辐射的吸收，光谱上表现为连续光谱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79280" y="0"/>
          <a:ext cx="87854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0"/>
                    <a:ext cx="8785440" cy="3841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8" name="Text Box 6"/>
          <p:cNvSpPr/>
          <p:nvPr/>
        </p:nvSpPr>
        <p:spPr>
          <a:xfrm>
            <a:off x="2771640" y="3860640"/>
            <a:ext cx="381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分子光谱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带状光谱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FA27-02C7-4E6E-807C-65CAB628EE50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2"/>
          <p:cNvSpPr/>
          <p:nvPr/>
        </p:nvSpPr>
        <p:spPr>
          <a:xfrm>
            <a:off x="939960" y="105264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原子光谱是一条条彼此分立的线光谱，分子光谱是一定频率范围的电磁辐射组成的带状光谱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3492360" y="3368520"/>
            <a:ext cx="107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正确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3492360" y="4226040"/>
            <a:ext cx="107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错误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椭圆 7"/>
          <p:cNvSpPr/>
          <p:nvPr/>
        </p:nvSpPr>
        <p:spPr>
          <a:xfrm>
            <a:off x="2916360" y="343368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椭圆 8"/>
          <p:cNvSpPr/>
          <p:nvPr/>
        </p:nvSpPr>
        <p:spPr>
          <a:xfrm>
            <a:off x="2916360" y="42908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提交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8604360" y="624852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0D30-B2DC-4FC0-B340-A73A8B19A7A3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7" name="组合 4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68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ColorBlock"/>
            <p:cNvSpPr/>
            <p:nvPr/>
          </p:nvSpPr>
          <p:spPr>
            <a:xfrm>
              <a:off x="0" y="0"/>
              <a:ext cx="25380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TypeText"/>
            <p:cNvSpPr/>
            <p:nvPr/>
          </p:nvSpPr>
          <p:spPr>
            <a:xfrm>
              <a:off x="253800" y="0"/>
              <a:ext cx="126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选题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ipText"/>
            <p:cNvSpPr/>
            <p:nvPr/>
          </p:nvSpPr>
          <p:spPr>
            <a:xfrm>
              <a:off x="1606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1" lang="zh-CN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272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304920" y="1371600"/>
            <a:ext cx="8610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当原子、分子和离子等处于较高能态时，可以以光子形式释放多余的能量而回到较低能态，产生电磁辐射，这一过程叫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发射跃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3353040" cy="222228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5"/>
          <p:cNvSpPr/>
          <p:nvPr/>
        </p:nvSpPr>
        <p:spPr>
          <a:xfrm>
            <a:off x="2381400" y="549360"/>
            <a:ext cx="3743280" cy="685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(2)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发射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3780000" y="4076640"/>
            <a:ext cx="685800" cy="12970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C952-D71E-4697-898A-3F4C82391BEC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2"/>
          <p:cNvSpPr/>
          <p:nvPr/>
        </p:nvSpPr>
        <p:spPr>
          <a:xfrm>
            <a:off x="939960" y="70632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受激物质从高能态回到低能态时，如果以光的形式释放多余的能量，这种现象称为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 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矩形 3"/>
          <p:cNvSpPr/>
          <p:nvPr/>
        </p:nvSpPr>
        <p:spPr>
          <a:xfrm>
            <a:off x="1828800" y="263700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光的吸收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矩形 4"/>
          <p:cNvSpPr/>
          <p:nvPr/>
        </p:nvSpPr>
        <p:spPr>
          <a:xfrm>
            <a:off x="1828800" y="3494160"/>
            <a:ext cx="1663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光的发射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矩形 5"/>
          <p:cNvSpPr/>
          <p:nvPr/>
        </p:nvSpPr>
        <p:spPr>
          <a:xfrm>
            <a:off x="1828800" y="4351320"/>
            <a:ext cx="1663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光的散射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>
            <a:off x="1828800" y="5208480"/>
            <a:ext cx="1663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光的衍射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椭圆 7"/>
          <p:cNvSpPr/>
          <p:nvPr/>
        </p:nvSpPr>
        <p:spPr>
          <a:xfrm>
            <a:off x="1114560" y="27018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椭圆 8"/>
          <p:cNvSpPr/>
          <p:nvPr/>
        </p:nvSpPr>
        <p:spPr>
          <a:xfrm>
            <a:off x="1114560" y="35593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椭圆 9"/>
          <p:cNvSpPr/>
          <p:nvPr/>
        </p:nvSpPr>
        <p:spPr>
          <a:xfrm>
            <a:off x="1114560" y="44164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椭圆 10"/>
          <p:cNvSpPr/>
          <p:nvPr/>
        </p:nvSpPr>
        <p:spPr>
          <a:xfrm>
            <a:off x="1114560" y="52736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提交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8604360" y="624852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E72D-9841-4297-B621-CB2403D97540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9" name="组合 4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9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ColorBlock"/>
            <p:cNvSpPr/>
            <p:nvPr/>
          </p:nvSpPr>
          <p:spPr>
            <a:xfrm>
              <a:off x="0" y="0"/>
              <a:ext cx="25380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TypeText"/>
            <p:cNvSpPr/>
            <p:nvPr/>
          </p:nvSpPr>
          <p:spPr>
            <a:xfrm>
              <a:off x="253800" y="0"/>
              <a:ext cx="126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选题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TipText"/>
            <p:cNvSpPr/>
            <p:nvPr/>
          </p:nvSpPr>
          <p:spPr>
            <a:xfrm>
              <a:off x="1606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1" lang="zh-CN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4"/>
          <p:cNvGrpSpPr/>
          <p:nvPr/>
        </p:nvGrpSpPr>
        <p:grpSpPr>
          <a:xfrm>
            <a:off x="1403280" y="1484280"/>
            <a:ext cx="5764320" cy="2701440"/>
            <a:chOff x="1403280" y="1484280"/>
            <a:chExt cx="5764320" cy="2701440"/>
          </a:xfrm>
        </p:grpSpPr>
        <p:sp>
          <p:nvSpPr>
            <p:cNvPr id="89" name="Text Box 2"/>
            <p:cNvSpPr/>
            <p:nvPr/>
          </p:nvSpPr>
          <p:spPr>
            <a:xfrm>
              <a:off x="1403280" y="14842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2226960" y="2115720"/>
              <a:ext cx="49406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87ee"/>
                </a:gs>
                <a:gs pos="50000">
                  <a:srgbClr val="dae6fb"/>
                </a:gs>
                <a:gs pos="100000">
                  <a:srgbClr val="4e87e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1793880" y="1958760"/>
              <a:ext cx="779400" cy="901440"/>
            </a:xfrm>
            <a:prstGeom prst="diamond">
              <a:avLst/>
            </a:prstGeom>
            <a:solidFill>
              <a:srgbClr val="4e87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2487600" y="2112840"/>
              <a:ext cx="390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电磁辐射的性质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2019600" y="2103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1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AutoShape 8"/>
            <p:cNvSpPr/>
            <p:nvPr/>
          </p:nvSpPr>
          <p:spPr>
            <a:xfrm>
              <a:off x="2154240" y="3398400"/>
              <a:ext cx="496872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9b8e5"/>
                </a:gs>
                <a:gs pos="50000">
                  <a:srgbClr val="d2f0f9"/>
                </a:gs>
                <a:gs pos="100000">
                  <a:srgbClr val="29b8e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AutoShape 9"/>
            <p:cNvSpPr/>
            <p:nvPr/>
          </p:nvSpPr>
          <p:spPr>
            <a:xfrm>
              <a:off x="1760400" y="3214440"/>
              <a:ext cx="779400" cy="971280"/>
            </a:xfrm>
            <a:prstGeom prst="diamond">
              <a:avLst/>
            </a:prstGeom>
            <a:solidFill>
              <a:srgbClr val="29b8e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2369880" y="3481200"/>
              <a:ext cx="39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光学分析法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1979640" y="342864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"/>
                </a:rPr>
                <a:t>2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8" name="Rectangle 2"/>
          <p:cNvSpPr/>
          <p:nvPr/>
        </p:nvSpPr>
        <p:spPr>
          <a:xfrm>
            <a:off x="2411280" y="692280"/>
            <a:ext cx="4240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"/>
              </a:rPr>
              <a:t>主  要  内  容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722600" y="4543560"/>
            <a:ext cx="5441400" cy="901080"/>
            <a:chOff x="1722600" y="4543560"/>
            <a:chExt cx="5441400" cy="901080"/>
          </a:xfrm>
        </p:grpSpPr>
        <p:sp>
          <p:nvSpPr>
            <p:cNvPr id="100" name="AutoShape 4"/>
            <p:cNvSpPr/>
            <p:nvPr/>
          </p:nvSpPr>
          <p:spPr>
            <a:xfrm>
              <a:off x="2161080" y="4700160"/>
              <a:ext cx="500292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87ee"/>
                </a:gs>
                <a:gs pos="50000">
                  <a:srgbClr val="dae6fb"/>
                </a:gs>
                <a:gs pos="100000">
                  <a:srgbClr val="4e87e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1722600" y="4543560"/>
              <a:ext cx="789840" cy="901080"/>
            </a:xfrm>
            <a:prstGeom prst="diamond">
              <a:avLst/>
            </a:prstGeom>
            <a:solidFill>
              <a:srgbClr val="4e87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482920" y="4733640"/>
              <a:ext cx="394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楷体"/>
                </a:rPr>
                <a:t>光谱分析仪器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1936800" y="4725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3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4" name="Slide Number Placeholder 4"/>
          <p:cNvSpPr/>
          <p:nvPr/>
        </p:nvSpPr>
        <p:spPr>
          <a:xfrm>
            <a:off x="8675640" y="624852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9B92-5498-45D8-AE73-C2766405DDC3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1035000" y="758880"/>
            <a:ext cx="7489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原子发射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处于激发态的气态自由原子发射电磁波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紫外或可见光区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）而回到基态。常采用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电、热或激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的形式使样品原子化并激发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-54000" y="270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-54000" y="270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-54000" y="270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-54000" y="270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-54000" y="270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-54000" y="270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-54000" y="2674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3" name="Picture 11" descr=""/>
          <p:cNvPicPr/>
          <p:nvPr/>
        </p:nvPicPr>
        <p:blipFill>
          <a:blip r:embed="rId1"/>
          <a:srcRect l="0" t="0" r="7043" b="5660"/>
          <a:stretch/>
        </p:blipFill>
        <p:spPr>
          <a:xfrm>
            <a:off x="2556000" y="2708280"/>
            <a:ext cx="4321080" cy="30243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324000" y="5734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一般以第一激发态为主的有限的几个激发态，致使特定原子只发射少数几个具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特征频率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的电磁波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0364-B739-412E-8C00-436A8D16C949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3"/>
          <p:cNvSpPr/>
          <p:nvPr/>
        </p:nvSpPr>
        <p:spPr>
          <a:xfrm>
            <a:off x="250920" y="1184400"/>
            <a:ext cx="85867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分子发射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自学内容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与分子外层电子能级、振动能级和转动能级相关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采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光激发或化学能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激发。  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rcRect l="2824" t="1875" r="1401" b="3826"/>
          <a:stretch/>
        </p:blipFill>
        <p:spPr>
          <a:xfrm>
            <a:off x="2347920" y="3005280"/>
            <a:ext cx="4032360" cy="29638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5"/>
          <p:cNvSpPr/>
          <p:nvPr/>
        </p:nvSpPr>
        <p:spPr>
          <a:xfrm>
            <a:off x="2268360" y="5978520"/>
            <a:ext cx="419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分子发射示意图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BF50-D297-4E29-8D8E-0263363C9BAC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468360" y="1484280"/>
            <a:ext cx="82090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高能态的原子和分子的寿命很短，一般通过两种弛豫过程返回到基态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辐射弛豫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通过分子发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电磁波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的形式释放能量（荧光、延迟荧光或磷光的发射）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非辐射弛豫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通过其他形式释放能量（ 振动弛豫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内部转移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系间窜跃及外部转移等）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159C-0C68-4DB5-9216-4230B5174247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rcRect l="1679" t="22712" r="3835" b="15842"/>
          <a:stretch/>
        </p:blipFill>
        <p:spPr>
          <a:xfrm>
            <a:off x="539640" y="598320"/>
            <a:ext cx="7851960" cy="5727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tuj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95280" y="2060640"/>
            <a:ext cx="2341440" cy="1465200"/>
          </a:xfrm>
          <a:prstGeom prst="rect">
            <a:avLst/>
          </a:prstGeom>
          <a:ln w="0">
            <a:noFill/>
          </a:ln>
        </p:spPr>
      </p:pic>
      <p:sp>
        <p:nvSpPr>
          <p:cNvPr id="314" name="Oval 5"/>
          <p:cNvSpPr/>
          <p:nvPr/>
        </p:nvSpPr>
        <p:spPr>
          <a:xfrm>
            <a:off x="2870280" y="2997360"/>
            <a:ext cx="68580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Oval 6"/>
          <p:cNvSpPr/>
          <p:nvPr/>
        </p:nvSpPr>
        <p:spPr>
          <a:xfrm>
            <a:off x="4073400" y="5267160"/>
            <a:ext cx="115272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5237280" y="3267000"/>
            <a:ext cx="6858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Oval 8"/>
          <p:cNvSpPr/>
          <p:nvPr/>
        </p:nvSpPr>
        <p:spPr>
          <a:xfrm>
            <a:off x="6443640" y="5262480"/>
            <a:ext cx="115272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8532720" y="61657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C272-0B85-43E0-A4D6-E2A4E8C4057A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488360" cy="5489280"/>
          </a:xfrm>
          <a:prstGeom prst="rect">
            <a:avLst/>
          </a:prstGeom>
          <a:ln w="0">
            <a:noFill/>
          </a:ln>
        </p:spPr>
      </p:pic>
      <p:sp>
        <p:nvSpPr>
          <p:cNvPr id="320" name="Oval 4"/>
          <p:cNvSpPr/>
          <p:nvPr/>
        </p:nvSpPr>
        <p:spPr>
          <a:xfrm>
            <a:off x="6588000" y="2133720"/>
            <a:ext cx="1152720" cy="7524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Oval 6"/>
          <p:cNvSpPr/>
          <p:nvPr/>
        </p:nvSpPr>
        <p:spPr>
          <a:xfrm>
            <a:off x="3635280" y="1773360"/>
            <a:ext cx="1152720" cy="7524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Oval 7"/>
          <p:cNvSpPr/>
          <p:nvPr/>
        </p:nvSpPr>
        <p:spPr>
          <a:xfrm>
            <a:off x="7093080" y="4005360"/>
            <a:ext cx="1152360" cy="7524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Oval 8"/>
          <p:cNvSpPr/>
          <p:nvPr/>
        </p:nvSpPr>
        <p:spPr>
          <a:xfrm>
            <a:off x="5580000" y="4581360"/>
            <a:ext cx="1152720" cy="7527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Oval 9"/>
          <p:cNvSpPr/>
          <p:nvPr/>
        </p:nvSpPr>
        <p:spPr>
          <a:xfrm>
            <a:off x="4067280" y="4005360"/>
            <a:ext cx="1152360" cy="7524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1476360" y="981000"/>
            <a:ext cx="1152720" cy="7524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2484360" y="1628640"/>
            <a:ext cx="1152720" cy="7527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Oval 12"/>
          <p:cNvSpPr/>
          <p:nvPr/>
        </p:nvSpPr>
        <p:spPr>
          <a:xfrm>
            <a:off x="2413080" y="4508640"/>
            <a:ext cx="1152360" cy="7524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Oval 13"/>
          <p:cNvSpPr/>
          <p:nvPr/>
        </p:nvSpPr>
        <p:spPr>
          <a:xfrm>
            <a:off x="4859280" y="2781360"/>
            <a:ext cx="1152720" cy="7524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93640" y="277560"/>
            <a:ext cx="431964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楷体"/>
              </a:rPr>
              <a:t>荧光和磷光发射过程 </a:t>
            </a:r>
            <a:endParaRPr b="1" lang="en-US" sz="3600" spc="-1" strike="noStrike">
              <a:solidFill>
                <a:srgbClr val="6acaa1"/>
              </a:solidFill>
              <a:latin typeface="Verdana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5597-2726-4FF7-89CD-2C92FE1ABA05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3"/>
          <p:cNvSpPr/>
          <p:nvPr/>
        </p:nvSpPr>
        <p:spPr>
          <a:xfrm>
            <a:off x="611280" y="2205000"/>
            <a:ext cx="799308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非光谱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不涉及能级跃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自学内容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折射法、旋光法、比浊法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衍射法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2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光谱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涉及不同能级之间的跃迁（吸收跃迁、发射跃迁）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258920" y="1033560"/>
            <a:ext cx="6192720" cy="685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二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光学分析法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F8E-B8CC-4071-A815-8A9A8318A965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335" name="Oval 4"/>
          <p:cNvSpPr/>
          <p:nvPr/>
        </p:nvSpPr>
        <p:spPr>
          <a:xfrm>
            <a:off x="0" y="1341360"/>
            <a:ext cx="2268360" cy="2592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A65F-DA3D-4901-8DC9-00470030AED9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3419640" y="25560"/>
            <a:ext cx="720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Oval 4"/>
          <p:cNvSpPr/>
          <p:nvPr/>
        </p:nvSpPr>
        <p:spPr>
          <a:xfrm>
            <a:off x="0" y="3213000"/>
            <a:ext cx="2124000" cy="1944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0" y="907920"/>
            <a:ext cx="2340000" cy="720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B04D-143C-4750-B441-19CFE4D65EE0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3419640" y="1303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2"/>
          <p:cNvSpPr/>
          <p:nvPr/>
        </p:nvSpPr>
        <p:spPr>
          <a:xfrm>
            <a:off x="939960" y="70632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每一种原子或分子都有其特征的结构，因此，光辐射与物质作用时，可以获得特征的光谱，据此可以借助光谱分析仪器研究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 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矩形 3"/>
          <p:cNvSpPr/>
          <p:nvPr/>
        </p:nvSpPr>
        <p:spPr>
          <a:xfrm>
            <a:off x="2189160" y="2951280"/>
            <a:ext cx="2814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物质的物理性质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2189160" y="3808440"/>
            <a:ext cx="27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物质的化学性质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矩形 5"/>
          <p:cNvSpPr/>
          <p:nvPr/>
        </p:nvSpPr>
        <p:spPr>
          <a:xfrm>
            <a:off x="2189160" y="4665600"/>
            <a:ext cx="3174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物质的组成和结构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矩形 6"/>
          <p:cNvSpPr/>
          <p:nvPr/>
        </p:nvSpPr>
        <p:spPr>
          <a:xfrm>
            <a:off x="2189160" y="5522760"/>
            <a:ext cx="3030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物质的分离纯化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椭圆 7"/>
          <p:cNvSpPr/>
          <p:nvPr/>
        </p:nvSpPr>
        <p:spPr>
          <a:xfrm>
            <a:off x="1474920" y="30146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椭圆 8"/>
          <p:cNvSpPr/>
          <p:nvPr/>
        </p:nvSpPr>
        <p:spPr>
          <a:xfrm>
            <a:off x="1474920" y="38718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椭圆 9"/>
          <p:cNvSpPr/>
          <p:nvPr/>
        </p:nvSpPr>
        <p:spPr>
          <a:xfrm>
            <a:off x="1474920" y="47293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1474920" y="55864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提交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8604360" y="624852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0DF5-A353-4E92-8E00-37DD9EE9DF10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4" name="组合 4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55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ColorBlock"/>
            <p:cNvSpPr/>
            <p:nvPr/>
          </p:nvSpPr>
          <p:spPr>
            <a:xfrm>
              <a:off x="0" y="0"/>
              <a:ext cx="25380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ypeText"/>
            <p:cNvSpPr/>
            <p:nvPr/>
          </p:nvSpPr>
          <p:spPr>
            <a:xfrm>
              <a:off x="253800" y="0"/>
              <a:ext cx="126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选题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TipText"/>
            <p:cNvSpPr/>
            <p:nvPr/>
          </p:nvSpPr>
          <p:spPr>
            <a:xfrm>
              <a:off x="1606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1" lang="zh-CN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359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"/>
          <p:cNvSpPr/>
          <p:nvPr/>
        </p:nvSpPr>
        <p:spPr>
          <a:xfrm>
            <a:off x="3164040" y="333360"/>
            <a:ext cx="22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三、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光谱分析仪器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250920" y="1197000"/>
            <a:ext cx="861048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光谱分析仪器原理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光谱分析仪器是在物质与光的吸收、发射、散射等相互作用基础上，根据相应的光谱分析原理构建起来的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紫外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可见吸收光谱原理：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                   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朗伯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比耳定律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构建紫外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可见吸收光谱仪的核心就是要能够检测不同波长的吸光度值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，而吸光度值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不是一个可直接检测的信号，构建紫外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可见吸收光谱仪的核心转化为要能够检测不同波长的入射光强度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I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楷体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与透射光强度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I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2397240" y="3589200"/>
          <a:ext cx="194472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3589200"/>
                    <a:ext cx="1944720" cy="73188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4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7900-F14D-4DDB-BBF2-09A10FEC7F64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8604360" y="624852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6392-3C9C-4597-AD94-43DFAE490B30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63480" y="1542960"/>
            <a:ext cx="79408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906"/>
                </a:solidFill>
                <a:latin typeface="楷体"/>
                <a:ea typeface="楷体"/>
              </a:rPr>
              <a:t>教学目标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1.</a:t>
            </a:r>
            <a:r>
              <a:rPr b="1" lang="zh-CN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了解电磁辐射的波、粒二象性</a:t>
            </a:r>
            <a:r>
              <a:rPr b="1" lang="en-US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2.</a:t>
            </a:r>
            <a:r>
              <a:rPr b="1" lang="zh-CN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掌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电磁辐射与物质的相互作用</a:t>
            </a:r>
            <a:r>
              <a:rPr b="1" lang="zh-CN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（吸收、发射）、原子</a:t>
            </a:r>
            <a:r>
              <a:rPr b="1" lang="en-US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/</a:t>
            </a:r>
            <a:r>
              <a:rPr b="1" lang="zh-CN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分子光谱的特征和光谱定性定量分析的依据</a:t>
            </a:r>
            <a:r>
              <a:rPr b="1" lang="en-US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3.</a:t>
            </a:r>
            <a:r>
              <a:rPr b="1" lang="zh-CN" sz="2400" spc="-1" strike="noStrike">
                <a:solidFill>
                  <a:srgbClr val="030906"/>
                </a:solidFill>
                <a:latin typeface="Times New Roman"/>
                <a:ea typeface="楷体"/>
              </a:rPr>
              <a:t>熟悉光谱仪器的基本结构。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1523880" y="1103400"/>
            <a:ext cx="6172200" cy="53737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2"/>
          <p:cNvSpPr/>
          <p:nvPr/>
        </p:nvSpPr>
        <p:spPr>
          <a:xfrm>
            <a:off x="2224080" y="40464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光谱分析仪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基本结构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58AA-965C-44A8-8A3D-1FCD1D424C21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304920" y="1371600"/>
            <a:ext cx="853416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典型的光谱仪一般都由五个部分组成，即：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稳定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光源系统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；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样品引入系统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；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波长选择系统，通常是色散元件和狭缝组成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单色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；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检测系统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，一般是将辐射能转换成电信号；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信号处理或读出系统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，并在标尺、示波器、数字计、记录纸等显示器上显示转换信号。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根据光谱分析仪器结构及光与物质的相互作用差异，可以将光谱分析仪分为三大类，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吸收光谱仪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吸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发射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光散射光谱仪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以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发射光谱析仪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2343600" y="55548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光谱分析仪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基本结构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A475-8529-40D5-A96F-A4ED19997FEE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2"/>
          <p:cNvSpPr/>
          <p:nvPr/>
        </p:nvSpPr>
        <p:spPr>
          <a:xfrm>
            <a:off x="914400" y="91440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0906"/>
                </a:solidFill>
                <a:latin typeface="Verdana"/>
                <a:ea typeface="宋体"/>
              </a:rPr>
              <a:t>光谱仪一般由几部分组成</a:t>
            </a:r>
            <a:r>
              <a:rPr b="1" lang="en-US" sz="3200" spc="-1" strike="noStrike">
                <a:solidFill>
                  <a:srgbClr val="030906"/>
                </a:solidFill>
                <a:latin typeface="Verdana"/>
                <a:ea typeface="宋体"/>
              </a:rPr>
              <a:t>?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圆角矩形 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作答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矩形 7"/>
          <p:cNvSpPr/>
          <p:nvPr/>
        </p:nvSpPr>
        <p:spPr>
          <a:xfrm>
            <a:off x="0" y="5850000"/>
            <a:ext cx="9144000" cy="36504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4f41"/>
                </a:solidFill>
                <a:latin typeface="Verdana"/>
                <a:ea typeface="宋体"/>
              </a:rPr>
              <a:t>正常使用主观题需</a:t>
            </a:r>
            <a:r>
              <a:rPr b="1" lang="en-US" sz="1200" spc="-1" strike="noStrike">
                <a:solidFill>
                  <a:srgbClr val="f84f41"/>
                </a:solidFill>
                <a:latin typeface="Verdana"/>
                <a:ea typeface="宋体"/>
              </a:rPr>
              <a:t>2.0</a:t>
            </a:r>
            <a:r>
              <a:rPr b="1" lang="zh-CN" sz="1200" spc="-1" strike="noStrike">
                <a:solidFill>
                  <a:srgbClr val="f84f41"/>
                </a:solidFill>
                <a:latin typeface="Verdana"/>
                <a:ea typeface="宋体"/>
              </a:rPr>
              <a:t>以上版本雨课堂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04360" y="624852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0359-DFC6-44C3-9A3A-6D20F6F626ED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76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ColorBlock"/>
            <p:cNvSpPr/>
            <p:nvPr/>
          </p:nvSpPr>
          <p:spPr>
            <a:xfrm>
              <a:off x="0" y="0"/>
              <a:ext cx="25380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TypeText"/>
            <p:cNvSpPr/>
            <p:nvPr/>
          </p:nvSpPr>
          <p:spPr>
            <a:xfrm>
              <a:off x="253800" y="0"/>
              <a:ext cx="126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主观题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TipText"/>
            <p:cNvSpPr/>
            <p:nvPr/>
          </p:nvSpPr>
          <p:spPr>
            <a:xfrm>
              <a:off x="163836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4</a:t>
              </a:r>
              <a:r>
                <a:rPr b="1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380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224000" y="439560"/>
            <a:ext cx="6553080" cy="685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一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电磁辐射的性质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8" name="Object 9"/>
          <p:cNvGraphicFramePr/>
          <p:nvPr/>
        </p:nvGraphicFramePr>
        <p:xfrm>
          <a:off x="6516720" y="4005360"/>
          <a:ext cx="172872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05360"/>
                    <a:ext cx="1728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Object 45" descr=""/>
          <p:cNvPicPr/>
          <p:nvPr/>
        </p:nvPicPr>
        <p:blipFill>
          <a:blip r:embed="rId3"/>
          <a:stretch/>
        </p:blipFill>
        <p:spPr>
          <a:xfrm>
            <a:off x="755640" y="6093000"/>
            <a:ext cx="3889440" cy="49032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grpSp>
        <p:nvGrpSpPr>
          <p:cNvPr id="111" name="Group 61"/>
          <p:cNvGrpSpPr/>
          <p:nvPr/>
        </p:nvGrpSpPr>
        <p:grpSpPr>
          <a:xfrm>
            <a:off x="-1116000" y="2997360"/>
            <a:ext cx="8136000" cy="3542400"/>
            <a:chOff x="-1116000" y="2997360"/>
            <a:chExt cx="8136000" cy="3542400"/>
          </a:xfrm>
        </p:grpSpPr>
        <p:sp>
          <p:nvSpPr>
            <p:cNvPr id="112" name="Rectangle 4"/>
            <p:cNvSpPr/>
            <p:nvPr/>
          </p:nvSpPr>
          <p:spPr>
            <a:xfrm>
              <a:off x="-1116000" y="5375520"/>
              <a:ext cx="8136000" cy="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13" name="Object 5"/>
            <p:cNvGraphicFramePr/>
            <p:nvPr/>
          </p:nvGraphicFramePr>
          <p:xfrm>
            <a:off x="1866960" y="5121360"/>
            <a:ext cx="234360" cy="291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4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66960" y="5121360"/>
                      <a:ext cx="234360" cy="29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Rectangle 6"/>
            <p:cNvSpPr/>
            <p:nvPr/>
          </p:nvSpPr>
          <p:spPr>
            <a:xfrm>
              <a:off x="-1116000" y="5366880"/>
              <a:ext cx="8136000" cy="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-1116000" y="5375520"/>
              <a:ext cx="8136000" cy="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Line 3"/>
            <p:cNvSpPr/>
            <p:nvPr/>
          </p:nvSpPr>
          <p:spPr>
            <a:xfrm>
              <a:off x="1009800" y="5000400"/>
              <a:ext cx="4337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Line 4"/>
            <p:cNvSpPr/>
            <p:nvPr/>
          </p:nvSpPr>
          <p:spPr>
            <a:xfrm>
              <a:off x="1009800" y="2997360"/>
              <a:ext cx="0" cy="2003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H="1">
              <a:off x="375120" y="5000400"/>
              <a:ext cx="633960" cy="1202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Arc 6"/>
            <p:cNvSpPr/>
            <p:nvPr/>
          </p:nvSpPr>
          <p:spPr>
            <a:xfrm>
              <a:off x="1025280" y="3801240"/>
              <a:ext cx="1139760" cy="260460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2604600"/>
                <a:gd name="textAreaBottom" fmla="*/ 2604960 h 2604600"/>
              </a:gdLst>
              <a:ahLst/>
              <a:rect l="textAreaLeft" t="textAreaTop" r="textAreaRight" b="textAreaBottom"/>
              <a:pathLst>
                <a:path fill="none" w="35778" h="21600">
                  <a:moveTo>
                    <a:pt x="-1" y="9391"/>
                  </a:moveTo>
                  <a:cubicBezTo>
                    <a:pt x="4026" y="3513"/>
                    <a:pt x="10693" y="-1"/>
                    <a:pt x="17819" y="0"/>
                  </a:cubicBezTo>
                  <a:cubicBezTo>
                    <a:pt x="25032" y="0"/>
                    <a:pt x="31769" y="3600"/>
                    <a:pt x="35777" y="9598"/>
                  </a:cubicBezTo>
                </a:path>
                <a:path stroke="0" w="35778" h="21600">
                  <a:moveTo>
                    <a:pt x="-1" y="9391"/>
                  </a:moveTo>
                  <a:cubicBezTo>
                    <a:pt x="4026" y="3513"/>
                    <a:pt x="10693" y="-1"/>
                    <a:pt x="17819" y="0"/>
                  </a:cubicBezTo>
                  <a:cubicBezTo>
                    <a:pt x="25032" y="0"/>
                    <a:pt x="31769" y="3600"/>
                    <a:pt x="35777" y="9598"/>
                  </a:cubicBezTo>
                  <a:lnTo>
                    <a:pt x="17819" y="21600"/>
                  </a:lnTo>
                  <a:lnTo>
                    <a:pt x="-1" y="9391"/>
                  </a:lnTo>
                  <a:close/>
                </a:path>
              </a:pathLst>
            </a:custGeom>
            <a:noFill/>
            <a:ln cap="rnd" w="2844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Arc 7"/>
            <p:cNvSpPr/>
            <p:nvPr/>
          </p:nvSpPr>
          <p:spPr>
            <a:xfrm rot="13380000">
              <a:off x="1307160" y="3548160"/>
              <a:ext cx="874440" cy="2648520"/>
            </a:xfrm>
            <a:custGeom>
              <a:avLst/>
              <a:gdLst>
                <a:gd name="textAreaLeft" fmla="*/ 0 w 874440"/>
                <a:gd name="textAreaRight" fmla="*/ 874800 w 874440"/>
                <a:gd name="textAreaTop" fmla="*/ 0 h 2648520"/>
                <a:gd name="textAreaBottom" fmla="*/ 2648880 h 2648520"/>
              </a:gdLst>
              <a:ahLst/>
              <a:rect l="textAreaLeft" t="textAreaTop" r="textAreaRight" b="textAreaBottom"/>
              <a:pathLst>
                <a:path fill="none" w="32142" h="21600">
                  <a:moveTo>
                    <a:pt x="-1" y="12271"/>
                  </a:moveTo>
                  <a:cubicBezTo>
                    <a:pt x="3590" y="4772"/>
                    <a:pt x="11167" y="-1"/>
                    <a:pt x="19482" y="0"/>
                  </a:cubicBezTo>
                  <a:cubicBezTo>
                    <a:pt x="24028" y="0"/>
                    <a:pt x="28458" y="1434"/>
                    <a:pt x="32141" y="4099"/>
                  </a:cubicBezTo>
                </a:path>
                <a:path stroke="0" w="32142" h="21600">
                  <a:moveTo>
                    <a:pt x="-1" y="12271"/>
                  </a:moveTo>
                  <a:cubicBezTo>
                    <a:pt x="3590" y="4772"/>
                    <a:pt x="11167" y="-1"/>
                    <a:pt x="19482" y="0"/>
                  </a:cubicBezTo>
                  <a:cubicBezTo>
                    <a:pt x="24028" y="0"/>
                    <a:pt x="28458" y="1434"/>
                    <a:pt x="32141" y="4099"/>
                  </a:cubicBezTo>
                  <a:lnTo>
                    <a:pt x="19482" y="21600"/>
                  </a:lnTo>
                  <a:lnTo>
                    <a:pt x="-1" y="12271"/>
                  </a:lnTo>
                  <a:close/>
                </a:path>
              </a:pathLst>
            </a:custGeom>
            <a:noFill/>
            <a:ln cap="rnd"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Arc 8"/>
            <p:cNvSpPr/>
            <p:nvPr/>
          </p:nvSpPr>
          <p:spPr>
            <a:xfrm rot="10800000">
              <a:off x="2190600" y="3534840"/>
              <a:ext cx="1139760" cy="260280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2602800"/>
                <a:gd name="textAreaBottom" fmla="*/ 2603160 h 2602800"/>
              </a:gdLst>
              <a:ahLst/>
              <a:rect l="textAreaLeft" t="textAreaTop" r="textAreaRight" b="textAreaBottom"/>
              <a:pathLst>
                <a:path fill="none" w="35777" h="21600">
                  <a:moveTo>
                    <a:pt x="0" y="9630"/>
                  </a:moveTo>
                  <a:cubicBezTo>
                    <a:pt x="4004" y="3614"/>
                    <a:pt x="10753" y="-1"/>
                    <a:pt x="17980" y="0"/>
                  </a:cubicBezTo>
                  <a:cubicBezTo>
                    <a:pt x="25091" y="0"/>
                    <a:pt x="31747" y="3500"/>
                    <a:pt x="35777" y="9359"/>
                  </a:cubicBezTo>
                </a:path>
                <a:path stroke="0" w="35777" h="21600">
                  <a:moveTo>
                    <a:pt x="0" y="9630"/>
                  </a:moveTo>
                  <a:cubicBezTo>
                    <a:pt x="4004" y="3614"/>
                    <a:pt x="10753" y="-1"/>
                    <a:pt x="17980" y="0"/>
                  </a:cubicBezTo>
                  <a:cubicBezTo>
                    <a:pt x="25091" y="0"/>
                    <a:pt x="31747" y="3500"/>
                    <a:pt x="35777" y="9359"/>
                  </a:cubicBezTo>
                  <a:lnTo>
                    <a:pt x="17980" y="21600"/>
                  </a:lnTo>
                  <a:lnTo>
                    <a:pt x="0" y="9630"/>
                  </a:lnTo>
                  <a:close/>
                </a:path>
              </a:pathLst>
            </a:custGeom>
            <a:noFill/>
            <a:ln cap="rnd" w="2844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Arc 9"/>
            <p:cNvSpPr/>
            <p:nvPr/>
          </p:nvSpPr>
          <p:spPr>
            <a:xfrm>
              <a:off x="3351600" y="3934800"/>
              <a:ext cx="1139760" cy="260424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2604240"/>
                <a:gd name="textAreaBottom" fmla="*/ 2604600 h 2604240"/>
              </a:gdLst>
              <a:ahLst/>
              <a:rect l="textAreaLeft" t="textAreaTop" r="textAreaRight" b="textAreaBottom"/>
              <a:pathLst>
                <a:path fill="none" w="35778" h="21600">
                  <a:moveTo>
                    <a:pt x="-1" y="9391"/>
                  </a:moveTo>
                  <a:cubicBezTo>
                    <a:pt x="4026" y="3513"/>
                    <a:pt x="10693" y="-1"/>
                    <a:pt x="17819" y="0"/>
                  </a:cubicBezTo>
                  <a:cubicBezTo>
                    <a:pt x="25032" y="0"/>
                    <a:pt x="31769" y="3600"/>
                    <a:pt x="35777" y="9598"/>
                  </a:cubicBezTo>
                </a:path>
                <a:path stroke="0" w="35778" h="21600">
                  <a:moveTo>
                    <a:pt x="-1" y="9391"/>
                  </a:moveTo>
                  <a:cubicBezTo>
                    <a:pt x="4026" y="3513"/>
                    <a:pt x="10693" y="-1"/>
                    <a:pt x="17819" y="0"/>
                  </a:cubicBezTo>
                  <a:cubicBezTo>
                    <a:pt x="25032" y="0"/>
                    <a:pt x="31769" y="3600"/>
                    <a:pt x="35777" y="9598"/>
                  </a:cubicBezTo>
                  <a:lnTo>
                    <a:pt x="17819" y="21600"/>
                  </a:lnTo>
                  <a:lnTo>
                    <a:pt x="-1" y="9391"/>
                  </a:lnTo>
                  <a:close/>
                </a:path>
              </a:pathLst>
            </a:custGeom>
            <a:noFill/>
            <a:ln cap="rnd" w="2844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Arc 10"/>
            <p:cNvSpPr/>
            <p:nvPr/>
          </p:nvSpPr>
          <p:spPr>
            <a:xfrm rot="2580000">
              <a:off x="2149200" y="3948840"/>
              <a:ext cx="874440" cy="2648520"/>
            </a:xfrm>
            <a:custGeom>
              <a:avLst/>
              <a:gdLst>
                <a:gd name="textAreaLeft" fmla="*/ 0 w 874440"/>
                <a:gd name="textAreaRight" fmla="*/ 874800 w 874440"/>
                <a:gd name="textAreaTop" fmla="*/ 0 h 2648520"/>
                <a:gd name="textAreaBottom" fmla="*/ 2648880 h 2648520"/>
              </a:gdLst>
              <a:ahLst/>
              <a:rect l="textAreaLeft" t="textAreaTop" r="textAreaRight" b="textAreaBottom"/>
              <a:pathLst>
                <a:path fill="none" w="32142" h="21600">
                  <a:moveTo>
                    <a:pt x="-1" y="12271"/>
                  </a:moveTo>
                  <a:cubicBezTo>
                    <a:pt x="3590" y="4772"/>
                    <a:pt x="11167" y="-1"/>
                    <a:pt x="19482" y="0"/>
                  </a:cubicBezTo>
                  <a:cubicBezTo>
                    <a:pt x="24028" y="0"/>
                    <a:pt x="28458" y="1434"/>
                    <a:pt x="32141" y="4099"/>
                  </a:cubicBezTo>
                </a:path>
                <a:path stroke="0" w="32142" h="21600">
                  <a:moveTo>
                    <a:pt x="-1" y="12271"/>
                  </a:moveTo>
                  <a:cubicBezTo>
                    <a:pt x="3590" y="4772"/>
                    <a:pt x="11167" y="-1"/>
                    <a:pt x="19482" y="0"/>
                  </a:cubicBezTo>
                  <a:cubicBezTo>
                    <a:pt x="24028" y="0"/>
                    <a:pt x="28458" y="1434"/>
                    <a:pt x="32141" y="4099"/>
                  </a:cubicBezTo>
                  <a:lnTo>
                    <a:pt x="19482" y="21600"/>
                  </a:lnTo>
                  <a:lnTo>
                    <a:pt x="-1" y="12271"/>
                  </a:lnTo>
                  <a:close/>
                </a:path>
              </a:pathLst>
            </a:custGeom>
            <a:noFill/>
            <a:ln cap="rnd"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Arc 11"/>
            <p:cNvSpPr/>
            <p:nvPr/>
          </p:nvSpPr>
          <p:spPr>
            <a:xfrm rot="13380000">
              <a:off x="3633840" y="3548160"/>
              <a:ext cx="874440" cy="2648520"/>
            </a:xfrm>
            <a:custGeom>
              <a:avLst/>
              <a:gdLst>
                <a:gd name="textAreaLeft" fmla="*/ 0 w 874440"/>
                <a:gd name="textAreaRight" fmla="*/ 874800 w 874440"/>
                <a:gd name="textAreaTop" fmla="*/ 0 h 2648520"/>
                <a:gd name="textAreaBottom" fmla="*/ 2648880 h 2648520"/>
              </a:gdLst>
              <a:ahLst/>
              <a:rect l="textAreaLeft" t="textAreaTop" r="textAreaRight" b="textAreaBottom"/>
              <a:pathLst>
                <a:path fill="none" w="32142" h="21600">
                  <a:moveTo>
                    <a:pt x="-1" y="12271"/>
                  </a:moveTo>
                  <a:cubicBezTo>
                    <a:pt x="3590" y="4772"/>
                    <a:pt x="11167" y="-1"/>
                    <a:pt x="19482" y="0"/>
                  </a:cubicBezTo>
                  <a:cubicBezTo>
                    <a:pt x="24028" y="0"/>
                    <a:pt x="28458" y="1434"/>
                    <a:pt x="32141" y="4099"/>
                  </a:cubicBezTo>
                </a:path>
                <a:path stroke="0" w="32142" h="21600">
                  <a:moveTo>
                    <a:pt x="-1" y="12271"/>
                  </a:moveTo>
                  <a:cubicBezTo>
                    <a:pt x="3590" y="4772"/>
                    <a:pt x="11167" y="-1"/>
                    <a:pt x="19482" y="0"/>
                  </a:cubicBezTo>
                  <a:cubicBezTo>
                    <a:pt x="24028" y="0"/>
                    <a:pt x="28458" y="1434"/>
                    <a:pt x="32141" y="4099"/>
                  </a:cubicBezTo>
                  <a:lnTo>
                    <a:pt x="19482" y="21600"/>
                  </a:lnTo>
                  <a:lnTo>
                    <a:pt x="-1" y="12271"/>
                  </a:lnTo>
                  <a:close/>
                </a:path>
              </a:pathLst>
            </a:custGeom>
            <a:noFill/>
            <a:ln cap="rnd"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645200" y="3798720"/>
              <a:ext cx="0" cy="120132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Line 13"/>
            <p:cNvSpPr/>
            <p:nvPr/>
          </p:nvSpPr>
          <p:spPr>
            <a:xfrm>
              <a:off x="3971880" y="3931920"/>
              <a:ext cx="0" cy="106812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Line 14"/>
            <p:cNvSpPr/>
            <p:nvPr/>
          </p:nvSpPr>
          <p:spPr>
            <a:xfrm>
              <a:off x="1433520" y="3931920"/>
              <a:ext cx="0" cy="106812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1221480" y="4199040"/>
              <a:ext cx="0" cy="80100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Line 16"/>
            <p:cNvSpPr/>
            <p:nvPr/>
          </p:nvSpPr>
          <p:spPr>
            <a:xfrm>
              <a:off x="1855800" y="4065480"/>
              <a:ext cx="0" cy="93456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Line 17"/>
            <p:cNvSpPr/>
            <p:nvPr/>
          </p:nvSpPr>
          <p:spPr>
            <a:xfrm>
              <a:off x="4182120" y="4199040"/>
              <a:ext cx="0" cy="80100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Line 18"/>
            <p:cNvSpPr/>
            <p:nvPr/>
          </p:nvSpPr>
          <p:spPr>
            <a:xfrm>
              <a:off x="3759840" y="4065480"/>
              <a:ext cx="0" cy="93456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Line 19"/>
            <p:cNvSpPr/>
            <p:nvPr/>
          </p:nvSpPr>
          <p:spPr>
            <a:xfrm>
              <a:off x="3547800" y="4332240"/>
              <a:ext cx="0" cy="66780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Line 20"/>
            <p:cNvSpPr/>
            <p:nvPr/>
          </p:nvSpPr>
          <p:spPr>
            <a:xfrm>
              <a:off x="4393800" y="4600080"/>
              <a:ext cx="0" cy="39996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Line 21"/>
            <p:cNvSpPr/>
            <p:nvPr/>
          </p:nvSpPr>
          <p:spPr>
            <a:xfrm>
              <a:off x="2067840" y="4600080"/>
              <a:ext cx="0" cy="39996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Line 22"/>
            <p:cNvSpPr/>
            <p:nvPr/>
          </p:nvSpPr>
          <p:spPr>
            <a:xfrm flipH="1">
              <a:off x="1115280" y="5000400"/>
              <a:ext cx="317880" cy="8010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Line 23"/>
            <p:cNvSpPr/>
            <p:nvPr/>
          </p:nvSpPr>
          <p:spPr>
            <a:xfrm flipV="1">
              <a:off x="2913840" y="4331880"/>
              <a:ext cx="317520" cy="6678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Line 24"/>
            <p:cNvSpPr/>
            <p:nvPr/>
          </p:nvSpPr>
          <p:spPr>
            <a:xfrm flipH="1">
              <a:off x="3441960" y="5000400"/>
              <a:ext cx="317520" cy="8010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 flipH="1">
              <a:off x="1327680" y="5000400"/>
              <a:ext cx="317520" cy="8010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H="1">
              <a:off x="904680" y="5000400"/>
              <a:ext cx="316440" cy="6678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 flipH="1">
              <a:off x="3231000" y="5000400"/>
              <a:ext cx="316440" cy="6678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 flipH="1">
              <a:off x="3654000" y="5000400"/>
              <a:ext cx="317520" cy="8010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Line 29"/>
            <p:cNvSpPr/>
            <p:nvPr/>
          </p:nvSpPr>
          <p:spPr>
            <a:xfrm flipH="1">
              <a:off x="3971880" y="5000400"/>
              <a:ext cx="210240" cy="5346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Line 30"/>
            <p:cNvSpPr/>
            <p:nvPr/>
          </p:nvSpPr>
          <p:spPr>
            <a:xfrm flipV="1">
              <a:off x="2701800" y="4331880"/>
              <a:ext cx="317880" cy="6678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Line 31"/>
            <p:cNvSpPr/>
            <p:nvPr/>
          </p:nvSpPr>
          <p:spPr>
            <a:xfrm flipV="1">
              <a:off x="3125520" y="4599720"/>
              <a:ext cx="210240" cy="3999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Line 32"/>
            <p:cNvSpPr/>
            <p:nvPr/>
          </p:nvSpPr>
          <p:spPr>
            <a:xfrm flipH="1">
              <a:off x="1645200" y="5000400"/>
              <a:ext cx="210240" cy="5346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Line 33"/>
            <p:cNvSpPr/>
            <p:nvPr/>
          </p:nvSpPr>
          <p:spPr>
            <a:xfrm flipV="1">
              <a:off x="2490120" y="4599720"/>
              <a:ext cx="211680" cy="3999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Line 34"/>
            <p:cNvSpPr/>
            <p:nvPr/>
          </p:nvSpPr>
          <p:spPr>
            <a:xfrm flipH="1">
              <a:off x="4287960" y="5000400"/>
              <a:ext cx="105480" cy="26784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Line 35"/>
            <p:cNvSpPr/>
            <p:nvPr/>
          </p:nvSpPr>
          <p:spPr>
            <a:xfrm flipH="1">
              <a:off x="1961640" y="5000400"/>
              <a:ext cx="105840" cy="26784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Line 36"/>
            <p:cNvSpPr/>
            <p:nvPr/>
          </p:nvSpPr>
          <p:spPr>
            <a:xfrm flipH="1" flipV="1">
              <a:off x="2807640" y="5000040"/>
              <a:ext cx="2880" cy="106812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Line 37"/>
            <p:cNvSpPr/>
            <p:nvPr/>
          </p:nvSpPr>
          <p:spPr>
            <a:xfrm flipV="1">
              <a:off x="2595960" y="5000040"/>
              <a:ext cx="0" cy="106812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Line 38"/>
            <p:cNvSpPr/>
            <p:nvPr/>
          </p:nvSpPr>
          <p:spPr>
            <a:xfrm flipV="1">
              <a:off x="2385360" y="5000040"/>
              <a:ext cx="0" cy="80100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Line 39"/>
            <p:cNvSpPr/>
            <p:nvPr/>
          </p:nvSpPr>
          <p:spPr>
            <a:xfrm flipV="1">
              <a:off x="3019680" y="5000400"/>
              <a:ext cx="0" cy="93456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Line 40"/>
            <p:cNvSpPr/>
            <p:nvPr/>
          </p:nvSpPr>
          <p:spPr>
            <a:xfrm flipV="1">
              <a:off x="3231360" y="5000400"/>
              <a:ext cx="0" cy="401040"/>
            </a:xfrm>
            <a:prstGeom prst="line">
              <a:avLst/>
            </a:prstGeom>
            <a:ln w="28440">
              <a:solidFill>
                <a:srgbClr val="ff00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Rectangle 41"/>
            <p:cNvSpPr/>
            <p:nvPr/>
          </p:nvSpPr>
          <p:spPr>
            <a:xfrm>
              <a:off x="5342040" y="4488840"/>
              <a:ext cx="398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66"/>
                  </a:solidFill>
                  <a:latin typeface="Bookman Old Style"/>
                  <a:ea typeface="宋体"/>
                </a:rPr>
                <a:t>v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Rectangle 42"/>
            <p:cNvSpPr/>
            <p:nvPr/>
          </p:nvSpPr>
          <p:spPr>
            <a:xfrm>
              <a:off x="234000" y="3019680"/>
              <a:ext cx="419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66"/>
                  </a:solidFill>
                  <a:latin typeface="Bookman Old Style"/>
                  <a:ea typeface="宋体"/>
                </a:rPr>
                <a:t>E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Rectangle 43"/>
            <p:cNvSpPr/>
            <p:nvPr/>
          </p:nvSpPr>
          <p:spPr>
            <a:xfrm>
              <a:off x="435600" y="5690880"/>
              <a:ext cx="459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66"/>
                  </a:solidFill>
                  <a:latin typeface="Bookman Old Style"/>
                  <a:ea typeface="宋体"/>
                </a:rPr>
                <a:t>B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1605960" y="3375000"/>
              <a:ext cx="0" cy="441360"/>
            </a:xfrm>
            <a:prstGeom prst="line">
              <a:avLst/>
            </a:prstGeom>
            <a:ln w="34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1605960" y="3627720"/>
              <a:ext cx="896760" cy="0"/>
            </a:xfrm>
            <a:prstGeom prst="line">
              <a:avLst/>
            </a:prstGeom>
            <a:ln w="3492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3977280" y="3438720"/>
              <a:ext cx="0" cy="441720"/>
            </a:xfrm>
            <a:prstGeom prst="line">
              <a:avLst/>
            </a:prstGeom>
            <a:ln w="34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 flipH="1">
              <a:off x="3015000" y="3627720"/>
              <a:ext cx="961560" cy="0"/>
            </a:xfrm>
            <a:prstGeom prst="line">
              <a:avLst/>
            </a:prstGeom>
            <a:ln w="3492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Text Box 50"/>
            <p:cNvSpPr/>
            <p:nvPr/>
          </p:nvSpPr>
          <p:spPr>
            <a:xfrm>
              <a:off x="2601360" y="3220920"/>
              <a:ext cx="185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Rectangle 41"/>
            <p:cNvSpPr/>
            <p:nvPr/>
          </p:nvSpPr>
          <p:spPr>
            <a:xfrm>
              <a:off x="2502360" y="331236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 </a:t>
              </a:r>
              <a:r>
                <a:rPr b="1" i="1" lang="en-US" sz="36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λ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4" name="Text Box 62"/>
          <p:cNvSpPr/>
          <p:nvPr/>
        </p:nvSpPr>
        <p:spPr>
          <a:xfrm>
            <a:off x="468360" y="141300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、电磁辐射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波动性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用周期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T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）、波长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λ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）、频率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ν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）和波数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σ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）等表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(σ =1/ λ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6589800" y="4941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σ =1/λ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675640" y="624852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6527-4DF7-4010-BA52-A482F7EEC7F1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rcRect l="0" t="8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0" y="2421000"/>
            <a:ext cx="9144000" cy="266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675640" y="624852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AEE7-D103-4A0E-9EE8-D8CE775807C5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1703520" y="620640"/>
            <a:ext cx="5759280" cy="685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电磁辐射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微粒性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68360" y="1447920"/>
            <a:ext cx="822960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微粒性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能量不是均匀连续分布，而是集中在辐射产生的微粒上。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31640" y="2657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2843280" y="2997360"/>
          <a:ext cx="28083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997360"/>
                    <a:ext cx="28083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6"/>
          <p:cNvSpPr/>
          <p:nvPr/>
        </p:nvSpPr>
        <p:spPr>
          <a:xfrm>
            <a:off x="431640" y="2657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050920" y="479736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E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：能量；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h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：普朗克常数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9108-F1FB-4936-875D-6289E540773A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189000"/>
            <a:ext cx="9144000" cy="685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楷体"/>
              </a:rPr>
              <a:t>电磁波谱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68360" y="836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电磁波谱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将电磁辐射按其波长（或频率、能量）顺序排列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0" name="Object 16"/>
          <p:cNvGraphicFramePr/>
          <p:nvPr/>
        </p:nvGraphicFramePr>
        <p:xfrm>
          <a:off x="900000" y="1887480"/>
          <a:ext cx="772812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87480"/>
                    <a:ext cx="7728120" cy="4970520"/>
                  </a:xfrm>
                  <a:prstGeom prst="rect">
                    <a:avLst/>
                  </a:prstGeom>
                  <a:ln w="1260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2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AB36-DB0C-4D15-A4E0-9DCA9A3D7BC8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112760" y="622440"/>
            <a:ext cx="6940800" cy="685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4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电磁辐射与物质的相互作用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68360" y="1447920"/>
            <a:ext cx="822960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(1)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吸收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电磁波的能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"/>
              </a:rPr>
              <a:t>正好等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"/>
              </a:rPr>
              <a:t>物质某两个能级之间的能量差时，电磁辐射就可能被物质所吸收，原子或分子从较低能态激发到较高能态或激发态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rcRect l="0" t="13270" r="3700" b="11287"/>
          <a:stretch/>
        </p:blipFill>
        <p:spPr>
          <a:xfrm>
            <a:off x="1332000" y="3860640"/>
            <a:ext cx="5616360" cy="2232360"/>
          </a:xfrm>
          <a:prstGeom prst="rect">
            <a:avLst/>
          </a:prstGeom>
          <a:ln w="0">
            <a:noFill/>
          </a:ln>
        </p:spPr>
      </p:pic>
      <p:sp>
        <p:nvSpPr>
          <p:cNvPr id="186" name="Oval 5">
            <a:hlinkClick r:id="rId2" action="ppaction://hlinksldjump"/>
          </p:cNvPr>
          <p:cNvSpPr/>
          <p:nvPr/>
        </p:nvSpPr>
        <p:spPr>
          <a:xfrm>
            <a:off x="3348000" y="4653000"/>
            <a:ext cx="685800" cy="1224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532720" y="6248520"/>
            <a:ext cx="6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5202-945F-40B3-9997-C645C5751D37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2"/>
          <p:cNvSpPr/>
          <p:nvPr/>
        </p:nvSpPr>
        <p:spPr>
          <a:xfrm>
            <a:off x="1116000" y="98100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不同元素的原子，在产生能级跃迁时，所吸收的光的频率是相同的。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3492360" y="3368520"/>
            <a:ext cx="107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正确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3492360" y="4226040"/>
            <a:ext cx="107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错误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2916360" y="34336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椭圆 8"/>
          <p:cNvSpPr/>
          <p:nvPr/>
        </p:nvSpPr>
        <p:spPr>
          <a:xfrm>
            <a:off x="2916360" y="429084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提交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604360" y="6248520"/>
            <a:ext cx="53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6BDF-505F-4EDB-AB2D-8AC2FD5CFFE1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5" name="组合 4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196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ColorBlock"/>
            <p:cNvSpPr/>
            <p:nvPr/>
          </p:nvSpPr>
          <p:spPr>
            <a:xfrm>
              <a:off x="0" y="0"/>
              <a:ext cx="25380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  <a:effectLst>
              <a:outerShdw dist="53966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TypeText"/>
            <p:cNvSpPr/>
            <p:nvPr/>
          </p:nvSpPr>
          <p:spPr>
            <a:xfrm>
              <a:off x="253800" y="0"/>
              <a:ext cx="126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选题</a:t>
              </a:r>
              <a:endParaRPr b="1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TipText"/>
            <p:cNvSpPr/>
            <p:nvPr/>
          </p:nvSpPr>
          <p:spPr>
            <a:xfrm>
              <a:off x="1606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1" lang="zh-CN" sz="24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200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4:03:10Z</dcterms:created>
  <dc:creator>番茄花园</dc:creator>
  <dc:description/>
  <dc:language>en-US</dc:language>
  <cp:lastModifiedBy>User</cp:lastModifiedBy>
  <dcterms:modified xsi:type="dcterms:W3CDTF">2018-07-31T03:15:01Z</dcterms:modified>
  <cp:revision>450</cp:revision>
  <dc:subject/>
  <dc:title>检测慢性粒细胞性白血病相关基因的DNA探针筛选研究</dc:title>
</cp:coreProperties>
</file>