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6981-A92D-4D10-A80C-3505A8568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7CBA-22AB-454E-8C46-67706E1D9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7403-C2A2-491E-AD9A-7647946C9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7249-CCAC-432F-B341-020F60C22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10E4-6028-4D3A-B5F5-D1CD5A0231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A63C-A285-4B2A-9761-6956906FB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15D2-E1C1-447B-A61E-FE82C3F24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DA72-817B-4F6B-B3AC-9B8959712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1EBC-B761-4A18-AF8A-7284F5DE6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4E96-65E5-4763-9C1C-D8ED6AC2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B56F-8821-4937-9103-9F7F1D4C5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1770-154D-4483-A1D9-AFA1A7380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00A-BA67-44B3-AB4D-A86D5164B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611280" y="64213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1004040" y="64371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ahoma"/>
              </a:rPr>
              <a:t>直读式仪表的误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27979;&#37327;&#22522;&#30784;/1&#27979;&#37327;&#35823;&#24046;&#30340;&#22522;&#26412;&#27010;&#24565;&#65288;stnn&#65289;.ppt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wmf"/><Relationship Id="rId12" Type="http://schemas.openxmlformats.org/officeDocument/2006/relationships/hyperlink" Target="file:///O:/&#30005;&#27668;&#24037;&#31243;&#22522;&#30784;&#65288;&#23454;&#39564;&#65289;/Lab1/lab1&#65293;VIR&#30340;&#27979;&#37327;.ppt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u=1952628854,1799291808&amp;fm=21&amp;gp=0"/>
          <p:cNvPicPr/>
          <p:nvPr/>
        </p:nvPicPr>
        <p:blipFill>
          <a:blip r:embed="rId1"/>
          <a:stretch/>
        </p:blipFill>
        <p:spPr>
          <a:xfrm>
            <a:off x="684360" y="2060640"/>
            <a:ext cx="2952720" cy="232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307-41A5-47B8-92A6-1C1B58A2D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403280" y="106200"/>
            <a:ext cx="7361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直读式仪表（数字表）的误差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6" descr="u=1938473726,1670254269&amp;fm=23&amp;gp=0"/>
          <p:cNvPicPr/>
          <p:nvPr/>
        </p:nvPicPr>
        <p:blipFill>
          <a:blip r:embed="rId2"/>
          <a:stretch/>
        </p:blipFill>
        <p:spPr>
          <a:xfrm>
            <a:off x="1187280" y="907920"/>
            <a:ext cx="2953080" cy="154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43895"/>
          <p:cNvPicPr/>
          <p:nvPr/>
        </p:nvPicPr>
        <p:blipFill>
          <a:blip r:embed="rId3"/>
          <a:stretch/>
        </p:blipFill>
        <p:spPr>
          <a:xfrm>
            <a:off x="4140360" y="90792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u=56334171,505702144&amp;fm=23&amp;gp=0"/>
          <p:cNvPicPr/>
          <p:nvPr/>
        </p:nvPicPr>
        <p:blipFill>
          <a:blip r:embed="rId4"/>
          <a:stretch/>
        </p:blipFill>
        <p:spPr>
          <a:xfrm>
            <a:off x="6732720" y="907920"/>
            <a:ext cx="1952640" cy="273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Object 10"/>
          <p:cNvGraphicFramePr/>
          <p:nvPr/>
        </p:nvGraphicFramePr>
        <p:xfrm>
          <a:off x="611280" y="4797360"/>
          <a:ext cx="27367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797360"/>
                    <a:ext cx="27367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Group 11"/>
          <p:cNvGrpSpPr/>
          <p:nvPr/>
        </p:nvGrpSpPr>
        <p:grpSpPr>
          <a:xfrm>
            <a:off x="611280" y="5373000"/>
            <a:ext cx="4718520" cy="551160"/>
            <a:chOff x="611280" y="5373000"/>
            <a:chExt cx="4718520" cy="551160"/>
          </a:xfrm>
        </p:grpSpPr>
        <p:graphicFrame>
          <p:nvGraphicFramePr>
            <p:cNvPr id="57" name="Object 12"/>
            <p:cNvGraphicFramePr/>
            <p:nvPr/>
          </p:nvGraphicFramePr>
          <p:xfrm>
            <a:off x="611280" y="5373720"/>
            <a:ext cx="273672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" name="Object 1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280" y="5373720"/>
                      <a:ext cx="273672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Rectangle 13"/>
            <p:cNvSpPr/>
            <p:nvPr/>
          </p:nvSpPr>
          <p:spPr>
            <a:xfrm>
              <a:off x="3254760" y="5373000"/>
              <a:ext cx="2075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几个字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" name="Rectangle 14"/>
          <p:cNvSpPr/>
          <p:nvPr/>
        </p:nvSpPr>
        <p:spPr>
          <a:xfrm>
            <a:off x="5076720" y="407556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测量的指示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5301360" y="4555080"/>
            <a:ext cx="30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仪表满量限值，即仪表量程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5093640" y="5073840"/>
            <a:ext cx="20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误差相对项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5266080" y="558828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误差固定项系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" name="Group 18"/>
          <p:cNvGrpSpPr/>
          <p:nvPr/>
        </p:nvGrpSpPr>
        <p:grpSpPr>
          <a:xfrm>
            <a:off x="611280" y="4291920"/>
            <a:ext cx="3565800" cy="551160"/>
            <a:chOff x="611280" y="4291920"/>
            <a:chExt cx="3565800" cy="551160"/>
          </a:xfrm>
        </p:grpSpPr>
        <p:graphicFrame>
          <p:nvGraphicFramePr>
            <p:cNvPr id="65" name="Object 19"/>
            <p:cNvGraphicFramePr/>
            <p:nvPr/>
          </p:nvGraphicFramePr>
          <p:xfrm>
            <a:off x="611280" y="4292640"/>
            <a:ext cx="1584000" cy="484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" name="Object 1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1280" y="4292640"/>
                      <a:ext cx="158400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Rectangle 20"/>
            <p:cNvSpPr/>
            <p:nvPr/>
          </p:nvSpPr>
          <p:spPr>
            <a:xfrm>
              <a:off x="2102040" y="4291920"/>
              <a:ext cx="2075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几个字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-7318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Y61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数字万用表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640" y="9075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位半显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准确度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％读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数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5545080" cy="29574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"/>
          <p:cNvGrpSpPr/>
          <p:nvPr/>
        </p:nvGrpSpPr>
        <p:grpSpPr>
          <a:xfrm>
            <a:off x="3419640" y="1844640"/>
            <a:ext cx="4293000" cy="863640"/>
            <a:chOff x="3419640" y="1844640"/>
            <a:chExt cx="4293000" cy="863640"/>
          </a:xfrm>
        </p:grpSpPr>
        <p:sp>
          <p:nvSpPr>
            <p:cNvPr id="72" name="Text Box 5"/>
            <p:cNvSpPr/>
            <p:nvPr/>
          </p:nvSpPr>
          <p:spPr>
            <a:xfrm>
              <a:off x="6123960" y="1844640"/>
              <a:ext cx="15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分辨力＝量程</a:t>
              </a: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/</a:t>
              </a: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总字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Line 6"/>
            <p:cNvSpPr/>
            <p:nvPr/>
          </p:nvSpPr>
          <p:spPr>
            <a:xfrm flipV="1">
              <a:off x="3419640" y="2133720"/>
              <a:ext cx="2447640" cy="57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" name="Text Box 9"/>
          <p:cNvSpPr/>
          <p:nvPr/>
        </p:nvSpPr>
        <p:spPr>
          <a:xfrm>
            <a:off x="447984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" name="Group 11"/>
          <p:cNvGrpSpPr/>
          <p:nvPr/>
        </p:nvGrpSpPr>
        <p:grpSpPr>
          <a:xfrm>
            <a:off x="3419640" y="1052640"/>
            <a:ext cx="2303280" cy="863640"/>
            <a:chOff x="3419640" y="1052640"/>
            <a:chExt cx="2303280" cy="863640"/>
          </a:xfrm>
        </p:grpSpPr>
        <p:sp>
          <p:nvSpPr>
            <p:cNvPr id="76" name="Line 8"/>
            <p:cNvSpPr/>
            <p:nvPr/>
          </p:nvSpPr>
          <p:spPr>
            <a:xfrm>
              <a:off x="3419640" y="1916280"/>
              <a:ext cx="936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AutoShape 10"/>
            <p:cNvSpPr/>
            <p:nvPr/>
          </p:nvSpPr>
          <p:spPr>
            <a:xfrm>
              <a:off x="4427640" y="1052640"/>
              <a:ext cx="1295280" cy="358560"/>
            </a:xfrm>
            <a:prstGeom prst="borderCallout1">
              <a:avLst>
                <a:gd name="adj1" fmla="val 18750"/>
                <a:gd name="adj2" fmla="val -8333"/>
                <a:gd name="adj3" fmla="val 237611"/>
                <a:gd name="adj4" fmla="val -38726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测量误差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4643280" y="1052640"/>
            <a:ext cx="2592720" cy="863640"/>
            <a:chOff x="4643280" y="1052640"/>
            <a:chExt cx="2592720" cy="863640"/>
          </a:xfrm>
        </p:grpSpPr>
        <p:sp>
          <p:nvSpPr>
            <p:cNvPr id="79" name="Line 12"/>
            <p:cNvSpPr/>
            <p:nvPr/>
          </p:nvSpPr>
          <p:spPr>
            <a:xfrm>
              <a:off x="4643280" y="1916280"/>
              <a:ext cx="649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5940360" y="1052640"/>
              <a:ext cx="1295640" cy="358560"/>
            </a:xfrm>
            <a:prstGeom prst="borderCallout1">
              <a:avLst>
                <a:gd name="adj1" fmla="val 18750"/>
                <a:gd name="adj2" fmla="val -8333"/>
                <a:gd name="adj3" fmla="val 179648"/>
                <a:gd name="adj4" fmla="val -5343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显示误差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16000" y="843120"/>
            <a:ext cx="5184720" cy="3317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206360" y="1916280"/>
            <a:ext cx="5021280" cy="31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468360" y="4292640"/>
            <a:ext cx="8001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仪表误差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±(0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= ±(0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0/2000*3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±(0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1*3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±(0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/20%*200)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±(0.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" name="Object 7"/>
          <p:cNvGraphicFramePr/>
          <p:nvPr/>
        </p:nvGraphicFramePr>
        <p:xfrm>
          <a:off x="5580000" y="5300640"/>
          <a:ext cx="2737080" cy="5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5300640"/>
                    <a:ext cx="2737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Group 8"/>
          <p:cNvGrpSpPr/>
          <p:nvPr/>
        </p:nvGrpSpPr>
        <p:grpSpPr>
          <a:xfrm>
            <a:off x="5580000" y="4220280"/>
            <a:ext cx="3566520" cy="551160"/>
            <a:chOff x="5580000" y="4220280"/>
            <a:chExt cx="3566520" cy="551160"/>
          </a:xfrm>
        </p:grpSpPr>
        <p:graphicFrame>
          <p:nvGraphicFramePr>
            <p:cNvPr id="87" name="Object 9"/>
            <p:cNvGraphicFramePr/>
            <p:nvPr/>
          </p:nvGraphicFramePr>
          <p:xfrm>
            <a:off x="5580000" y="4221000"/>
            <a:ext cx="1584360" cy="484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8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80000" y="4221000"/>
                      <a:ext cx="158436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Rectangle 10"/>
            <p:cNvSpPr/>
            <p:nvPr/>
          </p:nvSpPr>
          <p:spPr>
            <a:xfrm>
              <a:off x="7071480" y="4220280"/>
              <a:ext cx="2075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几个字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" name="AutoShape 12"/>
          <p:cNvSpPr/>
          <p:nvPr/>
        </p:nvSpPr>
        <p:spPr>
          <a:xfrm>
            <a:off x="6443640" y="3789360"/>
            <a:ext cx="914400" cy="358920"/>
          </a:xfrm>
          <a:prstGeom prst="borderCallout1">
            <a:avLst>
              <a:gd name="adj1" fmla="val 18750"/>
              <a:gd name="adj2" fmla="val -8333"/>
              <a:gd name="adj3" fmla="val 239824"/>
              <a:gd name="adj4" fmla="val -14357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辨力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500720" y="4653000"/>
            <a:ext cx="1655640" cy="36036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E3BD-93FB-488D-9F78-613999950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，测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电阻，估计使用该表的测量值为多少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档，测量读数大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该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半表，显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-1999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程范围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档最大的显示值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.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每个字代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由说明书知此时显示误差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字，因此表明显示误差的绝对误差限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测量结果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±(0.8%*2.8+0.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=2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±0.3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电阻真值应该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.478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~3.122 )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4941720"/>
            <a:ext cx="831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相对误差（测量值相对于标称值）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.8-2)/2=4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该仪表测量的最大示值相对误差：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.322/2.8=11.5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596360" y="4365720"/>
            <a:ext cx="1547640" cy="1008000"/>
          </a:xfrm>
          <a:prstGeom prst="wedgeRectCallout">
            <a:avLst>
              <a:gd name="adj1" fmla="val -82717"/>
              <a:gd name="adj2" fmla="val 3267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若过大，说明仪表选择不合理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701720" y="189000"/>
            <a:ext cx="452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仪表误差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±(0.8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±(0.8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％读数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0.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5E1-3777-49EC-A7C7-FE5FC506D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042920" y="260280"/>
            <a:ext cx="831708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相对误差（测量值相对于标称值）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.8-2)/2=4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该仪表测量的最大示值相对误差：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0.322/2.8=11.5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581840" y="1413000"/>
            <a:ext cx="525816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明了什么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器件本身的误差（标称值与真值之差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0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测量时的方法误差（仪表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0.3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的不确定度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±0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4">
            <a:hlinkClick r:id="rId1"/>
          </p:cNvPr>
          <p:cNvSpPr/>
          <p:nvPr/>
        </p:nvSpPr>
        <p:spPr>
          <a:xfrm>
            <a:off x="684360" y="3859200"/>
            <a:ext cx="574560" cy="576360"/>
          </a:xfrm>
          <a:custGeom>
            <a:avLst/>
            <a:gdLst/>
            <a:ahLst/>
            <a:rect l="l" t="t" r="r" b="b"/>
            <a:pathLst>
              <a:path w="574675" h="576262">
                <a:moveTo>
                  <a:pt x="1" y="220112"/>
                </a:moveTo>
                <a:lnTo>
                  <a:pt x="219508" y="220113"/>
                </a:lnTo>
                <a:lnTo>
                  <a:pt x="287338" y="0"/>
                </a:lnTo>
                <a:lnTo>
                  <a:pt x="355167" y="220113"/>
                </a:lnTo>
                <a:lnTo>
                  <a:pt x="574674" y="220112"/>
                </a:lnTo>
                <a:lnTo>
                  <a:pt x="397089" y="356148"/>
                </a:lnTo>
                <a:lnTo>
                  <a:pt x="464921" y="576261"/>
                </a:lnTo>
                <a:lnTo>
                  <a:pt x="287338" y="440222"/>
                </a:lnTo>
                <a:lnTo>
                  <a:pt x="109754" y="576261"/>
                </a:lnTo>
                <a:lnTo>
                  <a:pt x="177586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4764600" y="3139920"/>
            <a:ext cx="361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（置信水平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）包含因子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1.7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1332000" y="3643200"/>
            <a:ext cx="7343640" cy="1019160"/>
            <a:chOff x="1332000" y="3643200"/>
            <a:chExt cx="7343640" cy="1019160"/>
          </a:xfrm>
        </p:grpSpPr>
        <p:sp>
          <p:nvSpPr>
            <p:cNvPr id="103" name="Rectangle 8"/>
            <p:cNvSpPr/>
            <p:nvPr/>
          </p:nvSpPr>
          <p:spPr>
            <a:xfrm>
              <a:off x="1332000" y="3933720"/>
              <a:ext cx="439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单次直接测量的标准不确定度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04" name="Object 9"/>
            <p:cNvGraphicFramePr/>
            <p:nvPr/>
          </p:nvGraphicFramePr>
          <p:xfrm>
            <a:off x="5724360" y="3859200"/>
            <a:ext cx="1087560" cy="652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360" y="3859200"/>
                      <a:ext cx="1087560" cy="65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10"/>
            <p:cNvGraphicFramePr/>
            <p:nvPr/>
          </p:nvGraphicFramePr>
          <p:xfrm>
            <a:off x="7236000" y="3643200"/>
            <a:ext cx="1439640" cy="1019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Object 10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236000" y="3643200"/>
                      <a:ext cx="1439640" cy="10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Group 22"/>
          <p:cNvGrpSpPr/>
          <p:nvPr/>
        </p:nvGrpSpPr>
        <p:grpSpPr>
          <a:xfrm>
            <a:off x="4385520" y="5229360"/>
            <a:ext cx="2778840" cy="528480"/>
            <a:chOff x="4385520" y="5229360"/>
            <a:chExt cx="2778840" cy="528480"/>
          </a:xfrm>
        </p:grpSpPr>
        <p:graphicFrame>
          <p:nvGraphicFramePr>
            <p:cNvPr id="109" name="Object 11"/>
            <p:cNvGraphicFramePr/>
            <p:nvPr/>
          </p:nvGraphicFramePr>
          <p:xfrm>
            <a:off x="5732640" y="5229360"/>
            <a:ext cx="1431720" cy="528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0" name="Object 1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732640" y="5229360"/>
                      <a:ext cx="143172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Rectangle 12"/>
            <p:cNvSpPr/>
            <p:nvPr/>
          </p:nvSpPr>
          <p:spPr>
            <a:xfrm>
              <a:off x="4385520" y="52959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测量结果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Group 21"/>
          <p:cNvGrpSpPr/>
          <p:nvPr/>
        </p:nvGrpSpPr>
        <p:grpSpPr>
          <a:xfrm>
            <a:off x="3873960" y="4613400"/>
            <a:ext cx="4401360" cy="528480"/>
            <a:chOff x="3873960" y="4613400"/>
            <a:chExt cx="4401360" cy="528480"/>
          </a:xfrm>
        </p:grpSpPr>
        <p:sp>
          <p:nvSpPr>
            <p:cNvPr id="113" name="Rectangle 13"/>
            <p:cNvSpPr/>
            <p:nvPr/>
          </p:nvSpPr>
          <p:spPr>
            <a:xfrm>
              <a:off x="3873960" y="4651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扩展不确定度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14" name="Object 14"/>
            <p:cNvGraphicFramePr/>
            <p:nvPr/>
          </p:nvGraphicFramePr>
          <p:xfrm>
            <a:off x="5721480" y="4613400"/>
            <a:ext cx="715680" cy="528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5" name="Object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721480" y="4613400"/>
                      <a:ext cx="71568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Text Box 15"/>
            <p:cNvSpPr/>
            <p:nvPr/>
          </p:nvSpPr>
          <p:spPr>
            <a:xfrm>
              <a:off x="6937920" y="4651200"/>
              <a:ext cx="133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k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为包含因子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19"/>
          <p:cNvGrpSpPr/>
          <p:nvPr/>
        </p:nvGrpSpPr>
        <p:grpSpPr>
          <a:xfrm>
            <a:off x="0" y="5132520"/>
            <a:ext cx="4572000" cy="1035720"/>
            <a:chOff x="0" y="5132520"/>
            <a:chExt cx="4572000" cy="1035720"/>
          </a:xfrm>
        </p:grpSpPr>
        <p:sp>
          <p:nvSpPr>
            <p:cNvPr id="118" name="Rectangle 16"/>
            <p:cNvSpPr/>
            <p:nvPr/>
          </p:nvSpPr>
          <p:spPr>
            <a:xfrm>
              <a:off x="0" y="57085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置信水平为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均匀分布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19" name="Object 17"/>
            <p:cNvGraphicFramePr/>
            <p:nvPr/>
          </p:nvGraphicFramePr>
          <p:xfrm>
            <a:off x="395280" y="5132520"/>
            <a:ext cx="1081080" cy="541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0" name="Object 1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95280" y="5132520"/>
                      <a:ext cx="1081080" cy="54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Rectangle 18"/>
            <p:cNvSpPr/>
            <p:nvPr/>
          </p:nvSpPr>
          <p:spPr>
            <a:xfrm>
              <a:off x="179280" y="5132520"/>
              <a:ext cx="3672000" cy="1009440"/>
            </a:xfrm>
            <a:prstGeom prst="rect">
              <a:avLst/>
            </a:prstGeom>
            <a:noFill/>
            <a:ln w="507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动作按钮: 后退或前一项 1">
            <a:hlinkClick r:id="rId12"/>
          </p:cNvPr>
          <p:cNvSpPr/>
          <p:nvPr/>
        </p:nvSpPr>
        <p:spPr>
          <a:xfrm>
            <a:off x="8675640" y="6453360"/>
            <a:ext cx="289080" cy="28872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1627" h="21600">
                <a:moveTo>
                  <a:pt x="0" y="0"/>
                </a:moveTo>
                <a:lnTo>
                  <a:pt x="21627" y="0"/>
                </a:lnTo>
                <a:lnTo>
                  <a:pt x="21627" y="21600"/>
                </a:lnTo>
                <a:lnTo>
                  <a:pt x="0" y="21600"/>
                </a:lnTo>
                <a:close/>
              </a:path>
              <a:path fill="lightenLess" w="21627" h="21600">
                <a:moveTo>
                  <a:pt x="0" y="0"/>
                </a:moveTo>
                <a:lnTo>
                  <a:pt x="21627" y="0"/>
                </a:lnTo>
                <a:lnTo>
                  <a:pt x="20227" y="1400"/>
                </a:lnTo>
                <a:lnTo>
                  <a:pt x="1400" y="1400"/>
                </a:lnTo>
                <a:close/>
              </a:path>
              <a:path fill="darken" w="21627" h="21600">
                <a:moveTo>
                  <a:pt x="21627" y="0"/>
                </a:moveTo>
                <a:lnTo>
                  <a:pt x="21627" y="21600"/>
                </a:lnTo>
                <a:lnTo>
                  <a:pt x="20227" y="20200"/>
                </a:lnTo>
                <a:lnTo>
                  <a:pt x="20227" y="1400"/>
                </a:lnTo>
                <a:close/>
              </a:path>
              <a:path fill="darkenLess" w="21627" h="21600">
                <a:moveTo>
                  <a:pt x="216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7" y="20200"/>
                </a:lnTo>
                <a:close/>
              </a:path>
              <a:path fill="lighten" w="216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7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2D70-DC12-4F45-845E-E52DC6FE0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文本框 3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直读式数字仪表的准确度指的是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该测量点的相对误差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该测量点的测量误差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+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显示误差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文本框 6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该仪表的引用误差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文本框 7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该仪表的最大引用误差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椭圆 8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椭圆 9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椭圆 10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椭圆 11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圆角矩形 12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" name="组合 1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35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39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3B97-E7AB-4A73-86F9-95C4963362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若直读式仪表的测量误差为</a:t>
            </a: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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，则单次测量的扩展不准确度（置信水平为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，均匀分布）是多少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文本框 4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文本框 5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/sqrt(3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文本框 6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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文本框 7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Symbol"/>
                <a:ea typeface="Symbol"/>
              </a:rPr>
              <a:t></a:t>
            </a:r>
            <a:r>
              <a:rPr b="0" lang="en-US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/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椭圆 8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椭圆 9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椭圆 10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椭圆 11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圆角矩形 12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组合 1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152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6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7567-010C-45FE-8252-D36C8FE40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00080" y="2000160"/>
          <a:ext cx="7151760" cy="2516400"/>
        </p:xfrm>
        <a:graphic>
          <a:graphicData uri="http://schemas.openxmlformats.org/drawingml/2006/table">
            <a:tbl>
              <a:tblPr/>
              <a:tblGrid>
                <a:gridCol w="1943280"/>
                <a:gridCol w="1296720"/>
                <a:gridCol w="1224000"/>
                <a:gridCol w="1257480"/>
                <a:gridCol w="143028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标称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量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要记录示值、单位和量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示值误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仪表误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备注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Text Box 40"/>
          <p:cNvSpPr/>
          <p:nvPr/>
        </p:nvSpPr>
        <p:spPr>
          <a:xfrm>
            <a:off x="2011680" y="121428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阻的直接测量结果及其误差计算结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1525320" y="478620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值误差计算公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928800" y="5362560"/>
            <a:ext cx="40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仪表误差计算公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550-E0B3-4F21-BFF7-19AF8AB1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9468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直读式仪表的测量误差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0" y="1052640"/>
          <a:ext cx="9144000" cy="3881160"/>
        </p:xfrm>
        <a:graphic>
          <a:graphicData uri="http://schemas.openxmlformats.org/drawingml/2006/table">
            <a:tbl>
              <a:tblPr/>
              <a:tblGrid>
                <a:gridCol w="2124000"/>
                <a:gridCol w="1511280"/>
                <a:gridCol w="1657440"/>
                <a:gridCol w="1584360"/>
                <a:gridCol w="1655640"/>
                <a:gridCol w="611280"/>
              </a:tblGrid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待测电阻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备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量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量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8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3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.2/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量值与标称值的差别     </a:t>
                      </a: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[</a:t>
                      </a:r>
                      <a:r>
                        <a:rPr b="1" lang="zh-CN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注</a:t>
                      </a: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直读仪表的误差限（示值误差）</a:t>
                      </a: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[</a:t>
                      </a:r>
                      <a:r>
                        <a:rPr b="1" lang="zh-CN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注</a:t>
                      </a: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最大示值相对误差     </a:t>
                      </a:r>
                      <a:r>
                        <a:rPr b="1" i="1" lang="zh-CN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[</a:t>
                      </a:r>
                      <a:r>
                        <a:rPr b="1" lang="zh-CN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注</a:t>
                      </a: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3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测量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8.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[</a:t>
                      </a:r>
                      <a:r>
                        <a:rPr b="1" lang="zh-CN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注</a:t>
                      </a:r>
                      <a:r>
                        <a:rPr b="1" lang="en-US" sz="1800" spc="-1" strike="noStrike" baseline="30000">
                          <a:solidFill>
                            <a:srgbClr val="ff3300"/>
                          </a:solidFill>
                          <a:latin typeface="Tahoma"/>
                        </a:rPr>
                        <a:t>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54"/>
          <p:cNvSpPr/>
          <p:nvPr/>
        </p:nvSpPr>
        <p:spPr>
          <a:xfrm>
            <a:off x="777600" y="5084640"/>
            <a:ext cx="312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＝（测量值－标称值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标称值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55"/>
          <p:cNvSpPr/>
          <p:nvPr/>
        </p:nvSpPr>
        <p:spPr>
          <a:xfrm>
            <a:off x="480960" y="5516640"/>
            <a:ext cx="27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％读数＋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字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329760" y="5948280"/>
            <a:ext cx="211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示值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5314680" y="5084640"/>
            <a:ext cx="298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直读仪表的误差限</a:t>
            </a:r>
            <a:r>
              <a:rPr b="1" i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％</a:t>
            </a:r>
            <a:r>
              <a:rPr b="1" lang="zh-CN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量程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58"/>
          <p:cNvSpPr/>
          <p:nvPr/>
        </p:nvSpPr>
        <p:spPr>
          <a:xfrm>
            <a:off x="4351320" y="578016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注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：（置信水平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）包含因子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7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59"/>
          <p:cNvSpPr/>
          <p:nvPr/>
        </p:nvSpPr>
        <p:spPr>
          <a:xfrm flipH="1" flipV="1">
            <a:off x="3419280" y="4724280"/>
            <a:ext cx="43164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Admin</cp:lastModifiedBy>
  <dcterms:modified xsi:type="dcterms:W3CDTF">2018-11-10T03:55:01Z</dcterms:modified>
  <cp:revision>134</cp:revision>
  <dc:subject/>
  <dc:title>实验3  仪表内阻对测量的影响</dc:title>
</cp:coreProperties>
</file>