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DE45-04C3-4711-A7B8-535AE50C0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852A-6C22-4418-B4EB-2C47C14F4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ECF9-772E-4B15-8CE0-924393C80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99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2728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71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99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2728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E456-0333-4D70-BF7A-19C93A738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71280" y="-73188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BFCF-92F0-4623-A3C3-1B449D79E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964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27280" y="112500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71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964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27280" y="3870720"/>
            <a:ext cx="2502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4FE7-7100-4A58-BE41-F57277379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5536-304C-4471-8091-C2506F753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8196-7B4A-4B1E-BC60-DF99D8948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71280" y="-73188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3936-4ED9-4353-8010-7ABFD6878D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F4DB-55D4-4E2C-8E96-C73F3BE34D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4320" y="387072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1E1E-EB44-4E9F-8EF3-D062F720C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4320" y="1125000"/>
            <a:ext cx="3792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640" y="3870720"/>
            <a:ext cx="77724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D8BF-A756-4F4B-8CD3-9CECB4D47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90520" y="1080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73200" y="108000"/>
            <a:ext cx="328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4360" y="5302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84080" y="5302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45720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35040" y="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16080" y="79056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04196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9582-9F39-465B-8132-BBB300E38F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Rectangle 8"/>
          <p:cNvSpPr/>
          <p:nvPr/>
        </p:nvSpPr>
        <p:spPr>
          <a:xfrm>
            <a:off x="611280" y="642132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Text Box 19"/>
          <p:cNvSpPr/>
          <p:nvPr/>
        </p:nvSpPr>
        <p:spPr>
          <a:xfrm>
            <a:off x="1194120" y="64371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实验室安全用电与实验须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7"/>
          <p:cNvGrpSpPr/>
          <p:nvPr/>
        </p:nvGrpSpPr>
        <p:grpSpPr>
          <a:xfrm>
            <a:off x="152280" y="1773360"/>
            <a:ext cx="8839080" cy="1052280"/>
            <a:chOff x="152280" y="1773360"/>
            <a:chExt cx="8839080" cy="1052280"/>
          </a:xfrm>
        </p:grpSpPr>
        <p:grpSp>
          <p:nvGrpSpPr>
            <p:cNvPr id="49" name="Group 18"/>
            <p:cNvGrpSpPr/>
            <p:nvPr/>
          </p:nvGrpSpPr>
          <p:grpSpPr>
            <a:xfrm>
              <a:off x="438480" y="1881000"/>
              <a:ext cx="696240" cy="474480"/>
              <a:chOff x="438480" y="1881000"/>
              <a:chExt cx="696240" cy="474480"/>
            </a:xfrm>
          </p:grpSpPr>
          <p:sp>
            <p:nvSpPr>
              <p:cNvPr id="50" name="Rectangle 19"/>
              <p:cNvSpPr/>
              <p:nvPr/>
            </p:nvSpPr>
            <p:spPr>
              <a:xfrm>
                <a:off x="438480" y="1881000"/>
                <a:ext cx="42696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20"/>
              <p:cNvSpPr/>
              <p:nvPr/>
            </p:nvSpPr>
            <p:spPr>
              <a:xfrm>
                <a:off x="812880" y="1881000"/>
                <a:ext cx="32184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21"/>
            <p:cNvGrpSpPr/>
            <p:nvPr/>
          </p:nvGrpSpPr>
          <p:grpSpPr>
            <a:xfrm>
              <a:off x="561960" y="2303280"/>
              <a:ext cx="725760" cy="474480"/>
              <a:chOff x="561960" y="2303280"/>
              <a:chExt cx="725760" cy="474480"/>
            </a:xfrm>
          </p:grpSpPr>
          <p:sp>
            <p:nvSpPr>
              <p:cNvPr id="53" name="Rectangle 22"/>
              <p:cNvSpPr/>
              <p:nvPr/>
            </p:nvSpPr>
            <p:spPr>
              <a:xfrm>
                <a:off x="561960" y="2303280"/>
                <a:ext cx="41472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23"/>
              <p:cNvSpPr/>
              <p:nvPr/>
            </p:nvSpPr>
            <p:spPr>
              <a:xfrm>
                <a:off x="925920" y="2303280"/>
                <a:ext cx="36180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24"/>
            <p:cNvSpPr/>
            <p:nvPr/>
          </p:nvSpPr>
          <p:spPr>
            <a:xfrm>
              <a:off x="152280" y="2230200"/>
              <a:ext cx="54972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775080" y="1773360"/>
              <a:ext cx="3096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6"/>
            <p:cNvSpPr/>
            <p:nvPr/>
          </p:nvSpPr>
          <p:spPr>
            <a:xfrm flipV="1">
              <a:off x="462240" y="2594520"/>
              <a:ext cx="852912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7164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2"/>
          </p:nvPr>
        </p:nvSpPr>
        <p:spPr>
          <a:xfrm>
            <a:off x="7019640" y="6381360"/>
            <a:ext cx="190476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2DFA-94E0-43E3-AFBD-9873AC7ACE1C}" type="datetime">
              <a:rPr b="0" lang="zh-CN" sz="1400" spc="-1" strike="noStrike">
                <a:solidFill>
                  <a:srgbClr val="1c1c1c"/>
                </a:solidFill>
                <a:latin typeface="Tahoma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A18E-F06A-4DB7-9AFC-99B36BAA9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55080"/>
            <a:ext cx="77929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实验室注意事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40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务必注意用电安全，包括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人身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设备安全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听从实验指导老师的安排，独立完成实验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勿大声喧哗，不要随意走动，不要私自更换实验设备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不要带食物进入实验室，实验完毕请关闭电源，整理实验桌面，保持实验室整洁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机关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1617-88B2-4D02-8C6E-C71AAFACB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4400" y="72720"/>
            <a:ext cx="779292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用电安全须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认识误区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小于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6V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的电压是安全的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实际上电击损伤程度，取决于：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 电流强度（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mA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感知；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0mA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摆脱；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0mA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致命 ）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电压高低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人体电阻（干燥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0k</a:t>
            </a:r>
            <a:r>
              <a:rPr b="1" lang="el-GR" sz="2600" spc="-1" strike="noStrike">
                <a:solidFill>
                  <a:srgbClr val="000000"/>
                </a:solidFill>
                <a:latin typeface="Times New Roman"/>
                <a:ea typeface="Tahoma"/>
              </a:rPr>
              <a:t>Ω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Tahoma"/>
              </a:rPr>
              <a:t>，有伤口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ahoma"/>
              </a:rPr>
              <a:t>300~500</a:t>
            </a:r>
            <a:r>
              <a:rPr b="1" lang="el-GR" sz="2600" spc="-1" strike="noStrike">
                <a:solidFill>
                  <a:srgbClr val="000000"/>
                </a:solidFill>
                <a:latin typeface="Times New Roman"/>
                <a:ea typeface="Tahoma"/>
              </a:rPr>
              <a:t>Ω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电流流经人体的途径（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单手操作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电流频率（低频，接近人体心脏跳动频率，危害最大）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接触时间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 advTm="3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EF71-66CC-4DFE-9D84-0B9D64E7E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9160" y="990720"/>
          <a:ext cx="8872560" cy="5311800"/>
        </p:xfrm>
        <a:graphic>
          <a:graphicData uri="http://schemas.openxmlformats.org/drawingml/2006/table">
            <a:tbl>
              <a:tblPr/>
              <a:tblGrid>
                <a:gridCol w="1404720"/>
                <a:gridCol w="4267440"/>
                <a:gridCol w="32004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电流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/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工频交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直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6~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手指轻微颤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无感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~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手指强烈颤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无感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~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手部痉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感觉痒和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~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手已经难于摆脱电极，但还能摆脱，手指尖到手腕剧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热感觉增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~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手迅速麻木，不能摆脱电极，剧痛，呼吸困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热感觉大大增强，手部肌肉不强烈收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~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呼吸麻痹，心房开始震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强烈的热感觉，手部肌肉收缩、痉挛、呼吸困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~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呼吸麻痹延续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s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或更长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—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心脏麻痹、心房震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呼吸麻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作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1s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以上时，呼吸和心脏麻痹，肌体组织遭到电流的热破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156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电击作用特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 advTm="6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8225-93C4-440A-88EB-3ECE1F10F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69360" y="1267920"/>
            <a:ext cx="8774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应对措施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切断电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干燥木棍帮助电击者脱离电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使人体舒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必要时拨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紧急人工呼机、心脏按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58560" y="-360"/>
            <a:ext cx="75056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用电安全须知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advTm="3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3"/>
          <p:cNvSpPr/>
          <p:nvPr/>
        </p:nvSpPr>
        <p:spPr>
          <a:xfrm>
            <a:off x="7042320" y="6566040"/>
            <a:ext cx="190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4FF2-DCD3-4A74-8C49-F595DC531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53067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实验签到和管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0720" y="782640"/>
            <a:ext cx="830124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入实验室后刷卡，指定的实验台电源相应打开；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录实验交互系统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71.21.89:3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用户名和密码均为学号；进入当前实验项目，首先完成入门测试（可以重复测试直到完全做对），然后根据要求搭建电路，排除故障，初测结果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确认可记录数据时，采集四大件仪器测量数据及其屏显图片，所采集数据可直接记录于在线报告之中，自动保存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理桌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括器具放置、导线、电源、卫生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刷卡关闭实验台电源并离开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时随地下载暂存的在线实验报告，完善，最终提交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验过程中，设备问题请先自行检查，有问题者及时联系指导教师，如需更换实验桌，需要指导教师批准，并请在签到卡备注栏内注明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971640" y="115920"/>
            <a:ext cx="7218360" cy="66517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538560" y="3999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19480" y="14842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23800" y="256536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23080" y="371628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26320" y="4869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31360" y="595008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右箭头 2"/>
          <p:cNvSpPr/>
          <p:nvPr/>
        </p:nvSpPr>
        <p:spPr>
          <a:xfrm>
            <a:off x="1547640" y="3382920"/>
            <a:ext cx="5616720" cy="130320"/>
          </a:xfrm>
          <a:prstGeom prst="rightArrow">
            <a:avLst>
              <a:gd name="adj1" fmla="val 50000"/>
              <a:gd name="adj2" fmla="val 5028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9000" y="2184480"/>
            <a:ext cx="60696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桌      位      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8324280" y="3181680"/>
            <a:ext cx="606960" cy="5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请取一块万用表，课程结束后放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4:52:12Z</dcterms:created>
  <dc:creator>Gan</dc:creator>
  <dc:description/>
  <dc:language>en-US</dc:language>
  <cp:lastModifiedBy>Dell</cp:lastModifiedBy>
  <dcterms:modified xsi:type="dcterms:W3CDTF">2018-09-21T02:08:14Z</dcterms:modified>
  <cp:revision>165</cp:revision>
  <dc:subject/>
  <dc:title>实验3  仪表内阻对测量的影响</dc:title>
</cp:coreProperties>
</file>