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6.png" ContentType="image/png"/>
  <Override PartName="/ppt/media/image26.jpeg" ContentType="image/jpeg"/>
  <Override PartName="/ppt/media/image1.png" ContentType="image/png"/>
  <Override PartName="/ppt/media/image24.wmf" ContentType="image/x-wmf"/>
  <Override PartName="/ppt/media/image23.wmf" ContentType="image/x-wmf"/>
  <Override PartName="/ppt/media/image21.png" ContentType="image/png"/>
  <Override PartName="/ppt/media/image3.wmf" ContentType="image/x-wmf"/>
  <Override PartName="/ppt/media/image19.jpeg" ContentType="image/jpeg"/>
  <Override PartName="/ppt/media/image4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998-E714-4B8A-86AC-822BAA45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583-B052-4368-9CAE-443ACA94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285-B48E-4EAA-8BEE-32A551C0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2A5-D894-436F-9AF9-E516CBAD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334B-7C37-40C7-AD2C-9F2ED6F6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B2BF-5859-48F9-8A61-42130CC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0447-9D2A-4E5C-ADBF-7D89A20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46F-124D-4738-8F9C-51A3F01B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9F7-1199-4B1B-8BD0-7D19D75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98D9-EFDF-4AB0-AEF8-9E5716EA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3CBA-9489-4D65-9CB6-F7FB8261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6B6-A7BC-4BAB-96F8-986FB2F3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0A45-1C8C-4968-A259-686E6B0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842-43D0-4BFD-A814-3117EAEC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5ED9-2F2A-4E3A-AE13-44EEE1E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85E3-879B-494F-AA23-DB8916D6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65EC-9B5B-49D9-A2D2-ED87FF51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920-EDA9-4A99-8549-8EF4F23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DB2-A04E-40BF-9EA2-46E6460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CCF-A329-45D5-AF4E-9EB165F0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862-2580-4F13-8099-38EAE0D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B74-EF46-4002-8D88-01D829E0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8A1-CF9F-4692-81F2-C2618A0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748-8B39-422F-9011-A5A6AA9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943D-4393-488F-8928-3B7C847EA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97C-CA03-484C-88D9-7A5190C185A6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file:///2&#23454;&#39564;1n%20.ppt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hyperlink" Target="file:///O:/&#30005;&#27668;&#24037;&#31243;&#22522;&#30784;&#65288;&#23454;&#39564;&#65289;/Lab1/lab1&#65293;VIR&#30340;&#27979;&#37327;.ppt" TargetMode="Externa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仪表内阻对测量结果的影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7"/>
          <p:cNvSpPr/>
          <p:nvPr/>
        </p:nvSpPr>
        <p:spPr>
          <a:xfrm>
            <a:off x="1332000" y="428760"/>
            <a:ext cx="68976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仪表内阻会使测量结果变大还是变小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文本框 8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变大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文本框 9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变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椭圆 12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椭圆 13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圆角矩形 16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" name="组合 21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50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457200" y="404640"/>
            <a:ext cx="42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法二、同一量程两次测量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" name="Picture 3" descr="3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282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4"/>
          <p:cNvGraphicFramePr/>
          <p:nvPr/>
        </p:nvGraphicFramePr>
        <p:xfrm>
          <a:off x="673200" y="4138560"/>
          <a:ext cx="3192480" cy="9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00" y="4138560"/>
                    <a:ext cx="31924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5181480" y="4230720"/>
          <a:ext cx="3638520" cy="885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4230720"/>
                    <a:ext cx="363852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绘图1"/>
          <p:cNvPicPr/>
          <p:nvPr/>
        </p:nvPicPr>
        <p:blipFill>
          <a:blip r:embed="rId1"/>
          <a:stretch/>
        </p:blipFill>
        <p:spPr>
          <a:xfrm>
            <a:off x="3276720" y="304920"/>
            <a:ext cx="5495760" cy="2895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395280" y="3645000"/>
            <a:ext cx="84978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补偿法测量电压的步骤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第一步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电压表初测被测电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然后调节补偿电路中分压器的输出电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使之近似等于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初测值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第二步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补偿电路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’n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应接到被测电路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细调补偿电路中的分压器，使检流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指示为零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此时补偿电路对原电路没有影响，且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测量值，该值排除了电压表内阻对测量结果的影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57200" y="40464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法三、补偿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2849760" y="314172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测量电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946840" y="321300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补偿电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2"/>
          <p:cNvSpPr/>
          <p:nvPr/>
        </p:nvSpPr>
        <p:spPr>
          <a:xfrm>
            <a:off x="1332000" y="428760"/>
            <a:ext cx="655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若想消除仪表内阻对测量的影响，除了按照测量值估算并修正外，还有什么方法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文本框 3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两次测量法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文本框 4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补偿法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文本框 5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理论计算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文本框 6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仿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矩形 7"/>
          <p:cNvSpPr/>
          <p:nvPr/>
        </p:nvSpPr>
        <p:spPr>
          <a:xfrm>
            <a:off x="1114560" y="2849400"/>
            <a:ext cx="514080" cy="514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矩形 8"/>
          <p:cNvSpPr/>
          <p:nvPr/>
        </p:nvSpPr>
        <p:spPr>
          <a:xfrm>
            <a:off x="1114560" y="3706920"/>
            <a:ext cx="514080" cy="5140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矩形 9"/>
          <p:cNvSpPr/>
          <p:nvPr/>
        </p:nvSpPr>
        <p:spPr>
          <a:xfrm>
            <a:off x="1114560" y="4564080"/>
            <a:ext cx="514080" cy="5144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1114560" y="5421240"/>
            <a:ext cx="514080" cy="5144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组合 16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77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多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1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4"/>
          <p:cNvPicPr/>
          <p:nvPr/>
        </p:nvPicPr>
        <p:blipFill>
          <a:blip r:embed="rId1"/>
          <a:stretch/>
        </p:blipFill>
        <p:spPr>
          <a:xfrm>
            <a:off x="1692360" y="981000"/>
            <a:ext cx="7162560" cy="2660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863280" y="328680"/>
            <a:ext cx="20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表内阻的测量方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659400" y="380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半偏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951920" y="4114800"/>
            <a:ext cx="5424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注意：测量电表内阻，特别是万用表的内阻时，要避免使用欧姆表直接测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否则，容易过载，损坏欧姆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63880" y="5029200"/>
            <a:ext cx="54244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使用半偏法时，需要准备数值范围能够涵盖电表内阻大小的高精度可调电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以及标准电源。测量方法：首先选定电表的某一量程，直接加电源使该量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满偏，然后接入电阻，并调节使电表半偏，此时得到的电阻值就是电表内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7">
            <a:hlinkClick r:id="rId2"/>
          </p:cNvPr>
          <p:cNvSpPr/>
          <p:nvPr/>
        </p:nvSpPr>
        <p:spPr>
          <a:xfrm>
            <a:off x="8604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2"/>
          <p:cNvSpPr/>
          <p:nvPr/>
        </p:nvSpPr>
        <p:spPr>
          <a:xfrm>
            <a:off x="1114560" y="428760"/>
            <a:ext cx="71150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你可以按照半偏法测量万用表电压档或电流挡的内阻吗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文本框 3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能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文本框 4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不能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椭圆 7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椭圆 8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圆角矩形 11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4" name="组合 16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29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99" name="图片 1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对象 2"/>
              <p:cNvSpPr txBox="1"/>
              <p:nvPr/>
            </p:nvSpPr>
            <p:spPr>
              <a:xfrm>
                <a:off x="1128600" y="1835280"/>
                <a:ext cx="1876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as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对象 4"/>
              <p:cNvSpPr txBox="1"/>
              <p:nvPr/>
            </p:nvSpPr>
            <p:spPr>
              <a:xfrm>
                <a:off x="1087560" y="2744640"/>
                <a:ext cx="2189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as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矩形 5"/>
          <p:cNvSpPr/>
          <p:nvPr/>
        </p:nvSpPr>
        <p:spPr>
          <a:xfrm>
            <a:off x="4410360" y="1906560"/>
            <a:ext cx="301068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从测量端看进去的等效电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电流表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电压表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826280" y="1095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表内阻引起测量值偏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018800" y="386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修正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对象 8"/>
              <p:cNvSpPr txBox="1"/>
              <p:nvPr/>
            </p:nvSpPr>
            <p:spPr>
              <a:xfrm>
                <a:off x="2041560" y="3879720"/>
                <a:ext cx="21366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对象 9"/>
              <p:cNvSpPr txBox="1"/>
              <p:nvPr/>
            </p:nvSpPr>
            <p:spPr>
              <a:xfrm>
                <a:off x="1990800" y="4514760"/>
                <a:ext cx="2422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4976640" y="3309840"/>
            <a:ext cx="342432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016000" y="3141720"/>
            <a:ext cx="7128000" cy="142236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14720" y="2610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90040" y="260280"/>
            <a:ext cx="3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误差计算公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5003640" y="765000"/>
          <a:ext cx="358164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765000"/>
                    <a:ext cx="35816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4152960" y="32148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250920" y="3139920"/>
          <a:ext cx="158256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1582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4933800" y="364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从电流表两端看进去的一端口网络等效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0" name="Object 10"/>
          <p:cNvGraphicFramePr/>
          <p:nvPr/>
        </p:nvGraphicFramePr>
        <p:xfrm>
          <a:off x="2114640" y="4043520"/>
          <a:ext cx="41436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4640" y="4043520"/>
                    <a:ext cx="4143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1"/>
          <p:cNvSpPr/>
          <p:nvPr/>
        </p:nvSpPr>
        <p:spPr>
          <a:xfrm>
            <a:off x="4044600" y="32130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电流表两端看进去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端口网络短路电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Object 12"/>
          <p:cNvGraphicFramePr/>
          <p:nvPr/>
        </p:nvGraphicFramePr>
        <p:xfrm>
          <a:off x="2097000" y="3200400"/>
          <a:ext cx="41436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97000" y="3200400"/>
                    <a:ext cx="414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13"/>
          <p:cNvSpPr/>
          <p:nvPr/>
        </p:nvSpPr>
        <p:spPr>
          <a:xfrm>
            <a:off x="4152960" y="1773360"/>
            <a:ext cx="792000" cy="288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827440" y="4078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电流表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6"/>
              <p:cNvSpPr txBox="1"/>
              <p:nvPr/>
            </p:nvSpPr>
            <p:spPr>
              <a:xfrm>
                <a:off x="609480" y="4940280"/>
                <a:ext cx="13338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7"/>
              <p:cNvSpPr txBox="1"/>
              <p:nvPr/>
            </p:nvSpPr>
            <p:spPr>
              <a:xfrm>
                <a:off x="2771640" y="4581360"/>
                <a:ext cx="4321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AutoShape 19"/>
          <p:cNvSpPr/>
          <p:nvPr/>
        </p:nvSpPr>
        <p:spPr>
          <a:xfrm>
            <a:off x="1871640" y="6039000"/>
            <a:ext cx="863640" cy="431640"/>
          </a:xfrm>
          <a:prstGeom prst="wedgeRectCallout">
            <a:avLst>
              <a:gd name="adj1" fmla="val -54412"/>
              <a:gd name="adj2" fmla="val -16102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7885080" y="5013360"/>
            <a:ext cx="863640" cy="431640"/>
          </a:xfrm>
          <a:prstGeom prst="wedgeRectCallout">
            <a:avLst>
              <a:gd name="adj1" fmla="val -181064"/>
              <a:gd name="adj2" fmla="val -5183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971640" y="4869000"/>
            <a:ext cx="43164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对象 1"/>
              <p:cNvSpPr txBox="1"/>
              <p:nvPr/>
            </p:nvSpPr>
            <p:spPr>
              <a:xfrm>
                <a:off x="7137360" y="1773360"/>
                <a:ext cx="549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对象 3"/>
              <p:cNvSpPr txBox="1"/>
              <p:nvPr/>
            </p:nvSpPr>
            <p:spPr>
              <a:xfrm>
                <a:off x="2124000" y="3646440"/>
                <a:ext cx="40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对象 4"/>
              <p:cNvSpPr txBox="1"/>
              <p:nvPr/>
            </p:nvSpPr>
            <p:spPr>
              <a:xfrm>
                <a:off x="7521480" y="3071880"/>
                <a:ext cx="14432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对象 5"/>
              <p:cNvSpPr txBox="1"/>
              <p:nvPr/>
            </p:nvSpPr>
            <p:spPr>
              <a:xfrm>
                <a:off x="7885080" y="3672000"/>
                <a:ext cx="1214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36" name="Picture 47" descr=""/>
          <p:cNvPicPr/>
          <p:nvPr/>
        </p:nvPicPr>
        <p:blipFill>
          <a:blip r:embed="rId9"/>
          <a:stretch/>
        </p:blipFill>
        <p:spPr>
          <a:xfrm>
            <a:off x="898560" y="1069920"/>
            <a:ext cx="312408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114720" y="2610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6012000" y="333360"/>
          <a:ext cx="26636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6636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5"/>
          <p:cNvSpPr/>
          <p:nvPr/>
        </p:nvSpPr>
        <p:spPr>
          <a:xfrm>
            <a:off x="6516720" y="220500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修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3995640" y="1413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3095640" cy="18432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8"/>
          <p:cNvGrpSpPr/>
          <p:nvPr/>
        </p:nvGrpSpPr>
        <p:grpSpPr>
          <a:xfrm>
            <a:off x="108000" y="5229360"/>
            <a:ext cx="5802120" cy="1322280"/>
            <a:chOff x="108000" y="5229360"/>
            <a:chExt cx="5802120" cy="1322280"/>
          </a:xfrm>
        </p:grpSpPr>
        <p:sp>
          <p:nvSpPr>
            <p:cNvPr id="144" name="Rectangle 9"/>
            <p:cNvSpPr/>
            <p:nvPr/>
          </p:nvSpPr>
          <p:spPr>
            <a:xfrm>
              <a:off x="108000" y="5256360"/>
              <a:ext cx="5802120" cy="1295280"/>
            </a:xfrm>
            <a:prstGeom prst="rect">
              <a:avLst/>
            </a:prstGeom>
            <a:solidFill>
              <a:srgbClr val="85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45" name="Object 10"/>
            <p:cNvGraphicFramePr/>
            <p:nvPr/>
          </p:nvGraphicFramePr>
          <p:xfrm>
            <a:off x="149040" y="5673600"/>
            <a:ext cx="874800" cy="40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9040" y="5673600"/>
                      <a:ext cx="8748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Text Box 11"/>
            <p:cNvSpPr/>
            <p:nvPr/>
          </p:nvSpPr>
          <p:spPr>
            <a:xfrm>
              <a:off x="2466720" y="574524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等效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48" name="Object 12"/>
            <p:cNvGraphicFramePr/>
            <p:nvPr/>
          </p:nvGraphicFramePr>
          <p:xfrm>
            <a:off x="415800" y="6067440"/>
            <a:ext cx="412920" cy="409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9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5800" y="6067440"/>
                      <a:ext cx="4129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Text Box 13"/>
            <p:cNvSpPr/>
            <p:nvPr/>
          </p:nvSpPr>
          <p:spPr>
            <a:xfrm>
              <a:off x="2282400" y="53290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开路电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51" name="Object 14"/>
            <p:cNvGraphicFramePr/>
            <p:nvPr/>
          </p:nvGraphicFramePr>
          <p:xfrm>
            <a:off x="257040" y="5229360"/>
            <a:ext cx="506520" cy="409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7040" y="5229360"/>
                      <a:ext cx="5065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3" name="Text Box 15"/>
            <p:cNvSpPr/>
            <p:nvPr/>
          </p:nvSpPr>
          <p:spPr>
            <a:xfrm>
              <a:off x="1176120" y="6105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电压表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54" name="Object 16"/>
          <p:cNvGraphicFramePr/>
          <p:nvPr/>
        </p:nvGraphicFramePr>
        <p:xfrm>
          <a:off x="2948040" y="1773360"/>
          <a:ext cx="352584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8040" y="1773360"/>
                    <a:ext cx="3525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Rectangle 17"/>
          <p:cNvSpPr/>
          <p:nvPr/>
        </p:nvSpPr>
        <p:spPr>
          <a:xfrm>
            <a:off x="2987640" y="83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仪表不完善造成的误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18"/>
          <p:cNvSpPr/>
          <p:nvPr/>
        </p:nvSpPr>
        <p:spPr>
          <a:xfrm>
            <a:off x="2771640" y="3219480"/>
            <a:ext cx="244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理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12"/>
          <a:stretch/>
        </p:blipFill>
        <p:spPr>
          <a:xfrm>
            <a:off x="179280" y="2781360"/>
            <a:ext cx="2664000" cy="17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5146560" y="2787480"/>
                <a:ext cx="3025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3419640" y="4005360"/>
                <a:ext cx="469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/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6084720" y="4941720"/>
                <a:ext cx="1803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Freeform 23"/>
          <p:cNvSpPr/>
          <p:nvPr/>
        </p:nvSpPr>
        <p:spPr>
          <a:xfrm>
            <a:off x="6191280" y="4175280"/>
            <a:ext cx="1995480" cy="804600"/>
          </a:xfrm>
          <a:custGeom>
            <a:avLst/>
            <a:gdLst/>
            <a:ahLst/>
            <a:rect l="l" t="t" r="r" b="b"/>
            <a:pathLst>
              <a:path w="1257" h="507">
                <a:moveTo>
                  <a:pt x="13" y="12"/>
                </a:moveTo>
                <a:cubicBezTo>
                  <a:pt x="20" y="163"/>
                  <a:pt x="0" y="196"/>
                  <a:pt x="86" y="287"/>
                </a:cubicBezTo>
                <a:cubicBezTo>
                  <a:pt x="89" y="305"/>
                  <a:pt x="88" y="324"/>
                  <a:pt x="95" y="341"/>
                </a:cubicBezTo>
                <a:cubicBezTo>
                  <a:pt x="111" y="382"/>
                  <a:pt x="214" y="382"/>
                  <a:pt x="251" y="387"/>
                </a:cubicBezTo>
                <a:cubicBezTo>
                  <a:pt x="309" y="416"/>
                  <a:pt x="308" y="423"/>
                  <a:pt x="379" y="433"/>
                </a:cubicBezTo>
                <a:cubicBezTo>
                  <a:pt x="388" y="439"/>
                  <a:pt x="395" y="450"/>
                  <a:pt x="406" y="451"/>
                </a:cubicBezTo>
                <a:cubicBezTo>
                  <a:pt x="591" y="474"/>
                  <a:pt x="778" y="464"/>
                  <a:pt x="964" y="469"/>
                </a:cubicBezTo>
                <a:cubicBezTo>
                  <a:pt x="1068" y="507"/>
                  <a:pt x="1116" y="485"/>
                  <a:pt x="1257" y="479"/>
                </a:cubicBezTo>
                <a:cubicBezTo>
                  <a:pt x="1244" y="362"/>
                  <a:pt x="1241" y="300"/>
                  <a:pt x="1138" y="232"/>
                </a:cubicBezTo>
                <a:cubicBezTo>
                  <a:pt x="1094" y="168"/>
                  <a:pt x="1028" y="175"/>
                  <a:pt x="955" y="168"/>
                </a:cubicBezTo>
                <a:cubicBezTo>
                  <a:pt x="916" y="155"/>
                  <a:pt x="882" y="138"/>
                  <a:pt x="845" y="122"/>
                </a:cubicBezTo>
                <a:cubicBezTo>
                  <a:pt x="827" y="114"/>
                  <a:pt x="790" y="104"/>
                  <a:pt x="790" y="104"/>
                </a:cubicBezTo>
                <a:cubicBezTo>
                  <a:pt x="745" y="134"/>
                  <a:pt x="775" y="141"/>
                  <a:pt x="726" y="159"/>
                </a:cubicBezTo>
                <a:cubicBezTo>
                  <a:pt x="641" y="156"/>
                  <a:pt x="555" y="155"/>
                  <a:pt x="470" y="149"/>
                </a:cubicBezTo>
                <a:cubicBezTo>
                  <a:pt x="439" y="147"/>
                  <a:pt x="388" y="104"/>
                  <a:pt x="388" y="104"/>
                </a:cubicBezTo>
                <a:cubicBezTo>
                  <a:pt x="355" y="0"/>
                  <a:pt x="242" y="27"/>
                  <a:pt x="150" y="21"/>
                </a:cubicBezTo>
                <a:cubicBezTo>
                  <a:pt x="88" y="0"/>
                  <a:pt x="132" y="12"/>
                  <a:pt x="13" y="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24"/>
          <p:cNvSpPr/>
          <p:nvPr/>
        </p:nvSpPr>
        <p:spPr>
          <a:xfrm flipH="1">
            <a:off x="2410920" y="357336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25"/>
          <p:cNvSpPr/>
          <p:nvPr/>
        </p:nvSpPr>
        <p:spPr>
          <a:xfrm flipH="1" flipV="1">
            <a:off x="2195640" y="2060280"/>
            <a:ext cx="223200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6"/>
              <p:cNvSpPr txBox="1"/>
              <p:nvPr/>
            </p:nvSpPr>
            <p:spPr>
              <a:xfrm>
                <a:off x="6084720" y="5734080"/>
                <a:ext cx="1513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27"/>
          <p:cNvSpPr/>
          <p:nvPr/>
        </p:nvSpPr>
        <p:spPr>
          <a:xfrm>
            <a:off x="1190160" y="260280"/>
            <a:ext cx="31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误差计算公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动作按钮: 后退或前一项 1">
            <a:hlinkClick r:id="rId13"/>
          </p:cNvPr>
          <p:cNvSpPr/>
          <p:nvPr/>
        </p:nvSpPr>
        <p:spPr>
          <a:xfrm>
            <a:off x="8686800" y="6551640"/>
            <a:ext cx="279360" cy="306360"/>
          </a:xfrm>
          <a:custGeom>
            <a:avLst/>
            <a:gdLst>
              <a:gd name="textAreaLeft" fmla="*/ 18000 w 279360"/>
              <a:gd name="textAreaRight" fmla="*/ 261360 w 279360"/>
              <a:gd name="textAreaTop" fmla="*/ 18000 h 306360"/>
              <a:gd name="textAreaBottom" fmla="*/ 288360 h 306360"/>
            </a:gdLst>
            <a:ahLst/>
            <a:rect l="textAreaLeft" t="textAreaTop" r="textAreaRight" b="textAreaBottom"/>
            <a:pathLst>
              <a:path w="21600" h="23685">
                <a:moveTo>
                  <a:pt x="0" y="0"/>
                </a:moveTo>
                <a:lnTo>
                  <a:pt x="21600" y="0"/>
                </a:lnTo>
                <a:lnTo>
                  <a:pt x="21600" y="23685"/>
                </a:lnTo>
                <a:lnTo>
                  <a:pt x="0" y="23685"/>
                </a:lnTo>
                <a:close/>
              </a:path>
              <a:path fill="lightenLess" w="21600" h="236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85">
                <a:moveTo>
                  <a:pt x="21600" y="0"/>
                </a:moveTo>
                <a:lnTo>
                  <a:pt x="21600" y="23685"/>
                </a:lnTo>
                <a:lnTo>
                  <a:pt x="20200" y="22285"/>
                </a:lnTo>
                <a:lnTo>
                  <a:pt x="20200" y="1400"/>
                </a:lnTo>
                <a:close/>
              </a:path>
              <a:path fill="darkenLess" w="21600" h="23685">
                <a:moveTo>
                  <a:pt x="21600" y="23685"/>
                </a:moveTo>
                <a:lnTo>
                  <a:pt x="0" y="23685"/>
                </a:lnTo>
                <a:lnTo>
                  <a:pt x="1400" y="22285"/>
                </a:lnTo>
                <a:lnTo>
                  <a:pt x="20200" y="22285"/>
                </a:lnTo>
                <a:close/>
              </a:path>
              <a:path fill="lighten" w="21600" h="23685">
                <a:moveTo>
                  <a:pt x="0" y="236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85"/>
                </a:lnTo>
                <a:close/>
              </a:path>
              <a:path fill="darken" w="21600" h="23685">
                <a:moveTo>
                  <a:pt x="3794" y="11842"/>
                </a:moveTo>
                <a:lnTo>
                  <a:pt x="17806" y="4836"/>
                </a:lnTo>
                <a:lnTo>
                  <a:pt x="17806" y="18849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34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内阻不是无穷大的电压表测量电路中的电压会产生方法误差</a:t>
            </a: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测量值需要按下式修正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测量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测量值、电路结构和参数以及仪表内阻有关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1"/>
              <p:cNvSpPr txBox="1"/>
              <p:nvPr/>
            </p:nvSpPr>
            <p:spPr>
              <a:xfrm>
                <a:off x="1979640" y="4149720"/>
                <a:ext cx="482436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测量值</m:t>
                        </m:r>
                      </m:sub>
                    </m:sSub>
                    <m:r>
                      <m:t xml:space="preserve">－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真值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测量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Text Box 5"/>
          <p:cNvSpPr/>
          <p:nvPr/>
        </p:nvSpPr>
        <p:spPr>
          <a:xfrm>
            <a:off x="1042920" y="476280"/>
            <a:ext cx="757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法一、根据测量值和端口等效电阻计算误差并修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25"/>
          <p:cNvSpPr/>
          <p:nvPr/>
        </p:nvSpPr>
        <p:spPr>
          <a:xfrm>
            <a:off x="5003640" y="4005360"/>
            <a:ext cx="1873440" cy="12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26"/>
          <p:cNvSpPr/>
          <p:nvPr/>
        </p:nvSpPr>
        <p:spPr>
          <a:xfrm>
            <a:off x="3660840" y="544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理可以计算和修正测出的电流值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7"/>
              <p:cNvSpPr txBox="1"/>
              <p:nvPr/>
            </p:nvSpPr>
            <p:spPr>
              <a:xfrm>
                <a:off x="6084720" y="5272200"/>
                <a:ext cx="215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测量值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06800" y="2935440"/>
            <a:ext cx="6192720" cy="142236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114720" y="2610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90040" y="260280"/>
            <a:ext cx="30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误差计算公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003640" y="765000"/>
          <a:ext cx="358164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765000"/>
                    <a:ext cx="35816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6"/>
          <p:cNvSpPr/>
          <p:nvPr/>
        </p:nvSpPr>
        <p:spPr>
          <a:xfrm>
            <a:off x="4152960" y="32148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0" name="Object 7"/>
          <p:cNvGraphicFramePr/>
          <p:nvPr/>
        </p:nvGraphicFramePr>
        <p:xfrm>
          <a:off x="250920" y="3139920"/>
          <a:ext cx="158256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1582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8"/>
          <p:cNvGraphicFramePr/>
          <p:nvPr/>
        </p:nvGraphicFramePr>
        <p:xfrm>
          <a:off x="2336760" y="3451320"/>
          <a:ext cx="8748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6760" y="3451320"/>
                    <a:ext cx="87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9"/>
          <p:cNvSpPr/>
          <p:nvPr/>
        </p:nvSpPr>
        <p:spPr>
          <a:xfrm>
            <a:off x="5555880" y="3440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从电流表两端看进去的一端口网络等效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Object 10"/>
          <p:cNvGraphicFramePr/>
          <p:nvPr/>
        </p:nvGraphicFramePr>
        <p:xfrm>
          <a:off x="2830680" y="3832200"/>
          <a:ext cx="41400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30680" y="3832200"/>
                    <a:ext cx="41400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1"/>
          <p:cNvSpPr/>
          <p:nvPr/>
        </p:nvSpPr>
        <p:spPr>
          <a:xfrm>
            <a:off x="4667040" y="30067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从电流表两端看进去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端口网络短路电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Object 12"/>
          <p:cNvGraphicFramePr/>
          <p:nvPr/>
        </p:nvGraphicFramePr>
        <p:xfrm>
          <a:off x="2719440" y="2994120"/>
          <a:ext cx="414360" cy="40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9440" y="2994120"/>
                    <a:ext cx="4143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AutoShape 13"/>
          <p:cNvSpPr/>
          <p:nvPr/>
        </p:nvSpPr>
        <p:spPr>
          <a:xfrm>
            <a:off x="4067280" y="1628640"/>
            <a:ext cx="792000" cy="28908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Picture 14" descr=""/>
          <p:cNvPicPr/>
          <p:nvPr/>
        </p:nvPicPr>
        <p:blipFill>
          <a:blip r:embed="rId11"/>
          <a:stretch/>
        </p:blipFill>
        <p:spPr>
          <a:xfrm>
            <a:off x="250920" y="836640"/>
            <a:ext cx="3598920" cy="2141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5"/>
          <p:cNvSpPr/>
          <p:nvPr/>
        </p:nvSpPr>
        <p:spPr>
          <a:xfrm>
            <a:off x="3592440" y="38718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电流表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6"/>
              <p:cNvSpPr txBox="1"/>
              <p:nvPr/>
            </p:nvSpPr>
            <p:spPr>
              <a:xfrm>
                <a:off x="609480" y="4940280"/>
                <a:ext cx="13338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7"/>
              <p:cNvSpPr txBox="1"/>
              <p:nvPr/>
            </p:nvSpPr>
            <p:spPr>
              <a:xfrm>
                <a:off x="1979640" y="4414680"/>
                <a:ext cx="71708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18"/>
              <p:cNvSpPr txBox="1"/>
              <p:nvPr/>
            </p:nvSpPr>
            <p:spPr>
              <a:xfrm>
                <a:off x="2408400" y="5362560"/>
                <a:ext cx="247320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AutoShape 19"/>
          <p:cNvSpPr/>
          <p:nvPr/>
        </p:nvSpPr>
        <p:spPr>
          <a:xfrm>
            <a:off x="1187280" y="6165720"/>
            <a:ext cx="863640" cy="432000"/>
          </a:xfrm>
          <a:prstGeom prst="wedgeRectCallout">
            <a:avLst>
              <a:gd name="adj1" fmla="val -54412"/>
              <a:gd name="adj2" fmla="val -1610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8292960" y="4235400"/>
            <a:ext cx="863640" cy="432000"/>
          </a:xfrm>
          <a:prstGeom prst="wedgeRectCallout">
            <a:avLst>
              <a:gd name="adj1" fmla="val -69819"/>
              <a:gd name="adj2" fmla="val 7950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5119560" y="5329080"/>
            <a:ext cx="2124360" cy="432000"/>
          </a:xfrm>
          <a:prstGeom prst="wedgeRectCallout">
            <a:avLst>
              <a:gd name="adj1" fmla="val -66953"/>
              <a:gd name="adj2" fmla="val 1475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—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补偿定理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22"/>
          <p:cNvSpPr/>
          <p:nvPr/>
        </p:nvSpPr>
        <p:spPr>
          <a:xfrm>
            <a:off x="971640" y="4869000"/>
            <a:ext cx="43164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对象 1"/>
              <p:cNvSpPr txBox="1"/>
              <p:nvPr/>
            </p:nvSpPr>
            <p:spPr>
              <a:xfrm>
                <a:off x="6626160" y="5568840"/>
                <a:ext cx="21193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773280" y="1413000"/>
            <a:ext cx="2736720" cy="200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4444920" y="1268280"/>
            <a:ext cx="3095640" cy="2560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060560" y="5716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补偿定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941400" y="4111560"/>
                <a:ext cx="6222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'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as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TextBox 1"/>
          <p:cNvSpPr/>
          <p:nvPr/>
        </p:nvSpPr>
        <p:spPr>
          <a:xfrm>
            <a:off x="1858680" y="150660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5744160" y="347328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114720" y="2610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012000" y="333360"/>
          <a:ext cx="266364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66364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6516720" y="220500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修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995640" y="1413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3095640" cy="184320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8"/>
          <p:cNvGrpSpPr/>
          <p:nvPr/>
        </p:nvGrpSpPr>
        <p:grpSpPr>
          <a:xfrm>
            <a:off x="108000" y="5229360"/>
            <a:ext cx="5802120" cy="1322280"/>
            <a:chOff x="108000" y="5229360"/>
            <a:chExt cx="5802120" cy="1322280"/>
          </a:xfrm>
        </p:grpSpPr>
        <p:sp>
          <p:nvSpPr>
            <p:cNvPr id="214" name="Rectangle 9"/>
            <p:cNvSpPr/>
            <p:nvPr/>
          </p:nvSpPr>
          <p:spPr>
            <a:xfrm>
              <a:off x="108000" y="5256360"/>
              <a:ext cx="5802120" cy="1295280"/>
            </a:xfrm>
            <a:prstGeom prst="rect">
              <a:avLst/>
            </a:prstGeom>
            <a:solidFill>
              <a:srgbClr val="85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15" name="Object 10"/>
            <p:cNvGraphicFramePr/>
            <p:nvPr/>
          </p:nvGraphicFramePr>
          <p:xfrm>
            <a:off x="149040" y="5673600"/>
            <a:ext cx="874800" cy="409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16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9040" y="5673600"/>
                      <a:ext cx="8748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Text Box 11"/>
            <p:cNvSpPr/>
            <p:nvPr/>
          </p:nvSpPr>
          <p:spPr>
            <a:xfrm>
              <a:off x="2466720" y="574524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等效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18" name="Object 12"/>
            <p:cNvGraphicFramePr/>
            <p:nvPr/>
          </p:nvGraphicFramePr>
          <p:xfrm>
            <a:off x="415800" y="6067440"/>
            <a:ext cx="412920" cy="409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19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15800" y="6067440"/>
                      <a:ext cx="4129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Text Box 13"/>
            <p:cNvSpPr/>
            <p:nvPr/>
          </p:nvSpPr>
          <p:spPr>
            <a:xfrm>
              <a:off x="2282400" y="532908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开路电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21" name="Object 14"/>
            <p:cNvGraphicFramePr/>
            <p:nvPr/>
          </p:nvGraphicFramePr>
          <p:xfrm>
            <a:off x="257040" y="5229360"/>
            <a:ext cx="506520" cy="409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22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7040" y="5229360"/>
                      <a:ext cx="5065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15"/>
            <p:cNvSpPr/>
            <p:nvPr/>
          </p:nvSpPr>
          <p:spPr>
            <a:xfrm>
              <a:off x="1176120" y="61056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电压表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24" name="Object 16"/>
          <p:cNvGraphicFramePr/>
          <p:nvPr/>
        </p:nvGraphicFramePr>
        <p:xfrm>
          <a:off x="2948040" y="1773360"/>
          <a:ext cx="3525840" cy="77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48040" y="1773360"/>
                    <a:ext cx="35258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17"/>
          <p:cNvSpPr/>
          <p:nvPr/>
        </p:nvSpPr>
        <p:spPr>
          <a:xfrm>
            <a:off x="2987640" y="83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仪表不完善造成的误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2771640" y="3219480"/>
            <a:ext cx="244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理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Picture 19" descr=""/>
          <p:cNvPicPr/>
          <p:nvPr/>
        </p:nvPicPr>
        <p:blipFill>
          <a:blip r:embed="rId12"/>
          <a:stretch/>
        </p:blipFill>
        <p:spPr>
          <a:xfrm>
            <a:off x="179280" y="2781360"/>
            <a:ext cx="2664000" cy="17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Object 20"/>
              <p:cNvSpPr txBox="1"/>
              <p:nvPr/>
            </p:nvSpPr>
            <p:spPr>
              <a:xfrm>
                <a:off x="5146560" y="2787480"/>
                <a:ext cx="3025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3419640" y="4005360"/>
                <a:ext cx="46908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/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2"/>
              <p:cNvSpPr txBox="1"/>
              <p:nvPr/>
            </p:nvSpPr>
            <p:spPr>
              <a:xfrm>
                <a:off x="6084720" y="4941720"/>
                <a:ext cx="18036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Freeform 23"/>
          <p:cNvSpPr/>
          <p:nvPr/>
        </p:nvSpPr>
        <p:spPr>
          <a:xfrm>
            <a:off x="6191280" y="4175280"/>
            <a:ext cx="1995480" cy="804600"/>
          </a:xfrm>
          <a:custGeom>
            <a:avLst/>
            <a:gdLst/>
            <a:ahLst/>
            <a:rect l="l" t="t" r="r" b="b"/>
            <a:pathLst>
              <a:path w="1257" h="507">
                <a:moveTo>
                  <a:pt x="13" y="12"/>
                </a:moveTo>
                <a:cubicBezTo>
                  <a:pt x="20" y="163"/>
                  <a:pt x="0" y="196"/>
                  <a:pt x="86" y="287"/>
                </a:cubicBezTo>
                <a:cubicBezTo>
                  <a:pt x="89" y="305"/>
                  <a:pt x="88" y="324"/>
                  <a:pt x="95" y="341"/>
                </a:cubicBezTo>
                <a:cubicBezTo>
                  <a:pt x="111" y="382"/>
                  <a:pt x="214" y="382"/>
                  <a:pt x="251" y="387"/>
                </a:cubicBezTo>
                <a:cubicBezTo>
                  <a:pt x="309" y="416"/>
                  <a:pt x="308" y="423"/>
                  <a:pt x="379" y="433"/>
                </a:cubicBezTo>
                <a:cubicBezTo>
                  <a:pt x="388" y="439"/>
                  <a:pt x="395" y="450"/>
                  <a:pt x="406" y="451"/>
                </a:cubicBezTo>
                <a:cubicBezTo>
                  <a:pt x="591" y="474"/>
                  <a:pt x="778" y="464"/>
                  <a:pt x="964" y="469"/>
                </a:cubicBezTo>
                <a:cubicBezTo>
                  <a:pt x="1068" y="507"/>
                  <a:pt x="1116" y="485"/>
                  <a:pt x="1257" y="479"/>
                </a:cubicBezTo>
                <a:cubicBezTo>
                  <a:pt x="1244" y="362"/>
                  <a:pt x="1241" y="300"/>
                  <a:pt x="1138" y="232"/>
                </a:cubicBezTo>
                <a:cubicBezTo>
                  <a:pt x="1094" y="168"/>
                  <a:pt x="1028" y="175"/>
                  <a:pt x="955" y="168"/>
                </a:cubicBezTo>
                <a:cubicBezTo>
                  <a:pt x="916" y="155"/>
                  <a:pt x="882" y="138"/>
                  <a:pt x="845" y="122"/>
                </a:cubicBezTo>
                <a:cubicBezTo>
                  <a:pt x="827" y="114"/>
                  <a:pt x="790" y="104"/>
                  <a:pt x="790" y="104"/>
                </a:cubicBezTo>
                <a:cubicBezTo>
                  <a:pt x="745" y="134"/>
                  <a:pt x="775" y="141"/>
                  <a:pt x="726" y="159"/>
                </a:cubicBezTo>
                <a:cubicBezTo>
                  <a:pt x="641" y="156"/>
                  <a:pt x="555" y="155"/>
                  <a:pt x="470" y="149"/>
                </a:cubicBezTo>
                <a:cubicBezTo>
                  <a:pt x="439" y="147"/>
                  <a:pt x="388" y="104"/>
                  <a:pt x="388" y="104"/>
                </a:cubicBezTo>
                <a:cubicBezTo>
                  <a:pt x="355" y="0"/>
                  <a:pt x="242" y="27"/>
                  <a:pt x="150" y="21"/>
                </a:cubicBezTo>
                <a:cubicBezTo>
                  <a:pt x="88" y="0"/>
                  <a:pt x="132" y="12"/>
                  <a:pt x="13" y="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4"/>
          <p:cNvSpPr/>
          <p:nvPr/>
        </p:nvSpPr>
        <p:spPr>
          <a:xfrm flipH="1">
            <a:off x="2410920" y="357336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25"/>
          <p:cNvSpPr/>
          <p:nvPr/>
        </p:nvSpPr>
        <p:spPr>
          <a:xfrm flipH="1" flipV="1">
            <a:off x="2195640" y="2060280"/>
            <a:ext cx="223200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6"/>
              <p:cNvSpPr txBox="1"/>
              <p:nvPr/>
            </p:nvSpPr>
            <p:spPr>
              <a:xfrm>
                <a:off x="6084720" y="5734080"/>
                <a:ext cx="15130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Text Box 27"/>
          <p:cNvSpPr/>
          <p:nvPr/>
        </p:nvSpPr>
        <p:spPr>
          <a:xfrm>
            <a:off x="1189800" y="260280"/>
            <a:ext cx="31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法误差计算公式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仪表内阻对测量结果的影响和修正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5"/>
              <p:cNvSpPr txBox="1"/>
              <p:nvPr/>
            </p:nvSpPr>
            <p:spPr>
              <a:xfrm>
                <a:off x="468360" y="3789360"/>
                <a:ext cx="18716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9" name="Picture 7" descr="2"/>
          <p:cNvPicPr/>
          <p:nvPr/>
        </p:nvPicPr>
        <p:blipFill>
          <a:blip r:embed="rId1"/>
          <a:stretch/>
        </p:blipFill>
        <p:spPr>
          <a:xfrm>
            <a:off x="0" y="1469880"/>
            <a:ext cx="3672000" cy="1913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未命名3"/>
          <p:cNvPicPr/>
          <p:nvPr/>
        </p:nvPicPr>
        <p:blipFill>
          <a:blip r:embed="rId2"/>
          <a:stretch/>
        </p:blipFill>
        <p:spPr>
          <a:xfrm>
            <a:off x="3672000" y="1542960"/>
            <a:ext cx="5472000" cy="302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468360" y="4869000"/>
                <a:ext cx="1511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Text Box 13"/>
          <p:cNvSpPr/>
          <p:nvPr/>
        </p:nvSpPr>
        <p:spPr>
          <a:xfrm>
            <a:off x="3470400" y="4724280"/>
            <a:ext cx="38808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通用计算公式，但要考虑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含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测量得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一块表测量与多块表同时测量，仪表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测量值的影响是不同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Admin</cp:lastModifiedBy>
  <dcterms:modified xsi:type="dcterms:W3CDTF">2018-11-10T04:29:08Z</dcterms:modified>
  <cp:revision>46</cp:revision>
  <dc:subject/>
  <dc:title>实验3  仪表内阻对测量的影响</dc:title>
</cp:coreProperties>
</file>