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2BCEB-FBC2-4553-850E-965403DEA6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7772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71640" y="3870720"/>
            <a:ext cx="7772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29814-5861-47F6-A504-16F91A1473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54320" y="112500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71640" y="387072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4320" y="387072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AB45F-15AA-4FBB-9D1B-EC6E3D5A2D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2502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99640" y="1125000"/>
            <a:ext cx="2502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27280" y="1125000"/>
            <a:ext cx="2502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71640" y="3870720"/>
            <a:ext cx="2502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99640" y="3870720"/>
            <a:ext cx="2502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27280" y="3870720"/>
            <a:ext cx="2502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A3ECC-8F70-442C-92BF-46C1601CCC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7164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AF952-1E96-4BD4-8004-2BCBB99BAD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D81E8-36EC-4EC7-A992-E2495C2CFD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3792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54320" y="1125000"/>
            <a:ext cx="3792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019E3-BA08-4131-B1E0-69BC7FECB3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1177E-57D4-4836-95B9-AFF1C29918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71280" y="-731880"/>
            <a:ext cx="779292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F4349-7096-4BD1-B3A4-BA194A8FB5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54320" y="1125000"/>
            <a:ext cx="3792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71640" y="387072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C5868-02E7-4EF7-B5ED-33A91D8F95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3792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4320" y="112500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4320" y="387072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E806B-04E1-46AB-9F1B-DA0B91E8CC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4320" y="112500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640" y="3870720"/>
            <a:ext cx="7772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78E33-BFA5-4F67-A0A5-20AC9FEDA9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29052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67320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1436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97164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7041960" y="6566040"/>
            <a:ext cx="19047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8D1A-D72B-4D03-8C4D-F4F465DD9A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Rectangle 8"/>
          <p:cNvSpPr/>
          <p:nvPr/>
        </p:nvSpPr>
        <p:spPr>
          <a:xfrm>
            <a:off x="611280" y="6421320"/>
            <a:ext cx="8226360" cy="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Text Box 19"/>
          <p:cNvSpPr/>
          <p:nvPr/>
        </p:nvSpPr>
        <p:spPr>
          <a:xfrm>
            <a:off x="957600" y="64371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Tahoma"/>
              </a:rPr>
              <a:t>电阻的间接测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3"/>
          <p:cNvSpPr/>
          <p:nvPr/>
        </p:nvSpPr>
        <p:spPr>
          <a:xfrm>
            <a:off x="7042320" y="6566040"/>
            <a:ext cx="1904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D4B6-E553-4CDD-9D3E-1F06CCBEF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3280" y="105840"/>
            <a:ext cx="7361280" cy="73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电阻的间接测量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80010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离线电阻的间接测量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" name="Group 4"/>
          <p:cNvGrpSpPr/>
          <p:nvPr/>
        </p:nvGrpSpPr>
        <p:grpSpPr>
          <a:xfrm>
            <a:off x="250920" y="909000"/>
            <a:ext cx="873000" cy="1034280"/>
            <a:chOff x="250920" y="909000"/>
            <a:chExt cx="873000" cy="1034280"/>
          </a:xfrm>
        </p:grpSpPr>
        <p:grpSp>
          <p:nvGrpSpPr>
            <p:cNvPr id="52" name="Group 5"/>
            <p:cNvGrpSpPr/>
            <p:nvPr/>
          </p:nvGrpSpPr>
          <p:grpSpPr>
            <a:xfrm>
              <a:off x="250920" y="1220760"/>
              <a:ext cx="873000" cy="722520"/>
              <a:chOff x="250920" y="1220760"/>
              <a:chExt cx="873000" cy="722520"/>
            </a:xfrm>
          </p:grpSpPr>
          <p:grpSp>
            <p:nvGrpSpPr>
              <p:cNvPr id="53" name="Group 6"/>
              <p:cNvGrpSpPr/>
              <p:nvPr/>
            </p:nvGrpSpPr>
            <p:grpSpPr>
              <a:xfrm>
                <a:off x="250920" y="1343160"/>
                <a:ext cx="873000" cy="600120"/>
                <a:chOff x="250920" y="1343160"/>
                <a:chExt cx="873000" cy="600120"/>
              </a:xfrm>
            </p:grpSpPr>
            <p:grpSp>
              <p:nvGrpSpPr>
                <p:cNvPr id="54" name="Group 7"/>
                <p:cNvGrpSpPr/>
                <p:nvPr/>
              </p:nvGrpSpPr>
              <p:grpSpPr>
                <a:xfrm>
                  <a:off x="274680" y="1343160"/>
                  <a:ext cx="849240" cy="587520"/>
                  <a:chOff x="274680" y="1343160"/>
                  <a:chExt cx="849240" cy="587520"/>
                </a:xfrm>
              </p:grpSpPr>
              <p:grpSp>
                <p:nvGrpSpPr>
                  <p:cNvPr id="55" name="Group 8"/>
                  <p:cNvGrpSpPr/>
                  <p:nvPr/>
                </p:nvGrpSpPr>
                <p:grpSpPr>
                  <a:xfrm>
                    <a:off x="274680" y="1343160"/>
                    <a:ext cx="849240" cy="587520"/>
                    <a:chOff x="274680" y="1343160"/>
                    <a:chExt cx="849240" cy="587520"/>
                  </a:xfrm>
                </p:grpSpPr>
                <p:sp>
                  <p:nvSpPr>
                    <p:cNvPr id="56" name="Line 9"/>
                    <p:cNvSpPr/>
                    <p:nvPr/>
                  </p:nvSpPr>
                  <p:spPr>
                    <a:xfrm>
                      <a:off x="934920" y="1733760"/>
                      <a:ext cx="189000" cy="3024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7" name="Line 10"/>
                    <p:cNvSpPr/>
                    <p:nvPr/>
                  </p:nvSpPr>
                  <p:spPr>
                    <a:xfrm>
                      <a:off x="946080" y="1771920"/>
                      <a:ext cx="154080" cy="1728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8" name="Line 11"/>
                    <p:cNvSpPr/>
                    <p:nvPr/>
                  </p:nvSpPr>
                  <p:spPr>
                    <a:xfrm>
                      <a:off x="884160" y="1771920"/>
                      <a:ext cx="115920" cy="3960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9" name="Line 12"/>
                    <p:cNvSpPr/>
                    <p:nvPr/>
                  </p:nvSpPr>
                  <p:spPr>
                    <a:xfrm>
                      <a:off x="817560" y="1760760"/>
                      <a:ext cx="114480" cy="12528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0" name="Line 13"/>
                    <p:cNvSpPr/>
                    <p:nvPr/>
                  </p:nvSpPr>
                  <p:spPr>
                    <a:xfrm>
                      <a:off x="820800" y="1789200"/>
                      <a:ext cx="66600" cy="14148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1" name="Line 14"/>
                    <p:cNvSpPr/>
                    <p:nvPr/>
                  </p:nvSpPr>
                  <p:spPr>
                    <a:xfrm>
                      <a:off x="806400" y="1803600"/>
                      <a:ext cx="27000" cy="8424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2" name="Line 15"/>
                    <p:cNvSpPr/>
                    <p:nvPr/>
                  </p:nvSpPr>
                  <p:spPr>
                    <a:xfrm flipH="1">
                      <a:off x="690480" y="1764000"/>
                      <a:ext cx="68400" cy="6012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3" name="Line 16"/>
                    <p:cNvSpPr/>
                    <p:nvPr/>
                  </p:nvSpPr>
                  <p:spPr>
                    <a:xfrm flipH="1">
                      <a:off x="606240" y="1746360"/>
                      <a:ext cx="161640" cy="7776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960" bIns="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4" name="Freeform 17"/>
                    <p:cNvSpPr/>
                    <p:nvPr/>
                  </p:nvSpPr>
                  <p:spPr>
                    <a:xfrm>
                      <a:off x="317520" y="1384560"/>
                      <a:ext cx="363600" cy="406440"/>
                    </a:xfrm>
                    <a:custGeom>
                      <a:avLst/>
                      <a:gdLst>
                        <a:gd name="textAreaLeft" fmla="*/ 0 w 363600"/>
                        <a:gd name="textAreaRight" fmla="*/ 363960 w 363600"/>
                        <a:gd name="textAreaTop" fmla="*/ 0 h 406440"/>
                        <a:gd name="textAreaBottom" fmla="*/ 406800 h 406440"/>
                      </a:gdLst>
                      <a:ahLst/>
                      <a:rect l="textAreaLeft" t="textAreaTop" r="textAreaRight" b="textAreaBottom"/>
                      <a:pathLst>
                        <a:path w="1146" h="1280">
                          <a:moveTo>
                            <a:pt x="666" y="0"/>
                          </a:moveTo>
                          <a:lnTo>
                            <a:pt x="549" y="56"/>
                          </a:lnTo>
                          <a:lnTo>
                            <a:pt x="434" y="134"/>
                          </a:lnTo>
                          <a:lnTo>
                            <a:pt x="324" y="231"/>
                          </a:lnTo>
                          <a:lnTo>
                            <a:pt x="217" y="344"/>
                          </a:lnTo>
                          <a:lnTo>
                            <a:pt x="140" y="445"/>
                          </a:lnTo>
                          <a:lnTo>
                            <a:pt x="102" y="512"/>
                          </a:lnTo>
                          <a:lnTo>
                            <a:pt x="50" y="632"/>
                          </a:lnTo>
                          <a:lnTo>
                            <a:pt x="17" y="742"/>
                          </a:lnTo>
                          <a:lnTo>
                            <a:pt x="0" y="845"/>
                          </a:lnTo>
                          <a:lnTo>
                            <a:pt x="11" y="961"/>
                          </a:lnTo>
                          <a:lnTo>
                            <a:pt x="56" y="1043"/>
                          </a:lnTo>
                          <a:lnTo>
                            <a:pt x="114" y="1107"/>
                          </a:lnTo>
                          <a:lnTo>
                            <a:pt x="166" y="1153"/>
                          </a:lnTo>
                          <a:lnTo>
                            <a:pt x="267" y="1216"/>
                          </a:lnTo>
                          <a:lnTo>
                            <a:pt x="357" y="1248"/>
                          </a:lnTo>
                          <a:lnTo>
                            <a:pt x="467" y="1273"/>
                          </a:lnTo>
                          <a:lnTo>
                            <a:pt x="646" y="1280"/>
                          </a:lnTo>
                          <a:lnTo>
                            <a:pt x="890" y="1248"/>
                          </a:lnTo>
                          <a:lnTo>
                            <a:pt x="1010" y="1196"/>
                          </a:lnTo>
                          <a:lnTo>
                            <a:pt x="1146" y="1081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e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5" name="Freeform 18"/>
                    <p:cNvSpPr/>
                    <p:nvPr/>
                  </p:nvSpPr>
                  <p:spPr>
                    <a:xfrm>
                      <a:off x="311040" y="1343160"/>
                      <a:ext cx="365400" cy="380880"/>
                    </a:xfrm>
                    <a:custGeom>
                      <a:avLst/>
                      <a:gdLst>
                        <a:gd name="textAreaLeft" fmla="*/ 0 w 365400"/>
                        <a:gd name="textAreaRight" fmla="*/ 365760 w 365400"/>
                        <a:gd name="textAreaTop" fmla="*/ 0 h 380880"/>
                        <a:gd name="textAreaBottom" fmla="*/ 381240 h 380880"/>
                      </a:gdLst>
                      <a:ahLst/>
                      <a:rect l="textAreaLeft" t="textAreaTop" r="textAreaRight" b="textAreaBottom"/>
                      <a:pathLst>
                        <a:path w="1152" h="1196">
                          <a:moveTo>
                            <a:pt x="670" y="0"/>
                          </a:moveTo>
                          <a:lnTo>
                            <a:pt x="553" y="54"/>
                          </a:lnTo>
                          <a:lnTo>
                            <a:pt x="437" y="125"/>
                          </a:lnTo>
                          <a:lnTo>
                            <a:pt x="326" y="215"/>
                          </a:lnTo>
                          <a:lnTo>
                            <a:pt x="219" y="323"/>
                          </a:lnTo>
                          <a:lnTo>
                            <a:pt x="141" y="417"/>
                          </a:lnTo>
                          <a:lnTo>
                            <a:pt x="101" y="478"/>
                          </a:lnTo>
                          <a:lnTo>
                            <a:pt x="50" y="592"/>
                          </a:lnTo>
                          <a:lnTo>
                            <a:pt x="20" y="694"/>
                          </a:lnTo>
                          <a:lnTo>
                            <a:pt x="0" y="791"/>
                          </a:lnTo>
                          <a:lnTo>
                            <a:pt x="13" y="899"/>
                          </a:lnTo>
                          <a:lnTo>
                            <a:pt x="56" y="977"/>
                          </a:lnTo>
                          <a:lnTo>
                            <a:pt x="114" y="1036"/>
                          </a:lnTo>
                          <a:lnTo>
                            <a:pt x="166" y="1078"/>
                          </a:lnTo>
                          <a:lnTo>
                            <a:pt x="268" y="1137"/>
                          </a:lnTo>
                          <a:lnTo>
                            <a:pt x="359" y="1167"/>
                          </a:lnTo>
                          <a:lnTo>
                            <a:pt x="468" y="1192"/>
                          </a:lnTo>
                          <a:lnTo>
                            <a:pt x="651" y="1196"/>
                          </a:lnTo>
                          <a:lnTo>
                            <a:pt x="894" y="1167"/>
                          </a:lnTo>
                          <a:lnTo>
                            <a:pt x="1017" y="1120"/>
                          </a:lnTo>
                          <a:lnTo>
                            <a:pt x="1152" y="1012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e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" name="Freeform 19"/>
                    <p:cNvSpPr/>
                    <p:nvPr/>
                  </p:nvSpPr>
                  <p:spPr>
                    <a:xfrm>
                      <a:off x="274680" y="1382760"/>
                      <a:ext cx="272880" cy="320760"/>
                    </a:xfrm>
                    <a:custGeom>
                      <a:avLst/>
                      <a:gdLst>
                        <a:gd name="textAreaLeft" fmla="*/ 0 w 272880"/>
                        <a:gd name="textAreaRight" fmla="*/ 273240 w 272880"/>
                        <a:gd name="textAreaTop" fmla="*/ 0 h 320760"/>
                        <a:gd name="textAreaBottom" fmla="*/ 321120 h 320760"/>
                      </a:gdLst>
                      <a:ahLst/>
                      <a:rect l="textAreaLeft" t="textAreaTop" r="textAreaRight" b="textAreaBottom"/>
                      <a:pathLst>
                        <a:path w="863" h="1012">
                          <a:moveTo>
                            <a:pt x="500" y="0"/>
                          </a:moveTo>
                          <a:lnTo>
                            <a:pt x="412" y="46"/>
                          </a:lnTo>
                          <a:lnTo>
                            <a:pt x="328" y="106"/>
                          </a:lnTo>
                          <a:lnTo>
                            <a:pt x="245" y="182"/>
                          </a:lnTo>
                          <a:lnTo>
                            <a:pt x="163" y="270"/>
                          </a:lnTo>
                          <a:lnTo>
                            <a:pt x="105" y="352"/>
                          </a:lnTo>
                          <a:lnTo>
                            <a:pt x="76" y="403"/>
                          </a:lnTo>
                          <a:lnTo>
                            <a:pt x="38" y="499"/>
                          </a:lnTo>
                          <a:lnTo>
                            <a:pt x="14" y="585"/>
                          </a:lnTo>
                          <a:lnTo>
                            <a:pt x="0" y="668"/>
                          </a:lnTo>
                          <a:lnTo>
                            <a:pt x="8" y="760"/>
                          </a:lnTo>
                          <a:lnTo>
                            <a:pt x="42" y="824"/>
                          </a:lnTo>
                          <a:lnTo>
                            <a:pt x="87" y="875"/>
                          </a:lnTo>
                          <a:lnTo>
                            <a:pt x="125" y="910"/>
                          </a:lnTo>
                          <a:lnTo>
                            <a:pt x="202" y="962"/>
                          </a:lnTo>
                          <a:lnTo>
                            <a:pt x="270" y="987"/>
                          </a:lnTo>
                          <a:lnTo>
                            <a:pt x="352" y="1008"/>
                          </a:lnTo>
                          <a:lnTo>
                            <a:pt x="485" y="1012"/>
                          </a:lnTo>
                          <a:lnTo>
                            <a:pt x="670" y="987"/>
                          </a:lnTo>
                          <a:lnTo>
                            <a:pt x="763" y="945"/>
                          </a:lnTo>
                          <a:lnTo>
                            <a:pt x="863" y="856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e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67" name="Line 20"/>
                  <p:cNvSpPr/>
                  <p:nvPr/>
                </p:nvSpPr>
                <p:spPr>
                  <a:xfrm>
                    <a:off x="415800" y="1708200"/>
                    <a:ext cx="676440" cy="180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8" name="Group 21"/>
                <p:cNvGrpSpPr/>
                <p:nvPr/>
              </p:nvGrpSpPr>
              <p:grpSpPr>
                <a:xfrm>
                  <a:off x="250920" y="1754280"/>
                  <a:ext cx="531720" cy="189000"/>
                  <a:chOff x="250920" y="1754280"/>
                  <a:chExt cx="531720" cy="189000"/>
                </a:xfrm>
              </p:grpSpPr>
              <p:sp>
                <p:nvSpPr>
                  <p:cNvPr id="69" name="Freeform 22"/>
                  <p:cNvSpPr/>
                  <p:nvPr/>
                </p:nvSpPr>
                <p:spPr>
                  <a:xfrm>
                    <a:off x="372960" y="1809720"/>
                    <a:ext cx="169920" cy="63720"/>
                  </a:xfrm>
                  <a:custGeom>
                    <a:avLst/>
                    <a:gdLst>
                      <a:gd name="textAreaLeft" fmla="*/ 0 w 169920"/>
                      <a:gd name="textAreaRight" fmla="*/ 170280 w 169920"/>
                      <a:gd name="textAreaTop" fmla="*/ 0 h 63720"/>
                      <a:gd name="textAreaBottom" fmla="*/ 64080 h 63720"/>
                    </a:gdLst>
                    <a:ahLst/>
                    <a:rect l="textAreaLeft" t="textAreaTop" r="textAreaRight" b="textAreaBottom"/>
                    <a:pathLst>
                      <a:path w="532" h="198">
                        <a:moveTo>
                          <a:pt x="71" y="0"/>
                        </a:moveTo>
                        <a:lnTo>
                          <a:pt x="135" y="39"/>
                        </a:lnTo>
                        <a:lnTo>
                          <a:pt x="232" y="62"/>
                        </a:lnTo>
                        <a:lnTo>
                          <a:pt x="316" y="71"/>
                        </a:lnTo>
                        <a:lnTo>
                          <a:pt x="422" y="76"/>
                        </a:lnTo>
                        <a:lnTo>
                          <a:pt x="532" y="42"/>
                        </a:lnTo>
                        <a:lnTo>
                          <a:pt x="503" y="85"/>
                        </a:lnTo>
                        <a:lnTo>
                          <a:pt x="422" y="127"/>
                        </a:lnTo>
                        <a:lnTo>
                          <a:pt x="304" y="169"/>
                        </a:lnTo>
                        <a:lnTo>
                          <a:pt x="200" y="198"/>
                        </a:lnTo>
                        <a:lnTo>
                          <a:pt x="65" y="198"/>
                        </a:lnTo>
                        <a:lnTo>
                          <a:pt x="0" y="163"/>
                        </a:lnTo>
                        <a:lnTo>
                          <a:pt x="5" y="69"/>
                        </a:lnTo>
                        <a:lnTo>
                          <a:pt x="71" y="0"/>
                        </a:lnTo>
                        <a:close/>
                      </a:path>
                    </a:pathLst>
                  </a:custGeom>
                  <a:solidFill>
                    <a:srgbClr val="c0c0e0"/>
                  </a:solidFill>
                  <a:ln w="3240">
                    <a:solidFill>
                      <a:srgbClr val="c0c0e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0" name="Freeform 23"/>
                  <p:cNvSpPr/>
                  <p:nvPr/>
                </p:nvSpPr>
                <p:spPr>
                  <a:xfrm>
                    <a:off x="447840" y="1827360"/>
                    <a:ext cx="334800" cy="115920"/>
                  </a:xfrm>
                  <a:custGeom>
                    <a:avLst/>
                    <a:gdLst>
                      <a:gd name="textAreaLeft" fmla="*/ 0 w 334800"/>
                      <a:gd name="textAreaRight" fmla="*/ 335160 w 334800"/>
                      <a:gd name="textAreaTop" fmla="*/ 0 h 115920"/>
                      <a:gd name="textAreaBottom" fmla="*/ 116280 h 115920"/>
                    </a:gdLst>
                    <a:ahLst/>
                    <a:rect l="textAreaLeft" t="textAreaTop" r="textAreaRight" b="textAreaBottom"/>
                    <a:pathLst>
                      <a:path w="1055" h="361">
                        <a:moveTo>
                          <a:pt x="0" y="333"/>
                        </a:moveTo>
                        <a:lnTo>
                          <a:pt x="107" y="310"/>
                        </a:lnTo>
                        <a:lnTo>
                          <a:pt x="220" y="280"/>
                        </a:lnTo>
                        <a:lnTo>
                          <a:pt x="336" y="228"/>
                        </a:lnTo>
                        <a:lnTo>
                          <a:pt x="429" y="171"/>
                        </a:lnTo>
                        <a:lnTo>
                          <a:pt x="497" y="120"/>
                        </a:lnTo>
                        <a:lnTo>
                          <a:pt x="541" y="74"/>
                        </a:lnTo>
                        <a:lnTo>
                          <a:pt x="570" y="25"/>
                        </a:lnTo>
                        <a:lnTo>
                          <a:pt x="596" y="0"/>
                        </a:lnTo>
                        <a:lnTo>
                          <a:pt x="674" y="23"/>
                        </a:lnTo>
                        <a:lnTo>
                          <a:pt x="786" y="38"/>
                        </a:lnTo>
                        <a:lnTo>
                          <a:pt x="888" y="38"/>
                        </a:lnTo>
                        <a:lnTo>
                          <a:pt x="982" y="29"/>
                        </a:lnTo>
                        <a:lnTo>
                          <a:pt x="1038" y="6"/>
                        </a:lnTo>
                        <a:lnTo>
                          <a:pt x="1051" y="42"/>
                        </a:lnTo>
                        <a:lnTo>
                          <a:pt x="1055" y="87"/>
                        </a:lnTo>
                        <a:lnTo>
                          <a:pt x="1051" y="142"/>
                        </a:lnTo>
                        <a:lnTo>
                          <a:pt x="1038" y="171"/>
                        </a:lnTo>
                        <a:lnTo>
                          <a:pt x="1010" y="221"/>
                        </a:lnTo>
                        <a:lnTo>
                          <a:pt x="978" y="255"/>
                        </a:lnTo>
                        <a:lnTo>
                          <a:pt x="939" y="296"/>
                        </a:lnTo>
                        <a:lnTo>
                          <a:pt x="883" y="336"/>
                        </a:lnTo>
                        <a:lnTo>
                          <a:pt x="718" y="352"/>
                        </a:lnTo>
                        <a:lnTo>
                          <a:pt x="510" y="356"/>
                        </a:lnTo>
                        <a:lnTo>
                          <a:pt x="308" y="361"/>
                        </a:lnTo>
                        <a:lnTo>
                          <a:pt x="128" y="359"/>
                        </a:lnTo>
                        <a:lnTo>
                          <a:pt x="0" y="333"/>
                        </a:lnTo>
                        <a:close/>
                      </a:path>
                    </a:pathLst>
                  </a:custGeom>
                  <a:solidFill>
                    <a:srgbClr val="e0e0ff"/>
                  </a:solidFill>
                  <a:ln w="3240">
                    <a:solidFill>
                      <a:srgbClr val="e0e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" name="Freeform 24"/>
                  <p:cNvSpPr/>
                  <p:nvPr/>
                </p:nvSpPr>
                <p:spPr>
                  <a:xfrm>
                    <a:off x="250920" y="1754280"/>
                    <a:ext cx="201600" cy="125640"/>
                  </a:xfrm>
                  <a:custGeom>
                    <a:avLst/>
                    <a:gdLst>
                      <a:gd name="textAreaLeft" fmla="*/ 0 w 201600"/>
                      <a:gd name="textAreaRight" fmla="*/ 201960 w 201600"/>
                      <a:gd name="textAreaTop" fmla="*/ 0 h 125640"/>
                      <a:gd name="textAreaBottom" fmla="*/ 126000 h 125640"/>
                    </a:gdLst>
                    <a:ahLst/>
                    <a:rect l="textAreaLeft" t="textAreaTop" r="textAreaRight" b="textAreaBottom"/>
                    <a:pathLst>
                      <a:path w="636" h="396">
                        <a:moveTo>
                          <a:pt x="125" y="0"/>
                        </a:moveTo>
                        <a:lnTo>
                          <a:pt x="223" y="41"/>
                        </a:lnTo>
                        <a:lnTo>
                          <a:pt x="636" y="138"/>
                        </a:lnTo>
                        <a:lnTo>
                          <a:pt x="623" y="157"/>
                        </a:lnTo>
                        <a:lnTo>
                          <a:pt x="520" y="208"/>
                        </a:lnTo>
                        <a:lnTo>
                          <a:pt x="472" y="232"/>
                        </a:lnTo>
                        <a:lnTo>
                          <a:pt x="447" y="274"/>
                        </a:lnTo>
                        <a:lnTo>
                          <a:pt x="439" y="306"/>
                        </a:lnTo>
                        <a:lnTo>
                          <a:pt x="451" y="342"/>
                        </a:lnTo>
                        <a:lnTo>
                          <a:pt x="482" y="361"/>
                        </a:lnTo>
                        <a:lnTo>
                          <a:pt x="520" y="367"/>
                        </a:lnTo>
                        <a:lnTo>
                          <a:pt x="584" y="374"/>
                        </a:lnTo>
                        <a:lnTo>
                          <a:pt x="536" y="393"/>
                        </a:lnTo>
                        <a:lnTo>
                          <a:pt x="465" y="396"/>
                        </a:lnTo>
                        <a:lnTo>
                          <a:pt x="439" y="393"/>
                        </a:lnTo>
                        <a:lnTo>
                          <a:pt x="390" y="378"/>
                        </a:lnTo>
                        <a:lnTo>
                          <a:pt x="301" y="329"/>
                        </a:lnTo>
                        <a:lnTo>
                          <a:pt x="179" y="245"/>
                        </a:lnTo>
                        <a:lnTo>
                          <a:pt x="112" y="202"/>
                        </a:lnTo>
                        <a:lnTo>
                          <a:pt x="41" y="151"/>
                        </a:lnTo>
                        <a:lnTo>
                          <a:pt x="25" y="148"/>
                        </a:lnTo>
                        <a:lnTo>
                          <a:pt x="0" y="106"/>
                        </a:lnTo>
                        <a:lnTo>
                          <a:pt x="8" y="64"/>
                        </a:lnTo>
                        <a:lnTo>
                          <a:pt x="38" y="29"/>
                        </a:lnTo>
                        <a:lnTo>
                          <a:pt x="125" y="0"/>
                        </a:lnTo>
                        <a:close/>
                      </a:path>
                    </a:pathLst>
                  </a:custGeom>
                  <a:solidFill>
                    <a:srgbClr val="e0e0ff"/>
                  </a:solidFill>
                  <a:ln w="3240">
                    <a:solidFill>
                      <a:srgbClr val="e0e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2" name="Group 25"/>
              <p:cNvGrpSpPr/>
              <p:nvPr/>
            </p:nvGrpSpPr>
            <p:grpSpPr>
              <a:xfrm>
                <a:off x="495360" y="1220760"/>
                <a:ext cx="384120" cy="516240"/>
                <a:chOff x="495360" y="1220760"/>
                <a:chExt cx="384120" cy="516240"/>
              </a:xfrm>
            </p:grpSpPr>
            <p:grpSp>
              <p:nvGrpSpPr>
                <p:cNvPr id="73" name="Group 26"/>
                <p:cNvGrpSpPr/>
                <p:nvPr/>
              </p:nvGrpSpPr>
              <p:grpSpPr>
                <a:xfrm>
                  <a:off x="581040" y="1397160"/>
                  <a:ext cx="273240" cy="227160"/>
                  <a:chOff x="581040" y="1397160"/>
                  <a:chExt cx="273240" cy="227160"/>
                </a:xfrm>
              </p:grpSpPr>
              <p:sp>
                <p:nvSpPr>
                  <p:cNvPr id="74" name="Freeform 27"/>
                  <p:cNvSpPr/>
                  <p:nvPr/>
                </p:nvSpPr>
                <p:spPr>
                  <a:xfrm>
                    <a:off x="581040" y="1397160"/>
                    <a:ext cx="177840" cy="141120"/>
                  </a:xfrm>
                  <a:custGeom>
                    <a:avLst/>
                    <a:gdLst>
                      <a:gd name="textAreaLeft" fmla="*/ 0 w 177840"/>
                      <a:gd name="textAreaRight" fmla="*/ 178200 w 177840"/>
                      <a:gd name="textAreaTop" fmla="*/ 0 h 141120"/>
                      <a:gd name="textAreaBottom" fmla="*/ 141480 h 141120"/>
                    </a:gdLst>
                    <a:ahLst/>
                    <a:rect l="textAreaLeft" t="textAreaTop" r="textAreaRight" b="textAreaBottom"/>
                    <a:pathLst>
                      <a:path w="558" h="448">
                        <a:moveTo>
                          <a:pt x="383" y="177"/>
                        </a:moveTo>
                        <a:lnTo>
                          <a:pt x="462" y="214"/>
                        </a:lnTo>
                        <a:lnTo>
                          <a:pt x="484" y="247"/>
                        </a:lnTo>
                        <a:lnTo>
                          <a:pt x="503" y="330"/>
                        </a:lnTo>
                        <a:lnTo>
                          <a:pt x="533" y="391"/>
                        </a:lnTo>
                        <a:lnTo>
                          <a:pt x="558" y="448"/>
                        </a:lnTo>
                        <a:lnTo>
                          <a:pt x="497" y="397"/>
                        </a:lnTo>
                        <a:lnTo>
                          <a:pt x="449" y="372"/>
                        </a:lnTo>
                        <a:lnTo>
                          <a:pt x="378" y="320"/>
                        </a:lnTo>
                        <a:lnTo>
                          <a:pt x="350" y="272"/>
                        </a:lnTo>
                        <a:lnTo>
                          <a:pt x="332" y="202"/>
                        </a:lnTo>
                        <a:lnTo>
                          <a:pt x="78" y="99"/>
                        </a:lnTo>
                        <a:lnTo>
                          <a:pt x="0" y="3"/>
                        </a:lnTo>
                        <a:lnTo>
                          <a:pt x="38" y="0"/>
                        </a:lnTo>
                        <a:lnTo>
                          <a:pt x="121" y="30"/>
                        </a:lnTo>
                        <a:lnTo>
                          <a:pt x="383" y="177"/>
                        </a:lnTo>
                        <a:close/>
                      </a:path>
                    </a:pathLst>
                  </a:custGeom>
                  <a:solidFill>
                    <a:srgbClr val="e040a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75" name="Group 28"/>
                  <p:cNvGrpSpPr/>
                  <p:nvPr/>
                </p:nvGrpSpPr>
                <p:grpSpPr>
                  <a:xfrm>
                    <a:off x="708120" y="1478160"/>
                    <a:ext cx="146160" cy="146160"/>
                    <a:chOff x="708120" y="1478160"/>
                    <a:chExt cx="146160" cy="146160"/>
                  </a:xfrm>
                </p:grpSpPr>
                <p:sp>
                  <p:nvSpPr>
                    <p:cNvPr id="76" name="Freeform 29"/>
                    <p:cNvSpPr/>
                    <p:nvPr/>
                  </p:nvSpPr>
                  <p:spPr>
                    <a:xfrm>
                      <a:off x="708120" y="1478160"/>
                      <a:ext cx="146160" cy="146160"/>
                    </a:xfrm>
                    <a:custGeom>
                      <a:avLst/>
                      <a:gdLst>
                        <a:gd name="textAreaLeft" fmla="*/ 0 w 146160"/>
                        <a:gd name="textAreaRight" fmla="*/ 146520 w 146160"/>
                        <a:gd name="textAreaTop" fmla="*/ 0 h 146160"/>
                        <a:gd name="textAreaBottom" fmla="*/ 146520 h 146160"/>
                      </a:gdLst>
                      <a:ahLst/>
                      <a:rect l="textAreaLeft" t="textAreaTop" r="textAreaRight" b="textAreaBottom"/>
                      <a:pathLst>
                        <a:path w="460" h="462">
                          <a:moveTo>
                            <a:pt x="0" y="375"/>
                          </a:moveTo>
                          <a:lnTo>
                            <a:pt x="62" y="349"/>
                          </a:lnTo>
                          <a:lnTo>
                            <a:pt x="79" y="309"/>
                          </a:lnTo>
                          <a:lnTo>
                            <a:pt x="94" y="272"/>
                          </a:lnTo>
                          <a:lnTo>
                            <a:pt x="96" y="226"/>
                          </a:lnTo>
                          <a:lnTo>
                            <a:pt x="84" y="169"/>
                          </a:lnTo>
                          <a:lnTo>
                            <a:pt x="74" y="109"/>
                          </a:lnTo>
                          <a:lnTo>
                            <a:pt x="90" y="98"/>
                          </a:lnTo>
                          <a:lnTo>
                            <a:pt x="111" y="96"/>
                          </a:lnTo>
                          <a:lnTo>
                            <a:pt x="135" y="109"/>
                          </a:lnTo>
                          <a:lnTo>
                            <a:pt x="160" y="142"/>
                          </a:lnTo>
                          <a:lnTo>
                            <a:pt x="189" y="210"/>
                          </a:lnTo>
                          <a:lnTo>
                            <a:pt x="214" y="152"/>
                          </a:lnTo>
                          <a:lnTo>
                            <a:pt x="252" y="107"/>
                          </a:lnTo>
                          <a:lnTo>
                            <a:pt x="289" y="77"/>
                          </a:lnTo>
                          <a:lnTo>
                            <a:pt x="340" y="32"/>
                          </a:lnTo>
                          <a:lnTo>
                            <a:pt x="378" y="3"/>
                          </a:lnTo>
                          <a:lnTo>
                            <a:pt x="403" y="0"/>
                          </a:lnTo>
                          <a:lnTo>
                            <a:pt x="419" y="16"/>
                          </a:lnTo>
                          <a:lnTo>
                            <a:pt x="412" y="38"/>
                          </a:lnTo>
                          <a:lnTo>
                            <a:pt x="390" y="77"/>
                          </a:lnTo>
                          <a:lnTo>
                            <a:pt x="358" y="125"/>
                          </a:lnTo>
                          <a:lnTo>
                            <a:pt x="318" y="175"/>
                          </a:lnTo>
                          <a:lnTo>
                            <a:pt x="373" y="162"/>
                          </a:lnTo>
                          <a:lnTo>
                            <a:pt x="418" y="163"/>
                          </a:lnTo>
                          <a:lnTo>
                            <a:pt x="441" y="175"/>
                          </a:lnTo>
                          <a:lnTo>
                            <a:pt x="441" y="199"/>
                          </a:lnTo>
                          <a:lnTo>
                            <a:pt x="429" y="221"/>
                          </a:lnTo>
                          <a:lnTo>
                            <a:pt x="406" y="244"/>
                          </a:lnTo>
                          <a:lnTo>
                            <a:pt x="368" y="257"/>
                          </a:lnTo>
                          <a:lnTo>
                            <a:pt x="412" y="254"/>
                          </a:lnTo>
                          <a:lnTo>
                            <a:pt x="447" y="264"/>
                          </a:lnTo>
                          <a:lnTo>
                            <a:pt x="460" y="295"/>
                          </a:lnTo>
                          <a:lnTo>
                            <a:pt x="448" y="320"/>
                          </a:lnTo>
                          <a:lnTo>
                            <a:pt x="420" y="333"/>
                          </a:lnTo>
                          <a:lnTo>
                            <a:pt x="346" y="329"/>
                          </a:lnTo>
                          <a:lnTo>
                            <a:pt x="382" y="342"/>
                          </a:lnTo>
                          <a:lnTo>
                            <a:pt x="400" y="356"/>
                          </a:lnTo>
                          <a:lnTo>
                            <a:pt x="413" y="375"/>
                          </a:lnTo>
                          <a:lnTo>
                            <a:pt x="408" y="405"/>
                          </a:lnTo>
                          <a:lnTo>
                            <a:pt x="387" y="422"/>
                          </a:lnTo>
                          <a:lnTo>
                            <a:pt x="363" y="421"/>
                          </a:lnTo>
                          <a:lnTo>
                            <a:pt x="330" y="411"/>
                          </a:lnTo>
                          <a:lnTo>
                            <a:pt x="299" y="395"/>
                          </a:lnTo>
                          <a:lnTo>
                            <a:pt x="279" y="424"/>
                          </a:lnTo>
                          <a:lnTo>
                            <a:pt x="258" y="446"/>
                          </a:lnTo>
                          <a:lnTo>
                            <a:pt x="234" y="457"/>
                          </a:lnTo>
                          <a:lnTo>
                            <a:pt x="204" y="462"/>
                          </a:lnTo>
                          <a:lnTo>
                            <a:pt x="77" y="431"/>
                          </a:lnTo>
                          <a:lnTo>
                            <a:pt x="0" y="375"/>
                          </a:lnTo>
                          <a:close/>
                        </a:path>
                      </a:pathLst>
                    </a:custGeom>
                    <a:solidFill>
                      <a:srgbClr val="e0a08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77" name="Group 30"/>
                    <p:cNvGrpSpPr/>
                    <p:nvPr/>
                  </p:nvGrpSpPr>
                  <p:grpSpPr>
                    <a:xfrm>
                      <a:off x="728640" y="1540080"/>
                      <a:ext cx="100080" cy="74520"/>
                      <a:chOff x="728640" y="1540080"/>
                      <a:chExt cx="100080" cy="74520"/>
                    </a:xfrm>
                  </p:grpSpPr>
                  <p:sp>
                    <p:nvSpPr>
                      <p:cNvPr id="78" name="Freeform 31"/>
                      <p:cNvSpPr/>
                      <p:nvPr/>
                    </p:nvSpPr>
                    <p:spPr>
                      <a:xfrm>
                        <a:off x="797040" y="1541520"/>
                        <a:ext cx="31680" cy="20880"/>
                      </a:xfrm>
                      <a:custGeom>
                        <a:avLst/>
                        <a:gdLst>
                          <a:gd name="textAreaLeft" fmla="*/ 0 w 31680"/>
                          <a:gd name="textAreaRight" fmla="*/ 32040 w 31680"/>
                          <a:gd name="textAreaTop" fmla="*/ 0 h 20880"/>
                          <a:gd name="textAreaBottom" fmla="*/ 21240 h 20880"/>
                        </a:gdLst>
                        <a:ahLst/>
                        <a:rect l="textAreaLeft" t="textAreaTop" r="textAreaRight" b="textAreaBottom"/>
                        <a:pathLst>
                          <a:path w="104" h="66">
                            <a:moveTo>
                              <a:pt x="104" y="59"/>
                            </a:moveTo>
                            <a:lnTo>
                              <a:pt x="65" y="66"/>
                            </a:lnTo>
                            <a:lnTo>
                              <a:pt x="32" y="64"/>
                            </a:lnTo>
                            <a:lnTo>
                              <a:pt x="10" y="53"/>
                            </a:lnTo>
                            <a:lnTo>
                              <a:pt x="0" y="34"/>
                            </a:lnTo>
                            <a:lnTo>
                              <a:pt x="6" y="13"/>
                            </a:lnTo>
                            <a:lnTo>
                              <a:pt x="28" y="0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79" name="Freeform 32"/>
                      <p:cNvSpPr/>
                      <p:nvPr/>
                    </p:nvSpPr>
                    <p:spPr>
                      <a:xfrm>
                        <a:off x="790560" y="1562400"/>
                        <a:ext cx="34920" cy="21960"/>
                      </a:xfrm>
                      <a:custGeom>
                        <a:avLst/>
                        <a:gdLst>
                          <a:gd name="textAreaLeft" fmla="*/ 0 w 34920"/>
                          <a:gd name="textAreaRight" fmla="*/ 35280 w 34920"/>
                          <a:gd name="textAreaTop" fmla="*/ 0 h 21960"/>
                          <a:gd name="textAreaBottom" fmla="*/ 22320 h 21960"/>
                        </a:gdLst>
                        <a:ahLst/>
                        <a:rect l="textAreaLeft" t="textAreaTop" r="textAreaRight" b="textAreaBottom"/>
                        <a:pathLst>
                          <a:path w="112" h="70">
                            <a:moveTo>
                              <a:pt x="112" y="68"/>
                            </a:moveTo>
                            <a:lnTo>
                              <a:pt x="73" y="70"/>
                            </a:lnTo>
                            <a:lnTo>
                              <a:pt x="38" y="66"/>
                            </a:lnTo>
                            <a:lnTo>
                              <a:pt x="15" y="56"/>
                            </a:lnTo>
                            <a:lnTo>
                              <a:pt x="0" y="36"/>
                            </a:lnTo>
                            <a:lnTo>
                              <a:pt x="6" y="19"/>
                            </a:lnTo>
                            <a:lnTo>
                              <a:pt x="23" y="0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80" name="Freeform 33"/>
                      <p:cNvSpPr/>
                      <p:nvPr/>
                    </p:nvSpPr>
                    <p:spPr>
                      <a:xfrm>
                        <a:off x="779400" y="1578240"/>
                        <a:ext cx="22320" cy="27000"/>
                      </a:xfrm>
                      <a:custGeom>
                        <a:avLst/>
                        <a:gdLst>
                          <a:gd name="textAreaLeft" fmla="*/ 0 w 22320"/>
                          <a:gd name="textAreaRight" fmla="*/ 22680 w 22320"/>
                          <a:gd name="textAreaTop" fmla="*/ 0 h 27000"/>
                          <a:gd name="textAreaBottom" fmla="*/ 27360 h 27000"/>
                        </a:gdLst>
                        <a:ahLst/>
                        <a:rect l="textAreaLeft" t="textAreaTop" r="textAreaRight" b="textAreaBottom"/>
                        <a:pathLst>
                          <a:path w="71" h="85">
                            <a:moveTo>
                              <a:pt x="71" y="85"/>
                            </a:moveTo>
                            <a:lnTo>
                              <a:pt x="36" y="71"/>
                            </a:lnTo>
                            <a:lnTo>
                              <a:pt x="14" y="55"/>
                            </a:lnTo>
                            <a:lnTo>
                              <a:pt x="0" y="31"/>
                            </a:lnTo>
                            <a:lnTo>
                              <a:pt x="7" y="8"/>
                            </a:lnTo>
                            <a:lnTo>
                              <a:pt x="25" y="0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81" name="Freeform 34"/>
                      <p:cNvSpPr/>
                      <p:nvPr/>
                    </p:nvSpPr>
                    <p:spPr>
                      <a:xfrm>
                        <a:off x="768240" y="1540080"/>
                        <a:ext cx="5040" cy="25200"/>
                      </a:xfrm>
                      <a:custGeom>
                        <a:avLst/>
                        <a:gdLst>
                          <a:gd name="textAreaLeft" fmla="*/ 0 w 5040"/>
                          <a:gd name="textAreaRight" fmla="*/ 5400 w 5040"/>
                          <a:gd name="textAreaTop" fmla="*/ 0 h 25200"/>
                          <a:gd name="textAreaBottom" fmla="*/ 25560 h 25200"/>
                        </a:gdLst>
                        <a:ahLst/>
                        <a:rect l="textAreaLeft" t="textAreaTop" r="textAreaRight" b="textAreaBottom"/>
                        <a:pathLst>
                          <a:path w="15" h="80">
                            <a:moveTo>
                              <a:pt x="0" y="0"/>
                            </a:moveTo>
                            <a:lnTo>
                              <a:pt x="13" y="36"/>
                            </a:lnTo>
                            <a:lnTo>
                              <a:pt x="15" y="57"/>
                            </a:lnTo>
                            <a:lnTo>
                              <a:pt x="13" y="80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82" name="Freeform 35"/>
                      <p:cNvSpPr/>
                      <p:nvPr/>
                    </p:nvSpPr>
                    <p:spPr>
                      <a:xfrm>
                        <a:off x="766800" y="1540080"/>
                        <a:ext cx="19080" cy="11160"/>
                      </a:xfrm>
                      <a:custGeom>
                        <a:avLst/>
                        <a:gdLst>
                          <a:gd name="textAreaLeft" fmla="*/ 0 w 19080"/>
                          <a:gd name="textAreaRight" fmla="*/ 19440 w 19080"/>
                          <a:gd name="textAreaTop" fmla="*/ 0 h 11160"/>
                          <a:gd name="textAreaBottom" fmla="*/ 11520 h 11160"/>
                        </a:gdLst>
                        <a:ahLst/>
                        <a:rect l="textAreaLeft" t="textAreaTop" r="textAreaRight" b="textAreaBottom"/>
                        <a:pathLst>
                          <a:path w="61" h="32">
                            <a:moveTo>
                              <a:pt x="0" y="0"/>
                            </a:moveTo>
                            <a:lnTo>
                              <a:pt x="27" y="3"/>
                            </a:lnTo>
                            <a:lnTo>
                              <a:pt x="46" y="13"/>
                            </a:lnTo>
                            <a:lnTo>
                              <a:pt x="61" y="32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83" name="Freeform 36"/>
                      <p:cNvSpPr/>
                      <p:nvPr/>
                    </p:nvSpPr>
                    <p:spPr>
                      <a:xfrm>
                        <a:off x="728640" y="1587600"/>
                        <a:ext cx="31680" cy="27000"/>
                      </a:xfrm>
                      <a:custGeom>
                        <a:avLst/>
                        <a:gdLst>
                          <a:gd name="textAreaLeft" fmla="*/ 0 w 31680"/>
                          <a:gd name="textAreaRight" fmla="*/ 32040 w 31680"/>
                          <a:gd name="textAreaTop" fmla="*/ 0 h 27000"/>
                          <a:gd name="textAreaBottom" fmla="*/ 27360 h 27000"/>
                        </a:gdLst>
                        <a:ahLst/>
                        <a:rect l="textAreaLeft" t="textAreaTop" r="textAreaRight" b="textAreaBottom"/>
                        <a:pathLst>
                          <a:path w="104" h="87">
                            <a:moveTo>
                              <a:pt x="0" y="0"/>
                            </a:moveTo>
                            <a:lnTo>
                              <a:pt x="2" y="13"/>
                            </a:lnTo>
                            <a:lnTo>
                              <a:pt x="6" y="28"/>
                            </a:lnTo>
                            <a:lnTo>
                              <a:pt x="13" y="39"/>
                            </a:lnTo>
                            <a:lnTo>
                              <a:pt x="29" y="51"/>
                            </a:lnTo>
                            <a:lnTo>
                              <a:pt x="49" y="59"/>
                            </a:lnTo>
                            <a:lnTo>
                              <a:pt x="70" y="61"/>
                            </a:lnTo>
                            <a:lnTo>
                              <a:pt x="87" y="65"/>
                            </a:lnTo>
                            <a:lnTo>
                              <a:pt x="97" y="76"/>
                            </a:lnTo>
                            <a:lnTo>
                              <a:pt x="104" y="86"/>
                            </a:lnTo>
                            <a:lnTo>
                              <a:pt x="104" y="87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84" name="Group 37"/>
                <p:cNvGrpSpPr/>
                <p:nvPr/>
              </p:nvGrpSpPr>
              <p:grpSpPr>
                <a:xfrm>
                  <a:off x="495360" y="1220760"/>
                  <a:ext cx="384120" cy="516240"/>
                  <a:chOff x="495360" y="1220760"/>
                  <a:chExt cx="384120" cy="516240"/>
                </a:xfrm>
              </p:grpSpPr>
              <p:grpSp>
                <p:nvGrpSpPr>
                  <p:cNvPr id="85" name="Group 38"/>
                  <p:cNvGrpSpPr/>
                  <p:nvPr/>
                </p:nvGrpSpPr>
                <p:grpSpPr>
                  <a:xfrm>
                    <a:off x="563760" y="1220760"/>
                    <a:ext cx="304560" cy="285840"/>
                    <a:chOff x="563760" y="1220760"/>
                    <a:chExt cx="304560" cy="285840"/>
                  </a:xfrm>
                </p:grpSpPr>
                <p:sp>
                  <p:nvSpPr>
                    <p:cNvPr id="86" name="Freeform 39"/>
                    <p:cNvSpPr/>
                    <p:nvPr/>
                  </p:nvSpPr>
                  <p:spPr>
                    <a:xfrm>
                      <a:off x="592200" y="1220760"/>
                      <a:ext cx="271440" cy="285840"/>
                    </a:xfrm>
                    <a:custGeom>
                      <a:avLst/>
                      <a:gdLst>
                        <a:gd name="textAreaLeft" fmla="*/ 0 w 271440"/>
                        <a:gd name="textAreaRight" fmla="*/ 271800 w 271440"/>
                        <a:gd name="textAreaTop" fmla="*/ 0 h 285840"/>
                        <a:gd name="textAreaBottom" fmla="*/ 286200 h 285840"/>
                      </a:gdLst>
                      <a:ahLst/>
                      <a:rect l="textAreaLeft" t="textAreaTop" r="textAreaRight" b="textAreaBottom"/>
                      <a:pathLst>
                        <a:path w="859" h="901">
                          <a:moveTo>
                            <a:pt x="106" y="714"/>
                          </a:moveTo>
                          <a:lnTo>
                            <a:pt x="147" y="637"/>
                          </a:lnTo>
                          <a:lnTo>
                            <a:pt x="147" y="614"/>
                          </a:lnTo>
                          <a:lnTo>
                            <a:pt x="132" y="583"/>
                          </a:lnTo>
                          <a:lnTo>
                            <a:pt x="109" y="550"/>
                          </a:lnTo>
                          <a:lnTo>
                            <a:pt x="67" y="518"/>
                          </a:lnTo>
                          <a:lnTo>
                            <a:pt x="40" y="475"/>
                          </a:lnTo>
                          <a:lnTo>
                            <a:pt x="27" y="437"/>
                          </a:lnTo>
                          <a:lnTo>
                            <a:pt x="10" y="408"/>
                          </a:lnTo>
                          <a:lnTo>
                            <a:pt x="10" y="375"/>
                          </a:lnTo>
                          <a:lnTo>
                            <a:pt x="0" y="298"/>
                          </a:lnTo>
                          <a:lnTo>
                            <a:pt x="10" y="239"/>
                          </a:lnTo>
                          <a:lnTo>
                            <a:pt x="29" y="188"/>
                          </a:lnTo>
                          <a:lnTo>
                            <a:pt x="55" y="133"/>
                          </a:lnTo>
                          <a:lnTo>
                            <a:pt x="86" y="102"/>
                          </a:lnTo>
                          <a:lnTo>
                            <a:pt x="145" y="64"/>
                          </a:lnTo>
                          <a:lnTo>
                            <a:pt x="209" y="38"/>
                          </a:lnTo>
                          <a:lnTo>
                            <a:pt x="276" y="15"/>
                          </a:lnTo>
                          <a:lnTo>
                            <a:pt x="362" y="2"/>
                          </a:lnTo>
                          <a:lnTo>
                            <a:pt x="423" y="0"/>
                          </a:lnTo>
                          <a:lnTo>
                            <a:pt x="484" y="5"/>
                          </a:lnTo>
                          <a:lnTo>
                            <a:pt x="561" y="20"/>
                          </a:lnTo>
                          <a:lnTo>
                            <a:pt x="632" y="43"/>
                          </a:lnTo>
                          <a:lnTo>
                            <a:pt x="683" y="69"/>
                          </a:lnTo>
                          <a:lnTo>
                            <a:pt x="747" y="118"/>
                          </a:lnTo>
                          <a:lnTo>
                            <a:pt x="790" y="176"/>
                          </a:lnTo>
                          <a:lnTo>
                            <a:pt x="823" y="229"/>
                          </a:lnTo>
                          <a:lnTo>
                            <a:pt x="839" y="268"/>
                          </a:lnTo>
                          <a:lnTo>
                            <a:pt x="859" y="336"/>
                          </a:lnTo>
                          <a:lnTo>
                            <a:pt x="859" y="388"/>
                          </a:lnTo>
                          <a:lnTo>
                            <a:pt x="846" y="463"/>
                          </a:lnTo>
                          <a:lnTo>
                            <a:pt x="826" y="524"/>
                          </a:lnTo>
                          <a:lnTo>
                            <a:pt x="797" y="575"/>
                          </a:lnTo>
                          <a:lnTo>
                            <a:pt x="772" y="604"/>
                          </a:lnTo>
                          <a:lnTo>
                            <a:pt x="735" y="637"/>
                          </a:lnTo>
                          <a:lnTo>
                            <a:pt x="674" y="662"/>
                          </a:lnTo>
                          <a:lnTo>
                            <a:pt x="629" y="678"/>
                          </a:lnTo>
                          <a:lnTo>
                            <a:pt x="577" y="693"/>
                          </a:lnTo>
                          <a:lnTo>
                            <a:pt x="497" y="701"/>
                          </a:lnTo>
                          <a:lnTo>
                            <a:pt x="428" y="714"/>
                          </a:lnTo>
                          <a:lnTo>
                            <a:pt x="382" y="723"/>
                          </a:lnTo>
                          <a:lnTo>
                            <a:pt x="369" y="745"/>
                          </a:lnTo>
                          <a:lnTo>
                            <a:pt x="372" y="772"/>
                          </a:lnTo>
                          <a:lnTo>
                            <a:pt x="369" y="798"/>
                          </a:lnTo>
                          <a:lnTo>
                            <a:pt x="359" y="817"/>
                          </a:lnTo>
                          <a:lnTo>
                            <a:pt x="354" y="853"/>
                          </a:lnTo>
                          <a:lnTo>
                            <a:pt x="356" y="901"/>
                          </a:lnTo>
                          <a:lnTo>
                            <a:pt x="298" y="821"/>
                          </a:lnTo>
                          <a:lnTo>
                            <a:pt x="222" y="756"/>
                          </a:lnTo>
                          <a:lnTo>
                            <a:pt x="158" y="726"/>
                          </a:lnTo>
                          <a:lnTo>
                            <a:pt x="106" y="714"/>
                          </a:lnTo>
                          <a:close/>
                        </a:path>
                      </a:pathLst>
                    </a:custGeom>
                    <a:solidFill>
                      <a:srgbClr val="e0a08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87" name="Group 40"/>
                    <p:cNvGrpSpPr/>
                    <p:nvPr/>
                  </p:nvGrpSpPr>
                  <p:grpSpPr>
                    <a:xfrm>
                      <a:off x="563760" y="1220760"/>
                      <a:ext cx="255600" cy="196920"/>
                      <a:chOff x="563760" y="1220760"/>
                      <a:chExt cx="255600" cy="196920"/>
                    </a:xfrm>
                  </p:grpSpPr>
                  <p:grpSp>
                    <p:nvGrpSpPr>
                      <p:cNvPr id="88" name="Group 41"/>
                      <p:cNvGrpSpPr/>
                      <p:nvPr/>
                    </p:nvGrpSpPr>
                    <p:grpSpPr>
                      <a:xfrm>
                        <a:off x="631800" y="1220760"/>
                        <a:ext cx="176400" cy="60480"/>
                        <a:chOff x="631800" y="1220760"/>
                        <a:chExt cx="176400" cy="60480"/>
                      </a:xfrm>
                    </p:grpSpPr>
                    <p:sp>
                      <p:nvSpPr>
                        <p:cNvPr id="89" name="Freeform 42"/>
                        <p:cNvSpPr/>
                        <p:nvPr/>
                      </p:nvSpPr>
                      <p:spPr>
                        <a:xfrm>
                          <a:off x="646200" y="1230480"/>
                          <a:ext cx="162000" cy="50760"/>
                        </a:xfrm>
                        <a:custGeom>
                          <a:avLst/>
                          <a:gdLst>
                            <a:gd name="textAreaLeft" fmla="*/ 0 w 162000"/>
                            <a:gd name="textAreaRight" fmla="*/ 162360 w 162000"/>
                            <a:gd name="textAreaTop" fmla="*/ 0 h 50760"/>
                            <a:gd name="textAreaBottom" fmla="*/ 51120 h 50760"/>
                          </a:gdLst>
                          <a:ahLst/>
                          <a:rect l="textAreaLeft" t="textAreaTop" r="textAreaRight" b="textAreaBottom"/>
                          <a:pathLst>
                            <a:path w="510" h="160">
                              <a:moveTo>
                                <a:pt x="0" y="160"/>
                              </a:moveTo>
                              <a:lnTo>
                                <a:pt x="39" y="110"/>
                              </a:lnTo>
                              <a:lnTo>
                                <a:pt x="90" y="71"/>
                              </a:lnTo>
                              <a:lnTo>
                                <a:pt x="151" y="38"/>
                              </a:lnTo>
                              <a:lnTo>
                                <a:pt x="212" y="19"/>
                              </a:lnTo>
                              <a:lnTo>
                                <a:pt x="279" y="5"/>
                              </a:lnTo>
                              <a:lnTo>
                                <a:pt x="366" y="0"/>
                              </a:lnTo>
                              <a:lnTo>
                                <a:pt x="430" y="10"/>
                              </a:lnTo>
                              <a:lnTo>
                                <a:pt x="510" y="36"/>
                              </a:lnTo>
                            </a:path>
                          </a:pathLst>
                        </a:custGeom>
                        <a:noFill/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20" bIns="4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90" name="Freeform 43"/>
                        <p:cNvSpPr/>
                        <p:nvPr/>
                      </p:nvSpPr>
                      <p:spPr>
                        <a:xfrm>
                          <a:off x="631800" y="1220760"/>
                          <a:ext cx="166680" cy="55800"/>
                        </a:xfrm>
                        <a:custGeom>
                          <a:avLst/>
                          <a:gdLst>
                            <a:gd name="textAreaLeft" fmla="*/ 0 w 166680"/>
                            <a:gd name="textAreaRight" fmla="*/ 167040 w 166680"/>
                            <a:gd name="textAreaTop" fmla="*/ 0 h 55800"/>
                            <a:gd name="textAreaBottom" fmla="*/ 56160 h 55800"/>
                          </a:gdLst>
                          <a:ahLst/>
                          <a:rect l="textAreaLeft" t="textAreaTop" r="textAreaRight" b="textAreaBottom"/>
                          <a:pathLst>
                            <a:path w="526" h="176">
                              <a:moveTo>
                                <a:pt x="0" y="176"/>
                              </a:moveTo>
                              <a:lnTo>
                                <a:pt x="25" y="125"/>
                              </a:lnTo>
                              <a:lnTo>
                                <a:pt x="56" y="89"/>
                              </a:lnTo>
                              <a:lnTo>
                                <a:pt x="90" y="60"/>
                              </a:lnTo>
                              <a:lnTo>
                                <a:pt x="151" y="28"/>
                              </a:lnTo>
                              <a:lnTo>
                                <a:pt x="231" y="5"/>
                              </a:lnTo>
                              <a:lnTo>
                                <a:pt x="305" y="0"/>
                              </a:lnTo>
                              <a:lnTo>
                                <a:pt x="385" y="8"/>
                              </a:lnTo>
                              <a:lnTo>
                                <a:pt x="458" y="31"/>
                              </a:lnTo>
                              <a:lnTo>
                                <a:pt x="494" y="41"/>
                              </a:lnTo>
                              <a:lnTo>
                                <a:pt x="526" y="51"/>
                              </a:lnTo>
                            </a:path>
                          </a:pathLst>
                        </a:custGeom>
                        <a:noFill/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360" bIns="9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91" name="Group 44"/>
                      <p:cNvGrpSpPr/>
                      <p:nvPr/>
                    </p:nvGrpSpPr>
                    <p:grpSpPr>
                      <a:xfrm>
                        <a:off x="563760" y="1257480"/>
                        <a:ext cx="95040" cy="96840"/>
                        <a:chOff x="563760" y="1257480"/>
                        <a:chExt cx="95040" cy="96840"/>
                      </a:xfrm>
                    </p:grpSpPr>
                    <p:sp>
                      <p:nvSpPr>
                        <p:cNvPr id="92" name="Freeform 45"/>
                        <p:cNvSpPr/>
                        <p:nvPr/>
                      </p:nvSpPr>
                      <p:spPr>
                        <a:xfrm>
                          <a:off x="563760" y="1257480"/>
                          <a:ext cx="95040" cy="96840"/>
                        </a:xfrm>
                        <a:custGeom>
                          <a:avLst/>
                          <a:gdLst>
                            <a:gd name="textAreaLeft" fmla="*/ 0 w 95040"/>
                            <a:gd name="textAreaRight" fmla="*/ 95400 w 95040"/>
                            <a:gd name="textAreaTop" fmla="*/ 0 h 96840"/>
                            <a:gd name="textAreaBottom" fmla="*/ 97200 h 96840"/>
                          </a:gdLst>
                          <a:ahLst/>
                          <a:rect l="textAreaLeft" t="textAreaTop" r="textAreaRight" b="textAreaBottom"/>
                          <a:pathLst>
                            <a:path w="302" h="305">
                              <a:moveTo>
                                <a:pt x="56" y="290"/>
                              </a:moveTo>
                              <a:lnTo>
                                <a:pt x="17" y="253"/>
                              </a:lnTo>
                              <a:lnTo>
                                <a:pt x="0" y="200"/>
                              </a:lnTo>
                              <a:lnTo>
                                <a:pt x="9" y="133"/>
                              </a:lnTo>
                              <a:lnTo>
                                <a:pt x="32" y="83"/>
                              </a:lnTo>
                              <a:lnTo>
                                <a:pt x="50" y="58"/>
                              </a:lnTo>
                              <a:lnTo>
                                <a:pt x="71" y="25"/>
                              </a:lnTo>
                              <a:lnTo>
                                <a:pt x="81" y="14"/>
                              </a:lnTo>
                              <a:lnTo>
                                <a:pt x="95" y="2"/>
                              </a:lnTo>
                              <a:lnTo>
                                <a:pt x="110" y="0"/>
                              </a:lnTo>
                              <a:lnTo>
                                <a:pt x="119" y="13"/>
                              </a:lnTo>
                              <a:lnTo>
                                <a:pt x="126" y="27"/>
                              </a:lnTo>
                              <a:lnTo>
                                <a:pt x="132" y="17"/>
                              </a:lnTo>
                              <a:lnTo>
                                <a:pt x="149" y="15"/>
                              </a:lnTo>
                              <a:lnTo>
                                <a:pt x="159" y="27"/>
                              </a:lnTo>
                              <a:lnTo>
                                <a:pt x="163" y="45"/>
                              </a:lnTo>
                              <a:lnTo>
                                <a:pt x="167" y="69"/>
                              </a:lnTo>
                              <a:lnTo>
                                <a:pt x="180" y="63"/>
                              </a:lnTo>
                              <a:lnTo>
                                <a:pt x="194" y="70"/>
                              </a:lnTo>
                              <a:lnTo>
                                <a:pt x="197" y="77"/>
                              </a:lnTo>
                              <a:lnTo>
                                <a:pt x="196" y="90"/>
                              </a:lnTo>
                              <a:lnTo>
                                <a:pt x="194" y="103"/>
                              </a:lnTo>
                              <a:lnTo>
                                <a:pt x="202" y="95"/>
                              </a:lnTo>
                              <a:lnTo>
                                <a:pt x="215" y="88"/>
                              </a:lnTo>
                              <a:lnTo>
                                <a:pt x="236" y="90"/>
                              </a:lnTo>
                              <a:lnTo>
                                <a:pt x="237" y="101"/>
                              </a:lnTo>
                              <a:lnTo>
                                <a:pt x="238" y="111"/>
                              </a:lnTo>
                              <a:lnTo>
                                <a:pt x="238" y="123"/>
                              </a:lnTo>
                              <a:lnTo>
                                <a:pt x="251" y="121"/>
                              </a:lnTo>
                              <a:lnTo>
                                <a:pt x="264" y="126"/>
                              </a:lnTo>
                              <a:lnTo>
                                <a:pt x="271" y="136"/>
                              </a:lnTo>
                              <a:lnTo>
                                <a:pt x="274" y="152"/>
                              </a:lnTo>
                              <a:lnTo>
                                <a:pt x="286" y="157"/>
                              </a:lnTo>
                              <a:lnTo>
                                <a:pt x="293" y="175"/>
                              </a:lnTo>
                              <a:lnTo>
                                <a:pt x="290" y="195"/>
                              </a:lnTo>
                              <a:lnTo>
                                <a:pt x="286" y="228"/>
                              </a:lnTo>
                              <a:lnTo>
                                <a:pt x="289" y="247"/>
                              </a:lnTo>
                              <a:lnTo>
                                <a:pt x="296" y="260"/>
                              </a:lnTo>
                              <a:lnTo>
                                <a:pt x="302" y="273"/>
                              </a:lnTo>
                              <a:lnTo>
                                <a:pt x="302" y="289"/>
                              </a:lnTo>
                              <a:lnTo>
                                <a:pt x="293" y="302"/>
                              </a:lnTo>
                              <a:lnTo>
                                <a:pt x="283" y="305"/>
                              </a:lnTo>
                              <a:lnTo>
                                <a:pt x="271" y="305"/>
                              </a:lnTo>
                              <a:lnTo>
                                <a:pt x="259" y="303"/>
                              </a:lnTo>
                              <a:lnTo>
                                <a:pt x="245" y="290"/>
                              </a:lnTo>
                              <a:lnTo>
                                <a:pt x="237" y="279"/>
                              </a:lnTo>
                              <a:lnTo>
                                <a:pt x="235" y="273"/>
                              </a:lnTo>
                              <a:lnTo>
                                <a:pt x="222" y="277"/>
                              </a:lnTo>
                              <a:lnTo>
                                <a:pt x="206" y="276"/>
                              </a:lnTo>
                              <a:lnTo>
                                <a:pt x="196" y="271"/>
                              </a:lnTo>
                              <a:lnTo>
                                <a:pt x="193" y="266"/>
                              </a:lnTo>
                              <a:lnTo>
                                <a:pt x="180" y="266"/>
                              </a:lnTo>
                              <a:lnTo>
                                <a:pt x="172" y="263"/>
                              </a:lnTo>
                              <a:lnTo>
                                <a:pt x="167" y="261"/>
                              </a:lnTo>
                              <a:lnTo>
                                <a:pt x="157" y="261"/>
                              </a:lnTo>
                              <a:lnTo>
                                <a:pt x="149" y="259"/>
                              </a:lnTo>
                              <a:lnTo>
                                <a:pt x="142" y="247"/>
                              </a:lnTo>
                              <a:lnTo>
                                <a:pt x="137" y="240"/>
                              </a:lnTo>
                              <a:lnTo>
                                <a:pt x="132" y="247"/>
                              </a:lnTo>
                              <a:lnTo>
                                <a:pt x="127" y="259"/>
                              </a:lnTo>
                              <a:lnTo>
                                <a:pt x="118" y="263"/>
                              </a:lnTo>
                              <a:lnTo>
                                <a:pt x="107" y="264"/>
                              </a:lnTo>
                              <a:lnTo>
                                <a:pt x="101" y="264"/>
                              </a:lnTo>
                              <a:lnTo>
                                <a:pt x="98" y="271"/>
                              </a:lnTo>
                              <a:lnTo>
                                <a:pt x="90" y="279"/>
                              </a:lnTo>
                              <a:lnTo>
                                <a:pt x="81" y="290"/>
                              </a:lnTo>
                              <a:lnTo>
                                <a:pt x="56" y="29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8040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grpSp>
                      <p:nvGrpSpPr>
                        <p:cNvPr id="93" name="Group 46"/>
                        <p:cNvGrpSpPr/>
                        <p:nvPr/>
                      </p:nvGrpSpPr>
                      <p:grpSpPr>
                        <a:xfrm>
                          <a:off x="568440" y="1262160"/>
                          <a:ext cx="73080" cy="85680"/>
                          <a:chOff x="568440" y="1262160"/>
                          <a:chExt cx="73080" cy="85680"/>
                        </a:xfrm>
                      </p:grpSpPr>
                      <p:sp>
                        <p:nvSpPr>
                          <p:cNvPr id="94" name="Freeform 47"/>
                          <p:cNvSpPr/>
                          <p:nvPr/>
                        </p:nvSpPr>
                        <p:spPr>
                          <a:xfrm>
                            <a:off x="625680" y="1319400"/>
                            <a:ext cx="15840" cy="17280"/>
                          </a:xfrm>
                          <a:custGeom>
                            <a:avLst/>
                            <a:gdLst>
                              <a:gd name="textAreaLeft" fmla="*/ 0 w 15840"/>
                              <a:gd name="textAreaRight" fmla="*/ 16200 w 15840"/>
                              <a:gd name="textAreaTop" fmla="*/ 0 h 17280"/>
                              <a:gd name="textAreaBottom" fmla="*/ 17640 h 17280"/>
                            </a:gdLst>
                            <a:ahLst/>
                            <a:rect l="textAreaLeft" t="textAreaTop" r="textAreaRight" b="textAreaBottom"/>
                            <a:pathLst>
                              <a:path w="46" h="56">
                                <a:moveTo>
                                  <a:pt x="13" y="56"/>
                                </a:moveTo>
                                <a:lnTo>
                                  <a:pt x="10" y="27"/>
                                </a:lnTo>
                                <a:lnTo>
                                  <a:pt x="19" y="12"/>
                                </a:lnTo>
                                <a:lnTo>
                                  <a:pt x="46" y="0"/>
                                </a:lnTo>
                                <a:lnTo>
                                  <a:pt x="28" y="2"/>
                                </a:lnTo>
                                <a:lnTo>
                                  <a:pt x="7" y="8"/>
                                </a:lnTo>
                                <a:lnTo>
                                  <a:pt x="0" y="22"/>
                                </a:lnTo>
                                <a:lnTo>
                                  <a:pt x="13" y="5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160" bIns="-291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95" name="Freeform 48"/>
                          <p:cNvSpPr/>
                          <p:nvPr/>
                        </p:nvSpPr>
                        <p:spPr>
                          <a:xfrm>
                            <a:off x="598680" y="1290960"/>
                            <a:ext cx="23760" cy="42840"/>
                          </a:xfrm>
                          <a:custGeom>
                            <a:avLst/>
                            <a:gdLst>
                              <a:gd name="textAreaLeft" fmla="*/ 0 w 23760"/>
                              <a:gd name="textAreaRight" fmla="*/ 24120 w 23760"/>
                              <a:gd name="textAreaTop" fmla="*/ 0 h 42840"/>
                              <a:gd name="textAreaBottom" fmla="*/ 43200 h 42840"/>
                            </a:gdLst>
                            <a:ahLst/>
                            <a:rect l="textAreaLeft" t="textAreaTop" r="textAreaRight" b="textAreaBottom"/>
                            <a:pathLst>
                              <a:path w="73" h="137">
                                <a:moveTo>
                                  <a:pt x="30" y="137"/>
                                </a:moveTo>
                                <a:lnTo>
                                  <a:pt x="17" y="107"/>
                                </a:lnTo>
                                <a:lnTo>
                                  <a:pt x="17" y="65"/>
                                </a:lnTo>
                                <a:lnTo>
                                  <a:pt x="42" y="33"/>
                                </a:lnTo>
                                <a:lnTo>
                                  <a:pt x="73" y="0"/>
                                </a:lnTo>
                                <a:lnTo>
                                  <a:pt x="54" y="19"/>
                                </a:lnTo>
                                <a:lnTo>
                                  <a:pt x="23" y="42"/>
                                </a:lnTo>
                                <a:lnTo>
                                  <a:pt x="0" y="61"/>
                                </a:lnTo>
                                <a:lnTo>
                                  <a:pt x="5" y="77"/>
                                </a:lnTo>
                                <a:lnTo>
                                  <a:pt x="4" y="96"/>
                                </a:lnTo>
                                <a:lnTo>
                                  <a:pt x="4" y="117"/>
                                </a:lnTo>
                                <a:lnTo>
                                  <a:pt x="30" y="13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00" bIns="-36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96" name="Freeform 49"/>
                          <p:cNvSpPr/>
                          <p:nvPr/>
                        </p:nvSpPr>
                        <p:spPr>
                          <a:xfrm>
                            <a:off x="568440" y="1314720"/>
                            <a:ext cx="15840" cy="33120"/>
                          </a:xfrm>
                          <a:custGeom>
                            <a:avLst/>
                            <a:gdLst>
                              <a:gd name="textAreaLeft" fmla="*/ 0 w 15840"/>
                              <a:gd name="textAreaRight" fmla="*/ 16200 w 15840"/>
                              <a:gd name="textAreaTop" fmla="*/ 0 h 33120"/>
                              <a:gd name="textAreaBottom" fmla="*/ 33480 h 33120"/>
                            </a:gdLst>
                            <a:ahLst/>
                            <a:rect l="textAreaLeft" t="textAreaTop" r="textAreaRight" b="textAreaBottom"/>
                            <a:pathLst>
                              <a:path w="50" h="106">
                                <a:moveTo>
                                  <a:pt x="22" y="88"/>
                                </a:moveTo>
                                <a:lnTo>
                                  <a:pt x="0" y="56"/>
                                </a:lnTo>
                                <a:lnTo>
                                  <a:pt x="9" y="33"/>
                                </a:lnTo>
                                <a:lnTo>
                                  <a:pt x="28" y="0"/>
                                </a:lnTo>
                                <a:lnTo>
                                  <a:pt x="12" y="57"/>
                                </a:lnTo>
                                <a:lnTo>
                                  <a:pt x="24" y="82"/>
                                </a:lnTo>
                                <a:lnTo>
                                  <a:pt x="50" y="106"/>
                                </a:lnTo>
                                <a:lnTo>
                                  <a:pt x="22" y="88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3320" bIns="-133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97" name="Freeform 50"/>
                          <p:cNvSpPr/>
                          <p:nvPr/>
                        </p:nvSpPr>
                        <p:spPr>
                          <a:xfrm>
                            <a:off x="581040" y="1262160"/>
                            <a:ext cx="20520" cy="34920"/>
                          </a:xfrm>
                          <a:custGeom>
                            <a:avLst/>
                            <a:gdLst>
                              <a:gd name="textAreaLeft" fmla="*/ 0 w 20520"/>
                              <a:gd name="textAreaRight" fmla="*/ 20880 w 20520"/>
                              <a:gd name="textAreaTop" fmla="*/ 0 h 34920"/>
                              <a:gd name="textAreaBottom" fmla="*/ 35280 h 34920"/>
                            </a:gdLst>
                            <a:ahLst/>
                            <a:rect l="textAreaLeft" t="textAreaTop" r="textAreaRight" b="textAreaBottom"/>
                            <a:pathLst>
                              <a:path w="68" h="106">
                                <a:moveTo>
                                  <a:pt x="68" y="0"/>
                                </a:moveTo>
                                <a:lnTo>
                                  <a:pt x="36" y="26"/>
                                </a:lnTo>
                                <a:lnTo>
                                  <a:pt x="9" y="53"/>
                                </a:lnTo>
                                <a:lnTo>
                                  <a:pt x="5" y="74"/>
                                </a:lnTo>
                                <a:lnTo>
                                  <a:pt x="0" y="106"/>
                                </a:lnTo>
                                <a:lnTo>
                                  <a:pt x="11" y="81"/>
                                </a:lnTo>
                                <a:lnTo>
                                  <a:pt x="20" y="55"/>
                                </a:lnTo>
                                <a:lnTo>
                                  <a:pt x="49" y="23"/>
                                </a:lnTo>
                                <a:lnTo>
                                  <a:pt x="68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1520" bIns="-11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98" name="Freeform 51"/>
                          <p:cNvSpPr/>
                          <p:nvPr/>
                        </p:nvSpPr>
                        <p:spPr>
                          <a:xfrm>
                            <a:off x="577800" y="1325880"/>
                            <a:ext cx="12960" cy="21960"/>
                          </a:xfrm>
                          <a:custGeom>
                            <a:avLst/>
                            <a:gdLst>
                              <a:gd name="textAreaLeft" fmla="*/ 0 w 12960"/>
                              <a:gd name="textAreaRight" fmla="*/ 13320 w 12960"/>
                              <a:gd name="textAreaTop" fmla="*/ 0 h 21960"/>
                              <a:gd name="textAreaBottom" fmla="*/ 22320 h 21960"/>
                            </a:gdLst>
                            <a:ahLst/>
                            <a:rect l="textAreaLeft" t="textAreaTop" r="textAreaRight" b="textAreaBottom"/>
                            <a:pathLst>
                              <a:path w="38" h="67">
                                <a:moveTo>
                                  <a:pt x="15" y="67"/>
                                </a:moveTo>
                                <a:lnTo>
                                  <a:pt x="5" y="45"/>
                                </a:lnTo>
                                <a:lnTo>
                                  <a:pt x="0" y="33"/>
                                </a:lnTo>
                                <a:lnTo>
                                  <a:pt x="11" y="14"/>
                                </a:lnTo>
                                <a:lnTo>
                                  <a:pt x="35" y="0"/>
                                </a:lnTo>
                                <a:lnTo>
                                  <a:pt x="21" y="19"/>
                                </a:lnTo>
                                <a:lnTo>
                                  <a:pt x="13" y="39"/>
                                </a:lnTo>
                                <a:lnTo>
                                  <a:pt x="25" y="45"/>
                                </a:lnTo>
                                <a:lnTo>
                                  <a:pt x="38" y="30"/>
                                </a:lnTo>
                                <a:lnTo>
                                  <a:pt x="32" y="44"/>
                                </a:lnTo>
                                <a:lnTo>
                                  <a:pt x="15" y="6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480" bIns="-244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99" name="Group 52"/>
                      <p:cNvGrpSpPr/>
                      <p:nvPr/>
                    </p:nvGrpSpPr>
                    <p:grpSpPr>
                      <a:xfrm>
                        <a:off x="716040" y="1368720"/>
                        <a:ext cx="103320" cy="48960"/>
                        <a:chOff x="716040" y="1368720"/>
                        <a:chExt cx="103320" cy="48960"/>
                      </a:xfrm>
                    </p:grpSpPr>
                    <p:sp>
                      <p:nvSpPr>
                        <p:cNvPr id="100" name="Freeform 53"/>
                        <p:cNvSpPr/>
                        <p:nvPr/>
                      </p:nvSpPr>
                      <p:spPr>
                        <a:xfrm>
                          <a:off x="716040" y="1368720"/>
                          <a:ext cx="103320" cy="48960"/>
                        </a:xfrm>
                        <a:custGeom>
                          <a:avLst/>
                          <a:gdLst>
                            <a:gd name="textAreaLeft" fmla="*/ 0 w 103320"/>
                            <a:gd name="textAreaRight" fmla="*/ 103680 w 103320"/>
                            <a:gd name="textAreaTop" fmla="*/ 0 h 48960"/>
                            <a:gd name="textAreaBottom" fmla="*/ 49320 h 48960"/>
                          </a:gdLst>
                          <a:ahLst/>
                          <a:rect l="textAreaLeft" t="textAreaTop" r="textAreaRight" b="textAreaBottom"/>
                          <a:pathLst>
                            <a:path w="324" h="159">
                              <a:moveTo>
                                <a:pt x="19" y="39"/>
                              </a:moveTo>
                              <a:lnTo>
                                <a:pt x="78" y="42"/>
                              </a:lnTo>
                              <a:lnTo>
                                <a:pt x="119" y="41"/>
                              </a:lnTo>
                              <a:lnTo>
                                <a:pt x="168" y="19"/>
                              </a:lnTo>
                              <a:lnTo>
                                <a:pt x="209" y="2"/>
                              </a:lnTo>
                              <a:lnTo>
                                <a:pt x="246" y="0"/>
                              </a:lnTo>
                              <a:lnTo>
                                <a:pt x="263" y="15"/>
                              </a:lnTo>
                              <a:lnTo>
                                <a:pt x="288" y="25"/>
                              </a:lnTo>
                              <a:lnTo>
                                <a:pt x="317" y="28"/>
                              </a:lnTo>
                              <a:lnTo>
                                <a:pt x="324" y="42"/>
                              </a:lnTo>
                              <a:lnTo>
                                <a:pt x="321" y="72"/>
                              </a:lnTo>
                              <a:lnTo>
                                <a:pt x="315" y="92"/>
                              </a:lnTo>
                              <a:lnTo>
                                <a:pt x="301" y="108"/>
                              </a:lnTo>
                              <a:lnTo>
                                <a:pt x="279" y="128"/>
                              </a:lnTo>
                              <a:lnTo>
                                <a:pt x="269" y="145"/>
                              </a:lnTo>
                              <a:lnTo>
                                <a:pt x="254" y="158"/>
                              </a:lnTo>
                              <a:lnTo>
                                <a:pt x="241" y="159"/>
                              </a:lnTo>
                              <a:lnTo>
                                <a:pt x="222" y="143"/>
                              </a:lnTo>
                              <a:lnTo>
                                <a:pt x="211" y="150"/>
                              </a:lnTo>
                              <a:lnTo>
                                <a:pt x="192" y="151"/>
                              </a:lnTo>
                              <a:lnTo>
                                <a:pt x="179" y="127"/>
                              </a:lnTo>
                              <a:lnTo>
                                <a:pt x="170" y="130"/>
                              </a:lnTo>
                              <a:lnTo>
                                <a:pt x="158" y="130"/>
                              </a:lnTo>
                              <a:lnTo>
                                <a:pt x="151" y="118"/>
                              </a:lnTo>
                              <a:lnTo>
                                <a:pt x="136" y="127"/>
                              </a:lnTo>
                              <a:lnTo>
                                <a:pt x="123" y="133"/>
                              </a:lnTo>
                              <a:lnTo>
                                <a:pt x="106" y="127"/>
                              </a:lnTo>
                              <a:lnTo>
                                <a:pt x="103" y="115"/>
                              </a:lnTo>
                              <a:lnTo>
                                <a:pt x="101" y="101"/>
                              </a:lnTo>
                              <a:lnTo>
                                <a:pt x="75" y="104"/>
                              </a:lnTo>
                              <a:lnTo>
                                <a:pt x="54" y="108"/>
                              </a:lnTo>
                              <a:lnTo>
                                <a:pt x="50" y="101"/>
                              </a:lnTo>
                              <a:lnTo>
                                <a:pt x="32" y="101"/>
                              </a:lnTo>
                              <a:lnTo>
                                <a:pt x="8" y="83"/>
                              </a:lnTo>
                              <a:lnTo>
                                <a:pt x="0" y="65"/>
                              </a:lnTo>
                              <a:lnTo>
                                <a:pt x="4" y="56"/>
                              </a:lnTo>
                              <a:lnTo>
                                <a:pt x="1" y="41"/>
                              </a:lnTo>
                              <a:lnTo>
                                <a:pt x="19" y="3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8040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20" bIns="25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grpSp>
                      <p:nvGrpSpPr>
                        <p:cNvPr id="101" name="Group 54"/>
                        <p:cNvGrpSpPr/>
                        <p:nvPr/>
                      </p:nvGrpSpPr>
                      <p:grpSpPr>
                        <a:xfrm>
                          <a:off x="730440" y="1376640"/>
                          <a:ext cx="77760" cy="37800"/>
                          <a:chOff x="730440" y="1376640"/>
                          <a:chExt cx="77760" cy="37800"/>
                        </a:xfrm>
                      </p:grpSpPr>
                      <p:sp>
                        <p:nvSpPr>
                          <p:cNvPr id="102" name="Freeform 55"/>
                          <p:cNvSpPr/>
                          <p:nvPr/>
                        </p:nvSpPr>
                        <p:spPr>
                          <a:xfrm>
                            <a:off x="730440" y="1389240"/>
                            <a:ext cx="23760" cy="11160"/>
                          </a:xfrm>
                          <a:custGeom>
                            <a:avLst/>
                            <a:gdLst>
                              <a:gd name="textAreaLeft" fmla="*/ 0 w 23760"/>
                              <a:gd name="textAreaRight" fmla="*/ 24120 w 23760"/>
                              <a:gd name="textAreaTop" fmla="*/ 0 h 11160"/>
                              <a:gd name="textAreaBottom" fmla="*/ 11520 h 11160"/>
                            </a:gdLst>
                            <a:ahLst/>
                            <a:rect l="textAreaLeft" t="textAreaTop" r="textAreaRight" b="textAreaBottom"/>
                            <a:pathLst>
                              <a:path w="75" h="36">
                                <a:moveTo>
                                  <a:pt x="0" y="36"/>
                                </a:moveTo>
                                <a:lnTo>
                                  <a:pt x="39" y="24"/>
                                </a:lnTo>
                                <a:lnTo>
                                  <a:pt x="75" y="0"/>
                                </a:lnTo>
                                <a:lnTo>
                                  <a:pt x="61" y="18"/>
                                </a:lnTo>
                                <a:lnTo>
                                  <a:pt x="45" y="30"/>
                                </a:lnTo>
                                <a:lnTo>
                                  <a:pt x="0" y="3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5280" bIns="-352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103" name="Freeform 56"/>
                          <p:cNvSpPr/>
                          <p:nvPr/>
                        </p:nvSpPr>
                        <p:spPr>
                          <a:xfrm>
                            <a:off x="762120" y="1376640"/>
                            <a:ext cx="19080" cy="29880"/>
                          </a:xfrm>
                          <a:custGeom>
                            <a:avLst/>
                            <a:gdLst>
                              <a:gd name="textAreaLeft" fmla="*/ 0 w 19080"/>
                              <a:gd name="textAreaRight" fmla="*/ 19440 w 19080"/>
                              <a:gd name="textAreaTop" fmla="*/ 0 h 29880"/>
                              <a:gd name="textAreaBottom" fmla="*/ 30240 h 29880"/>
                            </a:gdLst>
                            <a:ahLst/>
                            <a:rect l="textAreaLeft" t="textAreaTop" r="textAreaRight" b="textAreaBottom"/>
                            <a:pathLst>
                              <a:path w="61" h="97">
                                <a:moveTo>
                                  <a:pt x="0" y="97"/>
                                </a:moveTo>
                                <a:lnTo>
                                  <a:pt x="21" y="65"/>
                                </a:lnTo>
                                <a:lnTo>
                                  <a:pt x="61" y="0"/>
                                </a:lnTo>
                                <a:lnTo>
                                  <a:pt x="49" y="39"/>
                                </a:lnTo>
                                <a:lnTo>
                                  <a:pt x="42" y="67"/>
                                </a:lnTo>
                                <a:lnTo>
                                  <a:pt x="0" y="9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560" bIns="-165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104" name="Freeform 57"/>
                          <p:cNvSpPr/>
                          <p:nvPr/>
                        </p:nvSpPr>
                        <p:spPr>
                          <a:xfrm>
                            <a:off x="785880" y="1376640"/>
                            <a:ext cx="12600" cy="37800"/>
                          </a:xfrm>
                          <a:custGeom>
                            <a:avLst/>
                            <a:gdLst>
                              <a:gd name="textAreaLeft" fmla="*/ 0 w 12600"/>
                              <a:gd name="textAreaRight" fmla="*/ 12960 w 12600"/>
                              <a:gd name="textAreaTop" fmla="*/ 0 h 37800"/>
                              <a:gd name="textAreaBottom" fmla="*/ 38160 h 37800"/>
                            </a:gdLst>
                            <a:ahLst/>
                            <a:rect l="textAreaLeft" t="textAreaTop" r="textAreaRight" b="textAreaBottom"/>
                            <a:pathLst>
                              <a:path w="44" h="117">
                                <a:moveTo>
                                  <a:pt x="0" y="117"/>
                                </a:moveTo>
                                <a:lnTo>
                                  <a:pt x="32" y="91"/>
                                </a:lnTo>
                                <a:lnTo>
                                  <a:pt x="31" y="38"/>
                                </a:lnTo>
                                <a:lnTo>
                                  <a:pt x="9" y="0"/>
                                </a:lnTo>
                                <a:lnTo>
                                  <a:pt x="35" y="36"/>
                                </a:lnTo>
                                <a:lnTo>
                                  <a:pt x="44" y="72"/>
                                </a:lnTo>
                                <a:lnTo>
                                  <a:pt x="41" y="102"/>
                                </a:lnTo>
                                <a:lnTo>
                                  <a:pt x="0" y="11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8640" bIns="-86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105" name="Freeform 58"/>
                          <p:cNvSpPr/>
                          <p:nvPr/>
                        </p:nvSpPr>
                        <p:spPr>
                          <a:xfrm>
                            <a:off x="804960" y="1389240"/>
                            <a:ext cx="3240" cy="14400"/>
                          </a:xfrm>
                          <a:custGeom>
                            <a:avLst/>
                            <a:gdLst>
                              <a:gd name="textAreaLeft" fmla="*/ 0 w 3240"/>
                              <a:gd name="textAreaRight" fmla="*/ 3600 w 3240"/>
                              <a:gd name="textAreaTop" fmla="*/ 0 h 14400"/>
                              <a:gd name="textAreaBottom" fmla="*/ 14760 h 14400"/>
                            </a:gdLst>
                            <a:ahLst/>
                            <a:rect l="textAreaLeft" t="textAreaTop" r="textAreaRight" b="textAreaBottom"/>
                            <a:pathLst>
                              <a:path w="13" h="45">
                                <a:moveTo>
                                  <a:pt x="0" y="0"/>
                                </a:moveTo>
                                <a:lnTo>
                                  <a:pt x="13" y="29"/>
                                </a:lnTo>
                                <a:lnTo>
                                  <a:pt x="9" y="45"/>
                                </a:lnTo>
                              </a:path>
                            </a:pathLst>
                          </a:custGeom>
                          <a:noFill/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2040" bIns="-320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106" name="Group 59"/>
                    <p:cNvGrpSpPr/>
                    <p:nvPr/>
                  </p:nvGrpSpPr>
                  <p:grpSpPr>
                    <a:xfrm>
                      <a:off x="744480" y="1281240"/>
                      <a:ext cx="123840" cy="106560"/>
                      <a:chOff x="744480" y="1281240"/>
                      <a:chExt cx="123840" cy="106560"/>
                    </a:xfrm>
                  </p:grpSpPr>
                  <p:sp>
                    <p:nvSpPr>
                      <p:cNvPr id="107" name="Freeform 60"/>
                      <p:cNvSpPr/>
                      <p:nvPr/>
                    </p:nvSpPr>
                    <p:spPr>
                      <a:xfrm>
                        <a:off x="800280" y="1319400"/>
                        <a:ext cx="56880" cy="55440"/>
                      </a:xfrm>
                      <a:custGeom>
                        <a:avLst/>
                        <a:gdLst>
                          <a:gd name="textAreaLeft" fmla="*/ 0 w 56880"/>
                          <a:gd name="textAreaRight" fmla="*/ 57240 w 56880"/>
                          <a:gd name="textAreaTop" fmla="*/ 0 h 55440"/>
                          <a:gd name="textAreaBottom" fmla="*/ 55800 h 55440"/>
                        </a:gdLst>
                        <a:ahLst/>
                        <a:rect l="textAreaLeft" t="textAreaTop" r="textAreaRight" b="textAreaBottom"/>
                        <a:pathLst>
                          <a:path w="184" h="171">
                            <a:moveTo>
                              <a:pt x="13" y="68"/>
                            </a:moveTo>
                            <a:lnTo>
                              <a:pt x="34" y="34"/>
                            </a:lnTo>
                            <a:lnTo>
                              <a:pt x="47" y="22"/>
                            </a:lnTo>
                            <a:lnTo>
                              <a:pt x="77" y="7"/>
                            </a:lnTo>
                            <a:lnTo>
                              <a:pt x="109" y="0"/>
                            </a:lnTo>
                            <a:lnTo>
                              <a:pt x="139" y="0"/>
                            </a:lnTo>
                            <a:lnTo>
                              <a:pt x="157" y="5"/>
                            </a:lnTo>
                            <a:lnTo>
                              <a:pt x="174" y="26"/>
                            </a:lnTo>
                            <a:lnTo>
                              <a:pt x="184" y="55"/>
                            </a:lnTo>
                            <a:lnTo>
                              <a:pt x="181" y="85"/>
                            </a:lnTo>
                            <a:lnTo>
                              <a:pt x="165" y="113"/>
                            </a:lnTo>
                            <a:lnTo>
                              <a:pt x="153" y="133"/>
                            </a:lnTo>
                            <a:lnTo>
                              <a:pt x="119" y="153"/>
                            </a:lnTo>
                            <a:lnTo>
                              <a:pt x="77" y="163"/>
                            </a:lnTo>
                            <a:lnTo>
                              <a:pt x="40" y="171"/>
                            </a:lnTo>
                            <a:lnTo>
                              <a:pt x="15" y="163"/>
                            </a:lnTo>
                            <a:lnTo>
                              <a:pt x="2" y="146"/>
                            </a:lnTo>
                            <a:lnTo>
                              <a:pt x="0" y="118"/>
                            </a:lnTo>
                            <a:lnTo>
                              <a:pt x="13" y="68"/>
                            </a:lnTo>
                            <a:close/>
                          </a:path>
                        </a:pathLst>
                      </a:custGeom>
                      <a:solidFill>
                        <a:srgbClr val="f0f0ff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000" bIns="9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08" name="Freeform 61"/>
                      <p:cNvSpPr/>
                      <p:nvPr/>
                    </p:nvSpPr>
                    <p:spPr>
                      <a:xfrm>
                        <a:off x="824040" y="1303560"/>
                        <a:ext cx="44280" cy="33120"/>
                      </a:xfrm>
                      <a:custGeom>
                        <a:avLst/>
                        <a:gdLst>
                          <a:gd name="textAreaLeft" fmla="*/ 0 w 44280"/>
                          <a:gd name="textAreaRight" fmla="*/ 44640 w 44280"/>
                          <a:gd name="textAreaTop" fmla="*/ 0 h 33120"/>
                          <a:gd name="textAreaBottom" fmla="*/ 33480 h 33120"/>
                        </a:gdLst>
                        <a:ahLst/>
                        <a:rect l="textAreaLeft" t="textAreaTop" r="textAreaRight" b="textAreaBottom"/>
                        <a:pathLst>
                          <a:path w="137" h="107">
                            <a:moveTo>
                              <a:pt x="17" y="0"/>
                            </a:moveTo>
                            <a:lnTo>
                              <a:pt x="131" y="63"/>
                            </a:lnTo>
                            <a:lnTo>
                              <a:pt x="136" y="72"/>
                            </a:lnTo>
                            <a:lnTo>
                              <a:pt x="137" y="85"/>
                            </a:lnTo>
                            <a:lnTo>
                              <a:pt x="135" y="95"/>
                            </a:lnTo>
                            <a:lnTo>
                              <a:pt x="131" y="104"/>
                            </a:lnTo>
                            <a:lnTo>
                              <a:pt x="126" y="107"/>
                            </a:lnTo>
                            <a:lnTo>
                              <a:pt x="115" y="107"/>
                            </a:lnTo>
                            <a:lnTo>
                              <a:pt x="11" y="47"/>
                            </a:lnTo>
                            <a:lnTo>
                              <a:pt x="2" y="38"/>
                            </a:lnTo>
                            <a:lnTo>
                              <a:pt x="0" y="26"/>
                            </a:lnTo>
                            <a:lnTo>
                              <a:pt x="2" y="13"/>
                            </a:lnTo>
                            <a:lnTo>
                              <a:pt x="6" y="7"/>
                            </a:lnTo>
                            <a:lnTo>
                              <a:pt x="12" y="1"/>
                            </a:lnTo>
                            <a:lnTo>
                              <a:pt x="17" y="0"/>
                            </a:lnTo>
                            <a:close/>
                          </a:path>
                        </a:pathLst>
                      </a:custGeom>
                      <a:solidFill>
                        <a:srgbClr val="c08040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320" bIns="-13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09" name="Freeform 62"/>
                      <p:cNvSpPr/>
                      <p:nvPr/>
                    </p:nvSpPr>
                    <p:spPr>
                      <a:xfrm>
                        <a:off x="785880" y="1305000"/>
                        <a:ext cx="79200" cy="82800"/>
                      </a:xfrm>
                      <a:custGeom>
                        <a:avLst/>
                        <a:gdLst>
                          <a:gd name="textAreaLeft" fmla="*/ 0 w 79200"/>
                          <a:gd name="textAreaRight" fmla="*/ 79560 w 79200"/>
                          <a:gd name="textAreaTop" fmla="*/ 0 h 82800"/>
                          <a:gd name="textAreaBottom" fmla="*/ 83160 h 82800"/>
                        </a:gdLst>
                        <a:ahLst/>
                        <a:rect l="textAreaLeft" t="textAreaTop" r="textAreaRight" b="textAreaBottom"/>
                        <a:pathLst>
                          <a:path w="250" h="260">
                            <a:moveTo>
                              <a:pt x="77" y="0"/>
                            </a:moveTo>
                            <a:lnTo>
                              <a:pt x="150" y="60"/>
                            </a:lnTo>
                            <a:lnTo>
                              <a:pt x="180" y="87"/>
                            </a:lnTo>
                            <a:lnTo>
                              <a:pt x="211" y="118"/>
                            </a:lnTo>
                            <a:lnTo>
                              <a:pt x="229" y="143"/>
                            </a:lnTo>
                            <a:lnTo>
                              <a:pt x="246" y="168"/>
                            </a:lnTo>
                            <a:lnTo>
                              <a:pt x="250" y="198"/>
                            </a:lnTo>
                            <a:lnTo>
                              <a:pt x="247" y="228"/>
                            </a:lnTo>
                            <a:lnTo>
                              <a:pt x="234" y="247"/>
                            </a:lnTo>
                            <a:lnTo>
                              <a:pt x="211" y="260"/>
                            </a:lnTo>
                            <a:lnTo>
                              <a:pt x="155" y="260"/>
                            </a:lnTo>
                            <a:lnTo>
                              <a:pt x="116" y="254"/>
                            </a:lnTo>
                            <a:lnTo>
                              <a:pt x="58" y="238"/>
                            </a:lnTo>
                            <a:lnTo>
                              <a:pt x="47" y="221"/>
                            </a:lnTo>
                            <a:lnTo>
                              <a:pt x="29" y="198"/>
                            </a:lnTo>
                            <a:lnTo>
                              <a:pt x="0" y="186"/>
                            </a:lnTo>
                            <a:lnTo>
                              <a:pt x="26" y="148"/>
                            </a:lnTo>
                            <a:lnTo>
                              <a:pt x="26" y="60"/>
                            </a:lnTo>
                            <a:lnTo>
                              <a:pt x="77" y="0"/>
                            </a:lnTo>
                            <a:close/>
                          </a:path>
                        </a:pathLst>
                      </a:custGeom>
                      <a:solidFill>
                        <a:srgbClr val="e0a080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360" bIns="36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grpSp>
                    <p:nvGrpSpPr>
                      <p:cNvPr id="110" name="Group 63"/>
                      <p:cNvGrpSpPr/>
                      <p:nvPr/>
                    </p:nvGrpSpPr>
                    <p:grpSpPr>
                      <a:xfrm>
                        <a:off x="744480" y="1281240"/>
                        <a:ext cx="74880" cy="73080"/>
                        <a:chOff x="744480" y="1281240"/>
                        <a:chExt cx="74880" cy="73080"/>
                      </a:xfrm>
                    </p:grpSpPr>
                    <p:sp>
                      <p:nvSpPr>
                        <p:cNvPr id="111" name="Freeform 64"/>
                        <p:cNvSpPr/>
                        <p:nvPr/>
                      </p:nvSpPr>
                      <p:spPr>
                        <a:xfrm>
                          <a:off x="744480" y="1298880"/>
                          <a:ext cx="60480" cy="55440"/>
                        </a:xfrm>
                        <a:custGeom>
                          <a:avLst/>
                          <a:gdLst>
                            <a:gd name="textAreaLeft" fmla="*/ 0 w 60480"/>
                            <a:gd name="textAreaRight" fmla="*/ 60840 w 60480"/>
                            <a:gd name="textAreaTop" fmla="*/ 0 h 55440"/>
                            <a:gd name="textAreaBottom" fmla="*/ 55800 h 55440"/>
                          </a:gdLst>
                          <a:ahLst/>
                          <a:rect l="textAreaLeft" t="textAreaTop" r="textAreaRight" b="textAreaBottom"/>
                          <a:pathLst>
                            <a:path w="186" h="172">
                              <a:moveTo>
                                <a:pt x="13" y="70"/>
                              </a:moveTo>
                              <a:lnTo>
                                <a:pt x="35" y="36"/>
                              </a:lnTo>
                              <a:lnTo>
                                <a:pt x="48" y="22"/>
                              </a:lnTo>
                              <a:lnTo>
                                <a:pt x="77" y="7"/>
                              </a:lnTo>
                              <a:lnTo>
                                <a:pt x="112" y="0"/>
                              </a:lnTo>
                              <a:lnTo>
                                <a:pt x="141" y="0"/>
                              </a:lnTo>
                              <a:lnTo>
                                <a:pt x="160" y="6"/>
                              </a:lnTo>
                              <a:lnTo>
                                <a:pt x="177" y="27"/>
                              </a:lnTo>
                              <a:lnTo>
                                <a:pt x="186" y="56"/>
                              </a:lnTo>
                              <a:lnTo>
                                <a:pt x="184" y="88"/>
                              </a:lnTo>
                              <a:lnTo>
                                <a:pt x="167" y="116"/>
                              </a:lnTo>
                              <a:lnTo>
                                <a:pt x="154" y="134"/>
                              </a:lnTo>
                              <a:lnTo>
                                <a:pt x="121" y="153"/>
                              </a:lnTo>
                              <a:lnTo>
                                <a:pt x="77" y="163"/>
                              </a:lnTo>
                              <a:lnTo>
                                <a:pt x="42" y="172"/>
                              </a:lnTo>
                              <a:lnTo>
                                <a:pt x="17" y="163"/>
                              </a:lnTo>
                              <a:lnTo>
                                <a:pt x="4" y="147"/>
                              </a:lnTo>
                              <a:lnTo>
                                <a:pt x="0" y="120"/>
                              </a:lnTo>
                              <a:lnTo>
                                <a:pt x="13" y="7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0f0ff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2" name="Oval 65"/>
                        <p:cNvSpPr/>
                        <p:nvPr/>
                      </p:nvSpPr>
                      <p:spPr>
                        <a:xfrm>
                          <a:off x="752400" y="1338480"/>
                          <a:ext cx="15840" cy="14040"/>
                        </a:xfrm>
                        <a:prstGeom prst="ellipse">
                          <a:avLst/>
                        </a:prstGeom>
                        <a:solidFill>
                          <a:srgbClr val="008080"/>
                        </a:solidFill>
                        <a:ln w="3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360" bIns="-3636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13" name="Freeform 66"/>
                        <p:cNvSpPr/>
                        <p:nvPr/>
                      </p:nvSpPr>
                      <p:spPr>
                        <a:xfrm>
                          <a:off x="758880" y="1281240"/>
                          <a:ext cx="60480" cy="36360"/>
                        </a:xfrm>
                        <a:custGeom>
                          <a:avLst/>
                          <a:gdLst>
                            <a:gd name="textAreaLeft" fmla="*/ 0 w 60480"/>
                            <a:gd name="textAreaRight" fmla="*/ 60840 w 60480"/>
                            <a:gd name="textAreaTop" fmla="*/ 0 h 36360"/>
                            <a:gd name="textAreaBottom" fmla="*/ 36720 h 36360"/>
                          </a:gdLst>
                          <a:ahLst/>
                          <a:rect l="textAreaLeft" t="textAreaTop" r="textAreaRight" b="textAreaBottom"/>
                          <a:pathLst>
                            <a:path w="193" h="112">
                              <a:moveTo>
                                <a:pt x="28" y="0"/>
                              </a:moveTo>
                              <a:lnTo>
                                <a:pt x="185" y="66"/>
                              </a:lnTo>
                              <a:lnTo>
                                <a:pt x="191" y="75"/>
                              </a:lnTo>
                              <a:lnTo>
                                <a:pt x="193" y="89"/>
                              </a:lnTo>
                              <a:lnTo>
                                <a:pt x="189" y="99"/>
                              </a:lnTo>
                              <a:lnTo>
                                <a:pt x="184" y="108"/>
                              </a:lnTo>
                              <a:lnTo>
                                <a:pt x="176" y="111"/>
                              </a:lnTo>
                              <a:lnTo>
                                <a:pt x="162" y="112"/>
                              </a:lnTo>
                              <a:lnTo>
                                <a:pt x="16" y="49"/>
                              </a:lnTo>
                              <a:lnTo>
                                <a:pt x="4" y="40"/>
                              </a:lnTo>
                              <a:lnTo>
                                <a:pt x="0" y="27"/>
                              </a:lnTo>
                              <a:lnTo>
                                <a:pt x="4" y="14"/>
                              </a:lnTo>
                              <a:lnTo>
                                <a:pt x="9" y="8"/>
                              </a:lnTo>
                              <a:lnTo>
                                <a:pt x="17" y="2"/>
                              </a:lnTo>
                              <a:lnTo>
                                <a:pt x="28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8040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080" bIns="-100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14" name="Group 67"/>
                    <p:cNvGrpSpPr/>
                    <p:nvPr/>
                  </p:nvGrpSpPr>
                  <p:grpSpPr>
                    <a:xfrm>
                      <a:off x="588960" y="1335240"/>
                      <a:ext cx="58680" cy="68400"/>
                      <a:chOff x="588960" y="1335240"/>
                      <a:chExt cx="58680" cy="68400"/>
                    </a:xfrm>
                  </p:grpSpPr>
                  <p:sp>
                    <p:nvSpPr>
                      <p:cNvPr id="115" name="Freeform 68"/>
                      <p:cNvSpPr/>
                      <p:nvPr/>
                    </p:nvSpPr>
                    <p:spPr>
                      <a:xfrm>
                        <a:off x="588960" y="1335240"/>
                        <a:ext cx="52560" cy="66600"/>
                      </a:xfrm>
                      <a:custGeom>
                        <a:avLst/>
                        <a:gdLst>
                          <a:gd name="textAreaLeft" fmla="*/ 0 w 52560"/>
                          <a:gd name="textAreaRight" fmla="*/ 52920 w 52560"/>
                          <a:gd name="textAreaTop" fmla="*/ 0 h 66600"/>
                          <a:gd name="textAreaBottom" fmla="*/ 66960 h 66600"/>
                        </a:gdLst>
                        <a:ahLst/>
                        <a:rect l="textAreaLeft" t="textAreaTop" r="textAreaRight" b="textAreaBottom"/>
                        <a:pathLst>
                          <a:path w="164" h="210">
                            <a:moveTo>
                              <a:pt x="133" y="33"/>
                            </a:moveTo>
                            <a:lnTo>
                              <a:pt x="107" y="6"/>
                            </a:lnTo>
                            <a:lnTo>
                              <a:pt x="89" y="1"/>
                            </a:lnTo>
                            <a:lnTo>
                              <a:pt x="57" y="0"/>
                            </a:lnTo>
                            <a:lnTo>
                              <a:pt x="30" y="16"/>
                            </a:lnTo>
                            <a:lnTo>
                              <a:pt x="15" y="33"/>
                            </a:lnTo>
                            <a:lnTo>
                              <a:pt x="4" y="54"/>
                            </a:lnTo>
                            <a:lnTo>
                              <a:pt x="0" y="78"/>
                            </a:lnTo>
                            <a:lnTo>
                              <a:pt x="1" y="105"/>
                            </a:lnTo>
                            <a:lnTo>
                              <a:pt x="10" y="135"/>
                            </a:lnTo>
                            <a:lnTo>
                              <a:pt x="28" y="159"/>
                            </a:lnTo>
                            <a:lnTo>
                              <a:pt x="48" y="172"/>
                            </a:lnTo>
                            <a:lnTo>
                              <a:pt x="73" y="182"/>
                            </a:lnTo>
                            <a:lnTo>
                              <a:pt x="86" y="201"/>
                            </a:lnTo>
                            <a:lnTo>
                              <a:pt x="99" y="208"/>
                            </a:lnTo>
                            <a:lnTo>
                              <a:pt x="114" y="210"/>
                            </a:lnTo>
                            <a:lnTo>
                              <a:pt x="132" y="206"/>
                            </a:lnTo>
                            <a:lnTo>
                              <a:pt x="151" y="194"/>
                            </a:lnTo>
                            <a:lnTo>
                              <a:pt x="160" y="176"/>
                            </a:lnTo>
                            <a:lnTo>
                              <a:pt x="164" y="150"/>
                            </a:lnTo>
                            <a:lnTo>
                              <a:pt x="154" y="125"/>
                            </a:lnTo>
                            <a:lnTo>
                              <a:pt x="153" y="99"/>
                            </a:lnTo>
                            <a:lnTo>
                              <a:pt x="145" y="63"/>
                            </a:lnTo>
                            <a:lnTo>
                              <a:pt x="133" y="33"/>
                            </a:lnTo>
                            <a:close/>
                          </a:path>
                        </a:pathLst>
                      </a:custGeom>
                      <a:solidFill>
                        <a:srgbClr val="e0a080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160" bIns="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16" name="Freeform 69"/>
                      <p:cNvSpPr/>
                      <p:nvPr/>
                    </p:nvSpPr>
                    <p:spPr>
                      <a:xfrm>
                        <a:off x="595440" y="1338480"/>
                        <a:ext cx="52200" cy="65160"/>
                      </a:xfrm>
                      <a:custGeom>
                        <a:avLst/>
                        <a:gdLst>
                          <a:gd name="textAreaLeft" fmla="*/ 0 w 52200"/>
                          <a:gd name="textAreaRight" fmla="*/ 52560 w 52200"/>
                          <a:gd name="textAreaTop" fmla="*/ 0 h 65160"/>
                          <a:gd name="textAreaBottom" fmla="*/ 65520 h 65160"/>
                        </a:gdLst>
                        <a:ahLst/>
                        <a:rect l="textAreaLeft" t="textAreaTop" r="textAreaRight" b="textAreaBottom"/>
                        <a:pathLst>
                          <a:path w="169" h="204">
                            <a:moveTo>
                              <a:pt x="138" y="31"/>
                            </a:moveTo>
                            <a:lnTo>
                              <a:pt x="110" y="6"/>
                            </a:lnTo>
                            <a:lnTo>
                              <a:pt x="92" y="1"/>
                            </a:lnTo>
                            <a:lnTo>
                              <a:pt x="59" y="0"/>
                            </a:lnTo>
                            <a:lnTo>
                              <a:pt x="31" y="13"/>
                            </a:lnTo>
                            <a:lnTo>
                              <a:pt x="15" y="31"/>
                            </a:lnTo>
                            <a:lnTo>
                              <a:pt x="5" y="52"/>
                            </a:lnTo>
                            <a:lnTo>
                              <a:pt x="0" y="75"/>
                            </a:lnTo>
                            <a:lnTo>
                              <a:pt x="1" y="101"/>
                            </a:lnTo>
                            <a:lnTo>
                              <a:pt x="10" y="131"/>
                            </a:lnTo>
                            <a:lnTo>
                              <a:pt x="28" y="155"/>
                            </a:lnTo>
                            <a:lnTo>
                              <a:pt x="50" y="168"/>
                            </a:lnTo>
                            <a:lnTo>
                              <a:pt x="74" y="176"/>
                            </a:lnTo>
                            <a:lnTo>
                              <a:pt x="88" y="195"/>
                            </a:lnTo>
                            <a:lnTo>
                              <a:pt x="101" y="201"/>
                            </a:lnTo>
                            <a:lnTo>
                              <a:pt x="116" y="204"/>
                            </a:lnTo>
                            <a:lnTo>
                              <a:pt x="137" y="198"/>
                            </a:lnTo>
                            <a:lnTo>
                              <a:pt x="156" y="188"/>
                            </a:lnTo>
                            <a:lnTo>
                              <a:pt x="164" y="172"/>
                            </a:lnTo>
                            <a:lnTo>
                              <a:pt x="169" y="145"/>
                            </a:lnTo>
                            <a:lnTo>
                              <a:pt x="159" y="121"/>
                            </a:lnTo>
                            <a:lnTo>
                              <a:pt x="158" y="96"/>
                            </a:lnTo>
                            <a:lnTo>
                              <a:pt x="150" y="62"/>
                            </a:lnTo>
                            <a:lnTo>
                              <a:pt x="138" y="31"/>
                            </a:lnTo>
                            <a:close/>
                          </a:path>
                        </a:pathLst>
                      </a:custGeom>
                      <a:solidFill>
                        <a:srgbClr val="e0a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720" bIns="18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</p:grpSp>
              </p:grpSp>
              <p:grpSp>
                <p:nvGrpSpPr>
                  <p:cNvPr id="117" name="Group 70"/>
                  <p:cNvGrpSpPr/>
                  <p:nvPr/>
                </p:nvGrpSpPr>
                <p:grpSpPr>
                  <a:xfrm>
                    <a:off x="495360" y="1398600"/>
                    <a:ext cx="384120" cy="338400"/>
                    <a:chOff x="495360" y="1398600"/>
                    <a:chExt cx="384120" cy="338400"/>
                  </a:xfrm>
                </p:grpSpPr>
                <p:sp>
                  <p:nvSpPr>
                    <p:cNvPr id="118" name="Freeform 71"/>
                    <p:cNvSpPr/>
                    <p:nvPr/>
                  </p:nvSpPr>
                  <p:spPr>
                    <a:xfrm>
                      <a:off x="495360" y="1398600"/>
                      <a:ext cx="309600" cy="306360"/>
                    </a:xfrm>
                    <a:custGeom>
                      <a:avLst/>
                      <a:gdLst>
                        <a:gd name="textAreaLeft" fmla="*/ 0 w 309600"/>
                        <a:gd name="textAreaRight" fmla="*/ 309960 w 309600"/>
                        <a:gd name="textAreaTop" fmla="*/ 0 h 306360"/>
                        <a:gd name="textAreaBottom" fmla="*/ 306720 h 306360"/>
                      </a:gdLst>
                      <a:ahLst/>
                      <a:rect l="textAreaLeft" t="textAreaTop" r="textAreaRight" b="textAreaBottom"/>
                      <a:pathLst>
                        <a:path w="975" h="967">
                          <a:moveTo>
                            <a:pt x="265" y="0"/>
                          </a:moveTo>
                          <a:lnTo>
                            <a:pt x="327" y="42"/>
                          </a:lnTo>
                          <a:lnTo>
                            <a:pt x="390" y="83"/>
                          </a:lnTo>
                          <a:lnTo>
                            <a:pt x="446" y="109"/>
                          </a:lnTo>
                          <a:lnTo>
                            <a:pt x="634" y="187"/>
                          </a:lnTo>
                          <a:lnTo>
                            <a:pt x="662" y="306"/>
                          </a:lnTo>
                          <a:lnTo>
                            <a:pt x="686" y="368"/>
                          </a:lnTo>
                          <a:lnTo>
                            <a:pt x="707" y="413"/>
                          </a:lnTo>
                          <a:lnTo>
                            <a:pt x="722" y="459"/>
                          </a:lnTo>
                          <a:lnTo>
                            <a:pt x="732" y="506"/>
                          </a:lnTo>
                          <a:lnTo>
                            <a:pt x="731" y="535"/>
                          </a:lnTo>
                          <a:lnTo>
                            <a:pt x="724" y="570"/>
                          </a:lnTo>
                          <a:lnTo>
                            <a:pt x="728" y="611"/>
                          </a:lnTo>
                          <a:lnTo>
                            <a:pt x="744" y="654"/>
                          </a:lnTo>
                          <a:lnTo>
                            <a:pt x="783" y="670"/>
                          </a:lnTo>
                          <a:lnTo>
                            <a:pt x="843" y="685"/>
                          </a:lnTo>
                          <a:lnTo>
                            <a:pt x="884" y="698"/>
                          </a:lnTo>
                          <a:lnTo>
                            <a:pt x="925" y="730"/>
                          </a:lnTo>
                          <a:lnTo>
                            <a:pt x="951" y="764"/>
                          </a:lnTo>
                          <a:lnTo>
                            <a:pt x="968" y="807"/>
                          </a:lnTo>
                          <a:lnTo>
                            <a:pt x="975" y="856"/>
                          </a:lnTo>
                          <a:lnTo>
                            <a:pt x="965" y="930"/>
                          </a:lnTo>
                          <a:lnTo>
                            <a:pt x="232" y="967"/>
                          </a:lnTo>
                          <a:lnTo>
                            <a:pt x="97" y="964"/>
                          </a:lnTo>
                          <a:lnTo>
                            <a:pt x="71" y="930"/>
                          </a:lnTo>
                          <a:lnTo>
                            <a:pt x="46" y="875"/>
                          </a:lnTo>
                          <a:lnTo>
                            <a:pt x="25" y="814"/>
                          </a:lnTo>
                          <a:lnTo>
                            <a:pt x="13" y="763"/>
                          </a:lnTo>
                          <a:lnTo>
                            <a:pt x="4" y="708"/>
                          </a:lnTo>
                          <a:lnTo>
                            <a:pt x="0" y="657"/>
                          </a:lnTo>
                          <a:lnTo>
                            <a:pt x="10" y="573"/>
                          </a:lnTo>
                          <a:lnTo>
                            <a:pt x="25" y="506"/>
                          </a:lnTo>
                          <a:lnTo>
                            <a:pt x="48" y="432"/>
                          </a:lnTo>
                          <a:lnTo>
                            <a:pt x="74" y="361"/>
                          </a:lnTo>
                          <a:lnTo>
                            <a:pt x="104" y="304"/>
                          </a:lnTo>
                          <a:lnTo>
                            <a:pt x="143" y="240"/>
                          </a:lnTo>
                          <a:lnTo>
                            <a:pt x="192" y="187"/>
                          </a:lnTo>
                          <a:lnTo>
                            <a:pt x="237" y="142"/>
                          </a:lnTo>
                          <a:lnTo>
                            <a:pt x="269" y="119"/>
                          </a:lnTo>
                          <a:lnTo>
                            <a:pt x="195" y="83"/>
                          </a:lnTo>
                          <a:lnTo>
                            <a:pt x="265" y="0"/>
                          </a:lnTo>
                          <a:close/>
                        </a:path>
                      </a:pathLst>
                    </a:custGeom>
                    <a:solidFill>
                      <a:srgbClr val="ff60c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19" name="Freeform 72"/>
                    <p:cNvSpPr/>
                    <p:nvPr/>
                  </p:nvSpPr>
                  <p:spPr>
                    <a:xfrm>
                      <a:off x="701640" y="1560600"/>
                      <a:ext cx="87480" cy="112680"/>
                    </a:xfrm>
                    <a:custGeom>
                      <a:avLst/>
                      <a:gdLst>
                        <a:gd name="textAreaLeft" fmla="*/ 0 w 87480"/>
                        <a:gd name="textAreaRight" fmla="*/ 87840 w 87480"/>
                        <a:gd name="textAreaTop" fmla="*/ 0 h 112680"/>
                        <a:gd name="textAreaBottom" fmla="*/ 113040 h 112680"/>
                      </a:gdLst>
                      <a:ahLst/>
                      <a:rect l="textAreaLeft" t="textAreaTop" r="textAreaRight" b="textAreaBottom"/>
                      <a:pathLst>
                        <a:path w="273" h="354">
                          <a:moveTo>
                            <a:pt x="0" y="0"/>
                          </a:moveTo>
                          <a:lnTo>
                            <a:pt x="10" y="67"/>
                          </a:lnTo>
                          <a:lnTo>
                            <a:pt x="21" y="120"/>
                          </a:lnTo>
                          <a:lnTo>
                            <a:pt x="43" y="162"/>
                          </a:lnTo>
                          <a:lnTo>
                            <a:pt x="60" y="186"/>
                          </a:lnTo>
                          <a:lnTo>
                            <a:pt x="94" y="205"/>
                          </a:lnTo>
                          <a:lnTo>
                            <a:pt x="154" y="227"/>
                          </a:lnTo>
                          <a:lnTo>
                            <a:pt x="206" y="248"/>
                          </a:lnTo>
                          <a:lnTo>
                            <a:pt x="231" y="259"/>
                          </a:lnTo>
                          <a:lnTo>
                            <a:pt x="253" y="283"/>
                          </a:lnTo>
                          <a:lnTo>
                            <a:pt x="266" y="315"/>
                          </a:lnTo>
                          <a:lnTo>
                            <a:pt x="273" y="354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0" name="Freeform 73"/>
                    <p:cNvSpPr/>
                    <p:nvPr/>
                  </p:nvSpPr>
                  <p:spPr>
                    <a:xfrm>
                      <a:off x="579600" y="1438560"/>
                      <a:ext cx="126720" cy="123840"/>
                    </a:xfrm>
                    <a:custGeom>
                      <a:avLst/>
                      <a:gdLst>
                        <a:gd name="textAreaLeft" fmla="*/ 0 w 126720"/>
                        <a:gd name="textAreaRight" fmla="*/ 127080 w 126720"/>
                        <a:gd name="textAreaTop" fmla="*/ 0 h 123840"/>
                        <a:gd name="textAreaBottom" fmla="*/ 124200 h 123840"/>
                      </a:gdLst>
                      <a:ahLst/>
                      <a:rect l="textAreaLeft" t="textAreaTop" r="textAreaRight" b="textAreaBottom"/>
                      <a:pathLst>
                        <a:path w="401" h="390">
                          <a:moveTo>
                            <a:pt x="0" y="7"/>
                          </a:moveTo>
                          <a:lnTo>
                            <a:pt x="13" y="0"/>
                          </a:lnTo>
                          <a:lnTo>
                            <a:pt x="55" y="31"/>
                          </a:lnTo>
                          <a:lnTo>
                            <a:pt x="109" y="63"/>
                          </a:lnTo>
                          <a:lnTo>
                            <a:pt x="153" y="83"/>
                          </a:lnTo>
                          <a:lnTo>
                            <a:pt x="199" y="108"/>
                          </a:lnTo>
                          <a:lnTo>
                            <a:pt x="263" y="141"/>
                          </a:lnTo>
                          <a:lnTo>
                            <a:pt x="302" y="202"/>
                          </a:lnTo>
                          <a:lnTo>
                            <a:pt x="333" y="311"/>
                          </a:lnTo>
                          <a:lnTo>
                            <a:pt x="362" y="222"/>
                          </a:lnTo>
                          <a:lnTo>
                            <a:pt x="385" y="163"/>
                          </a:lnTo>
                          <a:lnTo>
                            <a:pt x="381" y="128"/>
                          </a:lnTo>
                          <a:lnTo>
                            <a:pt x="394" y="182"/>
                          </a:lnTo>
                          <a:lnTo>
                            <a:pt x="401" y="210"/>
                          </a:lnTo>
                          <a:lnTo>
                            <a:pt x="388" y="235"/>
                          </a:lnTo>
                          <a:lnTo>
                            <a:pt x="369" y="282"/>
                          </a:lnTo>
                          <a:lnTo>
                            <a:pt x="346" y="339"/>
                          </a:lnTo>
                          <a:lnTo>
                            <a:pt x="327" y="390"/>
                          </a:lnTo>
                          <a:lnTo>
                            <a:pt x="302" y="304"/>
                          </a:lnTo>
                          <a:lnTo>
                            <a:pt x="280" y="244"/>
                          </a:lnTo>
                          <a:lnTo>
                            <a:pt x="266" y="186"/>
                          </a:lnTo>
                          <a:lnTo>
                            <a:pt x="202" y="128"/>
                          </a:lnTo>
                          <a:lnTo>
                            <a:pt x="90" y="69"/>
                          </a:lnTo>
                          <a:lnTo>
                            <a:pt x="0" y="7"/>
                          </a:lnTo>
                          <a:close/>
                        </a:path>
                      </a:pathLst>
                    </a:custGeom>
                    <a:solidFill>
                      <a:srgbClr val="e040a0"/>
                    </a:solidFill>
                    <a:ln w="3240">
                      <a:solidFill>
                        <a:srgbClr val="e040a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1" name="Freeform 74"/>
                    <p:cNvSpPr/>
                    <p:nvPr/>
                  </p:nvSpPr>
                  <p:spPr>
                    <a:xfrm>
                      <a:off x="585720" y="1503360"/>
                      <a:ext cx="54000" cy="103320"/>
                    </a:xfrm>
                    <a:custGeom>
                      <a:avLst/>
                      <a:gdLst>
                        <a:gd name="textAreaLeft" fmla="*/ 0 w 54000"/>
                        <a:gd name="textAreaRight" fmla="*/ 54360 w 54000"/>
                        <a:gd name="textAreaTop" fmla="*/ 0 h 103320"/>
                        <a:gd name="textAreaBottom" fmla="*/ 103680 h 103320"/>
                      </a:gdLst>
                      <a:ahLst/>
                      <a:rect l="textAreaLeft" t="textAreaTop" r="textAreaRight" b="textAreaBottom"/>
                      <a:pathLst>
                        <a:path w="169" h="327">
                          <a:moveTo>
                            <a:pt x="88" y="262"/>
                          </a:moveTo>
                          <a:lnTo>
                            <a:pt x="45" y="220"/>
                          </a:lnTo>
                          <a:lnTo>
                            <a:pt x="31" y="178"/>
                          </a:lnTo>
                          <a:lnTo>
                            <a:pt x="25" y="133"/>
                          </a:lnTo>
                          <a:lnTo>
                            <a:pt x="19" y="73"/>
                          </a:lnTo>
                          <a:lnTo>
                            <a:pt x="43" y="53"/>
                          </a:lnTo>
                          <a:lnTo>
                            <a:pt x="53" y="98"/>
                          </a:lnTo>
                          <a:lnTo>
                            <a:pt x="73" y="119"/>
                          </a:lnTo>
                          <a:lnTo>
                            <a:pt x="81" y="168"/>
                          </a:lnTo>
                          <a:lnTo>
                            <a:pt x="94" y="205"/>
                          </a:lnTo>
                          <a:lnTo>
                            <a:pt x="124" y="237"/>
                          </a:lnTo>
                          <a:lnTo>
                            <a:pt x="147" y="276"/>
                          </a:lnTo>
                          <a:lnTo>
                            <a:pt x="169" y="327"/>
                          </a:lnTo>
                          <a:lnTo>
                            <a:pt x="166" y="283"/>
                          </a:lnTo>
                          <a:lnTo>
                            <a:pt x="160" y="248"/>
                          </a:lnTo>
                          <a:lnTo>
                            <a:pt x="131" y="219"/>
                          </a:lnTo>
                          <a:lnTo>
                            <a:pt x="111" y="181"/>
                          </a:lnTo>
                          <a:lnTo>
                            <a:pt x="95" y="139"/>
                          </a:lnTo>
                          <a:lnTo>
                            <a:pt x="83" y="101"/>
                          </a:lnTo>
                          <a:lnTo>
                            <a:pt x="66" y="73"/>
                          </a:lnTo>
                          <a:lnTo>
                            <a:pt x="61" y="35"/>
                          </a:lnTo>
                          <a:lnTo>
                            <a:pt x="51" y="15"/>
                          </a:lnTo>
                          <a:lnTo>
                            <a:pt x="39" y="0"/>
                          </a:lnTo>
                          <a:lnTo>
                            <a:pt x="18" y="37"/>
                          </a:lnTo>
                          <a:lnTo>
                            <a:pt x="0" y="88"/>
                          </a:lnTo>
                          <a:lnTo>
                            <a:pt x="13" y="98"/>
                          </a:lnTo>
                          <a:lnTo>
                            <a:pt x="13" y="136"/>
                          </a:lnTo>
                          <a:lnTo>
                            <a:pt x="21" y="184"/>
                          </a:lnTo>
                          <a:lnTo>
                            <a:pt x="32" y="219"/>
                          </a:lnTo>
                          <a:lnTo>
                            <a:pt x="53" y="242"/>
                          </a:lnTo>
                          <a:lnTo>
                            <a:pt x="88" y="262"/>
                          </a:lnTo>
                          <a:close/>
                        </a:path>
                      </a:pathLst>
                    </a:custGeom>
                    <a:solidFill>
                      <a:srgbClr val="e040a0"/>
                    </a:solidFill>
                    <a:ln w="3240">
                      <a:solidFill>
                        <a:srgbClr val="e040a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2" name="Freeform 75"/>
                    <p:cNvSpPr/>
                    <p:nvPr/>
                  </p:nvSpPr>
                  <p:spPr>
                    <a:xfrm>
                      <a:off x="503280" y="1560600"/>
                      <a:ext cx="30240" cy="71640"/>
                    </a:xfrm>
                    <a:custGeom>
                      <a:avLst/>
                      <a:gdLst>
                        <a:gd name="textAreaLeft" fmla="*/ 0 w 30240"/>
                        <a:gd name="textAreaRight" fmla="*/ 30600 w 30240"/>
                        <a:gd name="textAreaTop" fmla="*/ 0 h 71640"/>
                        <a:gd name="textAreaBottom" fmla="*/ 72000 h 71640"/>
                      </a:gdLst>
                      <a:ahLst/>
                      <a:rect l="textAreaLeft" t="textAreaTop" r="textAreaRight" b="textAreaBottom"/>
                      <a:pathLst>
                        <a:path w="95" h="223">
                          <a:moveTo>
                            <a:pt x="95" y="223"/>
                          </a:moveTo>
                          <a:lnTo>
                            <a:pt x="70" y="214"/>
                          </a:lnTo>
                          <a:lnTo>
                            <a:pt x="46" y="189"/>
                          </a:lnTo>
                          <a:lnTo>
                            <a:pt x="35" y="172"/>
                          </a:lnTo>
                          <a:lnTo>
                            <a:pt x="24" y="131"/>
                          </a:lnTo>
                          <a:lnTo>
                            <a:pt x="18" y="103"/>
                          </a:lnTo>
                          <a:lnTo>
                            <a:pt x="5" y="75"/>
                          </a:lnTo>
                          <a:lnTo>
                            <a:pt x="0" y="44"/>
                          </a:lnTo>
                          <a:lnTo>
                            <a:pt x="9" y="23"/>
                          </a:lnTo>
                          <a:lnTo>
                            <a:pt x="33" y="0"/>
                          </a:lnTo>
                          <a:lnTo>
                            <a:pt x="9" y="22"/>
                          </a:lnTo>
                          <a:lnTo>
                            <a:pt x="3" y="45"/>
                          </a:lnTo>
                          <a:lnTo>
                            <a:pt x="4" y="74"/>
                          </a:lnTo>
                          <a:lnTo>
                            <a:pt x="16" y="99"/>
                          </a:lnTo>
                          <a:lnTo>
                            <a:pt x="28" y="140"/>
                          </a:lnTo>
                          <a:lnTo>
                            <a:pt x="34" y="164"/>
                          </a:lnTo>
                          <a:lnTo>
                            <a:pt x="46" y="191"/>
                          </a:lnTo>
                          <a:lnTo>
                            <a:pt x="72" y="213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0" bIns="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23" name="Freeform 76"/>
                    <p:cNvSpPr/>
                    <p:nvPr/>
                  </p:nvSpPr>
                  <p:spPr>
                    <a:xfrm>
                      <a:off x="506520" y="1560600"/>
                      <a:ext cx="30240" cy="71640"/>
                    </a:xfrm>
                    <a:custGeom>
                      <a:avLst/>
                      <a:gdLst>
                        <a:gd name="textAreaLeft" fmla="*/ 0 w 30240"/>
                        <a:gd name="textAreaRight" fmla="*/ 30600 w 30240"/>
                        <a:gd name="textAreaTop" fmla="*/ 0 h 71640"/>
                        <a:gd name="textAreaBottom" fmla="*/ 72000 h 71640"/>
                      </a:gdLst>
                      <a:ahLst/>
                      <a:rect l="textAreaLeft" t="textAreaTop" r="textAreaRight" b="textAreaBottom"/>
                      <a:pathLst>
                        <a:path w="92" h="223">
                          <a:moveTo>
                            <a:pt x="92" y="223"/>
                          </a:moveTo>
                          <a:lnTo>
                            <a:pt x="58" y="194"/>
                          </a:lnTo>
                          <a:lnTo>
                            <a:pt x="42" y="169"/>
                          </a:lnTo>
                          <a:lnTo>
                            <a:pt x="36" y="145"/>
                          </a:lnTo>
                          <a:lnTo>
                            <a:pt x="22" y="101"/>
                          </a:lnTo>
                          <a:lnTo>
                            <a:pt x="13" y="73"/>
                          </a:lnTo>
                          <a:lnTo>
                            <a:pt x="8" y="51"/>
                          </a:lnTo>
                          <a:lnTo>
                            <a:pt x="15" y="26"/>
                          </a:lnTo>
                          <a:lnTo>
                            <a:pt x="31" y="0"/>
                          </a:lnTo>
                          <a:lnTo>
                            <a:pt x="7" y="22"/>
                          </a:lnTo>
                          <a:lnTo>
                            <a:pt x="0" y="45"/>
                          </a:lnTo>
                          <a:lnTo>
                            <a:pt x="1" y="74"/>
                          </a:lnTo>
                          <a:lnTo>
                            <a:pt x="13" y="99"/>
                          </a:lnTo>
                          <a:lnTo>
                            <a:pt x="25" y="140"/>
                          </a:lnTo>
                          <a:lnTo>
                            <a:pt x="32" y="164"/>
                          </a:lnTo>
                          <a:lnTo>
                            <a:pt x="44" y="191"/>
                          </a:lnTo>
                          <a:lnTo>
                            <a:pt x="70" y="213"/>
                          </a:lnTo>
                          <a:lnTo>
                            <a:pt x="92" y="223"/>
                          </a:lnTo>
                          <a:close/>
                        </a:path>
                      </a:pathLst>
                    </a:custGeom>
                    <a:solidFill>
                      <a:srgbClr val="e040a0"/>
                    </a:solidFill>
                    <a:ln w="3240">
                      <a:solidFill>
                        <a:srgbClr val="e040a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0" bIns="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124" name="Group 77"/>
                    <p:cNvGrpSpPr/>
                    <p:nvPr/>
                  </p:nvGrpSpPr>
                  <p:grpSpPr>
                    <a:xfrm>
                      <a:off x="557280" y="1621080"/>
                      <a:ext cx="322200" cy="115920"/>
                      <a:chOff x="557280" y="1621080"/>
                      <a:chExt cx="322200" cy="115920"/>
                    </a:xfrm>
                  </p:grpSpPr>
                  <p:sp>
                    <p:nvSpPr>
                      <p:cNvPr id="125" name="Freeform 78"/>
                      <p:cNvSpPr/>
                      <p:nvPr/>
                    </p:nvSpPr>
                    <p:spPr>
                      <a:xfrm>
                        <a:off x="557280" y="1621080"/>
                        <a:ext cx="320760" cy="115920"/>
                      </a:xfrm>
                      <a:custGeom>
                        <a:avLst/>
                        <a:gdLst>
                          <a:gd name="textAreaLeft" fmla="*/ 0 w 320760"/>
                          <a:gd name="textAreaRight" fmla="*/ 321120 w 320760"/>
                          <a:gd name="textAreaTop" fmla="*/ 0 h 115920"/>
                          <a:gd name="textAreaBottom" fmla="*/ 116280 h 115920"/>
                        </a:gdLst>
                        <a:ahLst/>
                        <a:rect l="textAreaLeft" t="textAreaTop" r="textAreaRight" b="textAreaBottom"/>
                        <a:pathLst>
                          <a:path w="1011" h="367">
                            <a:moveTo>
                              <a:pt x="243" y="0"/>
                            </a:moveTo>
                            <a:lnTo>
                              <a:pt x="259" y="39"/>
                            </a:lnTo>
                            <a:lnTo>
                              <a:pt x="297" y="89"/>
                            </a:lnTo>
                            <a:lnTo>
                              <a:pt x="361" y="125"/>
                            </a:lnTo>
                            <a:lnTo>
                              <a:pt x="451" y="150"/>
                            </a:lnTo>
                            <a:lnTo>
                              <a:pt x="554" y="173"/>
                            </a:lnTo>
                            <a:lnTo>
                              <a:pt x="637" y="176"/>
                            </a:lnTo>
                            <a:lnTo>
                              <a:pt x="723" y="173"/>
                            </a:lnTo>
                            <a:lnTo>
                              <a:pt x="740" y="163"/>
                            </a:lnTo>
                            <a:lnTo>
                              <a:pt x="764" y="135"/>
                            </a:lnTo>
                            <a:lnTo>
                              <a:pt x="784" y="113"/>
                            </a:lnTo>
                            <a:lnTo>
                              <a:pt x="812" y="95"/>
                            </a:lnTo>
                            <a:lnTo>
                              <a:pt x="821" y="73"/>
                            </a:lnTo>
                            <a:lnTo>
                              <a:pt x="835" y="54"/>
                            </a:lnTo>
                            <a:lnTo>
                              <a:pt x="855" y="45"/>
                            </a:lnTo>
                            <a:lnTo>
                              <a:pt x="879" y="36"/>
                            </a:lnTo>
                            <a:lnTo>
                              <a:pt x="915" y="33"/>
                            </a:lnTo>
                            <a:lnTo>
                              <a:pt x="952" y="41"/>
                            </a:lnTo>
                            <a:lnTo>
                              <a:pt x="984" y="57"/>
                            </a:lnTo>
                            <a:lnTo>
                              <a:pt x="1002" y="76"/>
                            </a:lnTo>
                            <a:lnTo>
                              <a:pt x="1009" y="102"/>
                            </a:lnTo>
                            <a:lnTo>
                              <a:pt x="996" y="154"/>
                            </a:lnTo>
                            <a:lnTo>
                              <a:pt x="1008" y="174"/>
                            </a:lnTo>
                            <a:lnTo>
                              <a:pt x="1011" y="198"/>
                            </a:lnTo>
                            <a:lnTo>
                              <a:pt x="1004" y="216"/>
                            </a:lnTo>
                            <a:lnTo>
                              <a:pt x="985" y="237"/>
                            </a:lnTo>
                            <a:lnTo>
                              <a:pt x="973" y="252"/>
                            </a:lnTo>
                            <a:lnTo>
                              <a:pt x="983" y="273"/>
                            </a:lnTo>
                            <a:lnTo>
                              <a:pt x="980" y="296"/>
                            </a:lnTo>
                            <a:lnTo>
                              <a:pt x="969" y="312"/>
                            </a:lnTo>
                            <a:lnTo>
                              <a:pt x="959" y="327"/>
                            </a:lnTo>
                            <a:lnTo>
                              <a:pt x="953" y="353"/>
                            </a:lnTo>
                            <a:lnTo>
                              <a:pt x="942" y="364"/>
                            </a:lnTo>
                            <a:lnTo>
                              <a:pt x="912" y="367"/>
                            </a:lnTo>
                            <a:lnTo>
                              <a:pt x="869" y="366"/>
                            </a:lnTo>
                            <a:lnTo>
                              <a:pt x="830" y="358"/>
                            </a:lnTo>
                            <a:lnTo>
                              <a:pt x="784" y="345"/>
                            </a:lnTo>
                            <a:lnTo>
                              <a:pt x="754" y="329"/>
                            </a:lnTo>
                            <a:lnTo>
                              <a:pt x="733" y="316"/>
                            </a:lnTo>
                            <a:lnTo>
                              <a:pt x="659" y="326"/>
                            </a:lnTo>
                            <a:lnTo>
                              <a:pt x="560" y="339"/>
                            </a:lnTo>
                            <a:lnTo>
                              <a:pt x="486" y="345"/>
                            </a:lnTo>
                            <a:lnTo>
                              <a:pt x="411" y="345"/>
                            </a:lnTo>
                            <a:lnTo>
                              <a:pt x="314" y="342"/>
                            </a:lnTo>
                            <a:lnTo>
                              <a:pt x="255" y="333"/>
                            </a:lnTo>
                            <a:lnTo>
                              <a:pt x="153" y="294"/>
                            </a:lnTo>
                            <a:lnTo>
                              <a:pt x="89" y="259"/>
                            </a:lnTo>
                            <a:lnTo>
                              <a:pt x="51" y="205"/>
                            </a:lnTo>
                            <a:lnTo>
                              <a:pt x="25" y="184"/>
                            </a:lnTo>
                            <a:lnTo>
                              <a:pt x="0" y="129"/>
                            </a:lnTo>
                            <a:lnTo>
                              <a:pt x="45" y="98"/>
                            </a:lnTo>
                            <a:lnTo>
                              <a:pt x="107" y="87"/>
                            </a:lnTo>
                            <a:lnTo>
                              <a:pt x="177" y="26"/>
                            </a:lnTo>
                            <a:lnTo>
                              <a:pt x="217" y="15"/>
                            </a:lnTo>
                            <a:lnTo>
                              <a:pt x="243" y="0"/>
                            </a:lnTo>
                            <a:close/>
                          </a:path>
                        </a:pathLst>
                      </a:custGeom>
                      <a:solidFill>
                        <a:srgbClr val="e0a080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26" name="Freeform 79"/>
                      <p:cNvSpPr/>
                      <p:nvPr/>
                    </p:nvSpPr>
                    <p:spPr>
                      <a:xfrm>
                        <a:off x="831960" y="1643040"/>
                        <a:ext cx="7920" cy="27000"/>
                      </a:xfrm>
                      <a:custGeom>
                        <a:avLst/>
                        <a:gdLst>
                          <a:gd name="textAreaLeft" fmla="*/ 0 w 7920"/>
                          <a:gd name="textAreaRight" fmla="*/ 8280 w 7920"/>
                          <a:gd name="textAreaTop" fmla="*/ 0 h 27000"/>
                          <a:gd name="textAreaBottom" fmla="*/ 27360 h 27000"/>
                        </a:gdLst>
                        <a:ahLst/>
                        <a:rect l="textAreaLeft" t="textAreaTop" r="textAreaRight" b="textAreaBottom"/>
                        <a:pathLst>
                          <a:path w="23" h="85">
                            <a:moveTo>
                              <a:pt x="23" y="0"/>
                            </a:moveTo>
                            <a:lnTo>
                              <a:pt x="12" y="3"/>
                            </a:lnTo>
                            <a:lnTo>
                              <a:pt x="4" y="15"/>
                            </a:lnTo>
                            <a:lnTo>
                              <a:pt x="0" y="27"/>
                            </a:lnTo>
                            <a:lnTo>
                              <a:pt x="0" y="38"/>
                            </a:lnTo>
                            <a:lnTo>
                              <a:pt x="5" y="62"/>
                            </a:lnTo>
                            <a:lnTo>
                              <a:pt x="4" y="85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27" name="Freeform 80"/>
                      <p:cNvSpPr/>
                      <p:nvPr/>
                    </p:nvSpPr>
                    <p:spPr>
                      <a:xfrm>
                        <a:off x="866880" y="1676520"/>
                        <a:ext cx="12600" cy="4680"/>
                      </a:xfrm>
                      <a:custGeom>
                        <a:avLst/>
                        <a:gdLst>
                          <a:gd name="textAreaLeft" fmla="*/ 0 w 12600"/>
                          <a:gd name="textAreaRight" fmla="*/ 12960 w 12600"/>
                          <a:gd name="textAreaTop" fmla="*/ 0 h 4680"/>
                          <a:gd name="textAreaBottom" fmla="*/ 5040 h 4680"/>
                        </a:gdLst>
                        <a:ahLst/>
                        <a:rect l="textAreaLeft" t="textAreaTop" r="textAreaRight" b="textAreaBottom"/>
                        <a:pathLst>
                          <a:path w="42" h="12">
                            <a:moveTo>
                              <a:pt x="42" y="6"/>
                            </a:moveTo>
                            <a:lnTo>
                              <a:pt x="28" y="12"/>
                            </a:lnTo>
                            <a:lnTo>
                              <a:pt x="10" y="9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28" name="Freeform 81"/>
                      <p:cNvSpPr/>
                      <p:nvPr/>
                    </p:nvSpPr>
                    <p:spPr>
                      <a:xfrm>
                        <a:off x="858960" y="1708200"/>
                        <a:ext cx="14040" cy="5040"/>
                      </a:xfrm>
                      <a:custGeom>
                        <a:avLst/>
                        <a:gdLst>
                          <a:gd name="textAreaLeft" fmla="*/ 0 w 14040"/>
                          <a:gd name="textAreaRight" fmla="*/ 14400 w 14040"/>
                          <a:gd name="textAreaTop" fmla="*/ 0 h 5040"/>
                          <a:gd name="textAreaBottom" fmla="*/ 5400 h 5040"/>
                        </a:gdLst>
                        <a:ahLst/>
                        <a:rect l="textAreaLeft" t="textAreaTop" r="textAreaRight" b="textAreaBottom"/>
                        <a:pathLst>
                          <a:path w="45" h="14">
                            <a:moveTo>
                              <a:pt x="45" y="0"/>
                            </a:moveTo>
                            <a:lnTo>
                              <a:pt x="40" y="11"/>
                            </a:lnTo>
                            <a:lnTo>
                              <a:pt x="26" y="14"/>
                            </a:lnTo>
                            <a:lnTo>
                              <a:pt x="13" y="10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29" name="Freeform 82"/>
                      <p:cNvSpPr/>
                      <p:nvPr/>
                    </p:nvSpPr>
                    <p:spPr>
                      <a:xfrm>
                        <a:off x="774720" y="1686240"/>
                        <a:ext cx="19080" cy="34920"/>
                      </a:xfrm>
                      <a:custGeom>
                        <a:avLst/>
                        <a:gdLst>
                          <a:gd name="textAreaLeft" fmla="*/ 0 w 19080"/>
                          <a:gd name="textAreaRight" fmla="*/ 19440 w 19080"/>
                          <a:gd name="textAreaTop" fmla="*/ 0 h 34920"/>
                          <a:gd name="textAreaBottom" fmla="*/ 35280 h 34920"/>
                        </a:gdLst>
                        <a:ahLst/>
                        <a:rect l="textAreaLeft" t="textAreaTop" r="textAreaRight" b="textAreaBottom"/>
                        <a:pathLst>
                          <a:path w="57" h="109">
                            <a:moveTo>
                              <a:pt x="0" y="0"/>
                            </a:moveTo>
                            <a:lnTo>
                              <a:pt x="18" y="15"/>
                            </a:lnTo>
                            <a:lnTo>
                              <a:pt x="39" y="39"/>
                            </a:lnTo>
                            <a:lnTo>
                              <a:pt x="48" y="67"/>
                            </a:lnTo>
                            <a:lnTo>
                              <a:pt x="57" y="84"/>
                            </a:lnTo>
                            <a:lnTo>
                              <a:pt x="48" y="109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520" bIns="-115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30" name="Freeform 83"/>
                      <p:cNvSpPr/>
                      <p:nvPr/>
                    </p:nvSpPr>
                    <p:spPr>
                      <a:xfrm>
                        <a:off x="833400" y="1665360"/>
                        <a:ext cx="19080" cy="9720"/>
                      </a:xfrm>
                      <a:custGeom>
                        <a:avLst/>
                        <a:gdLst>
                          <a:gd name="textAreaLeft" fmla="*/ 0 w 19080"/>
                          <a:gd name="textAreaRight" fmla="*/ 19440 w 19080"/>
                          <a:gd name="textAreaTop" fmla="*/ 0 h 9720"/>
                          <a:gd name="textAreaBottom" fmla="*/ 10080 h 9720"/>
                        </a:gdLst>
                        <a:ahLst/>
                        <a:rect l="textAreaLeft" t="textAreaTop" r="textAreaRight" b="textAreaBottom"/>
                        <a:pathLst>
                          <a:path w="59" h="30">
                            <a:moveTo>
                              <a:pt x="0" y="30"/>
                            </a:moveTo>
                            <a:lnTo>
                              <a:pt x="11" y="16"/>
                            </a:lnTo>
                            <a:lnTo>
                              <a:pt x="24" y="6"/>
                            </a:lnTo>
                            <a:lnTo>
                              <a:pt x="38" y="0"/>
                            </a:lnTo>
                            <a:lnTo>
                              <a:pt x="59" y="2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31" name="Freeform 84"/>
                      <p:cNvSpPr/>
                      <p:nvPr/>
                    </p:nvSpPr>
                    <p:spPr>
                      <a:xfrm>
                        <a:off x="849240" y="1654200"/>
                        <a:ext cx="11160" cy="11160"/>
                      </a:xfrm>
                      <a:custGeom>
                        <a:avLst/>
                        <a:gdLst>
                          <a:gd name="textAreaLeft" fmla="*/ 0 w 11160"/>
                          <a:gd name="textAreaRight" fmla="*/ 11520 w 11160"/>
                          <a:gd name="textAreaTop" fmla="*/ 0 h 11160"/>
                          <a:gd name="textAreaBottom" fmla="*/ 11520 h 11160"/>
                        </a:gdLst>
                        <a:ahLst/>
                        <a:rect l="textAreaLeft" t="textAreaTop" r="textAreaRight" b="textAreaBottom"/>
                        <a:pathLst>
                          <a:path w="38" h="31">
                            <a:moveTo>
                              <a:pt x="38" y="0"/>
                            </a:moveTo>
                            <a:lnTo>
                              <a:pt x="26" y="0"/>
                            </a:lnTo>
                            <a:lnTo>
                              <a:pt x="16" y="5"/>
                            </a:lnTo>
                            <a:lnTo>
                              <a:pt x="9" y="11"/>
                            </a:lnTo>
                            <a:lnTo>
                              <a:pt x="2" y="20"/>
                            </a:lnTo>
                            <a:lnTo>
                              <a:pt x="0" y="31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32" name="Freeform 85"/>
                      <p:cNvSpPr/>
                      <p:nvPr/>
                    </p:nvSpPr>
                    <p:spPr>
                      <a:xfrm>
                        <a:off x="847800" y="1641600"/>
                        <a:ext cx="4680" cy="14400"/>
                      </a:xfrm>
                      <a:custGeom>
                        <a:avLst/>
                        <a:gdLst>
                          <a:gd name="textAreaLeft" fmla="*/ 0 w 4680"/>
                          <a:gd name="textAreaRight" fmla="*/ 5040 w 4680"/>
                          <a:gd name="textAreaTop" fmla="*/ 0 h 14400"/>
                          <a:gd name="textAreaBottom" fmla="*/ 14760 h 14400"/>
                        </a:gdLst>
                        <a:ahLst/>
                        <a:rect l="textAreaLeft" t="textAreaTop" r="textAreaRight" b="textAreaBottom"/>
                        <a:pathLst>
                          <a:path w="15" h="45">
                            <a:moveTo>
                              <a:pt x="15" y="0"/>
                            </a:moveTo>
                            <a:lnTo>
                              <a:pt x="8" y="6"/>
                            </a:lnTo>
                            <a:lnTo>
                              <a:pt x="3" y="19"/>
                            </a:lnTo>
                            <a:lnTo>
                              <a:pt x="0" y="32"/>
                            </a:lnTo>
                            <a:lnTo>
                              <a:pt x="0" y="45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33" name="Freeform 86"/>
                      <p:cNvSpPr/>
                      <p:nvPr/>
                    </p:nvSpPr>
                    <p:spPr>
                      <a:xfrm>
                        <a:off x="838080" y="1648080"/>
                        <a:ext cx="9720" cy="7920"/>
                      </a:xfrm>
                      <a:custGeom>
                        <a:avLst/>
                        <a:gdLst>
                          <a:gd name="textAreaLeft" fmla="*/ 0 w 9720"/>
                          <a:gd name="textAreaRight" fmla="*/ 10080 w 9720"/>
                          <a:gd name="textAreaTop" fmla="*/ 0 h 7920"/>
                          <a:gd name="textAreaBottom" fmla="*/ 8280 h 7920"/>
                        </a:gdLst>
                        <a:ahLst/>
                        <a:rect l="textAreaLeft" t="textAreaTop" r="textAreaRight" b="textAreaBottom"/>
                        <a:pathLst>
                          <a:path w="26" h="25">
                            <a:moveTo>
                              <a:pt x="0" y="0"/>
                            </a:moveTo>
                            <a:lnTo>
                              <a:pt x="11" y="5"/>
                            </a:lnTo>
                            <a:lnTo>
                              <a:pt x="19" y="14"/>
                            </a:lnTo>
                            <a:lnTo>
                              <a:pt x="26" y="25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134" name="Freeform 87"/>
                    <p:cNvSpPr/>
                    <p:nvPr/>
                  </p:nvSpPr>
                  <p:spPr>
                    <a:xfrm>
                      <a:off x="533520" y="1587600"/>
                      <a:ext cx="104760" cy="84240"/>
                    </a:xfrm>
                    <a:custGeom>
                      <a:avLst/>
                      <a:gdLst>
                        <a:gd name="textAreaLeft" fmla="*/ 0 w 104760"/>
                        <a:gd name="textAreaRight" fmla="*/ 105120 w 104760"/>
                        <a:gd name="textAreaTop" fmla="*/ 0 h 84240"/>
                        <a:gd name="textAreaBottom" fmla="*/ 84600 h 84240"/>
                      </a:gdLst>
                      <a:ahLst/>
                      <a:rect l="textAreaLeft" t="textAreaTop" r="textAreaRight" b="textAreaBottom"/>
                      <a:pathLst>
                        <a:path w="333" h="268">
                          <a:moveTo>
                            <a:pt x="0" y="140"/>
                          </a:moveTo>
                          <a:lnTo>
                            <a:pt x="3" y="170"/>
                          </a:lnTo>
                          <a:lnTo>
                            <a:pt x="18" y="191"/>
                          </a:lnTo>
                          <a:lnTo>
                            <a:pt x="19" y="195"/>
                          </a:lnTo>
                          <a:lnTo>
                            <a:pt x="38" y="222"/>
                          </a:lnTo>
                          <a:lnTo>
                            <a:pt x="35" y="227"/>
                          </a:lnTo>
                          <a:lnTo>
                            <a:pt x="55" y="249"/>
                          </a:lnTo>
                          <a:lnTo>
                            <a:pt x="84" y="268"/>
                          </a:lnTo>
                          <a:lnTo>
                            <a:pt x="100" y="249"/>
                          </a:lnTo>
                          <a:lnTo>
                            <a:pt x="120" y="231"/>
                          </a:lnTo>
                          <a:lnTo>
                            <a:pt x="141" y="216"/>
                          </a:lnTo>
                          <a:lnTo>
                            <a:pt x="164" y="214"/>
                          </a:lnTo>
                          <a:lnTo>
                            <a:pt x="196" y="213"/>
                          </a:lnTo>
                          <a:lnTo>
                            <a:pt x="214" y="190"/>
                          </a:lnTo>
                          <a:lnTo>
                            <a:pt x="230" y="170"/>
                          </a:lnTo>
                          <a:lnTo>
                            <a:pt x="251" y="158"/>
                          </a:lnTo>
                          <a:lnTo>
                            <a:pt x="272" y="150"/>
                          </a:lnTo>
                          <a:lnTo>
                            <a:pt x="306" y="143"/>
                          </a:lnTo>
                          <a:lnTo>
                            <a:pt x="328" y="130"/>
                          </a:lnTo>
                          <a:lnTo>
                            <a:pt x="333" y="117"/>
                          </a:lnTo>
                          <a:lnTo>
                            <a:pt x="327" y="84"/>
                          </a:lnTo>
                          <a:lnTo>
                            <a:pt x="323" y="86"/>
                          </a:lnTo>
                          <a:lnTo>
                            <a:pt x="308" y="57"/>
                          </a:lnTo>
                          <a:lnTo>
                            <a:pt x="302" y="43"/>
                          </a:lnTo>
                          <a:lnTo>
                            <a:pt x="302" y="41"/>
                          </a:lnTo>
                          <a:lnTo>
                            <a:pt x="289" y="23"/>
                          </a:lnTo>
                          <a:lnTo>
                            <a:pt x="264" y="0"/>
                          </a:lnTo>
                          <a:lnTo>
                            <a:pt x="220" y="18"/>
                          </a:lnTo>
                          <a:lnTo>
                            <a:pt x="194" y="54"/>
                          </a:lnTo>
                          <a:lnTo>
                            <a:pt x="160" y="69"/>
                          </a:lnTo>
                          <a:lnTo>
                            <a:pt x="109" y="89"/>
                          </a:lnTo>
                          <a:lnTo>
                            <a:pt x="94" y="115"/>
                          </a:lnTo>
                          <a:lnTo>
                            <a:pt x="71" y="117"/>
                          </a:lnTo>
                          <a:lnTo>
                            <a:pt x="40" y="130"/>
                          </a:lnTo>
                          <a:lnTo>
                            <a:pt x="0" y="140"/>
                          </a:lnTo>
                          <a:close/>
                        </a:path>
                      </a:pathLst>
                    </a:custGeom>
                    <a:solidFill>
                      <a:srgbClr val="e040a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800" bIns="37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35" name="Freeform 88"/>
                    <p:cNvSpPr/>
                    <p:nvPr/>
                  </p:nvSpPr>
                  <p:spPr>
                    <a:xfrm>
                      <a:off x="577800" y="1433520"/>
                      <a:ext cx="123840" cy="101880"/>
                    </a:xfrm>
                    <a:custGeom>
                      <a:avLst/>
                      <a:gdLst>
                        <a:gd name="textAreaLeft" fmla="*/ 0 w 123840"/>
                        <a:gd name="textAreaRight" fmla="*/ 124200 w 123840"/>
                        <a:gd name="textAreaTop" fmla="*/ 0 h 101880"/>
                        <a:gd name="textAreaBottom" fmla="*/ 102240 h 101880"/>
                      </a:gdLst>
                      <a:ahLst/>
                      <a:rect l="textAreaLeft" t="textAreaTop" r="textAreaRight" b="textAreaBottom"/>
                      <a:pathLst>
                        <a:path w="389" h="317">
                          <a:moveTo>
                            <a:pt x="0" y="0"/>
                          </a:moveTo>
                          <a:lnTo>
                            <a:pt x="59" y="33"/>
                          </a:lnTo>
                          <a:lnTo>
                            <a:pt x="113" y="66"/>
                          </a:lnTo>
                          <a:lnTo>
                            <a:pt x="157" y="86"/>
                          </a:lnTo>
                          <a:lnTo>
                            <a:pt x="203" y="110"/>
                          </a:lnTo>
                          <a:lnTo>
                            <a:pt x="267" y="143"/>
                          </a:lnTo>
                          <a:lnTo>
                            <a:pt x="306" y="205"/>
                          </a:lnTo>
                          <a:lnTo>
                            <a:pt x="337" y="313"/>
                          </a:lnTo>
                          <a:lnTo>
                            <a:pt x="366" y="224"/>
                          </a:lnTo>
                          <a:lnTo>
                            <a:pt x="389" y="165"/>
                          </a:lnTo>
                          <a:lnTo>
                            <a:pt x="386" y="120"/>
                          </a:lnTo>
                          <a:lnTo>
                            <a:pt x="388" y="165"/>
                          </a:lnTo>
                          <a:lnTo>
                            <a:pt x="363" y="223"/>
                          </a:lnTo>
                          <a:lnTo>
                            <a:pt x="341" y="317"/>
                          </a:lnTo>
                          <a:lnTo>
                            <a:pt x="307" y="202"/>
                          </a:lnTo>
                          <a:lnTo>
                            <a:pt x="267" y="144"/>
                          </a:lnTo>
                          <a:lnTo>
                            <a:pt x="202" y="110"/>
                          </a:lnTo>
                          <a:lnTo>
                            <a:pt x="156" y="88"/>
                          </a:lnTo>
                          <a:lnTo>
                            <a:pt x="112" y="66"/>
                          </a:lnTo>
                          <a:lnTo>
                            <a:pt x="56" y="3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e040a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36" name="Freeform 89"/>
                    <p:cNvSpPr/>
                    <p:nvPr/>
                  </p:nvSpPr>
                  <p:spPr>
                    <a:xfrm>
                      <a:off x="590760" y="1521000"/>
                      <a:ext cx="47520" cy="85680"/>
                    </a:xfrm>
                    <a:custGeom>
                      <a:avLst/>
                      <a:gdLst>
                        <a:gd name="textAreaLeft" fmla="*/ 0 w 47520"/>
                        <a:gd name="textAreaRight" fmla="*/ 47880 w 47520"/>
                        <a:gd name="textAreaTop" fmla="*/ 0 h 85680"/>
                        <a:gd name="textAreaBottom" fmla="*/ 86040 h 85680"/>
                      </a:gdLst>
                      <a:ahLst/>
                      <a:rect l="textAreaLeft" t="textAreaTop" r="textAreaRight" b="textAreaBottom"/>
                      <a:pathLst>
                        <a:path w="151" h="271">
                          <a:moveTo>
                            <a:pt x="71" y="206"/>
                          </a:moveTo>
                          <a:lnTo>
                            <a:pt x="27" y="164"/>
                          </a:lnTo>
                          <a:lnTo>
                            <a:pt x="13" y="122"/>
                          </a:lnTo>
                          <a:lnTo>
                            <a:pt x="8" y="77"/>
                          </a:lnTo>
                          <a:lnTo>
                            <a:pt x="1" y="17"/>
                          </a:lnTo>
                          <a:lnTo>
                            <a:pt x="15" y="6"/>
                          </a:lnTo>
                          <a:lnTo>
                            <a:pt x="27" y="5"/>
                          </a:lnTo>
                          <a:lnTo>
                            <a:pt x="36" y="42"/>
                          </a:lnTo>
                          <a:lnTo>
                            <a:pt x="56" y="63"/>
                          </a:lnTo>
                          <a:lnTo>
                            <a:pt x="63" y="112"/>
                          </a:lnTo>
                          <a:lnTo>
                            <a:pt x="76" y="149"/>
                          </a:lnTo>
                          <a:lnTo>
                            <a:pt x="107" y="181"/>
                          </a:lnTo>
                          <a:lnTo>
                            <a:pt x="130" y="220"/>
                          </a:lnTo>
                          <a:lnTo>
                            <a:pt x="151" y="271"/>
                          </a:lnTo>
                          <a:lnTo>
                            <a:pt x="126" y="220"/>
                          </a:lnTo>
                          <a:lnTo>
                            <a:pt x="104" y="180"/>
                          </a:lnTo>
                          <a:lnTo>
                            <a:pt x="74" y="148"/>
                          </a:lnTo>
                          <a:lnTo>
                            <a:pt x="62" y="112"/>
                          </a:lnTo>
                          <a:lnTo>
                            <a:pt x="59" y="64"/>
                          </a:lnTo>
                          <a:lnTo>
                            <a:pt x="36" y="46"/>
                          </a:lnTo>
                          <a:lnTo>
                            <a:pt x="32" y="0"/>
                          </a:lnTo>
                          <a:lnTo>
                            <a:pt x="18" y="5"/>
                          </a:lnTo>
                          <a:lnTo>
                            <a:pt x="0" y="17"/>
                          </a:lnTo>
                          <a:lnTo>
                            <a:pt x="2" y="42"/>
                          </a:lnTo>
                          <a:lnTo>
                            <a:pt x="8" y="80"/>
                          </a:lnTo>
                          <a:lnTo>
                            <a:pt x="13" y="115"/>
                          </a:lnTo>
                          <a:lnTo>
                            <a:pt x="27" y="162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240" bIns="39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</p:grpSp>
        <p:sp>
          <p:nvSpPr>
            <p:cNvPr id="137" name="Text Box 90"/>
            <p:cNvSpPr/>
            <p:nvPr/>
          </p:nvSpPr>
          <p:spPr>
            <a:xfrm>
              <a:off x="345600" y="90900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</a:rPr>
                <a:t>！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13"/>
          <p:cNvSpPr/>
          <p:nvPr/>
        </p:nvSpPr>
        <p:spPr>
          <a:xfrm>
            <a:off x="7042320" y="6566040"/>
            <a:ext cx="1904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C4AE-E7A3-4E7D-AD99-B47980911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/>
          </p:nvPr>
        </p:nvSpPr>
        <p:spPr>
          <a:xfrm>
            <a:off x="1790640" y="188640"/>
            <a:ext cx="706752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在线电阻的测量法（拓展，选做）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1" name="Group 4"/>
          <p:cNvGrpSpPr/>
          <p:nvPr/>
        </p:nvGrpSpPr>
        <p:grpSpPr>
          <a:xfrm>
            <a:off x="855720" y="-720"/>
            <a:ext cx="873000" cy="1034280"/>
            <a:chOff x="855720" y="-720"/>
            <a:chExt cx="873000" cy="1034280"/>
          </a:xfrm>
        </p:grpSpPr>
        <p:grpSp>
          <p:nvGrpSpPr>
            <p:cNvPr id="612" name="Group 5"/>
            <p:cNvGrpSpPr/>
            <p:nvPr/>
          </p:nvGrpSpPr>
          <p:grpSpPr>
            <a:xfrm>
              <a:off x="855720" y="311040"/>
              <a:ext cx="873000" cy="722520"/>
              <a:chOff x="855720" y="311040"/>
              <a:chExt cx="873000" cy="722520"/>
            </a:xfrm>
          </p:grpSpPr>
          <p:grpSp>
            <p:nvGrpSpPr>
              <p:cNvPr id="613" name="Group 6"/>
              <p:cNvGrpSpPr/>
              <p:nvPr/>
            </p:nvGrpSpPr>
            <p:grpSpPr>
              <a:xfrm>
                <a:off x="855720" y="433440"/>
                <a:ext cx="873000" cy="600120"/>
                <a:chOff x="855720" y="433440"/>
                <a:chExt cx="873000" cy="600120"/>
              </a:xfrm>
            </p:grpSpPr>
            <p:grpSp>
              <p:nvGrpSpPr>
                <p:cNvPr id="614" name="Group 7"/>
                <p:cNvGrpSpPr/>
                <p:nvPr/>
              </p:nvGrpSpPr>
              <p:grpSpPr>
                <a:xfrm>
                  <a:off x="879480" y="433440"/>
                  <a:ext cx="849240" cy="587520"/>
                  <a:chOff x="879480" y="433440"/>
                  <a:chExt cx="849240" cy="587520"/>
                </a:xfrm>
              </p:grpSpPr>
              <p:grpSp>
                <p:nvGrpSpPr>
                  <p:cNvPr id="615" name="Group 8"/>
                  <p:cNvGrpSpPr/>
                  <p:nvPr/>
                </p:nvGrpSpPr>
                <p:grpSpPr>
                  <a:xfrm>
                    <a:off x="879480" y="433440"/>
                    <a:ext cx="849240" cy="587520"/>
                    <a:chOff x="879480" y="433440"/>
                    <a:chExt cx="849240" cy="587520"/>
                  </a:xfrm>
                </p:grpSpPr>
                <p:sp>
                  <p:nvSpPr>
                    <p:cNvPr id="616" name="Line 9"/>
                    <p:cNvSpPr/>
                    <p:nvPr/>
                  </p:nvSpPr>
                  <p:spPr>
                    <a:xfrm>
                      <a:off x="1539720" y="824040"/>
                      <a:ext cx="189000" cy="3024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17" name="Line 10"/>
                    <p:cNvSpPr/>
                    <p:nvPr/>
                  </p:nvSpPr>
                  <p:spPr>
                    <a:xfrm>
                      <a:off x="1550880" y="862200"/>
                      <a:ext cx="154080" cy="1728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18" name="Line 11"/>
                    <p:cNvSpPr/>
                    <p:nvPr/>
                  </p:nvSpPr>
                  <p:spPr>
                    <a:xfrm>
                      <a:off x="1488960" y="862200"/>
                      <a:ext cx="115920" cy="3960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19" name="Line 12"/>
                    <p:cNvSpPr/>
                    <p:nvPr/>
                  </p:nvSpPr>
                  <p:spPr>
                    <a:xfrm>
                      <a:off x="1422360" y="851040"/>
                      <a:ext cx="114480" cy="12528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20" name="Line 13"/>
                    <p:cNvSpPr/>
                    <p:nvPr/>
                  </p:nvSpPr>
                  <p:spPr>
                    <a:xfrm>
                      <a:off x="1425600" y="879480"/>
                      <a:ext cx="66600" cy="14148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21" name="Line 14"/>
                    <p:cNvSpPr/>
                    <p:nvPr/>
                  </p:nvSpPr>
                  <p:spPr>
                    <a:xfrm>
                      <a:off x="1411200" y="893880"/>
                      <a:ext cx="27000" cy="8424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22" name="Line 15"/>
                    <p:cNvSpPr/>
                    <p:nvPr/>
                  </p:nvSpPr>
                  <p:spPr>
                    <a:xfrm flipH="1">
                      <a:off x="1295280" y="854280"/>
                      <a:ext cx="68400" cy="6012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23" name="Line 16"/>
                    <p:cNvSpPr/>
                    <p:nvPr/>
                  </p:nvSpPr>
                  <p:spPr>
                    <a:xfrm flipH="1">
                      <a:off x="1211040" y="836640"/>
                      <a:ext cx="161640" cy="7776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960" bIns="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24" name="Freeform 17"/>
                    <p:cNvSpPr/>
                    <p:nvPr/>
                  </p:nvSpPr>
                  <p:spPr>
                    <a:xfrm>
                      <a:off x="922320" y="474840"/>
                      <a:ext cx="363600" cy="406440"/>
                    </a:xfrm>
                    <a:custGeom>
                      <a:avLst/>
                      <a:gdLst>
                        <a:gd name="textAreaLeft" fmla="*/ 0 w 363600"/>
                        <a:gd name="textAreaRight" fmla="*/ 363960 w 363600"/>
                        <a:gd name="textAreaTop" fmla="*/ 0 h 406440"/>
                        <a:gd name="textAreaBottom" fmla="*/ 406800 h 406440"/>
                      </a:gdLst>
                      <a:ahLst/>
                      <a:rect l="textAreaLeft" t="textAreaTop" r="textAreaRight" b="textAreaBottom"/>
                      <a:pathLst>
                        <a:path w="1146" h="1280">
                          <a:moveTo>
                            <a:pt x="666" y="0"/>
                          </a:moveTo>
                          <a:lnTo>
                            <a:pt x="549" y="56"/>
                          </a:lnTo>
                          <a:lnTo>
                            <a:pt x="434" y="134"/>
                          </a:lnTo>
                          <a:lnTo>
                            <a:pt x="324" y="231"/>
                          </a:lnTo>
                          <a:lnTo>
                            <a:pt x="217" y="344"/>
                          </a:lnTo>
                          <a:lnTo>
                            <a:pt x="140" y="445"/>
                          </a:lnTo>
                          <a:lnTo>
                            <a:pt x="102" y="512"/>
                          </a:lnTo>
                          <a:lnTo>
                            <a:pt x="50" y="632"/>
                          </a:lnTo>
                          <a:lnTo>
                            <a:pt x="17" y="742"/>
                          </a:lnTo>
                          <a:lnTo>
                            <a:pt x="0" y="845"/>
                          </a:lnTo>
                          <a:lnTo>
                            <a:pt x="11" y="961"/>
                          </a:lnTo>
                          <a:lnTo>
                            <a:pt x="56" y="1043"/>
                          </a:lnTo>
                          <a:lnTo>
                            <a:pt x="114" y="1107"/>
                          </a:lnTo>
                          <a:lnTo>
                            <a:pt x="166" y="1153"/>
                          </a:lnTo>
                          <a:lnTo>
                            <a:pt x="267" y="1216"/>
                          </a:lnTo>
                          <a:lnTo>
                            <a:pt x="357" y="1248"/>
                          </a:lnTo>
                          <a:lnTo>
                            <a:pt x="467" y="1273"/>
                          </a:lnTo>
                          <a:lnTo>
                            <a:pt x="646" y="1280"/>
                          </a:lnTo>
                          <a:lnTo>
                            <a:pt x="890" y="1248"/>
                          </a:lnTo>
                          <a:lnTo>
                            <a:pt x="1010" y="1196"/>
                          </a:lnTo>
                          <a:lnTo>
                            <a:pt x="1146" y="1081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e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25" name="Freeform 18"/>
                    <p:cNvSpPr/>
                    <p:nvPr/>
                  </p:nvSpPr>
                  <p:spPr>
                    <a:xfrm>
                      <a:off x="915840" y="433440"/>
                      <a:ext cx="365400" cy="380880"/>
                    </a:xfrm>
                    <a:custGeom>
                      <a:avLst/>
                      <a:gdLst>
                        <a:gd name="textAreaLeft" fmla="*/ 0 w 365400"/>
                        <a:gd name="textAreaRight" fmla="*/ 365760 w 365400"/>
                        <a:gd name="textAreaTop" fmla="*/ 0 h 380880"/>
                        <a:gd name="textAreaBottom" fmla="*/ 381240 h 380880"/>
                      </a:gdLst>
                      <a:ahLst/>
                      <a:rect l="textAreaLeft" t="textAreaTop" r="textAreaRight" b="textAreaBottom"/>
                      <a:pathLst>
                        <a:path w="1152" h="1196">
                          <a:moveTo>
                            <a:pt x="670" y="0"/>
                          </a:moveTo>
                          <a:lnTo>
                            <a:pt x="553" y="54"/>
                          </a:lnTo>
                          <a:lnTo>
                            <a:pt x="437" y="125"/>
                          </a:lnTo>
                          <a:lnTo>
                            <a:pt x="326" y="215"/>
                          </a:lnTo>
                          <a:lnTo>
                            <a:pt x="219" y="323"/>
                          </a:lnTo>
                          <a:lnTo>
                            <a:pt x="141" y="417"/>
                          </a:lnTo>
                          <a:lnTo>
                            <a:pt x="101" y="478"/>
                          </a:lnTo>
                          <a:lnTo>
                            <a:pt x="50" y="592"/>
                          </a:lnTo>
                          <a:lnTo>
                            <a:pt x="20" y="694"/>
                          </a:lnTo>
                          <a:lnTo>
                            <a:pt x="0" y="791"/>
                          </a:lnTo>
                          <a:lnTo>
                            <a:pt x="13" y="899"/>
                          </a:lnTo>
                          <a:lnTo>
                            <a:pt x="56" y="977"/>
                          </a:lnTo>
                          <a:lnTo>
                            <a:pt x="114" y="1036"/>
                          </a:lnTo>
                          <a:lnTo>
                            <a:pt x="166" y="1078"/>
                          </a:lnTo>
                          <a:lnTo>
                            <a:pt x="268" y="1137"/>
                          </a:lnTo>
                          <a:lnTo>
                            <a:pt x="359" y="1167"/>
                          </a:lnTo>
                          <a:lnTo>
                            <a:pt x="468" y="1192"/>
                          </a:lnTo>
                          <a:lnTo>
                            <a:pt x="651" y="1196"/>
                          </a:lnTo>
                          <a:lnTo>
                            <a:pt x="894" y="1167"/>
                          </a:lnTo>
                          <a:lnTo>
                            <a:pt x="1017" y="1120"/>
                          </a:lnTo>
                          <a:lnTo>
                            <a:pt x="1152" y="1012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e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26" name="Freeform 19"/>
                    <p:cNvSpPr/>
                    <p:nvPr/>
                  </p:nvSpPr>
                  <p:spPr>
                    <a:xfrm>
                      <a:off x="879480" y="473040"/>
                      <a:ext cx="272880" cy="320760"/>
                    </a:xfrm>
                    <a:custGeom>
                      <a:avLst/>
                      <a:gdLst>
                        <a:gd name="textAreaLeft" fmla="*/ 0 w 272880"/>
                        <a:gd name="textAreaRight" fmla="*/ 273240 w 272880"/>
                        <a:gd name="textAreaTop" fmla="*/ 0 h 320760"/>
                        <a:gd name="textAreaBottom" fmla="*/ 321120 h 320760"/>
                      </a:gdLst>
                      <a:ahLst/>
                      <a:rect l="textAreaLeft" t="textAreaTop" r="textAreaRight" b="textAreaBottom"/>
                      <a:pathLst>
                        <a:path w="863" h="1012">
                          <a:moveTo>
                            <a:pt x="500" y="0"/>
                          </a:moveTo>
                          <a:lnTo>
                            <a:pt x="412" y="46"/>
                          </a:lnTo>
                          <a:lnTo>
                            <a:pt x="328" y="106"/>
                          </a:lnTo>
                          <a:lnTo>
                            <a:pt x="245" y="182"/>
                          </a:lnTo>
                          <a:lnTo>
                            <a:pt x="163" y="270"/>
                          </a:lnTo>
                          <a:lnTo>
                            <a:pt x="105" y="352"/>
                          </a:lnTo>
                          <a:lnTo>
                            <a:pt x="76" y="403"/>
                          </a:lnTo>
                          <a:lnTo>
                            <a:pt x="38" y="499"/>
                          </a:lnTo>
                          <a:lnTo>
                            <a:pt x="14" y="585"/>
                          </a:lnTo>
                          <a:lnTo>
                            <a:pt x="0" y="668"/>
                          </a:lnTo>
                          <a:lnTo>
                            <a:pt x="8" y="760"/>
                          </a:lnTo>
                          <a:lnTo>
                            <a:pt x="42" y="824"/>
                          </a:lnTo>
                          <a:lnTo>
                            <a:pt x="87" y="875"/>
                          </a:lnTo>
                          <a:lnTo>
                            <a:pt x="125" y="910"/>
                          </a:lnTo>
                          <a:lnTo>
                            <a:pt x="202" y="962"/>
                          </a:lnTo>
                          <a:lnTo>
                            <a:pt x="270" y="987"/>
                          </a:lnTo>
                          <a:lnTo>
                            <a:pt x="352" y="1008"/>
                          </a:lnTo>
                          <a:lnTo>
                            <a:pt x="485" y="1012"/>
                          </a:lnTo>
                          <a:lnTo>
                            <a:pt x="670" y="987"/>
                          </a:lnTo>
                          <a:lnTo>
                            <a:pt x="763" y="945"/>
                          </a:lnTo>
                          <a:lnTo>
                            <a:pt x="863" y="856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e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627" name="Line 20"/>
                  <p:cNvSpPr/>
                  <p:nvPr/>
                </p:nvSpPr>
                <p:spPr>
                  <a:xfrm>
                    <a:off x="1020600" y="798480"/>
                    <a:ext cx="676440" cy="180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28" name="Group 21"/>
                <p:cNvGrpSpPr/>
                <p:nvPr/>
              </p:nvGrpSpPr>
              <p:grpSpPr>
                <a:xfrm>
                  <a:off x="855720" y="844560"/>
                  <a:ext cx="531720" cy="189000"/>
                  <a:chOff x="855720" y="844560"/>
                  <a:chExt cx="531720" cy="189000"/>
                </a:xfrm>
              </p:grpSpPr>
              <p:sp>
                <p:nvSpPr>
                  <p:cNvPr id="629" name="Freeform 22"/>
                  <p:cNvSpPr/>
                  <p:nvPr/>
                </p:nvSpPr>
                <p:spPr>
                  <a:xfrm>
                    <a:off x="977760" y="900000"/>
                    <a:ext cx="169920" cy="63720"/>
                  </a:xfrm>
                  <a:custGeom>
                    <a:avLst/>
                    <a:gdLst>
                      <a:gd name="textAreaLeft" fmla="*/ 0 w 169920"/>
                      <a:gd name="textAreaRight" fmla="*/ 170280 w 169920"/>
                      <a:gd name="textAreaTop" fmla="*/ 0 h 63720"/>
                      <a:gd name="textAreaBottom" fmla="*/ 64080 h 63720"/>
                    </a:gdLst>
                    <a:ahLst/>
                    <a:rect l="textAreaLeft" t="textAreaTop" r="textAreaRight" b="textAreaBottom"/>
                    <a:pathLst>
                      <a:path w="532" h="198">
                        <a:moveTo>
                          <a:pt x="71" y="0"/>
                        </a:moveTo>
                        <a:lnTo>
                          <a:pt x="135" y="39"/>
                        </a:lnTo>
                        <a:lnTo>
                          <a:pt x="232" y="62"/>
                        </a:lnTo>
                        <a:lnTo>
                          <a:pt x="316" y="71"/>
                        </a:lnTo>
                        <a:lnTo>
                          <a:pt x="422" y="76"/>
                        </a:lnTo>
                        <a:lnTo>
                          <a:pt x="532" y="42"/>
                        </a:lnTo>
                        <a:lnTo>
                          <a:pt x="503" y="85"/>
                        </a:lnTo>
                        <a:lnTo>
                          <a:pt x="422" y="127"/>
                        </a:lnTo>
                        <a:lnTo>
                          <a:pt x="304" y="169"/>
                        </a:lnTo>
                        <a:lnTo>
                          <a:pt x="200" y="198"/>
                        </a:lnTo>
                        <a:lnTo>
                          <a:pt x="65" y="198"/>
                        </a:lnTo>
                        <a:lnTo>
                          <a:pt x="0" y="163"/>
                        </a:lnTo>
                        <a:lnTo>
                          <a:pt x="5" y="69"/>
                        </a:lnTo>
                        <a:lnTo>
                          <a:pt x="71" y="0"/>
                        </a:lnTo>
                        <a:close/>
                      </a:path>
                    </a:pathLst>
                  </a:custGeom>
                  <a:solidFill>
                    <a:srgbClr val="c0c0e0"/>
                  </a:solidFill>
                  <a:ln w="3240">
                    <a:solidFill>
                      <a:srgbClr val="c0c0e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0" name="Freeform 23"/>
                  <p:cNvSpPr/>
                  <p:nvPr/>
                </p:nvSpPr>
                <p:spPr>
                  <a:xfrm>
                    <a:off x="1052640" y="917640"/>
                    <a:ext cx="334800" cy="115920"/>
                  </a:xfrm>
                  <a:custGeom>
                    <a:avLst/>
                    <a:gdLst>
                      <a:gd name="textAreaLeft" fmla="*/ 0 w 334800"/>
                      <a:gd name="textAreaRight" fmla="*/ 335160 w 334800"/>
                      <a:gd name="textAreaTop" fmla="*/ 0 h 115920"/>
                      <a:gd name="textAreaBottom" fmla="*/ 116280 h 115920"/>
                    </a:gdLst>
                    <a:ahLst/>
                    <a:rect l="textAreaLeft" t="textAreaTop" r="textAreaRight" b="textAreaBottom"/>
                    <a:pathLst>
                      <a:path w="1055" h="361">
                        <a:moveTo>
                          <a:pt x="0" y="333"/>
                        </a:moveTo>
                        <a:lnTo>
                          <a:pt x="107" y="310"/>
                        </a:lnTo>
                        <a:lnTo>
                          <a:pt x="220" y="280"/>
                        </a:lnTo>
                        <a:lnTo>
                          <a:pt x="336" y="228"/>
                        </a:lnTo>
                        <a:lnTo>
                          <a:pt x="429" y="171"/>
                        </a:lnTo>
                        <a:lnTo>
                          <a:pt x="497" y="120"/>
                        </a:lnTo>
                        <a:lnTo>
                          <a:pt x="541" y="74"/>
                        </a:lnTo>
                        <a:lnTo>
                          <a:pt x="570" y="25"/>
                        </a:lnTo>
                        <a:lnTo>
                          <a:pt x="596" y="0"/>
                        </a:lnTo>
                        <a:lnTo>
                          <a:pt x="674" y="23"/>
                        </a:lnTo>
                        <a:lnTo>
                          <a:pt x="786" y="38"/>
                        </a:lnTo>
                        <a:lnTo>
                          <a:pt x="888" y="38"/>
                        </a:lnTo>
                        <a:lnTo>
                          <a:pt x="982" y="29"/>
                        </a:lnTo>
                        <a:lnTo>
                          <a:pt x="1038" y="6"/>
                        </a:lnTo>
                        <a:lnTo>
                          <a:pt x="1051" y="42"/>
                        </a:lnTo>
                        <a:lnTo>
                          <a:pt x="1055" y="87"/>
                        </a:lnTo>
                        <a:lnTo>
                          <a:pt x="1051" y="142"/>
                        </a:lnTo>
                        <a:lnTo>
                          <a:pt x="1038" y="171"/>
                        </a:lnTo>
                        <a:lnTo>
                          <a:pt x="1010" y="221"/>
                        </a:lnTo>
                        <a:lnTo>
                          <a:pt x="978" y="255"/>
                        </a:lnTo>
                        <a:lnTo>
                          <a:pt x="939" y="296"/>
                        </a:lnTo>
                        <a:lnTo>
                          <a:pt x="883" y="336"/>
                        </a:lnTo>
                        <a:lnTo>
                          <a:pt x="718" y="352"/>
                        </a:lnTo>
                        <a:lnTo>
                          <a:pt x="510" y="356"/>
                        </a:lnTo>
                        <a:lnTo>
                          <a:pt x="308" y="361"/>
                        </a:lnTo>
                        <a:lnTo>
                          <a:pt x="128" y="359"/>
                        </a:lnTo>
                        <a:lnTo>
                          <a:pt x="0" y="333"/>
                        </a:lnTo>
                        <a:close/>
                      </a:path>
                    </a:pathLst>
                  </a:custGeom>
                  <a:solidFill>
                    <a:srgbClr val="e0e0ff"/>
                  </a:solidFill>
                  <a:ln w="3240">
                    <a:solidFill>
                      <a:srgbClr val="e0e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1" name="Freeform 24"/>
                  <p:cNvSpPr/>
                  <p:nvPr/>
                </p:nvSpPr>
                <p:spPr>
                  <a:xfrm>
                    <a:off x="855720" y="844560"/>
                    <a:ext cx="201600" cy="125640"/>
                  </a:xfrm>
                  <a:custGeom>
                    <a:avLst/>
                    <a:gdLst>
                      <a:gd name="textAreaLeft" fmla="*/ 0 w 201600"/>
                      <a:gd name="textAreaRight" fmla="*/ 201960 w 201600"/>
                      <a:gd name="textAreaTop" fmla="*/ 0 h 125640"/>
                      <a:gd name="textAreaBottom" fmla="*/ 126000 h 125640"/>
                    </a:gdLst>
                    <a:ahLst/>
                    <a:rect l="textAreaLeft" t="textAreaTop" r="textAreaRight" b="textAreaBottom"/>
                    <a:pathLst>
                      <a:path w="636" h="396">
                        <a:moveTo>
                          <a:pt x="125" y="0"/>
                        </a:moveTo>
                        <a:lnTo>
                          <a:pt x="223" y="41"/>
                        </a:lnTo>
                        <a:lnTo>
                          <a:pt x="636" y="138"/>
                        </a:lnTo>
                        <a:lnTo>
                          <a:pt x="623" y="157"/>
                        </a:lnTo>
                        <a:lnTo>
                          <a:pt x="520" y="208"/>
                        </a:lnTo>
                        <a:lnTo>
                          <a:pt x="472" y="232"/>
                        </a:lnTo>
                        <a:lnTo>
                          <a:pt x="447" y="274"/>
                        </a:lnTo>
                        <a:lnTo>
                          <a:pt x="439" y="306"/>
                        </a:lnTo>
                        <a:lnTo>
                          <a:pt x="451" y="342"/>
                        </a:lnTo>
                        <a:lnTo>
                          <a:pt x="482" y="361"/>
                        </a:lnTo>
                        <a:lnTo>
                          <a:pt x="520" y="367"/>
                        </a:lnTo>
                        <a:lnTo>
                          <a:pt x="584" y="374"/>
                        </a:lnTo>
                        <a:lnTo>
                          <a:pt x="536" y="393"/>
                        </a:lnTo>
                        <a:lnTo>
                          <a:pt x="465" y="396"/>
                        </a:lnTo>
                        <a:lnTo>
                          <a:pt x="439" y="393"/>
                        </a:lnTo>
                        <a:lnTo>
                          <a:pt x="390" y="378"/>
                        </a:lnTo>
                        <a:lnTo>
                          <a:pt x="301" y="329"/>
                        </a:lnTo>
                        <a:lnTo>
                          <a:pt x="179" y="245"/>
                        </a:lnTo>
                        <a:lnTo>
                          <a:pt x="112" y="202"/>
                        </a:lnTo>
                        <a:lnTo>
                          <a:pt x="41" y="151"/>
                        </a:lnTo>
                        <a:lnTo>
                          <a:pt x="25" y="148"/>
                        </a:lnTo>
                        <a:lnTo>
                          <a:pt x="0" y="106"/>
                        </a:lnTo>
                        <a:lnTo>
                          <a:pt x="8" y="64"/>
                        </a:lnTo>
                        <a:lnTo>
                          <a:pt x="38" y="29"/>
                        </a:lnTo>
                        <a:lnTo>
                          <a:pt x="125" y="0"/>
                        </a:lnTo>
                        <a:close/>
                      </a:path>
                    </a:pathLst>
                  </a:custGeom>
                  <a:solidFill>
                    <a:srgbClr val="e0e0ff"/>
                  </a:solidFill>
                  <a:ln w="3240">
                    <a:solidFill>
                      <a:srgbClr val="e0e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632" name="Group 25"/>
              <p:cNvGrpSpPr/>
              <p:nvPr/>
            </p:nvGrpSpPr>
            <p:grpSpPr>
              <a:xfrm>
                <a:off x="1100160" y="311040"/>
                <a:ext cx="384120" cy="516240"/>
                <a:chOff x="1100160" y="311040"/>
                <a:chExt cx="384120" cy="516240"/>
              </a:xfrm>
            </p:grpSpPr>
            <p:grpSp>
              <p:nvGrpSpPr>
                <p:cNvPr id="633" name="Group 26"/>
                <p:cNvGrpSpPr/>
                <p:nvPr/>
              </p:nvGrpSpPr>
              <p:grpSpPr>
                <a:xfrm>
                  <a:off x="1185840" y="487440"/>
                  <a:ext cx="273240" cy="227160"/>
                  <a:chOff x="1185840" y="487440"/>
                  <a:chExt cx="273240" cy="227160"/>
                </a:xfrm>
              </p:grpSpPr>
              <p:sp>
                <p:nvSpPr>
                  <p:cNvPr id="634" name="Freeform 27"/>
                  <p:cNvSpPr/>
                  <p:nvPr/>
                </p:nvSpPr>
                <p:spPr>
                  <a:xfrm>
                    <a:off x="1185840" y="487440"/>
                    <a:ext cx="177840" cy="141120"/>
                  </a:xfrm>
                  <a:custGeom>
                    <a:avLst/>
                    <a:gdLst>
                      <a:gd name="textAreaLeft" fmla="*/ 0 w 177840"/>
                      <a:gd name="textAreaRight" fmla="*/ 178200 w 177840"/>
                      <a:gd name="textAreaTop" fmla="*/ 0 h 141120"/>
                      <a:gd name="textAreaBottom" fmla="*/ 141480 h 141120"/>
                    </a:gdLst>
                    <a:ahLst/>
                    <a:rect l="textAreaLeft" t="textAreaTop" r="textAreaRight" b="textAreaBottom"/>
                    <a:pathLst>
                      <a:path w="558" h="448">
                        <a:moveTo>
                          <a:pt x="383" y="177"/>
                        </a:moveTo>
                        <a:lnTo>
                          <a:pt x="462" y="214"/>
                        </a:lnTo>
                        <a:lnTo>
                          <a:pt x="484" y="247"/>
                        </a:lnTo>
                        <a:lnTo>
                          <a:pt x="503" y="330"/>
                        </a:lnTo>
                        <a:lnTo>
                          <a:pt x="533" y="391"/>
                        </a:lnTo>
                        <a:lnTo>
                          <a:pt x="558" y="448"/>
                        </a:lnTo>
                        <a:lnTo>
                          <a:pt x="497" y="397"/>
                        </a:lnTo>
                        <a:lnTo>
                          <a:pt x="449" y="372"/>
                        </a:lnTo>
                        <a:lnTo>
                          <a:pt x="378" y="320"/>
                        </a:lnTo>
                        <a:lnTo>
                          <a:pt x="350" y="272"/>
                        </a:lnTo>
                        <a:lnTo>
                          <a:pt x="332" y="202"/>
                        </a:lnTo>
                        <a:lnTo>
                          <a:pt x="78" y="99"/>
                        </a:lnTo>
                        <a:lnTo>
                          <a:pt x="0" y="3"/>
                        </a:lnTo>
                        <a:lnTo>
                          <a:pt x="38" y="0"/>
                        </a:lnTo>
                        <a:lnTo>
                          <a:pt x="121" y="30"/>
                        </a:lnTo>
                        <a:lnTo>
                          <a:pt x="383" y="177"/>
                        </a:lnTo>
                        <a:close/>
                      </a:path>
                    </a:pathLst>
                  </a:custGeom>
                  <a:solidFill>
                    <a:srgbClr val="e040a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635" name="Group 28"/>
                  <p:cNvGrpSpPr/>
                  <p:nvPr/>
                </p:nvGrpSpPr>
                <p:grpSpPr>
                  <a:xfrm>
                    <a:off x="1312920" y="568440"/>
                    <a:ext cx="146160" cy="146160"/>
                    <a:chOff x="1312920" y="568440"/>
                    <a:chExt cx="146160" cy="146160"/>
                  </a:xfrm>
                </p:grpSpPr>
                <p:sp>
                  <p:nvSpPr>
                    <p:cNvPr id="636" name="Freeform 29"/>
                    <p:cNvSpPr/>
                    <p:nvPr/>
                  </p:nvSpPr>
                  <p:spPr>
                    <a:xfrm>
                      <a:off x="1312920" y="568440"/>
                      <a:ext cx="146160" cy="146160"/>
                    </a:xfrm>
                    <a:custGeom>
                      <a:avLst/>
                      <a:gdLst>
                        <a:gd name="textAreaLeft" fmla="*/ 0 w 146160"/>
                        <a:gd name="textAreaRight" fmla="*/ 146520 w 146160"/>
                        <a:gd name="textAreaTop" fmla="*/ 0 h 146160"/>
                        <a:gd name="textAreaBottom" fmla="*/ 146520 h 146160"/>
                      </a:gdLst>
                      <a:ahLst/>
                      <a:rect l="textAreaLeft" t="textAreaTop" r="textAreaRight" b="textAreaBottom"/>
                      <a:pathLst>
                        <a:path w="460" h="462">
                          <a:moveTo>
                            <a:pt x="0" y="375"/>
                          </a:moveTo>
                          <a:lnTo>
                            <a:pt x="62" y="349"/>
                          </a:lnTo>
                          <a:lnTo>
                            <a:pt x="79" y="309"/>
                          </a:lnTo>
                          <a:lnTo>
                            <a:pt x="94" y="272"/>
                          </a:lnTo>
                          <a:lnTo>
                            <a:pt x="96" y="226"/>
                          </a:lnTo>
                          <a:lnTo>
                            <a:pt x="84" y="169"/>
                          </a:lnTo>
                          <a:lnTo>
                            <a:pt x="74" y="109"/>
                          </a:lnTo>
                          <a:lnTo>
                            <a:pt x="90" y="98"/>
                          </a:lnTo>
                          <a:lnTo>
                            <a:pt x="111" y="96"/>
                          </a:lnTo>
                          <a:lnTo>
                            <a:pt x="135" y="109"/>
                          </a:lnTo>
                          <a:lnTo>
                            <a:pt x="160" y="142"/>
                          </a:lnTo>
                          <a:lnTo>
                            <a:pt x="189" y="210"/>
                          </a:lnTo>
                          <a:lnTo>
                            <a:pt x="214" y="152"/>
                          </a:lnTo>
                          <a:lnTo>
                            <a:pt x="252" y="107"/>
                          </a:lnTo>
                          <a:lnTo>
                            <a:pt x="289" y="77"/>
                          </a:lnTo>
                          <a:lnTo>
                            <a:pt x="340" y="32"/>
                          </a:lnTo>
                          <a:lnTo>
                            <a:pt x="378" y="3"/>
                          </a:lnTo>
                          <a:lnTo>
                            <a:pt x="403" y="0"/>
                          </a:lnTo>
                          <a:lnTo>
                            <a:pt x="419" y="16"/>
                          </a:lnTo>
                          <a:lnTo>
                            <a:pt x="412" y="38"/>
                          </a:lnTo>
                          <a:lnTo>
                            <a:pt x="390" y="77"/>
                          </a:lnTo>
                          <a:lnTo>
                            <a:pt x="358" y="125"/>
                          </a:lnTo>
                          <a:lnTo>
                            <a:pt x="318" y="175"/>
                          </a:lnTo>
                          <a:lnTo>
                            <a:pt x="373" y="162"/>
                          </a:lnTo>
                          <a:lnTo>
                            <a:pt x="418" y="163"/>
                          </a:lnTo>
                          <a:lnTo>
                            <a:pt x="441" y="175"/>
                          </a:lnTo>
                          <a:lnTo>
                            <a:pt x="441" y="199"/>
                          </a:lnTo>
                          <a:lnTo>
                            <a:pt x="429" y="221"/>
                          </a:lnTo>
                          <a:lnTo>
                            <a:pt x="406" y="244"/>
                          </a:lnTo>
                          <a:lnTo>
                            <a:pt x="368" y="257"/>
                          </a:lnTo>
                          <a:lnTo>
                            <a:pt x="412" y="254"/>
                          </a:lnTo>
                          <a:lnTo>
                            <a:pt x="447" y="264"/>
                          </a:lnTo>
                          <a:lnTo>
                            <a:pt x="460" y="295"/>
                          </a:lnTo>
                          <a:lnTo>
                            <a:pt x="448" y="320"/>
                          </a:lnTo>
                          <a:lnTo>
                            <a:pt x="420" y="333"/>
                          </a:lnTo>
                          <a:lnTo>
                            <a:pt x="346" y="329"/>
                          </a:lnTo>
                          <a:lnTo>
                            <a:pt x="382" y="342"/>
                          </a:lnTo>
                          <a:lnTo>
                            <a:pt x="400" y="356"/>
                          </a:lnTo>
                          <a:lnTo>
                            <a:pt x="413" y="375"/>
                          </a:lnTo>
                          <a:lnTo>
                            <a:pt x="408" y="405"/>
                          </a:lnTo>
                          <a:lnTo>
                            <a:pt x="387" y="422"/>
                          </a:lnTo>
                          <a:lnTo>
                            <a:pt x="363" y="421"/>
                          </a:lnTo>
                          <a:lnTo>
                            <a:pt x="330" y="411"/>
                          </a:lnTo>
                          <a:lnTo>
                            <a:pt x="299" y="395"/>
                          </a:lnTo>
                          <a:lnTo>
                            <a:pt x="279" y="424"/>
                          </a:lnTo>
                          <a:lnTo>
                            <a:pt x="258" y="446"/>
                          </a:lnTo>
                          <a:lnTo>
                            <a:pt x="234" y="457"/>
                          </a:lnTo>
                          <a:lnTo>
                            <a:pt x="204" y="462"/>
                          </a:lnTo>
                          <a:lnTo>
                            <a:pt x="77" y="431"/>
                          </a:lnTo>
                          <a:lnTo>
                            <a:pt x="0" y="375"/>
                          </a:lnTo>
                          <a:close/>
                        </a:path>
                      </a:pathLst>
                    </a:custGeom>
                    <a:solidFill>
                      <a:srgbClr val="e0a08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637" name="Group 30"/>
                    <p:cNvGrpSpPr/>
                    <p:nvPr/>
                  </p:nvGrpSpPr>
                  <p:grpSpPr>
                    <a:xfrm>
                      <a:off x="1333440" y="630360"/>
                      <a:ext cx="100080" cy="74520"/>
                      <a:chOff x="1333440" y="630360"/>
                      <a:chExt cx="100080" cy="74520"/>
                    </a:xfrm>
                  </p:grpSpPr>
                  <p:sp>
                    <p:nvSpPr>
                      <p:cNvPr id="638" name="Freeform 31"/>
                      <p:cNvSpPr/>
                      <p:nvPr/>
                    </p:nvSpPr>
                    <p:spPr>
                      <a:xfrm>
                        <a:off x="1401840" y="631800"/>
                        <a:ext cx="31680" cy="20880"/>
                      </a:xfrm>
                      <a:custGeom>
                        <a:avLst/>
                        <a:gdLst>
                          <a:gd name="textAreaLeft" fmla="*/ 0 w 31680"/>
                          <a:gd name="textAreaRight" fmla="*/ 32040 w 31680"/>
                          <a:gd name="textAreaTop" fmla="*/ 0 h 20880"/>
                          <a:gd name="textAreaBottom" fmla="*/ 21240 h 20880"/>
                        </a:gdLst>
                        <a:ahLst/>
                        <a:rect l="textAreaLeft" t="textAreaTop" r="textAreaRight" b="textAreaBottom"/>
                        <a:pathLst>
                          <a:path w="104" h="66">
                            <a:moveTo>
                              <a:pt x="104" y="59"/>
                            </a:moveTo>
                            <a:lnTo>
                              <a:pt x="65" y="66"/>
                            </a:lnTo>
                            <a:lnTo>
                              <a:pt x="32" y="64"/>
                            </a:lnTo>
                            <a:lnTo>
                              <a:pt x="10" y="53"/>
                            </a:lnTo>
                            <a:lnTo>
                              <a:pt x="0" y="34"/>
                            </a:lnTo>
                            <a:lnTo>
                              <a:pt x="6" y="13"/>
                            </a:lnTo>
                            <a:lnTo>
                              <a:pt x="28" y="0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639" name="Freeform 32"/>
                      <p:cNvSpPr/>
                      <p:nvPr/>
                    </p:nvSpPr>
                    <p:spPr>
                      <a:xfrm>
                        <a:off x="1395360" y="652680"/>
                        <a:ext cx="34920" cy="21960"/>
                      </a:xfrm>
                      <a:custGeom>
                        <a:avLst/>
                        <a:gdLst>
                          <a:gd name="textAreaLeft" fmla="*/ 0 w 34920"/>
                          <a:gd name="textAreaRight" fmla="*/ 35280 w 34920"/>
                          <a:gd name="textAreaTop" fmla="*/ 0 h 21960"/>
                          <a:gd name="textAreaBottom" fmla="*/ 22320 h 21960"/>
                        </a:gdLst>
                        <a:ahLst/>
                        <a:rect l="textAreaLeft" t="textAreaTop" r="textAreaRight" b="textAreaBottom"/>
                        <a:pathLst>
                          <a:path w="112" h="70">
                            <a:moveTo>
                              <a:pt x="112" y="68"/>
                            </a:moveTo>
                            <a:lnTo>
                              <a:pt x="73" y="70"/>
                            </a:lnTo>
                            <a:lnTo>
                              <a:pt x="38" y="66"/>
                            </a:lnTo>
                            <a:lnTo>
                              <a:pt x="15" y="56"/>
                            </a:lnTo>
                            <a:lnTo>
                              <a:pt x="0" y="36"/>
                            </a:lnTo>
                            <a:lnTo>
                              <a:pt x="6" y="19"/>
                            </a:lnTo>
                            <a:lnTo>
                              <a:pt x="23" y="0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640" name="Freeform 33"/>
                      <p:cNvSpPr/>
                      <p:nvPr/>
                    </p:nvSpPr>
                    <p:spPr>
                      <a:xfrm>
                        <a:off x="1384200" y="668520"/>
                        <a:ext cx="22320" cy="27000"/>
                      </a:xfrm>
                      <a:custGeom>
                        <a:avLst/>
                        <a:gdLst>
                          <a:gd name="textAreaLeft" fmla="*/ 0 w 22320"/>
                          <a:gd name="textAreaRight" fmla="*/ 22680 w 22320"/>
                          <a:gd name="textAreaTop" fmla="*/ 0 h 27000"/>
                          <a:gd name="textAreaBottom" fmla="*/ 27360 h 27000"/>
                        </a:gdLst>
                        <a:ahLst/>
                        <a:rect l="textAreaLeft" t="textAreaTop" r="textAreaRight" b="textAreaBottom"/>
                        <a:pathLst>
                          <a:path w="71" h="85">
                            <a:moveTo>
                              <a:pt x="71" y="85"/>
                            </a:moveTo>
                            <a:lnTo>
                              <a:pt x="36" y="71"/>
                            </a:lnTo>
                            <a:lnTo>
                              <a:pt x="14" y="55"/>
                            </a:lnTo>
                            <a:lnTo>
                              <a:pt x="0" y="31"/>
                            </a:lnTo>
                            <a:lnTo>
                              <a:pt x="7" y="8"/>
                            </a:lnTo>
                            <a:lnTo>
                              <a:pt x="25" y="0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641" name="Freeform 34"/>
                      <p:cNvSpPr/>
                      <p:nvPr/>
                    </p:nvSpPr>
                    <p:spPr>
                      <a:xfrm>
                        <a:off x="1373040" y="630360"/>
                        <a:ext cx="5040" cy="25200"/>
                      </a:xfrm>
                      <a:custGeom>
                        <a:avLst/>
                        <a:gdLst>
                          <a:gd name="textAreaLeft" fmla="*/ 0 w 5040"/>
                          <a:gd name="textAreaRight" fmla="*/ 5400 w 5040"/>
                          <a:gd name="textAreaTop" fmla="*/ 0 h 25200"/>
                          <a:gd name="textAreaBottom" fmla="*/ 25560 h 25200"/>
                        </a:gdLst>
                        <a:ahLst/>
                        <a:rect l="textAreaLeft" t="textAreaTop" r="textAreaRight" b="textAreaBottom"/>
                        <a:pathLst>
                          <a:path w="15" h="80">
                            <a:moveTo>
                              <a:pt x="0" y="0"/>
                            </a:moveTo>
                            <a:lnTo>
                              <a:pt x="13" y="36"/>
                            </a:lnTo>
                            <a:lnTo>
                              <a:pt x="15" y="57"/>
                            </a:lnTo>
                            <a:lnTo>
                              <a:pt x="13" y="80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642" name="Freeform 35"/>
                      <p:cNvSpPr/>
                      <p:nvPr/>
                    </p:nvSpPr>
                    <p:spPr>
                      <a:xfrm>
                        <a:off x="1371600" y="630360"/>
                        <a:ext cx="19080" cy="11160"/>
                      </a:xfrm>
                      <a:custGeom>
                        <a:avLst/>
                        <a:gdLst>
                          <a:gd name="textAreaLeft" fmla="*/ 0 w 19080"/>
                          <a:gd name="textAreaRight" fmla="*/ 19440 w 19080"/>
                          <a:gd name="textAreaTop" fmla="*/ 0 h 11160"/>
                          <a:gd name="textAreaBottom" fmla="*/ 11520 h 11160"/>
                        </a:gdLst>
                        <a:ahLst/>
                        <a:rect l="textAreaLeft" t="textAreaTop" r="textAreaRight" b="textAreaBottom"/>
                        <a:pathLst>
                          <a:path w="61" h="32">
                            <a:moveTo>
                              <a:pt x="0" y="0"/>
                            </a:moveTo>
                            <a:lnTo>
                              <a:pt x="27" y="3"/>
                            </a:lnTo>
                            <a:lnTo>
                              <a:pt x="46" y="13"/>
                            </a:lnTo>
                            <a:lnTo>
                              <a:pt x="61" y="32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643" name="Freeform 36"/>
                      <p:cNvSpPr/>
                      <p:nvPr/>
                    </p:nvSpPr>
                    <p:spPr>
                      <a:xfrm>
                        <a:off x="1333440" y="677880"/>
                        <a:ext cx="31680" cy="27000"/>
                      </a:xfrm>
                      <a:custGeom>
                        <a:avLst/>
                        <a:gdLst>
                          <a:gd name="textAreaLeft" fmla="*/ 0 w 31680"/>
                          <a:gd name="textAreaRight" fmla="*/ 32040 w 31680"/>
                          <a:gd name="textAreaTop" fmla="*/ 0 h 27000"/>
                          <a:gd name="textAreaBottom" fmla="*/ 27360 h 27000"/>
                        </a:gdLst>
                        <a:ahLst/>
                        <a:rect l="textAreaLeft" t="textAreaTop" r="textAreaRight" b="textAreaBottom"/>
                        <a:pathLst>
                          <a:path w="104" h="87">
                            <a:moveTo>
                              <a:pt x="0" y="0"/>
                            </a:moveTo>
                            <a:lnTo>
                              <a:pt x="2" y="13"/>
                            </a:lnTo>
                            <a:lnTo>
                              <a:pt x="6" y="28"/>
                            </a:lnTo>
                            <a:lnTo>
                              <a:pt x="13" y="39"/>
                            </a:lnTo>
                            <a:lnTo>
                              <a:pt x="29" y="51"/>
                            </a:lnTo>
                            <a:lnTo>
                              <a:pt x="49" y="59"/>
                            </a:lnTo>
                            <a:lnTo>
                              <a:pt x="70" y="61"/>
                            </a:lnTo>
                            <a:lnTo>
                              <a:pt x="87" y="65"/>
                            </a:lnTo>
                            <a:lnTo>
                              <a:pt x="97" y="76"/>
                            </a:lnTo>
                            <a:lnTo>
                              <a:pt x="104" y="86"/>
                            </a:lnTo>
                            <a:lnTo>
                              <a:pt x="104" y="87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644" name="Group 37"/>
                <p:cNvGrpSpPr/>
                <p:nvPr/>
              </p:nvGrpSpPr>
              <p:grpSpPr>
                <a:xfrm>
                  <a:off x="1100160" y="311040"/>
                  <a:ext cx="384120" cy="516240"/>
                  <a:chOff x="1100160" y="311040"/>
                  <a:chExt cx="384120" cy="516240"/>
                </a:xfrm>
              </p:grpSpPr>
              <p:grpSp>
                <p:nvGrpSpPr>
                  <p:cNvPr id="645" name="Group 38"/>
                  <p:cNvGrpSpPr/>
                  <p:nvPr/>
                </p:nvGrpSpPr>
                <p:grpSpPr>
                  <a:xfrm>
                    <a:off x="1168560" y="311040"/>
                    <a:ext cx="304560" cy="285840"/>
                    <a:chOff x="1168560" y="311040"/>
                    <a:chExt cx="304560" cy="285840"/>
                  </a:xfrm>
                </p:grpSpPr>
                <p:sp>
                  <p:nvSpPr>
                    <p:cNvPr id="646" name="Freeform 39"/>
                    <p:cNvSpPr/>
                    <p:nvPr/>
                  </p:nvSpPr>
                  <p:spPr>
                    <a:xfrm>
                      <a:off x="1197000" y="311040"/>
                      <a:ext cx="271440" cy="285840"/>
                    </a:xfrm>
                    <a:custGeom>
                      <a:avLst/>
                      <a:gdLst>
                        <a:gd name="textAreaLeft" fmla="*/ 0 w 271440"/>
                        <a:gd name="textAreaRight" fmla="*/ 271800 w 271440"/>
                        <a:gd name="textAreaTop" fmla="*/ 0 h 285840"/>
                        <a:gd name="textAreaBottom" fmla="*/ 286200 h 285840"/>
                      </a:gdLst>
                      <a:ahLst/>
                      <a:rect l="textAreaLeft" t="textAreaTop" r="textAreaRight" b="textAreaBottom"/>
                      <a:pathLst>
                        <a:path w="859" h="901">
                          <a:moveTo>
                            <a:pt x="106" y="714"/>
                          </a:moveTo>
                          <a:lnTo>
                            <a:pt x="147" y="637"/>
                          </a:lnTo>
                          <a:lnTo>
                            <a:pt x="147" y="614"/>
                          </a:lnTo>
                          <a:lnTo>
                            <a:pt x="132" y="583"/>
                          </a:lnTo>
                          <a:lnTo>
                            <a:pt x="109" y="550"/>
                          </a:lnTo>
                          <a:lnTo>
                            <a:pt x="67" y="518"/>
                          </a:lnTo>
                          <a:lnTo>
                            <a:pt x="40" y="475"/>
                          </a:lnTo>
                          <a:lnTo>
                            <a:pt x="27" y="437"/>
                          </a:lnTo>
                          <a:lnTo>
                            <a:pt x="10" y="408"/>
                          </a:lnTo>
                          <a:lnTo>
                            <a:pt x="10" y="375"/>
                          </a:lnTo>
                          <a:lnTo>
                            <a:pt x="0" y="298"/>
                          </a:lnTo>
                          <a:lnTo>
                            <a:pt x="10" y="239"/>
                          </a:lnTo>
                          <a:lnTo>
                            <a:pt x="29" y="188"/>
                          </a:lnTo>
                          <a:lnTo>
                            <a:pt x="55" y="133"/>
                          </a:lnTo>
                          <a:lnTo>
                            <a:pt x="86" y="102"/>
                          </a:lnTo>
                          <a:lnTo>
                            <a:pt x="145" y="64"/>
                          </a:lnTo>
                          <a:lnTo>
                            <a:pt x="209" y="38"/>
                          </a:lnTo>
                          <a:lnTo>
                            <a:pt x="276" y="15"/>
                          </a:lnTo>
                          <a:lnTo>
                            <a:pt x="362" y="2"/>
                          </a:lnTo>
                          <a:lnTo>
                            <a:pt x="423" y="0"/>
                          </a:lnTo>
                          <a:lnTo>
                            <a:pt x="484" y="5"/>
                          </a:lnTo>
                          <a:lnTo>
                            <a:pt x="561" y="20"/>
                          </a:lnTo>
                          <a:lnTo>
                            <a:pt x="632" y="43"/>
                          </a:lnTo>
                          <a:lnTo>
                            <a:pt x="683" y="69"/>
                          </a:lnTo>
                          <a:lnTo>
                            <a:pt x="747" y="118"/>
                          </a:lnTo>
                          <a:lnTo>
                            <a:pt x="790" y="176"/>
                          </a:lnTo>
                          <a:lnTo>
                            <a:pt x="823" y="229"/>
                          </a:lnTo>
                          <a:lnTo>
                            <a:pt x="839" y="268"/>
                          </a:lnTo>
                          <a:lnTo>
                            <a:pt x="859" y="336"/>
                          </a:lnTo>
                          <a:lnTo>
                            <a:pt x="859" y="388"/>
                          </a:lnTo>
                          <a:lnTo>
                            <a:pt x="846" y="463"/>
                          </a:lnTo>
                          <a:lnTo>
                            <a:pt x="826" y="524"/>
                          </a:lnTo>
                          <a:lnTo>
                            <a:pt x="797" y="575"/>
                          </a:lnTo>
                          <a:lnTo>
                            <a:pt x="772" y="604"/>
                          </a:lnTo>
                          <a:lnTo>
                            <a:pt x="735" y="637"/>
                          </a:lnTo>
                          <a:lnTo>
                            <a:pt x="674" y="662"/>
                          </a:lnTo>
                          <a:lnTo>
                            <a:pt x="629" y="678"/>
                          </a:lnTo>
                          <a:lnTo>
                            <a:pt x="577" y="693"/>
                          </a:lnTo>
                          <a:lnTo>
                            <a:pt x="497" y="701"/>
                          </a:lnTo>
                          <a:lnTo>
                            <a:pt x="428" y="714"/>
                          </a:lnTo>
                          <a:lnTo>
                            <a:pt x="382" y="723"/>
                          </a:lnTo>
                          <a:lnTo>
                            <a:pt x="369" y="745"/>
                          </a:lnTo>
                          <a:lnTo>
                            <a:pt x="372" y="772"/>
                          </a:lnTo>
                          <a:lnTo>
                            <a:pt x="369" y="798"/>
                          </a:lnTo>
                          <a:lnTo>
                            <a:pt x="359" y="817"/>
                          </a:lnTo>
                          <a:lnTo>
                            <a:pt x="354" y="853"/>
                          </a:lnTo>
                          <a:lnTo>
                            <a:pt x="356" y="901"/>
                          </a:lnTo>
                          <a:lnTo>
                            <a:pt x="298" y="821"/>
                          </a:lnTo>
                          <a:lnTo>
                            <a:pt x="222" y="756"/>
                          </a:lnTo>
                          <a:lnTo>
                            <a:pt x="158" y="726"/>
                          </a:lnTo>
                          <a:lnTo>
                            <a:pt x="106" y="714"/>
                          </a:lnTo>
                          <a:close/>
                        </a:path>
                      </a:pathLst>
                    </a:custGeom>
                    <a:solidFill>
                      <a:srgbClr val="e0a08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647" name="Group 40"/>
                    <p:cNvGrpSpPr/>
                    <p:nvPr/>
                  </p:nvGrpSpPr>
                  <p:grpSpPr>
                    <a:xfrm>
                      <a:off x="1168560" y="311040"/>
                      <a:ext cx="255600" cy="196920"/>
                      <a:chOff x="1168560" y="311040"/>
                      <a:chExt cx="255600" cy="196920"/>
                    </a:xfrm>
                  </p:grpSpPr>
                  <p:grpSp>
                    <p:nvGrpSpPr>
                      <p:cNvPr id="648" name="Group 41"/>
                      <p:cNvGrpSpPr/>
                      <p:nvPr/>
                    </p:nvGrpSpPr>
                    <p:grpSpPr>
                      <a:xfrm>
                        <a:off x="1236600" y="311040"/>
                        <a:ext cx="176400" cy="60480"/>
                        <a:chOff x="1236600" y="311040"/>
                        <a:chExt cx="176400" cy="60480"/>
                      </a:xfrm>
                    </p:grpSpPr>
                    <p:sp>
                      <p:nvSpPr>
                        <p:cNvPr id="649" name="Freeform 42"/>
                        <p:cNvSpPr/>
                        <p:nvPr/>
                      </p:nvSpPr>
                      <p:spPr>
                        <a:xfrm>
                          <a:off x="1251000" y="320760"/>
                          <a:ext cx="162000" cy="50760"/>
                        </a:xfrm>
                        <a:custGeom>
                          <a:avLst/>
                          <a:gdLst>
                            <a:gd name="textAreaLeft" fmla="*/ 0 w 162000"/>
                            <a:gd name="textAreaRight" fmla="*/ 162360 w 162000"/>
                            <a:gd name="textAreaTop" fmla="*/ 0 h 50760"/>
                            <a:gd name="textAreaBottom" fmla="*/ 51120 h 50760"/>
                          </a:gdLst>
                          <a:ahLst/>
                          <a:rect l="textAreaLeft" t="textAreaTop" r="textAreaRight" b="textAreaBottom"/>
                          <a:pathLst>
                            <a:path w="510" h="160">
                              <a:moveTo>
                                <a:pt x="0" y="160"/>
                              </a:moveTo>
                              <a:lnTo>
                                <a:pt x="39" y="110"/>
                              </a:lnTo>
                              <a:lnTo>
                                <a:pt x="90" y="71"/>
                              </a:lnTo>
                              <a:lnTo>
                                <a:pt x="151" y="38"/>
                              </a:lnTo>
                              <a:lnTo>
                                <a:pt x="212" y="19"/>
                              </a:lnTo>
                              <a:lnTo>
                                <a:pt x="279" y="5"/>
                              </a:lnTo>
                              <a:lnTo>
                                <a:pt x="366" y="0"/>
                              </a:lnTo>
                              <a:lnTo>
                                <a:pt x="430" y="10"/>
                              </a:lnTo>
                              <a:lnTo>
                                <a:pt x="510" y="36"/>
                              </a:lnTo>
                            </a:path>
                          </a:pathLst>
                        </a:custGeom>
                        <a:noFill/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20" bIns="4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50" name="Freeform 43"/>
                        <p:cNvSpPr/>
                        <p:nvPr/>
                      </p:nvSpPr>
                      <p:spPr>
                        <a:xfrm>
                          <a:off x="1236600" y="311040"/>
                          <a:ext cx="166680" cy="55800"/>
                        </a:xfrm>
                        <a:custGeom>
                          <a:avLst/>
                          <a:gdLst>
                            <a:gd name="textAreaLeft" fmla="*/ 0 w 166680"/>
                            <a:gd name="textAreaRight" fmla="*/ 167040 w 166680"/>
                            <a:gd name="textAreaTop" fmla="*/ 0 h 55800"/>
                            <a:gd name="textAreaBottom" fmla="*/ 56160 h 55800"/>
                          </a:gdLst>
                          <a:ahLst/>
                          <a:rect l="textAreaLeft" t="textAreaTop" r="textAreaRight" b="textAreaBottom"/>
                          <a:pathLst>
                            <a:path w="526" h="176">
                              <a:moveTo>
                                <a:pt x="0" y="176"/>
                              </a:moveTo>
                              <a:lnTo>
                                <a:pt x="25" y="125"/>
                              </a:lnTo>
                              <a:lnTo>
                                <a:pt x="56" y="89"/>
                              </a:lnTo>
                              <a:lnTo>
                                <a:pt x="90" y="60"/>
                              </a:lnTo>
                              <a:lnTo>
                                <a:pt x="151" y="28"/>
                              </a:lnTo>
                              <a:lnTo>
                                <a:pt x="231" y="5"/>
                              </a:lnTo>
                              <a:lnTo>
                                <a:pt x="305" y="0"/>
                              </a:lnTo>
                              <a:lnTo>
                                <a:pt x="385" y="8"/>
                              </a:lnTo>
                              <a:lnTo>
                                <a:pt x="458" y="31"/>
                              </a:lnTo>
                              <a:lnTo>
                                <a:pt x="494" y="41"/>
                              </a:lnTo>
                              <a:lnTo>
                                <a:pt x="526" y="51"/>
                              </a:lnTo>
                            </a:path>
                          </a:pathLst>
                        </a:custGeom>
                        <a:noFill/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360" bIns="9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651" name="Group 44"/>
                      <p:cNvGrpSpPr/>
                      <p:nvPr/>
                    </p:nvGrpSpPr>
                    <p:grpSpPr>
                      <a:xfrm>
                        <a:off x="1168560" y="347760"/>
                        <a:ext cx="95040" cy="96840"/>
                        <a:chOff x="1168560" y="347760"/>
                        <a:chExt cx="95040" cy="96840"/>
                      </a:xfrm>
                    </p:grpSpPr>
                    <p:sp>
                      <p:nvSpPr>
                        <p:cNvPr id="652" name="Freeform 45"/>
                        <p:cNvSpPr/>
                        <p:nvPr/>
                      </p:nvSpPr>
                      <p:spPr>
                        <a:xfrm>
                          <a:off x="1168560" y="347760"/>
                          <a:ext cx="95040" cy="96840"/>
                        </a:xfrm>
                        <a:custGeom>
                          <a:avLst/>
                          <a:gdLst>
                            <a:gd name="textAreaLeft" fmla="*/ 0 w 95040"/>
                            <a:gd name="textAreaRight" fmla="*/ 95400 w 95040"/>
                            <a:gd name="textAreaTop" fmla="*/ 0 h 96840"/>
                            <a:gd name="textAreaBottom" fmla="*/ 97200 h 96840"/>
                          </a:gdLst>
                          <a:ahLst/>
                          <a:rect l="textAreaLeft" t="textAreaTop" r="textAreaRight" b="textAreaBottom"/>
                          <a:pathLst>
                            <a:path w="302" h="305">
                              <a:moveTo>
                                <a:pt x="56" y="290"/>
                              </a:moveTo>
                              <a:lnTo>
                                <a:pt x="17" y="253"/>
                              </a:lnTo>
                              <a:lnTo>
                                <a:pt x="0" y="200"/>
                              </a:lnTo>
                              <a:lnTo>
                                <a:pt x="9" y="133"/>
                              </a:lnTo>
                              <a:lnTo>
                                <a:pt x="32" y="83"/>
                              </a:lnTo>
                              <a:lnTo>
                                <a:pt x="50" y="58"/>
                              </a:lnTo>
                              <a:lnTo>
                                <a:pt x="71" y="25"/>
                              </a:lnTo>
                              <a:lnTo>
                                <a:pt x="81" y="14"/>
                              </a:lnTo>
                              <a:lnTo>
                                <a:pt x="95" y="2"/>
                              </a:lnTo>
                              <a:lnTo>
                                <a:pt x="110" y="0"/>
                              </a:lnTo>
                              <a:lnTo>
                                <a:pt x="119" y="13"/>
                              </a:lnTo>
                              <a:lnTo>
                                <a:pt x="126" y="27"/>
                              </a:lnTo>
                              <a:lnTo>
                                <a:pt x="132" y="17"/>
                              </a:lnTo>
                              <a:lnTo>
                                <a:pt x="149" y="15"/>
                              </a:lnTo>
                              <a:lnTo>
                                <a:pt x="159" y="27"/>
                              </a:lnTo>
                              <a:lnTo>
                                <a:pt x="163" y="45"/>
                              </a:lnTo>
                              <a:lnTo>
                                <a:pt x="167" y="69"/>
                              </a:lnTo>
                              <a:lnTo>
                                <a:pt x="180" y="63"/>
                              </a:lnTo>
                              <a:lnTo>
                                <a:pt x="194" y="70"/>
                              </a:lnTo>
                              <a:lnTo>
                                <a:pt x="197" y="77"/>
                              </a:lnTo>
                              <a:lnTo>
                                <a:pt x="196" y="90"/>
                              </a:lnTo>
                              <a:lnTo>
                                <a:pt x="194" y="103"/>
                              </a:lnTo>
                              <a:lnTo>
                                <a:pt x="202" y="95"/>
                              </a:lnTo>
                              <a:lnTo>
                                <a:pt x="215" y="88"/>
                              </a:lnTo>
                              <a:lnTo>
                                <a:pt x="236" y="90"/>
                              </a:lnTo>
                              <a:lnTo>
                                <a:pt x="237" y="101"/>
                              </a:lnTo>
                              <a:lnTo>
                                <a:pt x="238" y="111"/>
                              </a:lnTo>
                              <a:lnTo>
                                <a:pt x="238" y="123"/>
                              </a:lnTo>
                              <a:lnTo>
                                <a:pt x="251" y="121"/>
                              </a:lnTo>
                              <a:lnTo>
                                <a:pt x="264" y="126"/>
                              </a:lnTo>
                              <a:lnTo>
                                <a:pt x="271" y="136"/>
                              </a:lnTo>
                              <a:lnTo>
                                <a:pt x="274" y="152"/>
                              </a:lnTo>
                              <a:lnTo>
                                <a:pt x="286" y="157"/>
                              </a:lnTo>
                              <a:lnTo>
                                <a:pt x="293" y="175"/>
                              </a:lnTo>
                              <a:lnTo>
                                <a:pt x="290" y="195"/>
                              </a:lnTo>
                              <a:lnTo>
                                <a:pt x="286" y="228"/>
                              </a:lnTo>
                              <a:lnTo>
                                <a:pt x="289" y="247"/>
                              </a:lnTo>
                              <a:lnTo>
                                <a:pt x="296" y="260"/>
                              </a:lnTo>
                              <a:lnTo>
                                <a:pt x="302" y="273"/>
                              </a:lnTo>
                              <a:lnTo>
                                <a:pt x="302" y="289"/>
                              </a:lnTo>
                              <a:lnTo>
                                <a:pt x="293" y="302"/>
                              </a:lnTo>
                              <a:lnTo>
                                <a:pt x="283" y="305"/>
                              </a:lnTo>
                              <a:lnTo>
                                <a:pt x="271" y="305"/>
                              </a:lnTo>
                              <a:lnTo>
                                <a:pt x="259" y="303"/>
                              </a:lnTo>
                              <a:lnTo>
                                <a:pt x="245" y="290"/>
                              </a:lnTo>
                              <a:lnTo>
                                <a:pt x="237" y="279"/>
                              </a:lnTo>
                              <a:lnTo>
                                <a:pt x="235" y="273"/>
                              </a:lnTo>
                              <a:lnTo>
                                <a:pt x="222" y="277"/>
                              </a:lnTo>
                              <a:lnTo>
                                <a:pt x="206" y="276"/>
                              </a:lnTo>
                              <a:lnTo>
                                <a:pt x="196" y="271"/>
                              </a:lnTo>
                              <a:lnTo>
                                <a:pt x="193" y="266"/>
                              </a:lnTo>
                              <a:lnTo>
                                <a:pt x="180" y="266"/>
                              </a:lnTo>
                              <a:lnTo>
                                <a:pt x="172" y="263"/>
                              </a:lnTo>
                              <a:lnTo>
                                <a:pt x="167" y="261"/>
                              </a:lnTo>
                              <a:lnTo>
                                <a:pt x="157" y="261"/>
                              </a:lnTo>
                              <a:lnTo>
                                <a:pt x="149" y="259"/>
                              </a:lnTo>
                              <a:lnTo>
                                <a:pt x="142" y="247"/>
                              </a:lnTo>
                              <a:lnTo>
                                <a:pt x="137" y="240"/>
                              </a:lnTo>
                              <a:lnTo>
                                <a:pt x="132" y="247"/>
                              </a:lnTo>
                              <a:lnTo>
                                <a:pt x="127" y="259"/>
                              </a:lnTo>
                              <a:lnTo>
                                <a:pt x="118" y="263"/>
                              </a:lnTo>
                              <a:lnTo>
                                <a:pt x="107" y="264"/>
                              </a:lnTo>
                              <a:lnTo>
                                <a:pt x="101" y="264"/>
                              </a:lnTo>
                              <a:lnTo>
                                <a:pt x="98" y="271"/>
                              </a:lnTo>
                              <a:lnTo>
                                <a:pt x="90" y="279"/>
                              </a:lnTo>
                              <a:lnTo>
                                <a:pt x="81" y="290"/>
                              </a:lnTo>
                              <a:lnTo>
                                <a:pt x="56" y="29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8040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grpSp>
                      <p:nvGrpSpPr>
                        <p:cNvPr id="653" name="Group 46"/>
                        <p:cNvGrpSpPr/>
                        <p:nvPr/>
                      </p:nvGrpSpPr>
                      <p:grpSpPr>
                        <a:xfrm>
                          <a:off x="1173240" y="352440"/>
                          <a:ext cx="73080" cy="85680"/>
                          <a:chOff x="1173240" y="352440"/>
                          <a:chExt cx="73080" cy="85680"/>
                        </a:xfrm>
                      </p:grpSpPr>
                      <p:sp>
                        <p:nvSpPr>
                          <p:cNvPr id="654" name="Freeform 47"/>
                          <p:cNvSpPr/>
                          <p:nvPr/>
                        </p:nvSpPr>
                        <p:spPr>
                          <a:xfrm>
                            <a:off x="1230480" y="409680"/>
                            <a:ext cx="15840" cy="17280"/>
                          </a:xfrm>
                          <a:custGeom>
                            <a:avLst/>
                            <a:gdLst>
                              <a:gd name="textAreaLeft" fmla="*/ 0 w 15840"/>
                              <a:gd name="textAreaRight" fmla="*/ 16200 w 15840"/>
                              <a:gd name="textAreaTop" fmla="*/ 0 h 17280"/>
                              <a:gd name="textAreaBottom" fmla="*/ 17640 h 17280"/>
                            </a:gdLst>
                            <a:ahLst/>
                            <a:rect l="textAreaLeft" t="textAreaTop" r="textAreaRight" b="textAreaBottom"/>
                            <a:pathLst>
                              <a:path w="46" h="56">
                                <a:moveTo>
                                  <a:pt x="13" y="56"/>
                                </a:moveTo>
                                <a:lnTo>
                                  <a:pt x="10" y="27"/>
                                </a:lnTo>
                                <a:lnTo>
                                  <a:pt x="19" y="12"/>
                                </a:lnTo>
                                <a:lnTo>
                                  <a:pt x="46" y="0"/>
                                </a:lnTo>
                                <a:lnTo>
                                  <a:pt x="28" y="2"/>
                                </a:lnTo>
                                <a:lnTo>
                                  <a:pt x="7" y="8"/>
                                </a:lnTo>
                                <a:lnTo>
                                  <a:pt x="0" y="22"/>
                                </a:lnTo>
                                <a:lnTo>
                                  <a:pt x="13" y="5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160" bIns="-291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655" name="Freeform 48"/>
                          <p:cNvSpPr/>
                          <p:nvPr/>
                        </p:nvSpPr>
                        <p:spPr>
                          <a:xfrm>
                            <a:off x="1203480" y="381240"/>
                            <a:ext cx="23760" cy="42840"/>
                          </a:xfrm>
                          <a:custGeom>
                            <a:avLst/>
                            <a:gdLst>
                              <a:gd name="textAreaLeft" fmla="*/ 0 w 23760"/>
                              <a:gd name="textAreaRight" fmla="*/ 24120 w 23760"/>
                              <a:gd name="textAreaTop" fmla="*/ 0 h 42840"/>
                              <a:gd name="textAreaBottom" fmla="*/ 43200 h 42840"/>
                            </a:gdLst>
                            <a:ahLst/>
                            <a:rect l="textAreaLeft" t="textAreaTop" r="textAreaRight" b="textAreaBottom"/>
                            <a:pathLst>
                              <a:path w="73" h="137">
                                <a:moveTo>
                                  <a:pt x="30" y="137"/>
                                </a:moveTo>
                                <a:lnTo>
                                  <a:pt x="17" y="107"/>
                                </a:lnTo>
                                <a:lnTo>
                                  <a:pt x="17" y="65"/>
                                </a:lnTo>
                                <a:lnTo>
                                  <a:pt x="42" y="33"/>
                                </a:lnTo>
                                <a:lnTo>
                                  <a:pt x="73" y="0"/>
                                </a:lnTo>
                                <a:lnTo>
                                  <a:pt x="54" y="19"/>
                                </a:lnTo>
                                <a:lnTo>
                                  <a:pt x="23" y="42"/>
                                </a:lnTo>
                                <a:lnTo>
                                  <a:pt x="0" y="61"/>
                                </a:lnTo>
                                <a:lnTo>
                                  <a:pt x="5" y="77"/>
                                </a:lnTo>
                                <a:lnTo>
                                  <a:pt x="4" y="96"/>
                                </a:lnTo>
                                <a:lnTo>
                                  <a:pt x="4" y="117"/>
                                </a:lnTo>
                                <a:lnTo>
                                  <a:pt x="30" y="13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00" bIns="-36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656" name="Freeform 49"/>
                          <p:cNvSpPr/>
                          <p:nvPr/>
                        </p:nvSpPr>
                        <p:spPr>
                          <a:xfrm>
                            <a:off x="1173240" y="405000"/>
                            <a:ext cx="15840" cy="33120"/>
                          </a:xfrm>
                          <a:custGeom>
                            <a:avLst/>
                            <a:gdLst>
                              <a:gd name="textAreaLeft" fmla="*/ 0 w 15840"/>
                              <a:gd name="textAreaRight" fmla="*/ 16200 w 15840"/>
                              <a:gd name="textAreaTop" fmla="*/ 0 h 33120"/>
                              <a:gd name="textAreaBottom" fmla="*/ 33480 h 33120"/>
                            </a:gdLst>
                            <a:ahLst/>
                            <a:rect l="textAreaLeft" t="textAreaTop" r="textAreaRight" b="textAreaBottom"/>
                            <a:pathLst>
                              <a:path w="50" h="106">
                                <a:moveTo>
                                  <a:pt x="22" y="88"/>
                                </a:moveTo>
                                <a:lnTo>
                                  <a:pt x="0" y="56"/>
                                </a:lnTo>
                                <a:lnTo>
                                  <a:pt x="9" y="33"/>
                                </a:lnTo>
                                <a:lnTo>
                                  <a:pt x="28" y="0"/>
                                </a:lnTo>
                                <a:lnTo>
                                  <a:pt x="12" y="57"/>
                                </a:lnTo>
                                <a:lnTo>
                                  <a:pt x="24" y="82"/>
                                </a:lnTo>
                                <a:lnTo>
                                  <a:pt x="50" y="106"/>
                                </a:lnTo>
                                <a:lnTo>
                                  <a:pt x="22" y="88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3320" bIns="-133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657" name="Freeform 50"/>
                          <p:cNvSpPr/>
                          <p:nvPr/>
                        </p:nvSpPr>
                        <p:spPr>
                          <a:xfrm>
                            <a:off x="1185840" y="352440"/>
                            <a:ext cx="20520" cy="34920"/>
                          </a:xfrm>
                          <a:custGeom>
                            <a:avLst/>
                            <a:gdLst>
                              <a:gd name="textAreaLeft" fmla="*/ 0 w 20520"/>
                              <a:gd name="textAreaRight" fmla="*/ 20880 w 20520"/>
                              <a:gd name="textAreaTop" fmla="*/ 0 h 34920"/>
                              <a:gd name="textAreaBottom" fmla="*/ 35280 h 34920"/>
                            </a:gdLst>
                            <a:ahLst/>
                            <a:rect l="textAreaLeft" t="textAreaTop" r="textAreaRight" b="textAreaBottom"/>
                            <a:pathLst>
                              <a:path w="68" h="106">
                                <a:moveTo>
                                  <a:pt x="68" y="0"/>
                                </a:moveTo>
                                <a:lnTo>
                                  <a:pt x="36" y="26"/>
                                </a:lnTo>
                                <a:lnTo>
                                  <a:pt x="9" y="53"/>
                                </a:lnTo>
                                <a:lnTo>
                                  <a:pt x="5" y="74"/>
                                </a:lnTo>
                                <a:lnTo>
                                  <a:pt x="0" y="106"/>
                                </a:lnTo>
                                <a:lnTo>
                                  <a:pt x="11" y="81"/>
                                </a:lnTo>
                                <a:lnTo>
                                  <a:pt x="20" y="55"/>
                                </a:lnTo>
                                <a:lnTo>
                                  <a:pt x="49" y="23"/>
                                </a:lnTo>
                                <a:lnTo>
                                  <a:pt x="68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1520" bIns="-11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658" name="Freeform 51"/>
                          <p:cNvSpPr/>
                          <p:nvPr/>
                        </p:nvSpPr>
                        <p:spPr>
                          <a:xfrm>
                            <a:off x="1182600" y="416160"/>
                            <a:ext cx="12960" cy="21960"/>
                          </a:xfrm>
                          <a:custGeom>
                            <a:avLst/>
                            <a:gdLst>
                              <a:gd name="textAreaLeft" fmla="*/ 0 w 12960"/>
                              <a:gd name="textAreaRight" fmla="*/ 13320 w 12960"/>
                              <a:gd name="textAreaTop" fmla="*/ 0 h 21960"/>
                              <a:gd name="textAreaBottom" fmla="*/ 22320 h 21960"/>
                            </a:gdLst>
                            <a:ahLst/>
                            <a:rect l="textAreaLeft" t="textAreaTop" r="textAreaRight" b="textAreaBottom"/>
                            <a:pathLst>
                              <a:path w="38" h="67">
                                <a:moveTo>
                                  <a:pt x="15" y="67"/>
                                </a:moveTo>
                                <a:lnTo>
                                  <a:pt x="5" y="45"/>
                                </a:lnTo>
                                <a:lnTo>
                                  <a:pt x="0" y="33"/>
                                </a:lnTo>
                                <a:lnTo>
                                  <a:pt x="11" y="14"/>
                                </a:lnTo>
                                <a:lnTo>
                                  <a:pt x="35" y="0"/>
                                </a:lnTo>
                                <a:lnTo>
                                  <a:pt x="21" y="19"/>
                                </a:lnTo>
                                <a:lnTo>
                                  <a:pt x="13" y="39"/>
                                </a:lnTo>
                                <a:lnTo>
                                  <a:pt x="25" y="45"/>
                                </a:lnTo>
                                <a:lnTo>
                                  <a:pt x="38" y="30"/>
                                </a:lnTo>
                                <a:lnTo>
                                  <a:pt x="32" y="44"/>
                                </a:lnTo>
                                <a:lnTo>
                                  <a:pt x="15" y="6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480" bIns="-244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659" name="Group 52"/>
                      <p:cNvGrpSpPr/>
                      <p:nvPr/>
                    </p:nvGrpSpPr>
                    <p:grpSpPr>
                      <a:xfrm>
                        <a:off x="1320840" y="459000"/>
                        <a:ext cx="103320" cy="48960"/>
                        <a:chOff x="1320840" y="459000"/>
                        <a:chExt cx="103320" cy="48960"/>
                      </a:xfrm>
                    </p:grpSpPr>
                    <p:sp>
                      <p:nvSpPr>
                        <p:cNvPr id="660" name="Freeform 53"/>
                        <p:cNvSpPr/>
                        <p:nvPr/>
                      </p:nvSpPr>
                      <p:spPr>
                        <a:xfrm>
                          <a:off x="1320840" y="459000"/>
                          <a:ext cx="103320" cy="48960"/>
                        </a:xfrm>
                        <a:custGeom>
                          <a:avLst/>
                          <a:gdLst>
                            <a:gd name="textAreaLeft" fmla="*/ 0 w 103320"/>
                            <a:gd name="textAreaRight" fmla="*/ 103680 w 103320"/>
                            <a:gd name="textAreaTop" fmla="*/ 0 h 48960"/>
                            <a:gd name="textAreaBottom" fmla="*/ 49320 h 48960"/>
                          </a:gdLst>
                          <a:ahLst/>
                          <a:rect l="textAreaLeft" t="textAreaTop" r="textAreaRight" b="textAreaBottom"/>
                          <a:pathLst>
                            <a:path w="324" h="159">
                              <a:moveTo>
                                <a:pt x="19" y="39"/>
                              </a:moveTo>
                              <a:lnTo>
                                <a:pt x="78" y="42"/>
                              </a:lnTo>
                              <a:lnTo>
                                <a:pt x="119" y="41"/>
                              </a:lnTo>
                              <a:lnTo>
                                <a:pt x="168" y="19"/>
                              </a:lnTo>
                              <a:lnTo>
                                <a:pt x="209" y="2"/>
                              </a:lnTo>
                              <a:lnTo>
                                <a:pt x="246" y="0"/>
                              </a:lnTo>
                              <a:lnTo>
                                <a:pt x="263" y="15"/>
                              </a:lnTo>
                              <a:lnTo>
                                <a:pt x="288" y="25"/>
                              </a:lnTo>
                              <a:lnTo>
                                <a:pt x="317" y="28"/>
                              </a:lnTo>
                              <a:lnTo>
                                <a:pt x="324" y="42"/>
                              </a:lnTo>
                              <a:lnTo>
                                <a:pt x="321" y="72"/>
                              </a:lnTo>
                              <a:lnTo>
                                <a:pt x="315" y="92"/>
                              </a:lnTo>
                              <a:lnTo>
                                <a:pt x="301" y="108"/>
                              </a:lnTo>
                              <a:lnTo>
                                <a:pt x="279" y="128"/>
                              </a:lnTo>
                              <a:lnTo>
                                <a:pt x="269" y="145"/>
                              </a:lnTo>
                              <a:lnTo>
                                <a:pt x="254" y="158"/>
                              </a:lnTo>
                              <a:lnTo>
                                <a:pt x="241" y="159"/>
                              </a:lnTo>
                              <a:lnTo>
                                <a:pt x="222" y="143"/>
                              </a:lnTo>
                              <a:lnTo>
                                <a:pt x="211" y="150"/>
                              </a:lnTo>
                              <a:lnTo>
                                <a:pt x="192" y="151"/>
                              </a:lnTo>
                              <a:lnTo>
                                <a:pt x="179" y="127"/>
                              </a:lnTo>
                              <a:lnTo>
                                <a:pt x="170" y="130"/>
                              </a:lnTo>
                              <a:lnTo>
                                <a:pt x="158" y="130"/>
                              </a:lnTo>
                              <a:lnTo>
                                <a:pt x="151" y="118"/>
                              </a:lnTo>
                              <a:lnTo>
                                <a:pt x="136" y="127"/>
                              </a:lnTo>
                              <a:lnTo>
                                <a:pt x="123" y="133"/>
                              </a:lnTo>
                              <a:lnTo>
                                <a:pt x="106" y="127"/>
                              </a:lnTo>
                              <a:lnTo>
                                <a:pt x="103" y="115"/>
                              </a:lnTo>
                              <a:lnTo>
                                <a:pt x="101" y="101"/>
                              </a:lnTo>
                              <a:lnTo>
                                <a:pt x="75" y="104"/>
                              </a:lnTo>
                              <a:lnTo>
                                <a:pt x="54" y="108"/>
                              </a:lnTo>
                              <a:lnTo>
                                <a:pt x="50" y="101"/>
                              </a:lnTo>
                              <a:lnTo>
                                <a:pt x="32" y="101"/>
                              </a:lnTo>
                              <a:lnTo>
                                <a:pt x="8" y="83"/>
                              </a:lnTo>
                              <a:lnTo>
                                <a:pt x="0" y="65"/>
                              </a:lnTo>
                              <a:lnTo>
                                <a:pt x="4" y="56"/>
                              </a:lnTo>
                              <a:lnTo>
                                <a:pt x="1" y="41"/>
                              </a:lnTo>
                              <a:lnTo>
                                <a:pt x="19" y="3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8040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20" bIns="25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grpSp>
                      <p:nvGrpSpPr>
                        <p:cNvPr id="661" name="Group 54"/>
                        <p:cNvGrpSpPr/>
                        <p:nvPr/>
                      </p:nvGrpSpPr>
                      <p:grpSpPr>
                        <a:xfrm>
                          <a:off x="1335240" y="466920"/>
                          <a:ext cx="77760" cy="37800"/>
                          <a:chOff x="1335240" y="466920"/>
                          <a:chExt cx="77760" cy="37800"/>
                        </a:xfrm>
                      </p:grpSpPr>
                      <p:sp>
                        <p:nvSpPr>
                          <p:cNvPr id="662" name="Freeform 55"/>
                          <p:cNvSpPr/>
                          <p:nvPr/>
                        </p:nvSpPr>
                        <p:spPr>
                          <a:xfrm>
                            <a:off x="1335240" y="479520"/>
                            <a:ext cx="23760" cy="11160"/>
                          </a:xfrm>
                          <a:custGeom>
                            <a:avLst/>
                            <a:gdLst>
                              <a:gd name="textAreaLeft" fmla="*/ 0 w 23760"/>
                              <a:gd name="textAreaRight" fmla="*/ 24120 w 23760"/>
                              <a:gd name="textAreaTop" fmla="*/ 0 h 11160"/>
                              <a:gd name="textAreaBottom" fmla="*/ 11520 h 11160"/>
                            </a:gdLst>
                            <a:ahLst/>
                            <a:rect l="textAreaLeft" t="textAreaTop" r="textAreaRight" b="textAreaBottom"/>
                            <a:pathLst>
                              <a:path w="75" h="36">
                                <a:moveTo>
                                  <a:pt x="0" y="36"/>
                                </a:moveTo>
                                <a:lnTo>
                                  <a:pt x="39" y="24"/>
                                </a:lnTo>
                                <a:lnTo>
                                  <a:pt x="75" y="0"/>
                                </a:lnTo>
                                <a:lnTo>
                                  <a:pt x="61" y="18"/>
                                </a:lnTo>
                                <a:lnTo>
                                  <a:pt x="45" y="30"/>
                                </a:lnTo>
                                <a:lnTo>
                                  <a:pt x="0" y="3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5280" bIns="-352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663" name="Freeform 56"/>
                          <p:cNvSpPr/>
                          <p:nvPr/>
                        </p:nvSpPr>
                        <p:spPr>
                          <a:xfrm>
                            <a:off x="1366920" y="466920"/>
                            <a:ext cx="19080" cy="29880"/>
                          </a:xfrm>
                          <a:custGeom>
                            <a:avLst/>
                            <a:gdLst>
                              <a:gd name="textAreaLeft" fmla="*/ 0 w 19080"/>
                              <a:gd name="textAreaRight" fmla="*/ 19440 w 19080"/>
                              <a:gd name="textAreaTop" fmla="*/ 0 h 29880"/>
                              <a:gd name="textAreaBottom" fmla="*/ 30240 h 29880"/>
                            </a:gdLst>
                            <a:ahLst/>
                            <a:rect l="textAreaLeft" t="textAreaTop" r="textAreaRight" b="textAreaBottom"/>
                            <a:pathLst>
                              <a:path w="61" h="97">
                                <a:moveTo>
                                  <a:pt x="0" y="97"/>
                                </a:moveTo>
                                <a:lnTo>
                                  <a:pt x="21" y="65"/>
                                </a:lnTo>
                                <a:lnTo>
                                  <a:pt x="61" y="0"/>
                                </a:lnTo>
                                <a:lnTo>
                                  <a:pt x="49" y="39"/>
                                </a:lnTo>
                                <a:lnTo>
                                  <a:pt x="42" y="67"/>
                                </a:lnTo>
                                <a:lnTo>
                                  <a:pt x="0" y="9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560" bIns="-165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664" name="Freeform 57"/>
                          <p:cNvSpPr/>
                          <p:nvPr/>
                        </p:nvSpPr>
                        <p:spPr>
                          <a:xfrm>
                            <a:off x="1390680" y="466920"/>
                            <a:ext cx="12600" cy="37800"/>
                          </a:xfrm>
                          <a:custGeom>
                            <a:avLst/>
                            <a:gdLst>
                              <a:gd name="textAreaLeft" fmla="*/ 0 w 12600"/>
                              <a:gd name="textAreaRight" fmla="*/ 12960 w 12600"/>
                              <a:gd name="textAreaTop" fmla="*/ 0 h 37800"/>
                              <a:gd name="textAreaBottom" fmla="*/ 38160 h 37800"/>
                            </a:gdLst>
                            <a:ahLst/>
                            <a:rect l="textAreaLeft" t="textAreaTop" r="textAreaRight" b="textAreaBottom"/>
                            <a:pathLst>
                              <a:path w="44" h="117">
                                <a:moveTo>
                                  <a:pt x="0" y="117"/>
                                </a:moveTo>
                                <a:lnTo>
                                  <a:pt x="32" y="91"/>
                                </a:lnTo>
                                <a:lnTo>
                                  <a:pt x="31" y="38"/>
                                </a:lnTo>
                                <a:lnTo>
                                  <a:pt x="9" y="0"/>
                                </a:lnTo>
                                <a:lnTo>
                                  <a:pt x="35" y="36"/>
                                </a:lnTo>
                                <a:lnTo>
                                  <a:pt x="44" y="72"/>
                                </a:lnTo>
                                <a:lnTo>
                                  <a:pt x="41" y="102"/>
                                </a:lnTo>
                                <a:lnTo>
                                  <a:pt x="0" y="11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8640" bIns="-86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665" name="Freeform 58"/>
                          <p:cNvSpPr/>
                          <p:nvPr/>
                        </p:nvSpPr>
                        <p:spPr>
                          <a:xfrm>
                            <a:off x="1409760" y="479520"/>
                            <a:ext cx="3240" cy="14400"/>
                          </a:xfrm>
                          <a:custGeom>
                            <a:avLst/>
                            <a:gdLst>
                              <a:gd name="textAreaLeft" fmla="*/ 0 w 3240"/>
                              <a:gd name="textAreaRight" fmla="*/ 3600 w 3240"/>
                              <a:gd name="textAreaTop" fmla="*/ 0 h 14400"/>
                              <a:gd name="textAreaBottom" fmla="*/ 14760 h 14400"/>
                            </a:gdLst>
                            <a:ahLst/>
                            <a:rect l="textAreaLeft" t="textAreaTop" r="textAreaRight" b="textAreaBottom"/>
                            <a:pathLst>
                              <a:path w="13" h="45">
                                <a:moveTo>
                                  <a:pt x="0" y="0"/>
                                </a:moveTo>
                                <a:lnTo>
                                  <a:pt x="13" y="29"/>
                                </a:lnTo>
                                <a:lnTo>
                                  <a:pt x="9" y="45"/>
                                </a:lnTo>
                              </a:path>
                            </a:pathLst>
                          </a:custGeom>
                          <a:noFill/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2040" bIns="-320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666" name="Group 59"/>
                    <p:cNvGrpSpPr/>
                    <p:nvPr/>
                  </p:nvGrpSpPr>
                  <p:grpSpPr>
                    <a:xfrm>
                      <a:off x="1349280" y="371520"/>
                      <a:ext cx="123840" cy="106560"/>
                      <a:chOff x="1349280" y="371520"/>
                      <a:chExt cx="123840" cy="106560"/>
                    </a:xfrm>
                  </p:grpSpPr>
                  <p:sp>
                    <p:nvSpPr>
                      <p:cNvPr id="667" name="Freeform 60"/>
                      <p:cNvSpPr/>
                      <p:nvPr/>
                    </p:nvSpPr>
                    <p:spPr>
                      <a:xfrm>
                        <a:off x="1405080" y="409680"/>
                        <a:ext cx="56880" cy="55440"/>
                      </a:xfrm>
                      <a:custGeom>
                        <a:avLst/>
                        <a:gdLst>
                          <a:gd name="textAreaLeft" fmla="*/ 0 w 56880"/>
                          <a:gd name="textAreaRight" fmla="*/ 57240 w 56880"/>
                          <a:gd name="textAreaTop" fmla="*/ 0 h 55440"/>
                          <a:gd name="textAreaBottom" fmla="*/ 55800 h 55440"/>
                        </a:gdLst>
                        <a:ahLst/>
                        <a:rect l="textAreaLeft" t="textAreaTop" r="textAreaRight" b="textAreaBottom"/>
                        <a:pathLst>
                          <a:path w="184" h="171">
                            <a:moveTo>
                              <a:pt x="13" y="68"/>
                            </a:moveTo>
                            <a:lnTo>
                              <a:pt x="34" y="34"/>
                            </a:lnTo>
                            <a:lnTo>
                              <a:pt x="47" y="22"/>
                            </a:lnTo>
                            <a:lnTo>
                              <a:pt x="77" y="7"/>
                            </a:lnTo>
                            <a:lnTo>
                              <a:pt x="109" y="0"/>
                            </a:lnTo>
                            <a:lnTo>
                              <a:pt x="139" y="0"/>
                            </a:lnTo>
                            <a:lnTo>
                              <a:pt x="157" y="5"/>
                            </a:lnTo>
                            <a:lnTo>
                              <a:pt x="174" y="26"/>
                            </a:lnTo>
                            <a:lnTo>
                              <a:pt x="184" y="55"/>
                            </a:lnTo>
                            <a:lnTo>
                              <a:pt x="181" y="85"/>
                            </a:lnTo>
                            <a:lnTo>
                              <a:pt x="165" y="113"/>
                            </a:lnTo>
                            <a:lnTo>
                              <a:pt x="153" y="133"/>
                            </a:lnTo>
                            <a:lnTo>
                              <a:pt x="119" y="153"/>
                            </a:lnTo>
                            <a:lnTo>
                              <a:pt x="77" y="163"/>
                            </a:lnTo>
                            <a:lnTo>
                              <a:pt x="40" y="171"/>
                            </a:lnTo>
                            <a:lnTo>
                              <a:pt x="15" y="163"/>
                            </a:lnTo>
                            <a:lnTo>
                              <a:pt x="2" y="146"/>
                            </a:lnTo>
                            <a:lnTo>
                              <a:pt x="0" y="118"/>
                            </a:lnTo>
                            <a:lnTo>
                              <a:pt x="13" y="68"/>
                            </a:lnTo>
                            <a:close/>
                          </a:path>
                        </a:pathLst>
                      </a:custGeom>
                      <a:solidFill>
                        <a:srgbClr val="f0f0ff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000" bIns="9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668" name="Freeform 61"/>
                      <p:cNvSpPr/>
                      <p:nvPr/>
                    </p:nvSpPr>
                    <p:spPr>
                      <a:xfrm>
                        <a:off x="1428840" y="393840"/>
                        <a:ext cx="44280" cy="33120"/>
                      </a:xfrm>
                      <a:custGeom>
                        <a:avLst/>
                        <a:gdLst>
                          <a:gd name="textAreaLeft" fmla="*/ 0 w 44280"/>
                          <a:gd name="textAreaRight" fmla="*/ 44640 w 44280"/>
                          <a:gd name="textAreaTop" fmla="*/ 0 h 33120"/>
                          <a:gd name="textAreaBottom" fmla="*/ 33480 h 33120"/>
                        </a:gdLst>
                        <a:ahLst/>
                        <a:rect l="textAreaLeft" t="textAreaTop" r="textAreaRight" b="textAreaBottom"/>
                        <a:pathLst>
                          <a:path w="137" h="107">
                            <a:moveTo>
                              <a:pt x="17" y="0"/>
                            </a:moveTo>
                            <a:lnTo>
                              <a:pt x="131" y="63"/>
                            </a:lnTo>
                            <a:lnTo>
                              <a:pt x="136" y="72"/>
                            </a:lnTo>
                            <a:lnTo>
                              <a:pt x="137" y="85"/>
                            </a:lnTo>
                            <a:lnTo>
                              <a:pt x="135" y="95"/>
                            </a:lnTo>
                            <a:lnTo>
                              <a:pt x="131" y="104"/>
                            </a:lnTo>
                            <a:lnTo>
                              <a:pt x="126" y="107"/>
                            </a:lnTo>
                            <a:lnTo>
                              <a:pt x="115" y="107"/>
                            </a:lnTo>
                            <a:lnTo>
                              <a:pt x="11" y="47"/>
                            </a:lnTo>
                            <a:lnTo>
                              <a:pt x="2" y="38"/>
                            </a:lnTo>
                            <a:lnTo>
                              <a:pt x="0" y="26"/>
                            </a:lnTo>
                            <a:lnTo>
                              <a:pt x="2" y="13"/>
                            </a:lnTo>
                            <a:lnTo>
                              <a:pt x="6" y="7"/>
                            </a:lnTo>
                            <a:lnTo>
                              <a:pt x="12" y="1"/>
                            </a:lnTo>
                            <a:lnTo>
                              <a:pt x="17" y="0"/>
                            </a:lnTo>
                            <a:close/>
                          </a:path>
                        </a:pathLst>
                      </a:custGeom>
                      <a:solidFill>
                        <a:srgbClr val="c08040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320" bIns="-13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669" name="Freeform 62"/>
                      <p:cNvSpPr/>
                      <p:nvPr/>
                    </p:nvSpPr>
                    <p:spPr>
                      <a:xfrm>
                        <a:off x="1390680" y="395280"/>
                        <a:ext cx="79200" cy="82800"/>
                      </a:xfrm>
                      <a:custGeom>
                        <a:avLst/>
                        <a:gdLst>
                          <a:gd name="textAreaLeft" fmla="*/ 0 w 79200"/>
                          <a:gd name="textAreaRight" fmla="*/ 79560 w 79200"/>
                          <a:gd name="textAreaTop" fmla="*/ 0 h 82800"/>
                          <a:gd name="textAreaBottom" fmla="*/ 83160 h 82800"/>
                        </a:gdLst>
                        <a:ahLst/>
                        <a:rect l="textAreaLeft" t="textAreaTop" r="textAreaRight" b="textAreaBottom"/>
                        <a:pathLst>
                          <a:path w="250" h="260">
                            <a:moveTo>
                              <a:pt x="77" y="0"/>
                            </a:moveTo>
                            <a:lnTo>
                              <a:pt x="150" y="60"/>
                            </a:lnTo>
                            <a:lnTo>
                              <a:pt x="180" y="87"/>
                            </a:lnTo>
                            <a:lnTo>
                              <a:pt x="211" y="118"/>
                            </a:lnTo>
                            <a:lnTo>
                              <a:pt x="229" y="143"/>
                            </a:lnTo>
                            <a:lnTo>
                              <a:pt x="246" y="168"/>
                            </a:lnTo>
                            <a:lnTo>
                              <a:pt x="250" y="198"/>
                            </a:lnTo>
                            <a:lnTo>
                              <a:pt x="247" y="228"/>
                            </a:lnTo>
                            <a:lnTo>
                              <a:pt x="234" y="247"/>
                            </a:lnTo>
                            <a:lnTo>
                              <a:pt x="211" y="260"/>
                            </a:lnTo>
                            <a:lnTo>
                              <a:pt x="155" y="260"/>
                            </a:lnTo>
                            <a:lnTo>
                              <a:pt x="116" y="254"/>
                            </a:lnTo>
                            <a:lnTo>
                              <a:pt x="58" y="238"/>
                            </a:lnTo>
                            <a:lnTo>
                              <a:pt x="47" y="221"/>
                            </a:lnTo>
                            <a:lnTo>
                              <a:pt x="29" y="198"/>
                            </a:lnTo>
                            <a:lnTo>
                              <a:pt x="0" y="186"/>
                            </a:lnTo>
                            <a:lnTo>
                              <a:pt x="26" y="148"/>
                            </a:lnTo>
                            <a:lnTo>
                              <a:pt x="26" y="60"/>
                            </a:lnTo>
                            <a:lnTo>
                              <a:pt x="77" y="0"/>
                            </a:lnTo>
                            <a:close/>
                          </a:path>
                        </a:pathLst>
                      </a:custGeom>
                      <a:solidFill>
                        <a:srgbClr val="e0a080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360" bIns="36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grpSp>
                    <p:nvGrpSpPr>
                      <p:cNvPr id="670" name="Group 63"/>
                      <p:cNvGrpSpPr/>
                      <p:nvPr/>
                    </p:nvGrpSpPr>
                    <p:grpSpPr>
                      <a:xfrm>
                        <a:off x="1349280" y="371520"/>
                        <a:ext cx="74880" cy="73080"/>
                        <a:chOff x="1349280" y="371520"/>
                        <a:chExt cx="74880" cy="73080"/>
                      </a:xfrm>
                    </p:grpSpPr>
                    <p:sp>
                      <p:nvSpPr>
                        <p:cNvPr id="671" name="Freeform 64"/>
                        <p:cNvSpPr/>
                        <p:nvPr/>
                      </p:nvSpPr>
                      <p:spPr>
                        <a:xfrm>
                          <a:off x="1349280" y="389160"/>
                          <a:ext cx="60480" cy="55440"/>
                        </a:xfrm>
                        <a:custGeom>
                          <a:avLst/>
                          <a:gdLst>
                            <a:gd name="textAreaLeft" fmla="*/ 0 w 60480"/>
                            <a:gd name="textAreaRight" fmla="*/ 60840 w 60480"/>
                            <a:gd name="textAreaTop" fmla="*/ 0 h 55440"/>
                            <a:gd name="textAreaBottom" fmla="*/ 55800 h 55440"/>
                          </a:gdLst>
                          <a:ahLst/>
                          <a:rect l="textAreaLeft" t="textAreaTop" r="textAreaRight" b="textAreaBottom"/>
                          <a:pathLst>
                            <a:path w="186" h="172">
                              <a:moveTo>
                                <a:pt x="13" y="70"/>
                              </a:moveTo>
                              <a:lnTo>
                                <a:pt x="35" y="36"/>
                              </a:lnTo>
                              <a:lnTo>
                                <a:pt x="48" y="22"/>
                              </a:lnTo>
                              <a:lnTo>
                                <a:pt x="77" y="7"/>
                              </a:lnTo>
                              <a:lnTo>
                                <a:pt x="112" y="0"/>
                              </a:lnTo>
                              <a:lnTo>
                                <a:pt x="141" y="0"/>
                              </a:lnTo>
                              <a:lnTo>
                                <a:pt x="160" y="6"/>
                              </a:lnTo>
                              <a:lnTo>
                                <a:pt x="177" y="27"/>
                              </a:lnTo>
                              <a:lnTo>
                                <a:pt x="186" y="56"/>
                              </a:lnTo>
                              <a:lnTo>
                                <a:pt x="184" y="88"/>
                              </a:lnTo>
                              <a:lnTo>
                                <a:pt x="167" y="116"/>
                              </a:lnTo>
                              <a:lnTo>
                                <a:pt x="154" y="134"/>
                              </a:lnTo>
                              <a:lnTo>
                                <a:pt x="121" y="153"/>
                              </a:lnTo>
                              <a:lnTo>
                                <a:pt x="77" y="163"/>
                              </a:lnTo>
                              <a:lnTo>
                                <a:pt x="42" y="172"/>
                              </a:lnTo>
                              <a:lnTo>
                                <a:pt x="17" y="163"/>
                              </a:lnTo>
                              <a:lnTo>
                                <a:pt x="4" y="147"/>
                              </a:lnTo>
                              <a:lnTo>
                                <a:pt x="0" y="120"/>
                              </a:lnTo>
                              <a:lnTo>
                                <a:pt x="13" y="7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0f0ff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72" name="Oval 65"/>
                        <p:cNvSpPr/>
                        <p:nvPr/>
                      </p:nvSpPr>
                      <p:spPr>
                        <a:xfrm>
                          <a:off x="1357200" y="428760"/>
                          <a:ext cx="15840" cy="14040"/>
                        </a:xfrm>
                        <a:prstGeom prst="ellipse">
                          <a:avLst/>
                        </a:prstGeom>
                        <a:solidFill>
                          <a:srgbClr val="008080"/>
                        </a:solidFill>
                        <a:ln w="3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360" bIns="-3636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73" name="Freeform 66"/>
                        <p:cNvSpPr/>
                        <p:nvPr/>
                      </p:nvSpPr>
                      <p:spPr>
                        <a:xfrm>
                          <a:off x="1363680" y="371520"/>
                          <a:ext cx="60480" cy="36360"/>
                        </a:xfrm>
                        <a:custGeom>
                          <a:avLst/>
                          <a:gdLst>
                            <a:gd name="textAreaLeft" fmla="*/ 0 w 60480"/>
                            <a:gd name="textAreaRight" fmla="*/ 60840 w 60480"/>
                            <a:gd name="textAreaTop" fmla="*/ 0 h 36360"/>
                            <a:gd name="textAreaBottom" fmla="*/ 36720 h 36360"/>
                          </a:gdLst>
                          <a:ahLst/>
                          <a:rect l="textAreaLeft" t="textAreaTop" r="textAreaRight" b="textAreaBottom"/>
                          <a:pathLst>
                            <a:path w="193" h="112">
                              <a:moveTo>
                                <a:pt x="28" y="0"/>
                              </a:moveTo>
                              <a:lnTo>
                                <a:pt x="185" y="66"/>
                              </a:lnTo>
                              <a:lnTo>
                                <a:pt x="191" y="75"/>
                              </a:lnTo>
                              <a:lnTo>
                                <a:pt x="193" y="89"/>
                              </a:lnTo>
                              <a:lnTo>
                                <a:pt x="189" y="99"/>
                              </a:lnTo>
                              <a:lnTo>
                                <a:pt x="184" y="108"/>
                              </a:lnTo>
                              <a:lnTo>
                                <a:pt x="176" y="111"/>
                              </a:lnTo>
                              <a:lnTo>
                                <a:pt x="162" y="112"/>
                              </a:lnTo>
                              <a:lnTo>
                                <a:pt x="16" y="49"/>
                              </a:lnTo>
                              <a:lnTo>
                                <a:pt x="4" y="40"/>
                              </a:lnTo>
                              <a:lnTo>
                                <a:pt x="0" y="27"/>
                              </a:lnTo>
                              <a:lnTo>
                                <a:pt x="4" y="14"/>
                              </a:lnTo>
                              <a:lnTo>
                                <a:pt x="9" y="8"/>
                              </a:lnTo>
                              <a:lnTo>
                                <a:pt x="17" y="2"/>
                              </a:lnTo>
                              <a:lnTo>
                                <a:pt x="28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8040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080" bIns="-100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74" name="Group 67"/>
                    <p:cNvGrpSpPr/>
                    <p:nvPr/>
                  </p:nvGrpSpPr>
                  <p:grpSpPr>
                    <a:xfrm>
                      <a:off x="1193760" y="425520"/>
                      <a:ext cx="58680" cy="68400"/>
                      <a:chOff x="1193760" y="425520"/>
                      <a:chExt cx="58680" cy="68400"/>
                    </a:xfrm>
                  </p:grpSpPr>
                  <p:sp>
                    <p:nvSpPr>
                      <p:cNvPr id="675" name="Freeform 68"/>
                      <p:cNvSpPr/>
                      <p:nvPr/>
                    </p:nvSpPr>
                    <p:spPr>
                      <a:xfrm>
                        <a:off x="1193760" y="425520"/>
                        <a:ext cx="52560" cy="66600"/>
                      </a:xfrm>
                      <a:custGeom>
                        <a:avLst/>
                        <a:gdLst>
                          <a:gd name="textAreaLeft" fmla="*/ 0 w 52560"/>
                          <a:gd name="textAreaRight" fmla="*/ 52920 w 52560"/>
                          <a:gd name="textAreaTop" fmla="*/ 0 h 66600"/>
                          <a:gd name="textAreaBottom" fmla="*/ 66960 h 66600"/>
                        </a:gdLst>
                        <a:ahLst/>
                        <a:rect l="textAreaLeft" t="textAreaTop" r="textAreaRight" b="textAreaBottom"/>
                        <a:pathLst>
                          <a:path w="164" h="210">
                            <a:moveTo>
                              <a:pt x="133" y="33"/>
                            </a:moveTo>
                            <a:lnTo>
                              <a:pt x="107" y="6"/>
                            </a:lnTo>
                            <a:lnTo>
                              <a:pt x="89" y="1"/>
                            </a:lnTo>
                            <a:lnTo>
                              <a:pt x="57" y="0"/>
                            </a:lnTo>
                            <a:lnTo>
                              <a:pt x="30" y="16"/>
                            </a:lnTo>
                            <a:lnTo>
                              <a:pt x="15" y="33"/>
                            </a:lnTo>
                            <a:lnTo>
                              <a:pt x="4" y="54"/>
                            </a:lnTo>
                            <a:lnTo>
                              <a:pt x="0" y="78"/>
                            </a:lnTo>
                            <a:lnTo>
                              <a:pt x="1" y="105"/>
                            </a:lnTo>
                            <a:lnTo>
                              <a:pt x="10" y="135"/>
                            </a:lnTo>
                            <a:lnTo>
                              <a:pt x="28" y="159"/>
                            </a:lnTo>
                            <a:lnTo>
                              <a:pt x="48" y="172"/>
                            </a:lnTo>
                            <a:lnTo>
                              <a:pt x="73" y="182"/>
                            </a:lnTo>
                            <a:lnTo>
                              <a:pt x="86" y="201"/>
                            </a:lnTo>
                            <a:lnTo>
                              <a:pt x="99" y="208"/>
                            </a:lnTo>
                            <a:lnTo>
                              <a:pt x="114" y="210"/>
                            </a:lnTo>
                            <a:lnTo>
                              <a:pt x="132" y="206"/>
                            </a:lnTo>
                            <a:lnTo>
                              <a:pt x="151" y="194"/>
                            </a:lnTo>
                            <a:lnTo>
                              <a:pt x="160" y="176"/>
                            </a:lnTo>
                            <a:lnTo>
                              <a:pt x="164" y="150"/>
                            </a:lnTo>
                            <a:lnTo>
                              <a:pt x="154" y="125"/>
                            </a:lnTo>
                            <a:lnTo>
                              <a:pt x="153" y="99"/>
                            </a:lnTo>
                            <a:lnTo>
                              <a:pt x="145" y="63"/>
                            </a:lnTo>
                            <a:lnTo>
                              <a:pt x="133" y="33"/>
                            </a:lnTo>
                            <a:close/>
                          </a:path>
                        </a:pathLst>
                      </a:custGeom>
                      <a:solidFill>
                        <a:srgbClr val="e0a080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160" bIns="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676" name="Freeform 69"/>
                      <p:cNvSpPr/>
                      <p:nvPr/>
                    </p:nvSpPr>
                    <p:spPr>
                      <a:xfrm>
                        <a:off x="1200240" y="428760"/>
                        <a:ext cx="52200" cy="65160"/>
                      </a:xfrm>
                      <a:custGeom>
                        <a:avLst/>
                        <a:gdLst>
                          <a:gd name="textAreaLeft" fmla="*/ 0 w 52200"/>
                          <a:gd name="textAreaRight" fmla="*/ 52560 w 52200"/>
                          <a:gd name="textAreaTop" fmla="*/ 0 h 65160"/>
                          <a:gd name="textAreaBottom" fmla="*/ 65520 h 65160"/>
                        </a:gdLst>
                        <a:ahLst/>
                        <a:rect l="textAreaLeft" t="textAreaTop" r="textAreaRight" b="textAreaBottom"/>
                        <a:pathLst>
                          <a:path w="169" h="204">
                            <a:moveTo>
                              <a:pt x="138" y="31"/>
                            </a:moveTo>
                            <a:lnTo>
                              <a:pt x="110" y="6"/>
                            </a:lnTo>
                            <a:lnTo>
                              <a:pt x="92" y="1"/>
                            </a:lnTo>
                            <a:lnTo>
                              <a:pt x="59" y="0"/>
                            </a:lnTo>
                            <a:lnTo>
                              <a:pt x="31" y="13"/>
                            </a:lnTo>
                            <a:lnTo>
                              <a:pt x="15" y="31"/>
                            </a:lnTo>
                            <a:lnTo>
                              <a:pt x="5" y="52"/>
                            </a:lnTo>
                            <a:lnTo>
                              <a:pt x="0" y="75"/>
                            </a:lnTo>
                            <a:lnTo>
                              <a:pt x="1" y="101"/>
                            </a:lnTo>
                            <a:lnTo>
                              <a:pt x="10" y="131"/>
                            </a:lnTo>
                            <a:lnTo>
                              <a:pt x="28" y="155"/>
                            </a:lnTo>
                            <a:lnTo>
                              <a:pt x="50" y="168"/>
                            </a:lnTo>
                            <a:lnTo>
                              <a:pt x="74" y="176"/>
                            </a:lnTo>
                            <a:lnTo>
                              <a:pt x="88" y="195"/>
                            </a:lnTo>
                            <a:lnTo>
                              <a:pt x="101" y="201"/>
                            </a:lnTo>
                            <a:lnTo>
                              <a:pt x="116" y="204"/>
                            </a:lnTo>
                            <a:lnTo>
                              <a:pt x="137" y="198"/>
                            </a:lnTo>
                            <a:lnTo>
                              <a:pt x="156" y="188"/>
                            </a:lnTo>
                            <a:lnTo>
                              <a:pt x="164" y="172"/>
                            </a:lnTo>
                            <a:lnTo>
                              <a:pt x="169" y="145"/>
                            </a:lnTo>
                            <a:lnTo>
                              <a:pt x="159" y="121"/>
                            </a:lnTo>
                            <a:lnTo>
                              <a:pt x="158" y="96"/>
                            </a:lnTo>
                            <a:lnTo>
                              <a:pt x="150" y="62"/>
                            </a:lnTo>
                            <a:lnTo>
                              <a:pt x="138" y="31"/>
                            </a:lnTo>
                            <a:close/>
                          </a:path>
                        </a:pathLst>
                      </a:custGeom>
                      <a:solidFill>
                        <a:srgbClr val="e0a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720" bIns="18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</p:grpSp>
              </p:grpSp>
              <p:grpSp>
                <p:nvGrpSpPr>
                  <p:cNvPr id="677" name="Group 70"/>
                  <p:cNvGrpSpPr/>
                  <p:nvPr/>
                </p:nvGrpSpPr>
                <p:grpSpPr>
                  <a:xfrm>
                    <a:off x="1100160" y="488880"/>
                    <a:ext cx="384120" cy="338400"/>
                    <a:chOff x="1100160" y="488880"/>
                    <a:chExt cx="384120" cy="338400"/>
                  </a:xfrm>
                </p:grpSpPr>
                <p:sp>
                  <p:nvSpPr>
                    <p:cNvPr id="678" name="Freeform 71"/>
                    <p:cNvSpPr/>
                    <p:nvPr/>
                  </p:nvSpPr>
                  <p:spPr>
                    <a:xfrm>
                      <a:off x="1100160" y="488880"/>
                      <a:ext cx="309600" cy="306360"/>
                    </a:xfrm>
                    <a:custGeom>
                      <a:avLst/>
                      <a:gdLst>
                        <a:gd name="textAreaLeft" fmla="*/ 0 w 309600"/>
                        <a:gd name="textAreaRight" fmla="*/ 309960 w 309600"/>
                        <a:gd name="textAreaTop" fmla="*/ 0 h 306360"/>
                        <a:gd name="textAreaBottom" fmla="*/ 306720 h 306360"/>
                      </a:gdLst>
                      <a:ahLst/>
                      <a:rect l="textAreaLeft" t="textAreaTop" r="textAreaRight" b="textAreaBottom"/>
                      <a:pathLst>
                        <a:path w="975" h="967">
                          <a:moveTo>
                            <a:pt x="265" y="0"/>
                          </a:moveTo>
                          <a:lnTo>
                            <a:pt x="327" y="42"/>
                          </a:lnTo>
                          <a:lnTo>
                            <a:pt x="390" y="83"/>
                          </a:lnTo>
                          <a:lnTo>
                            <a:pt x="446" y="109"/>
                          </a:lnTo>
                          <a:lnTo>
                            <a:pt x="634" y="187"/>
                          </a:lnTo>
                          <a:lnTo>
                            <a:pt x="662" y="306"/>
                          </a:lnTo>
                          <a:lnTo>
                            <a:pt x="686" y="368"/>
                          </a:lnTo>
                          <a:lnTo>
                            <a:pt x="707" y="413"/>
                          </a:lnTo>
                          <a:lnTo>
                            <a:pt x="722" y="459"/>
                          </a:lnTo>
                          <a:lnTo>
                            <a:pt x="732" y="506"/>
                          </a:lnTo>
                          <a:lnTo>
                            <a:pt x="731" y="535"/>
                          </a:lnTo>
                          <a:lnTo>
                            <a:pt x="724" y="570"/>
                          </a:lnTo>
                          <a:lnTo>
                            <a:pt x="728" y="611"/>
                          </a:lnTo>
                          <a:lnTo>
                            <a:pt x="744" y="654"/>
                          </a:lnTo>
                          <a:lnTo>
                            <a:pt x="783" y="670"/>
                          </a:lnTo>
                          <a:lnTo>
                            <a:pt x="843" y="685"/>
                          </a:lnTo>
                          <a:lnTo>
                            <a:pt x="884" y="698"/>
                          </a:lnTo>
                          <a:lnTo>
                            <a:pt x="925" y="730"/>
                          </a:lnTo>
                          <a:lnTo>
                            <a:pt x="951" y="764"/>
                          </a:lnTo>
                          <a:lnTo>
                            <a:pt x="968" y="807"/>
                          </a:lnTo>
                          <a:lnTo>
                            <a:pt x="975" y="856"/>
                          </a:lnTo>
                          <a:lnTo>
                            <a:pt x="965" y="930"/>
                          </a:lnTo>
                          <a:lnTo>
                            <a:pt x="232" y="967"/>
                          </a:lnTo>
                          <a:lnTo>
                            <a:pt x="97" y="964"/>
                          </a:lnTo>
                          <a:lnTo>
                            <a:pt x="71" y="930"/>
                          </a:lnTo>
                          <a:lnTo>
                            <a:pt x="46" y="875"/>
                          </a:lnTo>
                          <a:lnTo>
                            <a:pt x="25" y="814"/>
                          </a:lnTo>
                          <a:lnTo>
                            <a:pt x="13" y="763"/>
                          </a:lnTo>
                          <a:lnTo>
                            <a:pt x="4" y="708"/>
                          </a:lnTo>
                          <a:lnTo>
                            <a:pt x="0" y="657"/>
                          </a:lnTo>
                          <a:lnTo>
                            <a:pt x="10" y="573"/>
                          </a:lnTo>
                          <a:lnTo>
                            <a:pt x="25" y="506"/>
                          </a:lnTo>
                          <a:lnTo>
                            <a:pt x="48" y="432"/>
                          </a:lnTo>
                          <a:lnTo>
                            <a:pt x="74" y="361"/>
                          </a:lnTo>
                          <a:lnTo>
                            <a:pt x="104" y="304"/>
                          </a:lnTo>
                          <a:lnTo>
                            <a:pt x="143" y="240"/>
                          </a:lnTo>
                          <a:lnTo>
                            <a:pt x="192" y="187"/>
                          </a:lnTo>
                          <a:lnTo>
                            <a:pt x="237" y="142"/>
                          </a:lnTo>
                          <a:lnTo>
                            <a:pt x="269" y="119"/>
                          </a:lnTo>
                          <a:lnTo>
                            <a:pt x="195" y="83"/>
                          </a:lnTo>
                          <a:lnTo>
                            <a:pt x="265" y="0"/>
                          </a:lnTo>
                          <a:close/>
                        </a:path>
                      </a:pathLst>
                    </a:custGeom>
                    <a:solidFill>
                      <a:srgbClr val="ff60c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Freeform 72"/>
                    <p:cNvSpPr/>
                    <p:nvPr/>
                  </p:nvSpPr>
                  <p:spPr>
                    <a:xfrm>
                      <a:off x="1306440" y="650880"/>
                      <a:ext cx="87480" cy="112680"/>
                    </a:xfrm>
                    <a:custGeom>
                      <a:avLst/>
                      <a:gdLst>
                        <a:gd name="textAreaLeft" fmla="*/ 0 w 87480"/>
                        <a:gd name="textAreaRight" fmla="*/ 87840 w 87480"/>
                        <a:gd name="textAreaTop" fmla="*/ 0 h 112680"/>
                        <a:gd name="textAreaBottom" fmla="*/ 113040 h 112680"/>
                      </a:gdLst>
                      <a:ahLst/>
                      <a:rect l="textAreaLeft" t="textAreaTop" r="textAreaRight" b="textAreaBottom"/>
                      <a:pathLst>
                        <a:path w="273" h="354">
                          <a:moveTo>
                            <a:pt x="0" y="0"/>
                          </a:moveTo>
                          <a:lnTo>
                            <a:pt x="10" y="67"/>
                          </a:lnTo>
                          <a:lnTo>
                            <a:pt x="21" y="120"/>
                          </a:lnTo>
                          <a:lnTo>
                            <a:pt x="43" y="162"/>
                          </a:lnTo>
                          <a:lnTo>
                            <a:pt x="60" y="186"/>
                          </a:lnTo>
                          <a:lnTo>
                            <a:pt x="94" y="205"/>
                          </a:lnTo>
                          <a:lnTo>
                            <a:pt x="154" y="227"/>
                          </a:lnTo>
                          <a:lnTo>
                            <a:pt x="206" y="248"/>
                          </a:lnTo>
                          <a:lnTo>
                            <a:pt x="231" y="259"/>
                          </a:lnTo>
                          <a:lnTo>
                            <a:pt x="253" y="283"/>
                          </a:lnTo>
                          <a:lnTo>
                            <a:pt x="266" y="315"/>
                          </a:lnTo>
                          <a:lnTo>
                            <a:pt x="273" y="354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0" name="Freeform 73"/>
                    <p:cNvSpPr/>
                    <p:nvPr/>
                  </p:nvSpPr>
                  <p:spPr>
                    <a:xfrm>
                      <a:off x="1184400" y="528840"/>
                      <a:ext cx="126720" cy="123840"/>
                    </a:xfrm>
                    <a:custGeom>
                      <a:avLst/>
                      <a:gdLst>
                        <a:gd name="textAreaLeft" fmla="*/ 0 w 126720"/>
                        <a:gd name="textAreaRight" fmla="*/ 127080 w 126720"/>
                        <a:gd name="textAreaTop" fmla="*/ 0 h 123840"/>
                        <a:gd name="textAreaBottom" fmla="*/ 124200 h 123840"/>
                      </a:gdLst>
                      <a:ahLst/>
                      <a:rect l="textAreaLeft" t="textAreaTop" r="textAreaRight" b="textAreaBottom"/>
                      <a:pathLst>
                        <a:path w="401" h="390">
                          <a:moveTo>
                            <a:pt x="0" y="7"/>
                          </a:moveTo>
                          <a:lnTo>
                            <a:pt x="13" y="0"/>
                          </a:lnTo>
                          <a:lnTo>
                            <a:pt x="55" y="31"/>
                          </a:lnTo>
                          <a:lnTo>
                            <a:pt x="109" y="63"/>
                          </a:lnTo>
                          <a:lnTo>
                            <a:pt x="153" y="83"/>
                          </a:lnTo>
                          <a:lnTo>
                            <a:pt x="199" y="108"/>
                          </a:lnTo>
                          <a:lnTo>
                            <a:pt x="263" y="141"/>
                          </a:lnTo>
                          <a:lnTo>
                            <a:pt x="302" y="202"/>
                          </a:lnTo>
                          <a:lnTo>
                            <a:pt x="333" y="311"/>
                          </a:lnTo>
                          <a:lnTo>
                            <a:pt x="362" y="222"/>
                          </a:lnTo>
                          <a:lnTo>
                            <a:pt x="385" y="163"/>
                          </a:lnTo>
                          <a:lnTo>
                            <a:pt x="381" y="128"/>
                          </a:lnTo>
                          <a:lnTo>
                            <a:pt x="394" y="182"/>
                          </a:lnTo>
                          <a:lnTo>
                            <a:pt x="401" y="210"/>
                          </a:lnTo>
                          <a:lnTo>
                            <a:pt x="388" y="235"/>
                          </a:lnTo>
                          <a:lnTo>
                            <a:pt x="369" y="282"/>
                          </a:lnTo>
                          <a:lnTo>
                            <a:pt x="346" y="339"/>
                          </a:lnTo>
                          <a:lnTo>
                            <a:pt x="327" y="390"/>
                          </a:lnTo>
                          <a:lnTo>
                            <a:pt x="302" y="304"/>
                          </a:lnTo>
                          <a:lnTo>
                            <a:pt x="280" y="244"/>
                          </a:lnTo>
                          <a:lnTo>
                            <a:pt x="266" y="186"/>
                          </a:lnTo>
                          <a:lnTo>
                            <a:pt x="202" y="128"/>
                          </a:lnTo>
                          <a:lnTo>
                            <a:pt x="90" y="69"/>
                          </a:lnTo>
                          <a:lnTo>
                            <a:pt x="0" y="7"/>
                          </a:lnTo>
                          <a:close/>
                        </a:path>
                      </a:pathLst>
                    </a:custGeom>
                    <a:solidFill>
                      <a:srgbClr val="e040a0"/>
                    </a:solidFill>
                    <a:ln w="3240">
                      <a:solidFill>
                        <a:srgbClr val="e040a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1" name="Freeform 74"/>
                    <p:cNvSpPr/>
                    <p:nvPr/>
                  </p:nvSpPr>
                  <p:spPr>
                    <a:xfrm>
                      <a:off x="1190520" y="593640"/>
                      <a:ext cx="54000" cy="103320"/>
                    </a:xfrm>
                    <a:custGeom>
                      <a:avLst/>
                      <a:gdLst>
                        <a:gd name="textAreaLeft" fmla="*/ 0 w 54000"/>
                        <a:gd name="textAreaRight" fmla="*/ 54360 w 54000"/>
                        <a:gd name="textAreaTop" fmla="*/ 0 h 103320"/>
                        <a:gd name="textAreaBottom" fmla="*/ 103680 h 103320"/>
                      </a:gdLst>
                      <a:ahLst/>
                      <a:rect l="textAreaLeft" t="textAreaTop" r="textAreaRight" b="textAreaBottom"/>
                      <a:pathLst>
                        <a:path w="169" h="327">
                          <a:moveTo>
                            <a:pt x="88" y="262"/>
                          </a:moveTo>
                          <a:lnTo>
                            <a:pt x="45" y="220"/>
                          </a:lnTo>
                          <a:lnTo>
                            <a:pt x="31" y="178"/>
                          </a:lnTo>
                          <a:lnTo>
                            <a:pt x="25" y="133"/>
                          </a:lnTo>
                          <a:lnTo>
                            <a:pt x="19" y="73"/>
                          </a:lnTo>
                          <a:lnTo>
                            <a:pt x="43" y="53"/>
                          </a:lnTo>
                          <a:lnTo>
                            <a:pt x="53" y="98"/>
                          </a:lnTo>
                          <a:lnTo>
                            <a:pt x="73" y="119"/>
                          </a:lnTo>
                          <a:lnTo>
                            <a:pt x="81" y="168"/>
                          </a:lnTo>
                          <a:lnTo>
                            <a:pt x="94" y="205"/>
                          </a:lnTo>
                          <a:lnTo>
                            <a:pt x="124" y="237"/>
                          </a:lnTo>
                          <a:lnTo>
                            <a:pt x="147" y="276"/>
                          </a:lnTo>
                          <a:lnTo>
                            <a:pt x="169" y="327"/>
                          </a:lnTo>
                          <a:lnTo>
                            <a:pt x="166" y="283"/>
                          </a:lnTo>
                          <a:lnTo>
                            <a:pt x="160" y="248"/>
                          </a:lnTo>
                          <a:lnTo>
                            <a:pt x="131" y="219"/>
                          </a:lnTo>
                          <a:lnTo>
                            <a:pt x="111" y="181"/>
                          </a:lnTo>
                          <a:lnTo>
                            <a:pt x="95" y="139"/>
                          </a:lnTo>
                          <a:lnTo>
                            <a:pt x="83" y="101"/>
                          </a:lnTo>
                          <a:lnTo>
                            <a:pt x="66" y="73"/>
                          </a:lnTo>
                          <a:lnTo>
                            <a:pt x="61" y="35"/>
                          </a:lnTo>
                          <a:lnTo>
                            <a:pt x="51" y="15"/>
                          </a:lnTo>
                          <a:lnTo>
                            <a:pt x="39" y="0"/>
                          </a:lnTo>
                          <a:lnTo>
                            <a:pt x="18" y="37"/>
                          </a:lnTo>
                          <a:lnTo>
                            <a:pt x="0" y="88"/>
                          </a:lnTo>
                          <a:lnTo>
                            <a:pt x="13" y="98"/>
                          </a:lnTo>
                          <a:lnTo>
                            <a:pt x="13" y="136"/>
                          </a:lnTo>
                          <a:lnTo>
                            <a:pt x="21" y="184"/>
                          </a:lnTo>
                          <a:lnTo>
                            <a:pt x="32" y="219"/>
                          </a:lnTo>
                          <a:lnTo>
                            <a:pt x="53" y="242"/>
                          </a:lnTo>
                          <a:lnTo>
                            <a:pt x="88" y="262"/>
                          </a:lnTo>
                          <a:close/>
                        </a:path>
                      </a:pathLst>
                    </a:custGeom>
                    <a:solidFill>
                      <a:srgbClr val="e040a0"/>
                    </a:solidFill>
                    <a:ln w="3240">
                      <a:solidFill>
                        <a:srgbClr val="e040a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Freeform 75"/>
                    <p:cNvSpPr/>
                    <p:nvPr/>
                  </p:nvSpPr>
                  <p:spPr>
                    <a:xfrm>
                      <a:off x="1108080" y="650880"/>
                      <a:ext cx="30240" cy="71640"/>
                    </a:xfrm>
                    <a:custGeom>
                      <a:avLst/>
                      <a:gdLst>
                        <a:gd name="textAreaLeft" fmla="*/ 0 w 30240"/>
                        <a:gd name="textAreaRight" fmla="*/ 30600 w 30240"/>
                        <a:gd name="textAreaTop" fmla="*/ 0 h 71640"/>
                        <a:gd name="textAreaBottom" fmla="*/ 72000 h 71640"/>
                      </a:gdLst>
                      <a:ahLst/>
                      <a:rect l="textAreaLeft" t="textAreaTop" r="textAreaRight" b="textAreaBottom"/>
                      <a:pathLst>
                        <a:path w="95" h="223">
                          <a:moveTo>
                            <a:pt x="95" y="223"/>
                          </a:moveTo>
                          <a:lnTo>
                            <a:pt x="70" y="214"/>
                          </a:lnTo>
                          <a:lnTo>
                            <a:pt x="46" y="189"/>
                          </a:lnTo>
                          <a:lnTo>
                            <a:pt x="35" y="172"/>
                          </a:lnTo>
                          <a:lnTo>
                            <a:pt x="24" y="131"/>
                          </a:lnTo>
                          <a:lnTo>
                            <a:pt x="18" y="103"/>
                          </a:lnTo>
                          <a:lnTo>
                            <a:pt x="5" y="75"/>
                          </a:lnTo>
                          <a:lnTo>
                            <a:pt x="0" y="44"/>
                          </a:lnTo>
                          <a:lnTo>
                            <a:pt x="9" y="23"/>
                          </a:lnTo>
                          <a:lnTo>
                            <a:pt x="33" y="0"/>
                          </a:lnTo>
                          <a:lnTo>
                            <a:pt x="9" y="22"/>
                          </a:lnTo>
                          <a:lnTo>
                            <a:pt x="3" y="45"/>
                          </a:lnTo>
                          <a:lnTo>
                            <a:pt x="4" y="74"/>
                          </a:lnTo>
                          <a:lnTo>
                            <a:pt x="16" y="99"/>
                          </a:lnTo>
                          <a:lnTo>
                            <a:pt x="28" y="140"/>
                          </a:lnTo>
                          <a:lnTo>
                            <a:pt x="34" y="164"/>
                          </a:lnTo>
                          <a:lnTo>
                            <a:pt x="46" y="191"/>
                          </a:lnTo>
                          <a:lnTo>
                            <a:pt x="72" y="213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0" bIns="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3" name="Freeform 76"/>
                    <p:cNvSpPr/>
                    <p:nvPr/>
                  </p:nvSpPr>
                  <p:spPr>
                    <a:xfrm>
                      <a:off x="1111320" y="650880"/>
                      <a:ext cx="30240" cy="71640"/>
                    </a:xfrm>
                    <a:custGeom>
                      <a:avLst/>
                      <a:gdLst>
                        <a:gd name="textAreaLeft" fmla="*/ 0 w 30240"/>
                        <a:gd name="textAreaRight" fmla="*/ 30600 w 30240"/>
                        <a:gd name="textAreaTop" fmla="*/ 0 h 71640"/>
                        <a:gd name="textAreaBottom" fmla="*/ 72000 h 71640"/>
                      </a:gdLst>
                      <a:ahLst/>
                      <a:rect l="textAreaLeft" t="textAreaTop" r="textAreaRight" b="textAreaBottom"/>
                      <a:pathLst>
                        <a:path w="92" h="223">
                          <a:moveTo>
                            <a:pt x="92" y="223"/>
                          </a:moveTo>
                          <a:lnTo>
                            <a:pt x="58" y="194"/>
                          </a:lnTo>
                          <a:lnTo>
                            <a:pt x="42" y="169"/>
                          </a:lnTo>
                          <a:lnTo>
                            <a:pt x="36" y="145"/>
                          </a:lnTo>
                          <a:lnTo>
                            <a:pt x="22" y="101"/>
                          </a:lnTo>
                          <a:lnTo>
                            <a:pt x="13" y="73"/>
                          </a:lnTo>
                          <a:lnTo>
                            <a:pt x="8" y="51"/>
                          </a:lnTo>
                          <a:lnTo>
                            <a:pt x="15" y="26"/>
                          </a:lnTo>
                          <a:lnTo>
                            <a:pt x="31" y="0"/>
                          </a:lnTo>
                          <a:lnTo>
                            <a:pt x="7" y="22"/>
                          </a:lnTo>
                          <a:lnTo>
                            <a:pt x="0" y="45"/>
                          </a:lnTo>
                          <a:lnTo>
                            <a:pt x="1" y="74"/>
                          </a:lnTo>
                          <a:lnTo>
                            <a:pt x="13" y="99"/>
                          </a:lnTo>
                          <a:lnTo>
                            <a:pt x="25" y="140"/>
                          </a:lnTo>
                          <a:lnTo>
                            <a:pt x="32" y="164"/>
                          </a:lnTo>
                          <a:lnTo>
                            <a:pt x="44" y="191"/>
                          </a:lnTo>
                          <a:lnTo>
                            <a:pt x="70" y="213"/>
                          </a:lnTo>
                          <a:lnTo>
                            <a:pt x="92" y="223"/>
                          </a:lnTo>
                          <a:close/>
                        </a:path>
                      </a:pathLst>
                    </a:custGeom>
                    <a:solidFill>
                      <a:srgbClr val="e040a0"/>
                    </a:solidFill>
                    <a:ln w="3240">
                      <a:solidFill>
                        <a:srgbClr val="e040a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0" bIns="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684" name="Group 77"/>
                    <p:cNvGrpSpPr/>
                    <p:nvPr/>
                  </p:nvGrpSpPr>
                  <p:grpSpPr>
                    <a:xfrm>
                      <a:off x="1162080" y="711360"/>
                      <a:ext cx="322200" cy="115920"/>
                      <a:chOff x="1162080" y="711360"/>
                      <a:chExt cx="322200" cy="115920"/>
                    </a:xfrm>
                  </p:grpSpPr>
                  <p:sp>
                    <p:nvSpPr>
                      <p:cNvPr id="685" name="Freeform 78"/>
                      <p:cNvSpPr/>
                      <p:nvPr/>
                    </p:nvSpPr>
                    <p:spPr>
                      <a:xfrm>
                        <a:off x="1162080" y="711360"/>
                        <a:ext cx="320760" cy="115920"/>
                      </a:xfrm>
                      <a:custGeom>
                        <a:avLst/>
                        <a:gdLst>
                          <a:gd name="textAreaLeft" fmla="*/ 0 w 320760"/>
                          <a:gd name="textAreaRight" fmla="*/ 321120 w 320760"/>
                          <a:gd name="textAreaTop" fmla="*/ 0 h 115920"/>
                          <a:gd name="textAreaBottom" fmla="*/ 116280 h 115920"/>
                        </a:gdLst>
                        <a:ahLst/>
                        <a:rect l="textAreaLeft" t="textAreaTop" r="textAreaRight" b="textAreaBottom"/>
                        <a:pathLst>
                          <a:path w="1011" h="367">
                            <a:moveTo>
                              <a:pt x="243" y="0"/>
                            </a:moveTo>
                            <a:lnTo>
                              <a:pt x="259" y="39"/>
                            </a:lnTo>
                            <a:lnTo>
                              <a:pt x="297" y="89"/>
                            </a:lnTo>
                            <a:lnTo>
                              <a:pt x="361" y="125"/>
                            </a:lnTo>
                            <a:lnTo>
                              <a:pt x="451" y="150"/>
                            </a:lnTo>
                            <a:lnTo>
                              <a:pt x="554" y="173"/>
                            </a:lnTo>
                            <a:lnTo>
                              <a:pt x="637" y="176"/>
                            </a:lnTo>
                            <a:lnTo>
                              <a:pt x="723" y="173"/>
                            </a:lnTo>
                            <a:lnTo>
                              <a:pt x="740" y="163"/>
                            </a:lnTo>
                            <a:lnTo>
                              <a:pt x="764" y="135"/>
                            </a:lnTo>
                            <a:lnTo>
                              <a:pt x="784" y="113"/>
                            </a:lnTo>
                            <a:lnTo>
                              <a:pt x="812" y="95"/>
                            </a:lnTo>
                            <a:lnTo>
                              <a:pt x="821" y="73"/>
                            </a:lnTo>
                            <a:lnTo>
                              <a:pt x="835" y="54"/>
                            </a:lnTo>
                            <a:lnTo>
                              <a:pt x="855" y="45"/>
                            </a:lnTo>
                            <a:lnTo>
                              <a:pt x="879" y="36"/>
                            </a:lnTo>
                            <a:lnTo>
                              <a:pt x="915" y="33"/>
                            </a:lnTo>
                            <a:lnTo>
                              <a:pt x="952" y="41"/>
                            </a:lnTo>
                            <a:lnTo>
                              <a:pt x="984" y="57"/>
                            </a:lnTo>
                            <a:lnTo>
                              <a:pt x="1002" y="76"/>
                            </a:lnTo>
                            <a:lnTo>
                              <a:pt x="1009" y="102"/>
                            </a:lnTo>
                            <a:lnTo>
                              <a:pt x="996" y="154"/>
                            </a:lnTo>
                            <a:lnTo>
                              <a:pt x="1008" y="174"/>
                            </a:lnTo>
                            <a:lnTo>
                              <a:pt x="1011" y="198"/>
                            </a:lnTo>
                            <a:lnTo>
                              <a:pt x="1004" y="216"/>
                            </a:lnTo>
                            <a:lnTo>
                              <a:pt x="985" y="237"/>
                            </a:lnTo>
                            <a:lnTo>
                              <a:pt x="973" y="252"/>
                            </a:lnTo>
                            <a:lnTo>
                              <a:pt x="983" y="273"/>
                            </a:lnTo>
                            <a:lnTo>
                              <a:pt x="980" y="296"/>
                            </a:lnTo>
                            <a:lnTo>
                              <a:pt x="969" y="312"/>
                            </a:lnTo>
                            <a:lnTo>
                              <a:pt x="959" y="327"/>
                            </a:lnTo>
                            <a:lnTo>
                              <a:pt x="953" y="353"/>
                            </a:lnTo>
                            <a:lnTo>
                              <a:pt x="942" y="364"/>
                            </a:lnTo>
                            <a:lnTo>
                              <a:pt x="912" y="367"/>
                            </a:lnTo>
                            <a:lnTo>
                              <a:pt x="869" y="366"/>
                            </a:lnTo>
                            <a:lnTo>
                              <a:pt x="830" y="358"/>
                            </a:lnTo>
                            <a:lnTo>
                              <a:pt x="784" y="345"/>
                            </a:lnTo>
                            <a:lnTo>
                              <a:pt x="754" y="329"/>
                            </a:lnTo>
                            <a:lnTo>
                              <a:pt x="733" y="316"/>
                            </a:lnTo>
                            <a:lnTo>
                              <a:pt x="659" y="326"/>
                            </a:lnTo>
                            <a:lnTo>
                              <a:pt x="560" y="339"/>
                            </a:lnTo>
                            <a:lnTo>
                              <a:pt x="486" y="345"/>
                            </a:lnTo>
                            <a:lnTo>
                              <a:pt x="411" y="345"/>
                            </a:lnTo>
                            <a:lnTo>
                              <a:pt x="314" y="342"/>
                            </a:lnTo>
                            <a:lnTo>
                              <a:pt x="255" y="333"/>
                            </a:lnTo>
                            <a:lnTo>
                              <a:pt x="153" y="294"/>
                            </a:lnTo>
                            <a:lnTo>
                              <a:pt x="89" y="259"/>
                            </a:lnTo>
                            <a:lnTo>
                              <a:pt x="51" y="205"/>
                            </a:lnTo>
                            <a:lnTo>
                              <a:pt x="25" y="184"/>
                            </a:lnTo>
                            <a:lnTo>
                              <a:pt x="0" y="129"/>
                            </a:lnTo>
                            <a:lnTo>
                              <a:pt x="45" y="98"/>
                            </a:lnTo>
                            <a:lnTo>
                              <a:pt x="107" y="87"/>
                            </a:lnTo>
                            <a:lnTo>
                              <a:pt x="177" y="26"/>
                            </a:lnTo>
                            <a:lnTo>
                              <a:pt x="217" y="15"/>
                            </a:lnTo>
                            <a:lnTo>
                              <a:pt x="243" y="0"/>
                            </a:lnTo>
                            <a:close/>
                          </a:path>
                        </a:pathLst>
                      </a:custGeom>
                      <a:solidFill>
                        <a:srgbClr val="e0a080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686" name="Freeform 79"/>
                      <p:cNvSpPr/>
                      <p:nvPr/>
                    </p:nvSpPr>
                    <p:spPr>
                      <a:xfrm>
                        <a:off x="1436760" y="733320"/>
                        <a:ext cx="7920" cy="27000"/>
                      </a:xfrm>
                      <a:custGeom>
                        <a:avLst/>
                        <a:gdLst>
                          <a:gd name="textAreaLeft" fmla="*/ 0 w 7920"/>
                          <a:gd name="textAreaRight" fmla="*/ 8280 w 7920"/>
                          <a:gd name="textAreaTop" fmla="*/ 0 h 27000"/>
                          <a:gd name="textAreaBottom" fmla="*/ 27360 h 27000"/>
                        </a:gdLst>
                        <a:ahLst/>
                        <a:rect l="textAreaLeft" t="textAreaTop" r="textAreaRight" b="textAreaBottom"/>
                        <a:pathLst>
                          <a:path w="23" h="85">
                            <a:moveTo>
                              <a:pt x="23" y="0"/>
                            </a:moveTo>
                            <a:lnTo>
                              <a:pt x="12" y="3"/>
                            </a:lnTo>
                            <a:lnTo>
                              <a:pt x="4" y="15"/>
                            </a:lnTo>
                            <a:lnTo>
                              <a:pt x="0" y="27"/>
                            </a:lnTo>
                            <a:lnTo>
                              <a:pt x="0" y="38"/>
                            </a:lnTo>
                            <a:lnTo>
                              <a:pt x="5" y="62"/>
                            </a:lnTo>
                            <a:lnTo>
                              <a:pt x="4" y="85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687" name="Freeform 80"/>
                      <p:cNvSpPr/>
                      <p:nvPr/>
                    </p:nvSpPr>
                    <p:spPr>
                      <a:xfrm>
                        <a:off x="1471680" y="766800"/>
                        <a:ext cx="12600" cy="4680"/>
                      </a:xfrm>
                      <a:custGeom>
                        <a:avLst/>
                        <a:gdLst>
                          <a:gd name="textAreaLeft" fmla="*/ 0 w 12600"/>
                          <a:gd name="textAreaRight" fmla="*/ 12960 w 12600"/>
                          <a:gd name="textAreaTop" fmla="*/ 0 h 4680"/>
                          <a:gd name="textAreaBottom" fmla="*/ 5040 h 4680"/>
                        </a:gdLst>
                        <a:ahLst/>
                        <a:rect l="textAreaLeft" t="textAreaTop" r="textAreaRight" b="textAreaBottom"/>
                        <a:pathLst>
                          <a:path w="42" h="12">
                            <a:moveTo>
                              <a:pt x="42" y="6"/>
                            </a:moveTo>
                            <a:lnTo>
                              <a:pt x="28" y="12"/>
                            </a:lnTo>
                            <a:lnTo>
                              <a:pt x="10" y="9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688" name="Freeform 81"/>
                      <p:cNvSpPr/>
                      <p:nvPr/>
                    </p:nvSpPr>
                    <p:spPr>
                      <a:xfrm>
                        <a:off x="1463760" y="798480"/>
                        <a:ext cx="14040" cy="5040"/>
                      </a:xfrm>
                      <a:custGeom>
                        <a:avLst/>
                        <a:gdLst>
                          <a:gd name="textAreaLeft" fmla="*/ 0 w 14040"/>
                          <a:gd name="textAreaRight" fmla="*/ 14400 w 14040"/>
                          <a:gd name="textAreaTop" fmla="*/ 0 h 5040"/>
                          <a:gd name="textAreaBottom" fmla="*/ 5400 h 5040"/>
                        </a:gdLst>
                        <a:ahLst/>
                        <a:rect l="textAreaLeft" t="textAreaTop" r="textAreaRight" b="textAreaBottom"/>
                        <a:pathLst>
                          <a:path w="45" h="14">
                            <a:moveTo>
                              <a:pt x="45" y="0"/>
                            </a:moveTo>
                            <a:lnTo>
                              <a:pt x="40" y="11"/>
                            </a:lnTo>
                            <a:lnTo>
                              <a:pt x="26" y="14"/>
                            </a:lnTo>
                            <a:lnTo>
                              <a:pt x="13" y="10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689" name="Freeform 82"/>
                      <p:cNvSpPr/>
                      <p:nvPr/>
                    </p:nvSpPr>
                    <p:spPr>
                      <a:xfrm>
                        <a:off x="1379520" y="776520"/>
                        <a:ext cx="19080" cy="34920"/>
                      </a:xfrm>
                      <a:custGeom>
                        <a:avLst/>
                        <a:gdLst>
                          <a:gd name="textAreaLeft" fmla="*/ 0 w 19080"/>
                          <a:gd name="textAreaRight" fmla="*/ 19440 w 19080"/>
                          <a:gd name="textAreaTop" fmla="*/ 0 h 34920"/>
                          <a:gd name="textAreaBottom" fmla="*/ 35280 h 34920"/>
                        </a:gdLst>
                        <a:ahLst/>
                        <a:rect l="textAreaLeft" t="textAreaTop" r="textAreaRight" b="textAreaBottom"/>
                        <a:pathLst>
                          <a:path w="57" h="109">
                            <a:moveTo>
                              <a:pt x="0" y="0"/>
                            </a:moveTo>
                            <a:lnTo>
                              <a:pt x="18" y="15"/>
                            </a:lnTo>
                            <a:lnTo>
                              <a:pt x="39" y="39"/>
                            </a:lnTo>
                            <a:lnTo>
                              <a:pt x="48" y="67"/>
                            </a:lnTo>
                            <a:lnTo>
                              <a:pt x="57" y="84"/>
                            </a:lnTo>
                            <a:lnTo>
                              <a:pt x="48" y="109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520" bIns="-115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690" name="Freeform 83"/>
                      <p:cNvSpPr/>
                      <p:nvPr/>
                    </p:nvSpPr>
                    <p:spPr>
                      <a:xfrm>
                        <a:off x="1438200" y="755640"/>
                        <a:ext cx="19080" cy="9720"/>
                      </a:xfrm>
                      <a:custGeom>
                        <a:avLst/>
                        <a:gdLst>
                          <a:gd name="textAreaLeft" fmla="*/ 0 w 19080"/>
                          <a:gd name="textAreaRight" fmla="*/ 19440 w 19080"/>
                          <a:gd name="textAreaTop" fmla="*/ 0 h 9720"/>
                          <a:gd name="textAreaBottom" fmla="*/ 10080 h 9720"/>
                        </a:gdLst>
                        <a:ahLst/>
                        <a:rect l="textAreaLeft" t="textAreaTop" r="textAreaRight" b="textAreaBottom"/>
                        <a:pathLst>
                          <a:path w="59" h="30">
                            <a:moveTo>
                              <a:pt x="0" y="30"/>
                            </a:moveTo>
                            <a:lnTo>
                              <a:pt x="11" y="16"/>
                            </a:lnTo>
                            <a:lnTo>
                              <a:pt x="24" y="6"/>
                            </a:lnTo>
                            <a:lnTo>
                              <a:pt x="38" y="0"/>
                            </a:lnTo>
                            <a:lnTo>
                              <a:pt x="59" y="2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691" name="Freeform 84"/>
                      <p:cNvSpPr/>
                      <p:nvPr/>
                    </p:nvSpPr>
                    <p:spPr>
                      <a:xfrm>
                        <a:off x="1454040" y="744480"/>
                        <a:ext cx="11160" cy="11160"/>
                      </a:xfrm>
                      <a:custGeom>
                        <a:avLst/>
                        <a:gdLst>
                          <a:gd name="textAreaLeft" fmla="*/ 0 w 11160"/>
                          <a:gd name="textAreaRight" fmla="*/ 11520 w 11160"/>
                          <a:gd name="textAreaTop" fmla="*/ 0 h 11160"/>
                          <a:gd name="textAreaBottom" fmla="*/ 11520 h 11160"/>
                        </a:gdLst>
                        <a:ahLst/>
                        <a:rect l="textAreaLeft" t="textAreaTop" r="textAreaRight" b="textAreaBottom"/>
                        <a:pathLst>
                          <a:path w="38" h="31">
                            <a:moveTo>
                              <a:pt x="38" y="0"/>
                            </a:moveTo>
                            <a:lnTo>
                              <a:pt x="26" y="0"/>
                            </a:lnTo>
                            <a:lnTo>
                              <a:pt x="16" y="5"/>
                            </a:lnTo>
                            <a:lnTo>
                              <a:pt x="9" y="11"/>
                            </a:lnTo>
                            <a:lnTo>
                              <a:pt x="2" y="20"/>
                            </a:lnTo>
                            <a:lnTo>
                              <a:pt x="0" y="31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692" name="Freeform 85"/>
                      <p:cNvSpPr/>
                      <p:nvPr/>
                    </p:nvSpPr>
                    <p:spPr>
                      <a:xfrm>
                        <a:off x="1452600" y="731880"/>
                        <a:ext cx="4680" cy="14400"/>
                      </a:xfrm>
                      <a:custGeom>
                        <a:avLst/>
                        <a:gdLst>
                          <a:gd name="textAreaLeft" fmla="*/ 0 w 4680"/>
                          <a:gd name="textAreaRight" fmla="*/ 5040 w 4680"/>
                          <a:gd name="textAreaTop" fmla="*/ 0 h 14400"/>
                          <a:gd name="textAreaBottom" fmla="*/ 14760 h 14400"/>
                        </a:gdLst>
                        <a:ahLst/>
                        <a:rect l="textAreaLeft" t="textAreaTop" r="textAreaRight" b="textAreaBottom"/>
                        <a:pathLst>
                          <a:path w="15" h="45">
                            <a:moveTo>
                              <a:pt x="15" y="0"/>
                            </a:moveTo>
                            <a:lnTo>
                              <a:pt x="8" y="6"/>
                            </a:lnTo>
                            <a:lnTo>
                              <a:pt x="3" y="19"/>
                            </a:lnTo>
                            <a:lnTo>
                              <a:pt x="0" y="32"/>
                            </a:lnTo>
                            <a:lnTo>
                              <a:pt x="0" y="45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693" name="Freeform 86"/>
                      <p:cNvSpPr/>
                      <p:nvPr/>
                    </p:nvSpPr>
                    <p:spPr>
                      <a:xfrm>
                        <a:off x="1442880" y="738360"/>
                        <a:ext cx="9720" cy="7920"/>
                      </a:xfrm>
                      <a:custGeom>
                        <a:avLst/>
                        <a:gdLst>
                          <a:gd name="textAreaLeft" fmla="*/ 0 w 9720"/>
                          <a:gd name="textAreaRight" fmla="*/ 10080 w 9720"/>
                          <a:gd name="textAreaTop" fmla="*/ 0 h 7920"/>
                          <a:gd name="textAreaBottom" fmla="*/ 8280 h 7920"/>
                        </a:gdLst>
                        <a:ahLst/>
                        <a:rect l="textAreaLeft" t="textAreaTop" r="textAreaRight" b="textAreaBottom"/>
                        <a:pathLst>
                          <a:path w="26" h="25">
                            <a:moveTo>
                              <a:pt x="0" y="0"/>
                            </a:moveTo>
                            <a:lnTo>
                              <a:pt x="11" y="5"/>
                            </a:lnTo>
                            <a:lnTo>
                              <a:pt x="19" y="14"/>
                            </a:lnTo>
                            <a:lnTo>
                              <a:pt x="26" y="25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694" name="Freeform 87"/>
                    <p:cNvSpPr/>
                    <p:nvPr/>
                  </p:nvSpPr>
                  <p:spPr>
                    <a:xfrm>
                      <a:off x="1138320" y="677880"/>
                      <a:ext cx="104760" cy="84240"/>
                    </a:xfrm>
                    <a:custGeom>
                      <a:avLst/>
                      <a:gdLst>
                        <a:gd name="textAreaLeft" fmla="*/ 0 w 104760"/>
                        <a:gd name="textAreaRight" fmla="*/ 105120 w 104760"/>
                        <a:gd name="textAreaTop" fmla="*/ 0 h 84240"/>
                        <a:gd name="textAreaBottom" fmla="*/ 84600 h 84240"/>
                      </a:gdLst>
                      <a:ahLst/>
                      <a:rect l="textAreaLeft" t="textAreaTop" r="textAreaRight" b="textAreaBottom"/>
                      <a:pathLst>
                        <a:path w="333" h="268">
                          <a:moveTo>
                            <a:pt x="0" y="140"/>
                          </a:moveTo>
                          <a:lnTo>
                            <a:pt x="3" y="170"/>
                          </a:lnTo>
                          <a:lnTo>
                            <a:pt x="18" y="191"/>
                          </a:lnTo>
                          <a:lnTo>
                            <a:pt x="19" y="195"/>
                          </a:lnTo>
                          <a:lnTo>
                            <a:pt x="38" y="222"/>
                          </a:lnTo>
                          <a:lnTo>
                            <a:pt x="35" y="227"/>
                          </a:lnTo>
                          <a:lnTo>
                            <a:pt x="55" y="249"/>
                          </a:lnTo>
                          <a:lnTo>
                            <a:pt x="84" y="268"/>
                          </a:lnTo>
                          <a:lnTo>
                            <a:pt x="100" y="249"/>
                          </a:lnTo>
                          <a:lnTo>
                            <a:pt x="120" y="231"/>
                          </a:lnTo>
                          <a:lnTo>
                            <a:pt x="141" y="216"/>
                          </a:lnTo>
                          <a:lnTo>
                            <a:pt x="164" y="214"/>
                          </a:lnTo>
                          <a:lnTo>
                            <a:pt x="196" y="213"/>
                          </a:lnTo>
                          <a:lnTo>
                            <a:pt x="214" y="190"/>
                          </a:lnTo>
                          <a:lnTo>
                            <a:pt x="230" y="170"/>
                          </a:lnTo>
                          <a:lnTo>
                            <a:pt x="251" y="158"/>
                          </a:lnTo>
                          <a:lnTo>
                            <a:pt x="272" y="150"/>
                          </a:lnTo>
                          <a:lnTo>
                            <a:pt x="306" y="143"/>
                          </a:lnTo>
                          <a:lnTo>
                            <a:pt x="328" y="130"/>
                          </a:lnTo>
                          <a:lnTo>
                            <a:pt x="333" y="117"/>
                          </a:lnTo>
                          <a:lnTo>
                            <a:pt x="327" y="84"/>
                          </a:lnTo>
                          <a:lnTo>
                            <a:pt x="323" y="86"/>
                          </a:lnTo>
                          <a:lnTo>
                            <a:pt x="308" y="57"/>
                          </a:lnTo>
                          <a:lnTo>
                            <a:pt x="302" y="43"/>
                          </a:lnTo>
                          <a:lnTo>
                            <a:pt x="302" y="41"/>
                          </a:lnTo>
                          <a:lnTo>
                            <a:pt x="289" y="23"/>
                          </a:lnTo>
                          <a:lnTo>
                            <a:pt x="264" y="0"/>
                          </a:lnTo>
                          <a:lnTo>
                            <a:pt x="220" y="18"/>
                          </a:lnTo>
                          <a:lnTo>
                            <a:pt x="194" y="54"/>
                          </a:lnTo>
                          <a:lnTo>
                            <a:pt x="160" y="69"/>
                          </a:lnTo>
                          <a:lnTo>
                            <a:pt x="109" y="89"/>
                          </a:lnTo>
                          <a:lnTo>
                            <a:pt x="94" y="115"/>
                          </a:lnTo>
                          <a:lnTo>
                            <a:pt x="71" y="117"/>
                          </a:lnTo>
                          <a:lnTo>
                            <a:pt x="40" y="130"/>
                          </a:lnTo>
                          <a:lnTo>
                            <a:pt x="0" y="140"/>
                          </a:lnTo>
                          <a:close/>
                        </a:path>
                      </a:pathLst>
                    </a:custGeom>
                    <a:solidFill>
                      <a:srgbClr val="e040a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800" bIns="37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Freeform 88"/>
                    <p:cNvSpPr/>
                    <p:nvPr/>
                  </p:nvSpPr>
                  <p:spPr>
                    <a:xfrm>
                      <a:off x="1182600" y="523800"/>
                      <a:ext cx="123840" cy="101880"/>
                    </a:xfrm>
                    <a:custGeom>
                      <a:avLst/>
                      <a:gdLst>
                        <a:gd name="textAreaLeft" fmla="*/ 0 w 123840"/>
                        <a:gd name="textAreaRight" fmla="*/ 124200 w 123840"/>
                        <a:gd name="textAreaTop" fmla="*/ 0 h 101880"/>
                        <a:gd name="textAreaBottom" fmla="*/ 102240 h 101880"/>
                      </a:gdLst>
                      <a:ahLst/>
                      <a:rect l="textAreaLeft" t="textAreaTop" r="textAreaRight" b="textAreaBottom"/>
                      <a:pathLst>
                        <a:path w="389" h="317">
                          <a:moveTo>
                            <a:pt x="0" y="0"/>
                          </a:moveTo>
                          <a:lnTo>
                            <a:pt x="59" y="33"/>
                          </a:lnTo>
                          <a:lnTo>
                            <a:pt x="113" y="66"/>
                          </a:lnTo>
                          <a:lnTo>
                            <a:pt x="157" y="86"/>
                          </a:lnTo>
                          <a:lnTo>
                            <a:pt x="203" y="110"/>
                          </a:lnTo>
                          <a:lnTo>
                            <a:pt x="267" y="143"/>
                          </a:lnTo>
                          <a:lnTo>
                            <a:pt x="306" y="205"/>
                          </a:lnTo>
                          <a:lnTo>
                            <a:pt x="337" y="313"/>
                          </a:lnTo>
                          <a:lnTo>
                            <a:pt x="366" y="224"/>
                          </a:lnTo>
                          <a:lnTo>
                            <a:pt x="389" y="165"/>
                          </a:lnTo>
                          <a:lnTo>
                            <a:pt x="386" y="120"/>
                          </a:lnTo>
                          <a:lnTo>
                            <a:pt x="388" y="165"/>
                          </a:lnTo>
                          <a:lnTo>
                            <a:pt x="363" y="223"/>
                          </a:lnTo>
                          <a:lnTo>
                            <a:pt x="341" y="317"/>
                          </a:lnTo>
                          <a:lnTo>
                            <a:pt x="307" y="202"/>
                          </a:lnTo>
                          <a:lnTo>
                            <a:pt x="267" y="144"/>
                          </a:lnTo>
                          <a:lnTo>
                            <a:pt x="202" y="110"/>
                          </a:lnTo>
                          <a:lnTo>
                            <a:pt x="156" y="88"/>
                          </a:lnTo>
                          <a:lnTo>
                            <a:pt x="112" y="66"/>
                          </a:lnTo>
                          <a:lnTo>
                            <a:pt x="56" y="3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e040a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6" name="Freeform 89"/>
                    <p:cNvSpPr/>
                    <p:nvPr/>
                  </p:nvSpPr>
                  <p:spPr>
                    <a:xfrm>
                      <a:off x="1195560" y="611280"/>
                      <a:ext cx="47520" cy="85680"/>
                    </a:xfrm>
                    <a:custGeom>
                      <a:avLst/>
                      <a:gdLst>
                        <a:gd name="textAreaLeft" fmla="*/ 0 w 47520"/>
                        <a:gd name="textAreaRight" fmla="*/ 47880 w 47520"/>
                        <a:gd name="textAreaTop" fmla="*/ 0 h 85680"/>
                        <a:gd name="textAreaBottom" fmla="*/ 86040 h 85680"/>
                      </a:gdLst>
                      <a:ahLst/>
                      <a:rect l="textAreaLeft" t="textAreaTop" r="textAreaRight" b="textAreaBottom"/>
                      <a:pathLst>
                        <a:path w="151" h="271">
                          <a:moveTo>
                            <a:pt x="71" y="206"/>
                          </a:moveTo>
                          <a:lnTo>
                            <a:pt x="27" y="164"/>
                          </a:lnTo>
                          <a:lnTo>
                            <a:pt x="13" y="122"/>
                          </a:lnTo>
                          <a:lnTo>
                            <a:pt x="8" y="77"/>
                          </a:lnTo>
                          <a:lnTo>
                            <a:pt x="1" y="17"/>
                          </a:lnTo>
                          <a:lnTo>
                            <a:pt x="15" y="6"/>
                          </a:lnTo>
                          <a:lnTo>
                            <a:pt x="27" y="5"/>
                          </a:lnTo>
                          <a:lnTo>
                            <a:pt x="36" y="42"/>
                          </a:lnTo>
                          <a:lnTo>
                            <a:pt x="56" y="63"/>
                          </a:lnTo>
                          <a:lnTo>
                            <a:pt x="63" y="112"/>
                          </a:lnTo>
                          <a:lnTo>
                            <a:pt x="76" y="149"/>
                          </a:lnTo>
                          <a:lnTo>
                            <a:pt x="107" y="181"/>
                          </a:lnTo>
                          <a:lnTo>
                            <a:pt x="130" y="220"/>
                          </a:lnTo>
                          <a:lnTo>
                            <a:pt x="151" y="271"/>
                          </a:lnTo>
                          <a:lnTo>
                            <a:pt x="126" y="220"/>
                          </a:lnTo>
                          <a:lnTo>
                            <a:pt x="104" y="180"/>
                          </a:lnTo>
                          <a:lnTo>
                            <a:pt x="74" y="148"/>
                          </a:lnTo>
                          <a:lnTo>
                            <a:pt x="62" y="112"/>
                          </a:lnTo>
                          <a:lnTo>
                            <a:pt x="59" y="64"/>
                          </a:lnTo>
                          <a:lnTo>
                            <a:pt x="36" y="46"/>
                          </a:lnTo>
                          <a:lnTo>
                            <a:pt x="32" y="0"/>
                          </a:lnTo>
                          <a:lnTo>
                            <a:pt x="18" y="5"/>
                          </a:lnTo>
                          <a:lnTo>
                            <a:pt x="0" y="17"/>
                          </a:lnTo>
                          <a:lnTo>
                            <a:pt x="2" y="42"/>
                          </a:lnTo>
                          <a:lnTo>
                            <a:pt x="8" y="80"/>
                          </a:lnTo>
                          <a:lnTo>
                            <a:pt x="13" y="115"/>
                          </a:lnTo>
                          <a:lnTo>
                            <a:pt x="27" y="162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240" bIns="39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</p:grpSp>
        <p:sp>
          <p:nvSpPr>
            <p:cNvPr id="697" name="Text Box 90"/>
            <p:cNvSpPr/>
            <p:nvPr/>
          </p:nvSpPr>
          <p:spPr>
            <a:xfrm>
              <a:off x="950400" y="-72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</a:rPr>
                <a:t>！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698" name="Picture 91" descr=""/>
          <p:cNvPicPr/>
          <p:nvPr/>
        </p:nvPicPr>
        <p:blipFill>
          <a:blip r:embed="rId1"/>
          <a:stretch/>
        </p:blipFill>
        <p:spPr>
          <a:xfrm>
            <a:off x="3005280" y="907920"/>
            <a:ext cx="3438360" cy="212436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92" descr=""/>
          <p:cNvPicPr/>
          <p:nvPr/>
        </p:nvPicPr>
        <p:blipFill>
          <a:blip r:embed="rId2"/>
          <a:stretch/>
        </p:blipFill>
        <p:spPr>
          <a:xfrm>
            <a:off x="611280" y="3500280"/>
            <a:ext cx="3419280" cy="214344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93" descr=""/>
          <p:cNvPicPr/>
          <p:nvPr/>
        </p:nvPicPr>
        <p:blipFill>
          <a:blip r:embed="rId3"/>
          <a:stretch/>
        </p:blipFill>
        <p:spPr>
          <a:xfrm>
            <a:off x="4356000" y="3573360"/>
            <a:ext cx="3857760" cy="2200320"/>
          </a:xfrm>
          <a:prstGeom prst="rect">
            <a:avLst/>
          </a:prstGeom>
          <a:ln w="0">
            <a:noFill/>
          </a:ln>
        </p:spPr>
      </p:pic>
      <p:sp>
        <p:nvSpPr>
          <p:cNvPr id="701" name="Text Box 95"/>
          <p:cNvSpPr/>
          <p:nvPr/>
        </p:nvSpPr>
        <p:spPr>
          <a:xfrm>
            <a:off x="4282920" y="29973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仪表无内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Text Box 96"/>
          <p:cNvSpPr/>
          <p:nvPr/>
        </p:nvSpPr>
        <p:spPr>
          <a:xfrm>
            <a:off x="1240200" y="5734080"/>
            <a:ext cx="21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仪表有内阻（方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Text Box 97"/>
          <p:cNvSpPr/>
          <p:nvPr/>
        </p:nvSpPr>
        <p:spPr>
          <a:xfrm>
            <a:off x="5561280" y="5805360"/>
            <a:ext cx="21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仪表有内阻（方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13"/>
          <p:cNvSpPr/>
          <p:nvPr/>
        </p:nvSpPr>
        <p:spPr>
          <a:xfrm>
            <a:off x="7042320" y="6566040"/>
            <a:ext cx="1904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473E-1B7B-49D9-ADC7-0FDA0F087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5" name="Picture 2" descr=""/>
          <p:cNvPicPr/>
          <p:nvPr/>
        </p:nvPicPr>
        <p:blipFill>
          <a:blip r:embed="rId1"/>
          <a:stretch/>
        </p:blipFill>
        <p:spPr>
          <a:xfrm>
            <a:off x="0" y="69840"/>
            <a:ext cx="9144000" cy="336564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3" descr=""/>
          <p:cNvPicPr/>
          <p:nvPr/>
        </p:nvPicPr>
        <p:blipFill>
          <a:blip r:embed="rId2"/>
          <a:stretch/>
        </p:blipFill>
        <p:spPr>
          <a:xfrm>
            <a:off x="539640" y="3357720"/>
            <a:ext cx="4896000" cy="299052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4" descr=""/>
          <p:cNvPicPr/>
          <p:nvPr/>
        </p:nvPicPr>
        <p:blipFill>
          <a:blip r:embed="rId3"/>
          <a:stretch/>
        </p:blipFill>
        <p:spPr>
          <a:xfrm>
            <a:off x="5508720" y="3716280"/>
            <a:ext cx="2087640" cy="55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3"/>
          <p:cNvSpPr/>
          <p:nvPr/>
        </p:nvSpPr>
        <p:spPr>
          <a:xfrm>
            <a:off x="7042320" y="6566040"/>
            <a:ext cx="1904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2E78-7ED1-4F34-B410-04992F8E8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690480" y="1163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4897080" y="40464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伏安表法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测量非线性电阻；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1807560" y="5705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判据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2" name="Object 6"/>
          <p:cNvGraphicFramePr/>
          <p:nvPr/>
        </p:nvGraphicFramePr>
        <p:xfrm>
          <a:off x="2786040" y="5489640"/>
          <a:ext cx="1444680" cy="94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86040" y="5489640"/>
                    <a:ext cx="144468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Text Box 7"/>
          <p:cNvSpPr/>
          <p:nvPr/>
        </p:nvSpPr>
        <p:spPr>
          <a:xfrm>
            <a:off x="798480" y="1795320"/>
            <a:ext cx="302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5" name="Group 8"/>
          <p:cNvGrpSpPr/>
          <p:nvPr/>
        </p:nvGrpSpPr>
        <p:grpSpPr>
          <a:xfrm>
            <a:off x="971640" y="981000"/>
            <a:ext cx="2850840" cy="4001760"/>
            <a:chOff x="971640" y="981000"/>
            <a:chExt cx="2850840" cy="4001760"/>
          </a:xfrm>
        </p:grpSpPr>
        <p:grpSp>
          <p:nvGrpSpPr>
            <p:cNvPr id="146" name="Group 9"/>
            <p:cNvGrpSpPr/>
            <p:nvPr/>
          </p:nvGrpSpPr>
          <p:grpSpPr>
            <a:xfrm>
              <a:off x="1353240" y="981000"/>
              <a:ext cx="2022840" cy="1929600"/>
              <a:chOff x="1353240" y="981000"/>
              <a:chExt cx="2022840" cy="1929600"/>
            </a:xfrm>
          </p:grpSpPr>
          <p:grpSp>
            <p:nvGrpSpPr>
              <p:cNvPr id="147" name="Group 10"/>
              <p:cNvGrpSpPr/>
              <p:nvPr/>
            </p:nvGrpSpPr>
            <p:grpSpPr>
              <a:xfrm>
                <a:off x="1353240" y="981000"/>
                <a:ext cx="2022840" cy="1371960"/>
                <a:chOff x="1353240" y="981000"/>
                <a:chExt cx="2022840" cy="1371960"/>
              </a:xfrm>
            </p:grpSpPr>
            <p:sp>
              <p:nvSpPr>
                <p:cNvPr id="148" name="Text Box 11"/>
                <p:cNvSpPr/>
                <p:nvPr/>
              </p:nvSpPr>
              <p:spPr>
                <a:xfrm>
                  <a:off x="2526120" y="981000"/>
                  <a:ext cx="44892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1" i="1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12"/>
                <p:cNvSpPr/>
                <p:nvPr/>
              </p:nvSpPr>
              <p:spPr>
                <a:xfrm>
                  <a:off x="2845800" y="1468440"/>
                  <a:ext cx="0" cy="837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13"/>
                <p:cNvSpPr/>
                <p:nvPr/>
              </p:nvSpPr>
              <p:spPr>
                <a:xfrm>
                  <a:off x="1549440" y="1468440"/>
                  <a:ext cx="1296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14"/>
                <p:cNvSpPr/>
                <p:nvPr/>
              </p:nvSpPr>
              <p:spPr>
                <a:xfrm>
                  <a:off x="2013120" y="1478160"/>
                  <a:ext cx="0" cy="837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2" name="Oval 15"/>
                <p:cNvSpPr/>
                <p:nvPr/>
              </p:nvSpPr>
              <p:spPr>
                <a:xfrm>
                  <a:off x="2241720" y="1266480"/>
                  <a:ext cx="370080" cy="431280"/>
                </a:xfrm>
                <a:prstGeom prst="ellipse">
                  <a:avLst/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Oval 16"/>
                <p:cNvSpPr/>
                <p:nvPr/>
              </p:nvSpPr>
              <p:spPr>
                <a:xfrm>
                  <a:off x="1816560" y="1698120"/>
                  <a:ext cx="370080" cy="431280"/>
                </a:xfrm>
                <a:prstGeom prst="ellipse">
                  <a:avLst/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V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17"/>
                <p:cNvSpPr/>
                <p:nvPr/>
              </p:nvSpPr>
              <p:spPr>
                <a:xfrm>
                  <a:off x="1549440" y="2306160"/>
                  <a:ext cx="1296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5" name="Rectangle 18"/>
                <p:cNvSpPr/>
                <p:nvPr/>
              </p:nvSpPr>
              <p:spPr>
                <a:xfrm>
                  <a:off x="2773800" y="1698120"/>
                  <a:ext cx="166680" cy="409680"/>
                </a:xfrm>
                <a:prstGeom prst="rect">
                  <a:avLst/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Rectangle 19"/>
                <p:cNvSpPr/>
                <p:nvPr/>
              </p:nvSpPr>
              <p:spPr>
                <a:xfrm>
                  <a:off x="1353240" y="1698120"/>
                  <a:ext cx="44892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1" i="1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V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7" name="Oval 20"/>
                <p:cNvSpPr/>
                <p:nvPr/>
              </p:nvSpPr>
              <p:spPr>
                <a:xfrm>
                  <a:off x="1967400" y="1433520"/>
                  <a:ext cx="96120" cy="950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8" name="Text Box 21"/>
                <p:cNvSpPr/>
                <p:nvPr/>
              </p:nvSpPr>
              <p:spPr>
                <a:xfrm>
                  <a:off x="2992680" y="162396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9" name="Oval 22"/>
                <p:cNvSpPr/>
                <p:nvPr/>
              </p:nvSpPr>
              <p:spPr>
                <a:xfrm>
                  <a:off x="1442160" y="1418040"/>
                  <a:ext cx="96480" cy="950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0" name="Oval 23"/>
                <p:cNvSpPr/>
                <p:nvPr/>
              </p:nvSpPr>
              <p:spPr>
                <a:xfrm>
                  <a:off x="1442160" y="2257920"/>
                  <a:ext cx="96480" cy="950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1" name="Oval 24"/>
                <p:cNvSpPr/>
                <p:nvPr/>
              </p:nvSpPr>
              <p:spPr>
                <a:xfrm>
                  <a:off x="1969200" y="2257920"/>
                  <a:ext cx="96480" cy="950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2" name="Text Box 25"/>
              <p:cNvSpPr/>
              <p:nvPr/>
            </p:nvSpPr>
            <p:spPr>
              <a:xfrm>
                <a:off x="1801080" y="245088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高阻接法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aphicFrame>
          <p:nvGraphicFramePr>
            <p:cNvPr id="163" name="Object 26"/>
            <p:cNvGraphicFramePr/>
            <p:nvPr/>
          </p:nvGraphicFramePr>
          <p:xfrm>
            <a:off x="1365120" y="3034440"/>
            <a:ext cx="1902600" cy="93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4" name="Object 2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365120" y="3034440"/>
                      <a:ext cx="1902600" cy="93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5" name="Object 27"/>
            <p:cNvGraphicFramePr/>
            <p:nvPr/>
          </p:nvGraphicFramePr>
          <p:xfrm>
            <a:off x="1377360" y="4021920"/>
            <a:ext cx="1879200" cy="930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6" name="Object 2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377360" y="4021920"/>
                      <a:ext cx="1879200" cy="93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7" name="Rectangle 28"/>
            <p:cNvSpPr/>
            <p:nvPr/>
          </p:nvSpPr>
          <p:spPr>
            <a:xfrm>
              <a:off x="971640" y="1078200"/>
              <a:ext cx="2850840" cy="39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8" name="Group 29"/>
          <p:cNvGrpSpPr/>
          <p:nvPr/>
        </p:nvGrpSpPr>
        <p:grpSpPr>
          <a:xfrm>
            <a:off x="5003640" y="907920"/>
            <a:ext cx="2958840" cy="4063680"/>
            <a:chOff x="5003640" y="907920"/>
            <a:chExt cx="2958840" cy="4063680"/>
          </a:xfrm>
        </p:grpSpPr>
        <p:grpSp>
          <p:nvGrpSpPr>
            <p:cNvPr id="169" name="Group 30"/>
            <p:cNvGrpSpPr/>
            <p:nvPr/>
          </p:nvGrpSpPr>
          <p:grpSpPr>
            <a:xfrm>
              <a:off x="5641560" y="907920"/>
              <a:ext cx="1988640" cy="1859760"/>
              <a:chOff x="5641560" y="907920"/>
              <a:chExt cx="1988640" cy="1859760"/>
            </a:xfrm>
          </p:grpSpPr>
          <p:grpSp>
            <p:nvGrpSpPr>
              <p:cNvPr id="170" name="Group 31"/>
              <p:cNvGrpSpPr/>
              <p:nvPr/>
            </p:nvGrpSpPr>
            <p:grpSpPr>
              <a:xfrm>
                <a:off x="5641560" y="907920"/>
                <a:ext cx="1988640" cy="1282680"/>
                <a:chOff x="5641560" y="907920"/>
                <a:chExt cx="1988640" cy="1282680"/>
              </a:xfrm>
            </p:grpSpPr>
            <p:sp>
              <p:nvSpPr>
                <p:cNvPr id="171" name="Line 32"/>
                <p:cNvSpPr/>
                <p:nvPr/>
              </p:nvSpPr>
              <p:spPr>
                <a:xfrm>
                  <a:off x="7097760" y="1362600"/>
                  <a:ext cx="0" cy="784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2" name="Line 33"/>
                <p:cNvSpPr/>
                <p:nvPr/>
              </p:nvSpPr>
              <p:spPr>
                <a:xfrm>
                  <a:off x="5752440" y="1362600"/>
                  <a:ext cx="1345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3" name="Line 34"/>
                <p:cNvSpPr/>
                <p:nvPr/>
              </p:nvSpPr>
              <p:spPr>
                <a:xfrm>
                  <a:off x="6720480" y="1362600"/>
                  <a:ext cx="0" cy="784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4" name="Oval 35"/>
                <p:cNvSpPr/>
                <p:nvPr/>
              </p:nvSpPr>
              <p:spPr>
                <a:xfrm>
                  <a:off x="6044400" y="1173240"/>
                  <a:ext cx="384120" cy="403920"/>
                </a:xfrm>
                <a:prstGeom prst="ellipse">
                  <a:avLst/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5" name="Oval 36"/>
                <p:cNvSpPr/>
                <p:nvPr/>
              </p:nvSpPr>
              <p:spPr>
                <a:xfrm>
                  <a:off x="6539760" y="1557360"/>
                  <a:ext cx="384480" cy="403920"/>
                </a:xfrm>
                <a:prstGeom prst="ellipse">
                  <a:avLst/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V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6" name="Line 37"/>
                <p:cNvSpPr/>
                <p:nvPr/>
              </p:nvSpPr>
              <p:spPr>
                <a:xfrm>
                  <a:off x="5752440" y="2147400"/>
                  <a:ext cx="1345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7" name="Rectangle 38"/>
                <p:cNvSpPr/>
                <p:nvPr/>
              </p:nvSpPr>
              <p:spPr>
                <a:xfrm>
                  <a:off x="7023240" y="1577160"/>
                  <a:ext cx="173160" cy="384120"/>
                </a:xfrm>
                <a:prstGeom prst="rect">
                  <a:avLst/>
                </a:prstGeom>
                <a:solidFill>
                  <a:srgbClr val="00e4a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" name="Text Box 39"/>
                <p:cNvSpPr/>
                <p:nvPr/>
              </p:nvSpPr>
              <p:spPr>
                <a:xfrm>
                  <a:off x="6482880" y="907920"/>
                  <a:ext cx="44892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1" i="1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9" name="Rectangle 40"/>
                <p:cNvSpPr/>
                <p:nvPr/>
              </p:nvSpPr>
              <p:spPr>
                <a:xfrm>
                  <a:off x="6051240" y="1577160"/>
                  <a:ext cx="44892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1" i="1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V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0" name="Oval 41"/>
                <p:cNvSpPr/>
                <p:nvPr/>
              </p:nvSpPr>
              <p:spPr>
                <a:xfrm>
                  <a:off x="6669360" y="2101680"/>
                  <a:ext cx="10008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" name="Oval 42"/>
                <p:cNvSpPr/>
                <p:nvPr/>
              </p:nvSpPr>
              <p:spPr>
                <a:xfrm>
                  <a:off x="6669360" y="1315080"/>
                  <a:ext cx="100080" cy="88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2" name="Text Box 43"/>
                <p:cNvSpPr/>
                <p:nvPr/>
              </p:nvSpPr>
              <p:spPr>
                <a:xfrm>
                  <a:off x="7246800" y="150840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3" name="Oval 44"/>
                <p:cNvSpPr/>
                <p:nvPr/>
              </p:nvSpPr>
              <p:spPr>
                <a:xfrm>
                  <a:off x="5641560" y="1315080"/>
                  <a:ext cx="100080" cy="889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4" name="Oval 45"/>
                <p:cNvSpPr/>
                <p:nvPr/>
              </p:nvSpPr>
              <p:spPr>
                <a:xfrm>
                  <a:off x="5641560" y="2101680"/>
                  <a:ext cx="100080" cy="889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5" name="Text Box 46"/>
              <p:cNvSpPr/>
              <p:nvPr/>
            </p:nvSpPr>
            <p:spPr>
              <a:xfrm>
                <a:off x="5710680" y="2307960"/>
                <a:ext cx="161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低阻接法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aphicFrame>
          <p:nvGraphicFramePr>
            <p:cNvPr id="186" name="Object 47"/>
            <p:cNvGraphicFramePr/>
            <p:nvPr/>
          </p:nvGraphicFramePr>
          <p:xfrm>
            <a:off x="5409720" y="2790360"/>
            <a:ext cx="2019960" cy="872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7" name="Object 4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09720" y="2790360"/>
                      <a:ext cx="2019960" cy="87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8" name="Object 48"/>
            <p:cNvGraphicFramePr/>
            <p:nvPr/>
          </p:nvGraphicFramePr>
          <p:xfrm>
            <a:off x="5349600" y="3779280"/>
            <a:ext cx="1549800" cy="11505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89" name="Object 4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49600" y="3779280"/>
                      <a:ext cx="1549800" cy="115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0" name="Rectangle 49"/>
            <p:cNvSpPr/>
            <p:nvPr/>
          </p:nvSpPr>
          <p:spPr>
            <a:xfrm>
              <a:off x="5003640" y="1007640"/>
              <a:ext cx="2958840" cy="396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1" name="Rectangle 50"/>
          <p:cNvSpPr/>
          <p:nvPr/>
        </p:nvSpPr>
        <p:spPr>
          <a:xfrm>
            <a:off x="5873040" y="4983120"/>
            <a:ext cx="1139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偏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Rectangle 51"/>
          <p:cNvSpPr/>
          <p:nvPr/>
        </p:nvSpPr>
        <p:spPr>
          <a:xfrm>
            <a:off x="3981240" y="2836800"/>
            <a:ext cx="36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Rectangle 52"/>
          <p:cNvSpPr/>
          <p:nvPr/>
        </p:nvSpPr>
        <p:spPr>
          <a:xfrm>
            <a:off x="8076960" y="2798640"/>
            <a:ext cx="36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Rectangle 53"/>
          <p:cNvSpPr/>
          <p:nvPr/>
        </p:nvSpPr>
        <p:spPr>
          <a:xfrm>
            <a:off x="1828440" y="4983120"/>
            <a:ext cx="101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’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偏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AutoShape 54"/>
          <p:cNvSpPr/>
          <p:nvPr/>
        </p:nvSpPr>
        <p:spPr>
          <a:xfrm>
            <a:off x="4343400" y="5583240"/>
            <a:ext cx="131760" cy="741240"/>
          </a:xfrm>
          <a:custGeom>
            <a:avLst/>
            <a:gdLst>
              <a:gd name="textAreaLeft" fmla="*/ 84240 w 131760"/>
              <a:gd name="textAreaRight" fmla="*/ 132120 w 131760"/>
              <a:gd name="textAreaTop" fmla="*/ 19080 h 741240"/>
              <a:gd name="textAreaBottom" fmla="*/ 722160 h 74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Rectangle 55"/>
          <p:cNvSpPr/>
          <p:nvPr/>
        </p:nvSpPr>
        <p:spPr>
          <a:xfrm>
            <a:off x="4779360" y="5987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高阻接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Rectangle 56"/>
          <p:cNvSpPr/>
          <p:nvPr/>
        </p:nvSpPr>
        <p:spPr>
          <a:xfrm>
            <a:off x="4757040" y="5445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低阻接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3"/>
          <p:cNvSpPr/>
          <p:nvPr/>
        </p:nvSpPr>
        <p:spPr>
          <a:xfrm>
            <a:off x="7042320" y="6566040"/>
            <a:ext cx="1904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D4C8-52B4-482E-ABD6-08F5990B7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569080" cy="339084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3"/>
          <p:cNvSpPr/>
          <p:nvPr/>
        </p:nvSpPr>
        <p:spPr>
          <a:xfrm>
            <a:off x="468360" y="4292640"/>
            <a:ext cx="84247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仪表内阻产生方法误差：与电路有关，可以估算出！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Oval 4"/>
          <p:cNvSpPr/>
          <p:nvPr/>
        </p:nvSpPr>
        <p:spPr>
          <a:xfrm>
            <a:off x="2700360" y="4435560"/>
            <a:ext cx="1438200" cy="720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2" name="Group 5"/>
          <p:cNvGrpSpPr/>
          <p:nvPr/>
        </p:nvGrpSpPr>
        <p:grpSpPr>
          <a:xfrm>
            <a:off x="179280" y="4841280"/>
            <a:ext cx="873000" cy="1032480"/>
            <a:chOff x="179280" y="4841280"/>
            <a:chExt cx="873000" cy="1032480"/>
          </a:xfrm>
        </p:grpSpPr>
        <p:grpSp>
          <p:nvGrpSpPr>
            <p:cNvPr id="203" name="Group 6"/>
            <p:cNvGrpSpPr/>
            <p:nvPr/>
          </p:nvGrpSpPr>
          <p:grpSpPr>
            <a:xfrm>
              <a:off x="179280" y="5152680"/>
              <a:ext cx="873000" cy="721080"/>
              <a:chOff x="179280" y="5152680"/>
              <a:chExt cx="873000" cy="721080"/>
            </a:xfrm>
          </p:grpSpPr>
          <p:grpSp>
            <p:nvGrpSpPr>
              <p:cNvPr id="204" name="Group 7"/>
              <p:cNvGrpSpPr/>
              <p:nvPr/>
            </p:nvGrpSpPr>
            <p:grpSpPr>
              <a:xfrm>
                <a:off x="179280" y="5274720"/>
                <a:ext cx="873000" cy="599040"/>
                <a:chOff x="179280" y="5274720"/>
                <a:chExt cx="873000" cy="599040"/>
              </a:xfrm>
            </p:grpSpPr>
            <p:grpSp>
              <p:nvGrpSpPr>
                <p:cNvPr id="205" name="Group 8"/>
                <p:cNvGrpSpPr/>
                <p:nvPr/>
              </p:nvGrpSpPr>
              <p:grpSpPr>
                <a:xfrm>
                  <a:off x="203040" y="5274720"/>
                  <a:ext cx="849240" cy="586800"/>
                  <a:chOff x="203040" y="5274720"/>
                  <a:chExt cx="849240" cy="586800"/>
                </a:xfrm>
              </p:grpSpPr>
              <p:grpSp>
                <p:nvGrpSpPr>
                  <p:cNvPr id="206" name="Group 9"/>
                  <p:cNvGrpSpPr/>
                  <p:nvPr/>
                </p:nvGrpSpPr>
                <p:grpSpPr>
                  <a:xfrm>
                    <a:off x="203040" y="5274720"/>
                    <a:ext cx="849240" cy="586800"/>
                    <a:chOff x="203040" y="5274720"/>
                    <a:chExt cx="849240" cy="586800"/>
                  </a:xfrm>
                </p:grpSpPr>
                <p:sp>
                  <p:nvSpPr>
                    <p:cNvPr id="207" name="Line 10"/>
                    <p:cNvSpPr/>
                    <p:nvPr/>
                  </p:nvSpPr>
                  <p:spPr>
                    <a:xfrm>
                      <a:off x="863280" y="5664960"/>
                      <a:ext cx="189000" cy="2988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08" name="Line 11"/>
                    <p:cNvSpPr/>
                    <p:nvPr/>
                  </p:nvSpPr>
                  <p:spPr>
                    <a:xfrm>
                      <a:off x="874440" y="5703120"/>
                      <a:ext cx="154080" cy="1692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09" name="Line 12"/>
                    <p:cNvSpPr/>
                    <p:nvPr/>
                  </p:nvSpPr>
                  <p:spPr>
                    <a:xfrm>
                      <a:off x="812520" y="5703120"/>
                      <a:ext cx="115920" cy="3924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10" name="Line 13"/>
                    <p:cNvSpPr/>
                    <p:nvPr/>
                  </p:nvSpPr>
                  <p:spPr>
                    <a:xfrm>
                      <a:off x="745920" y="5691960"/>
                      <a:ext cx="114480" cy="12492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11" name="Line 14"/>
                    <p:cNvSpPr/>
                    <p:nvPr/>
                  </p:nvSpPr>
                  <p:spPr>
                    <a:xfrm>
                      <a:off x="749160" y="5720400"/>
                      <a:ext cx="66600" cy="14112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12" name="Line 15"/>
                    <p:cNvSpPr/>
                    <p:nvPr/>
                  </p:nvSpPr>
                  <p:spPr>
                    <a:xfrm>
                      <a:off x="734760" y="5734800"/>
                      <a:ext cx="27000" cy="8388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13" name="Line 16"/>
                    <p:cNvSpPr/>
                    <p:nvPr/>
                  </p:nvSpPr>
                  <p:spPr>
                    <a:xfrm flipH="1">
                      <a:off x="618840" y="5695200"/>
                      <a:ext cx="68400" cy="5976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14" name="Line 17"/>
                    <p:cNvSpPr/>
                    <p:nvPr/>
                  </p:nvSpPr>
                  <p:spPr>
                    <a:xfrm flipH="1">
                      <a:off x="534600" y="5677560"/>
                      <a:ext cx="161640" cy="7740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600" bIns="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15" name="Freeform 18"/>
                    <p:cNvSpPr/>
                    <p:nvPr/>
                  </p:nvSpPr>
                  <p:spPr>
                    <a:xfrm>
                      <a:off x="245880" y="5315760"/>
                      <a:ext cx="363600" cy="406080"/>
                    </a:xfrm>
                    <a:custGeom>
                      <a:avLst/>
                      <a:gdLst>
                        <a:gd name="textAreaLeft" fmla="*/ 0 w 363600"/>
                        <a:gd name="textAreaRight" fmla="*/ 363960 w 363600"/>
                        <a:gd name="textAreaTop" fmla="*/ 0 h 406080"/>
                        <a:gd name="textAreaBottom" fmla="*/ 406440 h 406080"/>
                      </a:gdLst>
                      <a:ahLst/>
                      <a:rect l="textAreaLeft" t="textAreaTop" r="textAreaRight" b="textAreaBottom"/>
                      <a:pathLst>
                        <a:path w="1146" h="1280">
                          <a:moveTo>
                            <a:pt x="666" y="0"/>
                          </a:moveTo>
                          <a:lnTo>
                            <a:pt x="549" y="56"/>
                          </a:lnTo>
                          <a:lnTo>
                            <a:pt x="434" y="134"/>
                          </a:lnTo>
                          <a:lnTo>
                            <a:pt x="324" y="231"/>
                          </a:lnTo>
                          <a:lnTo>
                            <a:pt x="217" y="344"/>
                          </a:lnTo>
                          <a:lnTo>
                            <a:pt x="140" y="445"/>
                          </a:lnTo>
                          <a:lnTo>
                            <a:pt x="102" y="512"/>
                          </a:lnTo>
                          <a:lnTo>
                            <a:pt x="50" y="632"/>
                          </a:lnTo>
                          <a:lnTo>
                            <a:pt x="17" y="742"/>
                          </a:lnTo>
                          <a:lnTo>
                            <a:pt x="0" y="845"/>
                          </a:lnTo>
                          <a:lnTo>
                            <a:pt x="11" y="961"/>
                          </a:lnTo>
                          <a:lnTo>
                            <a:pt x="56" y="1043"/>
                          </a:lnTo>
                          <a:lnTo>
                            <a:pt x="114" y="1107"/>
                          </a:lnTo>
                          <a:lnTo>
                            <a:pt x="166" y="1153"/>
                          </a:lnTo>
                          <a:lnTo>
                            <a:pt x="267" y="1216"/>
                          </a:lnTo>
                          <a:lnTo>
                            <a:pt x="357" y="1248"/>
                          </a:lnTo>
                          <a:lnTo>
                            <a:pt x="467" y="1273"/>
                          </a:lnTo>
                          <a:lnTo>
                            <a:pt x="646" y="1280"/>
                          </a:lnTo>
                          <a:lnTo>
                            <a:pt x="890" y="1248"/>
                          </a:lnTo>
                          <a:lnTo>
                            <a:pt x="1010" y="1196"/>
                          </a:lnTo>
                          <a:lnTo>
                            <a:pt x="1146" y="1081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e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16" name="Freeform 19"/>
                    <p:cNvSpPr/>
                    <p:nvPr/>
                  </p:nvSpPr>
                  <p:spPr>
                    <a:xfrm>
                      <a:off x="239400" y="5274720"/>
                      <a:ext cx="365400" cy="380520"/>
                    </a:xfrm>
                    <a:custGeom>
                      <a:avLst/>
                      <a:gdLst>
                        <a:gd name="textAreaLeft" fmla="*/ 0 w 365400"/>
                        <a:gd name="textAreaRight" fmla="*/ 365760 w 365400"/>
                        <a:gd name="textAreaTop" fmla="*/ 0 h 380520"/>
                        <a:gd name="textAreaBottom" fmla="*/ 380880 h 380520"/>
                      </a:gdLst>
                      <a:ahLst/>
                      <a:rect l="textAreaLeft" t="textAreaTop" r="textAreaRight" b="textAreaBottom"/>
                      <a:pathLst>
                        <a:path w="1152" h="1196">
                          <a:moveTo>
                            <a:pt x="670" y="0"/>
                          </a:moveTo>
                          <a:lnTo>
                            <a:pt x="553" y="54"/>
                          </a:lnTo>
                          <a:lnTo>
                            <a:pt x="437" y="125"/>
                          </a:lnTo>
                          <a:lnTo>
                            <a:pt x="326" y="215"/>
                          </a:lnTo>
                          <a:lnTo>
                            <a:pt x="219" y="323"/>
                          </a:lnTo>
                          <a:lnTo>
                            <a:pt x="141" y="417"/>
                          </a:lnTo>
                          <a:lnTo>
                            <a:pt x="101" y="478"/>
                          </a:lnTo>
                          <a:lnTo>
                            <a:pt x="50" y="592"/>
                          </a:lnTo>
                          <a:lnTo>
                            <a:pt x="20" y="694"/>
                          </a:lnTo>
                          <a:lnTo>
                            <a:pt x="0" y="791"/>
                          </a:lnTo>
                          <a:lnTo>
                            <a:pt x="13" y="899"/>
                          </a:lnTo>
                          <a:lnTo>
                            <a:pt x="56" y="977"/>
                          </a:lnTo>
                          <a:lnTo>
                            <a:pt x="114" y="1036"/>
                          </a:lnTo>
                          <a:lnTo>
                            <a:pt x="166" y="1078"/>
                          </a:lnTo>
                          <a:lnTo>
                            <a:pt x="268" y="1137"/>
                          </a:lnTo>
                          <a:lnTo>
                            <a:pt x="359" y="1167"/>
                          </a:lnTo>
                          <a:lnTo>
                            <a:pt x="468" y="1192"/>
                          </a:lnTo>
                          <a:lnTo>
                            <a:pt x="651" y="1196"/>
                          </a:lnTo>
                          <a:lnTo>
                            <a:pt x="894" y="1167"/>
                          </a:lnTo>
                          <a:lnTo>
                            <a:pt x="1017" y="1120"/>
                          </a:lnTo>
                          <a:lnTo>
                            <a:pt x="1152" y="1012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e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17" name="Freeform 20"/>
                    <p:cNvSpPr/>
                    <p:nvPr/>
                  </p:nvSpPr>
                  <p:spPr>
                    <a:xfrm>
                      <a:off x="203040" y="5313960"/>
                      <a:ext cx="272880" cy="320400"/>
                    </a:xfrm>
                    <a:custGeom>
                      <a:avLst/>
                      <a:gdLst>
                        <a:gd name="textAreaLeft" fmla="*/ 0 w 272880"/>
                        <a:gd name="textAreaRight" fmla="*/ 273240 w 272880"/>
                        <a:gd name="textAreaTop" fmla="*/ 0 h 320400"/>
                        <a:gd name="textAreaBottom" fmla="*/ 320760 h 320400"/>
                      </a:gdLst>
                      <a:ahLst/>
                      <a:rect l="textAreaLeft" t="textAreaTop" r="textAreaRight" b="textAreaBottom"/>
                      <a:pathLst>
                        <a:path w="863" h="1012">
                          <a:moveTo>
                            <a:pt x="500" y="0"/>
                          </a:moveTo>
                          <a:lnTo>
                            <a:pt x="412" y="46"/>
                          </a:lnTo>
                          <a:lnTo>
                            <a:pt x="328" y="106"/>
                          </a:lnTo>
                          <a:lnTo>
                            <a:pt x="245" y="182"/>
                          </a:lnTo>
                          <a:lnTo>
                            <a:pt x="163" y="270"/>
                          </a:lnTo>
                          <a:lnTo>
                            <a:pt x="105" y="352"/>
                          </a:lnTo>
                          <a:lnTo>
                            <a:pt x="76" y="403"/>
                          </a:lnTo>
                          <a:lnTo>
                            <a:pt x="38" y="499"/>
                          </a:lnTo>
                          <a:lnTo>
                            <a:pt x="14" y="585"/>
                          </a:lnTo>
                          <a:lnTo>
                            <a:pt x="0" y="668"/>
                          </a:lnTo>
                          <a:lnTo>
                            <a:pt x="8" y="760"/>
                          </a:lnTo>
                          <a:lnTo>
                            <a:pt x="42" y="824"/>
                          </a:lnTo>
                          <a:lnTo>
                            <a:pt x="87" y="875"/>
                          </a:lnTo>
                          <a:lnTo>
                            <a:pt x="125" y="910"/>
                          </a:lnTo>
                          <a:lnTo>
                            <a:pt x="202" y="962"/>
                          </a:lnTo>
                          <a:lnTo>
                            <a:pt x="270" y="987"/>
                          </a:lnTo>
                          <a:lnTo>
                            <a:pt x="352" y="1008"/>
                          </a:lnTo>
                          <a:lnTo>
                            <a:pt x="485" y="1012"/>
                          </a:lnTo>
                          <a:lnTo>
                            <a:pt x="670" y="987"/>
                          </a:lnTo>
                          <a:lnTo>
                            <a:pt x="763" y="945"/>
                          </a:lnTo>
                          <a:lnTo>
                            <a:pt x="863" y="856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e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218" name="Line 21"/>
                  <p:cNvSpPr/>
                  <p:nvPr/>
                </p:nvSpPr>
                <p:spPr>
                  <a:xfrm>
                    <a:off x="344160" y="5639400"/>
                    <a:ext cx="676440" cy="1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9" name="Group 22"/>
                <p:cNvGrpSpPr/>
                <p:nvPr/>
              </p:nvGrpSpPr>
              <p:grpSpPr>
                <a:xfrm>
                  <a:off x="179280" y="5685480"/>
                  <a:ext cx="531720" cy="188280"/>
                  <a:chOff x="179280" y="5685480"/>
                  <a:chExt cx="531720" cy="188280"/>
                </a:xfrm>
              </p:grpSpPr>
              <p:sp>
                <p:nvSpPr>
                  <p:cNvPr id="220" name="Freeform 23"/>
                  <p:cNvSpPr/>
                  <p:nvPr/>
                </p:nvSpPr>
                <p:spPr>
                  <a:xfrm>
                    <a:off x="301320" y="5740560"/>
                    <a:ext cx="169920" cy="63360"/>
                  </a:xfrm>
                  <a:custGeom>
                    <a:avLst/>
                    <a:gdLst>
                      <a:gd name="textAreaLeft" fmla="*/ 0 w 169920"/>
                      <a:gd name="textAreaRight" fmla="*/ 170280 w 169920"/>
                      <a:gd name="textAreaTop" fmla="*/ 0 h 63360"/>
                      <a:gd name="textAreaBottom" fmla="*/ 63720 h 63360"/>
                    </a:gdLst>
                    <a:ahLst/>
                    <a:rect l="textAreaLeft" t="textAreaTop" r="textAreaRight" b="textAreaBottom"/>
                    <a:pathLst>
                      <a:path w="532" h="198">
                        <a:moveTo>
                          <a:pt x="71" y="0"/>
                        </a:moveTo>
                        <a:lnTo>
                          <a:pt x="135" y="39"/>
                        </a:lnTo>
                        <a:lnTo>
                          <a:pt x="232" y="62"/>
                        </a:lnTo>
                        <a:lnTo>
                          <a:pt x="316" y="71"/>
                        </a:lnTo>
                        <a:lnTo>
                          <a:pt x="422" y="76"/>
                        </a:lnTo>
                        <a:lnTo>
                          <a:pt x="532" y="42"/>
                        </a:lnTo>
                        <a:lnTo>
                          <a:pt x="503" y="85"/>
                        </a:lnTo>
                        <a:lnTo>
                          <a:pt x="422" y="127"/>
                        </a:lnTo>
                        <a:lnTo>
                          <a:pt x="304" y="169"/>
                        </a:lnTo>
                        <a:lnTo>
                          <a:pt x="200" y="198"/>
                        </a:lnTo>
                        <a:lnTo>
                          <a:pt x="65" y="198"/>
                        </a:lnTo>
                        <a:lnTo>
                          <a:pt x="0" y="163"/>
                        </a:lnTo>
                        <a:lnTo>
                          <a:pt x="5" y="69"/>
                        </a:lnTo>
                        <a:lnTo>
                          <a:pt x="71" y="0"/>
                        </a:lnTo>
                        <a:close/>
                      </a:path>
                    </a:pathLst>
                  </a:custGeom>
                  <a:solidFill>
                    <a:srgbClr val="c0c0e0"/>
                  </a:solidFill>
                  <a:ln w="3240">
                    <a:solidFill>
                      <a:srgbClr val="c0c0e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Freeform 24"/>
                  <p:cNvSpPr/>
                  <p:nvPr/>
                </p:nvSpPr>
                <p:spPr>
                  <a:xfrm>
                    <a:off x="376200" y="5758200"/>
                    <a:ext cx="334800" cy="115560"/>
                  </a:xfrm>
                  <a:custGeom>
                    <a:avLst/>
                    <a:gdLst>
                      <a:gd name="textAreaLeft" fmla="*/ 0 w 334800"/>
                      <a:gd name="textAreaRight" fmla="*/ 335160 w 334800"/>
                      <a:gd name="textAreaTop" fmla="*/ 0 h 115560"/>
                      <a:gd name="textAreaBottom" fmla="*/ 115920 h 115560"/>
                    </a:gdLst>
                    <a:ahLst/>
                    <a:rect l="textAreaLeft" t="textAreaTop" r="textAreaRight" b="textAreaBottom"/>
                    <a:pathLst>
                      <a:path w="1055" h="361">
                        <a:moveTo>
                          <a:pt x="0" y="333"/>
                        </a:moveTo>
                        <a:lnTo>
                          <a:pt x="107" y="310"/>
                        </a:lnTo>
                        <a:lnTo>
                          <a:pt x="220" y="280"/>
                        </a:lnTo>
                        <a:lnTo>
                          <a:pt x="336" y="228"/>
                        </a:lnTo>
                        <a:lnTo>
                          <a:pt x="429" y="171"/>
                        </a:lnTo>
                        <a:lnTo>
                          <a:pt x="497" y="120"/>
                        </a:lnTo>
                        <a:lnTo>
                          <a:pt x="541" y="74"/>
                        </a:lnTo>
                        <a:lnTo>
                          <a:pt x="570" y="25"/>
                        </a:lnTo>
                        <a:lnTo>
                          <a:pt x="596" y="0"/>
                        </a:lnTo>
                        <a:lnTo>
                          <a:pt x="674" y="23"/>
                        </a:lnTo>
                        <a:lnTo>
                          <a:pt x="786" y="38"/>
                        </a:lnTo>
                        <a:lnTo>
                          <a:pt x="888" y="38"/>
                        </a:lnTo>
                        <a:lnTo>
                          <a:pt x="982" y="29"/>
                        </a:lnTo>
                        <a:lnTo>
                          <a:pt x="1038" y="6"/>
                        </a:lnTo>
                        <a:lnTo>
                          <a:pt x="1051" y="42"/>
                        </a:lnTo>
                        <a:lnTo>
                          <a:pt x="1055" y="87"/>
                        </a:lnTo>
                        <a:lnTo>
                          <a:pt x="1051" y="142"/>
                        </a:lnTo>
                        <a:lnTo>
                          <a:pt x="1038" y="171"/>
                        </a:lnTo>
                        <a:lnTo>
                          <a:pt x="1010" y="221"/>
                        </a:lnTo>
                        <a:lnTo>
                          <a:pt x="978" y="255"/>
                        </a:lnTo>
                        <a:lnTo>
                          <a:pt x="939" y="296"/>
                        </a:lnTo>
                        <a:lnTo>
                          <a:pt x="883" y="336"/>
                        </a:lnTo>
                        <a:lnTo>
                          <a:pt x="718" y="352"/>
                        </a:lnTo>
                        <a:lnTo>
                          <a:pt x="510" y="356"/>
                        </a:lnTo>
                        <a:lnTo>
                          <a:pt x="308" y="361"/>
                        </a:lnTo>
                        <a:lnTo>
                          <a:pt x="128" y="359"/>
                        </a:lnTo>
                        <a:lnTo>
                          <a:pt x="0" y="333"/>
                        </a:lnTo>
                        <a:close/>
                      </a:path>
                    </a:pathLst>
                  </a:custGeom>
                  <a:solidFill>
                    <a:srgbClr val="e0e0ff"/>
                  </a:solidFill>
                  <a:ln w="3240">
                    <a:solidFill>
                      <a:srgbClr val="e0e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Freeform 25"/>
                  <p:cNvSpPr/>
                  <p:nvPr/>
                </p:nvSpPr>
                <p:spPr>
                  <a:xfrm>
                    <a:off x="179280" y="5685480"/>
                    <a:ext cx="201600" cy="125280"/>
                  </a:xfrm>
                  <a:custGeom>
                    <a:avLst/>
                    <a:gdLst>
                      <a:gd name="textAreaLeft" fmla="*/ 0 w 201600"/>
                      <a:gd name="textAreaRight" fmla="*/ 201960 w 20160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636" h="396">
                        <a:moveTo>
                          <a:pt x="125" y="0"/>
                        </a:moveTo>
                        <a:lnTo>
                          <a:pt x="223" y="41"/>
                        </a:lnTo>
                        <a:lnTo>
                          <a:pt x="636" y="138"/>
                        </a:lnTo>
                        <a:lnTo>
                          <a:pt x="623" y="157"/>
                        </a:lnTo>
                        <a:lnTo>
                          <a:pt x="520" y="208"/>
                        </a:lnTo>
                        <a:lnTo>
                          <a:pt x="472" y="232"/>
                        </a:lnTo>
                        <a:lnTo>
                          <a:pt x="447" y="274"/>
                        </a:lnTo>
                        <a:lnTo>
                          <a:pt x="439" y="306"/>
                        </a:lnTo>
                        <a:lnTo>
                          <a:pt x="451" y="342"/>
                        </a:lnTo>
                        <a:lnTo>
                          <a:pt x="482" y="361"/>
                        </a:lnTo>
                        <a:lnTo>
                          <a:pt x="520" y="367"/>
                        </a:lnTo>
                        <a:lnTo>
                          <a:pt x="584" y="374"/>
                        </a:lnTo>
                        <a:lnTo>
                          <a:pt x="536" y="393"/>
                        </a:lnTo>
                        <a:lnTo>
                          <a:pt x="465" y="396"/>
                        </a:lnTo>
                        <a:lnTo>
                          <a:pt x="439" y="393"/>
                        </a:lnTo>
                        <a:lnTo>
                          <a:pt x="390" y="378"/>
                        </a:lnTo>
                        <a:lnTo>
                          <a:pt x="301" y="329"/>
                        </a:lnTo>
                        <a:lnTo>
                          <a:pt x="179" y="245"/>
                        </a:lnTo>
                        <a:lnTo>
                          <a:pt x="112" y="202"/>
                        </a:lnTo>
                        <a:lnTo>
                          <a:pt x="41" y="151"/>
                        </a:lnTo>
                        <a:lnTo>
                          <a:pt x="25" y="148"/>
                        </a:lnTo>
                        <a:lnTo>
                          <a:pt x="0" y="106"/>
                        </a:lnTo>
                        <a:lnTo>
                          <a:pt x="8" y="64"/>
                        </a:lnTo>
                        <a:lnTo>
                          <a:pt x="38" y="29"/>
                        </a:lnTo>
                        <a:lnTo>
                          <a:pt x="125" y="0"/>
                        </a:lnTo>
                        <a:close/>
                      </a:path>
                    </a:pathLst>
                  </a:custGeom>
                  <a:solidFill>
                    <a:srgbClr val="e0e0ff"/>
                  </a:solidFill>
                  <a:ln w="3240">
                    <a:solidFill>
                      <a:srgbClr val="e0e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23" name="Group 26"/>
              <p:cNvGrpSpPr/>
              <p:nvPr/>
            </p:nvGrpSpPr>
            <p:grpSpPr>
              <a:xfrm>
                <a:off x="423720" y="5152680"/>
                <a:ext cx="384120" cy="515160"/>
                <a:chOff x="423720" y="5152680"/>
                <a:chExt cx="384120" cy="515160"/>
              </a:xfrm>
            </p:grpSpPr>
            <p:grpSp>
              <p:nvGrpSpPr>
                <p:cNvPr id="224" name="Group 27"/>
                <p:cNvGrpSpPr/>
                <p:nvPr/>
              </p:nvGrpSpPr>
              <p:grpSpPr>
                <a:xfrm>
                  <a:off x="509400" y="5328720"/>
                  <a:ext cx="273240" cy="226440"/>
                  <a:chOff x="509400" y="5328720"/>
                  <a:chExt cx="273240" cy="226440"/>
                </a:xfrm>
              </p:grpSpPr>
              <p:sp>
                <p:nvSpPr>
                  <p:cNvPr id="225" name="Freeform 28"/>
                  <p:cNvSpPr/>
                  <p:nvPr/>
                </p:nvSpPr>
                <p:spPr>
                  <a:xfrm>
                    <a:off x="509400" y="5328720"/>
                    <a:ext cx="177840" cy="140760"/>
                  </a:xfrm>
                  <a:custGeom>
                    <a:avLst/>
                    <a:gdLst>
                      <a:gd name="textAreaLeft" fmla="*/ 0 w 177840"/>
                      <a:gd name="textAreaRight" fmla="*/ 178200 w 177840"/>
                      <a:gd name="textAreaTop" fmla="*/ 0 h 140760"/>
                      <a:gd name="textAreaBottom" fmla="*/ 141120 h 140760"/>
                    </a:gdLst>
                    <a:ahLst/>
                    <a:rect l="textAreaLeft" t="textAreaTop" r="textAreaRight" b="textAreaBottom"/>
                    <a:pathLst>
                      <a:path w="558" h="448">
                        <a:moveTo>
                          <a:pt x="383" y="177"/>
                        </a:moveTo>
                        <a:lnTo>
                          <a:pt x="462" y="214"/>
                        </a:lnTo>
                        <a:lnTo>
                          <a:pt x="484" y="247"/>
                        </a:lnTo>
                        <a:lnTo>
                          <a:pt x="503" y="330"/>
                        </a:lnTo>
                        <a:lnTo>
                          <a:pt x="533" y="391"/>
                        </a:lnTo>
                        <a:lnTo>
                          <a:pt x="558" y="448"/>
                        </a:lnTo>
                        <a:lnTo>
                          <a:pt x="497" y="397"/>
                        </a:lnTo>
                        <a:lnTo>
                          <a:pt x="449" y="372"/>
                        </a:lnTo>
                        <a:lnTo>
                          <a:pt x="378" y="320"/>
                        </a:lnTo>
                        <a:lnTo>
                          <a:pt x="350" y="272"/>
                        </a:lnTo>
                        <a:lnTo>
                          <a:pt x="332" y="202"/>
                        </a:lnTo>
                        <a:lnTo>
                          <a:pt x="78" y="99"/>
                        </a:lnTo>
                        <a:lnTo>
                          <a:pt x="0" y="3"/>
                        </a:lnTo>
                        <a:lnTo>
                          <a:pt x="38" y="0"/>
                        </a:lnTo>
                        <a:lnTo>
                          <a:pt x="121" y="30"/>
                        </a:lnTo>
                        <a:lnTo>
                          <a:pt x="383" y="177"/>
                        </a:lnTo>
                        <a:close/>
                      </a:path>
                    </a:pathLst>
                  </a:custGeom>
                  <a:solidFill>
                    <a:srgbClr val="e040a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226" name="Group 29"/>
                  <p:cNvGrpSpPr/>
                  <p:nvPr/>
                </p:nvGrpSpPr>
                <p:grpSpPr>
                  <a:xfrm>
                    <a:off x="636480" y="5409360"/>
                    <a:ext cx="146160" cy="145800"/>
                    <a:chOff x="636480" y="5409360"/>
                    <a:chExt cx="146160" cy="145800"/>
                  </a:xfrm>
                </p:grpSpPr>
                <p:sp>
                  <p:nvSpPr>
                    <p:cNvPr id="227" name="Freeform 30"/>
                    <p:cNvSpPr/>
                    <p:nvPr/>
                  </p:nvSpPr>
                  <p:spPr>
                    <a:xfrm>
                      <a:off x="636480" y="5409360"/>
                      <a:ext cx="146160" cy="145800"/>
                    </a:xfrm>
                    <a:custGeom>
                      <a:avLst/>
                      <a:gdLst>
                        <a:gd name="textAreaLeft" fmla="*/ 0 w 146160"/>
                        <a:gd name="textAreaRight" fmla="*/ 146520 w 146160"/>
                        <a:gd name="textAreaTop" fmla="*/ 0 h 145800"/>
                        <a:gd name="textAreaBottom" fmla="*/ 146160 h 145800"/>
                      </a:gdLst>
                      <a:ahLst/>
                      <a:rect l="textAreaLeft" t="textAreaTop" r="textAreaRight" b="textAreaBottom"/>
                      <a:pathLst>
                        <a:path w="460" h="462">
                          <a:moveTo>
                            <a:pt x="0" y="375"/>
                          </a:moveTo>
                          <a:lnTo>
                            <a:pt x="62" y="349"/>
                          </a:lnTo>
                          <a:lnTo>
                            <a:pt x="79" y="309"/>
                          </a:lnTo>
                          <a:lnTo>
                            <a:pt x="94" y="272"/>
                          </a:lnTo>
                          <a:lnTo>
                            <a:pt x="96" y="226"/>
                          </a:lnTo>
                          <a:lnTo>
                            <a:pt x="84" y="169"/>
                          </a:lnTo>
                          <a:lnTo>
                            <a:pt x="74" y="109"/>
                          </a:lnTo>
                          <a:lnTo>
                            <a:pt x="90" y="98"/>
                          </a:lnTo>
                          <a:lnTo>
                            <a:pt x="111" y="96"/>
                          </a:lnTo>
                          <a:lnTo>
                            <a:pt x="135" y="109"/>
                          </a:lnTo>
                          <a:lnTo>
                            <a:pt x="160" y="142"/>
                          </a:lnTo>
                          <a:lnTo>
                            <a:pt x="189" y="210"/>
                          </a:lnTo>
                          <a:lnTo>
                            <a:pt x="214" y="152"/>
                          </a:lnTo>
                          <a:lnTo>
                            <a:pt x="252" y="107"/>
                          </a:lnTo>
                          <a:lnTo>
                            <a:pt x="289" y="77"/>
                          </a:lnTo>
                          <a:lnTo>
                            <a:pt x="340" y="32"/>
                          </a:lnTo>
                          <a:lnTo>
                            <a:pt x="378" y="3"/>
                          </a:lnTo>
                          <a:lnTo>
                            <a:pt x="403" y="0"/>
                          </a:lnTo>
                          <a:lnTo>
                            <a:pt x="419" y="16"/>
                          </a:lnTo>
                          <a:lnTo>
                            <a:pt x="412" y="38"/>
                          </a:lnTo>
                          <a:lnTo>
                            <a:pt x="390" y="77"/>
                          </a:lnTo>
                          <a:lnTo>
                            <a:pt x="358" y="125"/>
                          </a:lnTo>
                          <a:lnTo>
                            <a:pt x="318" y="175"/>
                          </a:lnTo>
                          <a:lnTo>
                            <a:pt x="373" y="162"/>
                          </a:lnTo>
                          <a:lnTo>
                            <a:pt x="418" y="163"/>
                          </a:lnTo>
                          <a:lnTo>
                            <a:pt x="441" y="175"/>
                          </a:lnTo>
                          <a:lnTo>
                            <a:pt x="441" y="199"/>
                          </a:lnTo>
                          <a:lnTo>
                            <a:pt x="429" y="221"/>
                          </a:lnTo>
                          <a:lnTo>
                            <a:pt x="406" y="244"/>
                          </a:lnTo>
                          <a:lnTo>
                            <a:pt x="368" y="257"/>
                          </a:lnTo>
                          <a:lnTo>
                            <a:pt x="412" y="254"/>
                          </a:lnTo>
                          <a:lnTo>
                            <a:pt x="447" y="264"/>
                          </a:lnTo>
                          <a:lnTo>
                            <a:pt x="460" y="295"/>
                          </a:lnTo>
                          <a:lnTo>
                            <a:pt x="448" y="320"/>
                          </a:lnTo>
                          <a:lnTo>
                            <a:pt x="420" y="333"/>
                          </a:lnTo>
                          <a:lnTo>
                            <a:pt x="346" y="329"/>
                          </a:lnTo>
                          <a:lnTo>
                            <a:pt x="382" y="342"/>
                          </a:lnTo>
                          <a:lnTo>
                            <a:pt x="400" y="356"/>
                          </a:lnTo>
                          <a:lnTo>
                            <a:pt x="413" y="375"/>
                          </a:lnTo>
                          <a:lnTo>
                            <a:pt x="408" y="405"/>
                          </a:lnTo>
                          <a:lnTo>
                            <a:pt x="387" y="422"/>
                          </a:lnTo>
                          <a:lnTo>
                            <a:pt x="363" y="421"/>
                          </a:lnTo>
                          <a:lnTo>
                            <a:pt x="330" y="411"/>
                          </a:lnTo>
                          <a:lnTo>
                            <a:pt x="299" y="395"/>
                          </a:lnTo>
                          <a:lnTo>
                            <a:pt x="279" y="424"/>
                          </a:lnTo>
                          <a:lnTo>
                            <a:pt x="258" y="446"/>
                          </a:lnTo>
                          <a:lnTo>
                            <a:pt x="234" y="457"/>
                          </a:lnTo>
                          <a:lnTo>
                            <a:pt x="204" y="462"/>
                          </a:lnTo>
                          <a:lnTo>
                            <a:pt x="77" y="431"/>
                          </a:lnTo>
                          <a:lnTo>
                            <a:pt x="0" y="375"/>
                          </a:lnTo>
                          <a:close/>
                        </a:path>
                      </a:pathLst>
                    </a:custGeom>
                    <a:solidFill>
                      <a:srgbClr val="e0a08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228" name="Group 31"/>
                    <p:cNvGrpSpPr/>
                    <p:nvPr/>
                  </p:nvGrpSpPr>
                  <p:grpSpPr>
                    <a:xfrm>
                      <a:off x="657000" y="5470920"/>
                      <a:ext cx="100080" cy="73800"/>
                      <a:chOff x="657000" y="5470920"/>
                      <a:chExt cx="100080" cy="73800"/>
                    </a:xfrm>
                  </p:grpSpPr>
                  <p:sp>
                    <p:nvSpPr>
                      <p:cNvPr id="229" name="Freeform 32"/>
                      <p:cNvSpPr/>
                      <p:nvPr/>
                    </p:nvSpPr>
                    <p:spPr>
                      <a:xfrm>
                        <a:off x="725400" y="5472000"/>
                        <a:ext cx="31680" cy="20520"/>
                      </a:xfrm>
                      <a:custGeom>
                        <a:avLst/>
                        <a:gdLst>
                          <a:gd name="textAreaLeft" fmla="*/ 0 w 31680"/>
                          <a:gd name="textAreaRight" fmla="*/ 32040 w 31680"/>
                          <a:gd name="textAreaTop" fmla="*/ 0 h 20520"/>
                          <a:gd name="textAreaBottom" fmla="*/ 20880 h 20520"/>
                        </a:gdLst>
                        <a:ahLst/>
                        <a:rect l="textAreaLeft" t="textAreaTop" r="textAreaRight" b="textAreaBottom"/>
                        <a:pathLst>
                          <a:path w="104" h="66">
                            <a:moveTo>
                              <a:pt x="104" y="59"/>
                            </a:moveTo>
                            <a:lnTo>
                              <a:pt x="65" y="66"/>
                            </a:lnTo>
                            <a:lnTo>
                              <a:pt x="32" y="64"/>
                            </a:lnTo>
                            <a:lnTo>
                              <a:pt x="10" y="53"/>
                            </a:lnTo>
                            <a:lnTo>
                              <a:pt x="0" y="34"/>
                            </a:lnTo>
                            <a:lnTo>
                              <a:pt x="6" y="13"/>
                            </a:lnTo>
                            <a:lnTo>
                              <a:pt x="28" y="0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30" name="Freeform 33"/>
                      <p:cNvSpPr/>
                      <p:nvPr/>
                    </p:nvSpPr>
                    <p:spPr>
                      <a:xfrm>
                        <a:off x="718920" y="5492880"/>
                        <a:ext cx="34920" cy="21600"/>
                      </a:xfrm>
                      <a:custGeom>
                        <a:avLst/>
                        <a:gdLst>
                          <a:gd name="textAreaLeft" fmla="*/ 0 w 34920"/>
                          <a:gd name="textAreaRight" fmla="*/ 35280 w 34920"/>
                          <a:gd name="textAreaTop" fmla="*/ 0 h 21600"/>
                          <a:gd name="textAreaBottom" fmla="*/ 21960 h 21600"/>
                        </a:gdLst>
                        <a:ahLst/>
                        <a:rect l="textAreaLeft" t="textAreaTop" r="textAreaRight" b="textAreaBottom"/>
                        <a:pathLst>
                          <a:path w="112" h="70">
                            <a:moveTo>
                              <a:pt x="112" y="68"/>
                            </a:moveTo>
                            <a:lnTo>
                              <a:pt x="73" y="70"/>
                            </a:lnTo>
                            <a:lnTo>
                              <a:pt x="38" y="66"/>
                            </a:lnTo>
                            <a:lnTo>
                              <a:pt x="15" y="56"/>
                            </a:lnTo>
                            <a:lnTo>
                              <a:pt x="0" y="36"/>
                            </a:lnTo>
                            <a:lnTo>
                              <a:pt x="6" y="19"/>
                            </a:lnTo>
                            <a:lnTo>
                              <a:pt x="23" y="0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31" name="Freeform 34"/>
                      <p:cNvSpPr/>
                      <p:nvPr/>
                    </p:nvSpPr>
                    <p:spPr>
                      <a:xfrm>
                        <a:off x="707760" y="5508720"/>
                        <a:ext cx="22320" cy="26640"/>
                      </a:xfrm>
                      <a:custGeom>
                        <a:avLst/>
                        <a:gdLst>
                          <a:gd name="textAreaLeft" fmla="*/ 0 w 22320"/>
                          <a:gd name="textAreaRight" fmla="*/ 22680 w 22320"/>
                          <a:gd name="textAreaTop" fmla="*/ 0 h 26640"/>
                          <a:gd name="textAreaBottom" fmla="*/ 27000 h 26640"/>
                        </a:gdLst>
                        <a:ahLst/>
                        <a:rect l="textAreaLeft" t="textAreaTop" r="textAreaRight" b="textAreaBottom"/>
                        <a:pathLst>
                          <a:path w="71" h="85">
                            <a:moveTo>
                              <a:pt x="71" y="85"/>
                            </a:moveTo>
                            <a:lnTo>
                              <a:pt x="36" y="71"/>
                            </a:lnTo>
                            <a:lnTo>
                              <a:pt x="14" y="55"/>
                            </a:lnTo>
                            <a:lnTo>
                              <a:pt x="0" y="31"/>
                            </a:lnTo>
                            <a:lnTo>
                              <a:pt x="7" y="8"/>
                            </a:lnTo>
                            <a:lnTo>
                              <a:pt x="25" y="0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32" name="Freeform 35"/>
                      <p:cNvSpPr/>
                      <p:nvPr/>
                    </p:nvSpPr>
                    <p:spPr>
                      <a:xfrm>
                        <a:off x="696600" y="5470920"/>
                        <a:ext cx="5040" cy="24840"/>
                      </a:xfrm>
                      <a:custGeom>
                        <a:avLst/>
                        <a:gdLst>
                          <a:gd name="textAreaLeft" fmla="*/ 0 w 5040"/>
                          <a:gd name="textAreaRight" fmla="*/ 5400 w 5040"/>
                          <a:gd name="textAreaTop" fmla="*/ 0 h 24840"/>
                          <a:gd name="textAreaBottom" fmla="*/ 25200 h 24840"/>
                        </a:gdLst>
                        <a:ahLst/>
                        <a:rect l="textAreaLeft" t="textAreaTop" r="textAreaRight" b="textAreaBottom"/>
                        <a:pathLst>
                          <a:path w="15" h="80">
                            <a:moveTo>
                              <a:pt x="0" y="0"/>
                            </a:moveTo>
                            <a:lnTo>
                              <a:pt x="13" y="36"/>
                            </a:lnTo>
                            <a:lnTo>
                              <a:pt x="15" y="57"/>
                            </a:lnTo>
                            <a:lnTo>
                              <a:pt x="13" y="80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33" name="Freeform 36"/>
                      <p:cNvSpPr/>
                      <p:nvPr/>
                    </p:nvSpPr>
                    <p:spPr>
                      <a:xfrm>
                        <a:off x="695160" y="5470920"/>
                        <a:ext cx="19080" cy="10800"/>
                      </a:xfrm>
                      <a:custGeom>
                        <a:avLst/>
                        <a:gdLst>
                          <a:gd name="textAreaLeft" fmla="*/ 0 w 19080"/>
                          <a:gd name="textAreaRight" fmla="*/ 19440 w 19080"/>
                          <a:gd name="textAreaTop" fmla="*/ 0 h 10800"/>
                          <a:gd name="textAreaBottom" fmla="*/ 11160 h 10800"/>
                        </a:gdLst>
                        <a:ahLst/>
                        <a:rect l="textAreaLeft" t="textAreaTop" r="textAreaRight" b="textAreaBottom"/>
                        <a:pathLst>
                          <a:path w="61" h="32">
                            <a:moveTo>
                              <a:pt x="0" y="0"/>
                            </a:moveTo>
                            <a:lnTo>
                              <a:pt x="27" y="3"/>
                            </a:lnTo>
                            <a:lnTo>
                              <a:pt x="46" y="13"/>
                            </a:lnTo>
                            <a:lnTo>
                              <a:pt x="61" y="32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34" name="Freeform 37"/>
                      <p:cNvSpPr/>
                      <p:nvPr/>
                    </p:nvSpPr>
                    <p:spPr>
                      <a:xfrm>
                        <a:off x="657000" y="5518080"/>
                        <a:ext cx="31680" cy="26640"/>
                      </a:xfrm>
                      <a:custGeom>
                        <a:avLst/>
                        <a:gdLst>
                          <a:gd name="textAreaLeft" fmla="*/ 0 w 31680"/>
                          <a:gd name="textAreaRight" fmla="*/ 32040 w 31680"/>
                          <a:gd name="textAreaTop" fmla="*/ 0 h 26640"/>
                          <a:gd name="textAreaBottom" fmla="*/ 27000 h 26640"/>
                        </a:gdLst>
                        <a:ahLst/>
                        <a:rect l="textAreaLeft" t="textAreaTop" r="textAreaRight" b="textAreaBottom"/>
                        <a:pathLst>
                          <a:path w="104" h="87">
                            <a:moveTo>
                              <a:pt x="0" y="0"/>
                            </a:moveTo>
                            <a:lnTo>
                              <a:pt x="2" y="13"/>
                            </a:lnTo>
                            <a:lnTo>
                              <a:pt x="6" y="28"/>
                            </a:lnTo>
                            <a:lnTo>
                              <a:pt x="13" y="39"/>
                            </a:lnTo>
                            <a:lnTo>
                              <a:pt x="29" y="51"/>
                            </a:lnTo>
                            <a:lnTo>
                              <a:pt x="49" y="59"/>
                            </a:lnTo>
                            <a:lnTo>
                              <a:pt x="70" y="61"/>
                            </a:lnTo>
                            <a:lnTo>
                              <a:pt x="87" y="65"/>
                            </a:lnTo>
                            <a:lnTo>
                              <a:pt x="97" y="76"/>
                            </a:lnTo>
                            <a:lnTo>
                              <a:pt x="104" y="86"/>
                            </a:lnTo>
                            <a:lnTo>
                              <a:pt x="104" y="87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35" name="Group 38"/>
                <p:cNvGrpSpPr/>
                <p:nvPr/>
              </p:nvGrpSpPr>
              <p:grpSpPr>
                <a:xfrm>
                  <a:off x="423720" y="5152680"/>
                  <a:ext cx="384120" cy="515160"/>
                  <a:chOff x="423720" y="5152680"/>
                  <a:chExt cx="384120" cy="515160"/>
                </a:xfrm>
              </p:grpSpPr>
              <p:grpSp>
                <p:nvGrpSpPr>
                  <p:cNvPr id="236" name="Group 39"/>
                  <p:cNvGrpSpPr/>
                  <p:nvPr/>
                </p:nvGrpSpPr>
                <p:grpSpPr>
                  <a:xfrm>
                    <a:off x="492120" y="5152680"/>
                    <a:ext cx="304560" cy="285480"/>
                    <a:chOff x="492120" y="5152680"/>
                    <a:chExt cx="304560" cy="285480"/>
                  </a:xfrm>
                </p:grpSpPr>
                <p:sp>
                  <p:nvSpPr>
                    <p:cNvPr id="237" name="Freeform 40"/>
                    <p:cNvSpPr/>
                    <p:nvPr/>
                  </p:nvSpPr>
                  <p:spPr>
                    <a:xfrm>
                      <a:off x="520560" y="5152680"/>
                      <a:ext cx="271440" cy="285480"/>
                    </a:xfrm>
                    <a:custGeom>
                      <a:avLst/>
                      <a:gdLst>
                        <a:gd name="textAreaLeft" fmla="*/ 0 w 271440"/>
                        <a:gd name="textAreaRight" fmla="*/ 271800 w 271440"/>
                        <a:gd name="textAreaTop" fmla="*/ 0 h 285480"/>
                        <a:gd name="textAreaBottom" fmla="*/ 285840 h 285480"/>
                      </a:gdLst>
                      <a:ahLst/>
                      <a:rect l="textAreaLeft" t="textAreaTop" r="textAreaRight" b="textAreaBottom"/>
                      <a:pathLst>
                        <a:path w="859" h="901">
                          <a:moveTo>
                            <a:pt x="106" y="714"/>
                          </a:moveTo>
                          <a:lnTo>
                            <a:pt x="147" y="637"/>
                          </a:lnTo>
                          <a:lnTo>
                            <a:pt x="147" y="614"/>
                          </a:lnTo>
                          <a:lnTo>
                            <a:pt x="132" y="583"/>
                          </a:lnTo>
                          <a:lnTo>
                            <a:pt x="109" y="550"/>
                          </a:lnTo>
                          <a:lnTo>
                            <a:pt x="67" y="518"/>
                          </a:lnTo>
                          <a:lnTo>
                            <a:pt x="40" y="475"/>
                          </a:lnTo>
                          <a:lnTo>
                            <a:pt x="27" y="437"/>
                          </a:lnTo>
                          <a:lnTo>
                            <a:pt x="10" y="408"/>
                          </a:lnTo>
                          <a:lnTo>
                            <a:pt x="10" y="375"/>
                          </a:lnTo>
                          <a:lnTo>
                            <a:pt x="0" y="298"/>
                          </a:lnTo>
                          <a:lnTo>
                            <a:pt x="10" y="239"/>
                          </a:lnTo>
                          <a:lnTo>
                            <a:pt x="29" y="188"/>
                          </a:lnTo>
                          <a:lnTo>
                            <a:pt x="55" y="133"/>
                          </a:lnTo>
                          <a:lnTo>
                            <a:pt x="86" y="102"/>
                          </a:lnTo>
                          <a:lnTo>
                            <a:pt x="145" y="64"/>
                          </a:lnTo>
                          <a:lnTo>
                            <a:pt x="209" y="38"/>
                          </a:lnTo>
                          <a:lnTo>
                            <a:pt x="276" y="15"/>
                          </a:lnTo>
                          <a:lnTo>
                            <a:pt x="362" y="2"/>
                          </a:lnTo>
                          <a:lnTo>
                            <a:pt x="423" y="0"/>
                          </a:lnTo>
                          <a:lnTo>
                            <a:pt x="484" y="5"/>
                          </a:lnTo>
                          <a:lnTo>
                            <a:pt x="561" y="20"/>
                          </a:lnTo>
                          <a:lnTo>
                            <a:pt x="632" y="43"/>
                          </a:lnTo>
                          <a:lnTo>
                            <a:pt x="683" y="69"/>
                          </a:lnTo>
                          <a:lnTo>
                            <a:pt x="747" y="118"/>
                          </a:lnTo>
                          <a:lnTo>
                            <a:pt x="790" y="176"/>
                          </a:lnTo>
                          <a:lnTo>
                            <a:pt x="823" y="229"/>
                          </a:lnTo>
                          <a:lnTo>
                            <a:pt x="839" y="268"/>
                          </a:lnTo>
                          <a:lnTo>
                            <a:pt x="859" y="336"/>
                          </a:lnTo>
                          <a:lnTo>
                            <a:pt x="859" y="388"/>
                          </a:lnTo>
                          <a:lnTo>
                            <a:pt x="846" y="463"/>
                          </a:lnTo>
                          <a:lnTo>
                            <a:pt x="826" y="524"/>
                          </a:lnTo>
                          <a:lnTo>
                            <a:pt x="797" y="575"/>
                          </a:lnTo>
                          <a:lnTo>
                            <a:pt x="772" y="604"/>
                          </a:lnTo>
                          <a:lnTo>
                            <a:pt x="735" y="637"/>
                          </a:lnTo>
                          <a:lnTo>
                            <a:pt x="674" y="662"/>
                          </a:lnTo>
                          <a:lnTo>
                            <a:pt x="629" y="678"/>
                          </a:lnTo>
                          <a:lnTo>
                            <a:pt x="577" y="693"/>
                          </a:lnTo>
                          <a:lnTo>
                            <a:pt x="497" y="701"/>
                          </a:lnTo>
                          <a:lnTo>
                            <a:pt x="428" y="714"/>
                          </a:lnTo>
                          <a:lnTo>
                            <a:pt x="382" y="723"/>
                          </a:lnTo>
                          <a:lnTo>
                            <a:pt x="369" y="745"/>
                          </a:lnTo>
                          <a:lnTo>
                            <a:pt x="372" y="772"/>
                          </a:lnTo>
                          <a:lnTo>
                            <a:pt x="369" y="798"/>
                          </a:lnTo>
                          <a:lnTo>
                            <a:pt x="359" y="817"/>
                          </a:lnTo>
                          <a:lnTo>
                            <a:pt x="354" y="853"/>
                          </a:lnTo>
                          <a:lnTo>
                            <a:pt x="356" y="901"/>
                          </a:lnTo>
                          <a:lnTo>
                            <a:pt x="298" y="821"/>
                          </a:lnTo>
                          <a:lnTo>
                            <a:pt x="222" y="756"/>
                          </a:lnTo>
                          <a:lnTo>
                            <a:pt x="158" y="726"/>
                          </a:lnTo>
                          <a:lnTo>
                            <a:pt x="106" y="714"/>
                          </a:lnTo>
                          <a:close/>
                        </a:path>
                      </a:pathLst>
                    </a:custGeom>
                    <a:solidFill>
                      <a:srgbClr val="e0a08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238" name="Group 41"/>
                    <p:cNvGrpSpPr/>
                    <p:nvPr/>
                  </p:nvGrpSpPr>
                  <p:grpSpPr>
                    <a:xfrm>
                      <a:off x="492120" y="5152680"/>
                      <a:ext cx="255600" cy="196200"/>
                      <a:chOff x="492120" y="5152680"/>
                      <a:chExt cx="255600" cy="196200"/>
                    </a:xfrm>
                  </p:grpSpPr>
                  <p:grpSp>
                    <p:nvGrpSpPr>
                      <p:cNvPr id="239" name="Group 42"/>
                      <p:cNvGrpSpPr/>
                      <p:nvPr/>
                    </p:nvGrpSpPr>
                    <p:grpSpPr>
                      <a:xfrm>
                        <a:off x="560160" y="5152680"/>
                        <a:ext cx="176400" cy="59760"/>
                        <a:chOff x="560160" y="5152680"/>
                        <a:chExt cx="176400" cy="59760"/>
                      </a:xfrm>
                    </p:grpSpPr>
                    <p:sp>
                      <p:nvSpPr>
                        <p:cNvPr id="240" name="Freeform 43"/>
                        <p:cNvSpPr/>
                        <p:nvPr/>
                      </p:nvSpPr>
                      <p:spPr>
                        <a:xfrm>
                          <a:off x="574560" y="5162040"/>
                          <a:ext cx="162000" cy="50400"/>
                        </a:xfrm>
                        <a:custGeom>
                          <a:avLst/>
                          <a:gdLst>
                            <a:gd name="textAreaLeft" fmla="*/ 0 w 162000"/>
                            <a:gd name="textAreaRight" fmla="*/ 162360 w 162000"/>
                            <a:gd name="textAreaTop" fmla="*/ 0 h 50400"/>
                            <a:gd name="textAreaBottom" fmla="*/ 50760 h 50400"/>
                          </a:gdLst>
                          <a:ahLst/>
                          <a:rect l="textAreaLeft" t="textAreaTop" r="textAreaRight" b="textAreaBottom"/>
                          <a:pathLst>
                            <a:path w="510" h="160">
                              <a:moveTo>
                                <a:pt x="0" y="160"/>
                              </a:moveTo>
                              <a:lnTo>
                                <a:pt x="39" y="110"/>
                              </a:lnTo>
                              <a:lnTo>
                                <a:pt x="90" y="71"/>
                              </a:lnTo>
                              <a:lnTo>
                                <a:pt x="151" y="38"/>
                              </a:lnTo>
                              <a:lnTo>
                                <a:pt x="212" y="19"/>
                              </a:lnTo>
                              <a:lnTo>
                                <a:pt x="279" y="5"/>
                              </a:lnTo>
                              <a:lnTo>
                                <a:pt x="366" y="0"/>
                              </a:lnTo>
                              <a:lnTo>
                                <a:pt x="430" y="10"/>
                              </a:lnTo>
                              <a:lnTo>
                                <a:pt x="510" y="36"/>
                              </a:lnTo>
                            </a:path>
                          </a:pathLst>
                        </a:custGeom>
                        <a:noFill/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960" bIns="3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41" name="Freeform 44"/>
                        <p:cNvSpPr/>
                        <p:nvPr/>
                      </p:nvSpPr>
                      <p:spPr>
                        <a:xfrm>
                          <a:off x="560160" y="5152680"/>
                          <a:ext cx="166680" cy="55440"/>
                        </a:xfrm>
                        <a:custGeom>
                          <a:avLst/>
                          <a:gdLst>
                            <a:gd name="textAreaLeft" fmla="*/ 0 w 166680"/>
                            <a:gd name="textAreaRight" fmla="*/ 167040 w 166680"/>
                            <a:gd name="textAreaTop" fmla="*/ 0 h 55440"/>
                            <a:gd name="textAreaBottom" fmla="*/ 55800 h 55440"/>
                          </a:gdLst>
                          <a:ahLst/>
                          <a:rect l="textAreaLeft" t="textAreaTop" r="textAreaRight" b="textAreaBottom"/>
                          <a:pathLst>
                            <a:path w="526" h="176">
                              <a:moveTo>
                                <a:pt x="0" y="176"/>
                              </a:moveTo>
                              <a:lnTo>
                                <a:pt x="25" y="125"/>
                              </a:lnTo>
                              <a:lnTo>
                                <a:pt x="56" y="89"/>
                              </a:lnTo>
                              <a:lnTo>
                                <a:pt x="90" y="60"/>
                              </a:lnTo>
                              <a:lnTo>
                                <a:pt x="151" y="28"/>
                              </a:lnTo>
                              <a:lnTo>
                                <a:pt x="231" y="5"/>
                              </a:lnTo>
                              <a:lnTo>
                                <a:pt x="305" y="0"/>
                              </a:lnTo>
                              <a:lnTo>
                                <a:pt x="385" y="8"/>
                              </a:lnTo>
                              <a:lnTo>
                                <a:pt x="458" y="31"/>
                              </a:lnTo>
                              <a:lnTo>
                                <a:pt x="494" y="41"/>
                              </a:lnTo>
                              <a:lnTo>
                                <a:pt x="526" y="51"/>
                              </a:lnTo>
                            </a:path>
                          </a:pathLst>
                        </a:custGeom>
                        <a:noFill/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242" name="Group 45"/>
                      <p:cNvGrpSpPr/>
                      <p:nvPr/>
                    </p:nvGrpSpPr>
                    <p:grpSpPr>
                      <a:xfrm>
                        <a:off x="492120" y="5189040"/>
                        <a:ext cx="95040" cy="96480"/>
                        <a:chOff x="492120" y="5189040"/>
                        <a:chExt cx="95040" cy="96480"/>
                      </a:xfrm>
                    </p:grpSpPr>
                    <p:sp>
                      <p:nvSpPr>
                        <p:cNvPr id="243" name="Freeform 46"/>
                        <p:cNvSpPr/>
                        <p:nvPr/>
                      </p:nvSpPr>
                      <p:spPr>
                        <a:xfrm>
                          <a:off x="492120" y="5189040"/>
                          <a:ext cx="95040" cy="96480"/>
                        </a:xfrm>
                        <a:custGeom>
                          <a:avLst/>
                          <a:gdLst>
                            <a:gd name="textAreaLeft" fmla="*/ 0 w 95040"/>
                            <a:gd name="textAreaRight" fmla="*/ 95400 w 95040"/>
                            <a:gd name="textAreaTop" fmla="*/ 0 h 96480"/>
                            <a:gd name="textAreaBottom" fmla="*/ 96840 h 96480"/>
                          </a:gdLst>
                          <a:ahLst/>
                          <a:rect l="textAreaLeft" t="textAreaTop" r="textAreaRight" b="textAreaBottom"/>
                          <a:pathLst>
                            <a:path w="302" h="305">
                              <a:moveTo>
                                <a:pt x="56" y="290"/>
                              </a:moveTo>
                              <a:lnTo>
                                <a:pt x="17" y="253"/>
                              </a:lnTo>
                              <a:lnTo>
                                <a:pt x="0" y="200"/>
                              </a:lnTo>
                              <a:lnTo>
                                <a:pt x="9" y="133"/>
                              </a:lnTo>
                              <a:lnTo>
                                <a:pt x="32" y="83"/>
                              </a:lnTo>
                              <a:lnTo>
                                <a:pt x="50" y="58"/>
                              </a:lnTo>
                              <a:lnTo>
                                <a:pt x="71" y="25"/>
                              </a:lnTo>
                              <a:lnTo>
                                <a:pt x="81" y="14"/>
                              </a:lnTo>
                              <a:lnTo>
                                <a:pt x="95" y="2"/>
                              </a:lnTo>
                              <a:lnTo>
                                <a:pt x="110" y="0"/>
                              </a:lnTo>
                              <a:lnTo>
                                <a:pt x="119" y="13"/>
                              </a:lnTo>
                              <a:lnTo>
                                <a:pt x="126" y="27"/>
                              </a:lnTo>
                              <a:lnTo>
                                <a:pt x="132" y="17"/>
                              </a:lnTo>
                              <a:lnTo>
                                <a:pt x="149" y="15"/>
                              </a:lnTo>
                              <a:lnTo>
                                <a:pt x="159" y="27"/>
                              </a:lnTo>
                              <a:lnTo>
                                <a:pt x="163" y="45"/>
                              </a:lnTo>
                              <a:lnTo>
                                <a:pt x="167" y="69"/>
                              </a:lnTo>
                              <a:lnTo>
                                <a:pt x="180" y="63"/>
                              </a:lnTo>
                              <a:lnTo>
                                <a:pt x="194" y="70"/>
                              </a:lnTo>
                              <a:lnTo>
                                <a:pt x="197" y="77"/>
                              </a:lnTo>
                              <a:lnTo>
                                <a:pt x="196" y="90"/>
                              </a:lnTo>
                              <a:lnTo>
                                <a:pt x="194" y="103"/>
                              </a:lnTo>
                              <a:lnTo>
                                <a:pt x="202" y="95"/>
                              </a:lnTo>
                              <a:lnTo>
                                <a:pt x="215" y="88"/>
                              </a:lnTo>
                              <a:lnTo>
                                <a:pt x="236" y="90"/>
                              </a:lnTo>
                              <a:lnTo>
                                <a:pt x="237" y="101"/>
                              </a:lnTo>
                              <a:lnTo>
                                <a:pt x="238" y="111"/>
                              </a:lnTo>
                              <a:lnTo>
                                <a:pt x="238" y="123"/>
                              </a:lnTo>
                              <a:lnTo>
                                <a:pt x="251" y="121"/>
                              </a:lnTo>
                              <a:lnTo>
                                <a:pt x="264" y="126"/>
                              </a:lnTo>
                              <a:lnTo>
                                <a:pt x="271" y="136"/>
                              </a:lnTo>
                              <a:lnTo>
                                <a:pt x="274" y="152"/>
                              </a:lnTo>
                              <a:lnTo>
                                <a:pt x="286" y="157"/>
                              </a:lnTo>
                              <a:lnTo>
                                <a:pt x="293" y="175"/>
                              </a:lnTo>
                              <a:lnTo>
                                <a:pt x="290" y="195"/>
                              </a:lnTo>
                              <a:lnTo>
                                <a:pt x="286" y="228"/>
                              </a:lnTo>
                              <a:lnTo>
                                <a:pt x="289" y="247"/>
                              </a:lnTo>
                              <a:lnTo>
                                <a:pt x="296" y="260"/>
                              </a:lnTo>
                              <a:lnTo>
                                <a:pt x="302" y="273"/>
                              </a:lnTo>
                              <a:lnTo>
                                <a:pt x="302" y="289"/>
                              </a:lnTo>
                              <a:lnTo>
                                <a:pt x="293" y="302"/>
                              </a:lnTo>
                              <a:lnTo>
                                <a:pt x="283" y="305"/>
                              </a:lnTo>
                              <a:lnTo>
                                <a:pt x="271" y="305"/>
                              </a:lnTo>
                              <a:lnTo>
                                <a:pt x="259" y="303"/>
                              </a:lnTo>
                              <a:lnTo>
                                <a:pt x="245" y="290"/>
                              </a:lnTo>
                              <a:lnTo>
                                <a:pt x="237" y="279"/>
                              </a:lnTo>
                              <a:lnTo>
                                <a:pt x="235" y="273"/>
                              </a:lnTo>
                              <a:lnTo>
                                <a:pt x="222" y="277"/>
                              </a:lnTo>
                              <a:lnTo>
                                <a:pt x="206" y="276"/>
                              </a:lnTo>
                              <a:lnTo>
                                <a:pt x="196" y="271"/>
                              </a:lnTo>
                              <a:lnTo>
                                <a:pt x="193" y="266"/>
                              </a:lnTo>
                              <a:lnTo>
                                <a:pt x="180" y="266"/>
                              </a:lnTo>
                              <a:lnTo>
                                <a:pt x="172" y="263"/>
                              </a:lnTo>
                              <a:lnTo>
                                <a:pt x="167" y="261"/>
                              </a:lnTo>
                              <a:lnTo>
                                <a:pt x="157" y="261"/>
                              </a:lnTo>
                              <a:lnTo>
                                <a:pt x="149" y="259"/>
                              </a:lnTo>
                              <a:lnTo>
                                <a:pt x="142" y="247"/>
                              </a:lnTo>
                              <a:lnTo>
                                <a:pt x="137" y="240"/>
                              </a:lnTo>
                              <a:lnTo>
                                <a:pt x="132" y="247"/>
                              </a:lnTo>
                              <a:lnTo>
                                <a:pt x="127" y="259"/>
                              </a:lnTo>
                              <a:lnTo>
                                <a:pt x="118" y="263"/>
                              </a:lnTo>
                              <a:lnTo>
                                <a:pt x="107" y="264"/>
                              </a:lnTo>
                              <a:lnTo>
                                <a:pt x="101" y="264"/>
                              </a:lnTo>
                              <a:lnTo>
                                <a:pt x="98" y="271"/>
                              </a:lnTo>
                              <a:lnTo>
                                <a:pt x="90" y="279"/>
                              </a:lnTo>
                              <a:lnTo>
                                <a:pt x="81" y="290"/>
                              </a:lnTo>
                              <a:lnTo>
                                <a:pt x="56" y="29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8040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grpSp>
                      <p:nvGrpSpPr>
                        <p:cNvPr id="244" name="Group 47"/>
                        <p:cNvGrpSpPr/>
                        <p:nvPr/>
                      </p:nvGrpSpPr>
                      <p:grpSpPr>
                        <a:xfrm>
                          <a:off x="496800" y="5193360"/>
                          <a:ext cx="73080" cy="84960"/>
                          <a:chOff x="496800" y="5193360"/>
                          <a:chExt cx="73080" cy="84960"/>
                        </a:xfrm>
                      </p:grpSpPr>
                      <p:sp>
                        <p:nvSpPr>
                          <p:cNvPr id="245" name="Freeform 48"/>
                          <p:cNvSpPr/>
                          <p:nvPr/>
                        </p:nvSpPr>
                        <p:spPr>
                          <a:xfrm>
                            <a:off x="554040" y="5250240"/>
                            <a:ext cx="15840" cy="16920"/>
                          </a:xfrm>
                          <a:custGeom>
                            <a:avLst/>
                            <a:gdLst>
                              <a:gd name="textAreaLeft" fmla="*/ 0 w 15840"/>
                              <a:gd name="textAreaRight" fmla="*/ 16200 w 15840"/>
                              <a:gd name="textAreaTop" fmla="*/ 0 h 16920"/>
                              <a:gd name="textAreaBottom" fmla="*/ 17280 h 16920"/>
                            </a:gdLst>
                            <a:ahLst/>
                            <a:rect l="textAreaLeft" t="textAreaTop" r="textAreaRight" b="textAreaBottom"/>
                            <a:pathLst>
                              <a:path w="46" h="56">
                                <a:moveTo>
                                  <a:pt x="13" y="56"/>
                                </a:moveTo>
                                <a:lnTo>
                                  <a:pt x="10" y="27"/>
                                </a:lnTo>
                                <a:lnTo>
                                  <a:pt x="19" y="12"/>
                                </a:lnTo>
                                <a:lnTo>
                                  <a:pt x="46" y="0"/>
                                </a:lnTo>
                                <a:lnTo>
                                  <a:pt x="28" y="2"/>
                                </a:lnTo>
                                <a:lnTo>
                                  <a:pt x="7" y="8"/>
                                </a:lnTo>
                                <a:lnTo>
                                  <a:pt x="0" y="22"/>
                                </a:lnTo>
                                <a:lnTo>
                                  <a:pt x="13" y="5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246" name="Freeform 49"/>
                          <p:cNvSpPr/>
                          <p:nvPr/>
                        </p:nvSpPr>
                        <p:spPr>
                          <a:xfrm>
                            <a:off x="527040" y="5221800"/>
                            <a:ext cx="23760" cy="42480"/>
                          </a:xfrm>
                          <a:custGeom>
                            <a:avLst/>
                            <a:gdLst>
                              <a:gd name="textAreaLeft" fmla="*/ 0 w 23760"/>
                              <a:gd name="textAreaRight" fmla="*/ 24120 w 23760"/>
                              <a:gd name="textAreaTop" fmla="*/ 0 h 42480"/>
                              <a:gd name="textAreaBottom" fmla="*/ 42840 h 42480"/>
                            </a:gdLst>
                            <a:ahLst/>
                            <a:rect l="textAreaLeft" t="textAreaTop" r="textAreaRight" b="textAreaBottom"/>
                            <a:pathLst>
                              <a:path w="73" h="137">
                                <a:moveTo>
                                  <a:pt x="30" y="137"/>
                                </a:moveTo>
                                <a:lnTo>
                                  <a:pt x="17" y="107"/>
                                </a:lnTo>
                                <a:lnTo>
                                  <a:pt x="17" y="65"/>
                                </a:lnTo>
                                <a:lnTo>
                                  <a:pt x="42" y="33"/>
                                </a:lnTo>
                                <a:lnTo>
                                  <a:pt x="73" y="0"/>
                                </a:lnTo>
                                <a:lnTo>
                                  <a:pt x="54" y="19"/>
                                </a:lnTo>
                                <a:lnTo>
                                  <a:pt x="23" y="42"/>
                                </a:lnTo>
                                <a:lnTo>
                                  <a:pt x="0" y="61"/>
                                </a:lnTo>
                                <a:lnTo>
                                  <a:pt x="5" y="77"/>
                                </a:lnTo>
                                <a:lnTo>
                                  <a:pt x="4" y="96"/>
                                </a:lnTo>
                                <a:lnTo>
                                  <a:pt x="4" y="117"/>
                                </a:lnTo>
                                <a:lnTo>
                                  <a:pt x="30" y="13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247" name="Freeform 50"/>
                          <p:cNvSpPr/>
                          <p:nvPr/>
                        </p:nvSpPr>
                        <p:spPr>
                          <a:xfrm>
                            <a:off x="496800" y="5245560"/>
                            <a:ext cx="15840" cy="32760"/>
                          </a:xfrm>
                          <a:custGeom>
                            <a:avLst/>
                            <a:gdLst>
                              <a:gd name="textAreaLeft" fmla="*/ 0 w 15840"/>
                              <a:gd name="textAreaRight" fmla="*/ 16200 w 15840"/>
                              <a:gd name="textAreaTop" fmla="*/ 0 h 32760"/>
                              <a:gd name="textAreaBottom" fmla="*/ 33120 h 32760"/>
                            </a:gdLst>
                            <a:ahLst/>
                            <a:rect l="textAreaLeft" t="textAreaTop" r="textAreaRight" b="textAreaBottom"/>
                            <a:pathLst>
                              <a:path w="50" h="106">
                                <a:moveTo>
                                  <a:pt x="22" y="88"/>
                                </a:moveTo>
                                <a:lnTo>
                                  <a:pt x="0" y="56"/>
                                </a:lnTo>
                                <a:lnTo>
                                  <a:pt x="9" y="33"/>
                                </a:lnTo>
                                <a:lnTo>
                                  <a:pt x="28" y="0"/>
                                </a:lnTo>
                                <a:lnTo>
                                  <a:pt x="12" y="57"/>
                                </a:lnTo>
                                <a:lnTo>
                                  <a:pt x="24" y="82"/>
                                </a:lnTo>
                                <a:lnTo>
                                  <a:pt x="50" y="106"/>
                                </a:lnTo>
                                <a:lnTo>
                                  <a:pt x="22" y="88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3680" bIns="-136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248" name="Freeform 51"/>
                          <p:cNvSpPr/>
                          <p:nvPr/>
                        </p:nvSpPr>
                        <p:spPr>
                          <a:xfrm>
                            <a:off x="509400" y="5193360"/>
                            <a:ext cx="20520" cy="34560"/>
                          </a:xfrm>
                          <a:custGeom>
                            <a:avLst/>
                            <a:gdLst>
                              <a:gd name="textAreaLeft" fmla="*/ 0 w 20520"/>
                              <a:gd name="textAreaRight" fmla="*/ 20880 w 20520"/>
                              <a:gd name="textAreaTop" fmla="*/ 0 h 34560"/>
                              <a:gd name="textAreaBottom" fmla="*/ 34920 h 34560"/>
                            </a:gdLst>
                            <a:ahLst/>
                            <a:rect l="textAreaLeft" t="textAreaTop" r="textAreaRight" b="textAreaBottom"/>
                            <a:pathLst>
                              <a:path w="68" h="106">
                                <a:moveTo>
                                  <a:pt x="68" y="0"/>
                                </a:moveTo>
                                <a:lnTo>
                                  <a:pt x="36" y="26"/>
                                </a:lnTo>
                                <a:lnTo>
                                  <a:pt x="9" y="53"/>
                                </a:lnTo>
                                <a:lnTo>
                                  <a:pt x="5" y="74"/>
                                </a:lnTo>
                                <a:lnTo>
                                  <a:pt x="0" y="106"/>
                                </a:lnTo>
                                <a:lnTo>
                                  <a:pt x="11" y="81"/>
                                </a:lnTo>
                                <a:lnTo>
                                  <a:pt x="20" y="55"/>
                                </a:lnTo>
                                <a:lnTo>
                                  <a:pt x="49" y="23"/>
                                </a:lnTo>
                                <a:lnTo>
                                  <a:pt x="68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1880" bIns="-11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249" name="Freeform 52"/>
                          <p:cNvSpPr/>
                          <p:nvPr/>
                        </p:nvSpPr>
                        <p:spPr>
                          <a:xfrm>
                            <a:off x="506160" y="5256720"/>
                            <a:ext cx="12960" cy="21600"/>
                          </a:xfrm>
                          <a:custGeom>
                            <a:avLst/>
                            <a:gdLst>
                              <a:gd name="textAreaLeft" fmla="*/ 0 w 12960"/>
                              <a:gd name="textAreaRight" fmla="*/ 13320 w 12960"/>
                              <a:gd name="textAreaTop" fmla="*/ 0 h 21600"/>
                              <a:gd name="textAreaBottom" fmla="*/ 21960 h 21600"/>
                            </a:gdLst>
                            <a:ahLst/>
                            <a:rect l="textAreaLeft" t="textAreaTop" r="textAreaRight" b="textAreaBottom"/>
                            <a:pathLst>
                              <a:path w="38" h="67">
                                <a:moveTo>
                                  <a:pt x="15" y="67"/>
                                </a:moveTo>
                                <a:lnTo>
                                  <a:pt x="5" y="45"/>
                                </a:lnTo>
                                <a:lnTo>
                                  <a:pt x="0" y="33"/>
                                </a:lnTo>
                                <a:lnTo>
                                  <a:pt x="11" y="14"/>
                                </a:lnTo>
                                <a:lnTo>
                                  <a:pt x="35" y="0"/>
                                </a:lnTo>
                                <a:lnTo>
                                  <a:pt x="21" y="19"/>
                                </a:lnTo>
                                <a:lnTo>
                                  <a:pt x="13" y="39"/>
                                </a:lnTo>
                                <a:lnTo>
                                  <a:pt x="25" y="45"/>
                                </a:lnTo>
                                <a:lnTo>
                                  <a:pt x="38" y="30"/>
                                </a:lnTo>
                                <a:lnTo>
                                  <a:pt x="32" y="44"/>
                                </a:lnTo>
                                <a:lnTo>
                                  <a:pt x="15" y="6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840" bIns="-248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50" name="Group 53"/>
                      <p:cNvGrpSpPr/>
                      <p:nvPr/>
                    </p:nvGrpSpPr>
                    <p:grpSpPr>
                      <a:xfrm>
                        <a:off x="644400" y="5300280"/>
                        <a:ext cx="103320" cy="48600"/>
                        <a:chOff x="644400" y="5300280"/>
                        <a:chExt cx="103320" cy="48600"/>
                      </a:xfrm>
                    </p:grpSpPr>
                    <p:sp>
                      <p:nvSpPr>
                        <p:cNvPr id="251" name="Freeform 54"/>
                        <p:cNvSpPr/>
                        <p:nvPr/>
                      </p:nvSpPr>
                      <p:spPr>
                        <a:xfrm>
                          <a:off x="644400" y="5300280"/>
                          <a:ext cx="103320" cy="48600"/>
                        </a:xfrm>
                        <a:custGeom>
                          <a:avLst/>
                          <a:gdLst>
                            <a:gd name="textAreaLeft" fmla="*/ 0 w 103320"/>
                            <a:gd name="textAreaRight" fmla="*/ 103680 w 103320"/>
                            <a:gd name="textAreaTop" fmla="*/ 0 h 48600"/>
                            <a:gd name="textAreaBottom" fmla="*/ 48960 h 48600"/>
                          </a:gdLst>
                          <a:ahLst/>
                          <a:rect l="textAreaLeft" t="textAreaTop" r="textAreaRight" b="textAreaBottom"/>
                          <a:pathLst>
                            <a:path w="324" h="159">
                              <a:moveTo>
                                <a:pt x="19" y="39"/>
                              </a:moveTo>
                              <a:lnTo>
                                <a:pt x="78" y="42"/>
                              </a:lnTo>
                              <a:lnTo>
                                <a:pt x="119" y="41"/>
                              </a:lnTo>
                              <a:lnTo>
                                <a:pt x="168" y="19"/>
                              </a:lnTo>
                              <a:lnTo>
                                <a:pt x="209" y="2"/>
                              </a:lnTo>
                              <a:lnTo>
                                <a:pt x="246" y="0"/>
                              </a:lnTo>
                              <a:lnTo>
                                <a:pt x="263" y="15"/>
                              </a:lnTo>
                              <a:lnTo>
                                <a:pt x="288" y="25"/>
                              </a:lnTo>
                              <a:lnTo>
                                <a:pt x="317" y="28"/>
                              </a:lnTo>
                              <a:lnTo>
                                <a:pt x="324" y="42"/>
                              </a:lnTo>
                              <a:lnTo>
                                <a:pt x="321" y="72"/>
                              </a:lnTo>
                              <a:lnTo>
                                <a:pt x="315" y="92"/>
                              </a:lnTo>
                              <a:lnTo>
                                <a:pt x="301" y="108"/>
                              </a:lnTo>
                              <a:lnTo>
                                <a:pt x="279" y="128"/>
                              </a:lnTo>
                              <a:lnTo>
                                <a:pt x="269" y="145"/>
                              </a:lnTo>
                              <a:lnTo>
                                <a:pt x="254" y="158"/>
                              </a:lnTo>
                              <a:lnTo>
                                <a:pt x="241" y="159"/>
                              </a:lnTo>
                              <a:lnTo>
                                <a:pt x="222" y="143"/>
                              </a:lnTo>
                              <a:lnTo>
                                <a:pt x="211" y="150"/>
                              </a:lnTo>
                              <a:lnTo>
                                <a:pt x="192" y="151"/>
                              </a:lnTo>
                              <a:lnTo>
                                <a:pt x="179" y="127"/>
                              </a:lnTo>
                              <a:lnTo>
                                <a:pt x="170" y="130"/>
                              </a:lnTo>
                              <a:lnTo>
                                <a:pt x="158" y="130"/>
                              </a:lnTo>
                              <a:lnTo>
                                <a:pt x="151" y="118"/>
                              </a:lnTo>
                              <a:lnTo>
                                <a:pt x="136" y="127"/>
                              </a:lnTo>
                              <a:lnTo>
                                <a:pt x="123" y="133"/>
                              </a:lnTo>
                              <a:lnTo>
                                <a:pt x="106" y="127"/>
                              </a:lnTo>
                              <a:lnTo>
                                <a:pt x="103" y="115"/>
                              </a:lnTo>
                              <a:lnTo>
                                <a:pt x="101" y="101"/>
                              </a:lnTo>
                              <a:lnTo>
                                <a:pt x="75" y="104"/>
                              </a:lnTo>
                              <a:lnTo>
                                <a:pt x="54" y="108"/>
                              </a:lnTo>
                              <a:lnTo>
                                <a:pt x="50" y="101"/>
                              </a:lnTo>
                              <a:lnTo>
                                <a:pt x="32" y="101"/>
                              </a:lnTo>
                              <a:lnTo>
                                <a:pt x="8" y="83"/>
                              </a:lnTo>
                              <a:lnTo>
                                <a:pt x="0" y="65"/>
                              </a:lnTo>
                              <a:lnTo>
                                <a:pt x="4" y="56"/>
                              </a:lnTo>
                              <a:lnTo>
                                <a:pt x="1" y="41"/>
                              </a:lnTo>
                              <a:lnTo>
                                <a:pt x="19" y="3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8040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" bIns="2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grpSp>
                      <p:nvGrpSpPr>
                        <p:cNvPr id="252" name="Group 55"/>
                        <p:cNvGrpSpPr/>
                        <p:nvPr/>
                      </p:nvGrpSpPr>
                      <p:grpSpPr>
                        <a:xfrm>
                          <a:off x="658800" y="5307840"/>
                          <a:ext cx="77760" cy="37440"/>
                          <a:chOff x="658800" y="5307840"/>
                          <a:chExt cx="77760" cy="37440"/>
                        </a:xfrm>
                      </p:grpSpPr>
                      <p:sp>
                        <p:nvSpPr>
                          <p:cNvPr id="253" name="Freeform 56"/>
                          <p:cNvSpPr/>
                          <p:nvPr/>
                        </p:nvSpPr>
                        <p:spPr>
                          <a:xfrm>
                            <a:off x="658800" y="5320080"/>
                            <a:ext cx="23760" cy="10800"/>
                          </a:xfrm>
                          <a:custGeom>
                            <a:avLst/>
                            <a:gdLst>
                              <a:gd name="textAreaLeft" fmla="*/ 0 w 23760"/>
                              <a:gd name="textAreaRight" fmla="*/ 24120 w 23760"/>
                              <a:gd name="textAreaTop" fmla="*/ 0 h 10800"/>
                              <a:gd name="textAreaBottom" fmla="*/ 11160 h 10800"/>
                            </a:gdLst>
                            <a:ahLst/>
                            <a:rect l="textAreaLeft" t="textAreaTop" r="textAreaRight" b="textAreaBottom"/>
                            <a:pathLst>
                              <a:path w="75" h="36">
                                <a:moveTo>
                                  <a:pt x="0" y="36"/>
                                </a:moveTo>
                                <a:lnTo>
                                  <a:pt x="39" y="24"/>
                                </a:lnTo>
                                <a:lnTo>
                                  <a:pt x="75" y="0"/>
                                </a:lnTo>
                                <a:lnTo>
                                  <a:pt x="61" y="18"/>
                                </a:lnTo>
                                <a:lnTo>
                                  <a:pt x="45" y="30"/>
                                </a:lnTo>
                                <a:lnTo>
                                  <a:pt x="0" y="3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5640" bIns="-356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254" name="Freeform 57"/>
                          <p:cNvSpPr/>
                          <p:nvPr/>
                        </p:nvSpPr>
                        <p:spPr>
                          <a:xfrm>
                            <a:off x="690480" y="5307840"/>
                            <a:ext cx="19080" cy="29520"/>
                          </a:xfrm>
                          <a:custGeom>
                            <a:avLst/>
                            <a:gdLst>
                              <a:gd name="textAreaLeft" fmla="*/ 0 w 19080"/>
                              <a:gd name="textAreaRight" fmla="*/ 19440 w 19080"/>
                              <a:gd name="textAreaTop" fmla="*/ 0 h 29520"/>
                              <a:gd name="textAreaBottom" fmla="*/ 29880 h 29520"/>
                            </a:gdLst>
                            <a:ahLst/>
                            <a:rect l="textAreaLeft" t="textAreaTop" r="textAreaRight" b="textAreaBottom"/>
                            <a:pathLst>
                              <a:path w="61" h="97">
                                <a:moveTo>
                                  <a:pt x="0" y="97"/>
                                </a:moveTo>
                                <a:lnTo>
                                  <a:pt x="21" y="65"/>
                                </a:lnTo>
                                <a:lnTo>
                                  <a:pt x="61" y="0"/>
                                </a:lnTo>
                                <a:lnTo>
                                  <a:pt x="49" y="39"/>
                                </a:lnTo>
                                <a:lnTo>
                                  <a:pt x="42" y="67"/>
                                </a:lnTo>
                                <a:lnTo>
                                  <a:pt x="0" y="9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920" bIns="-169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255" name="Freeform 58"/>
                          <p:cNvSpPr/>
                          <p:nvPr/>
                        </p:nvSpPr>
                        <p:spPr>
                          <a:xfrm>
                            <a:off x="714240" y="5307840"/>
                            <a:ext cx="12600" cy="37440"/>
                          </a:xfrm>
                          <a:custGeom>
                            <a:avLst/>
                            <a:gdLst>
                              <a:gd name="textAreaLeft" fmla="*/ 0 w 12600"/>
                              <a:gd name="textAreaRight" fmla="*/ 12960 w 12600"/>
                              <a:gd name="textAreaTop" fmla="*/ 0 h 37440"/>
                              <a:gd name="textAreaBottom" fmla="*/ 37800 h 37440"/>
                            </a:gdLst>
                            <a:ahLst/>
                            <a:rect l="textAreaLeft" t="textAreaTop" r="textAreaRight" b="textAreaBottom"/>
                            <a:pathLst>
                              <a:path w="44" h="117">
                                <a:moveTo>
                                  <a:pt x="0" y="117"/>
                                </a:moveTo>
                                <a:lnTo>
                                  <a:pt x="32" y="91"/>
                                </a:lnTo>
                                <a:lnTo>
                                  <a:pt x="31" y="38"/>
                                </a:lnTo>
                                <a:lnTo>
                                  <a:pt x="9" y="0"/>
                                </a:lnTo>
                                <a:lnTo>
                                  <a:pt x="35" y="36"/>
                                </a:lnTo>
                                <a:lnTo>
                                  <a:pt x="44" y="72"/>
                                </a:lnTo>
                                <a:lnTo>
                                  <a:pt x="41" y="102"/>
                                </a:lnTo>
                                <a:lnTo>
                                  <a:pt x="0" y="11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9000" bIns="-9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256" name="Freeform 59"/>
                          <p:cNvSpPr/>
                          <p:nvPr/>
                        </p:nvSpPr>
                        <p:spPr>
                          <a:xfrm>
                            <a:off x="733320" y="5320080"/>
                            <a:ext cx="3240" cy="14040"/>
                          </a:xfrm>
                          <a:custGeom>
                            <a:avLst/>
                            <a:gdLst>
                              <a:gd name="textAreaLeft" fmla="*/ 0 w 3240"/>
                              <a:gd name="textAreaRight" fmla="*/ 3600 w 3240"/>
                              <a:gd name="textAreaTop" fmla="*/ 0 h 14040"/>
                              <a:gd name="textAreaBottom" fmla="*/ 14400 h 14040"/>
                            </a:gdLst>
                            <a:ahLst/>
                            <a:rect l="textAreaLeft" t="textAreaTop" r="textAreaRight" b="textAreaBottom"/>
                            <a:pathLst>
                              <a:path w="13" h="45">
                                <a:moveTo>
                                  <a:pt x="0" y="0"/>
                                </a:moveTo>
                                <a:lnTo>
                                  <a:pt x="13" y="29"/>
                                </a:lnTo>
                                <a:lnTo>
                                  <a:pt x="9" y="45"/>
                                </a:lnTo>
                              </a:path>
                            </a:pathLst>
                          </a:custGeom>
                          <a:noFill/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2400" bIns="-324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257" name="Group 60"/>
                    <p:cNvGrpSpPr/>
                    <p:nvPr/>
                  </p:nvGrpSpPr>
                  <p:grpSpPr>
                    <a:xfrm>
                      <a:off x="672840" y="5212800"/>
                      <a:ext cx="123840" cy="105840"/>
                      <a:chOff x="672840" y="5212800"/>
                      <a:chExt cx="123840" cy="105840"/>
                    </a:xfrm>
                  </p:grpSpPr>
                  <p:sp>
                    <p:nvSpPr>
                      <p:cNvPr id="258" name="Freeform 61"/>
                      <p:cNvSpPr/>
                      <p:nvPr/>
                    </p:nvSpPr>
                    <p:spPr>
                      <a:xfrm>
                        <a:off x="728640" y="5250600"/>
                        <a:ext cx="56880" cy="55080"/>
                      </a:xfrm>
                      <a:custGeom>
                        <a:avLst/>
                        <a:gdLst>
                          <a:gd name="textAreaLeft" fmla="*/ 0 w 56880"/>
                          <a:gd name="textAreaRight" fmla="*/ 57240 w 56880"/>
                          <a:gd name="textAreaTop" fmla="*/ 0 h 55080"/>
                          <a:gd name="textAreaBottom" fmla="*/ 55440 h 55080"/>
                        </a:gdLst>
                        <a:ahLst/>
                        <a:rect l="textAreaLeft" t="textAreaTop" r="textAreaRight" b="textAreaBottom"/>
                        <a:pathLst>
                          <a:path w="184" h="171">
                            <a:moveTo>
                              <a:pt x="13" y="68"/>
                            </a:moveTo>
                            <a:lnTo>
                              <a:pt x="34" y="34"/>
                            </a:lnTo>
                            <a:lnTo>
                              <a:pt x="47" y="22"/>
                            </a:lnTo>
                            <a:lnTo>
                              <a:pt x="77" y="7"/>
                            </a:lnTo>
                            <a:lnTo>
                              <a:pt x="109" y="0"/>
                            </a:lnTo>
                            <a:lnTo>
                              <a:pt x="139" y="0"/>
                            </a:lnTo>
                            <a:lnTo>
                              <a:pt x="157" y="5"/>
                            </a:lnTo>
                            <a:lnTo>
                              <a:pt x="174" y="26"/>
                            </a:lnTo>
                            <a:lnTo>
                              <a:pt x="184" y="55"/>
                            </a:lnTo>
                            <a:lnTo>
                              <a:pt x="181" y="85"/>
                            </a:lnTo>
                            <a:lnTo>
                              <a:pt x="165" y="113"/>
                            </a:lnTo>
                            <a:lnTo>
                              <a:pt x="153" y="133"/>
                            </a:lnTo>
                            <a:lnTo>
                              <a:pt x="119" y="153"/>
                            </a:lnTo>
                            <a:lnTo>
                              <a:pt x="77" y="163"/>
                            </a:lnTo>
                            <a:lnTo>
                              <a:pt x="40" y="171"/>
                            </a:lnTo>
                            <a:lnTo>
                              <a:pt x="15" y="163"/>
                            </a:lnTo>
                            <a:lnTo>
                              <a:pt x="2" y="146"/>
                            </a:lnTo>
                            <a:lnTo>
                              <a:pt x="0" y="118"/>
                            </a:lnTo>
                            <a:lnTo>
                              <a:pt x="13" y="68"/>
                            </a:lnTo>
                            <a:close/>
                          </a:path>
                        </a:pathLst>
                      </a:custGeom>
                      <a:solidFill>
                        <a:srgbClr val="f0f0ff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640" bIns="8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59" name="Freeform 62"/>
                      <p:cNvSpPr/>
                      <p:nvPr/>
                    </p:nvSpPr>
                    <p:spPr>
                      <a:xfrm>
                        <a:off x="752400" y="5234760"/>
                        <a:ext cx="44280" cy="32760"/>
                      </a:xfrm>
                      <a:custGeom>
                        <a:avLst/>
                        <a:gdLst>
                          <a:gd name="textAreaLeft" fmla="*/ 0 w 44280"/>
                          <a:gd name="textAreaRight" fmla="*/ 44640 w 44280"/>
                          <a:gd name="textAreaTop" fmla="*/ 0 h 32760"/>
                          <a:gd name="textAreaBottom" fmla="*/ 33120 h 32760"/>
                        </a:gdLst>
                        <a:ahLst/>
                        <a:rect l="textAreaLeft" t="textAreaTop" r="textAreaRight" b="textAreaBottom"/>
                        <a:pathLst>
                          <a:path w="137" h="107">
                            <a:moveTo>
                              <a:pt x="17" y="0"/>
                            </a:moveTo>
                            <a:lnTo>
                              <a:pt x="131" y="63"/>
                            </a:lnTo>
                            <a:lnTo>
                              <a:pt x="136" y="72"/>
                            </a:lnTo>
                            <a:lnTo>
                              <a:pt x="137" y="85"/>
                            </a:lnTo>
                            <a:lnTo>
                              <a:pt x="135" y="95"/>
                            </a:lnTo>
                            <a:lnTo>
                              <a:pt x="131" y="104"/>
                            </a:lnTo>
                            <a:lnTo>
                              <a:pt x="126" y="107"/>
                            </a:lnTo>
                            <a:lnTo>
                              <a:pt x="115" y="107"/>
                            </a:lnTo>
                            <a:lnTo>
                              <a:pt x="11" y="47"/>
                            </a:lnTo>
                            <a:lnTo>
                              <a:pt x="2" y="38"/>
                            </a:lnTo>
                            <a:lnTo>
                              <a:pt x="0" y="26"/>
                            </a:lnTo>
                            <a:lnTo>
                              <a:pt x="2" y="13"/>
                            </a:lnTo>
                            <a:lnTo>
                              <a:pt x="6" y="7"/>
                            </a:lnTo>
                            <a:lnTo>
                              <a:pt x="12" y="1"/>
                            </a:lnTo>
                            <a:lnTo>
                              <a:pt x="17" y="0"/>
                            </a:lnTo>
                            <a:close/>
                          </a:path>
                        </a:pathLst>
                      </a:custGeom>
                      <a:solidFill>
                        <a:srgbClr val="c08040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60" name="Freeform 63"/>
                      <p:cNvSpPr/>
                      <p:nvPr/>
                    </p:nvSpPr>
                    <p:spPr>
                      <a:xfrm>
                        <a:off x="714240" y="5236200"/>
                        <a:ext cx="79200" cy="82440"/>
                      </a:xfrm>
                      <a:custGeom>
                        <a:avLst/>
                        <a:gdLst>
                          <a:gd name="textAreaLeft" fmla="*/ 0 w 79200"/>
                          <a:gd name="textAreaRight" fmla="*/ 79560 w 79200"/>
                          <a:gd name="textAreaTop" fmla="*/ 0 h 82440"/>
                          <a:gd name="textAreaBottom" fmla="*/ 82800 h 82440"/>
                        </a:gdLst>
                        <a:ahLst/>
                        <a:rect l="textAreaLeft" t="textAreaTop" r="textAreaRight" b="textAreaBottom"/>
                        <a:pathLst>
                          <a:path w="250" h="260">
                            <a:moveTo>
                              <a:pt x="77" y="0"/>
                            </a:moveTo>
                            <a:lnTo>
                              <a:pt x="150" y="60"/>
                            </a:lnTo>
                            <a:lnTo>
                              <a:pt x="180" y="87"/>
                            </a:lnTo>
                            <a:lnTo>
                              <a:pt x="211" y="118"/>
                            </a:lnTo>
                            <a:lnTo>
                              <a:pt x="229" y="143"/>
                            </a:lnTo>
                            <a:lnTo>
                              <a:pt x="246" y="168"/>
                            </a:lnTo>
                            <a:lnTo>
                              <a:pt x="250" y="198"/>
                            </a:lnTo>
                            <a:lnTo>
                              <a:pt x="247" y="228"/>
                            </a:lnTo>
                            <a:lnTo>
                              <a:pt x="234" y="247"/>
                            </a:lnTo>
                            <a:lnTo>
                              <a:pt x="211" y="260"/>
                            </a:lnTo>
                            <a:lnTo>
                              <a:pt x="155" y="260"/>
                            </a:lnTo>
                            <a:lnTo>
                              <a:pt x="116" y="254"/>
                            </a:lnTo>
                            <a:lnTo>
                              <a:pt x="58" y="238"/>
                            </a:lnTo>
                            <a:lnTo>
                              <a:pt x="47" y="221"/>
                            </a:lnTo>
                            <a:lnTo>
                              <a:pt x="29" y="198"/>
                            </a:lnTo>
                            <a:lnTo>
                              <a:pt x="0" y="186"/>
                            </a:lnTo>
                            <a:lnTo>
                              <a:pt x="26" y="148"/>
                            </a:lnTo>
                            <a:lnTo>
                              <a:pt x="26" y="60"/>
                            </a:lnTo>
                            <a:lnTo>
                              <a:pt x="77" y="0"/>
                            </a:lnTo>
                            <a:close/>
                          </a:path>
                        </a:pathLst>
                      </a:custGeom>
                      <a:solidFill>
                        <a:srgbClr val="e0a080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000" bIns="36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grpSp>
                    <p:nvGrpSpPr>
                      <p:cNvPr id="261" name="Group 64"/>
                      <p:cNvGrpSpPr/>
                      <p:nvPr/>
                    </p:nvGrpSpPr>
                    <p:grpSpPr>
                      <a:xfrm>
                        <a:off x="672840" y="5212800"/>
                        <a:ext cx="74880" cy="72360"/>
                        <a:chOff x="672840" y="5212800"/>
                        <a:chExt cx="74880" cy="72360"/>
                      </a:xfrm>
                    </p:grpSpPr>
                    <p:sp>
                      <p:nvSpPr>
                        <p:cNvPr id="262" name="Freeform 65"/>
                        <p:cNvSpPr/>
                        <p:nvPr/>
                      </p:nvSpPr>
                      <p:spPr>
                        <a:xfrm>
                          <a:off x="672840" y="5230080"/>
                          <a:ext cx="60480" cy="55080"/>
                        </a:xfrm>
                        <a:custGeom>
                          <a:avLst/>
                          <a:gdLst>
                            <a:gd name="textAreaLeft" fmla="*/ 0 w 60480"/>
                            <a:gd name="textAreaRight" fmla="*/ 60840 w 60480"/>
                            <a:gd name="textAreaTop" fmla="*/ 0 h 55080"/>
                            <a:gd name="textAreaBottom" fmla="*/ 55440 h 55080"/>
                          </a:gdLst>
                          <a:ahLst/>
                          <a:rect l="textAreaLeft" t="textAreaTop" r="textAreaRight" b="textAreaBottom"/>
                          <a:pathLst>
                            <a:path w="186" h="172">
                              <a:moveTo>
                                <a:pt x="13" y="70"/>
                              </a:moveTo>
                              <a:lnTo>
                                <a:pt x="35" y="36"/>
                              </a:lnTo>
                              <a:lnTo>
                                <a:pt x="48" y="22"/>
                              </a:lnTo>
                              <a:lnTo>
                                <a:pt x="77" y="7"/>
                              </a:lnTo>
                              <a:lnTo>
                                <a:pt x="112" y="0"/>
                              </a:lnTo>
                              <a:lnTo>
                                <a:pt x="141" y="0"/>
                              </a:lnTo>
                              <a:lnTo>
                                <a:pt x="160" y="6"/>
                              </a:lnTo>
                              <a:lnTo>
                                <a:pt x="177" y="27"/>
                              </a:lnTo>
                              <a:lnTo>
                                <a:pt x="186" y="56"/>
                              </a:lnTo>
                              <a:lnTo>
                                <a:pt x="184" y="88"/>
                              </a:lnTo>
                              <a:lnTo>
                                <a:pt x="167" y="116"/>
                              </a:lnTo>
                              <a:lnTo>
                                <a:pt x="154" y="134"/>
                              </a:lnTo>
                              <a:lnTo>
                                <a:pt x="121" y="153"/>
                              </a:lnTo>
                              <a:lnTo>
                                <a:pt x="77" y="163"/>
                              </a:lnTo>
                              <a:lnTo>
                                <a:pt x="42" y="172"/>
                              </a:lnTo>
                              <a:lnTo>
                                <a:pt x="17" y="163"/>
                              </a:lnTo>
                              <a:lnTo>
                                <a:pt x="4" y="147"/>
                              </a:lnTo>
                              <a:lnTo>
                                <a:pt x="0" y="120"/>
                              </a:lnTo>
                              <a:lnTo>
                                <a:pt x="13" y="7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0f0ff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63" name="Oval 66"/>
                        <p:cNvSpPr/>
                        <p:nvPr/>
                      </p:nvSpPr>
                      <p:spPr>
                        <a:xfrm>
                          <a:off x="680760" y="5269680"/>
                          <a:ext cx="15840" cy="13680"/>
                        </a:xfrm>
                        <a:prstGeom prst="ellipse">
                          <a:avLst/>
                        </a:prstGeom>
                        <a:solidFill>
                          <a:srgbClr val="008080"/>
                        </a:solidFill>
                        <a:ln w="3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720" bIns="-3672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64" name="Freeform 67"/>
                        <p:cNvSpPr/>
                        <p:nvPr/>
                      </p:nvSpPr>
                      <p:spPr>
                        <a:xfrm>
                          <a:off x="687240" y="5212800"/>
                          <a:ext cx="60480" cy="36000"/>
                        </a:xfrm>
                        <a:custGeom>
                          <a:avLst/>
                          <a:gdLst>
                            <a:gd name="textAreaLeft" fmla="*/ 0 w 60480"/>
                            <a:gd name="textAreaRight" fmla="*/ 60840 w 60480"/>
                            <a:gd name="textAreaTop" fmla="*/ 0 h 36000"/>
                            <a:gd name="textAreaBottom" fmla="*/ 36360 h 36000"/>
                          </a:gdLst>
                          <a:ahLst/>
                          <a:rect l="textAreaLeft" t="textAreaTop" r="textAreaRight" b="textAreaBottom"/>
                          <a:pathLst>
                            <a:path w="193" h="112">
                              <a:moveTo>
                                <a:pt x="28" y="0"/>
                              </a:moveTo>
                              <a:lnTo>
                                <a:pt x="185" y="66"/>
                              </a:lnTo>
                              <a:lnTo>
                                <a:pt x="191" y="75"/>
                              </a:lnTo>
                              <a:lnTo>
                                <a:pt x="193" y="89"/>
                              </a:lnTo>
                              <a:lnTo>
                                <a:pt x="189" y="99"/>
                              </a:lnTo>
                              <a:lnTo>
                                <a:pt x="184" y="108"/>
                              </a:lnTo>
                              <a:lnTo>
                                <a:pt x="176" y="111"/>
                              </a:lnTo>
                              <a:lnTo>
                                <a:pt x="162" y="112"/>
                              </a:lnTo>
                              <a:lnTo>
                                <a:pt x="16" y="49"/>
                              </a:lnTo>
                              <a:lnTo>
                                <a:pt x="4" y="40"/>
                              </a:lnTo>
                              <a:lnTo>
                                <a:pt x="0" y="27"/>
                              </a:lnTo>
                              <a:lnTo>
                                <a:pt x="4" y="14"/>
                              </a:lnTo>
                              <a:lnTo>
                                <a:pt x="9" y="8"/>
                              </a:lnTo>
                              <a:lnTo>
                                <a:pt x="17" y="2"/>
                              </a:lnTo>
                              <a:lnTo>
                                <a:pt x="28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8040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440" bIns="-104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65" name="Group 68"/>
                    <p:cNvGrpSpPr/>
                    <p:nvPr/>
                  </p:nvGrpSpPr>
                  <p:grpSpPr>
                    <a:xfrm>
                      <a:off x="517320" y="5266800"/>
                      <a:ext cx="58680" cy="67680"/>
                      <a:chOff x="517320" y="5266800"/>
                      <a:chExt cx="58680" cy="67680"/>
                    </a:xfrm>
                  </p:grpSpPr>
                  <p:sp>
                    <p:nvSpPr>
                      <p:cNvPr id="266" name="Freeform 69"/>
                      <p:cNvSpPr/>
                      <p:nvPr/>
                    </p:nvSpPr>
                    <p:spPr>
                      <a:xfrm>
                        <a:off x="517320" y="5266800"/>
                        <a:ext cx="52560" cy="66240"/>
                      </a:xfrm>
                      <a:custGeom>
                        <a:avLst/>
                        <a:gdLst>
                          <a:gd name="textAreaLeft" fmla="*/ 0 w 52560"/>
                          <a:gd name="textAreaRight" fmla="*/ 52920 w 52560"/>
                          <a:gd name="textAreaTop" fmla="*/ 0 h 66240"/>
                          <a:gd name="textAreaBottom" fmla="*/ 66600 h 66240"/>
                        </a:gdLst>
                        <a:ahLst/>
                        <a:rect l="textAreaLeft" t="textAreaTop" r="textAreaRight" b="textAreaBottom"/>
                        <a:pathLst>
                          <a:path w="164" h="210">
                            <a:moveTo>
                              <a:pt x="133" y="33"/>
                            </a:moveTo>
                            <a:lnTo>
                              <a:pt x="107" y="6"/>
                            </a:lnTo>
                            <a:lnTo>
                              <a:pt x="89" y="1"/>
                            </a:lnTo>
                            <a:lnTo>
                              <a:pt x="57" y="0"/>
                            </a:lnTo>
                            <a:lnTo>
                              <a:pt x="30" y="16"/>
                            </a:lnTo>
                            <a:lnTo>
                              <a:pt x="15" y="33"/>
                            </a:lnTo>
                            <a:lnTo>
                              <a:pt x="4" y="54"/>
                            </a:lnTo>
                            <a:lnTo>
                              <a:pt x="0" y="78"/>
                            </a:lnTo>
                            <a:lnTo>
                              <a:pt x="1" y="105"/>
                            </a:lnTo>
                            <a:lnTo>
                              <a:pt x="10" y="135"/>
                            </a:lnTo>
                            <a:lnTo>
                              <a:pt x="28" y="159"/>
                            </a:lnTo>
                            <a:lnTo>
                              <a:pt x="48" y="172"/>
                            </a:lnTo>
                            <a:lnTo>
                              <a:pt x="73" y="182"/>
                            </a:lnTo>
                            <a:lnTo>
                              <a:pt x="86" y="201"/>
                            </a:lnTo>
                            <a:lnTo>
                              <a:pt x="99" y="208"/>
                            </a:lnTo>
                            <a:lnTo>
                              <a:pt x="114" y="210"/>
                            </a:lnTo>
                            <a:lnTo>
                              <a:pt x="132" y="206"/>
                            </a:lnTo>
                            <a:lnTo>
                              <a:pt x="151" y="194"/>
                            </a:lnTo>
                            <a:lnTo>
                              <a:pt x="160" y="176"/>
                            </a:lnTo>
                            <a:lnTo>
                              <a:pt x="164" y="150"/>
                            </a:lnTo>
                            <a:lnTo>
                              <a:pt x="154" y="125"/>
                            </a:lnTo>
                            <a:lnTo>
                              <a:pt x="153" y="99"/>
                            </a:lnTo>
                            <a:lnTo>
                              <a:pt x="145" y="63"/>
                            </a:lnTo>
                            <a:lnTo>
                              <a:pt x="133" y="33"/>
                            </a:lnTo>
                            <a:close/>
                          </a:path>
                        </a:pathLst>
                      </a:custGeom>
                      <a:solidFill>
                        <a:srgbClr val="e0a080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9800" bIns="19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67" name="Freeform 70"/>
                      <p:cNvSpPr/>
                      <p:nvPr/>
                    </p:nvSpPr>
                    <p:spPr>
                      <a:xfrm>
                        <a:off x="523800" y="5269680"/>
                        <a:ext cx="52200" cy="64800"/>
                      </a:xfrm>
                      <a:custGeom>
                        <a:avLst/>
                        <a:gdLst>
                          <a:gd name="textAreaLeft" fmla="*/ 0 w 52200"/>
                          <a:gd name="textAreaRight" fmla="*/ 52560 w 52200"/>
                          <a:gd name="textAreaTop" fmla="*/ 0 h 64800"/>
                          <a:gd name="textAreaBottom" fmla="*/ 65160 h 64800"/>
                        </a:gdLst>
                        <a:ahLst/>
                        <a:rect l="textAreaLeft" t="textAreaTop" r="textAreaRight" b="textAreaBottom"/>
                        <a:pathLst>
                          <a:path w="169" h="204">
                            <a:moveTo>
                              <a:pt x="138" y="31"/>
                            </a:moveTo>
                            <a:lnTo>
                              <a:pt x="110" y="6"/>
                            </a:lnTo>
                            <a:lnTo>
                              <a:pt x="92" y="1"/>
                            </a:lnTo>
                            <a:lnTo>
                              <a:pt x="59" y="0"/>
                            </a:lnTo>
                            <a:lnTo>
                              <a:pt x="31" y="13"/>
                            </a:lnTo>
                            <a:lnTo>
                              <a:pt x="15" y="31"/>
                            </a:lnTo>
                            <a:lnTo>
                              <a:pt x="5" y="52"/>
                            </a:lnTo>
                            <a:lnTo>
                              <a:pt x="0" y="75"/>
                            </a:lnTo>
                            <a:lnTo>
                              <a:pt x="1" y="101"/>
                            </a:lnTo>
                            <a:lnTo>
                              <a:pt x="10" y="131"/>
                            </a:lnTo>
                            <a:lnTo>
                              <a:pt x="28" y="155"/>
                            </a:lnTo>
                            <a:lnTo>
                              <a:pt x="50" y="168"/>
                            </a:lnTo>
                            <a:lnTo>
                              <a:pt x="74" y="176"/>
                            </a:lnTo>
                            <a:lnTo>
                              <a:pt x="88" y="195"/>
                            </a:lnTo>
                            <a:lnTo>
                              <a:pt x="101" y="201"/>
                            </a:lnTo>
                            <a:lnTo>
                              <a:pt x="116" y="204"/>
                            </a:lnTo>
                            <a:lnTo>
                              <a:pt x="137" y="198"/>
                            </a:lnTo>
                            <a:lnTo>
                              <a:pt x="156" y="188"/>
                            </a:lnTo>
                            <a:lnTo>
                              <a:pt x="164" y="172"/>
                            </a:lnTo>
                            <a:lnTo>
                              <a:pt x="169" y="145"/>
                            </a:lnTo>
                            <a:lnTo>
                              <a:pt x="159" y="121"/>
                            </a:lnTo>
                            <a:lnTo>
                              <a:pt x="158" y="96"/>
                            </a:lnTo>
                            <a:lnTo>
                              <a:pt x="150" y="62"/>
                            </a:lnTo>
                            <a:lnTo>
                              <a:pt x="138" y="31"/>
                            </a:lnTo>
                            <a:close/>
                          </a:path>
                        </a:pathLst>
                      </a:custGeom>
                      <a:solidFill>
                        <a:srgbClr val="e0a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360" bIns="18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</p:grpSp>
              </p:grpSp>
              <p:grpSp>
                <p:nvGrpSpPr>
                  <p:cNvPr id="268" name="Group 71"/>
                  <p:cNvGrpSpPr/>
                  <p:nvPr/>
                </p:nvGrpSpPr>
                <p:grpSpPr>
                  <a:xfrm>
                    <a:off x="423720" y="5330160"/>
                    <a:ext cx="384120" cy="337680"/>
                    <a:chOff x="423720" y="5330160"/>
                    <a:chExt cx="384120" cy="337680"/>
                  </a:xfrm>
                </p:grpSpPr>
                <p:sp>
                  <p:nvSpPr>
                    <p:cNvPr id="269" name="Freeform 72"/>
                    <p:cNvSpPr/>
                    <p:nvPr/>
                  </p:nvSpPr>
                  <p:spPr>
                    <a:xfrm>
                      <a:off x="423720" y="5330160"/>
                      <a:ext cx="309600" cy="306000"/>
                    </a:xfrm>
                    <a:custGeom>
                      <a:avLst/>
                      <a:gdLst>
                        <a:gd name="textAreaLeft" fmla="*/ 0 w 309600"/>
                        <a:gd name="textAreaRight" fmla="*/ 309960 w 309600"/>
                        <a:gd name="textAreaTop" fmla="*/ 0 h 306000"/>
                        <a:gd name="textAreaBottom" fmla="*/ 306360 h 306000"/>
                      </a:gdLst>
                      <a:ahLst/>
                      <a:rect l="textAreaLeft" t="textAreaTop" r="textAreaRight" b="textAreaBottom"/>
                      <a:pathLst>
                        <a:path w="975" h="967">
                          <a:moveTo>
                            <a:pt x="265" y="0"/>
                          </a:moveTo>
                          <a:lnTo>
                            <a:pt x="327" y="42"/>
                          </a:lnTo>
                          <a:lnTo>
                            <a:pt x="390" y="83"/>
                          </a:lnTo>
                          <a:lnTo>
                            <a:pt x="446" y="109"/>
                          </a:lnTo>
                          <a:lnTo>
                            <a:pt x="634" y="187"/>
                          </a:lnTo>
                          <a:lnTo>
                            <a:pt x="662" y="306"/>
                          </a:lnTo>
                          <a:lnTo>
                            <a:pt x="686" y="368"/>
                          </a:lnTo>
                          <a:lnTo>
                            <a:pt x="707" y="413"/>
                          </a:lnTo>
                          <a:lnTo>
                            <a:pt x="722" y="459"/>
                          </a:lnTo>
                          <a:lnTo>
                            <a:pt x="732" y="506"/>
                          </a:lnTo>
                          <a:lnTo>
                            <a:pt x="731" y="535"/>
                          </a:lnTo>
                          <a:lnTo>
                            <a:pt x="724" y="570"/>
                          </a:lnTo>
                          <a:lnTo>
                            <a:pt x="728" y="611"/>
                          </a:lnTo>
                          <a:lnTo>
                            <a:pt x="744" y="654"/>
                          </a:lnTo>
                          <a:lnTo>
                            <a:pt x="783" y="670"/>
                          </a:lnTo>
                          <a:lnTo>
                            <a:pt x="843" y="685"/>
                          </a:lnTo>
                          <a:lnTo>
                            <a:pt x="884" y="698"/>
                          </a:lnTo>
                          <a:lnTo>
                            <a:pt x="925" y="730"/>
                          </a:lnTo>
                          <a:lnTo>
                            <a:pt x="951" y="764"/>
                          </a:lnTo>
                          <a:lnTo>
                            <a:pt x="968" y="807"/>
                          </a:lnTo>
                          <a:lnTo>
                            <a:pt x="975" y="856"/>
                          </a:lnTo>
                          <a:lnTo>
                            <a:pt x="965" y="930"/>
                          </a:lnTo>
                          <a:lnTo>
                            <a:pt x="232" y="967"/>
                          </a:lnTo>
                          <a:lnTo>
                            <a:pt x="97" y="964"/>
                          </a:lnTo>
                          <a:lnTo>
                            <a:pt x="71" y="930"/>
                          </a:lnTo>
                          <a:lnTo>
                            <a:pt x="46" y="875"/>
                          </a:lnTo>
                          <a:lnTo>
                            <a:pt x="25" y="814"/>
                          </a:lnTo>
                          <a:lnTo>
                            <a:pt x="13" y="763"/>
                          </a:lnTo>
                          <a:lnTo>
                            <a:pt x="4" y="708"/>
                          </a:lnTo>
                          <a:lnTo>
                            <a:pt x="0" y="657"/>
                          </a:lnTo>
                          <a:lnTo>
                            <a:pt x="10" y="573"/>
                          </a:lnTo>
                          <a:lnTo>
                            <a:pt x="25" y="506"/>
                          </a:lnTo>
                          <a:lnTo>
                            <a:pt x="48" y="432"/>
                          </a:lnTo>
                          <a:lnTo>
                            <a:pt x="74" y="361"/>
                          </a:lnTo>
                          <a:lnTo>
                            <a:pt x="104" y="304"/>
                          </a:lnTo>
                          <a:lnTo>
                            <a:pt x="143" y="240"/>
                          </a:lnTo>
                          <a:lnTo>
                            <a:pt x="192" y="187"/>
                          </a:lnTo>
                          <a:lnTo>
                            <a:pt x="237" y="142"/>
                          </a:lnTo>
                          <a:lnTo>
                            <a:pt x="269" y="119"/>
                          </a:lnTo>
                          <a:lnTo>
                            <a:pt x="195" y="83"/>
                          </a:lnTo>
                          <a:lnTo>
                            <a:pt x="265" y="0"/>
                          </a:lnTo>
                          <a:close/>
                        </a:path>
                      </a:pathLst>
                    </a:custGeom>
                    <a:solidFill>
                      <a:srgbClr val="ff60c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0" name="Freeform 73"/>
                    <p:cNvSpPr/>
                    <p:nvPr/>
                  </p:nvSpPr>
                  <p:spPr>
                    <a:xfrm>
                      <a:off x="630000" y="5491800"/>
                      <a:ext cx="87480" cy="112320"/>
                    </a:xfrm>
                    <a:custGeom>
                      <a:avLst/>
                      <a:gdLst>
                        <a:gd name="textAreaLeft" fmla="*/ 0 w 87480"/>
                        <a:gd name="textAreaRight" fmla="*/ 87840 w 87480"/>
                        <a:gd name="textAreaTop" fmla="*/ 0 h 112320"/>
                        <a:gd name="textAreaBottom" fmla="*/ 112680 h 112320"/>
                      </a:gdLst>
                      <a:ahLst/>
                      <a:rect l="textAreaLeft" t="textAreaTop" r="textAreaRight" b="textAreaBottom"/>
                      <a:pathLst>
                        <a:path w="273" h="354">
                          <a:moveTo>
                            <a:pt x="0" y="0"/>
                          </a:moveTo>
                          <a:lnTo>
                            <a:pt x="10" y="67"/>
                          </a:lnTo>
                          <a:lnTo>
                            <a:pt x="21" y="120"/>
                          </a:lnTo>
                          <a:lnTo>
                            <a:pt x="43" y="162"/>
                          </a:lnTo>
                          <a:lnTo>
                            <a:pt x="60" y="186"/>
                          </a:lnTo>
                          <a:lnTo>
                            <a:pt x="94" y="205"/>
                          </a:lnTo>
                          <a:lnTo>
                            <a:pt x="154" y="227"/>
                          </a:lnTo>
                          <a:lnTo>
                            <a:pt x="206" y="248"/>
                          </a:lnTo>
                          <a:lnTo>
                            <a:pt x="231" y="259"/>
                          </a:lnTo>
                          <a:lnTo>
                            <a:pt x="253" y="283"/>
                          </a:lnTo>
                          <a:lnTo>
                            <a:pt x="266" y="315"/>
                          </a:lnTo>
                          <a:lnTo>
                            <a:pt x="273" y="354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1" name="Freeform 74"/>
                    <p:cNvSpPr/>
                    <p:nvPr/>
                  </p:nvSpPr>
                  <p:spPr>
                    <a:xfrm>
                      <a:off x="507960" y="5369760"/>
                      <a:ext cx="126720" cy="123480"/>
                    </a:xfrm>
                    <a:custGeom>
                      <a:avLst/>
                      <a:gdLst>
                        <a:gd name="textAreaLeft" fmla="*/ 0 w 126720"/>
                        <a:gd name="textAreaRight" fmla="*/ 127080 w 126720"/>
                        <a:gd name="textAreaTop" fmla="*/ 0 h 123480"/>
                        <a:gd name="textAreaBottom" fmla="*/ 123840 h 123480"/>
                      </a:gdLst>
                      <a:ahLst/>
                      <a:rect l="textAreaLeft" t="textAreaTop" r="textAreaRight" b="textAreaBottom"/>
                      <a:pathLst>
                        <a:path w="401" h="390">
                          <a:moveTo>
                            <a:pt x="0" y="7"/>
                          </a:moveTo>
                          <a:lnTo>
                            <a:pt x="13" y="0"/>
                          </a:lnTo>
                          <a:lnTo>
                            <a:pt x="55" y="31"/>
                          </a:lnTo>
                          <a:lnTo>
                            <a:pt x="109" y="63"/>
                          </a:lnTo>
                          <a:lnTo>
                            <a:pt x="153" y="83"/>
                          </a:lnTo>
                          <a:lnTo>
                            <a:pt x="199" y="108"/>
                          </a:lnTo>
                          <a:lnTo>
                            <a:pt x="263" y="141"/>
                          </a:lnTo>
                          <a:lnTo>
                            <a:pt x="302" y="202"/>
                          </a:lnTo>
                          <a:lnTo>
                            <a:pt x="333" y="311"/>
                          </a:lnTo>
                          <a:lnTo>
                            <a:pt x="362" y="222"/>
                          </a:lnTo>
                          <a:lnTo>
                            <a:pt x="385" y="163"/>
                          </a:lnTo>
                          <a:lnTo>
                            <a:pt x="381" y="128"/>
                          </a:lnTo>
                          <a:lnTo>
                            <a:pt x="394" y="182"/>
                          </a:lnTo>
                          <a:lnTo>
                            <a:pt x="401" y="210"/>
                          </a:lnTo>
                          <a:lnTo>
                            <a:pt x="388" y="235"/>
                          </a:lnTo>
                          <a:lnTo>
                            <a:pt x="369" y="282"/>
                          </a:lnTo>
                          <a:lnTo>
                            <a:pt x="346" y="339"/>
                          </a:lnTo>
                          <a:lnTo>
                            <a:pt x="327" y="390"/>
                          </a:lnTo>
                          <a:lnTo>
                            <a:pt x="302" y="304"/>
                          </a:lnTo>
                          <a:lnTo>
                            <a:pt x="280" y="244"/>
                          </a:lnTo>
                          <a:lnTo>
                            <a:pt x="266" y="186"/>
                          </a:lnTo>
                          <a:lnTo>
                            <a:pt x="202" y="128"/>
                          </a:lnTo>
                          <a:lnTo>
                            <a:pt x="90" y="69"/>
                          </a:lnTo>
                          <a:lnTo>
                            <a:pt x="0" y="7"/>
                          </a:lnTo>
                          <a:close/>
                        </a:path>
                      </a:pathLst>
                    </a:custGeom>
                    <a:solidFill>
                      <a:srgbClr val="e040a0"/>
                    </a:solidFill>
                    <a:ln w="3240">
                      <a:solidFill>
                        <a:srgbClr val="e040a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Freeform 75"/>
                    <p:cNvSpPr/>
                    <p:nvPr/>
                  </p:nvSpPr>
                  <p:spPr>
                    <a:xfrm>
                      <a:off x="514080" y="5434560"/>
                      <a:ext cx="54000" cy="102960"/>
                    </a:xfrm>
                    <a:custGeom>
                      <a:avLst/>
                      <a:gdLst>
                        <a:gd name="textAreaLeft" fmla="*/ 0 w 54000"/>
                        <a:gd name="textAreaRight" fmla="*/ 54360 w 54000"/>
                        <a:gd name="textAreaTop" fmla="*/ 0 h 102960"/>
                        <a:gd name="textAreaBottom" fmla="*/ 103320 h 102960"/>
                      </a:gdLst>
                      <a:ahLst/>
                      <a:rect l="textAreaLeft" t="textAreaTop" r="textAreaRight" b="textAreaBottom"/>
                      <a:pathLst>
                        <a:path w="169" h="327">
                          <a:moveTo>
                            <a:pt x="88" y="262"/>
                          </a:moveTo>
                          <a:lnTo>
                            <a:pt x="45" y="220"/>
                          </a:lnTo>
                          <a:lnTo>
                            <a:pt x="31" y="178"/>
                          </a:lnTo>
                          <a:lnTo>
                            <a:pt x="25" y="133"/>
                          </a:lnTo>
                          <a:lnTo>
                            <a:pt x="19" y="73"/>
                          </a:lnTo>
                          <a:lnTo>
                            <a:pt x="43" y="53"/>
                          </a:lnTo>
                          <a:lnTo>
                            <a:pt x="53" y="98"/>
                          </a:lnTo>
                          <a:lnTo>
                            <a:pt x="73" y="119"/>
                          </a:lnTo>
                          <a:lnTo>
                            <a:pt x="81" y="168"/>
                          </a:lnTo>
                          <a:lnTo>
                            <a:pt x="94" y="205"/>
                          </a:lnTo>
                          <a:lnTo>
                            <a:pt x="124" y="237"/>
                          </a:lnTo>
                          <a:lnTo>
                            <a:pt x="147" y="276"/>
                          </a:lnTo>
                          <a:lnTo>
                            <a:pt x="169" y="327"/>
                          </a:lnTo>
                          <a:lnTo>
                            <a:pt x="166" y="283"/>
                          </a:lnTo>
                          <a:lnTo>
                            <a:pt x="160" y="248"/>
                          </a:lnTo>
                          <a:lnTo>
                            <a:pt x="131" y="219"/>
                          </a:lnTo>
                          <a:lnTo>
                            <a:pt x="111" y="181"/>
                          </a:lnTo>
                          <a:lnTo>
                            <a:pt x="95" y="139"/>
                          </a:lnTo>
                          <a:lnTo>
                            <a:pt x="83" y="101"/>
                          </a:lnTo>
                          <a:lnTo>
                            <a:pt x="66" y="73"/>
                          </a:lnTo>
                          <a:lnTo>
                            <a:pt x="61" y="35"/>
                          </a:lnTo>
                          <a:lnTo>
                            <a:pt x="51" y="15"/>
                          </a:lnTo>
                          <a:lnTo>
                            <a:pt x="39" y="0"/>
                          </a:lnTo>
                          <a:lnTo>
                            <a:pt x="18" y="37"/>
                          </a:lnTo>
                          <a:lnTo>
                            <a:pt x="0" y="88"/>
                          </a:lnTo>
                          <a:lnTo>
                            <a:pt x="13" y="98"/>
                          </a:lnTo>
                          <a:lnTo>
                            <a:pt x="13" y="136"/>
                          </a:lnTo>
                          <a:lnTo>
                            <a:pt x="21" y="184"/>
                          </a:lnTo>
                          <a:lnTo>
                            <a:pt x="32" y="219"/>
                          </a:lnTo>
                          <a:lnTo>
                            <a:pt x="53" y="242"/>
                          </a:lnTo>
                          <a:lnTo>
                            <a:pt x="88" y="262"/>
                          </a:lnTo>
                          <a:close/>
                        </a:path>
                      </a:pathLst>
                    </a:custGeom>
                    <a:solidFill>
                      <a:srgbClr val="e040a0"/>
                    </a:solidFill>
                    <a:ln w="3240">
                      <a:solidFill>
                        <a:srgbClr val="e040a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Freeform 76"/>
                    <p:cNvSpPr/>
                    <p:nvPr/>
                  </p:nvSpPr>
                  <p:spPr>
                    <a:xfrm>
                      <a:off x="431640" y="5491800"/>
                      <a:ext cx="30240" cy="71280"/>
                    </a:xfrm>
                    <a:custGeom>
                      <a:avLst/>
                      <a:gdLst>
                        <a:gd name="textAreaLeft" fmla="*/ 0 w 30240"/>
                        <a:gd name="textAreaRight" fmla="*/ 30600 w 30240"/>
                        <a:gd name="textAreaTop" fmla="*/ 0 h 71280"/>
                        <a:gd name="textAreaBottom" fmla="*/ 71640 h 71280"/>
                      </a:gdLst>
                      <a:ahLst/>
                      <a:rect l="textAreaLeft" t="textAreaTop" r="textAreaRight" b="textAreaBottom"/>
                      <a:pathLst>
                        <a:path w="95" h="223">
                          <a:moveTo>
                            <a:pt x="95" y="223"/>
                          </a:moveTo>
                          <a:lnTo>
                            <a:pt x="70" y="214"/>
                          </a:lnTo>
                          <a:lnTo>
                            <a:pt x="46" y="189"/>
                          </a:lnTo>
                          <a:lnTo>
                            <a:pt x="35" y="172"/>
                          </a:lnTo>
                          <a:lnTo>
                            <a:pt x="24" y="131"/>
                          </a:lnTo>
                          <a:lnTo>
                            <a:pt x="18" y="103"/>
                          </a:lnTo>
                          <a:lnTo>
                            <a:pt x="5" y="75"/>
                          </a:lnTo>
                          <a:lnTo>
                            <a:pt x="0" y="44"/>
                          </a:lnTo>
                          <a:lnTo>
                            <a:pt x="9" y="23"/>
                          </a:lnTo>
                          <a:lnTo>
                            <a:pt x="33" y="0"/>
                          </a:lnTo>
                          <a:lnTo>
                            <a:pt x="9" y="22"/>
                          </a:lnTo>
                          <a:lnTo>
                            <a:pt x="3" y="45"/>
                          </a:lnTo>
                          <a:lnTo>
                            <a:pt x="4" y="74"/>
                          </a:lnTo>
                          <a:lnTo>
                            <a:pt x="16" y="99"/>
                          </a:lnTo>
                          <a:lnTo>
                            <a:pt x="28" y="140"/>
                          </a:lnTo>
                          <a:lnTo>
                            <a:pt x="34" y="164"/>
                          </a:lnTo>
                          <a:lnTo>
                            <a:pt x="46" y="191"/>
                          </a:lnTo>
                          <a:lnTo>
                            <a:pt x="72" y="213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Freeform 77"/>
                    <p:cNvSpPr/>
                    <p:nvPr/>
                  </p:nvSpPr>
                  <p:spPr>
                    <a:xfrm>
                      <a:off x="434880" y="5491800"/>
                      <a:ext cx="30240" cy="71280"/>
                    </a:xfrm>
                    <a:custGeom>
                      <a:avLst/>
                      <a:gdLst>
                        <a:gd name="textAreaLeft" fmla="*/ 0 w 30240"/>
                        <a:gd name="textAreaRight" fmla="*/ 30600 w 30240"/>
                        <a:gd name="textAreaTop" fmla="*/ 0 h 71280"/>
                        <a:gd name="textAreaBottom" fmla="*/ 71640 h 71280"/>
                      </a:gdLst>
                      <a:ahLst/>
                      <a:rect l="textAreaLeft" t="textAreaTop" r="textAreaRight" b="textAreaBottom"/>
                      <a:pathLst>
                        <a:path w="92" h="223">
                          <a:moveTo>
                            <a:pt x="92" y="223"/>
                          </a:moveTo>
                          <a:lnTo>
                            <a:pt x="58" y="194"/>
                          </a:lnTo>
                          <a:lnTo>
                            <a:pt x="42" y="169"/>
                          </a:lnTo>
                          <a:lnTo>
                            <a:pt x="36" y="145"/>
                          </a:lnTo>
                          <a:lnTo>
                            <a:pt x="22" y="101"/>
                          </a:lnTo>
                          <a:lnTo>
                            <a:pt x="13" y="73"/>
                          </a:lnTo>
                          <a:lnTo>
                            <a:pt x="8" y="51"/>
                          </a:lnTo>
                          <a:lnTo>
                            <a:pt x="15" y="26"/>
                          </a:lnTo>
                          <a:lnTo>
                            <a:pt x="31" y="0"/>
                          </a:lnTo>
                          <a:lnTo>
                            <a:pt x="7" y="22"/>
                          </a:lnTo>
                          <a:lnTo>
                            <a:pt x="0" y="45"/>
                          </a:lnTo>
                          <a:lnTo>
                            <a:pt x="1" y="74"/>
                          </a:lnTo>
                          <a:lnTo>
                            <a:pt x="13" y="99"/>
                          </a:lnTo>
                          <a:lnTo>
                            <a:pt x="25" y="140"/>
                          </a:lnTo>
                          <a:lnTo>
                            <a:pt x="32" y="164"/>
                          </a:lnTo>
                          <a:lnTo>
                            <a:pt x="44" y="191"/>
                          </a:lnTo>
                          <a:lnTo>
                            <a:pt x="70" y="213"/>
                          </a:lnTo>
                          <a:lnTo>
                            <a:pt x="92" y="223"/>
                          </a:lnTo>
                          <a:close/>
                        </a:path>
                      </a:pathLst>
                    </a:custGeom>
                    <a:solidFill>
                      <a:srgbClr val="e040a0"/>
                    </a:solidFill>
                    <a:ln w="3240">
                      <a:solidFill>
                        <a:srgbClr val="e040a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275" name="Group 78"/>
                    <p:cNvGrpSpPr/>
                    <p:nvPr/>
                  </p:nvGrpSpPr>
                  <p:grpSpPr>
                    <a:xfrm>
                      <a:off x="485640" y="5552280"/>
                      <a:ext cx="322200" cy="115560"/>
                      <a:chOff x="485640" y="5552280"/>
                      <a:chExt cx="322200" cy="115560"/>
                    </a:xfrm>
                  </p:grpSpPr>
                  <p:sp>
                    <p:nvSpPr>
                      <p:cNvPr id="276" name="Freeform 79"/>
                      <p:cNvSpPr/>
                      <p:nvPr/>
                    </p:nvSpPr>
                    <p:spPr>
                      <a:xfrm>
                        <a:off x="485640" y="5552280"/>
                        <a:ext cx="320760" cy="115560"/>
                      </a:xfrm>
                      <a:custGeom>
                        <a:avLst/>
                        <a:gdLst>
                          <a:gd name="textAreaLeft" fmla="*/ 0 w 320760"/>
                          <a:gd name="textAreaRight" fmla="*/ 321120 w 320760"/>
                          <a:gd name="textAreaTop" fmla="*/ 0 h 115560"/>
                          <a:gd name="textAreaBottom" fmla="*/ 115920 h 115560"/>
                        </a:gdLst>
                        <a:ahLst/>
                        <a:rect l="textAreaLeft" t="textAreaTop" r="textAreaRight" b="textAreaBottom"/>
                        <a:pathLst>
                          <a:path w="1011" h="367">
                            <a:moveTo>
                              <a:pt x="243" y="0"/>
                            </a:moveTo>
                            <a:lnTo>
                              <a:pt x="259" y="39"/>
                            </a:lnTo>
                            <a:lnTo>
                              <a:pt x="297" y="89"/>
                            </a:lnTo>
                            <a:lnTo>
                              <a:pt x="361" y="125"/>
                            </a:lnTo>
                            <a:lnTo>
                              <a:pt x="451" y="150"/>
                            </a:lnTo>
                            <a:lnTo>
                              <a:pt x="554" y="173"/>
                            </a:lnTo>
                            <a:lnTo>
                              <a:pt x="637" y="176"/>
                            </a:lnTo>
                            <a:lnTo>
                              <a:pt x="723" y="173"/>
                            </a:lnTo>
                            <a:lnTo>
                              <a:pt x="740" y="163"/>
                            </a:lnTo>
                            <a:lnTo>
                              <a:pt x="764" y="135"/>
                            </a:lnTo>
                            <a:lnTo>
                              <a:pt x="784" y="113"/>
                            </a:lnTo>
                            <a:lnTo>
                              <a:pt x="812" y="95"/>
                            </a:lnTo>
                            <a:lnTo>
                              <a:pt x="821" y="73"/>
                            </a:lnTo>
                            <a:lnTo>
                              <a:pt x="835" y="54"/>
                            </a:lnTo>
                            <a:lnTo>
                              <a:pt x="855" y="45"/>
                            </a:lnTo>
                            <a:lnTo>
                              <a:pt x="879" y="36"/>
                            </a:lnTo>
                            <a:lnTo>
                              <a:pt x="915" y="33"/>
                            </a:lnTo>
                            <a:lnTo>
                              <a:pt x="952" y="41"/>
                            </a:lnTo>
                            <a:lnTo>
                              <a:pt x="984" y="57"/>
                            </a:lnTo>
                            <a:lnTo>
                              <a:pt x="1002" y="76"/>
                            </a:lnTo>
                            <a:lnTo>
                              <a:pt x="1009" y="102"/>
                            </a:lnTo>
                            <a:lnTo>
                              <a:pt x="996" y="154"/>
                            </a:lnTo>
                            <a:lnTo>
                              <a:pt x="1008" y="174"/>
                            </a:lnTo>
                            <a:lnTo>
                              <a:pt x="1011" y="198"/>
                            </a:lnTo>
                            <a:lnTo>
                              <a:pt x="1004" y="216"/>
                            </a:lnTo>
                            <a:lnTo>
                              <a:pt x="985" y="237"/>
                            </a:lnTo>
                            <a:lnTo>
                              <a:pt x="973" y="252"/>
                            </a:lnTo>
                            <a:lnTo>
                              <a:pt x="983" y="273"/>
                            </a:lnTo>
                            <a:lnTo>
                              <a:pt x="980" y="296"/>
                            </a:lnTo>
                            <a:lnTo>
                              <a:pt x="969" y="312"/>
                            </a:lnTo>
                            <a:lnTo>
                              <a:pt x="959" y="327"/>
                            </a:lnTo>
                            <a:lnTo>
                              <a:pt x="953" y="353"/>
                            </a:lnTo>
                            <a:lnTo>
                              <a:pt x="942" y="364"/>
                            </a:lnTo>
                            <a:lnTo>
                              <a:pt x="912" y="367"/>
                            </a:lnTo>
                            <a:lnTo>
                              <a:pt x="869" y="366"/>
                            </a:lnTo>
                            <a:lnTo>
                              <a:pt x="830" y="358"/>
                            </a:lnTo>
                            <a:lnTo>
                              <a:pt x="784" y="345"/>
                            </a:lnTo>
                            <a:lnTo>
                              <a:pt x="754" y="329"/>
                            </a:lnTo>
                            <a:lnTo>
                              <a:pt x="733" y="316"/>
                            </a:lnTo>
                            <a:lnTo>
                              <a:pt x="659" y="326"/>
                            </a:lnTo>
                            <a:lnTo>
                              <a:pt x="560" y="339"/>
                            </a:lnTo>
                            <a:lnTo>
                              <a:pt x="486" y="345"/>
                            </a:lnTo>
                            <a:lnTo>
                              <a:pt x="411" y="345"/>
                            </a:lnTo>
                            <a:lnTo>
                              <a:pt x="314" y="342"/>
                            </a:lnTo>
                            <a:lnTo>
                              <a:pt x="255" y="333"/>
                            </a:lnTo>
                            <a:lnTo>
                              <a:pt x="153" y="294"/>
                            </a:lnTo>
                            <a:lnTo>
                              <a:pt x="89" y="259"/>
                            </a:lnTo>
                            <a:lnTo>
                              <a:pt x="51" y="205"/>
                            </a:lnTo>
                            <a:lnTo>
                              <a:pt x="25" y="184"/>
                            </a:lnTo>
                            <a:lnTo>
                              <a:pt x="0" y="129"/>
                            </a:lnTo>
                            <a:lnTo>
                              <a:pt x="45" y="98"/>
                            </a:lnTo>
                            <a:lnTo>
                              <a:pt x="107" y="87"/>
                            </a:lnTo>
                            <a:lnTo>
                              <a:pt x="177" y="26"/>
                            </a:lnTo>
                            <a:lnTo>
                              <a:pt x="217" y="15"/>
                            </a:lnTo>
                            <a:lnTo>
                              <a:pt x="243" y="0"/>
                            </a:lnTo>
                            <a:close/>
                          </a:path>
                        </a:pathLst>
                      </a:custGeom>
                      <a:solidFill>
                        <a:srgbClr val="e0a080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77" name="Freeform 80"/>
                      <p:cNvSpPr/>
                      <p:nvPr/>
                    </p:nvSpPr>
                    <p:spPr>
                      <a:xfrm>
                        <a:off x="760320" y="5573880"/>
                        <a:ext cx="7920" cy="26640"/>
                      </a:xfrm>
                      <a:custGeom>
                        <a:avLst/>
                        <a:gdLst>
                          <a:gd name="textAreaLeft" fmla="*/ 0 w 7920"/>
                          <a:gd name="textAreaRight" fmla="*/ 8280 w 7920"/>
                          <a:gd name="textAreaTop" fmla="*/ 0 h 26640"/>
                          <a:gd name="textAreaBottom" fmla="*/ 27000 h 26640"/>
                        </a:gdLst>
                        <a:ahLst/>
                        <a:rect l="textAreaLeft" t="textAreaTop" r="textAreaRight" b="textAreaBottom"/>
                        <a:pathLst>
                          <a:path w="23" h="85">
                            <a:moveTo>
                              <a:pt x="23" y="0"/>
                            </a:moveTo>
                            <a:lnTo>
                              <a:pt x="12" y="3"/>
                            </a:lnTo>
                            <a:lnTo>
                              <a:pt x="4" y="15"/>
                            </a:lnTo>
                            <a:lnTo>
                              <a:pt x="0" y="27"/>
                            </a:lnTo>
                            <a:lnTo>
                              <a:pt x="0" y="38"/>
                            </a:lnTo>
                            <a:lnTo>
                              <a:pt x="5" y="62"/>
                            </a:lnTo>
                            <a:lnTo>
                              <a:pt x="4" y="85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78" name="Freeform 81"/>
                      <p:cNvSpPr/>
                      <p:nvPr/>
                    </p:nvSpPr>
                    <p:spPr>
                      <a:xfrm>
                        <a:off x="795240" y="5607360"/>
                        <a:ext cx="12600" cy="4320"/>
                      </a:xfrm>
                      <a:custGeom>
                        <a:avLst/>
                        <a:gdLst>
                          <a:gd name="textAreaLeft" fmla="*/ 0 w 12600"/>
                          <a:gd name="textAreaRight" fmla="*/ 12960 w 12600"/>
                          <a:gd name="textAreaTop" fmla="*/ 0 h 4320"/>
                          <a:gd name="textAreaBottom" fmla="*/ 4680 h 4320"/>
                        </a:gdLst>
                        <a:ahLst/>
                        <a:rect l="textAreaLeft" t="textAreaTop" r="textAreaRight" b="textAreaBottom"/>
                        <a:pathLst>
                          <a:path w="42" h="12">
                            <a:moveTo>
                              <a:pt x="42" y="6"/>
                            </a:moveTo>
                            <a:lnTo>
                              <a:pt x="28" y="12"/>
                            </a:lnTo>
                            <a:lnTo>
                              <a:pt x="10" y="9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79" name="Freeform 82"/>
                      <p:cNvSpPr/>
                      <p:nvPr/>
                    </p:nvSpPr>
                    <p:spPr>
                      <a:xfrm>
                        <a:off x="787320" y="5639040"/>
                        <a:ext cx="14040" cy="4680"/>
                      </a:xfrm>
                      <a:custGeom>
                        <a:avLst/>
                        <a:gdLst>
                          <a:gd name="textAreaLeft" fmla="*/ 0 w 14040"/>
                          <a:gd name="textAreaRight" fmla="*/ 14400 w 14040"/>
                          <a:gd name="textAreaTop" fmla="*/ 0 h 4680"/>
                          <a:gd name="textAreaBottom" fmla="*/ 5040 h 4680"/>
                        </a:gdLst>
                        <a:ahLst/>
                        <a:rect l="textAreaLeft" t="textAreaTop" r="textAreaRight" b="textAreaBottom"/>
                        <a:pathLst>
                          <a:path w="45" h="14">
                            <a:moveTo>
                              <a:pt x="45" y="0"/>
                            </a:moveTo>
                            <a:lnTo>
                              <a:pt x="40" y="11"/>
                            </a:lnTo>
                            <a:lnTo>
                              <a:pt x="26" y="14"/>
                            </a:lnTo>
                            <a:lnTo>
                              <a:pt x="13" y="10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80" name="Freeform 83"/>
                      <p:cNvSpPr/>
                      <p:nvPr/>
                    </p:nvSpPr>
                    <p:spPr>
                      <a:xfrm>
                        <a:off x="703080" y="5617080"/>
                        <a:ext cx="19080" cy="34560"/>
                      </a:xfrm>
                      <a:custGeom>
                        <a:avLst/>
                        <a:gdLst>
                          <a:gd name="textAreaLeft" fmla="*/ 0 w 19080"/>
                          <a:gd name="textAreaRight" fmla="*/ 19440 w 19080"/>
                          <a:gd name="textAreaTop" fmla="*/ 0 h 34560"/>
                          <a:gd name="textAreaBottom" fmla="*/ 34920 h 34560"/>
                        </a:gdLst>
                        <a:ahLst/>
                        <a:rect l="textAreaLeft" t="textAreaTop" r="textAreaRight" b="textAreaBottom"/>
                        <a:pathLst>
                          <a:path w="57" h="109">
                            <a:moveTo>
                              <a:pt x="0" y="0"/>
                            </a:moveTo>
                            <a:lnTo>
                              <a:pt x="18" y="15"/>
                            </a:lnTo>
                            <a:lnTo>
                              <a:pt x="39" y="39"/>
                            </a:lnTo>
                            <a:lnTo>
                              <a:pt x="48" y="67"/>
                            </a:lnTo>
                            <a:lnTo>
                              <a:pt x="57" y="84"/>
                            </a:lnTo>
                            <a:lnTo>
                              <a:pt x="48" y="109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81" name="Freeform 84"/>
                      <p:cNvSpPr/>
                      <p:nvPr/>
                    </p:nvSpPr>
                    <p:spPr>
                      <a:xfrm>
                        <a:off x="761760" y="5596200"/>
                        <a:ext cx="19080" cy="9360"/>
                      </a:xfrm>
                      <a:custGeom>
                        <a:avLst/>
                        <a:gdLst>
                          <a:gd name="textAreaLeft" fmla="*/ 0 w 19080"/>
                          <a:gd name="textAreaRight" fmla="*/ 19440 w 19080"/>
                          <a:gd name="textAreaTop" fmla="*/ 0 h 9360"/>
                          <a:gd name="textAreaBottom" fmla="*/ 9720 h 9360"/>
                        </a:gdLst>
                        <a:ahLst/>
                        <a:rect l="textAreaLeft" t="textAreaTop" r="textAreaRight" b="textAreaBottom"/>
                        <a:pathLst>
                          <a:path w="59" h="30">
                            <a:moveTo>
                              <a:pt x="0" y="30"/>
                            </a:moveTo>
                            <a:lnTo>
                              <a:pt x="11" y="16"/>
                            </a:lnTo>
                            <a:lnTo>
                              <a:pt x="24" y="6"/>
                            </a:lnTo>
                            <a:lnTo>
                              <a:pt x="38" y="0"/>
                            </a:lnTo>
                            <a:lnTo>
                              <a:pt x="59" y="2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82" name="Freeform 85"/>
                      <p:cNvSpPr/>
                      <p:nvPr/>
                    </p:nvSpPr>
                    <p:spPr>
                      <a:xfrm>
                        <a:off x="777600" y="5585040"/>
                        <a:ext cx="11160" cy="10800"/>
                      </a:xfrm>
                      <a:custGeom>
                        <a:avLst/>
                        <a:gdLst>
                          <a:gd name="textAreaLeft" fmla="*/ 0 w 11160"/>
                          <a:gd name="textAreaRight" fmla="*/ 11520 w 11160"/>
                          <a:gd name="textAreaTop" fmla="*/ 0 h 10800"/>
                          <a:gd name="textAreaBottom" fmla="*/ 11160 h 10800"/>
                        </a:gdLst>
                        <a:ahLst/>
                        <a:rect l="textAreaLeft" t="textAreaTop" r="textAreaRight" b="textAreaBottom"/>
                        <a:pathLst>
                          <a:path w="38" h="31">
                            <a:moveTo>
                              <a:pt x="38" y="0"/>
                            </a:moveTo>
                            <a:lnTo>
                              <a:pt x="26" y="0"/>
                            </a:lnTo>
                            <a:lnTo>
                              <a:pt x="16" y="5"/>
                            </a:lnTo>
                            <a:lnTo>
                              <a:pt x="9" y="11"/>
                            </a:lnTo>
                            <a:lnTo>
                              <a:pt x="2" y="20"/>
                            </a:lnTo>
                            <a:lnTo>
                              <a:pt x="0" y="31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83" name="Freeform 86"/>
                      <p:cNvSpPr/>
                      <p:nvPr/>
                    </p:nvSpPr>
                    <p:spPr>
                      <a:xfrm>
                        <a:off x="776160" y="5572440"/>
                        <a:ext cx="4680" cy="14040"/>
                      </a:xfrm>
                      <a:custGeom>
                        <a:avLst/>
                        <a:gdLst>
                          <a:gd name="textAreaLeft" fmla="*/ 0 w 4680"/>
                          <a:gd name="textAreaRight" fmla="*/ 5040 w 4680"/>
                          <a:gd name="textAreaTop" fmla="*/ 0 h 14040"/>
                          <a:gd name="textAreaBottom" fmla="*/ 14400 h 14040"/>
                        </a:gdLst>
                        <a:ahLst/>
                        <a:rect l="textAreaLeft" t="textAreaTop" r="textAreaRight" b="textAreaBottom"/>
                        <a:pathLst>
                          <a:path w="15" h="45">
                            <a:moveTo>
                              <a:pt x="15" y="0"/>
                            </a:moveTo>
                            <a:lnTo>
                              <a:pt x="8" y="6"/>
                            </a:lnTo>
                            <a:lnTo>
                              <a:pt x="3" y="19"/>
                            </a:lnTo>
                            <a:lnTo>
                              <a:pt x="0" y="32"/>
                            </a:lnTo>
                            <a:lnTo>
                              <a:pt x="0" y="45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84" name="Freeform 87"/>
                      <p:cNvSpPr/>
                      <p:nvPr/>
                    </p:nvSpPr>
                    <p:spPr>
                      <a:xfrm>
                        <a:off x="766440" y="5578920"/>
                        <a:ext cx="9720" cy="7560"/>
                      </a:xfrm>
                      <a:custGeom>
                        <a:avLst/>
                        <a:gdLst>
                          <a:gd name="textAreaLeft" fmla="*/ 0 w 9720"/>
                          <a:gd name="textAreaRight" fmla="*/ 10080 w 9720"/>
                          <a:gd name="textAreaTop" fmla="*/ 0 h 7560"/>
                          <a:gd name="textAreaBottom" fmla="*/ 7920 h 7560"/>
                        </a:gdLst>
                        <a:ahLst/>
                        <a:rect l="textAreaLeft" t="textAreaTop" r="textAreaRight" b="textAreaBottom"/>
                        <a:pathLst>
                          <a:path w="26" h="25">
                            <a:moveTo>
                              <a:pt x="0" y="0"/>
                            </a:moveTo>
                            <a:lnTo>
                              <a:pt x="11" y="5"/>
                            </a:lnTo>
                            <a:lnTo>
                              <a:pt x="19" y="14"/>
                            </a:lnTo>
                            <a:lnTo>
                              <a:pt x="26" y="25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285" name="Freeform 88"/>
                    <p:cNvSpPr/>
                    <p:nvPr/>
                  </p:nvSpPr>
                  <p:spPr>
                    <a:xfrm>
                      <a:off x="461880" y="5518800"/>
                      <a:ext cx="104760" cy="83880"/>
                    </a:xfrm>
                    <a:custGeom>
                      <a:avLst/>
                      <a:gdLst>
                        <a:gd name="textAreaLeft" fmla="*/ 0 w 104760"/>
                        <a:gd name="textAreaRight" fmla="*/ 105120 w 104760"/>
                        <a:gd name="textAreaTop" fmla="*/ 0 h 83880"/>
                        <a:gd name="textAreaBottom" fmla="*/ 84240 h 83880"/>
                      </a:gdLst>
                      <a:ahLst/>
                      <a:rect l="textAreaLeft" t="textAreaTop" r="textAreaRight" b="textAreaBottom"/>
                      <a:pathLst>
                        <a:path w="333" h="268">
                          <a:moveTo>
                            <a:pt x="0" y="140"/>
                          </a:moveTo>
                          <a:lnTo>
                            <a:pt x="3" y="170"/>
                          </a:lnTo>
                          <a:lnTo>
                            <a:pt x="18" y="191"/>
                          </a:lnTo>
                          <a:lnTo>
                            <a:pt x="19" y="195"/>
                          </a:lnTo>
                          <a:lnTo>
                            <a:pt x="38" y="222"/>
                          </a:lnTo>
                          <a:lnTo>
                            <a:pt x="35" y="227"/>
                          </a:lnTo>
                          <a:lnTo>
                            <a:pt x="55" y="249"/>
                          </a:lnTo>
                          <a:lnTo>
                            <a:pt x="84" y="268"/>
                          </a:lnTo>
                          <a:lnTo>
                            <a:pt x="100" y="249"/>
                          </a:lnTo>
                          <a:lnTo>
                            <a:pt x="120" y="231"/>
                          </a:lnTo>
                          <a:lnTo>
                            <a:pt x="141" y="216"/>
                          </a:lnTo>
                          <a:lnTo>
                            <a:pt x="164" y="214"/>
                          </a:lnTo>
                          <a:lnTo>
                            <a:pt x="196" y="213"/>
                          </a:lnTo>
                          <a:lnTo>
                            <a:pt x="214" y="190"/>
                          </a:lnTo>
                          <a:lnTo>
                            <a:pt x="230" y="170"/>
                          </a:lnTo>
                          <a:lnTo>
                            <a:pt x="251" y="158"/>
                          </a:lnTo>
                          <a:lnTo>
                            <a:pt x="272" y="150"/>
                          </a:lnTo>
                          <a:lnTo>
                            <a:pt x="306" y="143"/>
                          </a:lnTo>
                          <a:lnTo>
                            <a:pt x="328" y="130"/>
                          </a:lnTo>
                          <a:lnTo>
                            <a:pt x="333" y="117"/>
                          </a:lnTo>
                          <a:lnTo>
                            <a:pt x="327" y="84"/>
                          </a:lnTo>
                          <a:lnTo>
                            <a:pt x="323" y="86"/>
                          </a:lnTo>
                          <a:lnTo>
                            <a:pt x="308" y="57"/>
                          </a:lnTo>
                          <a:lnTo>
                            <a:pt x="302" y="43"/>
                          </a:lnTo>
                          <a:lnTo>
                            <a:pt x="302" y="41"/>
                          </a:lnTo>
                          <a:lnTo>
                            <a:pt x="289" y="23"/>
                          </a:lnTo>
                          <a:lnTo>
                            <a:pt x="264" y="0"/>
                          </a:lnTo>
                          <a:lnTo>
                            <a:pt x="220" y="18"/>
                          </a:lnTo>
                          <a:lnTo>
                            <a:pt x="194" y="54"/>
                          </a:lnTo>
                          <a:lnTo>
                            <a:pt x="160" y="69"/>
                          </a:lnTo>
                          <a:lnTo>
                            <a:pt x="109" y="89"/>
                          </a:lnTo>
                          <a:lnTo>
                            <a:pt x="94" y="115"/>
                          </a:lnTo>
                          <a:lnTo>
                            <a:pt x="71" y="117"/>
                          </a:lnTo>
                          <a:lnTo>
                            <a:pt x="40" y="130"/>
                          </a:lnTo>
                          <a:lnTo>
                            <a:pt x="0" y="140"/>
                          </a:lnTo>
                          <a:close/>
                        </a:path>
                      </a:pathLst>
                    </a:custGeom>
                    <a:solidFill>
                      <a:srgbClr val="e040a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86" name="Freeform 89"/>
                    <p:cNvSpPr/>
                    <p:nvPr/>
                  </p:nvSpPr>
                  <p:spPr>
                    <a:xfrm>
                      <a:off x="506160" y="5364720"/>
                      <a:ext cx="123840" cy="101520"/>
                    </a:xfrm>
                    <a:custGeom>
                      <a:avLst/>
                      <a:gdLst>
                        <a:gd name="textAreaLeft" fmla="*/ 0 w 123840"/>
                        <a:gd name="textAreaRight" fmla="*/ 124200 w 123840"/>
                        <a:gd name="textAreaTop" fmla="*/ 0 h 101520"/>
                        <a:gd name="textAreaBottom" fmla="*/ 101880 h 101520"/>
                      </a:gdLst>
                      <a:ahLst/>
                      <a:rect l="textAreaLeft" t="textAreaTop" r="textAreaRight" b="textAreaBottom"/>
                      <a:pathLst>
                        <a:path w="389" h="317">
                          <a:moveTo>
                            <a:pt x="0" y="0"/>
                          </a:moveTo>
                          <a:lnTo>
                            <a:pt x="59" y="33"/>
                          </a:lnTo>
                          <a:lnTo>
                            <a:pt x="113" y="66"/>
                          </a:lnTo>
                          <a:lnTo>
                            <a:pt x="157" y="86"/>
                          </a:lnTo>
                          <a:lnTo>
                            <a:pt x="203" y="110"/>
                          </a:lnTo>
                          <a:lnTo>
                            <a:pt x="267" y="143"/>
                          </a:lnTo>
                          <a:lnTo>
                            <a:pt x="306" y="205"/>
                          </a:lnTo>
                          <a:lnTo>
                            <a:pt x="337" y="313"/>
                          </a:lnTo>
                          <a:lnTo>
                            <a:pt x="366" y="224"/>
                          </a:lnTo>
                          <a:lnTo>
                            <a:pt x="389" y="165"/>
                          </a:lnTo>
                          <a:lnTo>
                            <a:pt x="386" y="120"/>
                          </a:lnTo>
                          <a:lnTo>
                            <a:pt x="388" y="165"/>
                          </a:lnTo>
                          <a:lnTo>
                            <a:pt x="363" y="223"/>
                          </a:lnTo>
                          <a:lnTo>
                            <a:pt x="341" y="317"/>
                          </a:lnTo>
                          <a:lnTo>
                            <a:pt x="307" y="202"/>
                          </a:lnTo>
                          <a:lnTo>
                            <a:pt x="267" y="144"/>
                          </a:lnTo>
                          <a:lnTo>
                            <a:pt x="202" y="110"/>
                          </a:lnTo>
                          <a:lnTo>
                            <a:pt x="156" y="88"/>
                          </a:lnTo>
                          <a:lnTo>
                            <a:pt x="112" y="66"/>
                          </a:lnTo>
                          <a:lnTo>
                            <a:pt x="56" y="3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e040a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87" name="Freeform 90"/>
                    <p:cNvSpPr/>
                    <p:nvPr/>
                  </p:nvSpPr>
                  <p:spPr>
                    <a:xfrm>
                      <a:off x="519120" y="5452200"/>
                      <a:ext cx="47520" cy="85320"/>
                    </a:xfrm>
                    <a:custGeom>
                      <a:avLst/>
                      <a:gdLst>
                        <a:gd name="textAreaLeft" fmla="*/ 0 w 47520"/>
                        <a:gd name="textAreaRight" fmla="*/ 47880 w 47520"/>
                        <a:gd name="textAreaTop" fmla="*/ 0 h 85320"/>
                        <a:gd name="textAreaBottom" fmla="*/ 85680 h 85320"/>
                      </a:gdLst>
                      <a:ahLst/>
                      <a:rect l="textAreaLeft" t="textAreaTop" r="textAreaRight" b="textAreaBottom"/>
                      <a:pathLst>
                        <a:path w="151" h="271">
                          <a:moveTo>
                            <a:pt x="71" y="206"/>
                          </a:moveTo>
                          <a:lnTo>
                            <a:pt x="27" y="164"/>
                          </a:lnTo>
                          <a:lnTo>
                            <a:pt x="13" y="122"/>
                          </a:lnTo>
                          <a:lnTo>
                            <a:pt x="8" y="77"/>
                          </a:lnTo>
                          <a:lnTo>
                            <a:pt x="1" y="17"/>
                          </a:lnTo>
                          <a:lnTo>
                            <a:pt x="15" y="6"/>
                          </a:lnTo>
                          <a:lnTo>
                            <a:pt x="27" y="5"/>
                          </a:lnTo>
                          <a:lnTo>
                            <a:pt x="36" y="42"/>
                          </a:lnTo>
                          <a:lnTo>
                            <a:pt x="56" y="63"/>
                          </a:lnTo>
                          <a:lnTo>
                            <a:pt x="63" y="112"/>
                          </a:lnTo>
                          <a:lnTo>
                            <a:pt x="76" y="149"/>
                          </a:lnTo>
                          <a:lnTo>
                            <a:pt x="107" y="181"/>
                          </a:lnTo>
                          <a:lnTo>
                            <a:pt x="130" y="220"/>
                          </a:lnTo>
                          <a:lnTo>
                            <a:pt x="151" y="271"/>
                          </a:lnTo>
                          <a:lnTo>
                            <a:pt x="126" y="220"/>
                          </a:lnTo>
                          <a:lnTo>
                            <a:pt x="104" y="180"/>
                          </a:lnTo>
                          <a:lnTo>
                            <a:pt x="74" y="148"/>
                          </a:lnTo>
                          <a:lnTo>
                            <a:pt x="62" y="112"/>
                          </a:lnTo>
                          <a:lnTo>
                            <a:pt x="59" y="64"/>
                          </a:lnTo>
                          <a:lnTo>
                            <a:pt x="36" y="46"/>
                          </a:lnTo>
                          <a:lnTo>
                            <a:pt x="32" y="0"/>
                          </a:lnTo>
                          <a:lnTo>
                            <a:pt x="18" y="5"/>
                          </a:lnTo>
                          <a:lnTo>
                            <a:pt x="0" y="17"/>
                          </a:lnTo>
                          <a:lnTo>
                            <a:pt x="2" y="42"/>
                          </a:lnTo>
                          <a:lnTo>
                            <a:pt x="8" y="80"/>
                          </a:lnTo>
                          <a:lnTo>
                            <a:pt x="13" y="115"/>
                          </a:lnTo>
                          <a:lnTo>
                            <a:pt x="27" y="162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</p:grpSp>
        <p:sp>
          <p:nvSpPr>
            <p:cNvPr id="288" name="Text Box 91"/>
            <p:cNvSpPr/>
            <p:nvPr/>
          </p:nvSpPr>
          <p:spPr>
            <a:xfrm>
              <a:off x="273960" y="484128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</a:rPr>
                <a:t>？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9" name="Text Box 92"/>
          <p:cNvSpPr/>
          <p:nvPr/>
        </p:nvSpPr>
        <p:spPr>
          <a:xfrm>
            <a:off x="971640" y="530532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问题：若电流表和电压表内阻分别为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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M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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，请估算各表的读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13"/>
          <p:cNvSpPr/>
          <p:nvPr/>
        </p:nvSpPr>
        <p:spPr>
          <a:xfrm>
            <a:off x="7042320" y="6566040"/>
            <a:ext cx="1904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5D8D-4ED6-4D23-9518-6712F101E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0" y="3500280"/>
            <a:ext cx="8964720" cy="33084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343044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4"/>
          <p:cNvSpPr/>
          <p:nvPr/>
        </p:nvSpPr>
        <p:spPr>
          <a:xfrm>
            <a:off x="4230720" y="2938320"/>
            <a:ext cx="383940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阻的电流表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M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阻的电压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灯片编号占位符 1"/>
          <p:cNvSpPr/>
          <p:nvPr/>
        </p:nvSpPr>
        <p:spPr>
          <a:xfrm>
            <a:off x="7042320" y="6566040"/>
            <a:ext cx="1904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D8AF-2579-4964-94F5-EC16A68B69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文本框 3"/>
          <p:cNvSpPr/>
          <p:nvPr/>
        </p:nvSpPr>
        <p:spPr>
          <a:xfrm>
            <a:off x="914400" y="428760"/>
            <a:ext cx="73152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假设实验室的电压表内阻为</a:t>
            </a: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1M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，电流表内阻为</a:t>
            </a: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，请问测量多大的电阻时需要电压表外接？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文本框 4"/>
          <p:cNvSpPr/>
          <p:nvPr/>
        </p:nvSpPr>
        <p:spPr>
          <a:xfrm>
            <a:off x="1828800" y="278604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&gt;2k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文本框 5"/>
          <p:cNvSpPr/>
          <p:nvPr/>
        </p:nvSpPr>
        <p:spPr>
          <a:xfrm>
            <a:off x="1828800" y="364320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&lt;2k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文本框 6"/>
          <p:cNvSpPr/>
          <p:nvPr/>
        </p:nvSpPr>
        <p:spPr>
          <a:xfrm>
            <a:off x="1828800" y="450072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&gt;4k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文本框 7"/>
          <p:cNvSpPr/>
          <p:nvPr/>
        </p:nvSpPr>
        <p:spPr>
          <a:xfrm>
            <a:off x="1828800" y="535788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&gt;4k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椭圆 8"/>
          <p:cNvSpPr/>
          <p:nvPr/>
        </p:nvSpPr>
        <p:spPr>
          <a:xfrm>
            <a:off x="1114560" y="2849400"/>
            <a:ext cx="514080" cy="51444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椭圆 9"/>
          <p:cNvSpPr/>
          <p:nvPr/>
        </p:nvSpPr>
        <p:spPr>
          <a:xfrm>
            <a:off x="1114560" y="3706920"/>
            <a:ext cx="514080" cy="514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椭圆 10"/>
          <p:cNvSpPr/>
          <p:nvPr/>
        </p:nvSpPr>
        <p:spPr>
          <a:xfrm>
            <a:off x="1114560" y="456408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椭圆 11"/>
          <p:cNvSpPr/>
          <p:nvPr/>
        </p:nvSpPr>
        <p:spPr>
          <a:xfrm>
            <a:off x="1114560" y="542124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圆角矩形 12"/>
          <p:cNvSpPr/>
          <p:nvPr/>
        </p:nvSpPr>
        <p:spPr>
          <a:xfrm>
            <a:off x="6172200" y="6215040"/>
            <a:ext cx="1542960" cy="4111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提交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5" name="组合 17"/>
          <p:cNvGrpSpPr/>
          <p:nvPr/>
        </p:nvGrpSpPr>
        <p:grpSpPr>
          <a:xfrm>
            <a:off x="0" y="0"/>
            <a:ext cx="9144000" cy="635040"/>
            <a:chOff x="0" y="0"/>
            <a:chExt cx="9144000" cy="635040"/>
          </a:xfrm>
        </p:grpSpPr>
        <p:sp>
          <p:nvSpPr>
            <p:cNvPr id="306" name="TitleBackground"/>
            <p:cNvSpPr/>
            <p:nvPr/>
          </p:nvSpPr>
          <p:spPr>
            <a:xfrm>
              <a:off x="0" y="0"/>
              <a:ext cx="9144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7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Microsoft Yahei"/>
                  <a:ea typeface="Microsoft Yahei"/>
                </a:rPr>
                <a:t>单选题</a:t>
              </a:r>
              <a:endParaRPr b="0" lang="en-US" sz="2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TipText"/>
            <p:cNvSpPr/>
            <p:nvPr/>
          </p:nvSpPr>
          <p:spPr>
            <a:xfrm>
              <a:off x="152568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分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10" name="图片 2" descr=""/>
          <p:cNvPicPr/>
          <p:nvPr/>
        </p:nvPicPr>
        <p:blipFill>
          <a:blip r:embed="rId1"/>
          <a:stretch/>
        </p:blipFill>
        <p:spPr>
          <a:xfrm>
            <a:off x="7594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6" descr=""/>
          <p:cNvPicPr/>
          <p:nvPr/>
        </p:nvPicPr>
        <p:blipFill>
          <a:blip r:embed="rId1"/>
          <a:stretch/>
        </p:blipFill>
        <p:spPr>
          <a:xfrm>
            <a:off x="7920" y="1989000"/>
            <a:ext cx="5068800" cy="367200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13"/>
          <p:cNvSpPr/>
          <p:nvPr/>
        </p:nvSpPr>
        <p:spPr>
          <a:xfrm>
            <a:off x="7042320" y="6566040"/>
            <a:ext cx="1904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B5B3-FA6D-4C4D-BF33-1088B5097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16000" y="105840"/>
            <a:ext cx="7361280" cy="73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小电阻的四线法测量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42640" y="1125360"/>
            <a:ext cx="800100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线法测离线电阻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5" name="Group 4"/>
          <p:cNvGrpSpPr/>
          <p:nvPr/>
        </p:nvGrpSpPr>
        <p:grpSpPr>
          <a:xfrm>
            <a:off x="250920" y="882000"/>
            <a:ext cx="873000" cy="1034280"/>
            <a:chOff x="250920" y="882000"/>
            <a:chExt cx="873000" cy="1034280"/>
          </a:xfrm>
        </p:grpSpPr>
        <p:grpSp>
          <p:nvGrpSpPr>
            <p:cNvPr id="316" name="Group 5"/>
            <p:cNvGrpSpPr/>
            <p:nvPr/>
          </p:nvGrpSpPr>
          <p:grpSpPr>
            <a:xfrm>
              <a:off x="250920" y="1193760"/>
              <a:ext cx="873000" cy="722520"/>
              <a:chOff x="250920" y="1193760"/>
              <a:chExt cx="873000" cy="722520"/>
            </a:xfrm>
          </p:grpSpPr>
          <p:grpSp>
            <p:nvGrpSpPr>
              <p:cNvPr id="317" name="Group 6"/>
              <p:cNvGrpSpPr/>
              <p:nvPr/>
            </p:nvGrpSpPr>
            <p:grpSpPr>
              <a:xfrm>
                <a:off x="250920" y="1316160"/>
                <a:ext cx="873000" cy="600120"/>
                <a:chOff x="250920" y="1316160"/>
                <a:chExt cx="873000" cy="600120"/>
              </a:xfrm>
            </p:grpSpPr>
            <p:grpSp>
              <p:nvGrpSpPr>
                <p:cNvPr id="318" name="Group 7"/>
                <p:cNvGrpSpPr/>
                <p:nvPr/>
              </p:nvGrpSpPr>
              <p:grpSpPr>
                <a:xfrm>
                  <a:off x="274680" y="1316160"/>
                  <a:ext cx="849240" cy="587520"/>
                  <a:chOff x="274680" y="1316160"/>
                  <a:chExt cx="849240" cy="587520"/>
                </a:xfrm>
              </p:grpSpPr>
              <p:grpSp>
                <p:nvGrpSpPr>
                  <p:cNvPr id="319" name="Group 8"/>
                  <p:cNvGrpSpPr/>
                  <p:nvPr/>
                </p:nvGrpSpPr>
                <p:grpSpPr>
                  <a:xfrm>
                    <a:off x="274680" y="1316160"/>
                    <a:ext cx="849240" cy="587520"/>
                    <a:chOff x="274680" y="1316160"/>
                    <a:chExt cx="849240" cy="587520"/>
                  </a:xfrm>
                </p:grpSpPr>
                <p:sp>
                  <p:nvSpPr>
                    <p:cNvPr id="320" name="Line 9"/>
                    <p:cNvSpPr/>
                    <p:nvPr/>
                  </p:nvSpPr>
                  <p:spPr>
                    <a:xfrm>
                      <a:off x="934920" y="1706760"/>
                      <a:ext cx="189000" cy="3024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21" name="Line 10"/>
                    <p:cNvSpPr/>
                    <p:nvPr/>
                  </p:nvSpPr>
                  <p:spPr>
                    <a:xfrm>
                      <a:off x="946080" y="1744920"/>
                      <a:ext cx="154080" cy="1728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22" name="Line 11"/>
                    <p:cNvSpPr/>
                    <p:nvPr/>
                  </p:nvSpPr>
                  <p:spPr>
                    <a:xfrm>
                      <a:off x="884160" y="1744920"/>
                      <a:ext cx="115920" cy="3960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23" name="Line 12"/>
                    <p:cNvSpPr/>
                    <p:nvPr/>
                  </p:nvSpPr>
                  <p:spPr>
                    <a:xfrm>
                      <a:off x="817560" y="1733760"/>
                      <a:ext cx="114480" cy="12528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24" name="Line 13"/>
                    <p:cNvSpPr/>
                    <p:nvPr/>
                  </p:nvSpPr>
                  <p:spPr>
                    <a:xfrm>
                      <a:off x="820800" y="1762200"/>
                      <a:ext cx="66600" cy="14148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25" name="Line 14"/>
                    <p:cNvSpPr/>
                    <p:nvPr/>
                  </p:nvSpPr>
                  <p:spPr>
                    <a:xfrm>
                      <a:off x="806400" y="1776600"/>
                      <a:ext cx="27000" cy="8424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26" name="Line 15"/>
                    <p:cNvSpPr/>
                    <p:nvPr/>
                  </p:nvSpPr>
                  <p:spPr>
                    <a:xfrm flipH="1">
                      <a:off x="690480" y="1737000"/>
                      <a:ext cx="68400" cy="6012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27" name="Line 16"/>
                    <p:cNvSpPr/>
                    <p:nvPr/>
                  </p:nvSpPr>
                  <p:spPr>
                    <a:xfrm flipH="1">
                      <a:off x="606240" y="1719360"/>
                      <a:ext cx="161640" cy="7776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960" bIns="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28" name="Freeform 17"/>
                    <p:cNvSpPr/>
                    <p:nvPr/>
                  </p:nvSpPr>
                  <p:spPr>
                    <a:xfrm>
                      <a:off x="317520" y="1357560"/>
                      <a:ext cx="363600" cy="406440"/>
                    </a:xfrm>
                    <a:custGeom>
                      <a:avLst/>
                      <a:gdLst>
                        <a:gd name="textAreaLeft" fmla="*/ 0 w 363600"/>
                        <a:gd name="textAreaRight" fmla="*/ 363960 w 363600"/>
                        <a:gd name="textAreaTop" fmla="*/ 0 h 406440"/>
                        <a:gd name="textAreaBottom" fmla="*/ 406800 h 406440"/>
                      </a:gdLst>
                      <a:ahLst/>
                      <a:rect l="textAreaLeft" t="textAreaTop" r="textAreaRight" b="textAreaBottom"/>
                      <a:pathLst>
                        <a:path w="1146" h="1280">
                          <a:moveTo>
                            <a:pt x="666" y="0"/>
                          </a:moveTo>
                          <a:lnTo>
                            <a:pt x="549" y="56"/>
                          </a:lnTo>
                          <a:lnTo>
                            <a:pt x="434" y="134"/>
                          </a:lnTo>
                          <a:lnTo>
                            <a:pt x="324" y="231"/>
                          </a:lnTo>
                          <a:lnTo>
                            <a:pt x="217" y="344"/>
                          </a:lnTo>
                          <a:lnTo>
                            <a:pt x="140" y="445"/>
                          </a:lnTo>
                          <a:lnTo>
                            <a:pt x="102" y="512"/>
                          </a:lnTo>
                          <a:lnTo>
                            <a:pt x="50" y="632"/>
                          </a:lnTo>
                          <a:lnTo>
                            <a:pt x="17" y="742"/>
                          </a:lnTo>
                          <a:lnTo>
                            <a:pt x="0" y="845"/>
                          </a:lnTo>
                          <a:lnTo>
                            <a:pt x="11" y="961"/>
                          </a:lnTo>
                          <a:lnTo>
                            <a:pt x="56" y="1043"/>
                          </a:lnTo>
                          <a:lnTo>
                            <a:pt x="114" y="1107"/>
                          </a:lnTo>
                          <a:lnTo>
                            <a:pt x="166" y="1153"/>
                          </a:lnTo>
                          <a:lnTo>
                            <a:pt x="267" y="1216"/>
                          </a:lnTo>
                          <a:lnTo>
                            <a:pt x="357" y="1248"/>
                          </a:lnTo>
                          <a:lnTo>
                            <a:pt x="467" y="1273"/>
                          </a:lnTo>
                          <a:lnTo>
                            <a:pt x="646" y="1280"/>
                          </a:lnTo>
                          <a:lnTo>
                            <a:pt x="890" y="1248"/>
                          </a:lnTo>
                          <a:lnTo>
                            <a:pt x="1010" y="1196"/>
                          </a:lnTo>
                          <a:lnTo>
                            <a:pt x="1146" y="1081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e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29" name="Freeform 18"/>
                    <p:cNvSpPr/>
                    <p:nvPr/>
                  </p:nvSpPr>
                  <p:spPr>
                    <a:xfrm>
                      <a:off x="311040" y="1316160"/>
                      <a:ext cx="365400" cy="380880"/>
                    </a:xfrm>
                    <a:custGeom>
                      <a:avLst/>
                      <a:gdLst>
                        <a:gd name="textAreaLeft" fmla="*/ 0 w 365400"/>
                        <a:gd name="textAreaRight" fmla="*/ 365760 w 365400"/>
                        <a:gd name="textAreaTop" fmla="*/ 0 h 380880"/>
                        <a:gd name="textAreaBottom" fmla="*/ 381240 h 380880"/>
                      </a:gdLst>
                      <a:ahLst/>
                      <a:rect l="textAreaLeft" t="textAreaTop" r="textAreaRight" b="textAreaBottom"/>
                      <a:pathLst>
                        <a:path w="1152" h="1196">
                          <a:moveTo>
                            <a:pt x="670" y="0"/>
                          </a:moveTo>
                          <a:lnTo>
                            <a:pt x="553" y="54"/>
                          </a:lnTo>
                          <a:lnTo>
                            <a:pt x="437" y="125"/>
                          </a:lnTo>
                          <a:lnTo>
                            <a:pt x="326" y="215"/>
                          </a:lnTo>
                          <a:lnTo>
                            <a:pt x="219" y="323"/>
                          </a:lnTo>
                          <a:lnTo>
                            <a:pt x="141" y="417"/>
                          </a:lnTo>
                          <a:lnTo>
                            <a:pt x="101" y="478"/>
                          </a:lnTo>
                          <a:lnTo>
                            <a:pt x="50" y="592"/>
                          </a:lnTo>
                          <a:lnTo>
                            <a:pt x="20" y="694"/>
                          </a:lnTo>
                          <a:lnTo>
                            <a:pt x="0" y="791"/>
                          </a:lnTo>
                          <a:lnTo>
                            <a:pt x="13" y="899"/>
                          </a:lnTo>
                          <a:lnTo>
                            <a:pt x="56" y="977"/>
                          </a:lnTo>
                          <a:lnTo>
                            <a:pt x="114" y="1036"/>
                          </a:lnTo>
                          <a:lnTo>
                            <a:pt x="166" y="1078"/>
                          </a:lnTo>
                          <a:lnTo>
                            <a:pt x="268" y="1137"/>
                          </a:lnTo>
                          <a:lnTo>
                            <a:pt x="359" y="1167"/>
                          </a:lnTo>
                          <a:lnTo>
                            <a:pt x="468" y="1192"/>
                          </a:lnTo>
                          <a:lnTo>
                            <a:pt x="651" y="1196"/>
                          </a:lnTo>
                          <a:lnTo>
                            <a:pt x="894" y="1167"/>
                          </a:lnTo>
                          <a:lnTo>
                            <a:pt x="1017" y="1120"/>
                          </a:lnTo>
                          <a:lnTo>
                            <a:pt x="1152" y="1012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e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30" name="Freeform 19"/>
                    <p:cNvSpPr/>
                    <p:nvPr/>
                  </p:nvSpPr>
                  <p:spPr>
                    <a:xfrm>
                      <a:off x="274680" y="1355760"/>
                      <a:ext cx="272880" cy="320760"/>
                    </a:xfrm>
                    <a:custGeom>
                      <a:avLst/>
                      <a:gdLst>
                        <a:gd name="textAreaLeft" fmla="*/ 0 w 272880"/>
                        <a:gd name="textAreaRight" fmla="*/ 273240 w 272880"/>
                        <a:gd name="textAreaTop" fmla="*/ 0 h 320760"/>
                        <a:gd name="textAreaBottom" fmla="*/ 321120 h 320760"/>
                      </a:gdLst>
                      <a:ahLst/>
                      <a:rect l="textAreaLeft" t="textAreaTop" r="textAreaRight" b="textAreaBottom"/>
                      <a:pathLst>
                        <a:path w="863" h="1012">
                          <a:moveTo>
                            <a:pt x="500" y="0"/>
                          </a:moveTo>
                          <a:lnTo>
                            <a:pt x="412" y="46"/>
                          </a:lnTo>
                          <a:lnTo>
                            <a:pt x="328" y="106"/>
                          </a:lnTo>
                          <a:lnTo>
                            <a:pt x="245" y="182"/>
                          </a:lnTo>
                          <a:lnTo>
                            <a:pt x="163" y="270"/>
                          </a:lnTo>
                          <a:lnTo>
                            <a:pt x="105" y="352"/>
                          </a:lnTo>
                          <a:lnTo>
                            <a:pt x="76" y="403"/>
                          </a:lnTo>
                          <a:lnTo>
                            <a:pt x="38" y="499"/>
                          </a:lnTo>
                          <a:lnTo>
                            <a:pt x="14" y="585"/>
                          </a:lnTo>
                          <a:lnTo>
                            <a:pt x="0" y="668"/>
                          </a:lnTo>
                          <a:lnTo>
                            <a:pt x="8" y="760"/>
                          </a:lnTo>
                          <a:lnTo>
                            <a:pt x="42" y="824"/>
                          </a:lnTo>
                          <a:lnTo>
                            <a:pt x="87" y="875"/>
                          </a:lnTo>
                          <a:lnTo>
                            <a:pt x="125" y="910"/>
                          </a:lnTo>
                          <a:lnTo>
                            <a:pt x="202" y="962"/>
                          </a:lnTo>
                          <a:lnTo>
                            <a:pt x="270" y="987"/>
                          </a:lnTo>
                          <a:lnTo>
                            <a:pt x="352" y="1008"/>
                          </a:lnTo>
                          <a:lnTo>
                            <a:pt x="485" y="1012"/>
                          </a:lnTo>
                          <a:lnTo>
                            <a:pt x="670" y="987"/>
                          </a:lnTo>
                          <a:lnTo>
                            <a:pt x="763" y="945"/>
                          </a:lnTo>
                          <a:lnTo>
                            <a:pt x="863" y="856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e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331" name="Line 20"/>
                  <p:cNvSpPr/>
                  <p:nvPr/>
                </p:nvSpPr>
                <p:spPr>
                  <a:xfrm>
                    <a:off x="415800" y="1681200"/>
                    <a:ext cx="676440" cy="180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32" name="Group 21"/>
                <p:cNvGrpSpPr/>
                <p:nvPr/>
              </p:nvGrpSpPr>
              <p:grpSpPr>
                <a:xfrm>
                  <a:off x="250920" y="1727280"/>
                  <a:ext cx="531720" cy="189000"/>
                  <a:chOff x="250920" y="1727280"/>
                  <a:chExt cx="531720" cy="189000"/>
                </a:xfrm>
              </p:grpSpPr>
              <p:sp>
                <p:nvSpPr>
                  <p:cNvPr id="333" name="Freeform 22"/>
                  <p:cNvSpPr/>
                  <p:nvPr/>
                </p:nvSpPr>
                <p:spPr>
                  <a:xfrm>
                    <a:off x="372960" y="1782720"/>
                    <a:ext cx="169920" cy="63720"/>
                  </a:xfrm>
                  <a:custGeom>
                    <a:avLst/>
                    <a:gdLst>
                      <a:gd name="textAreaLeft" fmla="*/ 0 w 169920"/>
                      <a:gd name="textAreaRight" fmla="*/ 170280 w 169920"/>
                      <a:gd name="textAreaTop" fmla="*/ 0 h 63720"/>
                      <a:gd name="textAreaBottom" fmla="*/ 64080 h 63720"/>
                    </a:gdLst>
                    <a:ahLst/>
                    <a:rect l="textAreaLeft" t="textAreaTop" r="textAreaRight" b="textAreaBottom"/>
                    <a:pathLst>
                      <a:path w="532" h="198">
                        <a:moveTo>
                          <a:pt x="71" y="0"/>
                        </a:moveTo>
                        <a:lnTo>
                          <a:pt x="135" y="39"/>
                        </a:lnTo>
                        <a:lnTo>
                          <a:pt x="232" y="62"/>
                        </a:lnTo>
                        <a:lnTo>
                          <a:pt x="316" y="71"/>
                        </a:lnTo>
                        <a:lnTo>
                          <a:pt x="422" y="76"/>
                        </a:lnTo>
                        <a:lnTo>
                          <a:pt x="532" y="42"/>
                        </a:lnTo>
                        <a:lnTo>
                          <a:pt x="503" y="85"/>
                        </a:lnTo>
                        <a:lnTo>
                          <a:pt x="422" y="127"/>
                        </a:lnTo>
                        <a:lnTo>
                          <a:pt x="304" y="169"/>
                        </a:lnTo>
                        <a:lnTo>
                          <a:pt x="200" y="198"/>
                        </a:lnTo>
                        <a:lnTo>
                          <a:pt x="65" y="198"/>
                        </a:lnTo>
                        <a:lnTo>
                          <a:pt x="0" y="163"/>
                        </a:lnTo>
                        <a:lnTo>
                          <a:pt x="5" y="69"/>
                        </a:lnTo>
                        <a:lnTo>
                          <a:pt x="71" y="0"/>
                        </a:lnTo>
                        <a:close/>
                      </a:path>
                    </a:pathLst>
                  </a:custGeom>
                  <a:solidFill>
                    <a:srgbClr val="c0c0e0"/>
                  </a:solidFill>
                  <a:ln w="3240">
                    <a:solidFill>
                      <a:srgbClr val="c0c0e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4" name="Freeform 23"/>
                  <p:cNvSpPr/>
                  <p:nvPr/>
                </p:nvSpPr>
                <p:spPr>
                  <a:xfrm>
                    <a:off x="447840" y="1800360"/>
                    <a:ext cx="334800" cy="115920"/>
                  </a:xfrm>
                  <a:custGeom>
                    <a:avLst/>
                    <a:gdLst>
                      <a:gd name="textAreaLeft" fmla="*/ 0 w 334800"/>
                      <a:gd name="textAreaRight" fmla="*/ 335160 w 334800"/>
                      <a:gd name="textAreaTop" fmla="*/ 0 h 115920"/>
                      <a:gd name="textAreaBottom" fmla="*/ 116280 h 115920"/>
                    </a:gdLst>
                    <a:ahLst/>
                    <a:rect l="textAreaLeft" t="textAreaTop" r="textAreaRight" b="textAreaBottom"/>
                    <a:pathLst>
                      <a:path w="1055" h="361">
                        <a:moveTo>
                          <a:pt x="0" y="333"/>
                        </a:moveTo>
                        <a:lnTo>
                          <a:pt x="107" y="310"/>
                        </a:lnTo>
                        <a:lnTo>
                          <a:pt x="220" y="280"/>
                        </a:lnTo>
                        <a:lnTo>
                          <a:pt x="336" y="228"/>
                        </a:lnTo>
                        <a:lnTo>
                          <a:pt x="429" y="171"/>
                        </a:lnTo>
                        <a:lnTo>
                          <a:pt x="497" y="120"/>
                        </a:lnTo>
                        <a:lnTo>
                          <a:pt x="541" y="74"/>
                        </a:lnTo>
                        <a:lnTo>
                          <a:pt x="570" y="25"/>
                        </a:lnTo>
                        <a:lnTo>
                          <a:pt x="596" y="0"/>
                        </a:lnTo>
                        <a:lnTo>
                          <a:pt x="674" y="23"/>
                        </a:lnTo>
                        <a:lnTo>
                          <a:pt x="786" y="38"/>
                        </a:lnTo>
                        <a:lnTo>
                          <a:pt x="888" y="38"/>
                        </a:lnTo>
                        <a:lnTo>
                          <a:pt x="982" y="29"/>
                        </a:lnTo>
                        <a:lnTo>
                          <a:pt x="1038" y="6"/>
                        </a:lnTo>
                        <a:lnTo>
                          <a:pt x="1051" y="42"/>
                        </a:lnTo>
                        <a:lnTo>
                          <a:pt x="1055" y="87"/>
                        </a:lnTo>
                        <a:lnTo>
                          <a:pt x="1051" y="142"/>
                        </a:lnTo>
                        <a:lnTo>
                          <a:pt x="1038" y="171"/>
                        </a:lnTo>
                        <a:lnTo>
                          <a:pt x="1010" y="221"/>
                        </a:lnTo>
                        <a:lnTo>
                          <a:pt x="978" y="255"/>
                        </a:lnTo>
                        <a:lnTo>
                          <a:pt x="939" y="296"/>
                        </a:lnTo>
                        <a:lnTo>
                          <a:pt x="883" y="336"/>
                        </a:lnTo>
                        <a:lnTo>
                          <a:pt x="718" y="352"/>
                        </a:lnTo>
                        <a:lnTo>
                          <a:pt x="510" y="356"/>
                        </a:lnTo>
                        <a:lnTo>
                          <a:pt x="308" y="361"/>
                        </a:lnTo>
                        <a:lnTo>
                          <a:pt x="128" y="359"/>
                        </a:lnTo>
                        <a:lnTo>
                          <a:pt x="0" y="333"/>
                        </a:lnTo>
                        <a:close/>
                      </a:path>
                    </a:pathLst>
                  </a:custGeom>
                  <a:solidFill>
                    <a:srgbClr val="e0e0ff"/>
                  </a:solidFill>
                  <a:ln w="3240">
                    <a:solidFill>
                      <a:srgbClr val="e0e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5" name="Freeform 24"/>
                  <p:cNvSpPr/>
                  <p:nvPr/>
                </p:nvSpPr>
                <p:spPr>
                  <a:xfrm>
                    <a:off x="250920" y="1727280"/>
                    <a:ext cx="201600" cy="125640"/>
                  </a:xfrm>
                  <a:custGeom>
                    <a:avLst/>
                    <a:gdLst>
                      <a:gd name="textAreaLeft" fmla="*/ 0 w 201600"/>
                      <a:gd name="textAreaRight" fmla="*/ 201960 w 201600"/>
                      <a:gd name="textAreaTop" fmla="*/ 0 h 125640"/>
                      <a:gd name="textAreaBottom" fmla="*/ 126000 h 125640"/>
                    </a:gdLst>
                    <a:ahLst/>
                    <a:rect l="textAreaLeft" t="textAreaTop" r="textAreaRight" b="textAreaBottom"/>
                    <a:pathLst>
                      <a:path w="636" h="396">
                        <a:moveTo>
                          <a:pt x="125" y="0"/>
                        </a:moveTo>
                        <a:lnTo>
                          <a:pt x="223" y="41"/>
                        </a:lnTo>
                        <a:lnTo>
                          <a:pt x="636" y="138"/>
                        </a:lnTo>
                        <a:lnTo>
                          <a:pt x="623" y="157"/>
                        </a:lnTo>
                        <a:lnTo>
                          <a:pt x="520" y="208"/>
                        </a:lnTo>
                        <a:lnTo>
                          <a:pt x="472" y="232"/>
                        </a:lnTo>
                        <a:lnTo>
                          <a:pt x="447" y="274"/>
                        </a:lnTo>
                        <a:lnTo>
                          <a:pt x="439" y="306"/>
                        </a:lnTo>
                        <a:lnTo>
                          <a:pt x="451" y="342"/>
                        </a:lnTo>
                        <a:lnTo>
                          <a:pt x="482" y="361"/>
                        </a:lnTo>
                        <a:lnTo>
                          <a:pt x="520" y="367"/>
                        </a:lnTo>
                        <a:lnTo>
                          <a:pt x="584" y="374"/>
                        </a:lnTo>
                        <a:lnTo>
                          <a:pt x="536" y="393"/>
                        </a:lnTo>
                        <a:lnTo>
                          <a:pt x="465" y="396"/>
                        </a:lnTo>
                        <a:lnTo>
                          <a:pt x="439" y="393"/>
                        </a:lnTo>
                        <a:lnTo>
                          <a:pt x="390" y="378"/>
                        </a:lnTo>
                        <a:lnTo>
                          <a:pt x="301" y="329"/>
                        </a:lnTo>
                        <a:lnTo>
                          <a:pt x="179" y="245"/>
                        </a:lnTo>
                        <a:lnTo>
                          <a:pt x="112" y="202"/>
                        </a:lnTo>
                        <a:lnTo>
                          <a:pt x="41" y="151"/>
                        </a:lnTo>
                        <a:lnTo>
                          <a:pt x="25" y="148"/>
                        </a:lnTo>
                        <a:lnTo>
                          <a:pt x="0" y="106"/>
                        </a:lnTo>
                        <a:lnTo>
                          <a:pt x="8" y="64"/>
                        </a:lnTo>
                        <a:lnTo>
                          <a:pt x="38" y="29"/>
                        </a:lnTo>
                        <a:lnTo>
                          <a:pt x="125" y="0"/>
                        </a:lnTo>
                        <a:close/>
                      </a:path>
                    </a:pathLst>
                  </a:custGeom>
                  <a:solidFill>
                    <a:srgbClr val="e0e0ff"/>
                  </a:solidFill>
                  <a:ln w="3240">
                    <a:solidFill>
                      <a:srgbClr val="e0e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336" name="Group 25"/>
              <p:cNvGrpSpPr/>
              <p:nvPr/>
            </p:nvGrpSpPr>
            <p:grpSpPr>
              <a:xfrm>
                <a:off x="495360" y="1193760"/>
                <a:ext cx="384120" cy="516240"/>
                <a:chOff x="495360" y="1193760"/>
                <a:chExt cx="384120" cy="516240"/>
              </a:xfrm>
            </p:grpSpPr>
            <p:grpSp>
              <p:nvGrpSpPr>
                <p:cNvPr id="337" name="Group 26"/>
                <p:cNvGrpSpPr/>
                <p:nvPr/>
              </p:nvGrpSpPr>
              <p:grpSpPr>
                <a:xfrm>
                  <a:off x="581040" y="1370160"/>
                  <a:ext cx="273240" cy="227160"/>
                  <a:chOff x="581040" y="1370160"/>
                  <a:chExt cx="273240" cy="227160"/>
                </a:xfrm>
              </p:grpSpPr>
              <p:sp>
                <p:nvSpPr>
                  <p:cNvPr id="338" name="Freeform 27"/>
                  <p:cNvSpPr/>
                  <p:nvPr/>
                </p:nvSpPr>
                <p:spPr>
                  <a:xfrm>
                    <a:off x="581040" y="1370160"/>
                    <a:ext cx="177840" cy="141120"/>
                  </a:xfrm>
                  <a:custGeom>
                    <a:avLst/>
                    <a:gdLst>
                      <a:gd name="textAreaLeft" fmla="*/ 0 w 177840"/>
                      <a:gd name="textAreaRight" fmla="*/ 178200 w 177840"/>
                      <a:gd name="textAreaTop" fmla="*/ 0 h 141120"/>
                      <a:gd name="textAreaBottom" fmla="*/ 141480 h 141120"/>
                    </a:gdLst>
                    <a:ahLst/>
                    <a:rect l="textAreaLeft" t="textAreaTop" r="textAreaRight" b="textAreaBottom"/>
                    <a:pathLst>
                      <a:path w="558" h="448">
                        <a:moveTo>
                          <a:pt x="383" y="177"/>
                        </a:moveTo>
                        <a:lnTo>
                          <a:pt x="462" y="214"/>
                        </a:lnTo>
                        <a:lnTo>
                          <a:pt x="484" y="247"/>
                        </a:lnTo>
                        <a:lnTo>
                          <a:pt x="503" y="330"/>
                        </a:lnTo>
                        <a:lnTo>
                          <a:pt x="533" y="391"/>
                        </a:lnTo>
                        <a:lnTo>
                          <a:pt x="558" y="448"/>
                        </a:lnTo>
                        <a:lnTo>
                          <a:pt x="497" y="397"/>
                        </a:lnTo>
                        <a:lnTo>
                          <a:pt x="449" y="372"/>
                        </a:lnTo>
                        <a:lnTo>
                          <a:pt x="378" y="320"/>
                        </a:lnTo>
                        <a:lnTo>
                          <a:pt x="350" y="272"/>
                        </a:lnTo>
                        <a:lnTo>
                          <a:pt x="332" y="202"/>
                        </a:lnTo>
                        <a:lnTo>
                          <a:pt x="78" y="99"/>
                        </a:lnTo>
                        <a:lnTo>
                          <a:pt x="0" y="3"/>
                        </a:lnTo>
                        <a:lnTo>
                          <a:pt x="38" y="0"/>
                        </a:lnTo>
                        <a:lnTo>
                          <a:pt x="121" y="30"/>
                        </a:lnTo>
                        <a:lnTo>
                          <a:pt x="383" y="177"/>
                        </a:lnTo>
                        <a:close/>
                      </a:path>
                    </a:pathLst>
                  </a:custGeom>
                  <a:solidFill>
                    <a:srgbClr val="e040a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339" name="Group 28"/>
                  <p:cNvGrpSpPr/>
                  <p:nvPr/>
                </p:nvGrpSpPr>
                <p:grpSpPr>
                  <a:xfrm>
                    <a:off x="708120" y="1451160"/>
                    <a:ext cx="146160" cy="146160"/>
                    <a:chOff x="708120" y="1451160"/>
                    <a:chExt cx="146160" cy="146160"/>
                  </a:xfrm>
                </p:grpSpPr>
                <p:sp>
                  <p:nvSpPr>
                    <p:cNvPr id="340" name="Freeform 29"/>
                    <p:cNvSpPr/>
                    <p:nvPr/>
                  </p:nvSpPr>
                  <p:spPr>
                    <a:xfrm>
                      <a:off x="708120" y="1451160"/>
                      <a:ext cx="146160" cy="146160"/>
                    </a:xfrm>
                    <a:custGeom>
                      <a:avLst/>
                      <a:gdLst>
                        <a:gd name="textAreaLeft" fmla="*/ 0 w 146160"/>
                        <a:gd name="textAreaRight" fmla="*/ 146520 w 146160"/>
                        <a:gd name="textAreaTop" fmla="*/ 0 h 146160"/>
                        <a:gd name="textAreaBottom" fmla="*/ 146520 h 146160"/>
                      </a:gdLst>
                      <a:ahLst/>
                      <a:rect l="textAreaLeft" t="textAreaTop" r="textAreaRight" b="textAreaBottom"/>
                      <a:pathLst>
                        <a:path w="460" h="462">
                          <a:moveTo>
                            <a:pt x="0" y="375"/>
                          </a:moveTo>
                          <a:lnTo>
                            <a:pt x="62" y="349"/>
                          </a:lnTo>
                          <a:lnTo>
                            <a:pt x="79" y="309"/>
                          </a:lnTo>
                          <a:lnTo>
                            <a:pt x="94" y="272"/>
                          </a:lnTo>
                          <a:lnTo>
                            <a:pt x="96" y="226"/>
                          </a:lnTo>
                          <a:lnTo>
                            <a:pt x="84" y="169"/>
                          </a:lnTo>
                          <a:lnTo>
                            <a:pt x="74" y="109"/>
                          </a:lnTo>
                          <a:lnTo>
                            <a:pt x="90" y="98"/>
                          </a:lnTo>
                          <a:lnTo>
                            <a:pt x="111" y="96"/>
                          </a:lnTo>
                          <a:lnTo>
                            <a:pt x="135" y="109"/>
                          </a:lnTo>
                          <a:lnTo>
                            <a:pt x="160" y="142"/>
                          </a:lnTo>
                          <a:lnTo>
                            <a:pt x="189" y="210"/>
                          </a:lnTo>
                          <a:lnTo>
                            <a:pt x="214" y="152"/>
                          </a:lnTo>
                          <a:lnTo>
                            <a:pt x="252" y="107"/>
                          </a:lnTo>
                          <a:lnTo>
                            <a:pt x="289" y="77"/>
                          </a:lnTo>
                          <a:lnTo>
                            <a:pt x="340" y="32"/>
                          </a:lnTo>
                          <a:lnTo>
                            <a:pt x="378" y="3"/>
                          </a:lnTo>
                          <a:lnTo>
                            <a:pt x="403" y="0"/>
                          </a:lnTo>
                          <a:lnTo>
                            <a:pt x="419" y="16"/>
                          </a:lnTo>
                          <a:lnTo>
                            <a:pt x="412" y="38"/>
                          </a:lnTo>
                          <a:lnTo>
                            <a:pt x="390" y="77"/>
                          </a:lnTo>
                          <a:lnTo>
                            <a:pt x="358" y="125"/>
                          </a:lnTo>
                          <a:lnTo>
                            <a:pt x="318" y="175"/>
                          </a:lnTo>
                          <a:lnTo>
                            <a:pt x="373" y="162"/>
                          </a:lnTo>
                          <a:lnTo>
                            <a:pt x="418" y="163"/>
                          </a:lnTo>
                          <a:lnTo>
                            <a:pt x="441" y="175"/>
                          </a:lnTo>
                          <a:lnTo>
                            <a:pt x="441" y="199"/>
                          </a:lnTo>
                          <a:lnTo>
                            <a:pt x="429" y="221"/>
                          </a:lnTo>
                          <a:lnTo>
                            <a:pt x="406" y="244"/>
                          </a:lnTo>
                          <a:lnTo>
                            <a:pt x="368" y="257"/>
                          </a:lnTo>
                          <a:lnTo>
                            <a:pt x="412" y="254"/>
                          </a:lnTo>
                          <a:lnTo>
                            <a:pt x="447" y="264"/>
                          </a:lnTo>
                          <a:lnTo>
                            <a:pt x="460" y="295"/>
                          </a:lnTo>
                          <a:lnTo>
                            <a:pt x="448" y="320"/>
                          </a:lnTo>
                          <a:lnTo>
                            <a:pt x="420" y="333"/>
                          </a:lnTo>
                          <a:lnTo>
                            <a:pt x="346" y="329"/>
                          </a:lnTo>
                          <a:lnTo>
                            <a:pt x="382" y="342"/>
                          </a:lnTo>
                          <a:lnTo>
                            <a:pt x="400" y="356"/>
                          </a:lnTo>
                          <a:lnTo>
                            <a:pt x="413" y="375"/>
                          </a:lnTo>
                          <a:lnTo>
                            <a:pt x="408" y="405"/>
                          </a:lnTo>
                          <a:lnTo>
                            <a:pt x="387" y="422"/>
                          </a:lnTo>
                          <a:lnTo>
                            <a:pt x="363" y="421"/>
                          </a:lnTo>
                          <a:lnTo>
                            <a:pt x="330" y="411"/>
                          </a:lnTo>
                          <a:lnTo>
                            <a:pt x="299" y="395"/>
                          </a:lnTo>
                          <a:lnTo>
                            <a:pt x="279" y="424"/>
                          </a:lnTo>
                          <a:lnTo>
                            <a:pt x="258" y="446"/>
                          </a:lnTo>
                          <a:lnTo>
                            <a:pt x="234" y="457"/>
                          </a:lnTo>
                          <a:lnTo>
                            <a:pt x="204" y="462"/>
                          </a:lnTo>
                          <a:lnTo>
                            <a:pt x="77" y="431"/>
                          </a:lnTo>
                          <a:lnTo>
                            <a:pt x="0" y="375"/>
                          </a:lnTo>
                          <a:close/>
                        </a:path>
                      </a:pathLst>
                    </a:custGeom>
                    <a:solidFill>
                      <a:srgbClr val="e0a08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341" name="Group 30"/>
                    <p:cNvGrpSpPr/>
                    <p:nvPr/>
                  </p:nvGrpSpPr>
                  <p:grpSpPr>
                    <a:xfrm>
                      <a:off x="728640" y="1513080"/>
                      <a:ext cx="100080" cy="74520"/>
                      <a:chOff x="728640" y="1513080"/>
                      <a:chExt cx="100080" cy="74520"/>
                    </a:xfrm>
                  </p:grpSpPr>
                  <p:sp>
                    <p:nvSpPr>
                      <p:cNvPr id="342" name="Freeform 31"/>
                      <p:cNvSpPr/>
                      <p:nvPr/>
                    </p:nvSpPr>
                    <p:spPr>
                      <a:xfrm>
                        <a:off x="797040" y="1514520"/>
                        <a:ext cx="31680" cy="20880"/>
                      </a:xfrm>
                      <a:custGeom>
                        <a:avLst/>
                        <a:gdLst>
                          <a:gd name="textAreaLeft" fmla="*/ 0 w 31680"/>
                          <a:gd name="textAreaRight" fmla="*/ 32040 w 31680"/>
                          <a:gd name="textAreaTop" fmla="*/ 0 h 20880"/>
                          <a:gd name="textAreaBottom" fmla="*/ 21240 h 20880"/>
                        </a:gdLst>
                        <a:ahLst/>
                        <a:rect l="textAreaLeft" t="textAreaTop" r="textAreaRight" b="textAreaBottom"/>
                        <a:pathLst>
                          <a:path w="104" h="66">
                            <a:moveTo>
                              <a:pt x="104" y="59"/>
                            </a:moveTo>
                            <a:lnTo>
                              <a:pt x="65" y="66"/>
                            </a:lnTo>
                            <a:lnTo>
                              <a:pt x="32" y="64"/>
                            </a:lnTo>
                            <a:lnTo>
                              <a:pt x="10" y="53"/>
                            </a:lnTo>
                            <a:lnTo>
                              <a:pt x="0" y="34"/>
                            </a:lnTo>
                            <a:lnTo>
                              <a:pt x="6" y="13"/>
                            </a:lnTo>
                            <a:lnTo>
                              <a:pt x="28" y="0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43" name="Freeform 32"/>
                      <p:cNvSpPr/>
                      <p:nvPr/>
                    </p:nvSpPr>
                    <p:spPr>
                      <a:xfrm>
                        <a:off x="790560" y="1535400"/>
                        <a:ext cx="34920" cy="21960"/>
                      </a:xfrm>
                      <a:custGeom>
                        <a:avLst/>
                        <a:gdLst>
                          <a:gd name="textAreaLeft" fmla="*/ 0 w 34920"/>
                          <a:gd name="textAreaRight" fmla="*/ 35280 w 34920"/>
                          <a:gd name="textAreaTop" fmla="*/ 0 h 21960"/>
                          <a:gd name="textAreaBottom" fmla="*/ 22320 h 21960"/>
                        </a:gdLst>
                        <a:ahLst/>
                        <a:rect l="textAreaLeft" t="textAreaTop" r="textAreaRight" b="textAreaBottom"/>
                        <a:pathLst>
                          <a:path w="112" h="70">
                            <a:moveTo>
                              <a:pt x="112" y="68"/>
                            </a:moveTo>
                            <a:lnTo>
                              <a:pt x="73" y="70"/>
                            </a:lnTo>
                            <a:lnTo>
                              <a:pt x="38" y="66"/>
                            </a:lnTo>
                            <a:lnTo>
                              <a:pt x="15" y="56"/>
                            </a:lnTo>
                            <a:lnTo>
                              <a:pt x="0" y="36"/>
                            </a:lnTo>
                            <a:lnTo>
                              <a:pt x="6" y="19"/>
                            </a:lnTo>
                            <a:lnTo>
                              <a:pt x="23" y="0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44" name="Freeform 33"/>
                      <p:cNvSpPr/>
                      <p:nvPr/>
                    </p:nvSpPr>
                    <p:spPr>
                      <a:xfrm>
                        <a:off x="779400" y="1551240"/>
                        <a:ext cx="22320" cy="27000"/>
                      </a:xfrm>
                      <a:custGeom>
                        <a:avLst/>
                        <a:gdLst>
                          <a:gd name="textAreaLeft" fmla="*/ 0 w 22320"/>
                          <a:gd name="textAreaRight" fmla="*/ 22680 w 22320"/>
                          <a:gd name="textAreaTop" fmla="*/ 0 h 27000"/>
                          <a:gd name="textAreaBottom" fmla="*/ 27360 h 27000"/>
                        </a:gdLst>
                        <a:ahLst/>
                        <a:rect l="textAreaLeft" t="textAreaTop" r="textAreaRight" b="textAreaBottom"/>
                        <a:pathLst>
                          <a:path w="71" h="85">
                            <a:moveTo>
                              <a:pt x="71" y="85"/>
                            </a:moveTo>
                            <a:lnTo>
                              <a:pt x="36" y="71"/>
                            </a:lnTo>
                            <a:lnTo>
                              <a:pt x="14" y="55"/>
                            </a:lnTo>
                            <a:lnTo>
                              <a:pt x="0" y="31"/>
                            </a:lnTo>
                            <a:lnTo>
                              <a:pt x="7" y="8"/>
                            </a:lnTo>
                            <a:lnTo>
                              <a:pt x="25" y="0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45" name="Freeform 34"/>
                      <p:cNvSpPr/>
                      <p:nvPr/>
                    </p:nvSpPr>
                    <p:spPr>
                      <a:xfrm>
                        <a:off x="768240" y="1513080"/>
                        <a:ext cx="5040" cy="25200"/>
                      </a:xfrm>
                      <a:custGeom>
                        <a:avLst/>
                        <a:gdLst>
                          <a:gd name="textAreaLeft" fmla="*/ 0 w 5040"/>
                          <a:gd name="textAreaRight" fmla="*/ 5400 w 5040"/>
                          <a:gd name="textAreaTop" fmla="*/ 0 h 25200"/>
                          <a:gd name="textAreaBottom" fmla="*/ 25560 h 25200"/>
                        </a:gdLst>
                        <a:ahLst/>
                        <a:rect l="textAreaLeft" t="textAreaTop" r="textAreaRight" b="textAreaBottom"/>
                        <a:pathLst>
                          <a:path w="15" h="80">
                            <a:moveTo>
                              <a:pt x="0" y="0"/>
                            </a:moveTo>
                            <a:lnTo>
                              <a:pt x="13" y="36"/>
                            </a:lnTo>
                            <a:lnTo>
                              <a:pt x="15" y="57"/>
                            </a:lnTo>
                            <a:lnTo>
                              <a:pt x="13" y="80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46" name="Freeform 35"/>
                      <p:cNvSpPr/>
                      <p:nvPr/>
                    </p:nvSpPr>
                    <p:spPr>
                      <a:xfrm>
                        <a:off x="766800" y="1513080"/>
                        <a:ext cx="19080" cy="11160"/>
                      </a:xfrm>
                      <a:custGeom>
                        <a:avLst/>
                        <a:gdLst>
                          <a:gd name="textAreaLeft" fmla="*/ 0 w 19080"/>
                          <a:gd name="textAreaRight" fmla="*/ 19440 w 19080"/>
                          <a:gd name="textAreaTop" fmla="*/ 0 h 11160"/>
                          <a:gd name="textAreaBottom" fmla="*/ 11520 h 11160"/>
                        </a:gdLst>
                        <a:ahLst/>
                        <a:rect l="textAreaLeft" t="textAreaTop" r="textAreaRight" b="textAreaBottom"/>
                        <a:pathLst>
                          <a:path w="61" h="32">
                            <a:moveTo>
                              <a:pt x="0" y="0"/>
                            </a:moveTo>
                            <a:lnTo>
                              <a:pt x="27" y="3"/>
                            </a:lnTo>
                            <a:lnTo>
                              <a:pt x="46" y="13"/>
                            </a:lnTo>
                            <a:lnTo>
                              <a:pt x="61" y="32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47" name="Freeform 36"/>
                      <p:cNvSpPr/>
                      <p:nvPr/>
                    </p:nvSpPr>
                    <p:spPr>
                      <a:xfrm>
                        <a:off x="728640" y="1560600"/>
                        <a:ext cx="31680" cy="27000"/>
                      </a:xfrm>
                      <a:custGeom>
                        <a:avLst/>
                        <a:gdLst>
                          <a:gd name="textAreaLeft" fmla="*/ 0 w 31680"/>
                          <a:gd name="textAreaRight" fmla="*/ 32040 w 31680"/>
                          <a:gd name="textAreaTop" fmla="*/ 0 h 27000"/>
                          <a:gd name="textAreaBottom" fmla="*/ 27360 h 27000"/>
                        </a:gdLst>
                        <a:ahLst/>
                        <a:rect l="textAreaLeft" t="textAreaTop" r="textAreaRight" b="textAreaBottom"/>
                        <a:pathLst>
                          <a:path w="104" h="87">
                            <a:moveTo>
                              <a:pt x="0" y="0"/>
                            </a:moveTo>
                            <a:lnTo>
                              <a:pt x="2" y="13"/>
                            </a:lnTo>
                            <a:lnTo>
                              <a:pt x="6" y="28"/>
                            </a:lnTo>
                            <a:lnTo>
                              <a:pt x="13" y="39"/>
                            </a:lnTo>
                            <a:lnTo>
                              <a:pt x="29" y="51"/>
                            </a:lnTo>
                            <a:lnTo>
                              <a:pt x="49" y="59"/>
                            </a:lnTo>
                            <a:lnTo>
                              <a:pt x="70" y="61"/>
                            </a:lnTo>
                            <a:lnTo>
                              <a:pt x="87" y="65"/>
                            </a:lnTo>
                            <a:lnTo>
                              <a:pt x="97" y="76"/>
                            </a:lnTo>
                            <a:lnTo>
                              <a:pt x="104" y="86"/>
                            </a:lnTo>
                            <a:lnTo>
                              <a:pt x="104" y="87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48" name="Group 37"/>
                <p:cNvGrpSpPr/>
                <p:nvPr/>
              </p:nvGrpSpPr>
              <p:grpSpPr>
                <a:xfrm>
                  <a:off x="495360" y="1193760"/>
                  <a:ext cx="384120" cy="516240"/>
                  <a:chOff x="495360" y="1193760"/>
                  <a:chExt cx="384120" cy="516240"/>
                </a:xfrm>
              </p:grpSpPr>
              <p:grpSp>
                <p:nvGrpSpPr>
                  <p:cNvPr id="349" name="Group 38"/>
                  <p:cNvGrpSpPr/>
                  <p:nvPr/>
                </p:nvGrpSpPr>
                <p:grpSpPr>
                  <a:xfrm>
                    <a:off x="563760" y="1193760"/>
                    <a:ext cx="304560" cy="285840"/>
                    <a:chOff x="563760" y="1193760"/>
                    <a:chExt cx="304560" cy="285840"/>
                  </a:xfrm>
                </p:grpSpPr>
                <p:sp>
                  <p:nvSpPr>
                    <p:cNvPr id="350" name="Freeform 39"/>
                    <p:cNvSpPr/>
                    <p:nvPr/>
                  </p:nvSpPr>
                  <p:spPr>
                    <a:xfrm>
                      <a:off x="592200" y="1193760"/>
                      <a:ext cx="271440" cy="285840"/>
                    </a:xfrm>
                    <a:custGeom>
                      <a:avLst/>
                      <a:gdLst>
                        <a:gd name="textAreaLeft" fmla="*/ 0 w 271440"/>
                        <a:gd name="textAreaRight" fmla="*/ 271800 w 271440"/>
                        <a:gd name="textAreaTop" fmla="*/ 0 h 285840"/>
                        <a:gd name="textAreaBottom" fmla="*/ 286200 h 285840"/>
                      </a:gdLst>
                      <a:ahLst/>
                      <a:rect l="textAreaLeft" t="textAreaTop" r="textAreaRight" b="textAreaBottom"/>
                      <a:pathLst>
                        <a:path w="859" h="901">
                          <a:moveTo>
                            <a:pt x="106" y="714"/>
                          </a:moveTo>
                          <a:lnTo>
                            <a:pt x="147" y="637"/>
                          </a:lnTo>
                          <a:lnTo>
                            <a:pt x="147" y="614"/>
                          </a:lnTo>
                          <a:lnTo>
                            <a:pt x="132" y="583"/>
                          </a:lnTo>
                          <a:lnTo>
                            <a:pt x="109" y="550"/>
                          </a:lnTo>
                          <a:lnTo>
                            <a:pt x="67" y="518"/>
                          </a:lnTo>
                          <a:lnTo>
                            <a:pt x="40" y="475"/>
                          </a:lnTo>
                          <a:lnTo>
                            <a:pt x="27" y="437"/>
                          </a:lnTo>
                          <a:lnTo>
                            <a:pt x="10" y="408"/>
                          </a:lnTo>
                          <a:lnTo>
                            <a:pt x="10" y="375"/>
                          </a:lnTo>
                          <a:lnTo>
                            <a:pt x="0" y="298"/>
                          </a:lnTo>
                          <a:lnTo>
                            <a:pt x="10" y="239"/>
                          </a:lnTo>
                          <a:lnTo>
                            <a:pt x="29" y="188"/>
                          </a:lnTo>
                          <a:lnTo>
                            <a:pt x="55" y="133"/>
                          </a:lnTo>
                          <a:lnTo>
                            <a:pt x="86" y="102"/>
                          </a:lnTo>
                          <a:lnTo>
                            <a:pt x="145" y="64"/>
                          </a:lnTo>
                          <a:lnTo>
                            <a:pt x="209" y="38"/>
                          </a:lnTo>
                          <a:lnTo>
                            <a:pt x="276" y="15"/>
                          </a:lnTo>
                          <a:lnTo>
                            <a:pt x="362" y="2"/>
                          </a:lnTo>
                          <a:lnTo>
                            <a:pt x="423" y="0"/>
                          </a:lnTo>
                          <a:lnTo>
                            <a:pt x="484" y="5"/>
                          </a:lnTo>
                          <a:lnTo>
                            <a:pt x="561" y="20"/>
                          </a:lnTo>
                          <a:lnTo>
                            <a:pt x="632" y="43"/>
                          </a:lnTo>
                          <a:lnTo>
                            <a:pt x="683" y="69"/>
                          </a:lnTo>
                          <a:lnTo>
                            <a:pt x="747" y="118"/>
                          </a:lnTo>
                          <a:lnTo>
                            <a:pt x="790" y="176"/>
                          </a:lnTo>
                          <a:lnTo>
                            <a:pt x="823" y="229"/>
                          </a:lnTo>
                          <a:lnTo>
                            <a:pt x="839" y="268"/>
                          </a:lnTo>
                          <a:lnTo>
                            <a:pt x="859" y="336"/>
                          </a:lnTo>
                          <a:lnTo>
                            <a:pt x="859" y="388"/>
                          </a:lnTo>
                          <a:lnTo>
                            <a:pt x="846" y="463"/>
                          </a:lnTo>
                          <a:lnTo>
                            <a:pt x="826" y="524"/>
                          </a:lnTo>
                          <a:lnTo>
                            <a:pt x="797" y="575"/>
                          </a:lnTo>
                          <a:lnTo>
                            <a:pt x="772" y="604"/>
                          </a:lnTo>
                          <a:lnTo>
                            <a:pt x="735" y="637"/>
                          </a:lnTo>
                          <a:lnTo>
                            <a:pt x="674" y="662"/>
                          </a:lnTo>
                          <a:lnTo>
                            <a:pt x="629" y="678"/>
                          </a:lnTo>
                          <a:lnTo>
                            <a:pt x="577" y="693"/>
                          </a:lnTo>
                          <a:lnTo>
                            <a:pt x="497" y="701"/>
                          </a:lnTo>
                          <a:lnTo>
                            <a:pt x="428" y="714"/>
                          </a:lnTo>
                          <a:lnTo>
                            <a:pt x="382" y="723"/>
                          </a:lnTo>
                          <a:lnTo>
                            <a:pt x="369" y="745"/>
                          </a:lnTo>
                          <a:lnTo>
                            <a:pt x="372" y="772"/>
                          </a:lnTo>
                          <a:lnTo>
                            <a:pt x="369" y="798"/>
                          </a:lnTo>
                          <a:lnTo>
                            <a:pt x="359" y="817"/>
                          </a:lnTo>
                          <a:lnTo>
                            <a:pt x="354" y="853"/>
                          </a:lnTo>
                          <a:lnTo>
                            <a:pt x="356" y="901"/>
                          </a:lnTo>
                          <a:lnTo>
                            <a:pt x="298" y="821"/>
                          </a:lnTo>
                          <a:lnTo>
                            <a:pt x="222" y="756"/>
                          </a:lnTo>
                          <a:lnTo>
                            <a:pt x="158" y="726"/>
                          </a:lnTo>
                          <a:lnTo>
                            <a:pt x="106" y="714"/>
                          </a:lnTo>
                          <a:close/>
                        </a:path>
                      </a:pathLst>
                    </a:custGeom>
                    <a:solidFill>
                      <a:srgbClr val="e0a08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351" name="Group 40"/>
                    <p:cNvGrpSpPr/>
                    <p:nvPr/>
                  </p:nvGrpSpPr>
                  <p:grpSpPr>
                    <a:xfrm>
                      <a:off x="563760" y="1193760"/>
                      <a:ext cx="255600" cy="196920"/>
                      <a:chOff x="563760" y="1193760"/>
                      <a:chExt cx="255600" cy="196920"/>
                    </a:xfrm>
                  </p:grpSpPr>
                  <p:grpSp>
                    <p:nvGrpSpPr>
                      <p:cNvPr id="352" name="Group 41"/>
                      <p:cNvGrpSpPr/>
                      <p:nvPr/>
                    </p:nvGrpSpPr>
                    <p:grpSpPr>
                      <a:xfrm>
                        <a:off x="631800" y="1193760"/>
                        <a:ext cx="176400" cy="60480"/>
                        <a:chOff x="631800" y="1193760"/>
                        <a:chExt cx="176400" cy="60480"/>
                      </a:xfrm>
                    </p:grpSpPr>
                    <p:sp>
                      <p:nvSpPr>
                        <p:cNvPr id="353" name="Freeform 42"/>
                        <p:cNvSpPr/>
                        <p:nvPr/>
                      </p:nvSpPr>
                      <p:spPr>
                        <a:xfrm>
                          <a:off x="646200" y="1203480"/>
                          <a:ext cx="162000" cy="50760"/>
                        </a:xfrm>
                        <a:custGeom>
                          <a:avLst/>
                          <a:gdLst>
                            <a:gd name="textAreaLeft" fmla="*/ 0 w 162000"/>
                            <a:gd name="textAreaRight" fmla="*/ 162360 w 162000"/>
                            <a:gd name="textAreaTop" fmla="*/ 0 h 50760"/>
                            <a:gd name="textAreaBottom" fmla="*/ 51120 h 50760"/>
                          </a:gdLst>
                          <a:ahLst/>
                          <a:rect l="textAreaLeft" t="textAreaTop" r="textAreaRight" b="textAreaBottom"/>
                          <a:pathLst>
                            <a:path w="510" h="160">
                              <a:moveTo>
                                <a:pt x="0" y="160"/>
                              </a:moveTo>
                              <a:lnTo>
                                <a:pt x="39" y="110"/>
                              </a:lnTo>
                              <a:lnTo>
                                <a:pt x="90" y="71"/>
                              </a:lnTo>
                              <a:lnTo>
                                <a:pt x="151" y="38"/>
                              </a:lnTo>
                              <a:lnTo>
                                <a:pt x="212" y="19"/>
                              </a:lnTo>
                              <a:lnTo>
                                <a:pt x="279" y="5"/>
                              </a:lnTo>
                              <a:lnTo>
                                <a:pt x="366" y="0"/>
                              </a:lnTo>
                              <a:lnTo>
                                <a:pt x="430" y="10"/>
                              </a:lnTo>
                              <a:lnTo>
                                <a:pt x="510" y="36"/>
                              </a:lnTo>
                            </a:path>
                          </a:pathLst>
                        </a:custGeom>
                        <a:noFill/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20" bIns="4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54" name="Freeform 43"/>
                        <p:cNvSpPr/>
                        <p:nvPr/>
                      </p:nvSpPr>
                      <p:spPr>
                        <a:xfrm>
                          <a:off x="631800" y="1193760"/>
                          <a:ext cx="166680" cy="55800"/>
                        </a:xfrm>
                        <a:custGeom>
                          <a:avLst/>
                          <a:gdLst>
                            <a:gd name="textAreaLeft" fmla="*/ 0 w 166680"/>
                            <a:gd name="textAreaRight" fmla="*/ 167040 w 166680"/>
                            <a:gd name="textAreaTop" fmla="*/ 0 h 55800"/>
                            <a:gd name="textAreaBottom" fmla="*/ 56160 h 55800"/>
                          </a:gdLst>
                          <a:ahLst/>
                          <a:rect l="textAreaLeft" t="textAreaTop" r="textAreaRight" b="textAreaBottom"/>
                          <a:pathLst>
                            <a:path w="526" h="176">
                              <a:moveTo>
                                <a:pt x="0" y="176"/>
                              </a:moveTo>
                              <a:lnTo>
                                <a:pt x="25" y="125"/>
                              </a:lnTo>
                              <a:lnTo>
                                <a:pt x="56" y="89"/>
                              </a:lnTo>
                              <a:lnTo>
                                <a:pt x="90" y="60"/>
                              </a:lnTo>
                              <a:lnTo>
                                <a:pt x="151" y="28"/>
                              </a:lnTo>
                              <a:lnTo>
                                <a:pt x="231" y="5"/>
                              </a:lnTo>
                              <a:lnTo>
                                <a:pt x="305" y="0"/>
                              </a:lnTo>
                              <a:lnTo>
                                <a:pt x="385" y="8"/>
                              </a:lnTo>
                              <a:lnTo>
                                <a:pt x="458" y="31"/>
                              </a:lnTo>
                              <a:lnTo>
                                <a:pt x="494" y="41"/>
                              </a:lnTo>
                              <a:lnTo>
                                <a:pt x="526" y="51"/>
                              </a:lnTo>
                            </a:path>
                          </a:pathLst>
                        </a:custGeom>
                        <a:noFill/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360" bIns="9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355" name="Group 44"/>
                      <p:cNvGrpSpPr/>
                      <p:nvPr/>
                    </p:nvGrpSpPr>
                    <p:grpSpPr>
                      <a:xfrm>
                        <a:off x="563760" y="1230480"/>
                        <a:ext cx="95040" cy="96840"/>
                        <a:chOff x="563760" y="1230480"/>
                        <a:chExt cx="95040" cy="96840"/>
                      </a:xfrm>
                    </p:grpSpPr>
                    <p:sp>
                      <p:nvSpPr>
                        <p:cNvPr id="356" name="Freeform 45"/>
                        <p:cNvSpPr/>
                        <p:nvPr/>
                      </p:nvSpPr>
                      <p:spPr>
                        <a:xfrm>
                          <a:off x="563760" y="1230480"/>
                          <a:ext cx="95040" cy="96840"/>
                        </a:xfrm>
                        <a:custGeom>
                          <a:avLst/>
                          <a:gdLst>
                            <a:gd name="textAreaLeft" fmla="*/ 0 w 95040"/>
                            <a:gd name="textAreaRight" fmla="*/ 95400 w 95040"/>
                            <a:gd name="textAreaTop" fmla="*/ 0 h 96840"/>
                            <a:gd name="textAreaBottom" fmla="*/ 97200 h 96840"/>
                          </a:gdLst>
                          <a:ahLst/>
                          <a:rect l="textAreaLeft" t="textAreaTop" r="textAreaRight" b="textAreaBottom"/>
                          <a:pathLst>
                            <a:path w="302" h="305">
                              <a:moveTo>
                                <a:pt x="56" y="290"/>
                              </a:moveTo>
                              <a:lnTo>
                                <a:pt x="17" y="253"/>
                              </a:lnTo>
                              <a:lnTo>
                                <a:pt x="0" y="200"/>
                              </a:lnTo>
                              <a:lnTo>
                                <a:pt x="9" y="133"/>
                              </a:lnTo>
                              <a:lnTo>
                                <a:pt x="32" y="83"/>
                              </a:lnTo>
                              <a:lnTo>
                                <a:pt x="50" y="58"/>
                              </a:lnTo>
                              <a:lnTo>
                                <a:pt x="71" y="25"/>
                              </a:lnTo>
                              <a:lnTo>
                                <a:pt x="81" y="14"/>
                              </a:lnTo>
                              <a:lnTo>
                                <a:pt x="95" y="2"/>
                              </a:lnTo>
                              <a:lnTo>
                                <a:pt x="110" y="0"/>
                              </a:lnTo>
                              <a:lnTo>
                                <a:pt x="119" y="13"/>
                              </a:lnTo>
                              <a:lnTo>
                                <a:pt x="126" y="27"/>
                              </a:lnTo>
                              <a:lnTo>
                                <a:pt x="132" y="17"/>
                              </a:lnTo>
                              <a:lnTo>
                                <a:pt x="149" y="15"/>
                              </a:lnTo>
                              <a:lnTo>
                                <a:pt x="159" y="27"/>
                              </a:lnTo>
                              <a:lnTo>
                                <a:pt x="163" y="45"/>
                              </a:lnTo>
                              <a:lnTo>
                                <a:pt x="167" y="69"/>
                              </a:lnTo>
                              <a:lnTo>
                                <a:pt x="180" y="63"/>
                              </a:lnTo>
                              <a:lnTo>
                                <a:pt x="194" y="70"/>
                              </a:lnTo>
                              <a:lnTo>
                                <a:pt x="197" y="77"/>
                              </a:lnTo>
                              <a:lnTo>
                                <a:pt x="196" y="90"/>
                              </a:lnTo>
                              <a:lnTo>
                                <a:pt x="194" y="103"/>
                              </a:lnTo>
                              <a:lnTo>
                                <a:pt x="202" y="95"/>
                              </a:lnTo>
                              <a:lnTo>
                                <a:pt x="215" y="88"/>
                              </a:lnTo>
                              <a:lnTo>
                                <a:pt x="236" y="90"/>
                              </a:lnTo>
                              <a:lnTo>
                                <a:pt x="237" y="101"/>
                              </a:lnTo>
                              <a:lnTo>
                                <a:pt x="238" y="111"/>
                              </a:lnTo>
                              <a:lnTo>
                                <a:pt x="238" y="123"/>
                              </a:lnTo>
                              <a:lnTo>
                                <a:pt x="251" y="121"/>
                              </a:lnTo>
                              <a:lnTo>
                                <a:pt x="264" y="126"/>
                              </a:lnTo>
                              <a:lnTo>
                                <a:pt x="271" y="136"/>
                              </a:lnTo>
                              <a:lnTo>
                                <a:pt x="274" y="152"/>
                              </a:lnTo>
                              <a:lnTo>
                                <a:pt x="286" y="157"/>
                              </a:lnTo>
                              <a:lnTo>
                                <a:pt x="293" y="175"/>
                              </a:lnTo>
                              <a:lnTo>
                                <a:pt x="290" y="195"/>
                              </a:lnTo>
                              <a:lnTo>
                                <a:pt x="286" y="228"/>
                              </a:lnTo>
                              <a:lnTo>
                                <a:pt x="289" y="247"/>
                              </a:lnTo>
                              <a:lnTo>
                                <a:pt x="296" y="260"/>
                              </a:lnTo>
                              <a:lnTo>
                                <a:pt x="302" y="273"/>
                              </a:lnTo>
                              <a:lnTo>
                                <a:pt x="302" y="289"/>
                              </a:lnTo>
                              <a:lnTo>
                                <a:pt x="293" y="302"/>
                              </a:lnTo>
                              <a:lnTo>
                                <a:pt x="283" y="305"/>
                              </a:lnTo>
                              <a:lnTo>
                                <a:pt x="271" y="305"/>
                              </a:lnTo>
                              <a:lnTo>
                                <a:pt x="259" y="303"/>
                              </a:lnTo>
                              <a:lnTo>
                                <a:pt x="245" y="290"/>
                              </a:lnTo>
                              <a:lnTo>
                                <a:pt x="237" y="279"/>
                              </a:lnTo>
                              <a:lnTo>
                                <a:pt x="235" y="273"/>
                              </a:lnTo>
                              <a:lnTo>
                                <a:pt x="222" y="277"/>
                              </a:lnTo>
                              <a:lnTo>
                                <a:pt x="206" y="276"/>
                              </a:lnTo>
                              <a:lnTo>
                                <a:pt x="196" y="271"/>
                              </a:lnTo>
                              <a:lnTo>
                                <a:pt x="193" y="266"/>
                              </a:lnTo>
                              <a:lnTo>
                                <a:pt x="180" y="266"/>
                              </a:lnTo>
                              <a:lnTo>
                                <a:pt x="172" y="263"/>
                              </a:lnTo>
                              <a:lnTo>
                                <a:pt x="167" y="261"/>
                              </a:lnTo>
                              <a:lnTo>
                                <a:pt x="157" y="261"/>
                              </a:lnTo>
                              <a:lnTo>
                                <a:pt x="149" y="259"/>
                              </a:lnTo>
                              <a:lnTo>
                                <a:pt x="142" y="247"/>
                              </a:lnTo>
                              <a:lnTo>
                                <a:pt x="137" y="240"/>
                              </a:lnTo>
                              <a:lnTo>
                                <a:pt x="132" y="247"/>
                              </a:lnTo>
                              <a:lnTo>
                                <a:pt x="127" y="259"/>
                              </a:lnTo>
                              <a:lnTo>
                                <a:pt x="118" y="263"/>
                              </a:lnTo>
                              <a:lnTo>
                                <a:pt x="107" y="264"/>
                              </a:lnTo>
                              <a:lnTo>
                                <a:pt x="101" y="264"/>
                              </a:lnTo>
                              <a:lnTo>
                                <a:pt x="98" y="271"/>
                              </a:lnTo>
                              <a:lnTo>
                                <a:pt x="90" y="279"/>
                              </a:lnTo>
                              <a:lnTo>
                                <a:pt x="81" y="290"/>
                              </a:lnTo>
                              <a:lnTo>
                                <a:pt x="56" y="29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8040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grpSp>
                      <p:nvGrpSpPr>
                        <p:cNvPr id="357" name="Group 46"/>
                        <p:cNvGrpSpPr/>
                        <p:nvPr/>
                      </p:nvGrpSpPr>
                      <p:grpSpPr>
                        <a:xfrm>
                          <a:off x="568440" y="1235160"/>
                          <a:ext cx="73080" cy="85680"/>
                          <a:chOff x="568440" y="1235160"/>
                          <a:chExt cx="73080" cy="85680"/>
                        </a:xfrm>
                      </p:grpSpPr>
                      <p:sp>
                        <p:nvSpPr>
                          <p:cNvPr id="358" name="Freeform 47"/>
                          <p:cNvSpPr/>
                          <p:nvPr/>
                        </p:nvSpPr>
                        <p:spPr>
                          <a:xfrm>
                            <a:off x="625680" y="1292400"/>
                            <a:ext cx="15840" cy="17280"/>
                          </a:xfrm>
                          <a:custGeom>
                            <a:avLst/>
                            <a:gdLst>
                              <a:gd name="textAreaLeft" fmla="*/ 0 w 15840"/>
                              <a:gd name="textAreaRight" fmla="*/ 16200 w 15840"/>
                              <a:gd name="textAreaTop" fmla="*/ 0 h 17280"/>
                              <a:gd name="textAreaBottom" fmla="*/ 17640 h 17280"/>
                            </a:gdLst>
                            <a:ahLst/>
                            <a:rect l="textAreaLeft" t="textAreaTop" r="textAreaRight" b="textAreaBottom"/>
                            <a:pathLst>
                              <a:path w="46" h="56">
                                <a:moveTo>
                                  <a:pt x="13" y="56"/>
                                </a:moveTo>
                                <a:lnTo>
                                  <a:pt x="10" y="27"/>
                                </a:lnTo>
                                <a:lnTo>
                                  <a:pt x="19" y="12"/>
                                </a:lnTo>
                                <a:lnTo>
                                  <a:pt x="46" y="0"/>
                                </a:lnTo>
                                <a:lnTo>
                                  <a:pt x="28" y="2"/>
                                </a:lnTo>
                                <a:lnTo>
                                  <a:pt x="7" y="8"/>
                                </a:lnTo>
                                <a:lnTo>
                                  <a:pt x="0" y="22"/>
                                </a:lnTo>
                                <a:lnTo>
                                  <a:pt x="13" y="5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160" bIns="-291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359" name="Freeform 48"/>
                          <p:cNvSpPr/>
                          <p:nvPr/>
                        </p:nvSpPr>
                        <p:spPr>
                          <a:xfrm>
                            <a:off x="598680" y="1263960"/>
                            <a:ext cx="23760" cy="42840"/>
                          </a:xfrm>
                          <a:custGeom>
                            <a:avLst/>
                            <a:gdLst>
                              <a:gd name="textAreaLeft" fmla="*/ 0 w 23760"/>
                              <a:gd name="textAreaRight" fmla="*/ 24120 w 23760"/>
                              <a:gd name="textAreaTop" fmla="*/ 0 h 42840"/>
                              <a:gd name="textAreaBottom" fmla="*/ 43200 h 42840"/>
                            </a:gdLst>
                            <a:ahLst/>
                            <a:rect l="textAreaLeft" t="textAreaTop" r="textAreaRight" b="textAreaBottom"/>
                            <a:pathLst>
                              <a:path w="73" h="137">
                                <a:moveTo>
                                  <a:pt x="30" y="137"/>
                                </a:moveTo>
                                <a:lnTo>
                                  <a:pt x="17" y="107"/>
                                </a:lnTo>
                                <a:lnTo>
                                  <a:pt x="17" y="65"/>
                                </a:lnTo>
                                <a:lnTo>
                                  <a:pt x="42" y="33"/>
                                </a:lnTo>
                                <a:lnTo>
                                  <a:pt x="73" y="0"/>
                                </a:lnTo>
                                <a:lnTo>
                                  <a:pt x="54" y="19"/>
                                </a:lnTo>
                                <a:lnTo>
                                  <a:pt x="23" y="42"/>
                                </a:lnTo>
                                <a:lnTo>
                                  <a:pt x="0" y="61"/>
                                </a:lnTo>
                                <a:lnTo>
                                  <a:pt x="5" y="77"/>
                                </a:lnTo>
                                <a:lnTo>
                                  <a:pt x="4" y="96"/>
                                </a:lnTo>
                                <a:lnTo>
                                  <a:pt x="4" y="117"/>
                                </a:lnTo>
                                <a:lnTo>
                                  <a:pt x="30" y="13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00" bIns="-36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360" name="Freeform 49"/>
                          <p:cNvSpPr/>
                          <p:nvPr/>
                        </p:nvSpPr>
                        <p:spPr>
                          <a:xfrm>
                            <a:off x="568440" y="1287720"/>
                            <a:ext cx="15840" cy="33120"/>
                          </a:xfrm>
                          <a:custGeom>
                            <a:avLst/>
                            <a:gdLst>
                              <a:gd name="textAreaLeft" fmla="*/ 0 w 15840"/>
                              <a:gd name="textAreaRight" fmla="*/ 16200 w 15840"/>
                              <a:gd name="textAreaTop" fmla="*/ 0 h 33120"/>
                              <a:gd name="textAreaBottom" fmla="*/ 33480 h 33120"/>
                            </a:gdLst>
                            <a:ahLst/>
                            <a:rect l="textAreaLeft" t="textAreaTop" r="textAreaRight" b="textAreaBottom"/>
                            <a:pathLst>
                              <a:path w="50" h="106">
                                <a:moveTo>
                                  <a:pt x="22" y="88"/>
                                </a:moveTo>
                                <a:lnTo>
                                  <a:pt x="0" y="56"/>
                                </a:lnTo>
                                <a:lnTo>
                                  <a:pt x="9" y="33"/>
                                </a:lnTo>
                                <a:lnTo>
                                  <a:pt x="28" y="0"/>
                                </a:lnTo>
                                <a:lnTo>
                                  <a:pt x="12" y="57"/>
                                </a:lnTo>
                                <a:lnTo>
                                  <a:pt x="24" y="82"/>
                                </a:lnTo>
                                <a:lnTo>
                                  <a:pt x="50" y="106"/>
                                </a:lnTo>
                                <a:lnTo>
                                  <a:pt x="22" y="88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3320" bIns="-133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361" name="Freeform 50"/>
                          <p:cNvSpPr/>
                          <p:nvPr/>
                        </p:nvSpPr>
                        <p:spPr>
                          <a:xfrm>
                            <a:off x="581040" y="1235160"/>
                            <a:ext cx="20520" cy="34920"/>
                          </a:xfrm>
                          <a:custGeom>
                            <a:avLst/>
                            <a:gdLst>
                              <a:gd name="textAreaLeft" fmla="*/ 0 w 20520"/>
                              <a:gd name="textAreaRight" fmla="*/ 20880 w 20520"/>
                              <a:gd name="textAreaTop" fmla="*/ 0 h 34920"/>
                              <a:gd name="textAreaBottom" fmla="*/ 35280 h 34920"/>
                            </a:gdLst>
                            <a:ahLst/>
                            <a:rect l="textAreaLeft" t="textAreaTop" r="textAreaRight" b="textAreaBottom"/>
                            <a:pathLst>
                              <a:path w="68" h="106">
                                <a:moveTo>
                                  <a:pt x="68" y="0"/>
                                </a:moveTo>
                                <a:lnTo>
                                  <a:pt x="36" y="26"/>
                                </a:lnTo>
                                <a:lnTo>
                                  <a:pt x="9" y="53"/>
                                </a:lnTo>
                                <a:lnTo>
                                  <a:pt x="5" y="74"/>
                                </a:lnTo>
                                <a:lnTo>
                                  <a:pt x="0" y="106"/>
                                </a:lnTo>
                                <a:lnTo>
                                  <a:pt x="11" y="81"/>
                                </a:lnTo>
                                <a:lnTo>
                                  <a:pt x="20" y="55"/>
                                </a:lnTo>
                                <a:lnTo>
                                  <a:pt x="49" y="23"/>
                                </a:lnTo>
                                <a:lnTo>
                                  <a:pt x="68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1520" bIns="-11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362" name="Freeform 51"/>
                          <p:cNvSpPr/>
                          <p:nvPr/>
                        </p:nvSpPr>
                        <p:spPr>
                          <a:xfrm>
                            <a:off x="577800" y="1298880"/>
                            <a:ext cx="12960" cy="21960"/>
                          </a:xfrm>
                          <a:custGeom>
                            <a:avLst/>
                            <a:gdLst>
                              <a:gd name="textAreaLeft" fmla="*/ 0 w 12960"/>
                              <a:gd name="textAreaRight" fmla="*/ 13320 w 12960"/>
                              <a:gd name="textAreaTop" fmla="*/ 0 h 21960"/>
                              <a:gd name="textAreaBottom" fmla="*/ 22320 h 21960"/>
                            </a:gdLst>
                            <a:ahLst/>
                            <a:rect l="textAreaLeft" t="textAreaTop" r="textAreaRight" b="textAreaBottom"/>
                            <a:pathLst>
                              <a:path w="38" h="67">
                                <a:moveTo>
                                  <a:pt x="15" y="67"/>
                                </a:moveTo>
                                <a:lnTo>
                                  <a:pt x="5" y="45"/>
                                </a:lnTo>
                                <a:lnTo>
                                  <a:pt x="0" y="33"/>
                                </a:lnTo>
                                <a:lnTo>
                                  <a:pt x="11" y="14"/>
                                </a:lnTo>
                                <a:lnTo>
                                  <a:pt x="35" y="0"/>
                                </a:lnTo>
                                <a:lnTo>
                                  <a:pt x="21" y="19"/>
                                </a:lnTo>
                                <a:lnTo>
                                  <a:pt x="13" y="39"/>
                                </a:lnTo>
                                <a:lnTo>
                                  <a:pt x="25" y="45"/>
                                </a:lnTo>
                                <a:lnTo>
                                  <a:pt x="38" y="30"/>
                                </a:lnTo>
                                <a:lnTo>
                                  <a:pt x="32" y="44"/>
                                </a:lnTo>
                                <a:lnTo>
                                  <a:pt x="15" y="6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480" bIns="-244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63" name="Group 52"/>
                      <p:cNvGrpSpPr/>
                      <p:nvPr/>
                    </p:nvGrpSpPr>
                    <p:grpSpPr>
                      <a:xfrm>
                        <a:off x="716040" y="1341720"/>
                        <a:ext cx="103320" cy="48960"/>
                        <a:chOff x="716040" y="1341720"/>
                        <a:chExt cx="103320" cy="48960"/>
                      </a:xfrm>
                    </p:grpSpPr>
                    <p:sp>
                      <p:nvSpPr>
                        <p:cNvPr id="364" name="Freeform 53"/>
                        <p:cNvSpPr/>
                        <p:nvPr/>
                      </p:nvSpPr>
                      <p:spPr>
                        <a:xfrm>
                          <a:off x="716040" y="1341720"/>
                          <a:ext cx="103320" cy="48960"/>
                        </a:xfrm>
                        <a:custGeom>
                          <a:avLst/>
                          <a:gdLst>
                            <a:gd name="textAreaLeft" fmla="*/ 0 w 103320"/>
                            <a:gd name="textAreaRight" fmla="*/ 103680 w 103320"/>
                            <a:gd name="textAreaTop" fmla="*/ 0 h 48960"/>
                            <a:gd name="textAreaBottom" fmla="*/ 49320 h 48960"/>
                          </a:gdLst>
                          <a:ahLst/>
                          <a:rect l="textAreaLeft" t="textAreaTop" r="textAreaRight" b="textAreaBottom"/>
                          <a:pathLst>
                            <a:path w="324" h="159">
                              <a:moveTo>
                                <a:pt x="19" y="39"/>
                              </a:moveTo>
                              <a:lnTo>
                                <a:pt x="78" y="42"/>
                              </a:lnTo>
                              <a:lnTo>
                                <a:pt x="119" y="41"/>
                              </a:lnTo>
                              <a:lnTo>
                                <a:pt x="168" y="19"/>
                              </a:lnTo>
                              <a:lnTo>
                                <a:pt x="209" y="2"/>
                              </a:lnTo>
                              <a:lnTo>
                                <a:pt x="246" y="0"/>
                              </a:lnTo>
                              <a:lnTo>
                                <a:pt x="263" y="15"/>
                              </a:lnTo>
                              <a:lnTo>
                                <a:pt x="288" y="25"/>
                              </a:lnTo>
                              <a:lnTo>
                                <a:pt x="317" y="28"/>
                              </a:lnTo>
                              <a:lnTo>
                                <a:pt x="324" y="42"/>
                              </a:lnTo>
                              <a:lnTo>
                                <a:pt x="321" y="72"/>
                              </a:lnTo>
                              <a:lnTo>
                                <a:pt x="315" y="92"/>
                              </a:lnTo>
                              <a:lnTo>
                                <a:pt x="301" y="108"/>
                              </a:lnTo>
                              <a:lnTo>
                                <a:pt x="279" y="128"/>
                              </a:lnTo>
                              <a:lnTo>
                                <a:pt x="269" y="145"/>
                              </a:lnTo>
                              <a:lnTo>
                                <a:pt x="254" y="158"/>
                              </a:lnTo>
                              <a:lnTo>
                                <a:pt x="241" y="159"/>
                              </a:lnTo>
                              <a:lnTo>
                                <a:pt x="222" y="143"/>
                              </a:lnTo>
                              <a:lnTo>
                                <a:pt x="211" y="150"/>
                              </a:lnTo>
                              <a:lnTo>
                                <a:pt x="192" y="151"/>
                              </a:lnTo>
                              <a:lnTo>
                                <a:pt x="179" y="127"/>
                              </a:lnTo>
                              <a:lnTo>
                                <a:pt x="170" y="130"/>
                              </a:lnTo>
                              <a:lnTo>
                                <a:pt x="158" y="130"/>
                              </a:lnTo>
                              <a:lnTo>
                                <a:pt x="151" y="118"/>
                              </a:lnTo>
                              <a:lnTo>
                                <a:pt x="136" y="127"/>
                              </a:lnTo>
                              <a:lnTo>
                                <a:pt x="123" y="133"/>
                              </a:lnTo>
                              <a:lnTo>
                                <a:pt x="106" y="127"/>
                              </a:lnTo>
                              <a:lnTo>
                                <a:pt x="103" y="115"/>
                              </a:lnTo>
                              <a:lnTo>
                                <a:pt x="101" y="101"/>
                              </a:lnTo>
                              <a:lnTo>
                                <a:pt x="75" y="104"/>
                              </a:lnTo>
                              <a:lnTo>
                                <a:pt x="54" y="108"/>
                              </a:lnTo>
                              <a:lnTo>
                                <a:pt x="50" y="101"/>
                              </a:lnTo>
                              <a:lnTo>
                                <a:pt x="32" y="101"/>
                              </a:lnTo>
                              <a:lnTo>
                                <a:pt x="8" y="83"/>
                              </a:lnTo>
                              <a:lnTo>
                                <a:pt x="0" y="65"/>
                              </a:lnTo>
                              <a:lnTo>
                                <a:pt x="4" y="56"/>
                              </a:lnTo>
                              <a:lnTo>
                                <a:pt x="1" y="41"/>
                              </a:lnTo>
                              <a:lnTo>
                                <a:pt x="19" y="3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8040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20" bIns="25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grpSp>
                      <p:nvGrpSpPr>
                        <p:cNvPr id="365" name="Group 54"/>
                        <p:cNvGrpSpPr/>
                        <p:nvPr/>
                      </p:nvGrpSpPr>
                      <p:grpSpPr>
                        <a:xfrm>
                          <a:off x="730440" y="1349640"/>
                          <a:ext cx="77760" cy="37800"/>
                          <a:chOff x="730440" y="1349640"/>
                          <a:chExt cx="77760" cy="37800"/>
                        </a:xfrm>
                      </p:grpSpPr>
                      <p:sp>
                        <p:nvSpPr>
                          <p:cNvPr id="366" name="Freeform 55"/>
                          <p:cNvSpPr/>
                          <p:nvPr/>
                        </p:nvSpPr>
                        <p:spPr>
                          <a:xfrm>
                            <a:off x="730440" y="1362240"/>
                            <a:ext cx="23760" cy="11160"/>
                          </a:xfrm>
                          <a:custGeom>
                            <a:avLst/>
                            <a:gdLst>
                              <a:gd name="textAreaLeft" fmla="*/ 0 w 23760"/>
                              <a:gd name="textAreaRight" fmla="*/ 24120 w 23760"/>
                              <a:gd name="textAreaTop" fmla="*/ 0 h 11160"/>
                              <a:gd name="textAreaBottom" fmla="*/ 11520 h 11160"/>
                            </a:gdLst>
                            <a:ahLst/>
                            <a:rect l="textAreaLeft" t="textAreaTop" r="textAreaRight" b="textAreaBottom"/>
                            <a:pathLst>
                              <a:path w="75" h="36">
                                <a:moveTo>
                                  <a:pt x="0" y="36"/>
                                </a:moveTo>
                                <a:lnTo>
                                  <a:pt x="39" y="24"/>
                                </a:lnTo>
                                <a:lnTo>
                                  <a:pt x="75" y="0"/>
                                </a:lnTo>
                                <a:lnTo>
                                  <a:pt x="61" y="18"/>
                                </a:lnTo>
                                <a:lnTo>
                                  <a:pt x="45" y="30"/>
                                </a:lnTo>
                                <a:lnTo>
                                  <a:pt x="0" y="3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5280" bIns="-352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367" name="Freeform 56"/>
                          <p:cNvSpPr/>
                          <p:nvPr/>
                        </p:nvSpPr>
                        <p:spPr>
                          <a:xfrm>
                            <a:off x="762120" y="1349640"/>
                            <a:ext cx="19080" cy="29880"/>
                          </a:xfrm>
                          <a:custGeom>
                            <a:avLst/>
                            <a:gdLst>
                              <a:gd name="textAreaLeft" fmla="*/ 0 w 19080"/>
                              <a:gd name="textAreaRight" fmla="*/ 19440 w 19080"/>
                              <a:gd name="textAreaTop" fmla="*/ 0 h 29880"/>
                              <a:gd name="textAreaBottom" fmla="*/ 30240 h 29880"/>
                            </a:gdLst>
                            <a:ahLst/>
                            <a:rect l="textAreaLeft" t="textAreaTop" r="textAreaRight" b="textAreaBottom"/>
                            <a:pathLst>
                              <a:path w="61" h="97">
                                <a:moveTo>
                                  <a:pt x="0" y="97"/>
                                </a:moveTo>
                                <a:lnTo>
                                  <a:pt x="21" y="65"/>
                                </a:lnTo>
                                <a:lnTo>
                                  <a:pt x="61" y="0"/>
                                </a:lnTo>
                                <a:lnTo>
                                  <a:pt x="49" y="39"/>
                                </a:lnTo>
                                <a:lnTo>
                                  <a:pt x="42" y="67"/>
                                </a:lnTo>
                                <a:lnTo>
                                  <a:pt x="0" y="9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560" bIns="-165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368" name="Freeform 57"/>
                          <p:cNvSpPr/>
                          <p:nvPr/>
                        </p:nvSpPr>
                        <p:spPr>
                          <a:xfrm>
                            <a:off x="785880" y="1349640"/>
                            <a:ext cx="12600" cy="37800"/>
                          </a:xfrm>
                          <a:custGeom>
                            <a:avLst/>
                            <a:gdLst>
                              <a:gd name="textAreaLeft" fmla="*/ 0 w 12600"/>
                              <a:gd name="textAreaRight" fmla="*/ 12960 w 12600"/>
                              <a:gd name="textAreaTop" fmla="*/ 0 h 37800"/>
                              <a:gd name="textAreaBottom" fmla="*/ 38160 h 37800"/>
                            </a:gdLst>
                            <a:ahLst/>
                            <a:rect l="textAreaLeft" t="textAreaTop" r="textAreaRight" b="textAreaBottom"/>
                            <a:pathLst>
                              <a:path w="44" h="117">
                                <a:moveTo>
                                  <a:pt x="0" y="117"/>
                                </a:moveTo>
                                <a:lnTo>
                                  <a:pt x="32" y="91"/>
                                </a:lnTo>
                                <a:lnTo>
                                  <a:pt x="31" y="38"/>
                                </a:lnTo>
                                <a:lnTo>
                                  <a:pt x="9" y="0"/>
                                </a:lnTo>
                                <a:lnTo>
                                  <a:pt x="35" y="36"/>
                                </a:lnTo>
                                <a:lnTo>
                                  <a:pt x="44" y="72"/>
                                </a:lnTo>
                                <a:lnTo>
                                  <a:pt x="41" y="102"/>
                                </a:lnTo>
                                <a:lnTo>
                                  <a:pt x="0" y="11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8640" bIns="-86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369" name="Freeform 58"/>
                          <p:cNvSpPr/>
                          <p:nvPr/>
                        </p:nvSpPr>
                        <p:spPr>
                          <a:xfrm>
                            <a:off x="804960" y="1362240"/>
                            <a:ext cx="3240" cy="14400"/>
                          </a:xfrm>
                          <a:custGeom>
                            <a:avLst/>
                            <a:gdLst>
                              <a:gd name="textAreaLeft" fmla="*/ 0 w 3240"/>
                              <a:gd name="textAreaRight" fmla="*/ 3600 w 3240"/>
                              <a:gd name="textAreaTop" fmla="*/ 0 h 14400"/>
                              <a:gd name="textAreaBottom" fmla="*/ 14760 h 14400"/>
                            </a:gdLst>
                            <a:ahLst/>
                            <a:rect l="textAreaLeft" t="textAreaTop" r="textAreaRight" b="textAreaBottom"/>
                            <a:pathLst>
                              <a:path w="13" h="45">
                                <a:moveTo>
                                  <a:pt x="0" y="0"/>
                                </a:moveTo>
                                <a:lnTo>
                                  <a:pt x="13" y="29"/>
                                </a:lnTo>
                                <a:lnTo>
                                  <a:pt x="9" y="45"/>
                                </a:lnTo>
                              </a:path>
                            </a:pathLst>
                          </a:custGeom>
                          <a:noFill/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2040" bIns="-320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370" name="Group 59"/>
                    <p:cNvGrpSpPr/>
                    <p:nvPr/>
                  </p:nvGrpSpPr>
                  <p:grpSpPr>
                    <a:xfrm>
                      <a:off x="744480" y="1254240"/>
                      <a:ext cx="123840" cy="106560"/>
                      <a:chOff x="744480" y="1254240"/>
                      <a:chExt cx="123840" cy="106560"/>
                    </a:xfrm>
                  </p:grpSpPr>
                  <p:sp>
                    <p:nvSpPr>
                      <p:cNvPr id="371" name="Freeform 60"/>
                      <p:cNvSpPr/>
                      <p:nvPr/>
                    </p:nvSpPr>
                    <p:spPr>
                      <a:xfrm>
                        <a:off x="800280" y="1292400"/>
                        <a:ext cx="56880" cy="55440"/>
                      </a:xfrm>
                      <a:custGeom>
                        <a:avLst/>
                        <a:gdLst>
                          <a:gd name="textAreaLeft" fmla="*/ 0 w 56880"/>
                          <a:gd name="textAreaRight" fmla="*/ 57240 w 56880"/>
                          <a:gd name="textAreaTop" fmla="*/ 0 h 55440"/>
                          <a:gd name="textAreaBottom" fmla="*/ 55800 h 55440"/>
                        </a:gdLst>
                        <a:ahLst/>
                        <a:rect l="textAreaLeft" t="textAreaTop" r="textAreaRight" b="textAreaBottom"/>
                        <a:pathLst>
                          <a:path w="184" h="171">
                            <a:moveTo>
                              <a:pt x="13" y="68"/>
                            </a:moveTo>
                            <a:lnTo>
                              <a:pt x="34" y="34"/>
                            </a:lnTo>
                            <a:lnTo>
                              <a:pt x="47" y="22"/>
                            </a:lnTo>
                            <a:lnTo>
                              <a:pt x="77" y="7"/>
                            </a:lnTo>
                            <a:lnTo>
                              <a:pt x="109" y="0"/>
                            </a:lnTo>
                            <a:lnTo>
                              <a:pt x="139" y="0"/>
                            </a:lnTo>
                            <a:lnTo>
                              <a:pt x="157" y="5"/>
                            </a:lnTo>
                            <a:lnTo>
                              <a:pt x="174" y="26"/>
                            </a:lnTo>
                            <a:lnTo>
                              <a:pt x="184" y="55"/>
                            </a:lnTo>
                            <a:lnTo>
                              <a:pt x="181" y="85"/>
                            </a:lnTo>
                            <a:lnTo>
                              <a:pt x="165" y="113"/>
                            </a:lnTo>
                            <a:lnTo>
                              <a:pt x="153" y="133"/>
                            </a:lnTo>
                            <a:lnTo>
                              <a:pt x="119" y="153"/>
                            </a:lnTo>
                            <a:lnTo>
                              <a:pt x="77" y="163"/>
                            </a:lnTo>
                            <a:lnTo>
                              <a:pt x="40" y="171"/>
                            </a:lnTo>
                            <a:lnTo>
                              <a:pt x="15" y="163"/>
                            </a:lnTo>
                            <a:lnTo>
                              <a:pt x="2" y="146"/>
                            </a:lnTo>
                            <a:lnTo>
                              <a:pt x="0" y="118"/>
                            </a:lnTo>
                            <a:lnTo>
                              <a:pt x="13" y="68"/>
                            </a:lnTo>
                            <a:close/>
                          </a:path>
                        </a:pathLst>
                      </a:custGeom>
                      <a:solidFill>
                        <a:srgbClr val="f0f0ff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000" bIns="9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72" name="Freeform 61"/>
                      <p:cNvSpPr/>
                      <p:nvPr/>
                    </p:nvSpPr>
                    <p:spPr>
                      <a:xfrm>
                        <a:off x="824040" y="1276560"/>
                        <a:ext cx="44280" cy="33120"/>
                      </a:xfrm>
                      <a:custGeom>
                        <a:avLst/>
                        <a:gdLst>
                          <a:gd name="textAreaLeft" fmla="*/ 0 w 44280"/>
                          <a:gd name="textAreaRight" fmla="*/ 44640 w 44280"/>
                          <a:gd name="textAreaTop" fmla="*/ 0 h 33120"/>
                          <a:gd name="textAreaBottom" fmla="*/ 33480 h 33120"/>
                        </a:gdLst>
                        <a:ahLst/>
                        <a:rect l="textAreaLeft" t="textAreaTop" r="textAreaRight" b="textAreaBottom"/>
                        <a:pathLst>
                          <a:path w="137" h="107">
                            <a:moveTo>
                              <a:pt x="17" y="0"/>
                            </a:moveTo>
                            <a:lnTo>
                              <a:pt x="131" y="63"/>
                            </a:lnTo>
                            <a:lnTo>
                              <a:pt x="136" y="72"/>
                            </a:lnTo>
                            <a:lnTo>
                              <a:pt x="137" y="85"/>
                            </a:lnTo>
                            <a:lnTo>
                              <a:pt x="135" y="95"/>
                            </a:lnTo>
                            <a:lnTo>
                              <a:pt x="131" y="104"/>
                            </a:lnTo>
                            <a:lnTo>
                              <a:pt x="126" y="107"/>
                            </a:lnTo>
                            <a:lnTo>
                              <a:pt x="115" y="107"/>
                            </a:lnTo>
                            <a:lnTo>
                              <a:pt x="11" y="47"/>
                            </a:lnTo>
                            <a:lnTo>
                              <a:pt x="2" y="38"/>
                            </a:lnTo>
                            <a:lnTo>
                              <a:pt x="0" y="26"/>
                            </a:lnTo>
                            <a:lnTo>
                              <a:pt x="2" y="13"/>
                            </a:lnTo>
                            <a:lnTo>
                              <a:pt x="6" y="7"/>
                            </a:lnTo>
                            <a:lnTo>
                              <a:pt x="12" y="1"/>
                            </a:lnTo>
                            <a:lnTo>
                              <a:pt x="17" y="0"/>
                            </a:lnTo>
                            <a:close/>
                          </a:path>
                        </a:pathLst>
                      </a:custGeom>
                      <a:solidFill>
                        <a:srgbClr val="c08040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320" bIns="-13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73" name="Freeform 62"/>
                      <p:cNvSpPr/>
                      <p:nvPr/>
                    </p:nvSpPr>
                    <p:spPr>
                      <a:xfrm>
                        <a:off x="785880" y="1278000"/>
                        <a:ext cx="79200" cy="82800"/>
                      </a:xfrm>
                      <a:custGeom>
                        <a:avLst/>
                        <a:gdLst>
                          <a:gd name="textAreaLeft" fmla="*/ 0 w 79200"/>
                          <a:gd name="textAreaRight" fmla="*/ 79560 w 79200"/>
                          <a:gd name="textAreaTop" fmla="*/ 0 h 82800"/>
                          <a:gd name="textAreaBottom" fmla="*/ 83160 h 82800"/>
                        </a:gdLst>
                        <a:ahLst/>
                        <a:rect l="textAreaLeft" t="textAreaTop" r="textAreaRight" b="textAreaBottom"/>
                        <a:pathLst>
                          <a:path w="250" h="260">
                            <a:moveTo>
                              <a:pt x="77" y="0"/>
                            </a:moveTo>
                            <a:lnTo>
                              <a:pt x="150" y="60"/>
                            </a:lnTo>
                            <a:lnTo>
                              <a:pt x="180" y="87"/>
                            </a:lnTo>
                            <a:lnTo>
                              <a:pt x="211" y="118"/>
                            </a:lnTo>
                            <a:lnTo>
                              <a:pt x="229" y="143"/>
                            </a:lnTo>
                            <a:lnTo>
                              <a:pt x="246" y="168"/>
                            </a:lnTo>
                            <a:lnTo>
                              <a:pt x="250" y="198"/>
                            </a:lnTo>
                            <a:lnTo>
                              <a:pt x="247" y="228"/>
                            </a:lnTo>
                            <a:lnTo>
                              <a:pt x="234" y="247"/>
                            </a:lnTo>
                            <a:lnTo>
                              <a:pt x="211" y="260"/>
                            </a:lnTo>
                            <a:lnTo>
                              <a:pt x="155" y="260"/>
                            </a:lnTo>
                            <a:lnTo>
                              <a:pt x="116" y="254"/>
                            </a:lnTo>
                            <a:lnTo>
                              <a:pt x="58" y="238"/>
                            </a:lnTo>
                            <a:lnTo>
                              <a:pt x="47" y="221"/>
                            </a:lnTo>
                            <a:lnTo>
                              <a:pt x="29" y="198"/>
                            </a:lnTo>
                            <a:lnTo>
                              <a:pt x="0" y="186"/>
                            </a:lnTo>
                            <a:lnTo>
                              <a:pt x="26" y="148"/>
                            </a:lnTo>
                            <a:lnTo>
                              <a:pt x="26" y="60"/>
                            </a:lnTo>
                            <a:lnTo>
                              <a:pt x="77" y="0"/>
                            </a:lnTo>
                            <a:close/>
                          </a:path>
                        </a:pathLst>
                      </a:custGeom>
                      <a:solidFill>
                        <a:srgbClr val="e0a080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360" bIns="36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grpSp>
                    <p:nvGrpSpPr>
                      <p:cNvPr id="374" name="Group 63"/>
                      <p:cNvGrpSpPr/>
                      <p:nvPr/>
                    </p:nvGrpSpPr>
                    <p:grpSpPr>
                      <a:xfrm>
                        <a:off x="744480" y="1254240"/>
                        <a:ext cx="74880" cy="73080"/>
                        <a:chOff x="744480" y="1254240"/>
                        <a:chExt cx="74880" cy="73080"/>
                      </a:xfrm>
                    </p:grpSpPr>
                    <p:sp>
                      <p:nvSpPr>
                        <p:cNvPr id="375" name="Freeform 64"/>
                        <p:cNvSpPr/>
                        <p:nvPr/>
                      </p:nvSpPr>
                      <p:spPr>
                        <a:xfrm>
                          <a:off x="744480" y="1271880"/>
                          <a:ext cx="60480" cy="55440"/>
                        </a:xfrm>
                        <a:custGeom>
                          <a:avLst/>
                          <a:gdLst>
                            <a:gd name="textAreaLeft" fmla="*/ 0 w 60480"/>
                            <a:gd name="textAreaRight" fmla="*/ 60840 w 60480"/>
                            <a:gd name="textAreaTop" fmla="*/ 0 h 55440"/>
                            <a:gd name="textAreaBottom" fmla="*/ 55800 h 55440"/>
                          </a:gdLst>
                          <a:ahLst/>
                          <a:rect l="textAreaLeft" t="textAreaTop" r="textAreaRight" b="textAreaBottom"/>
                          <a:pathLst>
                            <a:path w="186" h="172">
                              <a:moveTo>
                                <a:pt x="13" y="70"/>
                              </a:moveTo>
                              <a:lnTo>
                                <a:pt x="35" y="36"/>
                              </a:lnTo>
                              <a:lnTo>
                                <a:pt x="48" y="22"/>
                              </a:lnTo>
                              <a:lnTo>
                                <a:pt x="77" y="7"/>
                              </a:lnTo>
                              <a:lnTo>
                                <a:pt x="112" y="0"/>
                              </a:lnTo>
                              <a:lnTo>
                                <a:pt x="141" y="0"/>
                              </a:lnTo>
                              <a:lnTo>
                                <a:pt x="160" y="6"/>
                              </a:lnTo>
                              <a:lnTo>
                                <a:pt x="177" y="27"/>
                              </a:lnTo>
                              <a:lnTo>
                                <a:pt x="186" y="56"/>
                              </a:lnTo>
                              <a:lnTo>
                                <a:pt x="184" y="88"/>
                              </a:lnTo>
                              <a:lnTo>
                                <a:pt x="167" y="116"/>
                              </a:lnTo>
                              <a:lnTo>
                                <a:pt x="154" y="134"/>
                              </a:lnTo>
                              <a:lnTo>
                                <a:pt x="121" y="153"/>
                              </a:lnTo>
                              <a:lnTo>
                                <a:pt x="77" y="163"/>
                              </a:lnTo>
                              <a:lnTo>
                                <a:pt x="42" y="172"/>
                              </a:lnTo>
                              <a:lnTo>
                                <a:pt x="17" y="163"/>
                              </a:lnTo>
                              <a:lnTo>
                                <a:pt x="4" y="147"/>
                              </a:lnTo>
                              <a:lnTo>
                                <a:pt x="0" y="120"/>
                              </a:lnTo>
                              <a:lnTo>
                                <a:pt x="13" y="7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0f0ff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76" name="Oval 65"/>
                        <p:cNvSpPr/>
                        <p:nvPr/>
                      </p:nvSpPr>
                      <p:spPr>
                        <a:xfrm>
                          <a:off x="752400" y="1311480"/>
                          <a:ext cx="15840" cy="14040"/>
                        </a:xfrm>
                        <a:prstGeom prst="ellipse">
                          <a:avLst/>
                        </a:prstGeom>
                        <a:solidFill>
                          <a:srgbClr val="008080"/>
                        </a:solidFill>
                        <a:ln w="3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360" bIns="-3636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77" name="Freeform 66"/>
                        <p:cNvSpPr/>
                        <p:nvPr/>
                      </p:nvSpPr>
                      <p:spPr>
                        <a:xfrm>
                          <a:off x="758880" y="1254240"/>
                          <a:ext cx="60480" cy="36360"/>
                        </a:xfrm>
                        <a:custGeom>
                          <a:avLst/>
                          <a:gdLst>
                            <a:gd name="textAreaLeft" fmla="*/ 0 w 60480"/>
                            <a:gd name="textAreaRight" fmla="*/ 60840 w 60480"/>
                            <a:gd name="textAreaTop" fmla="*/ 0 h 36360"/>
                            <a:gd name="textAreaBottom" fmla="*/ 36720 h 36360"/>
                          </a:gdLst>
                          <a:ahLst/>
                          <a:rect l="textAreaLeft" t="textAreaTop" r="textAreaRight" b="textAreaBottom"/>
                          <a:pathLst>
                            <a:path w="193" h="112">
                              <a:moveTo>
                                <a:pt x="28" y="0"/>
                              </a:moveTo>
                              <a:lnTo>
                                <a:pt x="185" y="66"/>
                              </a:lnTo>
                              <a:lnTo>
                                <a:pt x="191" y="75"/>
                              </a:lnTo>
                              <a:lnTo>
                                <a:pt x="193" y="89"/>
                              </a:lnTo>
                              <a:lnTo>
                                <a:pt x="189" y="99"/>
                              </a:lnTo>
                              <a:lnTo>
                                <a:pt x="184" y="108"/>
                              </a:lnTo>
                              <a:lnTo>
                                <a:pt x="176" y="111"/>
                              </a:lnTo>
                              <a:lnTo>
                                <a:pt x="162" y="112"/>
                              </a:lnTo>
                              <a:lnTo>
                                <a:pt x="16" y="49"/>
                              </a:lnTo>
                              <a:lnTo>
                                <a:pt x="4" y="40"/>
                              </a:lnTo>
                              <a:lnTo>
                                <a:pt x="0" y="27"/>
                              </a:lnTo>
                              <a:lnTo>
                                <a:pt x="4" y="14"/>
                              </a:lnTo>
                              <a:lnTo>
                                <a:pt x="9" y="8"/>
                              </a:lnTo>
                              <a:lnTo>
                                <a:pt x="17" y="2"/>
                              </a:lnTo>
                              <a:lnTo>
                                <a:pt x="28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8040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080" bIns="-100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78" name="Group 67"/>
                    <p:cNvGrpSpPr/>
                    <p:nvPr/>
                  </p:nvGrpSpPr>
                  <p:grpSpPr>
                    <a:xfrm>
                      <a:off x="588960" y="1308240"/>
                      <a:ext cx="58680" cy="68400"/>
                      <a:chOff x="588960" y="1308240"/>
                      <a:chExt cx="58680" cy="68400"/>
                    </a:xfrm>
                  </p:grpSpPr>
                  <p:sp>
                    <p:nvSpPr>
                      <p:cNvPr id="379" name="Freeform 68"/>
                      <p:cNvSpPr/>
                      <p:nvPr/>
                    </p:nvSpPr>
                    <p:spPr>
                      <a:xfrm>
                        <a:off x="588960" y="1308240"/>
                        <a:ext cx="52560" cy="66600"/>
                      </a:xfrm>
                      <a:custGeom>
                        <a:avLst/>
                        <a:gdLst>
                          <a:gd name="textAreaLeft" fmla="*/ 0 w 52560"/>
                          <a:gd name="textAreaRight" fmla="*/ 52920 w 52560"/>
                          <a:gd name="textAreaTop" fmla="*/ 0 h 66600"/>
                          <a:gd name="textAreaBottom" fmla="*/ 66960 h 66600"/>
                        </a:gdLst>
                        <a:ahLst/>
                        <a:rect l="textAreaLeft" t="textAreaTop" r="textAreaRight" b="textAreaBottom"/>
                        <a:pathLst>
                          <a:path w="164" h="210">
                            <a:moveTo>
                              <a:pt x="133" y="33"/>
                            </a:moveTo>
                            <a:lnTo>
                              <a:pt x="107" y="6"/>
                            </a:lnTo>
                            <a:lnTo>
                              <a:pt x="89" y="1"/>
                            </a:lnTo>
                            <a:lnTo>
                              <a:pt x="57" y="0"/>
                            </a:lnTo>
                            <a:lnTo>
                              <a:pt x="30" y="16"/>
                            </a:lnTo>
                            <a:lnTo>
                              <a:pt x="15" y="33"/>
                            </a:lnTo>
                            <a:lnTo>
                              <a:pt x="4" y="54"/>
                            </a:lnTo>
                            <a:lnTo>
                              <a:pt x="0" y="78"/>
                            </a:lnTo>
                            <a:lnTo>
                              <a:pt x="1" y="105"/>
                            </a:lnTo>
                            <a:lnTo>
                              <a:pt x="10" y="135"/>
                            </a:lnTo>
                            <a:lnTo>
                              <a:pt x="28" y="159"/>
                            </a:lnTo>
                            <a:lnTo>
                              <a:pt x="48" y="172"/>
                            </a:lnTo>
                            <a:lnTo>
                              <a:pt x="73" y="182"/>
                            </a:lnTo>
                            <a:lnTo>
                              <a:pt x="86" y="201"/>
                            </a:lnTo>
                            <a:lnTo>
                              <a:pt x="99" y="208"/>
                            </a:lnTo>
                            <a:lnTo>
                              <a:pt x="114" y="210"/>
                            </a:lnTo>
                            <a:lnTo>
                              <a:pt x="132" y="206"/>
                            </a:lnTo>
                            <a:lnTo>
                              <a:pt x="151" y="194"/>
                            </a:lnTo>
                            <a:lnTo>
                              <a:pt x="160" y="176"/>
                            </a:lnTo>
                            <a:lnTo>
                              <a:pt x="164" y="150"/>
                            </a:lnTo>
                            <a:lnTo>
                              <a:pt x="154" y="125"/>
                            </a:lnTo>
                            <a:lnTo>
                              <a:pt x="153" y="99"/>
                            </a:lnTo>
                            <a:lnTo>
                              <a:pt x="145" y="63"/>
                            </a:lnTo>
                            <a:lnTo>
                              <a:pt x="133" y="33"/>
                            </a:lnTo>
                            <a:close/>
                          </a:path>
                        </a:pathLst>
                      </a:custGeom>
                      <a:solidFill>
                        <a:srgbClr val="e0a080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160" bIns="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80" name="Freeform 69"/>
                      <p:cNvSpPr/>
                      <p:nvPr/>
                    </p:nvSpPr>
                    <p:spPr>
                      <a:xfrm>
                        <a:off x="595440" y="1311480"/>
                        <a:ext cx="52200" cy="65160"/>
                      </a:xfrm>
                      <a:custGeom>
                        <a:avLst/>
                        <a:gdLst>
                          <a:gd name="textAreaLeft" fmla="*/ 0 w 52200"/>
                          <a:gd name="textAreaRight" fmla="*/ 52560 w 52200"/>
                          <a:gd name="textAreaTop" fmla="*/ 0 h 65160"/>
                          <a:gd name="textAreaBottom" fmla="*/ 65520 h 65160"/>
                        </a:gdLst>
                        <a:ahLst/>
                        <a:rect l="textAreaLeft" t="textAreaTop" r="textAreaRight" b="textAreaBottom"/>
                        <a:pathLst>
                          <a:path w="169" h="204">
                            <a:moveTo>
                              <a:pt x="138" y="31"/>
                            </a:moveTo>
                            <a:lnTo>
                              <a:pt x="110" y="6"/>
                            </a:lnTo>
                            <a:lnTo>
                              <a:pt x="92" y="1"/>
                            </a:lnTo>
                            <a:lnTo>
                              <a:pt x="59" y="0"/>
                            </a:lnTo>
                            <a:lnTo>
                              <a:pt x="31" y="13"/>
                            </a:lnTo>
                            <a:lnTo>
                              <a:pt x="15" y="31"/>
                            </a:lnTo>
                            <a:lnTo>
                              <a:pt x="5" y="52"/>
                            </a:lnTo>
                            <a:lnTo>
                              <a:pt x="0" y="75"/>
                            </a:lnTo>
                            <a:lnTo>
                              <a:pt x="1" y="101"/>
                            </a:lnTo>
                            <a:lnTo>
                              <a:pt x="10" y="131"/>
                            </a:lnTo>
                            <a:lnTo>
                              <a:pt x="28" y="155"/>
                            </a:lnTo>
                            <a:lnTo>
                              <a:pt x="50" y="168"/>
                            </a:lnTo>
                            <a:lnTo>
                              <a:pt x="74" y="176"/>
                            </a:lnTo>
                            <a:lnTo>
                              <a:pt x="88" y="195"/>
                            </a:lnTo>
                            <a:lnTo>
                              <a:pt x="101" y="201"/>
                            </a:lnTo>
                            <a:lnTo>
                              <a:pt x="116" y="204"/>
                            </a:lnTo>
                            <a:lnTo>
                              <a:pt x="137" y="198"/>
                            </a:lnTo>
                            <a:lnTo>
                              <a:pt x="156" y="188"/>
                            </a:lnTo>
                            <a:lnTo>
                              <a:pt x="164" y="172"/>
                            </a:lnTo>
                            <a:lnTo>
                              <a:pt x="169" y="145"/>
                            </a:lnTo>
                            <a:lnTo>
                              <a:pt x="159" y="121"/>
                            </a:lnTo>
                            <a:lnTo>
                              <a:pt x="158" y="96"/>
                            </a:lnTo>
                            <a:lnTo>
                              <a:pt x="150" y="62"/>
                            </a:lnTo>
                            <a:lnTo>
                              <a:pt x="138" y="31"/>
                            </a:lnTo>
                            <a:close/>
                          </a:path>
                        </a:pathLst>
                      </a:custGeom>
                      <a:solidFill>
                        <a:srgbClr val="e0a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720" bIns="18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</p:grpSp>
              </p:grpSp>
              <p:grpSp>
                <p:nvGrpSpPr>
                  <p:cNvPr id="381" name="Group 70"/>
                  <p:cNvGrpSpPr/>
                  <p:nvPr/>
                </p:nvGrpSpPr>
                <p:grpSpPr>
                  <a:xfrm>
                    <a:off x="495360" y="1371600"/>
                    <a:ext cx="384120" cy="338400"/>
                    <a:chOff x="495360" y="1371600"/>
                    <a:chExt cx="384120" cy="338400"/>
                  </a:xfrm>
                </p:grpSpPr>
                <p:sp>
                  <p:nvSpPr>
                    <p:cNvPr id="382" name="Freeform 71"/>
                    <p:cNvSpPr/>
                    <p:nvPr/>
                  </p:nvSpPr>
                  <p:spPr>
                    <a:xfrm>
                      <a:off x="495360" y="1371600"/>
                      <a:ext cx="309600" cy="306360"/>
                    </a:xfrm>
                    <a:custGeom>
                      <a:avLst/>
                      <a:gdLst>
                        <a:gd name="textAreaLeft" fmla="*/ 0 w 309600"/>
                        <a:gd name="textAreaRight" fmla="*/ 309960 w 309600"/>
                        <a:gd name="textAreaTop" fmla="*/ 0 h 306360"/>
                        <a:gd name="textAreaBottom" fmla="*/ 306720 h 306360"/>
                      </a:gdLst>
                      <a:ahLst/>
                      <a:rect l="textAreaLeft" t="textAreaTop" r="textAreaRight" b="textAreaBottom"/>
                      <a:pathLst>
                        <a:path w="975" h="967">
                          <a:moveTo>
                            <a:pt x="265" y="0"/>
                          </a:moveTo>
                          <a:lnTo>
                            <a:pt x="327" y="42"/>
                          </a:lnTo>
                          <a:lnTo>
                            <a:pt x="390" y="83"/>
                          </a:lnTo>
                          <a:lnTo>
                            <a:pt x="446" y="109"/>
                          </a:lnTo>
                          <a:lnTo>
                            <a:pt x="634" y="187"/>
                          </a:lnTo>
                          <a:lnTo>
                            <a:pt x="662" y="306"/>
                          </a:lnTo>
                          <a:lnTo>
                            <a:pt x="686" y="368"/>
                          </a:lnTo>
                          <a:lnTo>
                            <a:pt x="707" y="413"/>
                          </a:lnTo>
                          <a:lnTo>
                            <a:pt x="722" y="459"/>
                          </a:lnTo>
                          <a:lnTo>
                            <a:pt x="732" y="506"/>
                          </a:lnTo>
                          <a:lnTo>
                            <a:pt x="731" y="535"/>
                          </a:lnTo>
                          <a:lnTo>
                            <a:pt x="724" y="570"/>
                          </a:lnTo>
                          <a:lnTo>
                            <a:pt x="728" y="611"/>
                          </a:lnTo>
                          <a:lnTo>
                            <a:pt x="744" y="654"/>
                          </a:lnTo>
                          <a:lnTo>
                            <a:pt x="783" y="670"/>
                          </a:lnTo>
                          <a:lnTo>
                            <a:pt x="843" y="685"/>
                          </a:lnTo>
                          <a:lnTo>
                            <a:pt x="884" y="698"/>
                          </a:lnTo>
                          <a:lnTo>
                            <a:pt x="925" y="730"/>
                          </a:lnTo>
                          <a:lnTo>
                            <a:pt x="951" y="764"/>
                          </a:lnTo>
                          <a:lnTo>
                            <a:pt x="968" y="807"/>
                          </a:lnTo>
                          <a:lnTo>
                            <a:pt x="975" y="856"/>
                          </a:lnTo>
                          <a:lnTo>
                            <a:pt x="965" y="930"/>
                          </a:lnTo>
                          <a:lnTo>
                            <a:pt x="232" y="967"/>
                          </a:lnTo>
                          <a:lnTo>
                            <a:pt x="97" y="964"/>
                          </a:lnTo>
                          <a:lnTo>
                            <a:pt x="71" y="930"/>
                          </a:lnTo>
                          <a:lnTo>
                            <a:pt x="46" y="875"/>
                          </a:lnTo>
                          <a:lnTo>
                            <a:pt x="25" y="814"/>
                          </a:lnTo>
                          <a:lnTo>
                            <a:pt x="13" y="763"/>
                          </a:lnTo>
                          <a:lnTo>
                            <a:pt x="4" y="708"/>
                          </a:lnTo>
                          <a:lnTo>
                            <a:pt x="0" y="657"/>
                          </a:lnTo>
                          <a:lnTo>
                            <a:pt x="10" y="573"/>
                          </a:lnTo>
                          <a:lnTo>
                            <a:pt x="25" y="506"/>
                          </a:lnTo>
                          <a:lnTo>
                            <a:pt x="48" y="432"/>
                          </a:lnTo>
                          <a:lnTo>
                            <a:pt x="74" y="361"/>
                          </a:lnTo>
                          <a:lnTo>
                            <a:pt x="104" y="304"/>
                          </a:lnTo>
                          <a:lnTo>
                            <a:pt x="143" y="240"/>
                          </a:lnTo>
                          <a:lnTo>
                            <a:pt x="192" y="187"/>
                          </a:lnTo>
                          <a:lnTo>
                            <a:pt x="237" y="142"/>
                          </a:lnTo>
                          <a:lnTo>
                            <a:pt x="269" y="119"/>
                          </a:lnTo>
                          <a:lnTo>
                            <a:pt x="195" y="83"/>
                          </a:lnTo>
                          <a:lnTo>
                            <a:pt x="265" y="0"/>
                          </a:lnTo>
                          <a:close/>
                        </a:path>
                      </a:pathLst>
                    </a:custGeom>
                    <a:solidFill>
                      <a:srgbClr val="ff60c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83" name="Freeform 72"/>
                    <p:cNvSpPr/>
                    <p:nvPr/>
                  </p:nvSpPr>
                  <p:spPr>
                    <a:xfrm>
                      <a:off x="701640" y="1533600"/>
                      <a:ext cx="87480" cy="112680"/>
                    </a:xfrm>
                    <a:custGeom>
                      <a:avLst/>
                      <a:gdLst>
                        <a:gd name="textAreaLeft" fmla="*/ 0 w 87480"/>
                        <a:gd name="textAreaRight" fmla="*/ 87840 w 87480"/>
                        <a:gd name="textAreaTop" fmla="*/ 0 h 112680"/>
                        <a:gd name="textAreaBottom" fmla="*/ 113040 h 112680"/>
                      </a:gdLst>
                      <a:ahLst/>
                      <a:rect l="textAreaLeft" t="textAreaTop" r="textAreaRight" b="textAreaBottom"/>
                      <a:pathLst>
                        <a:path w="273" h="354">
                          <a:moveTo>
                            <a:pt x="0" y="0"/>
                          </a:moveTo>
                          <a:lnTo>
                            <a:pt x="10" y="67"/>
                          </a:lnTo>
                          <a:lnTo>
                            <a:pt x="21" y="120"/>
                          </a:lnTo>
                          <a:lnTo>
                            <a:pt x="43" y="162"/>
                          </a:lnTo>
                          <a:lnTo>
                            <a:pt x="60" y="186"/>
                          </a:lnTo>
                          <a:lnTo>
                            <a:pt x="94" y="205"/>
                          </a:lnTo>
                          <a:lnTo>
                            <a:pt x="154" y="227"/>
                          </a:lnTo>
                          <a:lnTo>
                            <a:pt x="206" y="248"/>
                          </a:lnTo>
                          <a:lnTo>
                            <a:pt x="231" y="259"/>
                          </a:lnTo>
                          <a:lnTo>
                            <a:pt x="253" y="283"/>
                          </a:lnTo>
                          <a:lnTo>
                            <a:pt x="266" y="315"/>
                          </a:lnTo>
                          <a:lnTo>
                            <a:pt x="273" y="354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84" name="Freeform 73"/>
                    <p:cNvSpPr/>
                    <p:nvPr/>
                  </p:nvSpPr>
                  <p:spPr>
                    <a:xfrm>
                      <a:off x="579600" y="1411560"/>
                      <a:ext cx="126720" cy="123840"/>
                    </a:xfrm>
                    <a:custGeom>
                      <a:avLst/>
                      <a:gdLst>
                        <a:gd name="textAreaLeft" fmla="*/ 0 w 126720"/>
                        <a:gd name="textAreaRight" fmla="*/ 127080 w 126720"/>
                        <a:gd name="textAreaTop" fmla="*/ 0 h 123840"/>
                        <a:gd name="textAreaBottom" fmla="*/ 124200 h 123840"/>
                      </a:gdLst>
                      <a:ahLst/>
                      <a:rect l="textAreaLeft" t="textAreaTop" r="textAreaRight" b="textAreaBottom"/>
                      <a:pathLst>
                        <a:path w="401" h="390">
                          <a:moveTo>
                            <a:pt x="0" y="7"/>
                          </a:moveTo>
                          <a:lnTo>
                            <a:pt x="13" y="0"/>
                          </a:lnTo>
                          <a:lnTo>
                            <a:pt x="55" y="31"/>
                          </a:lnTo>
                          <a:lnTo>
                            <a:pt x="109" y="63"/>
                          </a:lnTo>
                          <a:lnTo>
                            <a:pt x="153" y="83"/>
                          </a:lnTo>
                          <a:lnTo>
                            <a:pt x="199" y="108"/>
                          </a:lnTo>
                          <a:lnTo>
                            <a:pt x="263" y="141"/>
                          </a:lnTo>
                          <a:lnTo>
                            <a:pt x="302" y="202"/>
                          </a:lnTo>
                          <a:lnTo>
                            <a:pt x="333" y="311"/>
                          </a:lnTo>
                          <a:lnTo>
                            <a:pt x="362" y="222"/>
                          </a:lnTo>
                          <a:lnTo>
                            <a:pt x="385" y="163"/>
                          </a:lnTo>
                          <a:lnTo>
                            <a:pt x="381" y="128"/>
                          </a:lnTo>
                          <a:lnTo>
                            <a:pt x="394" y="182"/>
                          </a:lnTo>
                          <a:lnTo>
                            <a:pt x="401" y="210"/>
                          </a:lnTo>
                          <a:lnTo>
                            <a:pt x="388" y="235"/>
                          </a:lnTo>
                          <a:lnTo>
                            <a:pt x="369" y="282"/>
                          </a:lnTo>
                          <a:lnTo>
                            <a:pt x="346" y="339"/>
                          </a:lnTo>
                          <a:lnTo>
                            <a:pt x="327" y="390"/>
                          </a:lnTo>
                          <a:lnTo>
                            <a:pt x="302" y="304"/>
                          </a:lnTo>
                          <a:lnTo>
                            <a:pt x="280" y="244"/>
                          </a:lnTo>
                          <a:lnTo>
                            <a:pt x="266" y="186"/>
                          </a:lnTo>
                          <a:lnTo>
                            <a:pt x="202" y="128"/>
                          </a:lnTo>
                          <a:lnTo>
                            <a:pt x="90" y="69"/>
                          </a:lnTo>
                          <a:lnTo>
                            <a:pt x="0" y="7"/>
                          </a:lnTo>
                          <a:close/>
                        </a:path>
                      </a:pathLst>
                    </a:custGeom>
                    <a:solidFill>
                      <a:srgbClr val="e040a0"/>
                    </a:solidFill>
                    <a:ln w="3240">
                      <a:solidFill>
                        <a:srgbClr val="e040a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85" name="Freeform 74"/>
                    <p:cNvSpPr/>
                    <p:nvPr/>
                  </p:nvSpPr>
                  <p:spPr>
                    <a:xfrm>
                      <a:off x="585720" y="1476360"/>
                      <a:ext cx="54000" cy="103320"/>
                    </a:xfrm>
                    <a:custGeom>
                      <a:avLst/>
                      <a:gdLst>
                        <a:gd name="textAreaLeft" fmla="*/ 0 w 54000"/>
                        <a:gd name="textAreaRight" fmla="*/ 54360 w 54000"/>
                        <a:gd name="textAreaTop" fmla="*/ 0 h 103320"/>
                        <a:gd name="textAreaBottom" fmla="*/ 103680 h 103320"/>
                      </a:gdLst>
                      <a:ahLst/>
                      <a:rect l="textAreaLeft" t="textAreaTop" r="textAreaRight" b="textAreaBottom"/>
                      <a:pathLst>
                        <a:path w="169" h="327">
                          <a:moveTo>
                            <a:pt x="88" y="262"/>
                          </a:moveTo>
                          <a:lnTo>
                            <a:pt x="45" y="220"/>
                          </a:lnTo>
                          <a:lnTo>
                            <a:pt x="31" y="178"/>
                          </a:lnTo>
                          <a:lnTo>
                            <a:pt x="25" y="133"/>
                          </a:lnTo>
                          <a:lnTo>
                            <a:pt x="19" y="73"/>
                          </a:lnTo>
                          <a:lnTo>
                            <a:pt x="43" y="53"/>
                          </a:lnTo>
                          <a:lnTo>
                            <a:pt x="53" y="98"/>
                          </a:lnTo>
                          <a:lnTo>
                            <a:pt x="73" y="119"/>
                          </a:lnTo>
                          <a:lnTo>
                            <a:pt x="81" y="168"/>
                          </a:lnTo>
                          <a:lnTo>
                            <a:pt x="94" y="205"/>
                          </a:lnTo>
                          <a:lnTo>
                            <a:pt x="124" y="237"/>
                          </a:lnTo>
                          <a:lnTo>
                            <a:pt x="147" y="276"/>
                          </a:lnTo>
                          <a:lnTo>
                            <a:pt x="169" y="327"/>
                          </a:lnTo>
                          <a:lnTo>
                            <a:pt x="166" y="283"/>
                          </a:lnTo>
                          <a:lnTo>
                            <a:pt x="160" y="248"/>
                          </a:lnTo>
                          <a:lnTo>
                            <a:pt x="131" y="219"/>
                          </a:lnTo>
                          <a:lnTo>
                            <a:pt x="111" y="181"/>
                          </a:lnTo>
                          <a:lnTo>
                            <a:pt x="95" y="139"/>
                          </a:lnTo>
                          <a:lnTo>
                            <a:pt x="83" y="101"/>
                          </a:lnTo>
                          <a:lnTo>
                            <a:pt x="66" y="73"/>
                          </a:lnTo>
                          <a:lnTo>
                            <a:pt x="61" y="35"/>
                          </a:lnTo>
                          <a:lnTo>
                            <a:pt x="51" y="15"/>
                          </a:lnTo>
                          <a:lnTo>
                            <a:pt x="39" y="0"/>
                          </a:lnTo>
                          <a:lnTo>
                            <a:pt x="18" y="37"/>
                          </a:lnTo>
                          <a:lnTo>
                            <a:pt x="0" y="88"/>
                          </a:lnTo>
                          <a:lnTo>
                            <a:pt x="13" y="98"/>
                          </a:lnTo>
                          <a:lnTo>
                            <a:pt x="13" y="136"/>
                          </a:lnTo>
                          <a:lnTo>
                            <a:pt x="21" y="184"/>
                          </a:lnTo>
                          <a:lnTo>
                            <a:pt x="32" y="219"/>
                          </a:lnTo>
                          <a:lnTo>
                            <a:pt x="53" y="242"/>
                          </a:lnTo>
                          <a:lnTo>
                            <a:pt x="88" y="262"/>
                          </a:lnTo>
                          <a:close/>
                        </a:path>
                      </a:pathLst>
                    </a:custGeom>
                    <a:solidFill>
                      <a:srgbClr val="e040a0"/>
                    </a:solidFill>
                    <a:ln w="3240">
                      <a:solidFill>
                        <a:srgbClr val="e040a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86" name="Freeform 75"/>
                    <p:cNvSpPr/>
                    <p:nvPr/>
                  </p:nvSpPr>
                  <p:spPr>
                    <a:xfrm>
                      <a:off x="503280" y="1533600"/>
                      <a:ext cx="30240" cy="71640"/>
                    </a:xfrm>
                    <a:custGeom>
                      <a:avLst/>
                      <a:gdLst>
                        <a:gd name="textAreaLeft" fmla="*/ 0 w 30240"/>
                        <a:gd name="textAreaRight" fmla="*/ 30600 w 30240"/>
                        <a:gd name="textAreaTop" fmla="*/ 0 h 71640"/>
                        <a:gd name="textAreaBottom" fmla="*/ 72000 h 71640"/>
                      </a:gdLst>
                      <a:ahLst/>
                      <a:rect l="textAreaLeft" t="textAreaTop" r="textAreaRight" b="textAreaBottom"/>
                      <a:pathLst>
                        <a:path w="95" h="223">
                          <a:moveTo>
                            <a:pt x="95" y="223"/>
                          </a:moveTo>
                          <a:lnTo>
                            <a:pt x="70" y="214"/>
                          </a:lnTo>
                          <a:lnTo>
                            <a:pt x="46" y="189"/>
                          </a:lnTo>
                          <a:lnTo>
                            <a:pt x="35" y="172"/>
                          </a:lnTo>
                          <a:lnTo>
                            <a:pt x="24" y="131"/>
                          </a:lnTo>
                          <a:lnTo>
                            <a:pt x="18" y="103"/>
                          </a:lnTo>
                          <a:lnTo>
                            <a:pt x="5" y="75"/>
                          </a:lnTo>
                          <a:lnTo>
                            <a:pt x="0" y="44"/>
                          </a:lnTo>
                          <a:lnTo>
                            <a:pt x="9" y="23"/>
                          </a:lnTo>
                          <a:lnTo>
                            <a:pt x="33" y="0"/>
                          </a:lnTo>
                          <a:lnTo>
                            <a:pt x="9" y="22"/>
                          </a:lnTo>
                          <a:lnTo>
                            <a:pt x="3" y="45"/>
                          </a:lnTo>
                          <a:lnTo>
                            <a:pt x="4" y="74"/>
                          </a:lnTo>
                          <a:lnTo>
                            <a:pt x="16" y="99"/>
                          </a:lnTo>
                          <a:lnTo>
                            <a:pt x="28" y="140"/>
                          </a:lnTo>
                          <a:lnTo>
                            <a:pt x="34" y="164"/>
                          </a:lnTo>
                          <a:lnTo>
                            <a:pt x="46" y="191"/>
                          </a:lnTo>
                          <a:lnTo>
                            <a:pt x="72" y="213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0" bIns="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87" name="Freeform 76"/>
                    <p:cNvSpPr/>
                    <p:nvPr/>
                  </p:nvSpPr>
                  <p:spPr>
                    <a:xfrm>
                      <a:off x="506520" y="1533600"/>
                      <a:ext cx="30240" cy="71640"/>
                    </a:xfrm>
                    <a:custGeom>
                      <a:avLst/>
                      <a:gdLst>
                        <a:gd name="textAreaLeft" fmla="*/ 0 w 30240"/>
                        <a:gd name="textAreaRight" fmla="*/ 30600 w 30240"/>
                        <a:gd name="textAreaTop" fmla="*/ 0 h 71640"/>
                        <a:gd name="textAreaBottom" fmla="*/ 72000 h 71640"/>
                      </a:gdLst>
                      <a:ahLst/>
                      <a:rect l="textAreaLeft" t="textAreaTop" r="textAreaRight" b="textAreaBottom"/>
                      <a:pathLst>
                        <a:path w="92" h="223">
                          <a:moveTo>
                            <a:pt x="92" y="223"/>
                          </a:moveTo>
                          <a:lnTo>
                            <a:pt x="58" y="194"/>
                          </a:lnTo>
                          <a:lnTo>
                            <a:pt x="42" y="169"/>
                          </a:lnTo>
                          <a:lnTo>
                            <a:pt x="36" y="145"/>
                          </a:lnTo>
                          <a:lnTo>
                            <a:pt x="22" y="101"/>
                          </a:lnTo>
                          <a:lnTo>
                            <a:pt x="13" y="73"/>
                          </a:lnTo>
                          <a:lnTo>
                            <a:pt x="8" y="51"/>
                          </a:lnTo>
                          <a:lnTo>
                            <a:pt x="15" y="26"/>
                          </a:lnTo>
                          <a:lnTo>
                            <a:pt x="31" y="0"/>
                          </a:lnTo>
                          <a:lnTo>
                            <a:pt x="7" y="22"/>
                          </a:lnTo>
                          <a:lnTo>
                            <a:pt x="0" y="45"/>
                          </a:lnTo>
                          <a:lnTo>
                            <a:pt x="1" y="74"/>
                          </a:lnTo>
                          <a:lnTo>
                            <a:pt x="13" y="99"/>
                          </a:lnTo>
                          <a:lnTo>
                            <a:pt x="25" y="140"/>
                          </a:lnTo>
                          <a:lnTo>
                            <a:pt x="32" y="164"/>
                          </a:lnTo>
                          <a:lnTo>
                            <a:pt x="44" y="191"/>
                          </a:lnTo>
                          <a:lnTo>
                            <a:pt x="70" y="213"/>
                          </a:lnTo>
                          <a:lnTo>
                            <a:pt x="92" y="223"/>
                          </a:lnTo>
                          <a:close/>
                        </a:path>
                      </a:pathLst>
                    </a:custGeom>
                    <a:solidFill>
                      <a:srgbClr val="e040a0"/>
                    </a:solidFill>
                    <a:ln w="3240">
                      <a:solidFill>
                        <a:srgbClr val="e040a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0" bIns="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388" name="Group 77"/>
                    <p:cNvGrpSpPr/>
                    <p:nvPr/>
                  </p:nvGrpSpPr>
                  <p:grpSpPr>
                    <a:xfrm>
                      <a:off x="557280" y="1594080"/>
                      <a:ext cx="322200" cy="115920"/>
                      <a:chOff x="557280" y="1594080"/>
                      <a:chExt cx="322200" cy="115920"/>
                    </a:xfrm>
                  </p:grpSpPr>
                  <p:sp>
                    <p:nvSpPr>
                      <p:cNvPr id="389" name="Freeform 78"/>
                      <p:cNvSpPr/>
                      <p:nvPr/>
                    </p:nvSpPr>
                    <p:spPr>
                      <a:xfrm>
                        <a:off x="557280" y="1594080"/>
                        <a:ext cx="320760" cy="115920"/>
                      </a:xfrm>
                      <a:custGeom>
                        <a:avLst/>
                        <a:gdLst>
                          <a:gd name="textAreaLeft" fmla="*/ 0 w 320760"/>
                          <a:gd name="textAreaRight" fmla="*/ 321120 w 320760"/>
                          <a:gd name="textAreaTop" fmla="*/ 0 h 115920"/>
                          <a:gd name="textAreaBottom" fmla="*/ 116280 h 115920"/>
                        </a:gdLst>
                        <a:ahLst/>
                        <a:rect l="textAreaLeft" t="textAreaTop" r="textAreaRight" b="textAreaBottom"/>
                        <a:pathLst>
                          <a:path w="1011" h="367">
                            <a:moveTo>
                              <a:pt x="243" y="0"/>
                            </a:moveTo>
                            <a:lnTo>
                              <a:pt x="259" y="39"/>
                            </a:lnTo>
                            <a:lnTo>
                              <a:pt x="297" y="89"/>
                            </a:lnTo>
                            <a:lnTo>
                              <a:pt x="361" y="125"/>
                            </a:lnTo>
                            <a:lnTo>
                              <a:pt x="451" y="150"/>
                            </a:lnTo>
                            <a:lnTo>
                              <a:pt x="554" y="173"/>
                            </a:lnTo>
                            <a:lnTo>
                              <a:pt x="637" y="176"/>
                            </a:lnTo>
                            <a:lnTo>
                              <a:pt x="723" y="173"/>
                            </a:lnTo>
                            <a:lnTo>
                              <a:pt x="740" y="163"/>
                            </a:lnTo>
                            <a:lnTo>
                              <a:pt x="764" y="135"/>
                            </a:lnTo>
                            <a:lnTo>
                              <a:pt x="784" y="113"/>
                            </a:lnTo>
                            <a:lnTo>
                              <a:pt x="812" y="95"/>
                            </a:lnTo>
                            <a:lnTo>
                              <a:pt x="821" y="73"/>
                            </a:lnTo>
                            <a:lnTo>
                              <a:pt x="835" y="54"/>
                            </a:lnTo>
                            <a:lnTo>
                              <a:pt x="855" y="45"/>
                            </a:lnTo>
                            <a:lnTo>
                              <a:pt x="879" y="36"/>
                            </a:lnTo>
                            <a:lnTo>
                              <a:pt x="915" y="33"/>
                            </a:lnTo>
                            <a:lnTo>
                              <a:pt x="952" y="41"/>
                            </a:lnTo>
                            <a:lnTo>
                              <a:pt x="984" y="57"/>
                            </a:lnTo>
                            <a:lnTo>
                              <a:pt x="1002" y="76"/>
                            </a:lnTo>
                            <a:lnTo>
                              <a:pt x="1009" y="102"/>
                            </a:lnTo>
                            <a:lnTo>
                              <a:pt x="996" y="154"/>
                            </a:lnTo>
                            <a:lnTo>
                              <a:pt x="1008" y="174"/>
                            </a:lnTo>
                            <a:lnTo>
                              <a:pt x="1011" y="198"/>
                            </a:lnTo>
                            <a:lnTo>
                              <a:pt x="1004" y="216"/>
                            </a:lnTo>
                            <a:lnTo>
                              <a:pt x="985" y="237"/>
                            </a:lnTo>
                            <a:lnTo>
                              <a:pt x="973" y="252"/>
                            </a:lnTo>
                            <a:lnTo>
                              <a:pt x="983" y="273"/>
                            </a:lnTo>
                            <a:lnTo>
                              <a:pt x="980" y="296"/>
                            </a:lnTo>
                            <a:lnTo>
                              <a:pt x="969" y="312"/>
                            </a:lnTo>
                            <a:lnTo>
                              <a:pt x="959" y="327"/>
                            </a:lnTo>
                            <a:lnTo>
                              <a:pt x="953" y="353"/>
                            </a:lnTo>
                            <a:lnTo>
                              <a:pt x="942" y="364"/>
                            </a:lnTo>
                            <a:lnTo>
                              <a:pt x="912" y="367"/>
                            </a:lnTo>
                            <a:lnTo>
                              <a:pt x="869" y="366"/>
                            </a:lnTo>
                            <a:lnTo>
                              <a:pt x="830" y="358"/>
                            </a:lnTo>
                            <a:lnTo>
                              <a:pt x="784" y="345"/>
                            </a:lnTo>
                            <a:lnTo>
                              <a:pt x="754" y="329"/>
                            </a:lnTo>
                            <a:lnTo>
                              <a:pt x="733" y="316"/>
                            </a:lnTo>
                            <a:lnTo>
                              <a:pt x="659" y="326"/>
                            </a:lnTo>
                            <a:lnTo>
                              <a:pt x="560" y="339"/>
                            </a:lnTo>
                            <a:lnTo>
                              <a:pt x="486" y="345"/>
                            </a:lnTo>
                            <a:lnTo>
                              <a:pt x="411" y="345"/>
                            </a:lnTo>
                            <a:lnTo>
                              <a:pt x="314" y="342"/>
                            </a:lnTo>
                            <a:lnTo>
                              <a:pt x="255" y="333"/>
                            </a:lnTo>
                            <a:lnTo>
                              <a:pt x="153" y="294"/>
                            </a:lnTo>
                            <a:lnTo>
                              <a:pt x="89" y="259"/>
                            </a:lnTo>
                            <a:lnTo>
                              <a:pt x="51" y="205"/>
                            </a:lnTo>
                            <a:lnTo>
                              <a:pt x="25" y="184"/>
                            </a:lnTo>
                            <a:lnTo>
                              <a:pt x="0" y="129"/>
                            </a:lnTo>
                            <a:lnTo>
                              <a:pt x="45" y="98"/>
                            </a:lnTo>
                            <a:lnTo>
                              <a:pt x="107" y="87"/>
                            </a:lnTo>
                            <a:lnTo>
                              <a:pt x="177" y="26"/>
                            </a:lnTo>
                            <a:lnTo>
                              <a:pt x="217" y="15"/>
                            </a:lnTo>
                            <a:lnTo>
                              <a:pt x="243" y="0"/>
                            </a:lnTo>
                            <a:close/>
                          </a:path>
                        </a:pathLst>
                      </a:custGeom>
                      <a:solidFill>
                        <a:srgbClr val="e0a080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90" name="Freeform 79"/>
                      <p:cNvSpPr/>
                      <p:nvPr/>
                    </p:nvSpPr>
                    <p:spPr>
                      <a:xfrm>
                        <a:off x="831960" y="1616040"/>
                        <a:ext cx="7920" cy="27000"/>
                      </a:xfrm>
                      <a:custGeom>
                        <a:avLst/>
                        <a:gdLst>
                          <a:gd name="textAreaLeft" fmla="*/ 0 w 7920"/>
                          <a:gd name="textAreaRight" fmla="*/ 8280 w 7920"/>
                          <a:gd name="textAreaTop" fmla="*/ 0 h 27000"/>
                          <a:gd name="textAreaBottom" fmla="*/ 27360 h 27000"/>
                        </a:gdLst>
                        <a:ahLst/>
                        <a:rect l="textAreaLeft" t="textAreaTop" r="textAreaRight" b="textAreaBottom"/>
                        <a:pathLst>
                          <a:path w="23" h="85">
                            <a:moveTo>
                              <a:pt x="23" y="0"/>
                            </a:moveTo>
                            <a:lnTo>
                              <a:pt x="12" y="3"/>
                            </a:lnTo>
                            <a:lnTo>
                              <a:pt x="4" y="15"/>
                            </a:lnTo>
                            <a:lnTo>
                              <a:pt x="0" y="27"/>
                            </a:lnTo>
                            <a:lnTo>
                              <a:pt x="0" y="38"/>
                            </a:lnTo>
                            <a:lnTo>
                              <a:pt x="5" y="62"/>
                            </a:lnTo>
                            <a:lnTo>
                              <a:pt x="4" y="85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91" name="Freeform 80"/>
                      <p:cNvSpPr/>
                      <p:nvPr/>
                    </p:nvSpPr>
                    <p:spPr>
                      <a:xfrm>
                        <a:off x="866880" y="1649520"/>
                        <a:ext cx="12600" cy="4680"/>
                      </a:xfrm>
                      <a:custGeom>
                        <a:avLst/>
                        <a:gdLst>
                          <a:gd name="textAreaLeft" fmla="*/ 0 w 12600"/>
                          <a:gd name="textAreaRight" fmla="*/ 12960 w 12600"/>
                          <a:gd name="textAreaTop" fmla="*/ 0 h 4680"/>
                          <a:gd name="textAreaBottom" fmla="*/ 5040 h 4680"/>
                        </a:gdLst>
                        <a:ahLst/>
                        <a:rect l="textAreaLeft" t="textAreaTop" r="textAreaRight" b="textAreaBottom"/>
                        <a:pathLst>
                          <a:path w="42" h="12">
                            <a:moveTo>
                              <a:pt x="42" y="6"/>
                            </a:moveTo>
                            <a:lnTo>
                              <a:pt x="28" y="12"/>
                            </a:lnTo>
                            <a:lnTo>
                              <a:pt x="10" y="9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92" name="Freeform 81"/>
                      <p:cNvSpPr/>
                      <p:nvPr/>
                    </p:nvSpPr>
                    <p:spPr>
                      <a:xfrm>
                        <a:off x="858960" y="1681200"/>
                        <a:ext cx="14040" cy="5040"/>
                      </a:xfrm>
                      <a:custGeom>
                        <a:avLst/>
                        <a:gdLst>
                          <a:gd name="textAreaLeft" fmla="*/ 0 w 14040"/>
                          <a:gd name="textAreaRight" fmla="*/ 14400 w 14040"/>
                          <a:gd name="textAreaTop" fmla="*/ 0 h 5040"/>
                          <a:gd name="textAreaBottom" fmla="*/ 5400 h 5040"/>
                        </a:gdLst>
                        <a:ahLst/>
                        <a:rect l="textAreaLeft" t="textAreaTop" r="textAreaRight" b="textAreaBottom"/>
                        <a:pathLst>
                          <a:path w="45" h="14">
                            <a:moveTo>
                              <a:pt x="45" y="0"/>
                            </a:moveTo>
                            <a:lnTo>
                              <a:pt x="40" y="11"/>
                            </a:lnTo>
                            <a:lnTo>
                              <a:pt x="26" y="14"/>
                            </a:lnTo>
                            <a:lnTo>
                              <a:pt x="13" y="10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93" name="Freeform 82"/>
                      <p:cNvSpPr/>
                      <p:nvPr/>
                    </p:nvSpPr>
                    <p:spPr>
                      <a:xfrm>
                        <a:off x="774720" y="1659240"/>
                        <a:ext cx="19080" cy="34920"/>
                      </a:xfrm>
                      <a:custGeom>
                        <a:avLst/>
                        <a:gdLst>
                          <a:gd name="textAreaLeft" fmla="*/ 0 w 19080"/>
                          <a:gd name="textAreaRight" fmla="*/ 19440 w 19080"/>
                          <a:gd name="textAreaTop" fmla="*/ 0 h 34920"/>
                          <a:gd name="textAreaBottom" fmla="*/ 35280 h 34920"/>
                        </a:gdLst>
                        <a:ahLst/>
                        <a:rect l="textAreaLeft" t="textAreaTop" r="textAreaRight" b="textAreaBottom"/>
                        <a:pathLst>
                          <a:path w="57" h="109">
                            <a:moveTo>
                              <a:pt x="0" y="0"/>
                            </a:moveTo>
                            <a:lnTo>
                              <a:pt x="18" y="15"/>
                            </a:lnTo>
                            <a:lnTo>
                              <a:pt x="39" y="39"/>
                            </a:lnTo>
                            <a:lnTo>
                              <a:pt x="48" y="67"/>
                            </a:lnTo>
                            <a:lnTo>
                              <a:pt x="57" y="84"/>
                            </a:lnTo>
                            <a:lnTo>
                              <a:pt x="48" y="109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520" bIns="-115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94" name="Freeform 83"/>
                      <p:cNvSpPr/>
                      <p:nvPr/>
                    </p:nvSpPr>
                    <p:spPr>
                      <a:xfrm>
                        <a:off x="833400" y="1638360"/>
                        <a:ext cx="19080" cy="9720"/>
                      </a:xfrm>
                      <a:custGeom>
                        <a:avLst/>
                        <a:gdLst>
                          <a:gd name="textAreaLeft" fmla="*/ 0 w 19080"/>
                          <a:gd name="textAreaRight" fmla="*/ 19440 w 19080"/>
                          <a:gd name="textAreaTop" fmla="*/ 0 h 9720"/>
                          <a:gd name="textAreaBottom" fmla="*/ 10080 h 9720"/>
                        </a:gdLst>
                        <a:ahLst/>
                        <a:rect l="textAreaLeft" t="textAreaTop" r="textAreaRight" b="textAreaBottom"/>
                        <a:pathLst>
                          <a:path w="59" h="30">
                            <a:moveTo>
                              <a:pt x="0" y="30"/>
                            </a:moveTo>
                            <a:lnTo>
                              <a:pt x="11" y="16"/>
                            </a:lnTo>
                            <a:lnTo>
                              <a:pt x="24" y="6"/>
                            </a:lnTo>
                            <a:lnTo>
                              <a:pt x="38" y="0"/>
                            </a:lnTo>
                            <a:lnTo>
                              <a:pt x="59" y="2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95" name="Freeform 84"/>
                      <p:cNvSpPr/>
                      <p:nvPr/>
                    </p:nvSpPr>
                    <p:spPr>
                      <a:xfrm>
                        <a:off x="849240" y="1627200"/>
                        <a:ext cx="11160" cy="11160"/>
                      </a:xfrm>
                      <a:custGeom>
                        <a:avLst/>
                        <a:gdLst>
                          <a:gd name="textAreaLeft" fmla="*/ 0 w 11160"/>
                          <a:gd name="textAreaRight" fmla="*/ 11520 w 11160"/>
                          <a:gd name="textAreaTop" fmla="*/ 0 h 11160"/>
                          <a:gd name="textAreaBottom" fmla="*/ 11520 h 11160"/>
                        </a:gdLst>
                        <a:ahLst/>
                        <a:rect l="textAreaLeft" t="textAreaTop" r="textAreaRight" b="textAreaBottom"/>
                        <a:pathLst>
                          <a:path w="38" h="31">
                            <a:moveTo>
                              <a:pt x="38" y="0"/>
                            </a:moveTo>
                            <a:lnTo>
                              <a:pt x="26" y="0"/>
                            </a:lnTo>
                            <a:lnTo>
                              <a:pt x="16" y="5"/>
                            </a:lnTo>
                            <a:lnTo>
                              <a:pt x="9" y="11"/>
                            </a:lnTo>
                            <a:lnTo>
                              <a:pt x="2" y="20"/>
                            </a:lnTo>
                            <a:lnTo>
                              <a:pt x="0" y="31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96" name="Freeform 85"/>
                      <p:cNvSpPr/>
                      <p:nvPr/>
                    </p:nvSpPr>
                    <p:spPr>
                      <a:xfrm>
                        <a:off x="847800" y="1614600"/>
                        <a:ext cx="4680" cy="14400"/>
                      </a:xfrm>
                      <a:custGeom>
                        <a:avLst/>
                        <a:gdLst>
                          <a:gd name="textAreaLeft" fmla="*/ 0 w 4680"/>
                          <a:gd name="textAreaRight" fmla="*/ 5040 w 4680"/>
                          <a:gd name="textAreaTop" fmla="*/ 0 h 14400"/>
                          <a:gd name="textAreaBottom" fmla="*/ 14760 h 14400"/>
                        </a:gdLst>
                        <a:ahLst/>
                        <a:rect l="textAreaLeft" t="textAreaTop" r="textAreaRight" b="textAreaBottom"/>
                        <a:pathLst>
                          <a:path w="15" h="45">
                            <a:moveTo>
                              <a:pt x="15" y="0"/>
                            </a:moveTo>
                            <a:lnTo>
                              <a:pt x="8" y="6"/>
                            </a:lnTo>
                            <a:lnTo>
                              <a:pt x="3" y="19"/>
                            </a:lnTo>
                            <a:lnTo>
                              <a:pt x="0" y="32"/>
                            </a:lnTo>
                            <a:lnTo>
                              <a:pt x="0" y="45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97" name="Freeform 86"/>
                      <p:cNvSpPr/>
                      <p:nvPr/>
                    </p:nvSpPr>
                    <p:spPr>
                      <a:xfrm>
                        <a:off x="838080" y="1621080"/>
                        <a:ext cx="9720" cy="7920"/>
                      </a:xfrm>
                      <a:custGeom>
                        <a:avLst/>
                        <a:gdLst>
                          <a:gd name="textAreaLeft" fmla="*/ 0 w 9720"/>
                          <a:gd name="textAreaRight" fmla="*/ 10080 w 9720"/>
                          <a:gd name="textAreaTop" fmla="*/ 0 h 7920"/>
                          <a:gd name="textAreaBottom" fmla="*/ 8280 h 7920"/>
                        </a:gdLst>
                        <a:ahLst/>
                        <a:rect l="textAreaLeft" t="textAreaTop" r="textAreaRight" b="textAreaBottom"/>
                        <a:pathLst>
                          <a:path w="26" h="25">
                            <a:moveTo>
                              <a:pt x="0" y="0"/>
                            </a:moveTo>
                            <a:lnTo>
                              <a:pt x="11" y="5"/>
                            </a:lnTo>
                            <a:lnTo>
                              <a:pt x="19" y="14"/>
                            </a:lnTo>
                            <a:lnTo>
                              <a:pt x="26" y="25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398" name="Freeform 87"/>
                    <p:cNvSpPr/>
                    <p:nvPr/>
                  </p:nvSpPr>
                  <p:spPr>
                    <a:xfrm>
                      <a:off x="533520" y="1560600"/>
                      <a:ext cx="104760" cy="84240"/>
                    </a:xfrm>
                    <a:custGeom>
                      <a:avLst/>
                      <a:gdLst>
                        <a:gd name="textAreaLeft" fmla="*/ 0 w 104760"/>
                        <a:gd name="textAreaRight" fmla="*/ 105120 w 104760"/>
                        <a:gd name="textAreaTop" fmla="*/ 0 h 84240"/>
                        <a:gd name="textAreaBottom" fmla="*/ 84600 h 84240"/>
                      </a:gdLst>
                      <a:ahLst/>
                      <a:rect l="textAreaLeft" t="textAreaTop" r="textAreaRight" b="textAreaBottom"/>
                      <a:pathLst>
                        <a:path w="333" h="268">
                          <a:moveTo>
                            <a:pt x="0" y="140"/>
                          </a:moveTo>
                          <a:lnTo>
                            <a:pt x="3" y="170"/>
                          </a:lnTo>
                          <a:lnTo>
                            <a:pt x="18" y="191"/>
                          </a:lnTo>
                          <a:lnTo>
                            <a:pt x="19" y="195"/>
                          </a:lnTo>
                          <a:lnTo>
                            <a:pt x="38" y="222"/>
                          </a:lnTo>
                          <a:lnTo>
                            <a:pt x="35" y="227"/>
                          </a:lnTo>
                          <a:lnTo>
                            <a:pt x="55" y="249"/>
                          </a:lnTo>
                          <a:lnTo>
                            <a:pt x="84" y="268"/>
                          </a:lnTo>
                          <a:lnTo>
                            <a:pt x="100" y="249"/>
                          </a:lnTo>
                          <a:lnTo>
                            <a:pt x="120" y="231"/>
                          </a:lnTo>
                          <a:lnTo>
                            <a:pt x="141" y="216"/>
                          </a:lnTo>
                          <a:lnTo>
                            <a:pt x="164" y="214"/>
                          </a:lnTo>
                          <a:lnTo>
                            <a:pt x="196" y="213"/>
                          </a:lnTo>
                          <a:lnTo>
                            <a:pt x="214" y="190"/>
                          </a:lnTo>
                          <a:lnTo>
                            <a:pt x="230" y="170"/>
                          </a:lnTo>
                          <a:lnTo>
                            <a:pt x="251" y="158"/>
                          </a:lnTo>
                          <a:lnTo>
                            <a:pt x="272" y="150"/>
                          </a:lnTo>
                          <a:lnTo>
                            <a:pt x="306" y="143"/>
                          </a:lnTo>
                          <a:lnTo>
                            <a:pt x="328" y="130"/>
                          </a:lnTo>
                          <a:lnTo>
                            <a:pt x="333" y="117"/>
                          </a:lnTo>
                          <a:lnTo>
                            <a:pt x="327" y="84"/>
                          </a:lnTo>
                          <a:lnTo>
                            <a:pt x="323" y="86"/>
                          </a:lnTo>
                          <a:lnTo>
                            <a:pt x="308" y="57"/>
                          </a:lnTo>
                          <a:lnTo>
                            <a:pt x="302" y="43"/>
                          </a:lnTo>
                          <a:lnTo>
                            <a:pt x="302" y="41"/>
                          </a:lnTo>
                          <a:lnTo>
                            <a:pt x="289" y="23"/>
                          </a:lnTo>
                          <a:lnTo>
                            <a:pt x="264" y="0"/>
                          </a:lnTo>
                          <a:lnTo>
                            <a:pt x="220" y="18"/>
                          </a:lnTo>
                          <a:lnTo>
                            <a:pt x="194" y="54"/>
                          </a:lnTo>
                          <a:lnTo>
                            <a:pt x="160" y="69"/>
                          </a:lnTo>
                          <a:lnTo>
                            <a:pt x="109" y="89"/>
                          </a:lnTo>
                          <a:lnTo>
                            <a:pt x="94" y="115"/>
                          </a:lnTo>
                          <a:lnTo>
                            <a:pt x="71" y="117"/>
                          </a:lnTo>
                          <a:lnTo>
                            <a:pt x="40" y="130"/>
                          </a:lnTo>
                          <a:lnTo>
                            <a:pt x="0" y="140"/>
                          </a:lnTo>
                          <a:close/>
                        </a:path>
                      </a:pathLst>
                    </a:custGeom>
                    <a:solidFill>
                      <a:srgbClr val="e040a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800" bIns="37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99" name="Freeform 88"/>
                    <p:cNvSpPr/>
                    <p:nvPr/>
                  </p:nvSpPr>
                  <p:spPr>
                    <a:xfrm>
                      <a:off x="577800" y="1406520"/>
                      <a:ext cx="123840" cy="101880"/>
                    </a:xfrm>
                    <a:custGeom>
                      <a:avLst/>
                      <a:gdLst>
                        <a:gd name="textAreaLeft" fmla="*/ 0 w 123840"/>
                        <a:gd name="textAreaRight" fmla="*/ 124200 w 123840"/>
                        <a:gd name="textAreaTop" fmla="*/ 0 h 101880"/>
                        <a:gd name="textAreaBottom" fmla="*/ 102240 h 101880"/>
                      </a:gdLst>
                      <a:ahLst/>
                      <a:rect l="textAreaLeft" t="textAreaTop" r="textAreaRight" b="textAreaBottom"/>
                      <a:pathLst>
                        <a:path w="389" h="317">
                          <a:moveTo>
                            <a:pt x="0" y="0"/>
                          </a:moveTo>
                          <a:lnTo>
                            <a:pt x="59" y="33"/>
                          </a:lnTo>
                          <a:lnTo>
                            <a:pt x="113" y="66"/>
                          </a:lnTo>
                          <a:lnTo>
                            <a:pt x="157" y="86"/>
                          </a:lnTo>
                          <a:lnTo>
                            <a:pt x="203" y="110"/>
                          </a:lnTo>
                          <a:lnTo>
                            <a:pt x="267" y="143"/>
                          </a:lnTo>
                          <a:lnTo>
                            <a:pt x="306" y="205"/>
                          </a:lnTo>
                          <a:lnTo>
                            <a:pt x="337" y="313"/>
                          </a:lnTo>
                          <a:lnTo>
                            <a:pt x="366" y="224"/>
                          </a:lnTo>
                          <a:lnTo>
                            <a:pt x="389" y="165"/>
                          </a:lnTo>
                          <a:lnTo>
                            <a:pt x="386" y="120"/>
                          </a:lnTo>
                          <a:lnTo>
                            <a:pt x="388" y="165"/>
                          </a:lnTo>
                          <a:lnTo>
                            <a:pt x="363" y="223"/>
                          </a:lnTo>
                          <a:lnTo>
                            <a:pt x="341" y="317"/>
                          </a:lnTo>
                          <a:lnTo>
                            <a:pt x="307" y="202"/>
                          </a:lnTo>
                          <a:lnTo>
                            <a:pt x="267" y="144"/>
                          </a:lnTo>
                          <a:lnTo>
                            <a:pt x="202" y="110"/>
                          </a:lnTo>
                          <a:lnTo>
                            <a:pt x="156" y="88"/>
                          </a:lnTo>
                          <a:lnTo>
                            <a:pt x="112" y="66"/>
                          </a:lnTo>
                          <a:lnTo>
                            <a:pt x="56" y="3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e040a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00" name="Freeform 89"/>
                    <p:cNvSpPr/>
                    <p:nvPr/>
                  </p:nvSpPr>
                  <p:spPr>
                    <a:xfrm>
                      <a:off x="590760" y="1494000"/>
                      <a:ext cx="47520" cy="85680"/>
                    </a:xfrm>
                    <a:custGeom>
                      <a:avLst/>
                      <a:gdLst>
                        <a:gd name="textAreaLeft" fmla="*/ 0 w 47520"/>
                        <a:gd name="textAreaRight" fmla="*/ 47880 w 47520"/>
                        <a:gd name="textAreaTop" fmla="*/ 0 h 85680"/>
                        <a:gd name="textAreaBottom" fmla="*/ 86040 h 85680"/>
                      </a:gdLst>
                      <a:ahLst/>
                      <a:rect l="textAreaLeft" t="textAreaTop" r="textAreaRight" b="textAreaBottom"/>
                      <a:pathLst>
                        <a:path w="151" h="271">
                          <a:moveTo>
                            <a:pt x="71" y="206"/>
                          </a:moveTo>
                          <a:lnTo>
                            <a:pt x="27" y="164"/>
                          </a:lnTo>
                          <a:lnTo>
                            <a:pt x="13" y="122"/>
                          </a:lnTo>
                          <a:lnTo>
                            <a:pt x="8" y="77"/>
                          </a:lnTo>
                          <a:lnTo>
                            <a:pt x="1" y="17"/>
                          </a:lnTo>
                          <a:lnTo>
                            <a:pt x="15" y="6"/>
                          </a:lnTo>
                          <a:lnTo>
                            <a:pt x="27" y="5"/>
                          </a:lnTo>
                          <a:lnTo>
                            <a:pt x="36" y="42"/>
                          </a:lnTo>
                          <a:lnTo>
                            <a:pt x="56" y="63"/>
                          </a:lnTo>
                          <a:lnTo>
                            <a:pt x="63" y="112"/>
                          </a:lnTo>
                          <a:lnTo>
                            <a:pt x="76" y="149"/>
                          </a:lnTo>
                          <a:lnTo>
                            <a:pt x="107" y="181"/>
                          </a:lnTo>
                          <a:lnTo>
                            <a:pt x="130" y="220"/>
                          </a:lnTo>
                          <a:lnTo>
                            <a:pt x="151" y="271"/>
                          </a:lnTo>
                          <a:lnTo>
                            <a:pt x="126" y="220"/>
                          </a:lnTo>
                          <a:lnTo>
                            <a:pt x="104" y="180"/>
                          </a:lnTo>
                          <a:lnTo>
                            <a:pt x="74" y="148"/>
                          </a:lnTo>
                          <a:lnTo>
                            <a:pt x="62" y="112"/>
                          </a:lnTo>
                          <a:lnTo>
                            <a:pt x="59" y="64"/>
                          </a:lnTo>
                          <a:lnTo>
                            <a:pt x="36" y="46"/>
                          </a:lnTo>
                          <a:lnTo>
                            <a:pt x="32" y="0"/>
                          </a:lnTo>
                          <a:lnTo>
                            <a:pt x="18" y="5"/>
                          </a:lnTo>
                          <a:lnTo>
                            <a:pt x="0" y="17"/>
                          </a:lnTo>
                          <a:lnTo>
                            <a:pt x="2" y="42"/>
                          </a:lnTo>
                          <a:lnTo>
                            <a:pt x="8" y="80"/>
                          </a:lnTo>
                          <a:lnTo>
                            <a:pt x="13" y="115"/>
                          </a:lnTo>
                          <a:lnTo>
                            <a:pt x="27" y="162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240" bIns="39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</p:grpSp>
        <p:sp>
          <p:nvSpPr>
            <p:cNvPr id="401" name="Text Box 90"/>
            <p:cNvSpPr/>
            <p:nvPr/>
          </p:nvSpPr>
          <p:spPr>
            <a:xfrm>
              <a:off x="345600" y="88200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</a:rPr>
                <a:t>！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02" name="Picture 2" descr=""/>
          <p:cNvPicPr/>
          <p:nvPr/>
        </p:nvPicPr>
        <p:blipFill>
          <a:blip r:embed="rId2"/>
          <a:stretch/>
        </p:blipFill>
        <p:spPr>
          <a:xfrm>
            <a:off x="5219640" y="2189160"/>
            <a:ext cx="367344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6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4876920" cy="353376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13"/>
          <p:cNvSpPr/>
          <p:nvPr/>
        </p:nvSpPr>
        <p:spPr>
          <a:xfrm>
            <a:off x="7042320" y="6566040"/>
            <a:ext cx="1904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AACE-1F6C-44A9-9B10-7380B52940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1142640" y="980640"/>
            <a:ext cx="80010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线法测离线电阻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6" name="Group 4"/>
          <p:cNvGrpSpPr/>
          <p:nvPr/>
        </p:nvGrpSpPr>
        <p:grpSpPr>
          <a:xfrm>
            <a:off x="317520" y="769680"/>
            <a:ext cx="873000" cy="1034280"/>
            <a:chOff x="317520" y="769680"/>
            <a:chExt cx="873000" cy="1034280"/>
          </a:xfrm>
        </p:grpSpPr>
        <p:grpSp>
          <p:nvGrpSpPr>
            <p:cNvPr id="407" name="Group 5"/>
            <p:cNvGrpSpPr/>
            <p:nvPr/>
          </p:nvGrpSpPr>
          <p:grpSpPr>
            <a:xfrm>
              <a:off x="317520" y="1081440"/>
              <a:ext cx="873000" cy="722520"/>
              <a:chOff x="317520" y="1081440"/>
              <a:chExt cx="873000" cy="722520"/>
            </a:xfrm>
          </p:grpSpPr>
          <p:grpSp>
            <p:nvGrpSpPr>
              <p:cNvPr id="408" name="Group 6"/>
              <p:cNvGrpSpPr/>
              <p:nvPr/>
            </p:nvGrpSpPr>
            <p:grpSpPr>
              <a:xfrm>
                <a:off x="317520" y="1203840"/>
                <a:ext cx="873000" cy="600120"/>
                <a:chOff x="317520" y="1203840"/>
                <a:chExt cx="873000" cy="600120"/>
              </a:xfrm>
            </p:grpSpPr>
            <p:grpSp>
              <p:nvGrpSpPr>
                <p:cNvPr id="409" name="Group 7"/>
                <p:cNvGrpSpPr/>
                <p:nvPr/>
              </p:nvGrpSpPr>
              <p:grpSpPr>
                <a:xfrm>
                  <a:off x="341280" y="1203840"/>
                  <a:ext cx="849240" cy="587520"/>
                  <a:chOff x="341280" y="1203840"/>
                  <a:chExt cx="849240" cy="587520"/>
                </a:xfrm>
              </p:grpSpPr>
              <p:grpSp>
                <p:nvGrpSpPr>
                  <p:cNvPr id="410" name="Group 8"/>
                  <p:cNvGrpSpPr/>
                  <p:nvPr/>
                </p:nvGrpSpPr>
                <p:grpSpPr>
                  <a:xfrm>
                    <a:off x="341280" y="1203840"/>
                    <a:ext cx="849240" cy="587520"/>
                    <a:chOff x="341280" y="1203840"/>
                    <a:chExt cx="849240" cy="587520"/>
                  </a:xfrm>
                </p:grpSpPr>
                <p:sp>
                  <p:nvSpPr>
                    <p:cNvPr id="411" name="Line 9"/>
                    <p:cNvSpPr/>
                    <p:nvPr/>
                  </p:nvSpPr>
                  <p:spPr>
                    <a:xfrm>
                      <a:off x="1001520" y="1594440"/>
                      <a:ext cx="189000" cy="3024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12" name="Line 10"/>
                    <p:cNvSpPr/>
                    <p:nvPr/>
                  </p:nvSpPr>
                  <p:spPr>
                    <a:xfrm>
                      <a:off x="1012680" y="1632600"/>
                      <a:ext cx="154080" cy="1728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13" name="Line 11"/>
                    <p:cNvSpPr/>
                    <p:nvPr/>
                  </p:nvSpPr>
                  <p:spPr>
                    <a:xfrm>
                      <a:off x="950760" y="1632600"/>
                      <a:ext cx="115920" cy="3960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14" name="Line 12"/>
                    <p:cNvSpPr/>
                    <p:nvPr/>
                  </p:nvSpPr>
                  <p:spPr>
                    <a:xfrm>
                      <a:off x="884160" y="1621440"/>
                      <a:ext cx="114480" cy="12528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15" name="Line 13"/>
                    <p:cNvSpPr/>
                    <p:nvPr/>
                  </p:nvSpPr>
                  <p:spPr>
                    <a:xfrm>
                      <a:off x="887400" y="1649880"/>
                      <a:ext cx="66600" cy="14148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16" name="Line 14"/>
                    <p:cNvSpPr/>
                    <p:nvPr/>
                  </p:nvSpPr>
                  <p:spPr>
                    <a:xfrm>
                      <a:off x="873000" y="1664280"/>
                      <a:ext cx="27000" cy="8424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17" name="Line 15"/>
                    <p:cNvSpPr/>
                    <p:nvPr/>
                  </p:nvSpPr>
                  <p:spPr>
                    <a:xfrm flipH="1">
                      <a:off x="757080" y="1624680"/>
                      <a:ext cx="68400" cy="6012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18" name="Line 16"/>
                    <p:cNvSpPr/>
                    <p:nvPr/>
                  </p:nvSpPr>
                  <p:spPr>
                    <a:xfrm flipH="1">
                      <a:off x="672840" y="1607040"/>
                      <a:ext cx="161640" cy="7776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960" bIns="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19" name="Freeform 17"/>
                    <p:cNvSpPr/>
                    <p:nvPr/>
                  </p:nvSpPr>
                  <p:spPr>
                    <a:xfrm>
                      <a:off x="384120" y="1245240"/>
                      <a:ext cx="363600" cy="406440"/>
                    </a:xfrm>
                    <a:custGeom>
                      <a:avLst/>
                      <a:gdLst>
                        <a:gd name="textAreaLeft" fmla="*/ 0 w 363600"/>
                        <a:gd name="textAreaRight" fmla="*/ 363960 w 363600"/>
                        <a:gd name="textAreaTop" fmla="*/ 0 h 406440"/>
                        <a:gd name="textAreaBottom" fmla="*/ 406800 h 406440"/>
                      </a:gdLst>
                      <a:ahLst/>
                      <a:rect l="textAreaLeft" t="textAreaTop" r="textAreaRight" b="textAreaBottom"/>
                      <a:pathLst>
                        <a:path w="1146" h="1280">
                          <a:moveTo>
                            <a:pt x="666" y="0"/>
                          </a:moveTo>
                          <a:lnTo>
                            <a:pt x="549" y="56"/>
                          </a:lnTo>
                          <a:lnTo>
                            <a:pt x="434" y="134"/>
                          </a:lnTo>
                          <a:lnTo>
                            <a:pt x="324" y="231"/>
                          </a:lnTo>
                          <a:lnTo>
                            <a:pt x="217" y="344"/>
                          </a:lnTo>
                          <a:lnTo>
                            <a:pt x="140" y="445"/>
                          </a:lnTo>
                          <a:lnTo>
                            <a:pt x="102" y="512"/>
                          </a:lnTo>
                          <a:lnTo>
                            <a:pt x="50" y="632"/>
                          </a:lnTo>
                          <a:lnTo>
                            <a:pt x="17" y="742"/>
                          </a:lnTo>
                          <a:lnTo>
                            <a:pt x="0" y="845"/>
                          </a:lnTo>
                          <a:lnTo>
                            <a:pt x="11" y="961"/>
                          </a:lnTo>
                          <a:lnTo>
                            <a:pt x="56" y="1043"/>
                          </a:lnTo>
                          <a:lnTo>
                            <a:pt x="114" y="1107"/>
                          </a:lnTo>
                          <a:lnTo>
                            <a:pt x="166" y="1153"/>
                          </a:lnTo>
                          <a:lnTo>
                            <a:pt x="267" y="1216"/>
                          </a:lnTo>
                          <a:lnTo>
                            <a:pt x="357" y="1248"/>
                          </a:lnTo>
                          <a:lnTo>
                            <a:pt x="467" y="1273"/>
                          </a:lnTo>
                          <a:lnTo>
                            <a:pt x="646" y="1280"/>
                          </a:lnTo>
                          <a:lnTo>
                            <a:pt x="890" y="1248"/>
                          </a:lnTo>
                          <a:lnTo>
                            <a:pt x="1010" y="1196"/>
                          </a:lnTo>
                          <a:lnTo>
                            <a:pt x="1146" y="1081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e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20" name="Freeform 18"/>
                    <p:cNvSpPr/>
                    <p:nvPr/>
                  </p:nvSpPr>
                  <p:spPr>
                    <a:xfrm>
                      <a:off x="377640" y="1203840"/>
                      <a:ext cx="365400" cy="380880"/>
                    </a:xfrm>
                    <a:custGeom>
                      <a:avLst/>
                      <a:gdLst>
                        <a:gd name="textAreaLeft" fmla="*/ 0 w 365400"/>
                        <a:gd name="textAreaRight" fmla="*/ 365760 w 365400"/>
                        <a:gd name="textAreaTop" fmla="*/ 0 h 380880"/>
                        <a:gd name="textAreaBottom" fmla="*/ 381240 h 380880"/>
                      </a:gdLst>
                      <a:ahLst/>
                      <a:rect l="textAreaLeft" t="textAreaTop" r="textAreaRight" b="textAreaBottom"/>
                      <a:pathLst>
                        <a:path w="1152" h="1196">
                          <a:moveTo>
                            <a:pt x="670" y="0"/>
                          </a:moveTo>
                          <a:lnTo>
                            <a:pt x="553" y="54"/>
                          </a:lnTo>
                          <a:lnTo>
                            <a:pt x="437" y="125"/>
                          </a:lnTo>
                          <a:lnTo>
                            <a:pt x="326" y="215"/>
                          </a:lnTo>
                          <a:lnTo>
                            <a:pt x="219" y="323"/>
                          </a:lnTo>
                          <a:lnTo>
                            <a:pt x="141" y="417"/>
                          </a:lnTo>
                          <a:lnTo>
                            <a:pt x="101" y="478"/>
                          </a:lnTo>
                          <a:lnTo>
                            <a:pt x="50" y="592"/>
                          </a:lnTo>
                          <a:lnTo>
                            <a:pt x="20" y="694"/>
                          </a:lnTo>
                          <a:lnTo>
                            <a:pt x="0" y="791"/>
                          </a:lnTo>
                          <a:lnTo>
                            <a:pt x="13" y="899"/>
                          </a:lnTo>
                          <a:lnTo>
                            <a:pt x="56" y="977"/>
                          </a:lnTo>
                          <a:lnTo>
                            <a:pt x="114" y="1036"/>
                          </a:lnTo>
                          <a:lnTo>
                            <a:pt x="166" y="1078"/>
                          </a:lnTo>
                          <a:lnTo>
                            <a:pt x="268" y="1137"/>
                          </a:lnTo>
                          <a:lnTo>
                            <a:pt x="359" y="1167"/>
                          </a:lnTo>
                          <a:lnTo>
                            <a:pt x="468" y="1192"/>
                          </a:lnTo>
                          <a:lnTo>
                            <a:pt x="651" y="1196"/>
                          </a:lnTo>
                          <a:lnTo>
                            <a:pt x="894" y="1167"/>
                          </a:lnTo>
                          <a:lnTo>
                            <a:pt x="1017" y="1120"/>
                          </a:lnTo>
                          <a:lnTo>
                            <a:pt x="1152" y="1012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e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21" name="Freeform 19"/>
                    <p:cNvSpPr/>
                    <p:nvPr/>
                  </p:nvSpPr>
                  <p:spPr>
                    <a:xfrm>
                      <a:off x="341280" y="1243440"/>
                      <a:ext cx="272880" cy="320760"/>
                    </a:xfrm>
                    <a:custGeom>
                      <a:avLst/>
                      <a:gdLst>
                        <a:gd name="textAreaLeft" fmla="*/ 0 w 272880"/>
                        <a:gd name="textAreaRight" fmla="*/ 273240 w 272880"/>
                        <a:gd name="textAreaTop" fmla="*/ 0 h 320760"/>
                        <a:gd name="textAreaBottom" fmla="*/ 321120 h 320760"/>
                      </a:gdLst>
                      <a:ahLst/>
                      <a:rect l="textAreaLeft" t="textAreaTop" r="textAreaRight" b="textAreaBottom"/>
                      <a:pathLst>
                        <a:path w="863" h="1012">
                          <a:moveTo>
                            <a:pt x="500" y="0"/>
                          </a:moveTo>
                          <a:lnTo>
                            <a:pt x="412" y="46"/>
                          </a:lnTo>
                          <a:lnTo>
                            <a:pt x="328" y="106"/>
                          </a:lnTo>
                          <a:lnTo>
                            <a:pt x="245" y="182"/>
                          </a:lnTo>
                          <a:lnTo>
                            <a:pt x="163" y="270"/>
                          </a:lnTo>
                          <a:lnTo>
                            <a:pt x="105" y="352"/>
                          </a:lnTo>
                          <a:lnTo>
                            <a:pt x="76" y="403"/>
                          </a:lnTo>
                          <a:lnTo>
                            <a:pt x="38" y="499"/>
                          </a:lnTo>
                          <a:lnTo>
                            <a:pt x="14" y="585"/>
                          </a:lnTo>
                          <a:lnTo>
                            <a:pt x="0" y="668"/>
                          </a:lnTo>
                          <a:lnTo>
                            <a:pt x="8" y="760"/>
                          </a:lnTo>
                          <a:lnTo>
                            <a:pt x="42" y="824"/>
                          </a:lnTo>
                          <a:lnTo>
                            <a:pt x="87" y="875"/>
                          </a:lnTo>
                          <a:lnTo>
                            <a:pt x="125" y="910"/>
                          </a:lnTo>
                          <a:lnTo>
                            <a:pt x="202" y="962"/>
                          </a:lnTo>
                          <a:lnTo>
                            <a:pt x="270" y="987"/>
                          </a:lnTo>
                          <a:lnTo>
                            <a:pt x="352" y="1008"/>
                          </a:lnTo>
                          <a:lnTo>
                            <a:pt x="485" y="1012"/>
                          </a:lnTo>
                          <a:lnTo>
                            <a:pt x="670" y="987"/>
                          </a:lnTo>
                          <a:lnTo>
                            <a:pt x="763" y="945"/>
                          </a:lnTo>
                          <a:lnTo>
                            <a:pt x="863" y="856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e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422" name="Line 20"/>
                  <p:cNvSpPr/>
                  <p:nvPr/>
                </p:nvSpPr>
                <p:spPr>
                  <a:xfrm>
                    <a:off x="482400" y="1568880"/>
                    <a:ext cx="676440" cy="180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23" name="Group 21"/>
                <p:cNvGrpSpPr/>
                <p:nvPr/>
              </p:nvGrpSpPr>
              <p:grpSpPr>
                <a:xfrm>
                  <a:off x="317520" y="1614960"/>
                  <a:ext cx="531720" cy="189000"/>
                  <a:chOff x="317520" y="1614960"/>
                  <a:chExt cx="531720" cy="189000"/>
                </a:xfrm>
              </p:grpSpPr>
              <p:sp>
                <p:nvSpPr>
                  <p:cNvPr id="424" name="Freeform 22"/>
                  <p:cNvSpPr/>
                  <p:nvPr/>
                </p:nvSpPr>
                <p:spPr>
                  <a:xfrm>
                    <a:off x="439560" y="1670400"/>
                    <a:ext cx="169920" cy="63720"/>
                  </a:xfrm>
                  <a:custGeom>
                    <a:avLst/>
                    <a:gdLst>
                      <a:gd name="textAreaLeft" fmla="*/ 0 w 169920"/>
                      <a:gd name="textAreaRight" fmla="*/ 170280 w 169920"/>
                      <a:gd name="textAreaTop" fmla="*/ 0 h 63720"/>
                      <a:gd name="textAreaBottom" fmla="*/ 64080 h 63720"/>
                    </a:gdLst>
                    <a:ahLst/>
                    <a:rect l="textAreaLeft" t="textAreaTop" r="textAreaRight" b="textAreaBottom"/>
                    <a:pathLst>
                      <a:path w="532" h="198">
                        <a:moveTo>
                          <a:pt x="71" y="0"/>
                        </a:moveTo>
                        <a:lnTo>
                          <a:pt x="135" y="39"/>
                        </a:lnTo>
                        <a:lnTo>
                          <a:pt x="232" y="62"/>
                        </a:lnTo>
                        <a:lnTo>
                          <a:pt x="316" y="71"/>
                        </a:lnTo>
                        <a:lnTo>
                          <a:pt x="422" y="76"/>
                        </a:lnTo>
                        <a:lnTo>
                          <a:pt x="532" y="42"/>
                        </a:lnTo>
                        <a:lnTo>
                          <a:pt x="503" y="85"/>
                        </a:lnTo>
                        <a:lnTo>
                          <a:pt x="422" y="127"/>
                        </a:lnTo>
                        <a:lnTo>
                          <a:pt x="304" y="169"/>
                        </a:lnTo>
                        <a:lnTo>
                          <a:pt x="200" y="198"/>
                        </a:lnTo>
                        <a:lnTo>
                          <a:pt x="65" y="198"/>
                        </a:lnTo>
                        <a:lnTo>
                          <a:pt x="0" y="163"/>
                        </a:lnTo>
                        <a:lnTo>
                          <a:pt x="5" y="69"/>
                        </a:lnTo>
                        <a:lnTo>
                          <a:pt x="71" y="0"/>
                        </a:lnTo>
                        <a:close/>
                      </a:path>
                    </a:pathLst>
                  </a:custGeom>
                  <a:solidFill>
                    <a:srgbClr val="c0c0e0"/>
                  </a:solidFill>
                  <a:ln w="3240">
                    <a:solidFill>
                      <a:srgbClr val="c0c0e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25" name="Freeform 23"/>
                  <p:cNvSpPr/>
                  <p:nvPr/>
                </p:nvSpPr>
                <p:spPr>
                  <a:xfrm>
                    <a:off x="514440" y="1688040"/>
                    <a:ext cx="334800" cy="115920"/>
                  </a:xfrm>
                  <a:custGeom>
                    <a:avLst/>
                    <a:gdLst>
                      <a:gd name="textAreaLeft" fmla="*/ 0 w 334800"/>
                      <a:gd name="textAreaRight" fmla="*/ 335160 w 334800"/>
                      <a:gd name="textAreaTop" fmla="*/ 0 h 115920"/>
                      <a:gd name="textAreaBottom" fmla="*/ 116280 h 115920"/>
                    </a:gdLst>
                    <a:ahLst/>
                    <a:rect l="textAreaLeft" t="textAreaTop" r="textAreaRight" b="textAreaBottom"/>
                    <a:pathLst>
                      <a:path w="1055" h="361">
                        <a:moveTo>
                          <a:pt x="0" y="333"/>
                        </a:moveTo>
                        <a:lnTo>
                          <a:pt x="107" y="310"/>
                        </a:lnTo>
                        <a:lnTo>
                          <a:pt x="220" y="280"/>
                        </a:lnTo>
                        <a:lnTo>
                          <a:pt x="336" y="228"/>
                        </a:lnTo>
                        <a:lnTo>
                          <a:pt x="429" y="171"/>
                        </a:lnTo>
                        <a:lnTo>
                          <a:pt x="497" y="120"/>
                        </a:lnTo>
                        <a:lnTo>
                          <a:pt x="541" y="74"/>
                        </a:lnTo>
                        <a:lnTo>
                          <a:pt x="570" y="25"/>
                        </a:lnTo>
                        <a:lnTo>
                          <a:pt x="596" y="0"/>
                        </a:lnTo>
                        <a:lnTo>
                          <a:pt x="674" y="23"/>
                        </a:lnTo>
                        <a:lnTo>
                          <a:pt x="786" y="38"/>
                        </a:lnTo>
                        <a:lnTo>
                          <a:pt x="888" y="38"/>
                        </a:lnTo>
                        <a:lnTo>
                          <a:pt x="982" y="29"/>
                        </a:lnTo>
                        <a:lnTo>
                          <a:pt x="1038" y="6"/>
                        </a:lnTo>
                        <a:lnTo>
                          <a:pt x="1051" y="42"/>
                        </a:lnTo>
                        <a:lnTo>
                          <a:pt x="1055" y="87"/>
                        </a:lnTo>
                        <a:lnTo>
                          <a:pt x="1051" y="142"/>
                        </a:lnTo>
                        <a:lnTo>
                          <a:pt x="1038" y="171"/>
                        </a:lnTo>
                        <a:lnTo>
                          <a:pt x="1010" y="221"/>
                        </a:lnTo>
                        <a:lnTo>
                          <a:pt x="978" y="255"/>
                        </a:lnTo>
                        <a:lnTo>
                          <a:pt x="939" y="296"/>
                        </a:lnTo>
                        <a:lnTo>
                          <a:pt x="883" y="336"/>
                        </a:lnTo>
                        <a:lnTo>
                          <a:pt x="718" y="352"/>
                        </a:lnTo>
                        <a:lnTo>
                          <a:pt x="510" y="356"/>
                        </a:lnTo>
                        <a:lnTo>
                          <a:pt x="308" y="361"/>
                        </a:lnTo>
                        <a:lnTo>
                          <a:pt x="128" y="359"/>
                        </a:lnTo>
                        <a:lnTo>
                          <a:pt x="0" y="333"/>
                        </a:lnTo>
                        <a:close/>
                      </a:path>
                    </a:pathLst>
                  </a:custGeom>
                  <a:solidFill>
                    <a:srgbClr val="e0e0ff"/>
                  </a:solidFill>
                  <a:ln w="3240">
                    <a:solidFill>
                      <a:srgbClr val="e0e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26" name="Freeform 24"/>
                  <p:cNvSpPr/>
                  <p:nvPr/>
                </p:nvSpPr>
                <p:spPr>
                  <a:xfrm>
                    <a:off x="317520" y="1614960"/>
                    <a:ext cx="201600" cy="125640"/>
                  </a:xfrm>
                  <a:custGeom>
                    <a:avLst/>
                    <a:gdLst>
                      <a:gd name="textAreaLeft" fmla="*/ 0 w 201600"/>
                      <a:gd name="textAreaRight" fmla="*/ 201960 w 201600"/>
                      <a:gd name="textAreaTop" fmla="*/ 0 h 125640"/>
                      <a:gd name="textAreaBottom" fmla="*/ 126000 h 125640"/>
                    </a:gdLst>
                    <a:ahLst/>
                    <a:rect l="textAreaLeft" t="textAreaTop" r="textAreaRight" b="textAreaBottom"/>
                    <a:pathLst>
                      <a:path w="636" h="396">
                        <a:moveTo>
                          <a:pt x="125" y="0"/>
                        </a:moveTo>
                        <a:lnTo>
                          <a:pt x="223" y="41"/>
                        </a:lnTo>
                        <a:lnTo>
                          <a:pt x="636" y="138"/>
                        </a:lnTo>
                        <a:lnTo>
                          <a:pt x="623" y="157"/>
                        </a:lnTo>
                        <a:lnTo>
                          <a:pt x="520" y="208"/>
                        </a:lnTo>
                        <a:lnTo>
                          <a:pt x="472" y="232"/>
                        </a:lnTo>
                        <a:lnTo>
                          <a:pt x="447" y="274"/>
                        </a:lnTo>
                        <a:lnTo>
                          <a:pt x="439" y="306"/>
                        </a:lnTo>
                        <a:lnTo>
                          <a:pt x="451" y="342"/>
                        </a:lnTo>
                        <a:lnTo>
                          <a:pt x="482" y="361"/>
                        </a:lnTo>
                        <a:lnTo>
                          <a:pt x="520" y="367"/>
                        </a:lnTo>
                        <a:lnTo>
                          <a:pt x="584" y="374"/>
                        </a:lnTo>
                        <a:lnTo>
                          <a:pt x="536" y="393"/>
                        </a:lnTo>
                        <a:lnTo>
                          <a:pt x="465" y="396"/>
                        </a:lnTo>
                        <a:lnTo>
                          <a:pt x="439" y="393"/>
                        </a:lnTo>
                        <a:lnTo>
                          <a:pt x="390" y="378"/>
                        </a:lnTo>
                        <a:lnTo>
                          <a:pt x="301" y="329"/>
                        </a:lnTo>
                        <a:lnTo>
                          <a:pt x="179" y="245"/>
                        </a:lnTo>
                        <a:lnTo>
                          <a:pt x="112" y="202"/>
                        </a:lnTo>
                        <a:lnTo>
                          <a:pt x="41" y="151"/>
                        </a:lnTo>
                        <a:lnTo>
                          <a:pt x="25" y="148"/>
                        </a:lnTo>
                        <a:lnTo>
                          <a:pt x="0" y="106"/>
                        </a:lnTo>
                        <a:lnTo>
                          <a:pt x="8" y="64"/>
                        </a:lnTo>
                        <a:lnTo>
                          <a:pt x="38" y="29"/>
                        </a:lnTo>
                        <a:lnTo>
                          <a:pt x="125" y="0"/>
                        </a:lnTo>
                        <a:close/>
                      </a:path>
                    </a:pathLst>
                  </a:custGeom>
                  <a:solidFill>
                    <a:srgbClr val="e0e0ff"/>
                  </a:solidFill>
                  <a:ln w="3240">
                    <a:solidFill>
                      <a:srgbClr val="e0e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427" name="Group 25"/>
              <p:cNvGrpSpPr/>
              <p:nvPr/>
            </p:nvGrpSpPr>
            <p:grpSpPr>
              <a:xfrm>
                <a:off x="561960" y="1081440"/>
                <a:ext cx="384120" cy="516240"/>
                <a:chOff x="561960" y="1081440"/>
                <a:chExt cx="384120" cy="516240"/>
              </a:xfrm>
            </p:grpSpPr>
            <p:grpSp>
              <p:nvGrpSpPr>
                <p:cNvPr id="428" name="Group 26"/>
                <p:cNvGrpSpPr/>
                <p:nvPr/>
              </p:nvGrpSpPr>
              <p:grpSpPr>
                <a:xfrm>
                  <a:off x="647640" y="1257840"/>
                  <a:ext cx="273240" cy="227160"/>
                  <a:chOff x="647640" y="1257840"/>
                  <a:chExt cx="273240" cy="227160"/>
                </a:xfrm>
              </p:grpSpPr>
              <p:sp>
                <p:nvSpPr>
                  <p:cNvPr id="429" name="Freeform 27"/>
                  <p:cNvSpPr/>
                  <p:nvPr/>
                </p:nvSpPr>
                <p:spPr>
                  <a:xfrm>
                    <a:off x="647640" y="1257840"/>
                    <a:ext cx="177840" cy="141120"/>
                  </a:xfrm>
                  <a:custGeom>
                    <a:avLst/>
                    <a:gdLst>
                      <a:gd name="textAreaLeft" fmla="*/ 0 w 177840"/>
                      <a:gd name="textAreaRight" fmla="*/ 178200 w 177840"/>
                      <a:gd name="textAreaTop" fmla="*/ 0 h 141120"/>
                      <a:gd name="textAreaBottom" fmla="*/ 141480 h 141120"/>
                    </a:gdLst>
                    <a:ahLst/>
                    <a:rect l="textAreaLeft" t="textAreaTop" r="textAreaRight" b="textAreaBottom"/>
                    <a:pathLst>
                      <a:path w="558" h="448">
                        <a:moveTo>
                          <a:pt x="383" y="177"/>
                        </a:moveTo>
                        <a:lnTo>
                          <a:pt x="462" y="214"/>
                        </a:lnTo>
                        <a:lnTo>
                          <a:pt x="484" y="247"/>
                        </a:lnTo>
                        <a:lnTo>
                          <a:pt x="503" y="330"/>
                        </a:lnTo>
                        <a:lnTo>
                          <a:pt x="533" y="391"/>
                        </a:lnTo>
                        <a:lnTo>
                          <a:pt x="558" y="448"/>
                        </a:lnTo>
                        <a:lnTo>
                          <a:pt x="497" y="397"/>
                        </a:lnTo>
                        <a:lnTo>
                          <a:pt x="449" y="372"/>
                        </a:lnTo>
                        <a:lnTo>
                          <a:pt x="378" y="320"/>
                        </a:lnTo>
                        <a:lnTo>
                          <a:pt x="350" y="272"/>
                        </a:lnTo>
                        <a:lnTo>
                          <a:pt x="332" y="202"/>
                        </a:lnTo>
                        <a:lnTo>
                          <a:pt x="78" y="99"/>
                        </a:lnTo>
                        <a:lnTo>
                          <a:pt x="0" y="3"/>
                        </a:lnTo>
                        <a:lnTo>
                          <a:pt x="38" y="0"/>
                        </a:lnTo>
                        <a:lnTo>
                          <a:pt x="121" y="30"/>
                        </a:lnTo>
                        <a:lnTo>
                          <a:pt x="383" y="177"/>
                        </a:lnTo>
                        <a:close/>
                      </a:path>
                    </a:pathLst>
                  </a:custGeom>
                  <a:solidFill>
                    <a:srgbClr val="e040a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430" name="Group 28"/>
                  <p:cNvGrpSpPr/>
                  <p:nvPr/>
                </p:nvGrpSpPr>
                <p:grpSpPr>
                  <a:xfrm>
                    <a:off x="774720" y="1338840"/>
                    <a:ext cx="146160" cy="146160"/>
                    <a:chOff x="774720" y="1338840"/>
                    <a:chExt cx="146160" cy="146160"/>
                  </a:xfrm>
                </p:grpSpPr>
                <p:sp>
                  <p:nvSpPr>
                    <p:cNvPr id="431" name="Freeform 29"/>
                    <p:cNvSpPr/>
                    <p:nvPr/>
                  </p:nvSpPr>
                  <p:spPr>
                    <a:xfrm>
                      <a:off x="774720" y="1338840"/>
                      <a:ext cx="146160" cy="146160"/>
                    </a:xfrm>
                    <a:custGeom>
                      <a:avLst/>
                      <a:gdLst>
                        <a:gd name="textAreaLeft" fmla="*/ 0 w 146160"/>
                        <a:gd name="textAreaRight" fmla="*/ 146520 w 146160"/>
                        <a:gd name="textAreaTop" fmla="*/ 0 h 146160"/>
                        <a:gd name="textAreaBottom" fmla="*/ 146520 h 146160"/>
                      </a:gdLst>
                      <a:ahLst/>
                      <a:rect l="textAreaLeft" t="textAreaTop" r="textAreaRight" b="textAreaBottom"/>
                      <a:pathLst>
                        <a:path w="460" h="462">
                          <a:moveTo>
                            <a:pt x="0" y="375"/>
                          </a:moveTo>
                          <a:lnTo>
                            <a:pt x="62" y="349"/>
                          </a:lnTo>
                          <a:lnTo>
                            <a:pt x="79" y="309"/>
                          </a:lnTo>
                          <a:lnTo>
                            <a:pt x="94" y="272"/>
                          </a:lnTo>
                          <a:lnTo>
                            <a:pt x="96" y="226"/>
                          </a:lnTo>
                          <a:lnTo>
                            <a:pt x="84" y="169"/>
                          </a:lnTo>
                          <a:lnTo>
                            <a:pt x="74" y="109"/>
                          </a:lnTo>
                          <a:lnTo>
                            <a:pt x="90" y="98"/>
                          </a:lnTo>
                          <a:lnTo>
                            <a:pt x="111" y="96"/>
                          </a:lnTo>
                          <a:lnTo>
                            <a:pt x="135" y="109"/>
                          </a:lnTo>
                          <a:lnTo>
                            <a:pt x="160" y="142"/>
                          </a:lnTo>
                          <a:lnTo>
                            <a:pt x="189" y="210"/>
                          </a:lnTo>
                          <a:lnTo>
                            <a:pt x="214" y="152"/>
                          </a:lnTo>
                          <a:lnTo>
                            <a:pt x="252" y="107"/>
                          </a:lnTo>
                          <a:lnTo>
                            <a:pt x="289" y="77"/>
                          </a:lnTo>
                          <a:lnTo>
                            <a:pt x="340" y="32"/>
                          </a:lnTo>
                          <a:lnTo>
                            <a:pt x="378" y="3"/>
                          </a:lnTo>
                          <a:lnTo>
                            <a:pt x="403" y="0"/>
                          </a:lnTo>
                          <a:lnTo>
                            <a:pt x="419" y="16"/>
                          </a:lnTo>
                          <a:lnTo>
                            <a:pt x="412" y="38"/>
                          </a:lnTo>
                          <a:lnTo>
                            <a:pt x="390" y="77"/>
                          </a:lnTo>
                          <a:lnTo>
                            <a:pt x="358" y="125"/>
                          </a:lnTo>
                          <a:lnTo>
                            <a:pt x="318" y="175"/>
                          </a:lnTo>
                          <a:lnTo>
                            <a:pt x="373" y="162"/>
                          </a:lnTo>
                          <a:lnTo>
                            <a:pt x="418" y="163"/>
                          </a:lnTo>
                          <a:lnTo>
                            <a:pt x="441" y="175"/>
                          </a:lnTo>
                          <a:lnTo>
                            <a:pt x="441" y="199"/>
                          </a:lnTo>
                          <a:lnTo>
                            <a:pt x="429" y="221"/>
                          </a:lnTo>
                          <a:lnTo>
                            <a:pt x="406" y="244"/>
                          </a:lnTo>
                          <a:lnTo>
                            <a:pt x="368" y="257"/>
                          </a:lnTo>
                          <a:lnTo>
                            <a:pt x="412" y="254"/>
                          </a:lnTo>
                          <a:lnTo>
                            <a:pt x="447" y="264"/>
                          </a:lnTo>
                          <a:lnTo>
                            <a:pt x="460" y="295"/>
                          </a:lnTo>
                          <a:lnTo>
                            <a:pt x="448" y="320"/>
                          </a:lnTo>
                          <a:lnTo>
                            <a:pt x="420" y="333"/>
                          </a:lnTo>
                          <a:lnTo>
                            <a:pt x="346" y="329"/>
                          </a:lnTo>
                          <a:lnTo>
                            <a:pt x="382" y="342"/>
                          </a:lnTo>
                          <a:lnTo>
                            <a:pt x="400" y="356"/>
                          </a:lnTo>
                          <a:lnTo>
                            <a:pt x="413" y="375"/>
                          </a:lnTo>
                          <a:lnTo>
                            <a:pt x="408" y="405"/>
                          </a:lnTo>
                          <a:lnTo>
                            <a:pt x="387" y="422"/>
                          </a:lnTo>
                          <a:lnTo>
                            <a:pt x="363" y="421"/>
                          </a:lnTo>
                          <a:lnTo>
                            <a:pt x="330" y="411"/>
                          </a:lnTo>
                          <a:lnTo>
                            <a:pt x="299" y="395"/>
                          </a:lnTo>
                          <a:lnTo>
                            <a:pt x="279" y="424"/>
                          </a:lnTo>
                          <a:lnTo>
                            <a:pt x="258" y="446"/>
                          </a:lnTo>
                          <a:lnTo>
                            <a:pt x="234" y="457"/>
                          </a:lnTo>
                          <a:lnTo>
                            <a:pt x="204" y="462"/>
                          </a:lnTo>
                          <a:lnTo>
                            <a:pt x="77" y="431"/>
                          </a:lnTo>
                          <a:lnTo>
                            <a:pt x="0" y="375"/>
                          </a:lnTo>
                          <a:close/>
                        </a:path>
                      </a:pathLst>
                    </a:custGeom>
                    <a:solidFill>
                      <a:srgbClr val="e0a08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432" name="Group 30"/>
                    <p:cNvGrpSpPr/>
                    <p:nvPr/>
                  </p:nvGrpSpPr>
                  <p:grpSpPr>
                    <a:xfrm>
                      <a:off x="795240" y="1400760"/>
                      <a:ext cx="100080" cy="74520"/>
                      <a:chOff x="795240" y="1400760"/>
                      <a:chExt cx="100080" cy="74520"/>
                    </a:xfrm>
                  </p:grpSpPr>
                  <p:sp>
                    <p:nvSpPr>
                      <p:cNvPr id="433" name="Freeform 31"/>
                      <p:cNvSpPr/>
                      <p:nvPr/>
                    </p:nvSpPr>
                    <p:spPr>
                      <a:xfrm>
                        <a:off x="863640" y="1402200"/>
                        <a:ext cx="31680" cy="20880"/>
                      </a:xfrm>
                      <a:custGeom>
                        <a:avLst/>
                        <a:gdLst>
                          <a:gd name="textAreaLeft" fmla="*/ 0 w 31680"/>
                          <a:gd name="textAreaRight" fmla="*/ 32040 w 31680"/>
                          <a:gd name="textAreaTop" fmla="*/ 0 h 20880"/>
                          <a:gd name="textAreaBottom" fmla="*/ 21240 h 20880"/>
                        </a:gdLst>
                        <a:ahLst/>
                        <a:rect l="textAreaLeft" t="textAreaTop" r="textAreaRight" b="textAreaBottom"/>
                        <a:pathLst>
                          <a:path w="104" h="66">
                            <a:moveTo>
                              <a:pt x="104" y="59"/>
                            </a:moveTo>
                            <a:lnTo>
                              <a:pt x="65" y="66"/>
                            </a:lnTo>
                            <a:lnTo>
                              <a:pt x="32" y="64"/>
                            </a:lnTo>
                            <a:lnTo>
                              <a:pt x="10" y="53"/>
                            </a:lnTo>
                            <a:lnTo>
                              <a:pt x="0" y="34"/>
                            </a:lnTo>
                            <a:lnTo>
                              <a:pt x="6" y="13"/>
                            </a:lnTo>
                            <a:lnTo>
                              <a:pt x="28" y="0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34" name="Freeform 32"/>
                      <p:cNvSpPr/>
                      <p:nvPr/>
                    </p:nvSpPr>
                    <p:spPr>
                      <a:xfrm>
                        <a:off x="857160" y="1423080"/>
                        <a:ext cx="34920" cy="21960"/>
                      </a:xfrm>
                      <a:custGeom>
                        <a:avLst/>
                        <a:gdLst>
                          <a:gd name="textAreaLeft" fmla="*/ 0 w 34920"/>
                          <a:gd name="textAreaRight" fmla="*/ 35280 w 34920"/>
                          <a:gd name="textAreaTop" fmla="*/ 0 h 21960"/>
                          <a:gd name="textAreaBottom" fmla="*/ 22320 h 21960"/>
                        </a:gdLst>
                        <a:ahLst/>
                        <a:rect l="textAreaLeft" t="textAreaTop" r="textAreaRight" b="textAreaBottom"/>
                        <a:pathLst>
                          <a:path w="112" h="70">
                            <a:moveTo>
                              <a:pt x="112" y="68"/>
                            </a:moveTo>
                            <a:lnTo>
                              <a:pt x="73" y="70"/>
                            </a:lnTo>
                            <a:lnTo>
                              <a:pt x="38" y="66"/>
                            </a:lnTo>
                            <a:lnTo>
                              <a:pt x="15" y="56"/>
                            </a:lnTo>
                            <a:lnTo>
                              <a:pt x="0" y="36"/>
                            </a:lnTo>
                            <a:lnTo>
                              <a:pt x="6" y="19"/>
                            </a:lnTo>
                            <a:lnTo>
                              <a:pt x="23" y="0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35" name="Freeform 33"/>
                      <p:cNvSpPr/>
                      <p:nvPr/>
                    </p:nvSpPr>
                    <p:spPr>
                      <a:xfrm>
                        <a:off x="846000" y="1438920"/>
                        <a:ext cx="22320" cy="27000"/>
                      </a:xfrm>
                      <a:custGeom>
                        <a:avLst/>
                        <a:gdLst>
                          <a:gd name="textAreaLeft" fmla="*/ 0 w 22320"/>
                          <a:gd name="textAreaRight" fmla="*/ 22680 w 22320"/>
                          <a:gd name="textAreaTop" fmla="*/ 0 h 27000"/>
                          <a:gd name="textAreaBottom" fmla="*/ 27360 h 27000"/>
                        </a:gdLst>
                        <a:ahLst/>
                        <a:rect l="textAreaLeft" t="textAreaTop" r="textAreaRight" b="textAreaBottom"/>
                        <a:pathLst>
                          <a:path w="71" h="85">
                            <a:moveTo>
                              <a:pt x="71" y="85"/>
                            </a:moveTo>
                            <a:lnTo>
                              <a:pt x="36" y="71"/>
                            </a:lnTo>
                            <a:lnTo>
                              <a:pt x="14" y="55"/>
                            </a:lnTo>
                            <a:lnTo>
                              <a:pt x="0" y="31"/>
                            </a:lnTo>
                            <a:lnTo>
                              <a:pt x="7" y="8"/>
                            </a:lnTo>
                            <a:lnTo>
                              <a:pt x="25" y="0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36" name="Freeform 34"/>
                      <p:cNvSpPr/>
                      <p:nvPr/>
                    </p:nvSpPr>
                    <p:spPr>
                      <a:xfrm>
                        <a:off x="834840" y="1400760"/>
                        <a:ext cx="5040" cy="25200"/>
                      </a:xfrm>
                      <a:custGeom>
                        <a:avLst/>
                        <a:gdLst>
                          <a:gd name="textAreaLeft" fmla="*/ 0 w 5040"/>
                          <a:gd name="textAreaRight" fmla="*/ 5400 w 5040"/>
                          <a:gd name="textAreaTop" fmla="*/ 0 h 25200"/>
                          <a:gd name="textAreaBottom" fmla="*/ 25560 h 25200"/>
                        </a:gdLst>
                        <a:ahLst/>
                        <a:rect l="textAreaLeft" t="textAreaTop" r="textAreaRight" b="textAreaBottom"/>
                        <a:pathLst>
                          <a:path w="15" h="80">
                            <a:moveTo>
                              <a:pt x="0" y="0"/>
                            </a:moveTo>
                            <a:lnTo>
                              <a:pt x="13" y="36"/>
                            </a:lnTo>
                            <a:lnTo>
                              <a:pt x="15" y="57"/>
                            </a:lnTo>
                            <a:lnTo>
                              <a:pt x="13" y="80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37" name="Freeform 35"/>
                      <p:cNvSpPr/>
                      <p:nvPr/>
                    </p:nvSpPr>
                    <p:spPr>
                      <a:xfrm>
                        <a:off x="833400" y="1400760"/>
                        <a:ext cx="19080" cy="11160"/>
                      </a:xfrm>
                      <a:custGeom>
                        <a:avLst/>
                        <a:gdLst>
                          <a:gd name="textAreaLeft" fmla="*/ 0 w 19080"/>
                          <a:gd name="textAreaRight" fmla="*/ 19440 w 19080"/>
                          <a:gd name="textAreaTop" fmla="*/ 0 h 11160"/>
                          <a:gd name="textAreaBottom" fmla="*/ 11520 h 11160"/>
                        </a:gdLst>
                        <a:ahLst/>
                        <a:rect l="textAreaLeft" t="textAreaTop" r="textAreaRight" b="textAreaBottom"/>
                        <a:pathLst>
                          <a:path w="61" h="32">
                            <a:moveTo>
                              <a:pt x="0" y="0"/>
                            </a:moveTo>
                            <a:lnTo>
                              <a:pt x="27" y="3"/>
                            </a:lnTo>
                            <a:lnTo>
                              <a:pt x="46" y="13"/>
                            </a:lnTo>
                            <a:lnTo>
                              <a:pt x="61" y="32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38" name="Freeform 36"/>
                      <p:cNvSpPr/>
                      <p:nvPr/>
                    </p:nvSpPr>
                    <p:spPr>
                      <a:xfrm>
                        <a:off x="795240" y="1448280"/>
                        <a:ext cx="31680" cy="27000"/>
                      </a:xfrm>
                      <a:custGeom>
                        <a:avLst/>
                        <a:gdLst>
                          <a:gd name="textAreaLeft" fmla="*/ 0 w 31680"/>
                          <a:gd name="textAreaRight" fmla="*/ 32040 w 31680"/>
                          <a:gd name="textAreaTop" fmla="*/ 0 h 27000"/>
                          <a:gd name="textAreaBottom" fmla="*/ 27360 h 27000"/>
                        </a:gdLst>
                        <a:ahLst/>
                        <a:rect l="textAreaLeft" t="textAreaTop" r="textAreaRight" b="textAreaBottom"/>
                        <a:pathLst>
                          <a:path w="104" h="87">
                            <a:moveTo>
                              <a:pt x="0" y="0"/>
                            </a:moveTo>
                            <a:lnTo>
                              <a:pt x="2" y="13"/>
                            </a:lnTo>
                            <a:lnTo>
                              <a:pt x="6" y="28"/>
                            </a:lnTo>
                            <a:lnTo>
                              <a:pt x="13" y="39"/>
                            </a:lnTo>
                            <a:lnTo>
                              <a:pt x="29" y="51"/>
                            </a:lnTo>
                            <a:lnTo>
                              <a:pt x="49" y="59"/>
                            </a:lnTo>
                            <a:lnTo>
                              <a:pt x="70" y="61"/>
                            </a:lnTo>
                            <a:lnTo>
                              <a:pt x="87" y="65"/>
                            </a:lnTo>
                            <a:lnTo>
                              <a:pt x="97" y="76"/>
                            </a:lnTo>
                            <a:lnTo>
                              <a:pt x="104" y="86"/>
                            </a:lnTo>
                            <a:lnTo>
                              <a:pt x="104" y="87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39" name="Group 37"/>
                <p:cNvGrpSpPr/>
                <p:nvPr/>
              </p:nvGrpSpPr>
              <p:grpSpPr>
                <a:xfrm>
                  <a:off x="561960" y="1081440"/>
                  <a:ext cx="384120" cy="516240"/>
                  <a:chOff x="561960" y="1081440"/>
                  <a:chExt cx="384120" cy="516240"/>
                </a:xfrm>
              </p:grpSpPr>
              <p:grpSp>
                <p:nvGrpSpPr>
                  <p:cNvPr id="440" name="Group 38"/>
                  <p:cNvGrpSpPr/>
                  <p:nvPr/>
                </p:nvGrpSpPr>
                <p:grpSpPr>
                  <a:xfrm>
                    <a:off x="630360" y="1081440"/>
                    <a:ext cx="304560" cy="285840"/>
                    <a:chOff x="630360" y="1081440"/>
                    <a:chExt cx="304560" cy="285840"/>
                  </a:xfrm>
                </p:grpSpPr>
                <p:sp>
                  <p:nvSpPr>
                    <p:cNvPr id="441" name="Freeform 39"/>
                    <p:cNvSpPr/>
                    <p:nvPr/>
                  </p:nvSpPr>
                  <p:spPr>
                    <a:xfrm>
                      <a:off x="658800" y="1081440"/>
                      <a:ext cx="271440" cy="285840"/>
                    </a:xfrm>
                    <a:custGeom>
                      <a:avLst/>
                      <a:gdLst>
                        <a:gd name="textAreaLeft" fmla="*/ 0 w 271440"/>
                        <a:gd name="textAreaRight" fmla="*/ 271800 w 271440"/>
                        <a:gd name="textAreaTop" fmla="*/ 0 h 285840"/>
                        <a:gd name="textAreaBottom" fmla="*/ 286200 h 285840"/>
                      </a:gdLst>
                      <a:ahLst/>
                      <a:rect l="textAreaLeft" t="textAreaTop" r="textAreaRight" b="textAreaBottom"/>
                      <a:pathLst>
                        <a:path w="859" h="901">
                          <a:moveTo>
                            <a:pt x="106" y="714"/>
                          </a:moveTo>
                          <a:lnTo>
                            <a:pt x="147" y="637"/>
                          </a:lnTo>
                          <a:lnTo>
                            <a:pt x="147" y="614"/>
                          </a:lnTo>
                          <a:lnTo>
                            <a:pt x="132" y="583"/>
                          </a:lnTo>
                          <a:lnTo>
                            <a:pt x="109" y="550"/>
                          </a:lnTo>
                          <a:lnTo>
                            <a:pt x="67" y="518"/>
                          </a:lnTo>
                          <a:lnTo>
                            <a:pt x="40" y="475"/>
                          </a:lnTo>
                          <a:lnTo>
                            <a:pt x="27" y="437"/>
                          </a:lnTo>
                          <a:lnTo>
                            <a:pt x="10" y="408"/>
                          </a:lnTo>
                          <a:lnTo>
                            <a:pt x="10" y="375"/>
                          </a:lnTo>
                          <a:lnTo>
                            <a:pt x="0" y="298"/>
                          </a:lnTo>
                          <a:lnTo>
                            <a:pt x="10" y="239"/>
                          </a:lnTo>
                          <a:lnTo>
                            <a:pt x="29" y="188"/>
                          </a:lnTo>
                          <a:lnTo>
                            <a:pt x="55" y="133"/>
                          </a:lnTo>
                          <a:lnTo>
                            <a:pt x="86" y="102"/>
                          </a:lnTo>
                          <a:lnTo>
                            <a:pt x="145" y="64"/>
                          </a:lnTo>
                          <a:lnTo>
                            <a:pt x="209" y="38"/>
                          </a:lnTo>
                          <a:lnTo>
                            <a:pt x="276" y="15"/>
                          </a:lnTo>
                          <a:lnTo>
                            <a:pt x="362" y="2"/>
                          </a:lnTo>
                          <a:lnTo>
                            <a:pt x="423" y="0"/>
                          </a:lnTo>
                          <a:lnTo>
                            <a:pt x="484" y="5"/>
                          </a:lnTo>
                          <a:lnTo>
                            <a:pt x="561" y="20"/>
                          </a:lnTo>
                          <a:lnTo>
                            <a:pt x="632" y="43"/>
                          </a:lnTo>
                          <a:lnTo>
                            <a:pt x="683" y="69"/>
                          </a:lnTo>
                          <a:lnTo>
                            <a:pt x="747" y="118"/>
                          </a:lnTo>
                          <a:lnTo>
                            <a:pt x="790" y="176"/>
                          </a:lnTo>
                          <a:lnTo>
                            <a:pt x="823" y="229"/>
                          </a:lnTo>
                          <a:lnTo>
                            <a:pt x="839" y="268"/>
                          </a:lnTo>
                          <a:lnTo>
                            <a:pt x="859" y="336"/>
                          </a:lnTo>
                          <a:lnTo>
                            <a:pt x="859" y="388"/>
                          </a:lnTo>
                          <a:lnTo>
                            <a:pt x="846" y="463"/>
                          </a:lnTo>
                          <a:lnTo>
                            <a:pt x="826" y="524"/>
                          </a:lnTo>
                          <a:lnTo>
                            <a:pt x="797" y="575"/>
                          </a:lnTo>
                          <a:lnTo>
                            <a:pt x="772" y="604"/>
                          </a:lnTo>
                          <a:lnTo>
                            <a:pt x="735" y="637"/>
                          </a:lnTo>
                          <a:lnTo>
                            <a:pt x="674" y="662"/>
                          </a:lnTo>
                          <a:lnTo>
                            <a:pt x="629" y="678"/>
                          </a:lnTo>
                          <a:lnTo>
                            <a:pt x="577" y="693"/>
                          </a:lnTo>
                          <a:lnTo>
                            <a:pt x="497" y="701"/>
                          </a:lnTo>
                          <a:lnTo>
                            <a:pt x="428" y="714"/>
                          </a:lnTo>
                          <a:lnTo>
                            <a:pt x="382" y="723"/>
                          </a:lnTo>
                          <a:lnTo>
                            <a:pt x="369" y="745"/>
                          </a:lnTo>
                          <a:lnTo>
                            <a:pt x="372" y="772"/>
                          </a:lnTo>
                          <a:lnTo>
                            <a:pt x="369" y="798"/>
                          </a:lnTo>
                          <a:lnTo>
                            <a:pt x="359" y="817"/>
                          </a:lnTo>
                          <a:lnTo>
                            <a:pt x="354" y="853"/>
                          </a:lnTo>
                          <a:lnTo>
                            <a:pt x="356" y="901"/>
                          </a:lnTo>
                          <a:lnTo>
                            <a:pt x="298" y="821"/>
                          </a:lnTo>
                          <a:lnTo>
                            <a:pt x="222" y="756"/>
                          </a:lnTo>
                          <a:lnTo>
                            <a:pt x="158" y="726"/>
                          </a:lnTo>
                          <a:lnTo>
                            <a:pt x="106" y="714"/>
                          </a:lnTo>
                          <a:close/>
                        </a:path>
                      </a:pathLst>
                    </a:custGeom>
                    <a:solidFill>
                      <a:srgbClr val="e0a08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442" name="Group 40"/>
                    <p:cNvGrpSpPr/>
                    <p:nvPr/>
                  </p:nvGrpSpPr>
                  <p:grpSpPr>
                    <a:xfrm>
                      <a:off x="630360" y="1081440"/>
                      <a:ext cx="255600" cy="196920"/>
                      <a:chOff x="630360" y="1081440"/>
                      <a:chExt cx="255600" cy="196920"/>
                    </a:xfrm>
                  </p:grpSpPr>
                  <p:grpSp>
                    <p:nvGrpSpPr>
                      <p:cNvPr id="443" name="Group 41"/>
                      <p:cNvGrpSpPr/>
                      <p:nvPr/>
                    </p:nvGrpSpPr>
                    <p:grpSpPr>
                      <a:xfrm>
                        <a:off x="698400" y="1081440"/>
                        <a:ext cx="176400" cy="60480"/>
                        <a:chOff x="698400" y="1081440"/>
                        <a:chExt cx="176400" cy="60480"/>
                      </a:xfrm>
                    </p:grpSpPr>
                    <p:sp>
                      <p:nvSpPr>
                        <p:cNvPr id="444" name="Freeform 42"/>
                        <p:cNvSpPr/>
                        <p:nvPr/>
                      </p:nvSpPr>
                      <p:spPr>
                        <a:xfrm>
                          <a:off x="712800" y="1091160"/>
                          <a:ext cx="162000" cy="50760"/>
                        </a:xfrm>
                        <a:custGeom>
                          <a:avLst/>
                          <a:gdLst>
                            <a:gd name="textAreaLeft" fmla="*/ 0 w 162000"/>
                            <a:gd name="textAreaRight" fmla="*/ 162360 w 162000"/>
                            <a:gd name="textAreaTop" fmla="*/ 0 h 50760"/>
                            <a:gd name="textAreaBottom" fmla="*/ 51120 h 50760"/>
                          </a:gdLst>
                          <a:ahLst/>
                          <a:rect l="textAreaLeft" t="textAreaTop" r="textAreaRight" b="textAreaBottom"/>
                          <a:pathLst>
                            <a:path w="510" h="160">
                              <a:moveTo>
                                <a:pt x="0" y="160"/>
                              </a:moveTo>
                              <a:lnTo>
                                <a:pt x="39" y="110"/>
                              </a:lnTo>
                              <a:lnTo>
                                <a:pt x="90" y="71"/>
                              </a:lnTo>
                              <a:lnTo>
                                <a:pt x="151" y="38"/>
                              </a:lnTo>
                              <a:lnTo>
                                <a:pt x="212" y="19"/>
                              </a:lnTo>
                              <a:lnTo>
                                <a:pt x="279" y="5"/>
                              </a:lnTo>
                              <a:lnTo>
                                <a:pt x="366" y="0"/>
                              </a:lnTo>
                              <a:lnTo>
                                <a:pt x="430" y="10"/>
                              </a:lnTo>
                              <a:lnTo>
                                <a:pt x="510" y="36"/>
                              </a:lnTo>
                            </a:path>
                          </a:pathLst>
                        </a:custGeom>
                        <a:noFill/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20" bIns="4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45" name="Freeform 43"/>
                        <p:cNvSpPr/>
                        <p:nvPr/>
                      </p:nvSpPr>
                      <p:spPr>
                        <a:xfrm>
                          <a:off x="698400" y="1081440"/>
                          <a:ext cx="166680" cy="55800"/>
                        </a:xfrm>
                        <a:custGeom>
                          <a:avLst/>
                          <a:gdLst>
                            <a:gd name="textAreaLeft" fmla="*/ 0 w 166680"/>
                            <a:gd name="textAreaRight" fmla="*/ 167040 w 166680"/>
                            <a:gd name="textAreaTop" fmla="*/ 0 h 55800"/>
                            <a:gd name="textAreaBottom" fmla="*/ 56160 h 55800"/>
                          </a:gdLst>
                          <a:ahLst/>
                          <a:rect l="textAreaLeft" t="textAreaTop" r="textAreaRight" b="textAreaBottom"/>
                          <a:pathLst>
                            <a:path w="526" h="176">
                              <a:moveTo>
                                <a:pt x="0" y="176"/>
                              </a:moveTo>
                              <a:lnTo>
                                <a:pt x="25" y="125"/>
                              </a:lnTo>
                              <a:lnTo>
                                <a:pt x="56" y="89"/>
                              </a:lnTo>
                              <a:lnTo>
                                <a:pt x="90" y="60"/>
                              </a:lnTo>
                              <a:lnTo>
                                <a:pt x="151" y="28"/>
                              </a:lnTo>
                              <a:lnTo>
                                <a:pt x="231" y="5"/>
                              </a:lnTo>
                              <a:lnTo>
                                <a:pt x="305" y="0"/>
                              </a:lnTo>
                              <a:lnTo>
                                <a:pt x="385" y="8"/>
                              </a:lnTo>
                              <a:lnTo>
                                <a:pt x="458" y="31"/>
                              </a:lnTo>
                              <a:lnTo>
                                <a:pt x="494" y="41"/>
                              </a:lnTo>
                              <a:lnTo>
                                <a:pt x="526" y="51"/>
                              </a:lnTo>
                            </a:path>
                          </a:pathLst>
                        </a:custGeom>
                        <a:noFill/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360" bIns="9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446" name="Group 44"/>
                      <p:cNvGrpSpPr/>
                      <p:nvPr/>
                    </p:nvGrpSpPr>
                    <p:grpSpPr>
                      <a:xfrm>
                        <a:off x="630360" y="1118160"/>
                        <a:ext cx="95040" cy="96840"/>
                        <a:chOff x="630360" y="1118160"/>
                        <a:chExt cx="95040" cy="96840"/>
                      </a:xfrm>
                    </p:grpSpPr>
                    <p:sp>
                      <p:nvSpPr>
                        <p:cNvPr id="447" name="Freeform 45"/>
                        <p:cNvSpPr/>
                        <p:nvPr/>
                      </p:nvSpPr>
                      <p:spPr>
                        <a:xfrm>
                          <a:off x="630360" y="1118160"/>
                          <a:ext cx="95040" cy="96840"/>
                        </a:xfrm>
                        <a:custGeom>
                          <a:avLst/>
                          <a:gdLst>
                            <a:gd name="textAreaLeft" fmla="*/ 0 w 95040"/>
                            <a:gd name="textAreaRight" fmla="*/ 95400 w 95040"/>
                            <a:gd name="textAreaTop" fmla="*/ 0 h 96840"/>
                            <a:gd name="textAreaBottom" fmla="*/ 97200 h 96840"/>
                          </a:gdLst>
                          <a:ahLst/>
                          <a:rect l="textAreaLeft" t="textAreaTop" r="textAreaRight" b="textAreaBottom"/>
                          <a:pathLst>
                            <a:path w="302" h="305">
                              <a:moveTo>
                                <a:pt x="56" y="290"/>
                              </a:moveTo>
                              <a:lnTo>
                                <a:pt x="17" y="253"/>
                              </a:lnTo>
                              <a:lnTo>
                                <a:pt x="0" y="200"/>
                              </a:lnTo>
                              <a:lnTo>
                                <a:pt x="9" y="133"/>
                              </a:lnTo>
                              <a:lnTo>
                                <a:pt x="32" y="83"/>
                              </a:lnTo>
                              <a:lnTo>
                                <a:pt x="50" y="58"/>
                              </a:lnTo>
                              <a:lnTo>
                                <a:pt x="71" y="25"/>
                              </a:lnTo>
                              <a:lnTo>
                                <a:pt x="81" y="14"/>
                              </a:lnTo>
                              <a:lnTo>
                                <a:pt x="95" y="2"/>
                              </a:lnTo>
                              <a:lnTo>
                                <a:pt x="110" y="0"/>
                              </a:lnTo>
                              <a:lnTo>
                                <a:pt x="119" y="13"/>
                              </a:lnTo>
                              <a:lnTo>
                                <a:pt x="126" y="27"/>
                              </a:lnTo>
                              <a:lnTo>
                                <a:pt x="132" y="17"/>
                              </a:lnTo>
                              <a:lnTo>
                                <a:pt x="149" y="15"/>
                              </a:lnTo>
                              <a:lnTo>
                                <a:pt x="159" y="27"/>
                              </a:lnTo>
                              <a:lnTo>
                                <a:pt x="163" y="45"/>
                              </a:lnTo>
                              <a:lnTo>
                                <a:pt x="167" y="69"/>
                              </a:lnTo>
                              <a:lnTo>
                                <a:pt x="180" y="63"/>
                              </a:lnTo>
                              <a:lnTo>
                                <a:pt x="194" y="70"/>
                              </a:lnTo>
                              <a:lnTo>
                                <a:pt x="197" y="77"/>
                              </a:lnTo>
                              <a:lnTo>
                                <a:pt x="196" y="90"/>
                              </a:lnTo>
                              <a:lnTo>
                                <a:pt x="194" y="103"/>
                              </a:lnTo>
                              <a:lnTo>
                                <a:pt x="202" y="95"/>
                              </a:lnTo>
                              <a:lnTo>
                                <a:pt x="215" y="88"/>
                              </a:lnTo>
                              <a:lnTo>
                                <a:pt x="236" y="90"/>
                              </a:lnTo>
                              <a:lnTo>
                                <a:pt x="237" y="101"/>
                              </a:lnTo>
                              <a:lnTo>
                                <a:pt x="238" y="111"/>
                              </a:lnTo>
                              <a:lnTo>
                                <a:pt x="238" y="123"/>
                              </a:lnTo>
                              <a:lnTo>
                                <a:pt x="251" y="121"/>
                              </a:lnTo>
                              <a:lnTo>
                                <a:pt x="264" y="126"/>
                              </a:lnTo>
                              <a:lnTo>
                                <a:pt x="271" y="136"/>
                              </a:lnTo>
                              <a:lnTo>
                                <a:pt x="274" y="152"/>
                              </a:lnTo>
                              <a:lnTo>
                                <a:pt x="286" y="157"/>
                              </a:lnTo>
                              <a:lnTo>
                                <a:pt x="293" y="175"/>
                              </a:lnTo>
                              <a:lnTo>
                                <a:pt x="290" y="195"/>
                              </a:lnTo>
                              <a:lnTo>
                                <a:pt x="286" y="228"/>
                              </a:lnTo>
                              <a:lnTo>
                                <a:pt x="289" y="247"/>
                              </a:lnTo>
                              <a:lnTo>
                                <a:pt x="296" y="260"/>
                              </a:lnTo>
                              <a:lnTo>
                                <a:pt x="302" y="273"/>
                              </a:lnTo>
                              <a:lnTo>
                                <a:pt x="302" y="289"/>
                              </a:lnTo>
                              <a:lnTo>
                                <a:pt x="293" y="302"/>
                              </a:lnTo>
                              <a:lnTo>
                                <a:pt x="283" y="305"/>
                              </a:lnTo>
                              <a:lnTo>
                                <a:pt x="271" y="305"/>
                              </a:lnTo>
                              <a:lnTo>
                                <a:pt x="259" y="303"/>
                              </a:lnTo>
                              <a:lnTo>
                                <a:pt x="245" y="290"/>
                              </a:lnTo>
                              <a:lnTo>
                                <a:pt x="237" y="279"/>
                              </a:lnTo>
                              <a:lnTo>
                                <a:pt x="235" y="273"/>
                              </a:lnTo>
                              <a:lnTo>
                                <a:pt x="222" y="277"/>
                              </a:lnTo>
                              <a:lnTo>
                                <a:pt x="206" y="276"/>
                              </a:lnTo>
                              <a:lnTo>
                                <a:pt x="196" y="271"/>
                              </a:lnTo>
                              <a:lnTo>
                                <a:pt x="193" y="266"/>
                              </a:lnTo>
                              <a:lnTo>
                                <a:pt x="180" y="266"/>
                              </a:lnTo>
                              <a:lnTo>
                                <a:pt x="172" y="263"/>
                              </a:lnTo>
                              <a:lnTo>
                                <a:pt x="167" y="261"/>
                              </a:lnTo>
                              <a:lnTo>
                                <a:pt x="157" y="261"/>
                              </a:lnTo>
                              <a:lnTo>
                                <a:pt x="149" y="259"/>
                              </a:lnTo>
                              <a:lnTo>
                                <a:pt x="142" y="247"/>
                              </a:lnTo>
                              <a:lnTo>
                                <a:pt x="137" y="240"/>
                              </a:lnTo>
                              <a:lnTo>
                                <a:pt x="132" y="247"/>
                              </a:lnTo>
                              <a:lnTo>
                                <a:pt x="127" y="259"/>
                              </a:lnTo>
                              <a:lnTo>
                                <a:pt x="118" y="263"/>
                              </a:lnTo>
                              <a:lnTo>
                                <a:pt x="107" y="264"/>
                              </a:lnTo>
                              <a:lnTo>
                                <a:pt x="101" y="264"/>
                              </a:lnTo>
                              <a:lnTo>
                                <a:pt x="98" y="271"/>
                              </a:lnTo>
                              <a:lnTo>
                                <a:pt x="90" y="279"/>
                              </a:lnTo>
                              <a:lnTo>
                                <a:pt x="81" y="290"/>
                              </a:lnTo>
                              <a:lnTo>
                                <a:pt x="56" y="29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8040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grpSp>
                      <p:nvGrpSpPr>
                        <p:cNvPr id="448" name="Group 46"/>
                        <p:cNvGrpSpPr/>
                        <p:nvPr/>
                      </p:nvGrpSpPr>
                      <p:grpSpPr>
                        <a:xfrm>
                          <a:off x="635040" y="1122840"/>
                          <a:ext cx="73080" cy="85680"/>
                          <a:chOff x="635040" y="1122840"/>
                          <a:chExt cx="73080" cy="85680"/>
                        </a:xfrm>
                      </p:grpSpPr>
                      <p:sp>
                        <p:nvSpPr>
                          <p:cNvPr id="449" name="Freeform 47"/>
                          <p:cNvSpPr/>
                          <p:nvPr/>
                        </p:nvSpPr>
                        <p:spPr>
                          <a:xfrm>
                            <a:off x="692280" y="1180080"/>
                            <a:ext cx="15840" cy="17280"/>
                          </a:xfrm>
                          <a:custGeom>
                            <a:avLst/>
                            <a:gdLst>
                              <a:gd name="textAreaLeft" fmla="*/ 0 w 15840"/>
                              <a:gd name="textAreaRight" fmla="*/ 16200 w 15840"/>
                              <a:gd name="textAreaTop" fmla="*/ 0 h 17280"/>
                              <a:gd name="textAreaBottom" fmla="*/ 17640 h 17280"/>
                            </a:gdLst>
                            <a:ahLst/>
                            <a:rect l="textAreaLeft" t="textAreaTop" r="textAreaRight" b="textAreaBottom"/>
                            <a:pathLst>
                              <a:path w="46" h="56">
                                <a:moveTo>
                                  <a:pt x="13" y="56"/>
                                </a:moveTo>
                                <a:lnTo>
                                  <a:pt x="10" y="27"/>
                                </a:lnTo>
                                <a:lnTo>
                                  <a:pt x="19" y="12"/>
                                </a:lnTo>
                                <a:lnTo>
                                  <a:pt x="46" y="0"/>
                                </a:lnTo>
                                <a:lnTo>
                                  <a:pt x="28" y="2"/>
                                </a:lnTo>
                                <a:lnTo>
                                  <a:pt x="7" y="8"/>
                                </a:lnTo>
                                <a:lnTo>
                                  <a:pt x="0" y="22"/>
                                </a:lnTo>
                                <a:lnTo>
                                  <a:pt x="13" y="5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160" bIns="-291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450" name="Freeform 48"/>
                          <p:cNvSpPr/>
                          <p:nvPr/>
                        </p:nvSpPr>
                        <p:spPr>
                          <a:xfrm>
                            <a:off x="665280" y="1151640"/>
                            <a:ext cx="23760" cy="42840"/>
                          </a:xfrm>
                          <a:custGeom>
                            <a:avLst/>
                            <a:gdLst>
                              <a:gd name="textAreaLeft" fmla="*/ 0 w 23760"/>
                              <a:gd name="textAreaRight" fmla="*/ 24120 w 23760"/>
                              <a:gd name="textAreaTop" fmla="*/ 0 h 42840"/>
                              <a:gd name="textAreaBottom" fmla="*/ 43200 h 42840"/>
                            </a:gdLst>
                            <a:ahLst/>
                            <a:rect l="textAreaLeft" t="textAreaTop" r="textAreaRight" b="textAreaBottom"/>
                            <a:pathLst>
                              <a:path w="73" h="137">
                                <a:moveTo>
                                  <a:pt x="30" y="137"/>
                                </a:moveTo>
                                <a:lnTo>
                                  <a:pt x="17" y="107"/>
                                </a:lnTo>
                                <a:lnTo>
                                  <a:pt x="17" y="65"/>
                                </a:lnTo>
                                <a:lnTo>
                                  <a:pt x="42" y="33"/>
                                </a:lnTo>
                                <a:lnTo>
                                  <a:pt x="73" y="0"/>
                                </a:lnTo>
                                <a:lnTo>
                                  <a:pt x="54" y="19"/>
                                </a:lnTo>
                                <a:lnTo>
                                  <a:pt x="23" y="42"/>
                                </a:lnTo>
                                <a:lnTo>
                                  <a:pt x="0" y="61"/>
                                </a:lnTo>
                                <a:lnTo>
                                  <a:pt x="5" y="77"/>
                                </a:lnTo>
                                <a:lnTo>
                                  <a:pt x="4" y="96"/>
                                </a:lnTo>
                                <a:lnTo>
                                  <a:pt x="4" y="117"/>
                                </a:lnTo>
                                <a:lnTo>
                                  <a:pt x="30" y="13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00" bIns="-36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451" name="Freeform 49"/>
                          <p:cNvSpPr/>
                          <p:nvPr/>
                        </p:nvSpPr>
                        <p:spPr>
                          <a:xfrm>
                            <a:off x="635040" y="1175400"/>
                            <a:ext cx="15840" cy="33120"/>
                          </a:xfrm>
                          <a:custGeom>
                            <a:avLst/>
                            <a:gdLst>
                              <a:gd name="textAreaLeft" fmla="*/ 0 w 15840"/>
                              <a:gd name="textAreaRight" fmla="*/ 16200 w 15840"/>
                              <a:gd name="textAreaTop" fmla="*/ 0 h 33120"/>
                              <a:gd name="textAreaBottom" fmla="*/ 33480 h 33120"/>
                            </a:gdLst>
                            <a:ahLst/>
                            <a:rect l="textAreaLeft" t="textAreaTop" r="textAreaRight" b="textAreaBottom"/>
                            <a:pathLst>
                              <a:path w="50" h="106">
                                <a:moveTo>
                                  <a:pt x="22" y="88"/>
                                </a:moveTo>
                                <a:lnTo>
                                  <a:pt x="0" y="56"/>
                                </a:lnTo>
                                <a:lnTo>
                                  <a:pt x="9" y="33"/>
                                </a:lnTo>
                                <a:lnTo>
                                  <a:pt x="28" y="0"/>
                                </a:lnTo>
                                <a:lnTo>
                                  <a:pt x="12" y="57"/>
                                </a:lnTo>
                                <a:lnTo>
                                  <a:pt x="24" y="82"/>
                                </a:lnTo>
                                <a:lnTo>
                                  <a:pt x="50" y="106"/>
                                </a:lnTo>
                                <a:lnTo>
                                  <a:pt x="22" y="88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3320" bIns="-133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452" name="Freeform 50"/>
                          <p:cNvSpPr/>
                          <p:nvPr/>
                        </p:nvSpPr>
                        <p:spPr>
                          <a:xfrm>
                            <a:off x="647640" y="1122840"/>
                            <a:ext cx="20520" cy="34920"/>
                          </a:xfrm>
                          <a:custGeom>
                            <a:avLst/>
                            <a:gdLst>
                              <a:gd name="textAreaLeft" fmla="*/ 0 w 20520"/>
                              <a:gd name="textAreaRight" fmla="*/ 20880 w 20520"/>
                              <a:gd name="textAreaTop" fmla="*/ 0 h 34920"/>
                              <a:gd name="textAreaBottom" fmla="*/ 35280 h 34920"/>
                            </a:gdLst>
                            <a:ahLst/>
                            <a:rect l="textAreaLeft" t="textAreaTop" r="textAreaRight" b="textAreaBottom"/>
                            <a:pathLst>
                              <a:path w="68" h="106">
                                <a:moveTo>
                                  <a:pt x="68" y="0"/>
                                </a:moveTo>
                                <a:lnTo>
                                  <a:pt x="36" y="26"/>
                                </a:lnTo>
                                <a:lnTo>
                                  <a:pt x="9" y="53"/>
                                </a:lnTo>
                                <a:lnTo>
                                  <a:pt x="5" y="74"/>
                                </a:lnTo>
                                <a:lnTo>
                                  <a:pt x="0" y="106"/>
                                </a:lnTo>
                                <a:lnTo>
                                  <a:pt x="11" y="81"/>
                                </a:lnTo>
                                <a:lnTo>
                                  <a:pt x="20" y="55"/>
                                </a:lnTo>
                                <a:lnTo>
                                  <a:pt x="49" y="23"/>
                                </a:lnTo>
                                <a:lnTo>
                                  <a:pt x="68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1520" bIns="-11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453" name="Freeform 51"/>
                          <p:cNvSpPr/>
                          <p:nvPr/>
                        </p:nvSpPr>
                        <p:spPr>
                          <a:xfrm>
                            <a:off x="644400" y="1186560"/>
                            <a:ext cx="12960" cy="21960"/>
                          </a:xfrm>
                          <a:custGeom>
                            <a:avLst/>
                            <a:gdLst>
                              <a:gd name="textAreaLeft" fmla="*/ 0 w 12960"/>
                              <a:gd name="textAreaRight" fmla="*/ 13320 w 12960"/>
                              <a:gd name="textAreaTop" fmla="*/ 0 h 21960"/>
                              <a:gd name="textAreaBottom" fmla="*/ 22320 h 21960"/>
                            </a:gdLst>
                            <a:ahLst/>
                            <a:rect l="textAreaLeft" t="textAreaTop" r="textAreaRight" b="textAreaBottom"/>
                            <a:pathLst>
                              <a:path w="38" h="67">
                                <a:moveTo>
                                  <a:pt x="15" y="67"/>
                                </a:moveTo>
                                <a:lnTo>
                                  <a:pt x="5" y="45"/>
                                </a:lnTo>
                                <a:lnTo>
                                  <a:pt x="0" y="33"/>
                                </a:lnTo>
                                <a:lnTo>
                                  <a:pt x="11" y="14"/>
                                </a:lnTo>
                                <a:lnTo>
                                  <a:pt x="35" y="0"/>
                                </a:lnTo>
                                <a:lnTo>
                                  <a:pt x="21" y="19"/>
                                </a:lnTo>
                                <a:lnTo>
                                  <a:pt x="13" y="39"/>
                                </a:lnTo>
                                <a:lnTo>
                                  <a:pt x="25" y="45"/>
                                </a:lnTo>
                                <a:lnTo>
                                  <a:pt x="38" y="30"/>
                                </a:lnTo>
                                <a:lnTo>
                                  <a:pt x="32" y="44"/>
                                </a:lnTo>
                                <a:lnTo>
                                  <a:pt x="15" y="6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480" bIns="-244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54" name="Group 52"/>
                      <p:cNvGrpSpPr/>
                      <p:nvPr/>
                    </p:nvGrpSpPr>
                    <p:grpSpPr>
                      <a:xfrm>
                        <a:off x="782640" y="1229400"/>
                        <a:ext cx="103320" cy="48960"/>
                        <a:chOff x="782640" y="1229400"/>
                        <a:chExt cx="103320" cy="48960"/>
                      </a:xfrm>
                    </p:grpSpPr>
                    <p:sp>
                      <p:nvSpPr>
                        <p:cNvPr id="455" name="Freeform 53"/>
                        <p:cNvSpPr/>
                        <p:nvPr/>
                      </p:nvSpPr>
                      <p:spPr>
                        <a:xfrm>
                          <a:off x="782640" y="1229400"/>
                          <a:ext cx="103320" cy="48960"/>
                        </a:xfrm>
                        <a:custGeom>
                          <a:avLst/>
                          <a:gdLst>
                            <a:gd name="textAreaLeft" fmla="*/ 0 w 103320"/>
                            <a:gd name="textAreaRight" fmla="*/ 103680 w 103320"/>
                            <a:gd name="textAreaTop" fmla="*/ 0 h 48960"/>
                            <a:gd name="textAreaBottom" fmla="*/ 49320 h 48960"/>
                          </a:gdLst>
                          <a:ahLst/>
                          <a:rect l="textAreaLeft" t="textAreaTop" r="textAreaRight" b="textAreaBottom"/>
                          <a:pathLst>
                            <a:path w="324" h="159">
                              <a:moveTo>
                                <a:pt x="19" y="39"/>
                              </a:moveTo>
                              <a:lnTo>
                                <a:pt x="78" y="42"/>
                              </a:lnTo>
                              <a:lnTo>
                                <a:pt x="119" y="41"/>
                              </a:lnTo>
                              <a:lnTo>
                                <a:pt x="168" y="19"/>
                              </a:lnTo>
                              <a:lnTo>
                                <a:pt x="209" y="2"/>
                              </a:lnTo>
                              <a:lnTo>
                                <a:pt x="246" y="0"/>
                              </a:lnTo>
                              <a:lnTo>
                                <a:pt x="263" y="15"/>
                              </a:lnTo>
                              <a:lnTo>
                                <a:pt x="288" y="25"/>
                              </a:lnTo>
                              <a:lnTo>
                                <a:pt x="317" y="28"/>
                              </a:lnTo>
                              <a:lnTo>
                                <a:pt x="324" y="42"/>
                              </a:lnTo>
                              <a:lnTo>
                                <a:pt x="321" y="72"/>
                              </a:lnTo>
                              <a:lnTo>
                                <a:pt x="315" y="92"/>
                              </a:lnTo>
                              <a:lnTo>
                                <a:pt x="301" y="108"/>
                              </a:lnTo>
                              <a:lnTo>
                                <a:pt x="279" y="128"/>
                              </a:lnTo>
                              <a:lnTo>
                                <a:pt x="269" y="145"/>
                              </a:lnTo>
                              <a:lnTo>
                                <a:pt x="254" y="158"/>
                              </a:lnTo>
                              <a:lnTo>
                                <a:pt x="241" y="159"/>
                              </a:lnTo>
                              <a:lnTo>
                                <a:pt x="222" y="143"/>
                              </a:lnTo>
                              <a:lnTo>
                                <a:pt x="211" y="150"/>
                              </a:lnTo>
                              <a:lnTo>
                                <a:pt x="192" y="151"/>
                              </a:lnTo>
                              <a:lnTo>
                                <a:pt x="179" y="127"/>
                              </a:lnTo>
                              <a:lnTo>
                                <a:pt x="170" y="130"/>
                              </a:lnTo>
                              <a:lnTo>
                                <a:pt x="158" y="130"/>
                              </a:lnTo>
                              <a:lnTo>
                                <a:pt x="151" y="118"/>
                              </a:lnTo>
                              <a:lnTo>
                                <a:pt x="136" y="127"/>
                              </a:lnTo>
                              <a:lnTo>
                                <a:pt x="123" y="133"/>
                              </a:lnTo>
                              <a:lnTo>
                                <a:pt x="106" y="127"/>
                              </a:lnTo>
                              <a:lnTo>
                                <a:pt x="103" y="115"/>
                              </a:lnTo>
                              <a:lnTo>
                                <a:pt x="101" y="101"/>
                              </a:lnTo>
                              <a:lnTo>
                                <a:pt x="75" y="104"/>
                              </a:lnTo>
                              <a:lnTo>
                                <a:pt x="54" y="108"/>
                              </a:lnTo>
                              <a:lnTo>
                                <a:pt x="50" y="101"/>
                              </a:lnTo>
                              <a:lnTo>
                                <a:pt x="32" y="101"/>
                              </a:lnTo>
                              <a:lnTo>
                                <a:pt x="8" y="83"/>
                              </a:lnTo>
                              <a:lnTo>
                                <a:pt x="0" y="65"/>
                              </a:lnTo>
                              <a:lnTo>
                                <a:pt x="4" y="56"/>
                              </a:lnTo>
                              <a:lnTo>
                                <a:pt x="1" y="41"/>
                              </a:lnTo>
                              <a:lnTo>
                                <a:pt x="19" y="3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8040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20" bIns="25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grpSp>
                      <p:nvGrpSpPr>
                        <p:cNvPr id="456" name="Group 54"/>
                        <p:cNvGrpSpPr/>
                        <p:nvPr/>
                      </p:nvGrpSpPr>
                      <p:grpSpPr>
                        <a:xfrm>
                          <a:off x="797040" y="1237320"/>
                          <a:ext cx="77760" cy="37800"/>
                          <a:chOff x="797040" y="1237320"/>
                          <a:chExt cx="77760" cy="37800"/>
                        </a:xfrm>
                      </p:grpSpPr>
                      <p:sp>
                        <p:nvSpPr>
                          <p:cNvPr id="457" name="Freeform 55"/>
                          <p:cNvSpPr/>
                          <p:nvPr/>
                        </p:nvSpPr>
                        <p:spPr>
                          <a:xfrm>
                            <a:off x="797040" y="1249920"/>
                            <a:ext cx="23760" cy="11160"/>
                          </a:xfrm>
                          <a:custGeom>
                            <a:avLst/>
                            <a:gdLst>
                              <a:gd name="textAreaLeft" fmla="*/ 0 w 23760"/>
                              <a:gd name="textAreaRight" fmla="*/ 24120 w 23760"/>
                              <a:gd name="textAreaTop" fmla="*/ 0 h 11160"/>
                              <a:gd name="textAreaBottom" fmla="*/ 11520 h 11160"/>
                            </a:gdLst>
                            <a:ahLst/>
                            <a:rect l="textAreaLeft" t="textAreaTop" r="textAreaRight" b="textAreaBottom"/>
                            <a:pathLst>
                              <a:path w="75" h="36">
                                <a:moveTo>
                                  <a:pt x="0" y="36"/>
                                </a:moveTo>
                                <a:lnTo>
                                  <a:pt x="39" y="24"/>
                                </a:lnTo>
                                <a:lnTo>
                                  <a:pt x="75" y="0"/>
                                </a:lnTo>
                                <a:lnTo>
                                  <a:pt x="61" y="18"/>
                                </a:lnTo>
                                <a:lnTo>
                                  <a:pt x="45" y="30"/>
                                </a:lnTo>
                                <a:lnTo>
                                  <a:pt x="0" y="3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5280" bIns="-352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458" name="Freeform 56"/>
                          <p:cNvSpPr/>
                          <p:nvPr/>
                        </p:nvSpPr>
                        <p:spPr>
                          <a:xfrm>
                            <a:off x="828720" y="1237320"/>
                            <a:ext cx="19080" cy="29880"/>
                          </a:xfrm>
                          <a:custGeom>
                            <a:avLst/>
                            <a:gdLst>
                              <a:gd name="textAreaLeft" fmla="*/ 0 w 19080"/>
                              <a:gd name="textAreaRight" fmla="*/ 19440 w 19080"/>
                              <a:gd name="textAreaTop" fmla="*/ 0 h 29880"/>
                              <a:gd name="textAreaBottom" fmla="*/ 30240 h 29880"/>
                            </a:gdLst>
                            <a:ahLst/>
                            <a:rect l="textAreaLeft" t="textAreaTop" r="textAreaRight" b="textAreaBottom"/>
                            <a:pathLst>
                              <a:path w="61" h="97">
                                <a:moveTo>
                                  <a:pt x="0" y="97"/>
                                </a:moveTo>
                                <a:lnTo>
                                  <a:pt x="21" y="65"/>
                                </a:lnTo>
                                <a:lnTo>
                                  <a:pt x="61" y="0"/>
                                </a:lnTo>
                                <a:lnTo>
                                  <a:pt x="49" y="39"/>
                                </a:lnTo>
                                <a:lnTo>
                                  <a:pt x="42" y="67"/>
                                </a:lnTo>
                                <a:lnTo>
                                  <a:pt x="0" y="9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560" bIns="-165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459" name="Freeform 57"/>
                          <p:cNvSpPr/>
                          <p:nvPr/>
                        </p:nvSpPr>
                        <p:spPr>
                          <a:xfrm>
                            <a:off x="852480" y="1237320"/>
                            <a:ext cx="12600" cy="37800"/>
                          </a:xfrm>
                          <a:custGeom>
                            <a:avLst/>
                            <a:gdLst>
                              <a:gd name="textAreaLeft" fmla="*/ 0 w 12600"/>
                              <a:gd name="textAreaRight" fmla="*/ 12960 w 12600"/>
                              <a:gd name="textAreaTop" fmla="*/ 0 h 37800"/>
                              <a:gd name="textAreaBottom" fmla="*/ 38160 h 37800"/>
                            </a:gdLst>
                            <a:ahLst/>
                            <a:rect l="textAreaLeft" t="textAreaTop" r="textAreaRight" b="textAreaBottom"/>
                            <a:pathLst>
                              <a:path w="44" h="117">
                                <a:moveTo>
                                  <a:pt x="0" y="117"/>
                                </a:moveTo>
                                <a:lnTo>
                                  <a:pt x="32" y="91"/>
                                </a:lnTo>
                                <a:lnTo>
                                  <a:pt x="31" y="38"/>
                                </a:lnTo>
                                <a:lnTo>
                                  <a:pt x="9" y="0"/>
                                </a:lnTo>
                                <a:lnTo>
                                  <a:pt x="35" y="36"/>
                                </a:lnTo>
                                <a:lnTo>
                                  <a:pt x="44" y="72"/>
                                </a:lnTo>
                                <a:lnTo>
                                  <a:pt x="41" y="102"/>
                                </a:lnTo>
                                <a:lnTo>
                                  <a:pt x="0" y="11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8640" bIns="-86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460" name="Freeform 58"/>
                          <p:cNvSpPr/>
                          <p:nvPr/>
                        </p:nvSpPr>
                        <p:spPr>
                          <a:xfrm>
                            <a:off x="871560" y="1249920"/>
                            <a:ext cx="3240" cy="14400"/>
                          </a:xfrm>
                          <a:custGeom>
                            <a:avLst/>
                            <a:gdLst>
                              <a:gd name="textAreaLeft" fmla="*/ 0 w 3240"/>
                              <a:gd name="textAreaRight" fmla="*/ 3600 w 3240"/>
                              <a:gd name="textAreaTop" fmla="*/ 0 h 14400"/>
                              <a:gd name="textAreaBottom" fmla="*/ 14760 h 14400"/>
                            </a:gdLst>
                            <a:ahLst/>
                            <a:rect l="textAreaLeft" t="textAreaTop" r="textAreaRight" b="textAreaBottom"/>
                            <a:pathLst>
                              <a:path w="13" h="45">
                                <a:moveTo>
                                  <a:pt x="0" y="0"/>
                                </a:moveTo>
                                <a:lnTo>
                                  <a:pt x="13" y="29"/>
                                </a:lnTo>
                                <a:lnTo>
                                  <a:pt x="9" y="45"/>
                                </a:lnTo>
                              </a:path>
                            </a:pathLst>
                          </a:custGeom>
                          <a:noFill/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2040" bIns="-320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461" name="Group 59"/>
                    <p:cNvGrpSpPr/>
                    <p:nvPr/>
                  </p:nvGrpSpPr>
                  <p:grpSpPr>
                    <a:xfrm>
                      <a:off x="811080" y="1141920"/>
                      <a:ext cx="123840" cy="106560"/>
                      <a:chOff x="811080" y="1141920"/>
                      <a:chExt cx="123840" cy="106560"/>
                    </a:xfrm>
                  </p:grpSpPr>
                  <p:sp>
                    <p:nvSpPr>
                      <p:cNvPr id="462" name="Freeform 60"/>
                      <p:cNvSpPr/>
                      <p:nvPr/>
                    </p:nvSpPr>
                    <p:spPr>
                      <a:xfrm>
                        <a:off x="866880" y="1180080"/>
                        <a:ext cx="56880" cy="55440"/>
                      </a:xfrm>
                      <a:custGeom>
                        <a:avLst/>
                        <a:gdLst>
                          <a:gd name="textAreaLeft" fmla="*/ 0 w 56880"/>
                          <a:gd name="textAreaRight" fmla="*/ 57240 w 56880"/>
                          <a:gd name="textAreaTop" fmla="*/ 0 h 55440"/>
                          <a:gd name="textAreaBottom" fmla="*/ 55800 h 55440"/>
                        </a:gdLst>
                        <a:ahLst/>
                        <a:rect l="textAreaLeft" t="textAreaTop" r="textAreaRight" b="textAreaBottom"/>
                        <a:pathLst>
                          <a:path w="184" h="171">
                            <a:moveTo>
                              <a:pt x="13" y="68"/>
                            </a:moveTo>
                            <a:lnTo>
                              <a:pt x="34" y="34"/>
                            </a:lnTo>
                            <a:lnTo>
                              <a:pt x="47" y="22"/>
                            </a:lnTo>
                            <a:lnTo>
                              <a:pt x="77" y="7"/>
                            </a:lnTo>
                            <a:lnTo>
                              <a:pt x="109" y="0"/>
                            </a:lnTo>
                            <a:lnTo>
                              <a:pt x="139" y="0"/>
                            </a:lnTo>
                            <a:lnTo>
                              <a:pt x="157" y="5"/>
                            </a:lnTo>
                            <a:lnTo>
                              <a:pt x="174" y="26"/>
                            </a:lnTo>
                            <a:lnTo>
                              <a:pt x="184" y="55"/>
                            </a:lnTo>
                            <a:lnTo>
                              <a:pt x="181" y="85"/>
                            </a:lnTo>
                            <a:lnTo>
                              <a:pt x="165" y="113"/>
                            </a:lnTo>
                            <a:lnTo>
                              <a:pt x="153" y="133"/>
                            </a:lnTo>
                            <a:lnTo>
                              <a:pt x="119" y="153"/>
                            </a:lnTo>
                            <a:lnTo>
                              <a:pt x="77" y="163"/>
                            </a:lnTo>
                            <a:lnTo>
                              <a:pt x="40" y="171"/>
                            </a:lnTo>
                            <a:lnTo>
                              <a:pt x="15" y="163"/>
                            </a:lnTo>
                            <a:lnTo>
                              <a:pt x="2" y="146"/>
                            </a:lnTo>
                            <a:lnTo>
                              <a:pt x="0" y="118"/>
                            </a:lnTo>
                            <a:lnTo>
                              <a:pt x="13" y="68"/>
                            </a:lnTo>
                            <a:close/>
                          </a:path>
                        </a:pathLst>
                      </a:custGeom>
                      <a:solidFill>
                        <a:srgbClr val="f0f0ff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000" bIns="9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63" name="Freeform 61"/>
                      <p:cNvSpPr/>
                      <p:nvPr/>
                    </p:nvSpPr>
                    <p:spPr>
                      <a:xfrm>
                        <a:off x="890640" y="1164240"/>
                        <a:ext cx="44280" cy="33120"/>
                      </a:xfrm>
                      <a:custGeom>
                        <a:avLst/>
                        <a:gdLst>
                          <a:gd name="textAreaLeft" fmla="*/ 0 w 44280"/>
                          <a:gd name="textAreaRight" fmla="*/ 44640 w 44280"/>
                          <a:gd name="textAreaTop" fmla="*/ 0 h 33120"/>
                          <a:gd name="textAreaBottom" fmla="*/ 33480 h 33120"/>
                        </a:gdLst>
                        <a:ahLst/>
                        <a:rect l="textAreaLeft" t="textAreaTop" r="textAreaRight" b="textAreaBottom"/>
                        <a:pathLst>
                          <a:path w="137" h="107">
                            <a:moveTo>
                              <a:pt x="17" y="0"/>
                            </a:moveTo>
                            <a:lnTo>
                              <a:pt x="131" y="63"/>
                            </a:lnTo>
                            <a:lnTo>
                              <a:pt x="136" y="72"/>
                            </a:lnTo>
                            <a:lnTo>
                              <a:pt x="137" y="85"/>
                            </a:lnTo>
                            <a:lnTo>
                              <a:pt x="135" y="95"/>
                            </a:lnTo>
                            <a:lnTo>
                              <a:pt x="131" y="104"/>
                            </a:lnTo>
                            <a:lnTo>
                              <a:pt x="126" y="107"/>
                            </a:lnTo>
                            <a:lnTo>
                              <a:pt x="115" y="107"/>
                            </a:lnTo>
                            <a:lnTo>
                              <a:pt x="11" y="47"/>
                            </a:lnTo>
                            <a:lnTo>
                              <a:pt x="2" y="38"/>
                            </a:lnTo>
                            <a:lnTo>
                              <a:pt x="0" y="26"/>
                            </a:lnTo>
                            <a:lnTo>
                              <a:pt x="2" y="13"/>
                            </a:lnTo>
                            <a:lnTo>
                              <a:pt x="6" y="7"/>
                            </a:lnTo>
                            <a:lnTo>
                              <a:pt x="12" y="1"/>
                            </a:lnTo>
                            <a:lnTo>
                              <a:pt x="17" y="0"/>
                            </a:lnTo>
                            <a:close/>
                          </a:path>
                        </a:pathLst>
                      </a:custGeom>
                      <a:solidFill>
                        <a:srgbClr val="c08040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320" bIns="-13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64" name="Freeform 62"/>
                      <p:cNvSpPr/>
                      <p:nvPr/>
                    </p:nvSpPr>
                    <p:spPr>
                      <a:xfrm>
                        <a:off x="852480" y="1165680"/>
                        <a:ext cx="79200" cy="82800"/>
                      </a:xfrm>
                      <a:custGeom>
                        <a:avLst/>
                        <a:gdLst>
                          <a:gd name="textAreaLeft" fmla="*/ 0 w 79200"/>
                          <a:gd name="textAreaRight" fmla="*/ 79560 w 79200"/>
                          <a:gd name="textAreaTop" fmla="*/ 0 h 82800"/>
                          <a:gd name="textAreaBottom" fmla="*/ 83160 h 82800"/>
                        </a:gdLst>
                        <a:ahLst/>
                        <a:rect l="textAreaLeft" t="textAreaTop" r="textAreaRight" b="textAreaBottom"/>
                        <a:pathLst>
                          <a:path w="250" h="260">
                            <a:moveTo>
                              <a:pt x="77" y="0"/>
                            </a:moveTo>
                            <a:lnTo>
                              <a:pt x="150" y="60"/>
                            </a:lnTo>
                            <a:lnTo>
                              <a:pt x="180" y="87"/>
                            </a:lnTo>
                            <a:lnTo>
                              <a:pt x="211" y="118"/>
                            </a:lnTo>
                            <a:lnTo>
                              <a:pt x="229" y="143"/>
                            </a:lnTo>
                            <a:lnTo>
                              <a:pt x="246" y="168"/>
                            </a:lnTo>
                            <a:lnTo>
                              <a:pt x="250" y="198"/>
                            </a:lnTo>
                            <a:lnTo>
                              <a:pt x="247" y="228"/>
                            </a:lnTo>
                            <a:lnTo>
                              <a:pt x="234" y="247"/>
                            </a:lnTo>
                            <a:lnTo>
                              <a:pt x="211" y="260"/>
                            </a:lnTo>
                            <a:lnTo>
                              <a:pt x="155" y="260"/>
                            </a:lnTo>
                            <a:lnTo>
                              <a:pt x="116" y="254"/>
                            </a:lnTo>
                            <a:lnTo>
                              <a:pt x="58" y="238"/>
                            </a:lnTo>
                            <a:lnTo>
                              <a:pt x="47" y="221"/>
                            </a:lnTo>
                            <a:lnTo>
                              <a:pt x="29" y="198"/>
                            </a:lnTo>
                            <a:lnTo>
                              <a:pt x="0" y="186"/>
                            </a:lnTo>
                            <a:lnTo>
                              <a:pt x="26" y="148"/>
                            </a:lnTo>
                            <a:lnTo>
                              <a:pt x="26" y="60"/>
                            </a:lnTo>
                            <a:lnTo>
                              <a:pt x="77" y="0"/>
                            </a:lnTo>
                            <a:close/>
                          </a:path>
                        </a:pathLst>
                      </a:custGeom>
                      <a:solidFill>
                        <a:srgbClr val="e0a080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360" bIns="36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grpSp>
                    <p:nvGrpSpPr>
                      <p:cNvPr id="465" name="Group 63"/>
                      <p:cNvGrpSpPr/>
                      <p:nvPr/>
                    </p:nvGrpSpPr>
                    <p:grpSpPr>
                      <a:xfrm>
                        <a:off x="811080" y="1141920"/>
                        <a:ext cx="74880" cy="73080"/>
                        <a:chOff x="811080" y="1141920"/>
                        <a:chExt cx="74880" cy="73080"/>
                      </a:xfrm>
                    </p:grpSpPr>
                    <p:sp>
                      <p:nvSpPr>
                        <p:cNvPr id="466" name="Freeform 64"/>
                        <p:cNvSpPr/>
                        <p:nvPr/>
                      </p:nvSpPr>
                      <p:spPr>
                        <a:xfrm>
                          <a:off x="811080" y="1159560"/>
                          <a:ext cx="60480" cy="55440"/>
                        </a:xfrm>
                        <a:custGeom>
                          <a:avLst/>
                          <a:gdLst>
                            <a:gd name="textAreaLeft" fmla="*/ 0 w 60480"/>
                            <a:gd name="textAreaRight" fmla="*/ 60840 w 60480"/>
                            <a:gd name="textAreaTop" fmla="*/ 0 h 55440"/>
                            <a:gd name="textAreaBottom" fmla="*/ 55800 h 55440"/>
                          </a:gdLst>
                          <a:ahLst/>
                          <a:rect l="textAreaLeft" t="textAreaTop" r="textAreaRight" b="textAreaBottom"/>
                          <a:pathLst>
                            <a:path w="186" h="172">
                              <a:moveTo>
                                <a:pt x="13" y="70"/>
                              </a:moveTo>
                              <a:lnTo>
                                <a:pt x="35" y="36"/>
                              </a:lnTo>
                              <a:lnTo>
                                <a:pt x="48" y="22"/>
                              </a:lnTo>
                              <a:lnTo>
                                <a:pt x="77" y="7"/>
                              </a:lnTo>
                              <a:lnTo>
                                <a:pt x="112" y="0"/>
                              </a:lnTo>
                              <a:lnTo>
                                <a:pt x="141" y="0"/>
                              </a:lnTo>
                              <a:lnTo>
                                <a:pt x="160" y="6"/>
                              </a:lnTo>
                              <a:lnTo>
                                <a:pt x="177" y="27"/>
                              </a:lnTo>
                              <a:lnTo>
                                <a:pt x="186" y="56"/>
                              </a:lnTo>
                              <a:lnTo>
                                <a:pt x="184" y="88"/>
                              </a:lnTo>
                              <a:lnTo>
                                <a:pt x="167" y="116"/>
                              </a:lnTo>
                              <a:lnTo>
                                <a:pt x="154" y="134"/>
                              </a:lnTo>
                              <a:lnTo>
                                <a:pt x="121" y="153"/>
                              </a:lnTo>
                              <a:lnTo>
                                <a:pt x="77" y="163"/>
                              </a:lnTo>
                              <a:lnTo>
                                <a:pt x="42" y="172"/>
                              </a:lnTo>
                              <a:lnTo>
                                <a:pt x="17" y="163"/>
                              </a:lnTo>
                              <a:lnTo>
                                <a:pt x="4" y="147"/>
                              </a:lnTo>
                              <a:lnTo>
                                <a:pt x="0" y="120"/>
                              </a:lnTo>
                              <a:lnTo>
                                <a:pt x="13" y="7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0f0ff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67" name="Oval 65"/>
                        <p:cNvSpPr/>
                        <p:nvPr/>
                      </p:nvSpPr>
                      <p:spPr>
                        <a:xfrm>
                          <a:off x="819000" y="1199160"/>
                          <a:ext cx="15840" cy="14040"/>
                        </a:xfrm>
                        <a:prstGeom prst="ellipse">
                          <a:avLst/>
                        </a:prstGeom>
                        <a:solidFill>
                          <a:srgbClr val="008080"/>
                        </a:solidFill>
                        <a:ln w="3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360" bIns="-3636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68" name="Freeform 66"/>
                        <p:cNvSpPr/>
                        <p:nvPr/>
                      </p:nvSpPr>
                      <p:spPr>
                        <a:xfrm>
                          <a:off x="825480" y="1141920"/>
                          <a:ext cx="60480" cy="36360"/>
                        </a:xfrm>
                        <a:custGeom>
                          <a:avLst/>
                          <a:gdLst>
                            <a:gd name="textAreaLeft" fmla="*/ 0 w 60480"/>
                            <a:gd name="textAreaRight" fmla="*/ 60840 w 60480"/>
                            <a:gd name="textAreaTop" fmla="*/ 0 h 36360"/>
                            <a:gd name="textAreaBottom" fmla="*/ 36720 h 36360"/>
                          </a:gdLst>
                          <a:ahLst/>
                          <a:rect l="textAreaLeft" t="textAreaTop" r="textAreaRight" b="textAreaBottom"/>
                          <a:pathLst>
                            <a:path w="193" h="112">
                              <a:moveTo>
                                <a:pt x="28" y="0"/>
                              </a:moveTo>
                              <a:lnTo>
                                <a:pt x="185" y="66"/>
                              </a:lnTo>
                              <a:lnTo>
                                <a:pt x="191" y="75"/>
                              </a:lnTo>
                              <a:lnTo>
                                <a:pt x="193" y="89"/>
                              </a:lnTo>
                              <a:lnTo>
                                <a:pt x="189" y="99"/>
                              </a:lnTo>
                              <a:lnTo>
                                <a:pt x="184" y="108"/>
                              </a:lnTo>
                              <a:lnTo>
                                <a:pt x="176" y="111"/>
                              </a:lnTo>
                              <a:lnTo>
                                <a:pt x="162" y="112"/>
                              </a:lnTo>
                              <a:lnTo>
                                <a:pt x="16" y="49"/>
                              </a:lnTo>
                              <a:lnTo>
                                <a:pt x="4" y="40"/>
                              </a:lnTo>
                              <a:lnTo>
                                <a:pt x="0" y="27"/>
                              </a:lnTo>
                              <a:lnTo>
                                <a:pt x="4" y="14"/>
                              </a:lnTo>
                              <a:lnTo>
                                <a:pt x="9" y="8"/>
                              </a:lnTo>
                              <a:lnTo>
                                <a:pt x="17" y="2"/>
                              </a:lnTo>
                              <a:lnTo>
                                <a:pt x="28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8040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080" bIns="-100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69" name="Group 67"/>
                    <p:cNvGrpSpPr/>
                    <p:nvPr/>
                  </p:nvGrpSpPr>
                  <p:grpSpPr>
                    <a:xfrm>
                      <a:off x="655560" y="1195920"/>
                      <a:ext cx="58680" cy="68400"/>
                      <a:chOff x="655560" y="1195920"/>
                      <a:chExt cx="58680" cy="68400"/>
                    </a:xfrm>
                  </p:grpSpPr>
                  <p:sp>
                    <p:nvSpPr>
                      <p:cNvPr id="470" name="Freeform 68"/>
                      <p:cNvSpPr/>
                      <p:nvPr/>
                    </p:nvSpPr>
                    <p:spPr>
                      <a:xfrm>
                        <a:off x="655560" y="1195920"/>
                        <a:ext cx="52560" cy="66600"/>
                      </a:xfrm>
                      <a:custGeom>
                        <a:avLst/>
                        <a:gdLst>
                          <a:gd name="textAreaLeft" fmla="*/ 0 w 52560"/>
                          <a:gd name="textAreaRight" fmla="*/ 52920 w 52560"/>
                          <a:gd name="textAreaTop" fmla="*/ 0 h 66600"/>
                          <a:gd name="textAreaBottom" fmla="*/ 66960 h 66600"/>
                        </a:gdLst>
                        <a:ahLst/>
                        <a:rect l="textAreaLeft" t="textAreaTop" r="textAreaRight" b="textAreaBottom"/>
                        <a:pathLst>
                          <a:path w="164" h="210">
                            <a:moveTo>
                              <a:pt x="133" y="33"/>
                            </a:moveTo>
                            <a:lnTo>
                              <a:pt x="107" y="6"/>
                            </a:lnTo>
                            <a:lnTo>
                              <a:pt x="89" y="1"/>
                            </a:lnTo>
                            <a:lnTo>
                              <a:pt x="57" y="0"/>
                            </a:lnTo>
                            <a:lnTo>
                              <a:pt x="30" y="16"/>
                            </a:lnTo>
                            <a:lnTo>
                              <a:pt x="15" y="33"/>
                            </a:lnTo>
                            <a:lnTo>
                              <a:pt x="4" y="54"/>
                            </a:lnTo>
                            <a:lnTo>
                              <a:pt x="0" y="78"/>
                            </a:lnTo>
                            <a:lnTo>
                              <a:pt x="1" y="105"/>
                            </a:lnTo>
                            <a:lnTo>
                              <a:pt x="10" y="135"/>
                            </a:lnTo>
                            <a:lnTo>
                              <a:pt x="28" y="159"/>
                            </a:lnTo>
                            <a:lnTo>
                              <a:pt x="48" y="172"/>
                            </a:lnTo>
                            <a:lnTo>
                              <a:pt x="73" y="182"/>
                            </a:lnTo>
                            <a:lnTo>
                              <a:pt x="86" y="201"/>
                            </a:lnTo>
                            <a:lnTo>
                              <a:pt x="99" y="208"/>
                            </a:lnTo>
                            <a:lnTo>
                              <a:pt x="114" y="210"/>
                            </a:lnTo>
                            <a:lnTo>
                              <a:pt x="132" y="206"/>
                            </a:lnTo>
                            <a:lnTo>
                              <a:pt x="151" y="194"/>
                            </a:lnTo>
                            <a:lnTo>
                              <a:pt x="160" y="176"/>
                            </a:lnTo>
                            <a:lnTo>
                              <a:pt x="164" y="150"/>
                            </a:lnTo>
                            <a:lnTo>
                              <a:pt x="154" y="125"/>
                            </a:lnTo>
                            <a:lnTo>
                              <a:pt x="153" y="99"/>
                            </a:lnTo>
                            <a:lnTo>
                              <a:pt x="145" y="63"/>
                            </a:lnTo>
                            <a:lnTo>
                              <a:pt x="133" y="33"/>
                            </a:lnTo>
                            <a:close/>
                          </a:path>
                        </a:pathLst>
                      </a:custGeom>
                      <a:solidFill>
                        <a:srgbClr val="e0a080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160" bIns="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71" name="Freeform 69"/>
                      <p:cNvSpPr/>
                      <p:nvPr/>
                    </p:nvSpPr>
                    <p:spPr>
                      <a:xfrm>
                        <a:off x="662040" y="1199160"/>
                        <a:ext cx="52200" cy="65160"/>
                      </a:xfrm>
                      <a:custGeom>
                        <a:avLst/>
                        <a:gdLst>
                          <a:gd name="textAreaLeft" fmla="*/ 0 w 52200"/>
                          <a:gd name="textAreaRight" fmla="*/ 52560 w 52200"/>
                          <a:gd name="textAreaTop" fmla="*/ 0 h 65160"/>
                          <a:gd name="textAreaBottom" fmla="*/ 65520 h 65160"/>
                        </a:gdLst>
                        <a:ahLst/>
                        <a:rect l="textAreaLeft" t="textAreaTop" r="textAreaRight" b="textAreaBottom"/>
                        <a:pathLst>
                          <a:path w="169" h="204">
                            <a:moveTo>
                              <a:pt x="138" y="31"/>
                            </a:moveTo>
                            <a:lnTo>
                              <a:pt x="110" y="6"/>
                            </a:lnTo>
                            <a:lnTo>
                              <a:pt x="92" y="1"/>
                            </a:lnTo>
                            <a:lnTo>
                              <a:pt x="59" y="0"/>
                            </a:lnTo>
                            <a:lnTo>
                              <a:pt x="31" y="13"/>
                            </a:lnTo>
                            <a:lnTo>
                              <a:pt x="15" y="31"/>
                            </a:lnTo>
                            <a:lnTo>
                              <a:pt x="5" y="52"/>
                            </a:lnTo>
                            <a:lnTo>
                              <a:pt x="0" y="75"/>
                            </a:lnTo>
                            <a:lnTo>
                              <a:pt x="1" y="101"/>
                            </a:lnTo>
                            <a:lnTo>
                              <a:pt x="10" y="131"/>
                            </a:lnTo>
                            <a:lnTo>
                              <a:pt x="28" y="155"/>
                            </a:lnTo>
                            <a:lnTo>
                              <a:pt x="50" y="168"/>
                            </a:lnTo>
                            <a:lnTo>
                              <a:pt x="74" y="176"/>
                            </a:lnTo>
                            <a:lnTo>
                              <a:pt x="88" y="195"/>
                            </a:lnTo>
                            <a:lnTo>
                              <a:pt x="101" y="201"/>
                            </a:lnTo>
                            <a:lnTo>
                              <a:pt x="116" y="204"/>
                            </a:lnTo>
                            <a:lnTo>
                              <a:pt x="137" y="198"/>
                            </a:lnTo>
                            <a:lnTo>
                              <a:pt x="156" y="188"/>
                            </a:lnTo>
                            <a:lnTo>
                              <a:pt x="164" y="172"/>
                            </a:lnTo>
                            <a:lnTo>
                              <a:pt x="169" y="145"/>
                            </a:lnTo>
                            <a:lnTo>
                              <a:pt x="159" y="121"/>
                            </a:lnTo>
                            <a:lnTo>
                              <a:pt x="158" y="96"/>
                            </a:lnTo>
                            <a:lnTo>
                              <a:pt x="150" y="62"/>
                            </a:lnTo>
                            <a:lnTo>
                              <a:pt x="138" y="31"/>
                            </a:lnTo>
                            <a:close/>
                          </a:path>
                        </a:pathLst>
                      </a:custGeom>
                      <a:solidFill>
                        <a:srgbClr val="e0a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720" bIns="18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</p:grpSp>
              </p:grpSp>
              <p:grpSp>
                <p:nvGrpSpPr>
                  <p:cNvPr id="472" name="Group 70"/>
                  <p:cNvGrpSpPr/>
                  <p:nvPr/>
                </p:nvGrpSpPr>
                <p:grpSpPr>
                  <a:xfrm>
                    <a:off x="561960" y="1259280"/>
                    <a:ext cx="384120" cy="338400"/>
                    <a:chOff x="561960" y="1259280"/>
                    <a:chExt cx="384120" cy="338400"/>
                  </a:xfrm>
                </p:grpSpPr>
                <p:sp>
                  <p:nvSpPr>
                    <p:cNvPr id="473" name="Freeform 71"/>
                    <p:cNvSpPr/>
                    <p:nvPr/>
                  </p:nvSpPr>
                  <p:spPr>
                    <a:xfrm>
                      <a:off x="561960" y="1259280"/>
                      <a:ext cx="309600" cy="306360"/>
                    </a:xfrm>
                    <a:custGeom>
                      <a:avLst/>
                      <a:gdLst>
                        <a:gd name="textAreaLeft" fmla="*/ 0 w 309600"/>
                        <a:gd name="textAreaRight" fmla="*/ 309960 w 309600"/>
                        <a:gd name="textAreaTop" fmla="*/ 0 h 306360"/>
                        <a:gd name="textAreaBottom" fmla="*/ 306720 h 306360"/>
                      </a:gdLst>
                      <a:ahLst/>
                      <a:rect l="textAreaLeft" t="textAreaTop" r="textAreaRight" b="textAreaBottom"/>
                      <a:pathLst>
                        <a:path w="975" h="967">
                          <a:moveTo>
                            <a:pt x="265" y="0"/>
                          </a:moveTo>
                          <a:lnTo>
                            <a:pt x="327" y="42"/>
                          </a:lnTo>
                          <a:lnTo>
                            <a:pt x="390" y="83"/>
                          </a:lnTo>
                          <a:lnTo>
                            <a:pt x="446" y="109"/>
                          </a:lnTo>
                          <a:lnTo>
                            <a:pt x="634" y="187"/>
                          </a:lnTo>
                          <a:lnTo>
                            <a:pt x="662" y="306"/>
                          </a:lnTo>
                          <a:lnTo>
                            <a:pt x="686" y="368"/>
                          </a:lnTo>
                          <a:lnTo>
                            <a:pt x="707" y="413"/>
                          </a:lnTo>
                          <a:lnTo>
                            <a:pt x="722" y="459"/>
                          </a:lnTo>
                          <a:lnTo>
                            <a:pt x="732" y="506"/>
                          </a:lnTo>
                          <a:lnTo>
                            <a:pt x="731" y="535"/>
                          </a:lnTo>
                          <a:lnTo>
                            <a:pt x="724" y="570"/>
                          </a:lnTo>
                          <a:lnTo>
                            <a:pt x="728" y="611"/>
                          </a:lnTo>
                          <a:lnTo>
                            <a:pt x="744" y="654"/>
                          </a:lnTo>
                          <a:lnTo>
                            <a:pt x="783" y="670"/>
                          </a:lnTo>
                          <a:lnTo>
                            <a:pt x="843" y="685"/>
                          </a:lnTo>
                          <a:lnTo>
                            <a:pt x="884" y="698"/>
                          </a:lnTo>
                          <a:lnTo>
                            <a:pt x="925" y="730"/>
                          </a:lnTo>
                          <a:lnTo>
                            <a:pt x="951" y="764"/>
                          </a:lnTo>
                          <a:lnTo>
                            <a:pt x="968" y="807"/>
                          </a:lnTo>
                          <a:lnTo>
                            <a:pt x="975" y="856"/>
                          </a:lnTo>
                          <a:lnTo>
                            <a:pt x="965" y="930"/>
                          </a:lnTo>
                          <a:lnTo>
                            <a:pt x="232" y="967"/>
                          </a:lnTo>
                          <a:lnTo>
                            <a:pt x="97" y="964"/>
                          </a:lnTo>
                          <a:lnTo>
                            <a:pt x="71" y="930"/>
                          </a:lnTo>
                          <a:lnTo>
                            <a:pt x="46" y="875"/>
                          </a:lnTo>
                          <a:lnTo>
                            <a:pt x="25" y="814"/>
                          </a:lnTo>
                          <a:lnTo>
                            <a:pt x="13" y="763"/>
                          </a:lnTo>
                          <a:lnTo>
                            <a:pt x="4" y="708"/>
                          </a:lnTo>
                          <a:lnTo>
                            <a:pt x="0" y="657"/>
                          </a:lnTo>
                          <a:lnTo>
                            <a:pt x="10" y="573"/>
                          </a:lnTo>
                          <a:lnTo>
                            <a:pt x="25" y="506"/>
                          </a:lnTo>
                          <a:lnTo>
                            <a:pt x="48" y="432"/>
                          </a:lnTo>
                          <a:lnTo>
                            <a:pt x="74" y="361"/>
                          </a:lnTo>
                          <a:lnTo>
                            <a:pt x="104" y="304"/>
                          </a:lnTo>
                          <a:lnTo>
                            <a:pt x="143" y="240"/>
                          </a:lnTo>
                          <a:lnTo>
                            <a:pt x="192" y="187"/>
                          </a:lnTo>
                          <a:lnTo>
                            <a:pt x="237" y="142"/>
                          </a:lnTo>
                          <a:lnTo>
                            <a:pt x="269" y="119"/>
                          </a:lnTo>
                          <a:lnTo>
                            <a:pt x="195" y="83"/>
                          </a:lnTo>
                          <a:lnTo>
                            <a:pt x="265" y="0"/>
                          </a:lnTo>
                          <a:close/>
                        </a:path>
                      </a:pathLst>
                    </a:custGeom>
                    <a:solidFill>
                      <a:srgbClr val="ff60c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4" name="Freeform 72"/>
                    <p:cNvSpPr/>
                    <p:nvPr/>
                  </p:nvSpPr>
                  <p:spPr>
                    <a:xfrm>
                      <a:off x="768240" y="1421280"/>
                      <a:ext cx="87480" cy="112680"/>
                    </a:xfrm>
                    <a:custGeom>
                      <a:avLst/>
                      <a:gdLst>
                        <a:gd name="textAreaLeft" fmla="*/ 0 w 87480"/>
                        <a:gd name="textAreaRight" fmla="*/ 87840 w 87480"/>
                        <a:gd name="textAreaTop" fmla="*/ 0 h 112680"/>
                        <a:gd name="textAreaBottom" fmla="*/ 113040 h 112680"/>
                      </a:gdLst>
                      <a:ahLst/>
                      <a:rect l="textAreaLeft" t="textAreaTop" r="textAreaRight" b="textAreaBottom"/>
                      <a:pathLst>
                        <a:path w="273" h="354">
                          <a:moveTo>
                            <a:pt x="0" y="0"/>
                          </a:moveTo>
                          <a:lnTo>
                            <a:pt x="10" y="67"/>
                          </a:lnTo>
                          <a:lnTo>
                            <a:pt x="21" y="120"/>
                          </a:lnTo>
                          <a:lnTo>
                            <a:pt x="43" y="162"/>
                          </a:lnTo>
                          <a:lnTo>
                            <a:pt x="60" y="186"/>
                          </a:lnTo>
                          <a:lnTo>
                            <a:pt x="94" y="205"/>
                          </a:lnTo>
                          <a:lnTo>
                            <a:pt x="154" y="227"/>
                          </a:lnTo>
                          <a:lnTo>
                            <a:pt x="206" y="248"/>
                          </a:lnTo>
                          <a:lnTo>
                            <a:pt x="231" y="259"/>
                          </a:lnTo>
                          <a:lnTo>
                            <a:pt x="253" y="283"/>
                          </a:lnTo>
                          <a:lnTo>
                            <a:pt x="266" y="315"/>
                          </a:lnTo>
                          <a:lnTo>
                            <a:pt x="273" y="354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5" name="Freeform 73"/>
                    <p:cNvSpPr/>
                    <p:nvPr/>
                  </p:nvSpPr>
                  <p:spPr>
                    <a:xfrm>
                      <a:off x="646200" y="1299240"/>
                      <a:ext cx="126720" cy="123840"/>
                    </a:xfrm>
                    <a:custGeom>
                      <a:avLst/>
                      <a:gdLst>
                        <a:gd name="textAreaLeft" fmla="*/ 0 w 126720"/>
                        <a:gd name="textAreaRight" fmla="*/ 127080 w 126720"/>
                        <a:gd name="textAreaTop" fmla="*/ 0 h 123840"/>
                        <a:gd name="textAreaBottom" fmla="*/ 124200 h 123840"/>
                      </a:gdLst>
                      <a:ahLst/>
                      <a:rect l="textAreaLeft" t="textAreaTop" r="textAreaRight" b="textAreaBottom"/>
                      <a:pathLst>
                        <a:path w="401" h="390">
                          <a:moveTo>
                            <a:pt x="0" y="7"/>
                          </a:moveTo>
                          <a:lnTo>
                            <a:pt x="13" y="0"/>
                          </a:lnTo>
                          <a:lnTo>
                            <a:pt x="55" y="31"/>
                          </a:lnTo>
                          <a:lnTo>
                            <a:pt x="109" y="63"/>
                          </a:lnTo>
                          <a:lnTo>
                            <a:pt x="153" y="83"/>
                          </a:lnTo>
                          <a:lnTo>
                            <a:pt x="199" y="108"/>
                          </a:lnTo>
                          <a:lnTo>
                            <a:pt x="263" y="141"/>
                          </a:lnTo>
                          <a:lnTo>
                            <a:pt x="302" y="202"/>
                          </a:lnTo>
                          <a:lnTo>
                            <a:pt x="333" y="311"/>
                          </a:lnTo>
                          <a:lnTo>
                            <a:pt x="362" y="222"/>
                          </a:lnTo>
                          <a:lnTo>
                            <a:pt x="385" y="163"/>
                          </a:lnTo>
                          <a:lnTo>
                            <a:pt x="381" y="128"/>
                          </a:lnTo>
                          <a:lnTo>
                            <a:pt x="394" y="182"/>
                          </a:lnTo>
                          <a:lnTo>
                            <a:pt x="401" y="210"/>
                          </a:lnTo>
                          <a:lnTo>
                            <a:pt x="388" y="235"/>
                          </a:lnTo>
                          <a:lnTo>
                            <a:pt x="369" y="282"/>
                          </a:lnTo>
                          <a:lnTo>
                            <a:pt x="346" y="339"/>
                          </a:lnTo>
                          <a:lnTo>
                            <a:pt x="327" y="390"/>
                          </a:lnTo>
                          <a:lnTo>
                            <a:pt x="302" y="304"/>
                          </a:lnTo>
                          <a:lnTo>
                            <a:pt x="280" y="244"/>
                          </a:lnTo>
                          <a:lnTo>
                            <a:pt x="266" y="186"/>
                          </a:lnTo>
                          <a:lnTo>
                            <a:pt x="202" y="128"/>
                          </a:lnTo>
                          <a:lnTo>
                            <a:pt x="90" y="69"/>
                          </a:lnTo>
                          <a:lnTo>
                            <a:pt x="0" y="7"/>
                          </a:lnTo>
                          <a:close/>
                        </a:path>
                      </a:pathLst>
                    </a:custGeom>
                    <a:solidFill>
                      <a:srgbClr val="e040a0"/>
                    </a:solidFill>
                    <a:ln w="3240">
                      <a:solidFill>
                        <a:srgbClr val="e040a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6" name="Freeform 74"/>
                    <p:cNvSpPr/>
                    <p:nvPr/>
                  </p:nvSpPr>
                  <p:spPr>
                    <a:xfrm>
                      <a:off x="652320" y="1364040"/>
                      <a:ext cx="54000" cy="103320"/>
                    </a:xfrm>
                    <a:custGeom>
                      <a:avLst/>
                      <a:gdLst>
                        <a:gd name="textAreaLeft" fmla="*/ 0 w 54000"/>
                        <a:gd name="textAreaRight" fmla="*/ 54360 w 54000"/>
                        <a:gd name="textAreaTop" fmla="*/ 0 h 103320"/>
                        <a:gd name="textAreaBottom" fmla="*/ 103680 h 103320"/>
                      </a:gdLst>
                      <a:ahLst/>
                      <a:rect l="textAreaLeft" t="textAreaTop" r="textAreaRight" b="textAreaBottom"/>
                      <a:pathLst>
                        <a:path w="169" h="327">
                          <a:moveTo>
                            <a:pt x="88" y="262"/>
                          </a:moveTo>
                          <a:lnTo>
                            <a:pt x="45" y="220"/>
                          </a:lnTo>
                          <a:lnTo>
                            <a:pt x="31" y="178"/>
                          </a:lnTo>
                          <a:lnTo>
                            <a:pt x="25" y="133"/>
                          </a:lnTo>
                          <a:lnTo>
                            <a:pt x="19" y="73"/>
                          </a:lnTo>
                          <a:lnTo>
                            <a:pt x="43" y="53"/>
                          </a:lnTo>
                          <a:lnTo>
                            <a:pt x="53" y="98"/>
                          </a:lnTo>
                          <a:lnTo>
                            <a:pt x="73" y="119"/>
                          </a:lnTo>
                          <a:lnTo>
                            <a:pt x="81" y="168"/>
                          </a:lnTo>
                          <a:lnTo>
                            <a:pt x="94" y="205"/>
                          </a:lnTo>
                          <a:lnTo>
                            <a:pt x="124" y="237"/>
                          </a:lnTo>
                          <a:lnTo>
                            <a:pt x="147" y="276"/>
                          </a:lnTo>
                          <a:lnTo>
                            <a:pt x="169" y="327"/>
                          </a:lnTo>
                          <a:lnTo>
                            <a:pt x="166" y="283"/>
                          </a:lnTo>
                          <a:lnTo>
                            <a:pt x="160" y="248"/>
                          </a:lnTo>
                          <a:lnTo>
                            <a:pt x="131" y="219"/>
                          </a:lnTo>
                          <a:lnTo>
                            <a:pt x="111" y="181"/>
                          </a:lnTo>
                          <a:lnTo>
                            <a:pt x="95" y="139"/>
                          </a:lnTo>
                          <a:lnTo>
                            <a:pt x="83" y="101"/>
                          </a:lnTo>
                          <a:lnTo>
                            <a:pt x="66" y="73"/>
                          </a:lnTo>
                          <a:lnTo>
                            <a:pt x="61" y="35"/>
                          </a:lnTo>
                          <a:lnTo>
                            <a:pt x="51" y="15"/>
                          </a:lnTo>
                          <a:lnTo>
                            <a:pt x="39" y="0"/>
                          </a:lnTo>
                          <a:lnTo>
                            <a:pt x="18" y="37"/>
                          </a:lnTo>
                          <a:lnTo>
                            <a:pt x="0" y="88"/>
                          </a:lnTo>
                          <a:lnTo>
                            <a:pt x="13" y="98"/>
                          </a:lnTo>
                          <a:lnTo>
                            <a:pt x="13" y="136"/>
                          </a:lnTo>
                          <a:lnTo>
                            <a:pt x="21" y="184"/>
                          </a:lnTo>
                          <a:lnTo>
                            <a:pt x="32" y="219"/>
                          </a:lnTo>
                          <a:lnTo>
                            <a:pt x="53" y="242"/>
                          </a:lnTo>
                          <a:lnTo>
                            <a:pt x="88" y="262"/>
                          </a:lnTo>
                          <a:close/>
                        </a:path>
                      </a:pathLst>
                    </a:custGeom>
                    <a:solidFill>
                      <a:srgbClr val="e040a0"/>
                    </a:solidFill>
                    <a:ln w="3240">
                      <a:solidFill>
                        <a:srgbClr val="e040a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7" name="Freeform 75"/>
                    <p:cNvSpPr/>
                    <p:nvPr/>
                  </p:nvSpPr>
                  <p:spPr>
                    <a:xfrm>
                      <a:off x="569880" y="1421280"/>
                      <a:ext cx="30240" cy="71640"/>
                    </a:xfrm>
                    <a:custGeom>
                      <a:avLst/>
                      <a:gdLst>
                        <a:gd name="textAreaLeft" fmla="*/ 0 w 30240"/>
                        <a:gd name="textAreaRight" fmla="*/ 30600 w 30240"/>
                        <a:gd name="textAreaTop" fmla="*/ 0 h 71640"/>
                        <a:gd name="textAreaBottom" fmla="*/ 72000 h 71640"/>
                      </a:gdLst>
                      <a:ahLst/>
                      <a:rect l="textAreaLeft" t="textAreaTop" r="textAreaRight" b="textAreaBottom"/>
                      <a:pathLst>
                        <a:path w="95" h="223">
                          <a:moveTo>
                            <a:pt x="95" y="223"/>
                          </a:moveTo>
                          <a:lnTo>
                            <a:pt x="70" y="214"/>
                          </a:lnTo>
                          <a:lnTo>
                            <a:pt x="46" y="189"/>
                          </a:lnTo>
                          <a:lnTo>
                            <a:pt x="35" y="172"/>
                          </a:lnTo>
                          <a:lnTo>
                            <a:pt x="24" y="131"/>
                          </a:lnTo>
                          <a:lnTo>
                            <a:pt x="18" y="103"/>
                          </a:lnTo>
                          <a:lnTo>
                            <a:pt x="5" y="75"/>
                          </a:lnTo>
                          <a:lnTo>
                            <a:pt x="0" y="44"/>
                          </a:lnTo>
                          <a:lnTo>
                            <a:pt x="9" y="23"/>
                          </a:lnTo>
                          <a:lnTo>
                            <a:pt x="33" y="0"/>
                          </a:lnTo>
                          <a:lnTo>
                            <a:pt x="9" y="22"/>
                          </a:lnTo>
                          <a:lnTo>
                            <a:pt x="3" y="45"/>
                          </a:lnTo>
                          <a:lnTo>
                            <a:pt x="4" y="74"/>
                          </a:lnTo>
                          <a:lnTo>
                            <a:pt x="16" y="99"/>
                          </a:lnTo>
                          <a:lnTo>
                            <a:pt x="28" y="140"/>
                          </a:lnTo>
                          <a:lnTo>
                            <a:pt x="34" y="164"/>
                          </a:lnTo>
                          <a:lnTo>
                            <a:pt x="46" y="191"/>
                          </a:lnTo>
                          <a:lnTo>
                            <a:pt x="72" y="213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0" bIns="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8" name="Freeform 76"/>
                    <p:cNvSpPr/>
                    <p:nvPr/>
                  </p:nvSpPr>
                  <p:spPr>
                    <a:xfrm>
                      <a:off x="573120" y="1421280"/>
                      <a:ext cx="30240" cy="71640"/>
                    </a:xfrm>
                    <a:custGeom>
                      <a:avLst/>
                      <a:gdLst>
                        <a:gd name="textAreaLeft" fmla="*/ 0 w 30240"/>
                        <a:gd name="textAreaRight" fmla="*/ 30600 w 30240"/>
                        <a:gd name="textAreaTop" fmla="*/ 0 h 71640"/>
                        <a:gd name="textAreaBottom" fmla="*/ 72000 h 71640"/>
                      </a:gdLst>
                      <a:ahLst/>
                      <a:rect l="textAreaLeft" t="textAreaTop" r="textAreaRight" b="textAreaBottom"/>
                      <a:pathLst>
                        <a:path w="92" h="223">
                          <a:moveTo>
                            <a:pt x="92" y="223"/>
                          </a:moveTo>
                          <a:lnTo>
                            <a:pt x="58" y="194"/>
                          </a:lnTo>
                          <a:lnTo>
                            <a:pt x="42" y="169"/>
                          </a:lnTo>
                          <a:lnTo>
                            <a:pt x="36" y="145"/>
                          </a:lnTo>
                          <a:lnTo>
                            <a:pt x="22" y="101"/>
                          </a:lnTo>
                          <a:lnTo>
                            <a:pt x="13" y="73"/>
                          </a:lnTo>
                          <a:lnTo>
                            <a:pt x="8" y="51"/>
                          </a:lnTo>
                          <a:lnTo>
                            <a:pt x="15" y="26"/>
                          </a:lnTo>
                          <a:lnTo>
                            <a:pt x="31" y="0"/>
                          </a:lnTo>
                          <a:lnTo>
                            <a:pt x="7" y="22"/>
                          </a:lnTo>
                          <a:lnTo>
                            <a:pt x="0" y="45"/>
                          </a:lnTo>
                          <a:lnTo>
                            <a:pt x="1" y="74"/>
                          </a:lnTo>
                          <a:lnTo>
                            <a:pt x="13" y="99"/>
                          </a:lnTo>
                          <a:lnTo>
                            <a:pt x="25" y="140"/>
                          </a:lnTo>
                          <a:lnTo>
                            <a:pt x="32" y="164"/>
                          </a:lnTo>
                          <a:lnTo>
                            <a:pt x="44" y="191"/>
                          </a:lnTo>
                          <a:lnTo>
                            <a:pt x="70" y="213"/>
                          </a:lnTo>
                          <a:lnTo>
                            <a:pt x="92" y="223"/>
                          </a:lnTo>
                          <a:close/>
                        </a:path>
                      </a:pathLst>
                    </a:custGeom>
                    <a:solidFill>
                      <a:srgbClr val="e040a0"/>
                    </a:solidFill>
                    <a:ln w="3240">
                      <a:solidFill>
                        <a:srgbClr val="e040a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0" bIns="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479" name="Group 77"/>
                    <p:cNvGrpSpPr/>
                    <p:nvPr/>
                  </p:nvGrpSpPr>
                  <p:grpSpPr>
                    <a:xfrm>
                      <a:off x="623880" y="1481760"/>
                      <a:ext cx="322200" cy="115920"/>
                      <a:chOff x="623880" y="1481760"/>
                      <a:chExt cx="322200" cy="115920"/>
                    </a:xfrm>
                  </p:grpSpPr>
                  <p:sp>
                    <p:nvSpPr>
                      <p:cNvPr id="480" name="Freeform 78"/>
                      <p:cNvSpPr/>
                      <p:nvPr/>
                    </p:nvSpPr>
                    <p:spPr>
                      <a:xfrm>
                        <a:off x="623880" y="1481760"/>
                        <a:ext cx="320760" cy="115920"/>
                      </a:xfrm>
                      <a:custGeom>
                        <a:avLst/>
                        <a:gdLst>
                          <a:gd name="textAreaLeft" fmla="*/ 0 w 320760"/>
                          <a:gd name="textAreaRight" fmla="*/ 321120 w 320760"/>
                          <a:gd name="textAreaTop" fmla="*/ 0 h 115920"/>
                          <a:gd name="textAreaBottom" fmla="*/ 116280 h 115920"/>
                        </a:gdLst>
                        <a:ahLst/>
                        <a:rect l="textAreaLeft" t="textAreaTop" r="textAreaRight" b="textAreaBottom"/>
                        <a:pathLst>
                          <a:path w="1011" h="367">
                            <a:moveTo>
                              <a:pt x="243" y="0"/>
                            </a:moveTo>
                            <a:lnTo>
                              <a:pt x="259" y="39"/>
                            </a:lnTo>
                            <a:lnTo>
                              <a:pt x="297" y="89"/>
                            </a:lnTo>
                            <a:lnTo>
                              <a:pt x="361" y="125"/>
                            </a:lnTo>
                            <a:lnTo>
                              <a:pt x="451" y="150"/>
                            </a:lnTo>
                            <a:lnTo>
                              <a:pt x="554" y="173"/>
                            </a:lnTo>
                            <a:lnTo>
                              <a:pt x="637" y="176"/>
                            </a:lnTo>
                            <a:lnTo>
                              <a:pt x="723" y="173"/>
                            </a:lnTo>
                            <a:lnTo>
                              <a:pt x="740" y="163"/>
                            </a:lnTo>
                            <a:lnTo>
                              <a:pt x="764" y="135"/>
                            </a:lnTo>
                            <a:lnTo>
                              <a:pt x="784" y="113"/>
                            </a:lnTo>
                            <a:lnTo>
                              <a:pt x="812" y="95"/>
                            </a:lnTo>
                            <a:lnTo>
                              <a:pt x="821" y="73"/>
                            </a:lnTo>
                            <a:lnTo>
                              <a:pt x="835" y="54"/>
                            </a:lnTo>
                            <a:lnTo>
                              <a:pt x="855" y="45"/>
                            </a:lnTo>
                            <a:lnTo>
                              <a:pt x="879" y="36"/>
                            </a:lnTo>
                            <a:lnTo>
                              <a:pt x="915" y="33"/>
                            </a:lnTo>
                            <a:lnTo>
                              <a:pt x="952" y="41"/>
                            </a:lnTo>
                            <a:lnTo>
                              <a:pt x="984" y="57"/>
                            </a:lnTo>
                            <a:lnTo>
                              <a:pt x="1002" y="76"/>
                            </a:lnTo>
                            <a:lnTo>
                              <a:pt x="1009" y="102"/>
                            </a:lnTo>
                            <a:lnTo>
                              <a:pt x="996" y="154"/>
                            </a:lnTo>
                            <a:lnTo>
                              <a:pt x="1008" y="174"/>
                            </a:lnTo>
                            <a:lnTo>
                              <a:pt x="1011" y="198"/>
                            </a:lnTo>
                            <a:lnTo>
                              <a:pt x="1004" y="216"/>
                            </a:lnTo>
                            <a:lnTo>
                              <a:pt x="985" y="237"/>
                            </a:lnTo>
                            <a:lnTo>
                              <a:pt x="973" y="252"/>
                            </a:lnTo>
                            <a:lnTo>
                              <a:pt x="983" y="273"/>
                            </a:lnTo>
                            <a:lnTo>
                              <a:pt x="980" y="296"/>
                            </a:lnTo>
                            <a:lnTo>
                              <a:pt x="969" y="312"/>
                            </a:lnTo>
                            <a:lnTo>
                              <a:pt x="959" y="327"/>
                            </a:lnTo>
                            <a:lnTo>
                              <a:pt x="953" y="353"/>
                            </a:lnTo>
                            <a:lnTo>
                              <a:pt x="942" y="364"/>
                            </a:lnTo>
                            <a:lnTo>
                              <a:pt x="912" y="367"/>
                            </a:lnTo>
                            <a:lnTo>
                              <a:pt x="869" y="366"/>
                            </a:lnTo>
                            <a:lnTo>
                              <a:pt x="830" y="358"/>
                            </a:lnTo>
                            <a:lnTo>
                              <a:pt x="784" y="345"/>
                            </a:lnTo>
                            <a:lnTo>
                              <a:pt x="754" y="329"/>
                            </a:lnTo>
                            <a:lnTo>
                              <a:pt x="733" y="316"/>
                            </a:lnTo>
                            <a:lnTo>
                              <a:pt x="659" y="326"/>
                            </a:lnTo>
                            <a:lnTo>
                              <a:pt x="560" y="339"/>
                            </a:lnTo>
                            <a:lnTo>
                              <a:pt x="486" y="345"/>
                            </a:lnTo>
                            <a:lnTo>
                              <a:pt x="411" y="345"/>
                            </a:lnTo>
                            <a:lnTo>
                              <a:pt x="314" y="342"/>
                            </a:lnTo>
                            <a:lnTo>
                              <a:pt x="255" y="333"/>
                            </a:lnTo>
                            <a:lnTo>
                              <a:pt x="153" y="294"/>
                            </a:lnTo>
                            <a:lnTo>
                              <a:pt x="89" y="259"/>
                            </a:lnTo>
                            <a:lnTo>
                              <a:pt x="51" y="205"/>
                            </a:lnTo>
                            <a:lnTo>
                              <a:pt x="25" y="184"/>
                            </a:lnTo>
                            <a:lnTo>
                              <a:pt x="0" y="129"/>
                            </a:lnTo>
                            <a:lnTo>
                              <a:pt x="45" y="98"/>
                            </a:lnTo>
                            <a:lnTo>
                              <a:pt x="107" y="87"/>
                            </a:lnTo>
                            <a:lnTo>
                              <a:pt x="177" y="26"/>
                            </a:lnTo>
                            <a:lnTo>
                              <a:pt x="217" y="15"/>
                            </a:lnTo>
                            <a:lnTo>
                              <a:pt x="243" y="0"/>
                            </a:lnTo>
                            <a:close/>
                          </a:path>
                        </a:pathLst>
                      </a:custGeom>
                      <a:solidFill>
                        <a:srgbClr val="e0a080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81" name="Freeform 79"/>
                      <p:cNvSpPr/>
                      <p:nvPr/>
                    </p:nvSpPr>
                    <p:spPr>
                      <a:xfrm>
                        <a:off x="898560" y="1503720"/>
                        <a:ext cx="7920" cy="27000"/>
                      </a:xfrm>
                      <a:custGeom>
                        <a:avLst/>
                        <a:gdLst>
                          <a:gd name="textAreaLeft" fmla="*/ 0 w 7920"/>
                          <a:gd name="textAreaRight" fmla="*/ 8280 w 7920"/>
                          <a:gd name="textAreaTop" fmla="*/ 0 h 27000"/>
                          <a:gd name="textAreaBottom" fmla="*/ 27360 h 27000"/>
                        </a:gdLst>
                        <a:ahLst/>
                        <a:rect l="textAreaLeft" t="textAreaTop" r="textAreaRight" b="textAreaBottom"/>
                        <a:pathLst>
                          <a:path w="23" h="85">
                            <a:moveTo>
                              <a:pt x="23" y="0"/>
                            </a:moveTo>
                            <a:lnTo>
                              <a:pt x="12" y="3"/>
                            </a:lnTo>
                            <a:lnTo>
                              <a:pt x="4" y="15"/>
                            </a:lnTo>
                            <a:lnTo>
                              <a:pt x="0" y="27"/>
                            </a:lnTo>
                            <a:lnTo>
                              <a:pt x="0" y="38"/>
                            </a:lnTo>
                            <a:lnTo>
                              <a:pt x="5" y="62"/>
                            </a:lnTo>
                            <a:lnTo>
                              <a:pt x="4" y="85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82" name="Freeform 80"/>
                      <p:cNvSpPr/>
                      <p:nvPr/>
                    </p:nvSpPr>
                    <p:spPr>
                      <a:xfrm>
                        <a:off x="933480" y="1537200"/>
                        <a:ext cx="12600" cy="4680"/>
                      </a:xfrm>
                      <a:custGeom>
                        <a:avLst/>
                        <a:gdLst>
                          <a:gd name="textAreaLeft" fmla="*/ 0 w 12600"/>
                          <a:gd name="textAreaRight" fmla="*/ 12960 w 12600"/>
                          <a:gd name="textAreaTop" fmla="*/ 0 h 4680"/>
                          <a:gd name="textAreaBottom" fmla="*/ 5040 h 4680"/>
                        </a:gdLst>
                        <a:ahLst/>
                        <a:rect l="textAreaLeft" t="textAreaTop" r="textAreaRight" b="textAreaBottom"/>
                        <a:pathLst>
                          <a:path w="42" h="12">
                            <a:moveTo>
                              <a:pt x="42" y="6"/>
                            </a:moveTo>
                            <a:lnTo>
                              <a:pt x="28" y="12"/>
                            </a:lnTo>
                            <a:lnTo>
                              <a:pt x="10" y="9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83" name="Freeform 81"/>
                      <p:cNvSpPr/>
                      <p:nvPr/>
                    </p:nvSpPr>
                    <p:spPr>
                      <a:xfrm>
                        <a:off x="925560" y="1568880"/>
                        <a:ext cx="14040" cy="5040"/>
                      </a:xfrm>
                      <a:custGeom>
                        <a:avLst/>
                        <a:gdLst>
                          <a:gd name="textAreaLeft" fmla="*/ 0 w 14040"/>
                          <a:gd name="textAreaRight" fmla="*/ 14400 w 14040"/>
                          <a:gd name="textAreaTop" fmla="*/ 0 h 5040"/>
                          <a:gd name="textAreaBottom" fmla="*/ 5400 h 5040"/>
                        </a:gdLst>
                        <a:ahLst/>
                        <a:rect l="textAreaLeft" t="textAreaTop" r="textAreaRight" b="textAreaBottom"/>
                        <a:pathLst>
                          <a:path w="45" h="14">
                            <a:moveTo>
                              <a:pt x="45" y="0"/>
                            </a:moveTo>
                            <a:lnTo>
                              <a:pt x="40" y="11"/>
                            </a:lnTo>
                            <a:lnTo>
                              <a:pt x="26" y="14"/>
                            </a:lnTo>
                            <a:lnTo>
                              <a:pt x="13" y="10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84" name="Freeform 82"/>
                      <p:cNvSpPr/>
                      <p:nvPr/>
                    </p:nvSpPr>
                    <p:spPr>
                      <a:xfrm>
                        <a:off x="841320" y="1546920"/>
                        <a:ext cx="19080" cy="34920"/>
                      </a:xfrm>
                      <a:custGeom>
                        <a:avLst/>
                        <a:gdLst>
                          <a:gd name="textAreaLeft" fmla="*/ 0 w 19080"/>
                          <a:gd name="textAreaRight" fmla="*/ 19440 w 19080"/>
                          <a:gd name="textAreaTop" fmla="*/ 0 h 34920"/>
                          <a:gd name="textAreaBottom" fmla="*/ 35280 h 34920"/>
                        </a:gdLst>
                        <a:ahLst/>
                        <a:rect l="textAreaLeft" t="textAreaTop" r="textAreaRight" b="textAreaBottom"/>
                        <a:pathLst>
                          <a:path w="57" h="109">
                            <a:moveTo>
                              <a:pt x="0" y="0"/>
                            </a:moveTo>
                            <a:lnTo>
                              <a:pt x="18" y="15"/>
                            </a:lnTo>
                            <a:lnTo>
                              <a:pt x="39" y="39"/>
                            </a:lnTo>
                            <a:lnTo>
                              <a:pt x="48" y="67"/>
                            </a:lnTo>
                            <a:lnTo>
                              <a:pt x="57" y="84"/>
                            </a:lnTo>
                            <a:lnTo>
                              <a:pt x="48" y="109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520" bIns="-115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85" name="Freeform 83"/>
                      <p:cNvSpPr/>
                      <p:nvPr/>
                    </p:nvSpPr>
                    <p:spPr>
                      <a:xfrm>
                        <a:off x="900000" y="1526040"/>
                        <a:ext cx="19080" cy="9720"/>
                      </a:xfrm>
                      <a:custGeom>
                        <a:avLst/>
                        <a:gdLst>
                          <a:gd name="textAreaLeft" fmla="*/ 0 w 19080"/>
                          <a:gd name="textAreaRight" fmla="*/ 19440 w 19080"/>
                          <a:gd name="textAreaTop" fmla="*/ 0 h 9720"/>
                          <a:gd name="textAreaBottom" fmla="*/ 10080 h 9720"/>
                        </a:gdLst>
                        <a:ahLst/>
                        <a:rect l="textAreaLeft" t="textAreaTop" r="textAreaRight" b="textAreaBottom"/>
                        <a:pathLst>
                          <a:path w="59" h="30">
                            <a:moveTo>
                              <a:pt x="0" y="30"/>
                            </a:moveTo>
                            <a:lnTo>
                              <a:pt x="11" y="16"/>
                            </a:lnTo>
                            <a:lnTo>
                              <a:pt x="24" y="6"/>
                            </a:lnTo>
                            <a:lnTo>
                              <a:pt x="38" y="0"/>
                            </a:lnTo>
                            <a:lnTo>
                              <a:pt x="59" y="2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86" name="Freeform 84"/>
                      <p:cNvSpPr/>
                      <p:nvPr/>
                    </p:nvSpPr>
                    <p:spPr>
                      <a:xfrm>
                        <a:off x="915840" y="1514880"/>
                        <a:ext cx="11160" cy="11160"/>
                      </a:xfrm>
                      <a:custGeom>
                        <a:avLst/>
                        <a:gdLst>
                          <a:gd name="textAreaLeft" fmla="*/ 0 w 11160"/>
                          <a:gd name="textAreaRight" fmla="*/ 11520 w 11160"/>
                          <a:gd name="textAreaTop" fmla="*/ 0 h 11160"/>
                          <a:gd name="textAreaBottom" fmla="*/ 11520 h 11160"/>
                        </a:gdLst>
                        <a:ahLst/>
                        <a:rect l="textAreaLeft" t="textAreaTop" r="textAreaRight" b="textAreaBottom"/>
                        <a:pathLst>
                          <a:path w="38" h="31">
                            <a:moveTo>
                              <a:pt x="38" y="0"/>
                            </a:moveTo>
                            <a:lnTo>
                              <a:pt x="26" y="0"/>
                            </a:lnTo>
                            <a:lnTo>
                              <a:pt x="16" y="5"/>
                            </a:lnTo>
                            <a:lnTo>
                              <a:pt x="9" y="11"/>
                            </a:lnTo>
                            <a:lnTo>
                              <a:pt x="2" y="20"/>
                            </a:lnTo>
                            <a:lnTo>
                              <a:pt x="0" y="31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87" name="Freeform 85"/>
                      <p:cNvSpPr/>
                      <p:nvPr/>
                    </p:nvSpPr>
                    <p:spPr>
                      <a:xfrm>
                        <a:off x="914400" y="1502280"/>
                        <a:ext cx="4680" cy="14400"/>
                      </a:xfrm>
                      <a:custGeom>
                        <a:avLst/>
                        <a:gdLst>
                          <a:gd name="textAreaLeft" fmla="*/ 0 w 4680"/>
                          <a:gd name="textAreaRight" fmla="*/ 5040 w 4680"/>
                          <a:gd name="textAreaTop" fmla="*/ 0 h 14400"/>
                          <a:gd name="textAreaBottom" fmla="*/ 14760 h 14400"/>
                        </a:gdLst>
                        <a:ahLst/>
                        <a:rect l="textAreaLeft" t="textAreaTop" r="textAreaRight" b="textAreaBottom"/>
                        <a:pathLst>
                          <a:path w="15" h="45">
                            <a:moveTo>
                              <a:pt x="15" y="0"/>
                            </a:moveTo>
                            <a:lnTo>
                              <a:pt x="8" y="6"/>
                            </a:lnTo>
                            <a:lnTo>
                              <a:pt x="3" y="19"/>
                            </a:lnTo>
                            <a:lnTo>
                              <a:pt x="0" y="32"/>
                            </a:lnTo>
                            <a:lnTo>
                              <a:pt x="0" y="45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88" name="Freeform 86"/>
                      <p:cNvSpPr/>
                      <p:nvPr/>
                    </p:nvSpPr>
                    <p:spPr>
                      <a:xfrm>
                        <a:off x="904680" y="1508760"/>
                        <a:ext cx="9720" cy="7920"/>
                      </a:xfrm>
                      <a:custGeom>
                        <a:avLst/>
                        <a:gdLst>
                          <a:gd name="textAreaLeft" fmla="*/ 0 w 9720"/>
                          <a:gd name="textAreaRight" fmla="*/ 10080 w 9720"/>
                          <a:gd name="textAreaTop" fmla="*/ 0 h 7920"/>
                          <a:gd name="textAreaBottom" fmla="*/ 8280 h 7920"/>
                        </a:gdLst>
                        <a:ahLst/>
                        <a:rect l="textAreaLeft" t="textAreaTop" r="textAreaRight" b="textAreaBottom"/>
                        <a:pathLst>
                          <a:path w="26" h="25">
                            <a:moveTo>
                              <a:pt x="0" y="0"/>
                            </a:moveTo>
                            <a:lnTo>
                              <a:pt x="11" y="5"/>
                            </a:lnTo>
                            <a:lnTo>
                              <a:pt x="19" y="14"/>
                            </a:lnTo>
                            <a:lnTo>
                              <a:pt x="26" y="25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489" name="Freeform 87"/>
                    <p:cNvSpPr/>
                    <p:nvPr/>
                  </p:nvSpPr>
                  <p:spPr>
                    <a:xfrm>
                      <a:off x="600120" y="1448280"/>
                      <a:ext cx="104760" cy="84240"/>
                    </a:xfrm>
                    <a:custGeom>
                      <a:avLst/>
                      <a:gdLst>
                        <a:gd name="textAreaLeft" fmla="*/ 0 w 104760"/>
                        <a:gd name="textAreaRight" fmla="*/ 105120 w 104760"/>
                        <a:gd name="textAreaTop" fmla="*/ 0 h 84240"/>
                        <a:gd name="textAreaBottom" fmla="*/ 84600 h 84240"/>
                      </a:gdLst>
                      <a:ahLst/>
                      <a:rect l="textAreaLeft" t="textAreaTop" r="textAreaRight" b="textAreaBottom"/>
                      <a:pathLst>
                        <a:path w="333" h="268">
                          <a:moveTo>
                            <a:pt x="0" y="140"/>
                          </a:moveTo>
                          <a:lnTo>
                            <a:pt x="3" y="170"/>
                          </a:lnTo>
                          <a:lnTo>
                            <a:pt x="18" y="191"/>
                          </a:lnTo>
                          <a:lnTo>
                            <a:pt x="19" y="195"/>
                          </a:lnTo>
                          <a:lnTo>
                            <a:pt x="38" y="222"/>
                          </a:lnTo>
                          <a:lnTo>
                            <a:pt x="35" y="227"/>
                          </a:lnTo>
                          <a:lnTo>
                            <a:pt x="55" y="249"/>
                          </a:lnTo>
                          <a:lnTo>
                            <a:pt x="84" y="268"/>
                          </a:lnTo>
                          <a:lnTo>
                            <a:pt x="100" y="249"/>
                          </a:lnTo>
                          <a:lnTo>
                            <a:pt x="120" y="231"/>
                          </a:lnTo>
                          <a:lnTo>
                            <a:pt x="141" y="216"/>
                          </a:lnTo>
                          <a:lnTo>
                            <a:pt x="164" y="214"/>
                          </a:lnTo>
                          <a:lnTo>
                            <a:pt x="196" y="213"/>
                          </a:lnTo>
                          <a:lnTo>
                            <a:pt x="214" y="190"/>
                          </a:lnTo>
                          <a:lnTo>
                            <a:pt x="230" y="170"/>
                          </a:lnTo>
                          <a:lnTo>
                            <a:pt x="251" y="158"/>
                          </a:lnTo>
                          <a:lnTo>
                            <a:pt x="272" y="150"/>
                          </a:lnTo>
                          <a:lnTo>
                            <a:pt x="306" y="143"/>
                          </a:lnTo>
                          <a:lnTo>
                            <a:pt x="328" y="130"/>
                          </a:lnTo>
                          <a:lnTo>
                            <a:pt x="333" y="117"/>
                          </a:lnTo>
                          <a:lnTo>
                            <a:pt x="327" y="84"/>
                          </a:lnTo>
                          <a:lnTo>
                            <a:pt x="323" y="86"/>
                          </a:lnTo>
                          <a:lnTo>
                            <a:pt x="308" y="57"/>
                          </a:lnTo>
                          <a:lnTo>
                            <a:pt x="302" y="43"/>
                          </a:lnTo>
                          <a:lnTo>
                            <a:pt x="302" y="41"/>
                          </a:lnTo>
                          <a:lnTo>
                            <a:pt x="289" y="23"/>
                          </a:lnTo>
                          <a:lnTo>
                            <a:pt x="264" y="0"/>
                          </a:lnTo>
                          <a:lnTo>
                            <a:pt x="220" y="18"/>
                          </a:lnTo>
                          <a:lnTo>
                            <a:pt x="194" y="54"/>
                          </a:lnTo>
                          <a:lnTo>
                            <a:pt x="160" y="69"/>
                          </a:lnTo>
                          <a:lnTo>
                            <a:pt x="109" y="89"/>
                          </a:lnTo>
                          <a:lnTo>
                            <a:pt x="94" y="115"/>
                          </a:lnTo>
                          <a:lnTo>
                            <a:pt x="71" y="117"/>
                          </a:lnTo>
                          <a:lnTo>
                            <a:pt x="40" y="130"/>
                          </a:lnTo>
                          <a:lnTo>
                            <a:pt x="0" y="140"/>
                          </a:lnTo>
                          <a:close/>
                        </a:path>
                      </a:pathLst>
                    </a:custGeom>
                    <a:solidFill>
                      <a:srgbClr val="e040a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800" bIns="37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0" name="Freeform 88"/>
                    <p:cNvSpPr/>
                    <p:nvPr/>
                  </p:nvSpPr>
                  <p:spPr>
                    <a:xfrm>
                      <a:off x="644400" y="1294200"/>
                      <a:ext cx="123840" cy="101880"/>
                    </a:xfrm>
                    <a:custGeom>
                      <a:avLst/>
                      <a:gdLst>
                        <a:gd name="textAreaLeft" fmla="*/ 0 w 123840"/>
                        <a:gd name="textAreaRight" fmla="*/ 124200 w 123840"/>
                        <a:gd name="textAreaTop" fmla="*/ 0 h 101880"/>
                        <a:gd name="textAreaBottom" fmla="*/ 102240 h 101880"/>
                      </a:gdLst>
                      <a:ahLst/>
                      <a:rect l="textAreaLeft" t="textAreaTop" r="textAreaRight" b="textAreaBottom"/>
                      <a:pathLst>
                        <a:path w="389" h="317">
                          <a:moveTo>
                            <a:pt x="0" y="0"/>
                          </a:moveTo>
                          <a:lnTo>
                            <a:pt x="59" y="33"/>
                          </a:lnTo>
                          <a:lnTo>
                            <a:pt x="113" y="66"/>
                          </a:lnTo>
                          <a:lnTo>
                            <a:pt x="157" y="86"/>
                          </a:lnTo>
                          <a:lnTo>
                            <a:pt x="203" y="110"/>
                          </a:lnTo>
                          <a:lnTo>
                            <a:pt x="267" y="143"/>
                          </a:lnTo>
                          <a:lnTo>
                            <a:pt x="306" y="205"/>
                          </a:lnTo>
                          <a:lnTo>
                            <a:pt x="337" y="313"/>
                          </a:lnTo>
                          <a:lnTo>
                            <a:pt x="366" y="224"/>
                          </a:lnTo>
                          <a:lnTo>
                            <a:pt x="389" y="165"/>
                          </a:lnTo>
                          <a:lnTo>
                            <a:pt x="386" y="120"/>
                          </a:lnTo>
                          <a:lnTo>
                            <a:pt x="388" y="165"/>
                          </a:lnTo>
                          <a:lnTo>
                            <a:pt x="363" y="223"/>
                          </a:lnTo>
                          <a:lnTo>
                            <a:pt x="341" y="317"/>
                          </a:lnTo>
                          <a:lnTo>
                            <a:pt x="307" y="202"/>
                          </a:lnTo>
                          <a:lnTo>
                            <a:pt x="267" y="144"/>
                          </a:lnTo>
                          <a:lnTo>
                            <a:pt x="202" y="110"/>
                          </a:lnTo>
                          <a:lnTo>
                            <a:pt x="156" y="88"/>
                          </a:lnTo>
                          <a:lnTo>
                            <a:pt x="112" y="66"/>
                          </a:lnTo>
                          <a:lnTo>
                            <a:pt x="56" y="3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e040a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1" name="Freeform 89"/>
                    <p:cNvSpPr/>
                    <p:nvPr/>
                  </p:nvSpPr>
                  <p:spPr>
                    <a:xfrm>
                      <a:off x="657360" y="1381680"/>
                      <a:ext cx="47520" cy="85680"/>
                    </a:xfrm>
                    <a:custGeom>
                      <a:avLst/>
                      <a:gdLst>
                        <a:gd name="textAreaLeft" fmla="*/ 0 w 47520"/>
                        <a:gd name="textAreaRight" fmla="*/ 47880 w 47520"/>
                        <a:gd name="textAreaTop" fmla="*/ 0 h 85680"/>
                        <a:gd name="textAreaBottom" fmla="*/ 86040 h 85680"/>
                      </a:gdLst>
                      <a:ahLst/>
                      <a:rect l="textAreaLeft" t="textAreaTop" r="textAreaRight" b="textAreaBottom"/>
                      <a:pathLst>
                        <a:path w="151" h="271">
                          <a:moveTo>
                            <a:pt x="71" y="206"/>
                          </a:moveTo>
                          <a:lnTo>
                            <a:pt x="27" y="164"/>
                          </a:lnTo>
                          <a:lnTo>
                            <a:pt x="13" y="122"/>
                          </a:lnTo>
                          <a:lnTo>
                            <a:pt x="8" y="77"/>
                          </a:lnTo>
                          <a:lnTo>
                            <a:pt x="1" y="17"/>
                          </a:lnTo>
                          <a:lnTo>
                            <a:pt x="15" y="6"/>
                          </a:lnTo>
                          <a:lnTo>
                            <a:pt x="27" y="5"/>
                          </a:lnTo>
                          <a:lnTo>
                            <a:pt x="36" y="42"/>
                          </a:lnTo>
                          <a:lnTo>
                            <a:pt x="56" y="63"/>
                          </a:lnTo>
                          <a:lnTo>
                            <a:pt x="63" y="112"/>
                          </a:lnTo>
                          <a:lnTo>
                            <a:pt x="76" y="149"/>
                          </a:lnTo>
                          <a:lnTo>
                            <a:pt x="107" y="181"/>
                          </a:lnTo>
                          <a:lnTo>
                            <a:pt x="130" y="220"/>
                          </a:lnTo>
                          <a:lnTo>
                            <a:pt x="151" y="271"/>
                          </a:lnTo>
                          <a:lnTo>
                            <a:pt x="126" y="220"/>
                          </a:lnTo>
                          <a:lnTo>
                            <a:pt x="104" y="180"/>
                          </a:lnTo>
                          <a:lnTo>
                            <a:pt x="74" y="148"/>
                          </a:lnTo>
                          <a:lnTo>
                            <a:pt x="62" y="112"/>
                          </a:lnTo>
                          <a:lnTo>
                            <a:pt x="59" y="64"/>
                          </a:lnTo>
                          <a:lnTo>
                            <a:pt x="36" y="46"/>
                          </a:lnTo>
                          <a:lnTo>
                            <a:pt x="32" y="0"/>
                          </a:lnTo>
                          <a:lnTo>
                            <a:pt x="18" y="5"/>
                          </a:lnTo>
                          <a:lnTo>
                            <a:pt x="0" y="17"/>
                          </a:lnTo>
                          <a:lnTo>
                            <a:pt x="2" y="42"/>
                          </a:lnTo>
                          <a:lnTo>
                            <a:pt x="8" y="80"/>
                          </a:lnTo>
                          <a:lnTo>
                            <a:pt x="13" y="115"/>
                          </a:lnTo>
                          <a:lnTo>
                            <a:pt x="27" y="162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240" bIns="39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</p:grpSp>
        <p:sp>
          <p:nvSpPr>
            <p:cNvPr id="492" name="Text Box 90"/>
            <p:cNvSpPr/>
            <p:nvPr/>
          </p:nvSpPr>
          <p:spPr>
            <a:xfrm>
              <a:off x="412200" y="76968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</a:rPr>
                <a:t>！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93" name="组合 99"/>
          <p:cNvGrpSpPr/>
          <p:nvPr/>
        </p:nvGrpSpPr>
        <p:grpSpPr>
          <a:xfrm>
            <a:off x="5148360" y="873000"/>
            <a:ext cx="3708360" cy="2770920"/>
            <a:chOff x="5148360" y="873000"/>
            <a:chExt cx="3708360" cy="2770920"/>
          </a:xfrm>
        </p:grpSpPr>
        <p:pic>
          <p:nvPicPr>
            <p:cNvPr id="494" name="Picture 3" descr=""/>
            <p:cNvPicPr/>
            <p:nvPr/>
          </p:nvPicPr>
          <p:blipFill>
            <a:blip r:embed="rId2"/>
            <a:stretch/>
          </p:blipFill>
          <p:spPr>
            <a:xfrm>
              <a:off x="6478200" y="873000"/>
              <a:ext cx="2090880" cy="23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矩形 94"/>
            <p:cNvSpPr/>
            <p:nvPr/>
          </p:nvSpPr>
          <p:spPr>
            <a:xfrm>
              <a:off x="5148360" y="3275640"/>
              <a:ext cx="37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二线法所测电压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r1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R0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r2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96" name="组合 100"/>
          <p:cNvGrpSpPr/>
          <p:nvPr/>
        </p:nvGrpSpPr>
        <p:grpSpPr>
          <a:xfrm>
            <a:off x="5509080" y="3619440"/>
            <a:ext cx="2950560" cy="2770560"/>
            <a:chOff x="5509080" y="3619440"/>
            <a:chExt cx="2950560" cy="2770560"/>
          </a:xfrm>
        </p:grpSpPr>
        <p:pic>
          <p:nvPicPr>
            <p:cNvPr id="497" name="Picture 5" descr=""/>
            <p:cNvPicPr/>
            <p:nvPr/>
          </p:nvPicPr>
          <p:blipFill>
            <a:blip r:embed="rId3"/>
            <a:stretch/>
          </p:blipFill>
          <p:spPr>
            <a:xfrm>
              <a:off x="6011640" y="3619440"/>
              <a:ext cx="2016000" cy="239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矩形 96"/>
            <p:cNvSpPr/>
            <p:nvPr/>
          </p:nvSpPr>
          <p:spPr>
            <a:xfrm>
              <a:off x="6228000" y="6021720"/>
              <a:ext cx="22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所测电压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R0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9" name="矩形 97"/>
            <p:cNvSpPr/>
            <p:nvPr/>
          </p:nvSpPr>
          <p:spPr>
            <a:xfrm>
              <a:off x="5509080" y="60217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四线法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0" name="PlaceHolder 2"/>
          <p:cNvSpPr>
            <a:spLocks noGrp="1"/>
          </p:cNvSpPr>
          <p:nvPr>
            <p:ph type="title"/>
          </p:nvPr>
        </p:nvSpPr>
        <p:spPr>
          <a:xfrm>
            <a:off x="1116000" y="105840"/>
            <a:ext cx="7361280" cy="73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小电阻的四线法测量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3"/>
          <p:cNvSpPr/>
          <p:nvPr/>
        </p:nvSpPr>
        <p:spPr>
          <a:xfrm>
            <a:off x="7042320" y="6566040"/>
            <a:ext cx="1904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66EE-966F-4EC2-ABD6-1322B2DC4D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文本框 5"/>
          <p:cNvSpPr/>
          <p:nvPr/>
        </p:nvSpPr>
        <p:spPr>
          <a:xfrm>
            <a:off x="914400" y="428760"/>
            <a:ext cx="73152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四线法测量小电阻是因为下述哪种原因？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文本框 6"/>
          <p:cNvSpPr/>
          <p:nvPr/>
        </p:nvSpPr>
        <p:spPr>
          <a:xfrm>
            <a:off x="1828800" y="278604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电压表内阻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文本框 7"/>
          <p:cNvSpPr/>
          <p:nvPr/>
        </p:nvSpPr>
        <p:spPr>
          <a:xfrm>
            <a:off x="1828800" y="364320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电流表内阻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文本框 8"/>
          <p:cNvSpPr/>
          <p:nvPr/>
        </p:nvSpPr>
        <p:spPr>
          <a:xfrm>
            <a:off x="1828800" y="450072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端线接触电阻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文本框 9"/>
          <p:cNvSpPr/>
          <p:nvPr/>
        </p:nvSpPr>
        <p:spPr>
          <a:xfrm>
            <a:off x="1828800" y="535788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电源内阻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椭圆 10"/>
          <p:cNvSpPr/>
          <p:nvPr/>
        </p:nvSpPr>
        <p:spPr>
          <a:xfrm>
            <a:off x="1114560" y="284940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椭圆 11"/>
          <p:cNvSpPr/>
          <p:nvPr/>
        </p:nvSpPr>
        <p:spPr>
          <a:xfrm>
            <a:off x="1114560" y="3706920"/>
            <a:ext cx="514080" cy="514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椭圆 12"/>
          <p:cNvSpPr/>
          <p:nvPr/>
        </p:nvSpPr>
        <p:spPr>
          <a:xfrm>
            <a:off x="1114560" y="4564080"/>
            <a:ext cx="514080" cy="51444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椭圆 13"/>
          <p:cNvSpPr/>
          <p:nvPr/>
        </p:nvSpPr>
        <p:spPr>
          <a:xfrm>
            <a:off x="1114560" y="542124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圆角矩形 14"/>
          <p:cNvSpPr/>
          <p:nvPr/>
        </p:nvSpPr>
        <p:spPr>
          <a:xfrm>
            <a:off x="6172200" y="6215040"/>
            <a:ext cx="1542960" cy="4111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提交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组合 19"/>
          <p:cNvGrpSpPr/>
          <p:nvPr/>
        </p:nvGrpSpPr>
        <p:grpSpPr>
          <a:xfrm>
            <a:off x="0" y="0"/>
            <a:ext cx="9144000" cy="635040"/>
            <a:chOff x="0" y="0"/>
            <a:chExt cx="9144000" cy="635040"/>
          </a:xfrm>
        </p:grpSpPr>
        <p:sp>
          <p:nvSpPr>
            <p:cNvPr id="513" name="TitleBackground"/>
            <p:cNvSpPr/>
            <p:nvPr/>
          </p:nvSpPr>
          <p:spPr>
            <a:xfrm>
              <a:off x="0" y="0"/>
              <a:ext cx="9144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5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Microsoft Yahei"/>
                  <a:ea typeface="Microsoft Yahei"/>
                </a:rPr>
                <a:t>单选题</a:t>
              </a:r>
              <a:endParaRPr b="0" lang="en-US" sz="2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" name="TipText"/>
            <p:cNvSpPr/>
            <p:nvPr/>
          </p:nvSpPr>
          <p:spPr>
            <a:xfrm>
              <a:off x="152568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分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17" name="图片 4" descr=""/>
          <p:cNvPicPr/>
          <p:nvPr/>
        </p:nvPicPr>
        <p:blipFill>
          <a:blip r:embed="rId1"/>
          <a:stretch/>
        </p:blipFill>
        <p:spPr>
          <a:xfrm>
            <a:off x="7594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13"/>
          <p:cNvSpPr/>
          <p:nvPr/>
        </p:nvSpPr>
        <p:spPr>
          <a:xfrm>
            <a:off x="7042320" y="6566040"/>
            <a:ext cx="1904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67F7-5B2B-4C7D-AE4F-E00437B3D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042920" y="105840"/>
            <a:ext cx="7361280" cy="73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电阻的间接测量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042560" y="1196640"/>
            <a:ext cx="80010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拓展研究（选做）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线电阻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测量方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1" name="Group 4"/>
          <p:cNvGrpSpPr/>
          <p:nvPr/>
        </p:nvGrpSpPr>
        <p:grpSpPr>
          <a:xfrm>
            <a:off x="250920" y="332640"/>
            <a:ext cx="873000" cy="1034280"/>
            <a:chOff x="250920" y="332640"/>
            <a:chExt cx="873000" cy="1034280"/>
          </a:xfrm>
        </p:grpSpPr>
        <p:grpSp>
          <p:nvGrpSpPr>
            <p:cNvPr id="522" name="Group 5"/>
            <p:cNvGrpSpPr/>
            <p:nvPr/>
          </p:nvGrpSpPr>
          <p:grpSpPr>
            <a:xfrm>
              <a:off x="250920" y="644400"/>
              <a:ext cx="873000" cy="722520"/>
              <a:chOff x="250920" y="644400"/>
              <a:chExt cx="873000" cy="722520"/>
            </a:xfrm>
          </p:grpSpPr>
          <p:grpSp>
            <p:nvGrpSpPr>
              <p:cNvPr id="523" name="Group 6"/>
              <p:cNvGrpSpPr/>
              <p:nvPr/>
            </p:nvGrpSpPr>
            <p:grpSpPr>
              <a:xfrm>
                <a:off x="250920" y="766800"/>
                <a:ext cx="873000" cy="600120"/>
                <a:chOff x="250920" y="766800"/>
                <a:chExt cx="873000" cy="600120"/>
              </a:xfrm>
            </p:grpSpPr>
            <p:grpSp>
              <p:nvGrpSpPr>
                <p:cNvPr id="524" name="Group 7"/>
                <p:cNvGrpSpPr/>
                <p:nvPr/>
              </p:nvGrpSpPr>
              <p:grpSpPr>
                <a:xfrm>
                  <a:off x="274680" y="766800"/>
                  <a:ext cx="849240" cy="587520"/>
                  <a:chOff x="274680" y="766800"/>
                  <a:chExt cx="849240" cy="587520"/>
                </a:xfrm>
              </p:grpSpPr>
              <p:grpSp>
                <p:nvGrpSpPr>
                  <p:cNvPr id="525" name="Group 8"/>
                  <p:cNvGrpSpPr/>
                  <p:nvPr/>
                </p:nvGrpSpPr>
                <p:grpSpPr>
                  <a:xfrm>
                    <a:off x="274680" y="766800"/>
                    <a:ext cx="849240" cy="587520"/>
                    <a:chOff x="274680" y="766800"/>
                    <a:chExt cx="849240" cy="587520"/>
                  </a:xfrm>
                </p:grpSpPr>
                <p:sp>
                  <p:nvSpPr>
                    <p:cNvPr id="526" name="Line 9"/>
                    <p:cNvSpPr/>
                    <p:nvPr/>
                  </p:nvSpPr>
                  <p:spPr>
                    <a:xfrm>
                      <a:off x="934920" y="1157400"/>
                      <a:ext cx="189000" cy="3024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27" name="Line 10"/>
                    <p:cNvSpPr/>
                    <p:nvPr/>
                  </p:nvSpPr>
                  <p:spPr>
                    <a:xfrm>
                      <a:off x="946080" y="1195560"/>
                      <a:ext cx="154080" cy="1728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28" name="Line 11"/>
                    <p:cNvSpPr/>
                    <p:nvPr/>
                  </p:nvSpPr>
                  <p:spPr>
                    <a:xfrm>
                      <a:off x="884160" y="1195560"/>
                      <a:ext cx="115920" cy="3960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29" name="Line 12"/>
                    <p:cNvSpPr/>
                    <p:nvPr/>
                  </p:nvSpPr>
                  <p:spPr>
                    <a:xfrm>
                      <a:off x="817560" y="1184400"/>
                      <a:ext cx="114480" cy="12528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30" name="Line 13"/>
                    <p:cNvSpPr/>
                    <p:nvPr/>
                  </p:nvSpPr>
                  <p:spPr>
                    <a:xfrm>
                      <a:off x="820800" y="1212840"/>
                      <a:ext cx="66600" cy="14148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31" name="Line 14"/>
                    <p:cNvSpPr/>
                    <p:nvPr/>
                  </p:nvSpPr>
                  <p:spPr>
                    <a:xfrm>
                      <a:off x="806400" y="1227240"/>
                      <a:ext cx="27000" cy="8424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32" name="Line 15"/>
                    <p:cNvSpPr/>
                    <p:nvPr/>
                  </p:nvSpPr>
                  <p:spPr>
                    <a:xfrm flipH="1">
                      <a:off x="690480" y="1187640"/>
                      <a:ext cx="68400" cy="6012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33" name="Line 16"/>
                    <p:cNvSpPr/>
                    <p:nvPr/>
                  </p:nvSpPr>
                  <p:spPr>
                    <a:xfrm flipH="1">
                      <a:off x="606240" y="1170000"/>
                      <a:ext cx="161640" cy="7776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960" bIns="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34" name="Freeform 17"/>
                    <p:cNvSpPr/>
                    <p:nvPr/>
                  </p:nvSpPr>
                  <p:spPr>
                    <a:xfrm>
                      <a:off x="317520" y="808200"/>
                      <a:ext cx="363600" cy="406440"/>
                    </a:xfrm>
                    <a:custGeom>
                      <a:avLst/>
                      <a:gdLst>
                        <a:gd name="textAreaLeft" fmla="*/ 0 w 363600"/>
                        <a:gd name="textAreaRight" fmla="*/ 363960 w 363600"/>
                        <a:gd name="textAreaTop" fmla="*/ 0 h 406440"/>
                        <a:gd name="textAreaBottom" fmla="*/ 406800 h 406440"/>
                      </a:gdLst>
                      <a:ahLst/>
                      <a:rect l="textAreaLeft" t="textAreaTop" r="textAreaRight" b="textAreaBottom"/>
                      <a:pathLst>
                        <a:path w="1146" h="1280">
                          <a:moveTo>
                            <a:pt x="666" y="0"/>
                          </a:moveTo>
                          <a:lnTo>
                            <a:pt x="549" y="56"/>
                          </a:lnTo>
                          <a:lnTo>
                            <a:pt x="434" y="134"/>
                          </a:lnTo>
                          <a:lnTo>
                            <a:pt x="324" y="231"/>
                          </a:lnTo>
                          <a:lnTo>
                            <a:pt x="217" y="344"/>
                          </a:lnTo>
                          <a:lnTo>
                            <a:pt x="140" y="445"/>
                          </a:lnTo>
                          <a:lnTo>
                            <a:pt x="102" y="512"/>
                          </a:lnTo>
                          <a:lnTo>
                            <a:pt x="50" y="632"/>
                          </a:lnTo>
                          <a:lnTo>
                            <a:pt x="17" y="742"/>
                          </a:lnTo>
                          <a:lnTo>
                            <a:pt x="0" y="845"/>
                          </a:lnTo>
                          <a:lnTo>
                            <a:pt x="11" y="961"/>
                          </a:lnTo>
                          <a:lnTo>
                            <a:pt x="56" y="1043"/>
                          </a:lnTo>
                          <a:lnTo>
                            <a:pt x="114" y="1107"/>
                          </a:lnTo>
                          <a:lnTo>
                            <a:pt x="166" y="1153"/>
                          </a:lnTo>
                          <a:lnTo>
                            <a:pt x="267" y="1216"/>
                          </a:lnTo>
                          <a:lnTo>
                            <a:pt x="357" y="1248"/>
                          </a:lnTo>
                          <a:lnTo>
                            <a:pt x="467" y="1273"/>
                          </a:lnTo>
                          <a:lnTo>
                            <a:pt x="646" y="1280"/>
                          </a:lnTo>
                          <a:lnTo>
                            <a:pt x="890" y="1248"/>
                          </a:lnTo>
                          <a:lnTo>
                            <a:pt x="1010" y="1196"/>
                          </a:lnTo>
                          <a:lnTo>
                            <a:pt x="1146" y="1081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e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35" name="Freeform 18"/>
                    <p:cNvSpPr/>
                    <p:nvPr/>
                  </p:nvSpPr>
                  <p:spPr>
                    <a:xfrm>
                      <a:off x="311040" y="766800"/>
                      <a:ext cx="365400" cy="380880"/>
                    </a:xfrm>
                    <a:custGeom>
                      <a:avLst/>
                      <a:gdLst>
                        <a:gd name="textAreaLeft" fmla="*/ 0 w 365400"/>
                        <a:gd name="textAreaRight" fmla="*/ 365760 w 365400"/>
                        <a:gd name="textAreaTop" fmla="*/ 0 h 380880"/>
                        <a:gd name="textAreaBottom" fmla="*/ 381240 h 380880"/>
                      </a:gdLst>
                      <a:ahLst/>
                      <a:rect l="textAreaLeft" t="textAreaTop" r="textAreaRight" b="textAreaBottom"/>
                      <a:pathLst>
                        <a:path w="1152" h="1196">
                          <a:moveTo>
                            <a:pt x="670" y="0"/>
                          </a:moveTo>
                          <a:lnTo>
                            <a:pt x="553" y="54"/>
                          </a:lnTo>
                          <a:lnTo>
                            <a:pt x="437" y="125"/>
                          </a:lnTo>
                          <a:lnTo>
                            <a:pt x="326" y="215"/>
                          </a:lnTo>
                          <a:lnTo>
                            <a:pt x="219" y="323"/>
                          </a:lnTo>
                          <a:lnTo>
                            <a:pt x="141" y="417"/>
                          </a:lnTo>
                          <a:lnTo>
                            <a:pt x="101" y="478"/>
                          </a:lnTo>
                          <a:lnTo>
                            <a:pt x="50" y="592"/>
                          </a:lnTo>
                          <a:lnTo>
                            <a:pt x="20" y="694"/>
                          </a:lnTo>
                          <a:lnTo>
                            <a:pt x="0" y="791"/>
                          </a:lnTo>
                          <a:lnTo>
                            <a:pt x="13" y="899"/>
                          </a:lnTo>
                          <a:lnTo>
                            <a:pt x="56" y="977"/>
                          </a:lnTo>
                          <a:lnTo>
                            <a:pt x="114" y="1036"/>
                          </a:lnTo>
                          <a:lnTo>
                            <a:pt x="166" y="1078"/>
                          </a:lnTo>
                          <a:lnTo>
                            <a:pt x="268" y="1137"/>
                          </a:lnTo>
                          <a:lnTo>
                            <a:pt x="359" y="1167"/>
                          </a:lnTo>
                          <a:lnTo>
                            <a:pt x="468" y="1192"/>
                          </a:lnTo>
                          <a:lnTo>
                            <a:pt x="651" y="1196"/>
                          </a:lnTo>
                          <a:lnTo>
                            <a:pt x="894" y="1167"/>
                          </a:lnTo>
                          <a:lnTo>
                            <a:pt x="1017" y="1120"/>
                          </a:lnTo>
                          <a:lnTo>
                            <a:pt x="1152" y="1012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e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36" name="Freeform 19"/>
                    <p:cNvSpPr/>
                    <p:nvPr/>
                  </p:nvSpPr>
                  <p:spPr>
                    <a:xfrm>
                      <a:off x="274680" y="806400"/>
                      <a:ext cx="272880" cy="320760"/>
                    </a:xfrm>
                    <a:custGeom>
                      <a:avLst/>
                      <a:gdLst>
                        <a:gd name="textAreaLeft" fmla="*/ 0 w 272880"/>
                        <a:gd name="textAreaRight" fmla="*/ 273240 w 272880"/>
                        <a:gd name="textAreaTop" fmla="*/ 0 h 320760"/>
                        <a:gd name="textAreaBottom" fmla="*/ 321120 h 320760"/>
                      </a:gdLst>
                      <a:ahLst/>
                      <a:rect l="textAreaLeft" t="textAreaTop" r="textAreaRight" b="textAreaBottom"/>
                      <a:pathLst>
                        <a:path w="863" h="1012">
                          <a:moveTo>
                            <a:pt x="500" y="0"/>
                          </a:moveTo>
                          <a:lnTo>
                            <a:pt x="412" y="46"/>
                          </a:lnTo>
                          <a:lnTo>
                            <a:pt x="328" y="106"/>
                          </a:lnTo>
                          <a:lnTo>
                            <a:pt x="245" y="182"/>
                          </a:lnTo>
                          <a:lnTo>
                            <a:pt x="163" y="270"/>
                          </a:lnTo>
                          <a:lnTo>
                            <a:pt x="105" y="352"/>
                          </a:lnTo>
                          <a:lnTo>
                            <a:pt x="76" y="403"/>
                          </a:lnTo>
                          <a:lnTo>
                            <a:pt x="38" y="499"/>
                          </a:lnTo>
                          <a:lnTo>
                            <a:pt x="14" y="585"/>
                          </a:lnTo>
                          <a:lnTo>
                            <a:pt x="0" y="668"/>
                          </a:lnTo>
                          <a:lnTo>
                            <a:pt x="8" y="760"/>
                          </a:lnTo>
                          <a:lnTo>
                            <a:pt x="42" y="824"/>
                          </a:lnTo>
                          <a:lnTo>
                            <a:pt x="87" y="875"/>
                          </a:lnTo>
                          <a:lnTo>
                            <a:pt x="125" y="910"/>
                          </a:lnTo>
                          <a:lnTo>
                            <a:pt x="202" y="962"/>
                          </a:lnTo>
                          <a:lnTo>
                            <a:pt x="270" y="987"/>
                          </a:lnTo>
                          <a:lnTo>
                            <a:pt x="352" y="1008"/>
                          </a:lnTo>
                          <a:lnTo>
                            <a:pt x="485" y="1012"/>
                          </a:lnTo>
                          <a:lnTo>
                            <a:pt x="670" y="987"/>
                          </a:lnTo>
                          <a:lnTo>
                            <a:pt x="763" y="945"/>
                          </a:lnTo>
                          <a:lnTo>
                            <a:pt x="863" y="856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e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537" name="Line 20"/>
                  <p:cNvSpPr/>
                  <p:nvPr/>
                </p:nvSpPr>
                <p:spPr>
                  <a:xfrm>
                    <a:off x="415800" y="1131840"/>
                    <a:ext cx="676440" cy="180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38" name="Group 21"/>
                <p:cNvGrpSpPr/>
                <p:nvPr/>
              </p:nvGrpSpPr>
              <p:grpSpPr>
                <a:xfrm>
                  <a:off x="250920" y="1177920"/>
                  <a:ext cx="531720" cy="189000"/>
                  <a:chOff x="250920" y="1177920"/>
                  <a:chExt cx="531720" cy="189000"/>
                </a:xfrm>
              </p:grpSpPr>
              <p:sp>
                <p:nvSpPr>
                  <p:cNvPr id="539" name="Freeform 22"/>
                  <p:cNvSpPr/>
                  <p:nvPr/>
                </p:nvSpPr>
                <p:spPr>
                  <a:xfrm>
                    <a:off x="372960" y="1233360"/>
                    <a:ext cx="169920" cy="63720"/>
                  </a:xfrm>
                  <a:custGeom>
                    <a:avLst/>
                    <a:gdLst>
                      <a:gd name="textAreaLeft" fmla="*/ 0 w 169920"/>
                      <a:gd name="textAreaRight" fmla="*/ 170280 w 169920"/>
                      <a:gd name="textAreaTop" fmla="*/ 0 h 63720"/>
                      <a:gd name="textAreaBottom" fmla="*/ 64080 h 63720"/>
                    </a:gdLst>
                    <a:ahLst/>
                    <a:rect l="textAreaLeft" t="textAreaTop" r="textAreaRight" b="textAreaBottom"/>
                    <a:pathLst>
                      <a:path w="532" h="198">
                        <a:moveTo>
                          <a:pt x="71" y="0"/>
                        </a:moveTo>
                        <a:lnTo>
                          <a:pt x="135" y="39"/>
                        </a:lnTo>
                        <a:lnTo>
                          <a:pt x="232" y="62"/>
                        </a:lnTo>
                        <a:lnTo>
                          <a:pt x="316" y="71"/>
                        </a:lnTo>
                        <a:lnTo>
                          <a:pt x="422" y="76"/>
                        </a:lnTo>
                        <a:lnTo>
                          <a:pt x="532" y="42"/>
                        </a:lnTo>
                        <a:lnTo>
                          <a:pt x="503" y="85"/>
                        </a:lnTo>
                        <a:lnTo>
                          <a:pt x="422" y="127"/>
                        </a:lnTo>
                        <a:lnTo>
                          <a:pt x="304" y="169"/>
                        </a:lnTo>
                        <a:lnTo>
                          <a:pt x="200" y="198"/>
                        </a:lnTo>
                        <a:lnTo>
                          <a:pt x="65" y="198"/>
                        </a:lnTo>
                        <a:lnTo>
                          <a:pt x="0" y="163"/>
                        </a:lnTo>
                        <a:lnTo>
                          <a:pt x="5" y="69"/>
                        </a:lnTo>
                        <a:lnTo>
                          <a:pt x="71" y="0"/>
                        </a:lnTo>
                        <a:close/>
                      </a:path>
                    </a:pathLst>
                  </a:custGeom>
                  <a:solidFill>
                    <a:srgbClr val="c0c0e0"/>
                  </a:solidFill>
                  <a:ln w="3240">
                    <a:solidFill>
                      <a:srgbClr val="c0c0e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0" name="Freeform 23"/>
                  <p:cNvSpPr/>
                  <p:nvPr/>
                </p:nvSpPr>
                <p:spPr>
                  <a:xfrm>
                    <a:off x="447840" y="1251000"/>
                    <a:ext cx="334800" cy="115920"/>
                  </a:xfrm>
                  <a:custGeom>
                    <a:avLst/>
                    <a:gdLst>
                      <a:gd name="textAreaLeft" fmla="*/ 0 w 334800"/>
                      <a:gd name="textAreaRight" fmla="*/ 335160 w 334800"/>
                      <a:gd name="textAreaTop" fmla="*/ 0 h 115920"/>
                      <a:gd name="textAreaBottom" fmla="*/ 116280 h 115920"/>
                    </a:gdLst>
                    <a:ahLst/>
                    <a:rect l="textAreaLeft" t="textAreaTop" r="textAreaRight" b="textAreaBottom"/>
                    <a:pathLst>
                      <a:path w="1055" h="361">
                        <a:moveTo>
                          <a:pt x="0" y="333"/>
                        </a:moveTo>
                        <a:lnTo>
                          <a:pt x="107" y="310"/>
                        </a:lnTo>
                        <a:lnTo>
                          <a:pt x="220" y="280"/>
                        </a:lnTo>
                        <a:lnTo>
                          <a:pt x="336" y="228"/>
                        </a:lnTo>
                        <a:lnTo>
                          <a:pt x="429" y="171"/>
                        </a:lnTo>
                        <a:lnTo>
                          <a:pt x="497" y="120"/>
                        </a:lnTo>
                        <a:lnTo>
                          <a:pt x="541" y="74"/>
                        </a:lnTo>
                        <a:lnTo>
                          <a:pt x="570" y="25"/>
                        </a:lnTo>
                        <a:lnTo>
                          <a:pt x="596" y="0"/>
                        </a:lnTo>
                        <a:lnTo>
                          <a:pt x="674" y="23"/>
                        </a:lnTo>
                        <a:lnTo>
                          <a:pt x="786" y="38"/>
                        </a:lnTo>
                        <a:lnTo>
                          <a:pt x="888" y="38"/>
                        </a:lnTo>
                        <a:lnTo>
                          <a:pt x="982" y="29"/>
                        </a:lnTo>
                        <a:lnTo>
                          <a:pt x="1038" y="6"/>
                        </a:lnTo>
                        <a:lnTo>
                          <a:pt x="1051" y="42"/>
                        </a:lnTo>
                        <a:lnTo>
                          <a:pt x="1055" y="87"/>
                        </a:lnTo>
                        <a:lnTo>
                          <a:pt x="1051" y="142"/>
                        </a:lnTo>
                        <a:lnTo>
                          <a:pt x="1038" y="171"/>
                        </a:lnTo>
                        <a:lnTo>
                          <a:pt x="1010" y="221"/>
                        </a:lnTo>
                        <a:lnTo>
                          <a:pt x="978" y="255"/>
                        </a:lnTo>
                        <a:lnTo>
                          <a:pt x="939" y="296"/>
                        </a:lnTo>
                        <a:lnTo>
                          <a:pt x="883" y="336"/>
                        </a:lnTo>
                        <a:lnTo>
                          <a:pt x="718" y="352"/>
                        </a:lnTo>
                        <a:lnTo>
                          <a:pt x="510" y="356"/>
                        </a:lnTo>
                        <a:lnTo>
                          <a:pt x="308" y="361"/>
                        </a:lnTo>
                        <a:lnTo>
                          <a:pt x="128" y="359"/>
                        </a:lnTo>
                        <a:lnTo>
                          <a:pt x="0" y="333"/>
                        </a:lnTo>
                        <a:close/>
                      </a:path>
                    </a:pathLst>
                  </a:custGeom>
                  <a:solidFill>
                    <a:srgbClr val="e0e0ff"/>
                  </a:solidFill>
                  <a:ln w="3240">
                    <a:solidFill>
                      <a:srgbClr val="e0e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1" name="Freeform 24"/>
                  <p:cNvSpPr/>
                  <p:nvPr/>
                </p:nvSpPr>
                <p:spPr>
                  <a:xfrm>
                    <a:off x="250920" y="1177920"/>
                    <a:ext cx="201600" cy="125640"/>
                  </a:xfrm>
                  <a:custGeom>
                    <a:avLst/>
                    <a:gdLst>
                      <a:gd name="textAreaLeft" fmla="*/ 0 w 201600"/>
                      <a:gd name="textAreaRight" fmla="*/ 201960 w 201600"/>
                      <a:gd name="textAreaTop" fmla="*/ 0 h 125640"/>
                      <a:gd name="textAreaBottom" fmla="*/ 126000 h 125640"/>
                    </a:gdLst>
                    <a:ahLst/>
                    <a:rect l="textAreaLeft" t="textAreaTop" r="textAreaRight" b="textAreaBottom"/>
                    <a:pathLst>
                      <a:path w="636" h="396">
                        <a:moveTo>
                          <a:pt x="125" y="0"/>
                        </a:moveTo>
                        <a:lnTo>
                          <a:pt x="223" y="41"/>
                        </a:lnTo>
                        <a:lnTo>
                          <a:pt x="636" y="138"/>
                        </a:lnTo>
                        <a:lnTo>
                          <a:pt x="623" y="157"/>
                        </a:lnTo>
                        <a:lnTo>
                          <a:pt x="520" y="208"/>
                        </a:lnTo>
                        <a:lnTo>
                          <a:pt x="472" y="232"/>
                        </a:lnTo>
                        <a:lnTo>
                          <a:pt x="447" y="274"/>
                        </a:lnTo>
                        <a:lnTo>
                          <a:pt x="439" y="306"/>
                        </a:lnTo>
                        <a:lnTo>
                          <a:pt x="451" y="342"/>
                        </a:lnTo>
                        <a:lnTo>
                          <a:pt x="482" y="361"/>
                        </a:lnTo>
                        <a:lnTo>
                          <a:pt x="520" y="367"/>
                        </a:lnTo>
                        <a:lnTo>
                          <a:pt x="584" y="374"/>
                        </a:lnTo>
                        <a:lnTo>
                          <a:pt x="536" y="393"/>
                        </a:lnTo>
                        <a:lnTo>
                          <a:pt x="465" y="396"/>
                        </a:lnTo>
                        <a:lnTo>
                          <a:pt x="439" y="393"/>
                        </a:lnTo>
                        <a:lnTo>
                          <a:pt x="390" y="378"/>
                        </a:lnTo>
                        <a:lnTo>
                          <a:pt x="301" y="329"/>
                        </a:lnTo>
                        <a:lnTo>
                          <a:pt x="179" y="245"/>
                        </a:lnTo>
                        <a:lnTo>
                          <a:pt x="112" y="202"/>
                        </a:lnTo>
                        <a:lnTo>
                          <a:pt x="41" y="151"/>
                        </a:lnTo>
                        <a:lnTo>
                          <a:pt x="25" y="148"/>
                        </a:lnTo>
                        <a:lnTo>
                          <a:pt x="0" y="106"/>
                        </a:lnTo>
                        <a:lnTo>
                          <a:pt x="8" y="64"/>
                        </a:lnTo>
                        <a:lnTo>
                          <a:pt x="38" y="29"/>
                        </a:lnTo>
                        <a:lnTo>
                          <a:pt x="125" y="0"/>
                        </a:lnTo>
                        <a:close/>
                      </a:path>
                    </a:pathLst>
                  </a:custGeom>
                  <a:solidFill>
                    <a:srgbClr val="e0e0ff"/>
                  </a:solidFill>
                  <a:ln w="3240">
                    <a:solidFill>
                      <a:srgbClr val="e0e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542" name="Group 25"/>
              <p:cNvGrpSpPr/>
              <p:nvPr/>
            </p:nvGrpSpPr>
            <p:grpSpPr>
              <a:xfrm>
                <a:off x="495360" y="644400"/>
                <a:ext cx="384120" cy="516240"/>
                <a:chOff x="495360" y="644400"/>
                <a:chExt cx="384120" cy="516240"/>
              </a:xfrm>
            </p:grpSpPr>
            <p:grpSp>
              <p:nvGrpSpPr>
                <p:cNvPr id="543" name="Group 26"/>
                <p:cNvGrpSpPr/>
                <p:nvPr/>
              </p:nvGrpSpPr>
              <p:grpSpPr>
                <a:xfrm>
                  <a:off x="581040" y="820800"/>
                  <a:ext cx="273240" cy="227160"/>
                  <a:chOff x="581040" y="820800"/>
                  <a:chExt cx="273240" cy="227160"/>
                </a:xfrm>
              </p:grpSpPr>
              <p:sp>
                <p:nvSpPr>
                  <p:cNvPr id="544" name="Freeform 27"/>
                  <p:cNvSpPr/>
                  <p:nvPr/>
                </p:nvSpPr>
                <p:spPr>
                  <a:xfrm>
                    <a:off x="581040" y="820800"/>
                    <a:ext cx="177840" cy="141120"/>
                  </a:xfrm>
                  <a:custGeom>
                    <a:avLst/>
                    <a:gdLst>
                      <a:gd name="textAreaLeft" fmla="*/ 0 w 177840"/>
                      <a:gd name="textAreaRight" fmla="*/ 178200 w 177840"/>
                      <a:gd name="textAreaTop" fmla="*/ 0 h 141120"/>
                      <a:gd name="textAreaBottom" fmla="*/ 141480 h 141120"/>
                    </a:gdLst>
                    <a:ahLst/>
                    <a:rect l="textAreaLeft" t="textAreaTop" r="textAreaRight" b="textAreaBottom"/>
                    <a:pathLst>
                      <a:path w="558" h="448">
                        <a:moveTo>
                          <a:pt x="383" y="177"/>
                        </a:moveTo>
                        <a:lnTo>
                          <a:pt x="462" y="214"/>
                        </a:lnTo>
                        <a:lnTo>
                          <a:pt x="484" y="247"/>
                        </a:lnTo>
                        <a:lnTo>
                          <a:pt x="503" y="330"/>
                        </a:lnTo>
                        <a:lnTo>
                          <a:pt x="533" y="391"/>
                        </a:lnTo>
                        <a:lnTo>
                          <a:pt x="558" y="448"/>
                        </a:lnTo>
                        <a:lnTo>
                          <a:pt x="497" y="397"/>
                        </a:lnTo>
                        <a:lnTo>
                          <a:pt x="449" y="372"/>
                        </a:lnTo>
                        <a:lnTo>
                          <a:pt x="378" y="320"/>
                        </a:lnTo>
                        <a:lnTo>
                          <a:pt x="350" y="272"/>
                        </a:lnTo>
                        <a:lnTo>
                          <a:pt x="332" y="202"/>
                        </a:lnTo>
                        <a:lnTo>
                          <a:pt x="78" y="99"/>
                        </a:lnTo>
                        <a:lnTo>
                          <a:pt x="0" y="3"/>
                        </a:lnTo>
                        <a:lnTo>
                          <a:pt x="38" y="0"/>
                        </a:lnTo>
                        <a:lnTo>
                          <a:pt x="121" y="30"/>
                        </a:lnTo>
                        <a:lnTo>
                          <a:pt x="383" y="177"/>
                        </a:lnTo>
                        <a:close/>
                      </a:path>
                    </a:pathLst>
                  </a:custGeom>
                  <a:solidFill>
                    <a:srgbClr val="e040a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545" name="Group 28"/>
                  <p:cNvGrpSpPr/>
                  <p:nvPr/>
                </p:nvGrpSpPr>
                <p:grpSpPr>
                  <a:xfrm>
                    <a:off x="708120" y="901800"/>
                    <a:ext cx="146160" cy="146160"/>
                    <a:chOff x="708120" y="901800"/>
                    <a:chExt cx="146160" cy="146160"/>
                  </a:xfrm>
                </p:grpSpPr>
                <p:sp>
                  <p:nvSpPr>
                    <p:cNvPr id="546" name="Freeform 29"/>
                    <p:cNvSpPr/>
                    <p:nvPr/>
                  </p:nvSpPr>
                  <p:spPr>
                    <a:xfrm>
                      <a:off x="708120" y="901800"/>
                      <a:ext cx="146160" cy="146160"/>
                    </a:xfrm>
                    <a:custGeom>
                      <a:avLst/>
                      <a:gdLst>
                        <a:gd name="textAreaLeft" fmla="*/ 0 w 146160"/>
                        <a:gd name="textAreaRight" fmla="*/ 146520 w 146160"/>
                        <a:gd name="textAreaTop" fmla="*/ 0 h 146160"/>
                        <a:gd name="textAreaBottom" fmla="*/ 146520 h 146160"/>
                      </a:gdLst>
                      <a:ahLst/>
                      <a:rect l="textAreaLeft" t="textAreaTop" r="textAreaRight" b="textAreaBottom"/>
                      <a:pathLst>
                        <a:path w="460" h="462">
                          <a:moveTo>
                            <a:pt x="0" y="375"/>
                          </a:moveTo>
                          <a:lnTo>
                            <a:pt x="62" y="349"/>
                          </a:lnTo>
                          <a:lnTo>
                            <a:pt x="79" y="309"/>
                          </a:lnTo>
                          <a:lnTo>
                            <a:pt x="94" y="272"/>
                          </a:lnTo>
                          <a:lnTo>
                            <a:pt x="96" y="226"/>
                          </a:lnTo>
                          <a:lnTo>
                            <a:pt x="84" y="169"/>
                          </a:lnTo>
                          <a:lnTo>
                            <a:pt x="74" y="109"/>
                          </a:lnTo>
                          <a:lnTo>
                            <a:pt x="90" y="98"/>
                          </a:lnTo>
                          <a:lnTo>
                            <a:pt x="111" y="96"/>
                          </a:lnTo>
                          <a:lnTo>
                            <a:pt x="135" y="109"/>
                          </a:lnTo>
                          <a:lnTo>
                            <a:pt x="160" y="142"/>
                          </a:lnTo>
                          <a:lnTo>
                            <a:pt x="189" y="210"/>
                          </a:lnTo>
                          <a:lnTo>
                            <a:pt x="214" y="152"/>
                          </a:lnTo>
                          <a:lnTo>
                            <a:pt x="252" y="107"/>
                          </a:lnTo>
                          <a:lnTo>
                            <a:pt x="289" y="77"/>
                          </a:lnTo>
                          <a:lnTo>
                            <a:pt x="340" y="32"/>
                          </a:lnTo>
                          <a:lnTo>
                            <a:pt x="378" y="3"/>
                          </a:lnTo>
                          <a:lnTo>
                            <a:pt x="403" y="0"/>
                          </a:lnTo>
                          <a:lnTo>
                            <a:pt x="419" y="16"/>
                          </a:lnTo>
                          <a:lnTo>
                            <a:pt x="412" y="38"/>
                          </a:lnTo>
                          <a:lnTo>
                            <a:pt x="390" y="77"/>
                          </a:lnTo>
                          <a:lnTo>
                            <a:pt x="358" y="125"/>
                          </a:lnTo>
                          <a:lnTo>
                            <a:pt x="318" y="175"/>
                          </a:lnTo>
                          <a:lnTo>
                            <a:pt x="373" y="162"/>
                          </a:lnTo>
                          <a:lnTo>
                            <a:pt x="418" y="163"/>
                          </a:lnTo>
                          <a:lnTo>
                            <a:pt x="441" y="175"/>
                          </a:lnTo>
                          <a:lnTo>
                            <a:pt x="441" y="199"/>
                          </a:lnTo>
                          <a:lnTo>
                            <a:pt x="429" y="221"/>
                          </a:lnTo>
                          <a:lnTo>
                            <a:pt x="406" y="244"/>
                          </a:lnTo>
                          <a:lnTo>
                            <a:pt x="368" y="257"/>
                          </a:lnTo>
                          <a:lnTo>
                            <a:pt x="412" y="254"/>
                          </a:lnTo>
                          <a:lnTo>
                            <a:pt x="447" y="264"/>
                          </a:lnTo>
                          <a:lnTo>
                            <a:pt x="460" y="295"/>
                          </a:lnTo>
                          <a:lnTo>
                            <a:pt x="448" y="320"/>
                          </a:lnTo>
                          <a:lnTo>
                            <a:pt x="420" y="333"/>
                          </a:lnTo>
                          <a:lnTo>
                            <a:pt x="346" y="329"/>
                          </a:lnTo>
                          <a:lnTo>
                            <a:pt x="382" y="342"/>
                          </a:lnTo>
                          <a:lnTo>
                            <a:pt x="400" y="356"/>
                          </a:lnTo>
                          <a:lnTo>
                            <a:pt x="413" y="375"/>
                          </a:lnTo>
                          <a:lnTo>
                            <a:pt x="408" y="405"/>
                          </a:lnTo>
                          <a:lnTo>
                            <a:pt x="387" y="422"/>
                          </a:lnTo>
                          <a:lnTo>
                            <a:pt x="363" y="421"/>
                          </a:lnTo>
                          <a:lnTo>
                            <a:pt x="330" y="411"/>
                          </a:lnTo>
                          <a:lnTo>
                            <a:pt x="299" y="395"/>
                          </a:lnTo>
                          <a:lnTo>
                            <a:pt x="279" y="424"/>
                          </a:lnTo>
                          <a:lnTo>
                            <a:pt x="258" y="446"/>
                          </a:lnTo>
                          <a:lnTo>
                            <a:pt x="234" y="457"/>
                          </a:lnTo>
                          <a:lnTo>
                            <a:pt x="204" y="462"/>
                          </a:lnTo>
                          <a:lnTo>
                            <a:pt x="77" y="431"/>
                          </a:lnTo>
                          <a:lnTo>
                            <a:pt x="0" y="375"/>
                          </a:lnTo>
                          <a:close/>
                        </a:path>
                      </a:pathLst>
                    </a:custGeom>
                    <a:solidFill>
                      <a:srgbClr val="e0a08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547" name="Group 30"/>
                    <p:cNvGrpSpPr/>
                    <p:nvPr/>
                  </p:nvGrpSpPr>
                  <p:grpSpPr>
                    <a:xfrm>
                      <a:off x="728640" y="963720"/>
                      <a:ext cx="100080" cy="74520"/>
                      <a:chOff x="728640" y="963720"/>
                      <a:chExt cx="100080" cy="74520"/>
                    </a:xfrm>
                  </p:grpSpPr>
                  <p:sp>
                    <p:nvSpPr>
                      <p:cNvPr id="548" name="Freeform 31"/>
                      <p:cNvSpPr/>
                      <p:nvPr/>
                    </p:nvSpPr>
                    <p:spPr>
                      <a:xfrm>
                        <a:off x="797040" y="965160"/>
                        <a:ext cx="31680" cy="20880"/>
                      </a:xfrm>
                      <a:custGeom>
                        <a:avLst/>
                        <a:gdLst>
                          <a:gd name="textAreaLeft" fmla="*/ 0 w 31680"/>
                          <a:gd name="textAreaRight" fmla="*/ 32040 w 31680"/>
                          <a:gd name="textAreaTop" fmla="*/ 0 h 20880"/>
                          <a:gd name="textAreaBottom" fmla="*/ 21240 h 20880"/>
                        </a:gdLst>
                        <a:ahLst/>
                        <a:rect l="textAreaLeft" t="textAreaTop" r="textAreaRight" b="textAreaBottom"/>
                        <a:pathLst>
                          <a:path w="104" h="66">
                            <a:moveTo>
                              <a:pt x="104" y="59"/>
                            </a:moveTo>
                            <a:lnTo>
                              <a:pt x="65" y="66"/>
                            </a:lnTo>
                            <a:lnTo>
                              <a:pt x="32" y="64"/>
                            </a:lnTo>
                            <a:lnTo>
                              <a:pt x="10" y="53"/>
                            </a:lnTo>
                            <a:lnTo>
                              <a:pt x="0" y="34"/>
                            </a:lnTo>
                            <a:lnTo>
                              <a:pt x="6" y="13"/>
                            </a:lnTo>
                            <a:lnTo>
                              <a:pt x="28" y="0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549" name="Freeform 32"/>
                      <p:cNvSpPr/>
                      <p:nvPr/>
                    </p:nvSpPr>
                    <p:spPr>
                      <a:xfrm>
                        <a:off x="790560" y="986040"/>
                        <a:ext cx="34920" cy="21960"/>
                      </a:xfrm>
                      <a:custGeom>
                        <a:avLst/>
                        <a:gdLst>
                          <a:gd name="textAreaLeft" fmla="*/ 0 w 34920"/>
                          <a:gd name="textAreaRight" fmla="*/ 35280 w 34920"/>
                          <a:gd name="textAreaTop" fmla="*/ 0 h 21960"/>
                          <a:gd name="textAreaBottom" fmla="*/ 22320 h 21960"/>
                        </a:gdLst>
                        <a:ahLst/>
                        <a:rect l="textAreaLeft" t="textAreaTop" r="textAreaRight" b="textAreaBottom"/>
                        <a:pathLst>
                          <a:path w="112" h="70">
                            <a:moveTo>
                              <a:pt x="112" y="68"/>
                            </a:moveTo>
                            <a:lnTo>
                              <a:pt x="73" y="70"/>
                            </a:lnTo>
                            <a:lnTo>
                              <a:pt x="38" y="66"/>
                            </a:lnTo>
                            <a:lnTo>
                              <a:pt x="15" y="56"/>
                            </a:lnTo>
                            <a:lnTo>
                              <a:pt x="0" y="36"/>
                            </a:lnTo>
                            <a:lnTo>
                              <a:pt x="6" y="19"/>
                            </a:lnTo>
                            <a:lnTo>
                              <a:pt x="23" y="0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550" name="Freeform 33"/>
                      <p:cNvSpPr/>
                      <p:nvPr/>
                    </p:nvSpPr>
                    <p:spPr>
                      <a:xfrm>
                        <a:off x="779400" y="1001880"/>
                        <a:ext cx="22320" cy="27000"/>
                      </a:xfrm>
                      <a:custGeom>
                        <a:avLst/>
                        <a:gdLst>
                          <a:gd name="textAreaLeft" fmla="*/ 0 w 22320"/>
                          <a:gd name="textAreaRight" fmla="*/ 22680 w 22320"/>
                          <a:gd name="textAreaTop" fmla="*/ 0 h 27000"/>
                          <a:gd name="textAreaBottom" fmla="*/ 27360 h 27000"/>
                        </a:gdLst>
                        <a:ahLst/>
                        <a:rect l="textAreaLeft" t="textAreaTop" r="textAreaRight" b="textAreaBottom"/>
                        <a:pathLst>
                          <a:path w="71" h="85">
                            <a:moveTo>
                              <a:pt x="71" y="85"/>
                            </a:moveTo>
                            <a:lnTo>
                              <a:pt x="36" y="71"/>
                            </a:lnTo>
                            <a:lnTo>
                              <a:pt x="14" y="55"/>
                            </a:lnTo>
                            <a:lnTo>
                              <a:pt x="0" y="31"/>
                            </a:lnTo>
                            <a:lnTo>
                              <a:pt x="7" y="8"/>
                            </a:lnTo>
                            <a:lnTo>
                              <a:pt x="25" y="0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551" name="Freeform 34"/>
                      <p:cNvSpPr/>
                      <p:nvPr/>
                    </p:nvSpPr>
                    <p:spPr>
                      <a:xfrm>
                        <a:off x="768240" y="963720"/>
                        <a:ext cx="5040" cy="25200"/>
                      </a:xfrm>
                      <a:custGeom>
                        <a:avLst/>
                        <a:gdLst>
                          <a:gd name="textAreaLeft" fmla="*/ 0 w 5040"/>
                          <a:gd name="textAreaRight" fmla="*/ 5400 w 5040"/>
                          <a:gd name="textAreaTop" fmla="*/ 0 h 25200"/>
                          <a:gd name="textAreaBottom" fmla="*/ 25560 h 25200"/>
                        </a:gdLst>
                        <a:ahLst/>
                        <a:rect l="textAreaLeft" t="textAreaTop" r="textAreaRight" b="textAreaBottom"/>
                        <a:pathLst>
                          <a:path w="15" h="80">
                            <a:moveTo>
                              <a:pt x="0" y="0"/>
                            </a:moveTo>
                            <a:lnTo>
                              <a:pt x="13" y="36"/>
                            </a:lnTo>
                            <a:lnTo>
                              <a:pt x="15" y="57"/>
                            </a:lnTo>
                            <a:lnTo>
                              <a:pt x="13" y="80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552" name="Freeform 35"/>
                      <p:cNvSpPr/>
                      <p:nvPr/>
                    </p:nvSpPr>
                    <p:spPr>
                      <a:xfrm>
                        <a:off x="766800" y="963720"/>
                        <a:ext cx="19080" cy="11160"/>
                      </a:xfrm>
                      <a:custGeom>
                        <a:avLst/>
                        <a:gdLst>
                          <a:gd name="textAreaLeft" fmla="*/ 0 w 19080"/>
                          <a:gd name="textAreaRight" fmla="*/ 19440 w 19080"/>
                          <a:gd name="textAreaTop" fmla="*/ 0 h 11160"/>
                          <a:gd name="textAreaBottom" fmla="*/ 11520 h 11160"/>
                        </a:gdLst>
                        <a:ahLst/>
                        <a:rect l="textAreaLeft" t="textAreaTop" r="textAreaRight" b="textAreaBottom"/>
                        <a:pathLst>
                          <a:path w="61" h="32">
                            <a:moveTo>
                              <a:pt x="0" y="0"/>
                            </a:moveTo>
                            <a:lnTo>
                              <a:pt x="27" y="3"/>
                            </a:lnTo>
                            <a:lnTo>
                              <a:pt x="46" y="13"/>
                            </a:lnTo>
                            <a:lnTo>
                              <a:pt x="61" y="32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553" name="Freeform 36"/>
                      <p:cNvSpPr/>
                      <p:nvPr/>
                    </p:nvSpPr>
                    <p:spPr>
                      <a:xfrm>
                        <a:off x="728640" y="1011240"/>
                        <a:ext cx="31680" cy="27000"/>
                      </a:xfrm>
                      <a:custGeom>
                        <a:avLst/>
                        <a:gdLst>
                          <a:gd name="textAreaLeft" fmla="*/ 0 w 31680"/>
                          <a:gd name="textAreaRight" fmla="*/ 32040 w 31680"/>
                          <a:gd name="textAreaTop" fmla="*/ 0 h 27000"/>
                          <a:gd name="textAreaBottom" fmla="*/ 27360 h 27000"/>
                        </a:gdLst>
                        <a:ahLst/>
                        <a:rect l="textAreaLeft" t="textAreaTop" r="textAreaRight" b="textAreaBottom"/>
                        <a:pathLst>
                          <a:path w="104" h="87">
                            <a:moveTo>
                              <a:pt x="0" y="0"/>
                            </a:moveTo>
                            <a:lnTo>
                              <a:pt x="2" y="13"/>
                            </a:lnTo>
                            <a:lnTo>
                              <a:pt x="6" y="28"/>
                            </a:lnTo>
                            <a:lnTo>
                              <a:pt x="13" y="39"/>
                            </a:lnTo>
                            <a:lnTo>
                              <a:pt x="29" y="51"/>
                            </a:lnTo>
                            <a:lnTo>
                              <a:pt x="49" y="59"/>
                            </a:lnTo>
                            <a:lnTo>
                              <a:pt x="70" y="61"/>
                            </a:lnTo>
                            <a:lnTo>
                              <a:pt x="87" y="65"/>
                            </a:lnTo>
                            <a:lnTo>
                              <a:pt x="97" y="76"/>
                            </a:lnTo>
                            <a:lnTo>
                              <a:pt x="104" y="86"/>
                            </a:lnTo>
                            <a:lnTo>
                              <a:pt x="104" y="87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554" name="Group 37"/>
                <p:cNvGrpSpPr/>
                <p:nvPr/>
              </p:nvGrpSpPr>
              <p:grpSpPr>
                <a:xfrm>
                  <a:off x="495360" y="644400"/>
                  <a:ext cx="384120" cy="516240"/>
                  <a:chOff x="495360" y="644400"/>
                  <a:chExt cx="384120" cy="516240"/>
                </a:xfrm>
              </p:grpSpPr>
              <p:grpSp>
                <p:nvGrpSpPr>
                  <p:cNvPr id="555" name="Group 38"/>
                  <p:cNvGrpSpPr/>
                  <p:nvPr/>
                </p:nvGrpSpPr>
                <p:grpSpPr>
                  <a:xfrm>
                    <a:off x="563760" y="644400"/>
                    <a:ext cx="304560" cy="285840"/>
                    <a:chOff x="563760" y="644400"/>
                    <a:chExt cx="304560" cy="285840"/>
                  </a:xfrm>
                </p:grpSpPr>
                <p:sp>
                  <p:nvSpPr>
                    <p:cNvPr id="556" name="Freeform 39"/>
                    <p:cNvSpPr/>
                    <p:nvPr/>
                  </p:nvSpPr>
                  <p:spPr>
                    <a:xfrm>
                      <a:off x="592200" y="644400"/>
                      <a:ext cx="271440" cy="285840"/>
                    </a:xfrm>
                    <a:custGeom>
                      <a:avLst/>
                      <a:gdLst>
                        <a:gd name="textAreaLeft" fmla="*/ 0 w 271440"/>
                        <a:gd name="textAreaRight" fmla="*/ 271800 w 271440"/>
                        <a:gd name="textAreaTop" fmla="*/ 0 h 285840"/>
                        <a:gd name="textAreaBottom" fmla="*/ 286200 h 285840"/>
                      </a:gdLst>
                      <a:ahLst/>
                      <a:rect l="textAreaLeft" t="textAreaTop" r="textAreaRight" b="textAreaBottom"/>
                      <a:pathLst>
                        <a:path w="859" h="901">
                          <a:moveTo>
                            <a:pt x="106" y="714"/>
                          </a:moveTo>
                          <a:lnTo>
                            <a:pt x="147" y="637"/>
                          </a:lnTo>
                          <a:lnTo>
                            <a:pt x="147" y="614"/>
                          </a:lnTo>
                          <a:lnTo>
                            <a:pt x="132" y="583"/>
                          </a:lnTo>
                          <a:lnTo>
                            <a:pt x="109" y="550"/>
                          </a:lnTo>
                          <a:lnTo>
                            <a:pt x="67" y="518"/>
                          </a:lnTo>
                          <a:lnTo>
                            <a:pt x="40" y="475"/>
                          </a:lnTo>
                          <a:lnTo>
                            <a:pt x="27" y="437"/>
                          </a:lnTo>
                          <a:lnTo>
                            <a:pt x="10" y="408"/>
                          </a:lnTo>
                          <a:lnTo>
                            <a:pt x="10" y="375"/>
                          </a:lnTo>
                          <a:lnTo>
                            <a:pt x="0" y="298"/>
                          </a:lnTo>
                          <a:lnTo>
                            <a:pt x="10" y="239"/>
                          </a:lnTo>
                          <a:lnTo>
                            <a:pt x="29" y="188"/>
                          </a:lnTo>
                          <a:lnTo>
                            <a:pt x="55" y="133"/>
                          </a:lnTo>
                          <a:lnTo>
                            <a:pt x="86" y="102"/>
                          </a:lnTo>
                          <a:lnTo>
                            <a:pt x="145" y="64"/>
                          </a:lnTo>
                          <a:lnTo>
                            <a:pt x="209" y="38"/>
                          </a:lnTo>
                          <a:lnTo>
                            <a:pt x="276" y="15"/>
                          </a:lnTo>
                          <a:lnTo>
                            <a:pt x="362" y="2"/>
                          </a:lnTo>
                          <a:lnTo>
                            <a:pt x="423" y="0"/>
                          </a:lnTo>
                          <a:lnTo>
                            <a:pt x="484" y="5"/>
                          </a:lnTo>
                          <a:lnTo>
                            <a:pt x="561" y="20"/>
                          </a:lnTo>
                          <a:lnTo>
                            <a:pt x="632" y="43"/>
                          </a:lnTo>
                          <a:lnTo>
                            <a:pt x="683" y="69"/>
                          </a:lnTo>
                          <a:lnTo>
                            <a:pt x="747" y="118"/>
                          </a:lnTo>
                          <a:lnTo>
                            <a:pt x="790" y="176"/>
                          </a:lnTo>
                          <a:lnTo>
                            <a:pt x="823" y="229"/>
                          </a:lnTo>
                          <a:lnTo>
                            <a:pt x="839" y="268"/>
                          </a:lnTo>
                          <a:lnTo>
                            <a:pt x="859" y="336"/>
                          </a:lnTo>
                          <a:lnTo>
                            <a:pt x="859" y="388"/>
                          </a:lnTo>
                          <a:lnTo>
                            <a:pt x="846" y="463"/>
                          </a:lnTo>
                          <a:lnTo>
                            <a:pt x="826" y="524"/>
                          </a:lnTo>
                          <a:lnTo>
                            <a:pt x="797" y="575"/>
                          </a:lnTo>
                          <a:lnTo>
                            <a:pt x="772" y="604"/>
                          </a:lnTo>
                          <a:lnTo>
                            <a:pt x="735" y="637"/>
                          </a:lnTo>
                          <a:lnTo>
                            <a:pt x="674" y="662"/>
                          </a:lnTo>
                          <a:lnTo>
                            <a:pt x="629" y="678"/>
                          </a:lnTo>
                          <a:lnTo>
                            <a:pt x="577" y="693"/>
                          </a:lnTo>
                          <a:lnTo>
                            <a:pt x="497" y="701"/>
                          </a:lnTo>
                          <a:lnTo>
                            <a:pt x="428" y="714"/>
                          </a:lnTo>
                          <a:lnTo>
                            <a:pt x="382" y="723"/>
                          </a:lnTo>
                          <a:lnTo>
                            <a:pt x="369" y="745"/>
                          </a:lnTo>
                          <a:lnTo>
                            <a:pt x="372" y="772"/>
                          </a:lnTo>
                          <a:lnTo>
                            <a:pt x="369" y="798"/>
                          </a:lnTo>
                          <a:lnTo>
                            <a:pt x="359" y="817"/>
                          </a:lnTo>
                          <a:lnTo>
                            <a:pt x="354" y="853"/>
                          </a:lnTo>
                          <a:lnTo>
                            <a:pt x="356" y="901"/>
                          </a:lnTo>
                          <a:lnTo>
                            <a:pt x="298" y="821"/>
                          </a:lnTo>
                          <a:lnTo>
                            <a:pt x="222" y="756"/>
                          </a:lnTo>
                          <a:lnTo>
                            <a:pt x="158" y="726"/>
                          </a:lnTo>
                          <a:lnTo>
                            <a:pt x="106" y="714"/>
                          </a:lnTo>
                          <a:close/>
                        </a:path>
                      </a:pathLst>
                    </a:custGeom>
                    <a:solidFill>
                      <a:srgbClr val="e0a08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557" name="Group 40"/>
                    <p:cNvGrpSpPr/>
                    <p:nvPr/>
                  </p:nvGrpSpPr>
                  <p:grpSpPr>
                    <a:xfrm>
                      <a:off x="563760" y="644400"/>
                      <a:ext cx="255600" cy="196920"/>
                      <a:chOff x="563760" y="644400"/>
                      <a:chExt cx="255600" cy="196920"/>
                    </a:xfrm>
                  </p:grpSpPr>
                  <p:grpSp>
                    <p:nvGrpSpPr>
                      <p:cNvPr id="558" name="Group 41"/>
                      <p:cNvGrpSpPr/>
                      <p:nvPr/>
                    </p:nvGrpSpPr>
                    <p:grpSpPr>
                      <a:xfrm>
                        <a:off x="631800" y="644400"/>
                        <a:ext cx="176400" cy="60480"/>
                        <a:chOff x="631800" y="644400"/>
                        <a:chExt cx="176400" cy="60480"/>
                      </a:xfrm>
                    </p:grpSpPr>
                    <p:sp>
                      <p:nvSpPr>
                        <p:cNvPr id="559" name="Freeform 42"/>
                        <p:cNvSpPr/>
                        <p:nvPr/>
                      </p:nvSpPr>
                      <p:spPr>
                        <a:xfrm>
                          <a:off x="646200" y="654120"/>
                          <a:ext cx="162000" cy="50760"/>
                        </a:xfrm>
                        <a:custGeom>
                          <a:avLst/>
                          <a:gdLst>
                            <a:gd name="textAreaLeft" fmla="*/ 0 w 162000"/>
                            <a:gd name="textAreaRight" fmla="*/ 162360 w 162000"/>
                            <a:gd name="textAreaTop" fmla="*/ 0 h 50760"/>
                            <a:gd name="textAreaBottom" fmla="*/ 51120 h 50760"/>
                          </a:gdLst>
                          <a:ahLst/>
                          <a:rect l="textAreaLeft" t="textAreaTop" r="textAreaRight" b="textAreaBottom"/>
                          <a:pathLst>
                            <a:path w="510" h="160">
                              <a:moveTo>
                                <a:pt x="0" y="160"/>
                              </a:moveTo>
                              <a:lnTo>
                                <a:pt x="39" y="110"/>
                              </a:lnTo>
                              <a:lnTo>
                                <a:pt x="90" y="71"/>
                              </a:lnTo>
                              <a:lnTo>
                                <a:pt x="151" y="38"/>
                              </a:lnTo>
                              <a:lnTo>
                                <a:pt x="212" y="19"/>
                              </a:lnTo>
                              <a:lnTo>
                                <a:pt x="279" y="5"/>
                              </a:lnTo>
                              <a:lnTo>
                                <a:pt x="366" y="0"/>
                              </a:lnTo>
                              <a:lnTo>
                                <a:pt x="430" y="10"/>
                              </a:lnTo>
                              <a:lnTo>
                                <a:pt x="510" y="36"/>
                              </a:lnTo>
                            </a:path>
                          </a:pathLst>
                        </a:custGeom>
                        <a:noFill/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20" bIns="4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560" name="Freeform 43"/>
                        <p:cNvSpPr/>
                        <p:nvPr/>
                      </p:nvSpPr>
                      <p:spPr>
                        <a:xfrm>
                          <a:off x="631800" y="644400"/>
                          <a:ext cx="166680" cy="55800"/>
                        </a:xfrm>
                        <a:custGeom>
                          <a:avLst/>
                          <a:gdLst>
                            <a:gd name="textAreaLeft" fmla="*/ 0 w 166680"/>
                            <a:gd name="textAreaRight" fmla="*/ 167040 w 166680"/>
                            <a:gd name="textAreaTop" fmla="*/ 0 h 55800"/>
                            <a:gd name="textAreaBottom" fmla="*/ 56160 h 55800"/>
                          </a:gdLst>
                          <a:ahLst/>
                          <a:rect l="textAreaLeft" t="textAreaTop" r="textAreaRight" b="textAreaBottom"/>
                          <a:pathLst>
                            <a:path w="526" h="176">
                              <a:moveTo>
                                <a:pt x="0" y="176"/>
                              </a:moveTo>
                              <a:lnTo>
                                <a:pt x="25" y="125"/>
                              </a:lnTo>
                              <a:lnTo>
                                <a:pt x="56" y="89"/>
                              </a:lnTo>
                              <a:lnTo>
                                <a:pt x="90" y="60"/>
                              </a:lnTo>
                              <a:lnTo>
                                <a:pt x="151" y="28"/>
                              </a:lnTo>
                              <a:lnTo>
                                <a:pt x="231" y="5"/>
                              </a:lnTo>
                              <a:lnTo>
                                <a:pt x="305" y="0"/>
                              </a:lnTo>
                              <a:lnTo>
                                <a:pt x="385" y="8"/>
                              </a:lnTo>
                              <a:lnTo>
                                <a:pt x="458" y="31"/>
                              </a:lnTo>
                              <a:lnTo>
                                <a:pt x="494" y="41"/>
                              </a:lnTo>
                              <a:lnTo>
                                <a:pt x="526" y="51"/>
                              </a:lnTo>
                            </a:path>
                          </a:pathLst>
                        </a:custGeom>
                        <a:noFill/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360" bIns="9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561" name="Group 44"/>
                      <p:cNvGrpSpPr/>
                      <p:nvPr/>
                    </p:nvGrpSpPr>
                    <p:grpSpPr>
                      <a:xfrm>
                        <a:off x="563760" y="681120"/>
                        <a:ext cx="95040" cy="96840"/>
                        <a:chOff x="563760" y="681120"/>
                        <a:chExt cx="95040" cy="96840"/>
                      </a:xfrm>
                    </p:grpSpPr>
                    <p:sp>
                      <p:nvSpPr>
                        <p:cNvPr id="562" name="Freeform 45"/>
                        <p:cNvSpPr/>
                        <p:nvPr/>
                      </p:nvSpPr>
                      <p:spPr>
                        <a:xfrm>
                          <a:off x="563760" y="681120"/>
                          <a:ext cx="95040" cy="96840"/>
                        </a:xfrm>
                        <a:custGeom>
                          <a:avLst/>
                          <a:gdLst>
                            <a:gd name="textAreaLeft" fmla="*/ 0 w 95040"/>
                            <a:gd name="textAreaRight" fmla="*/ 95400 w 95040"/>
                            <a:gd name="textAreaTop" fmla="*/ 0 h 96840"/>
                            <a:gd name="textAreaBottom" fmla="*/ 97200 h 96840"/>
                          </a:gdLst>
                          <a:ahLst/>
                          <a:rect l="textAreaLeft" t="textAreaTop" r="textAreaRight" b="textAreaBottom"/>
                          <a:pathLst>
                            <a:path w="302" h="305">
                              <a:moveTo>
                                <a:pt x="56" y="290"/>
                              </a:moveTo>
                              <a:lnTo>
                                <a:pt x="17" y="253"/>
                              </a:lnTo>
                              <a:lnTo>
                                <a:pt x="0" y="200"/>
                              </a:lnTo>
                              <a:lnTo>
                                <a:pt x="9" y="133"/>
                              </a:lnTo>
                              <a:lnTo>
                                <a:pt x="32" y="83"/>
                              </a:lnTo>
                              <a:lnTo>
                                <a:pt x="50" y="58"/>
                              </a:lnTo>
                              <a:lnTo>
                                <a:pt x="71" y="25"/>
                              </a:lnTo>
                              <a:lnTo>
                                <a:pt x="81" y="14"/>
                              </a:lnTo>
                              <a:lnTo>
                                <a:pt x="95" y="2"/>
                              </a:lnTo>
                              <a:lnTo>
                                <a:pt x="110" y="0"/>
                              </a:lnTo>
                              <a:lnTo>
                                <a:pt x="119" y="13"/>
                              </a:lnTo>
                              <a:lnTo>
                                <a:pt x="126" y="27"/>
                              </a:lnTo>
                              <a:lnTo>
                                <a:pt x="132" y="17"/>
                              </a:lnTo>
                              <a:lnTo>
                                <a:pt x="149" y="15"/>
                              </a:lnTo>
                              <a:lnTo>
                                <a:pt x="159" y="27"/>
                              </a:lnTo>
                              <a:lnTo>
                                <a:pt x="163" y="45"/>
                              </a:lnTo>
                              <a:lnTo>
                                <a:pt x="167" y="69"/>
                              </a:lnTo>
                              <a:lnTo>
                                <a:pt x="180" y="63"/>
                              </a:lnTo>
                              <a:lnTo>
                                <a:pt x="194" y="70"/>
                              </a:lnTo>
                              <a:lnTo>
                                <a:pt x="197" y="77"/>
                              </a:lnTo>
                              <a:lnTo>
                                <a:pt x="196" y="90"/>
                              </a:lnTo>
                              <a:lnTo>
                                <a:pt x="194" y="103"/>
                              </a:lnTo>
                              <a:lnTo>
                                <a:pt x="202" y="95"/>
                              </a:lnTo>
                              <a:lnTo>
                                <a:pt x="215" y="88"/>
                              </a:lnTo>
                              <a:lnTo>
                                <a:pt x="236" y="90"/>
                              </a:lnTo>
                              <a:lnTo>
                                <a:pt x="237" y="101"/>
                              </a:lnTo>
                              <a:lnTo>
                                <a:pt x="238" y="111"/>
                              </a:lnTo>
                              <a:lnTo>
                                <a:pt x="238" y="123"/>
                              </a:lnTo>
                              <a:lnTo>
                                <a:pt x="251" y="121"/>
                              </a:lnTo>
                              <a:lnTo>
                                <a:pt x="264" y="126"/>
                              </a:lnTo>
                              <a:lnTo>
                                <a:pt x="271" y="136"/>
                              </a:lnTo>
                              <a:lnTo>
                                <a:pt x="274" y="152"/>
                              </a:lnTo>
                              <a:lnTo>
                                <a:pt x="286" y="157"/>
                              </a:lnTo>
                              <a:lnTo>
                                <a:pt x="293" y="175"/>
                              </a:lnTo>
                              <a:lnTo>
                                <a:pt x="290" y="195"/>
                              </a:lnTo>
                              <a:lnTo>
                                <a:pt x="286" y="228"/>
                              </a:lnTo>
                              <a:lnTo>
                                <a:pt x="289" y="247"/>
                              </a:lnTo>
                              <a:lnTo>
                                <a:pt x="296" y="260"/>
                              </a:lnTo>
                              <a:lnTo>
                                <a:pt x="302" y="273"/>
                              </a:lnTo>
                              <a:lnTo>
                                <a:pt x="302" y="289"/>
                              </a:lnTo>
                              <a:lnTo>
                                <a:pt x="293" y="302"/>
                              </a:lnTo>
                              <a:lnTo>
                                <a:pt x="283" y="305"/>
                              </a:lnTo>
                              <a:lnTo>
                                <a:pt x="271" y="305"/>
                              </a:lnTo>
                              <a:lnTo>
                                <a:pt x="259" y="303"/>
                              </a:lnTo>
                              <a:lnTo>
                                <a:pt x="245" y="290"/>
                              </a:lnTo>
                              <a:lnTo>
                                <a:pt x="237" y="279"/>
                              </a:lnTo>
                              <a:lnTo>
                                <a:pt x="235" y="273"/>
                              </a:lnTo>
                              <a:lnTo>
                                <a:pt x="222" y="277"/>
                              </a:lnTo>
                              <a:lnTo>
                                <a:pt x="206" y="276"/>
                              </a:lnTo>
                              <a:lnTo>
                                <a:pt x="196" y="271"/>
                              </a:lnTo>
                              <a:lnTo>
                                <a:pt x="193" y="266"/>
                              </a:lnTo>
                              <a:lnTo>
                                <a:pt x="180" y="266"/>
                              </a:lnTo>
                              <a:lnTo>
                                <a:pt x="172" y="263"/>
                              </a:lnTo>
                              <a:lnTo>
                                <a:pt x="167" y="261"/>
                              </a:lnTo>
                              <a:lnTo>
                                <a:pt x="157" y="261"/>
                              </a:lnTo>
                              <a:lnTo>
                                <a:pt x="149" y="259"/>
                              </a:lnTo>
                              <a:lnTo>
                                <a:pt x="142" y="247"/>
                              </a:lnTo>
                              <a:lnTo>
                                <a:pt x="137" y="240"/>
                              </a:lnTo>
                              <a:lnTo>
                                <a:pt x="132" y="247"/>
                              </a:lnTo>
                              <a:lnTo>
                                <a:pt x="127" y="259"/>
                              </a:lnTo>
                              <a:lnTo>
                                <a:pt x="118" y="263"/>
                              </a:lnTo>
                              <a:lnTo>
                                <a:pt x="107" y="264"/>
                              </a:lnTo>
                              <a:lnTo>
                                <a:pt x="101" y="264"/>
                              </a:lnTo>
                              <a:lnTo>
                                <a:pt x="98" y="271"/>
                              </a:lnTo>
                              <a:lnTo>
                                <a:pt x="90" y="279"/>
                              </a:lnTo>
                              <a:lnTo>
                                <a:pt x="81" y="290"/>
                              </a:lnTo>
                              <a:lnTo>
                                <a:pt x="56" y="29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8040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grpSp>
                      <p:nvGrpSpPr>
                        <p:cNvPr id="563" name="Group 46"/>
                        <p:cNvGrpSpPr/>
                        <p:nvPr/>
                      </p:nvGrpSpPr>
                      <p:grpSpPr>
                        <a:xfrm>
                          <a:off x="568440" y="685800"/>
                          <a:ext cx="73080" cy="85680"/>
                          <a:chOff x="568440" y="685800"/>
                          <a:chExt cx="73080" cy="85680"/>
                        </a:xfrm>
                      </p:grpSpPr>
                      <p:sp>
                        <p:nvSpPr>
                          <p:cNvPr id="564" name="Freeform 47"/>
                          <p:cNvSpPr/>
                          <p:nvPr/>
                        </p:nvSpPr>
                        <p:spPr>
                          <a:xfrm>
                            <a:off x="625680" y="743040"/>
                            <a:ext cx="15840" cy="17280"/>
                          </a:xfrm>
                          <a:custGeom>
                            <a:avLst/>
                            <a:gdLst>
                              <a:gd name="textAreaLeft" fmla="*/ 0 w 15840"/>
                              <a:gd name="textAreaRight" fmla="*/ 16200 w 15840"/>
                              <a:gd name="textAreaTop" fmla="*/ 0 h 17280"/>
                              <a:gd name="textAreaBottom" fmla="*/ 17640 h 17280"/>
                            </a:gdLst>
                            <a:ahLst/>
                            <a:rect l="textAreaLeft" t="textAreaTop" r="textAreaRight" b="textAreaBottom"/>
                            <a:pathLst>
                              <a:path w="46" h="56">
                                <a:moveTo>
                                  <a:pt x="13" y="56"/>
                                </a:moveTo>
                                <a:lnTo>
                                  <a:pt x="10" y="27"/>
                                </a:lnTo>
                                <a:lnTo>
                                  <a:pt x="19" y="12"/>
                                </a:lnTo>
                                <a:lnTo>
                                  <a:pt x="46" y="0"/>
                                </a:lnTo>
                                <a:lnTo>
                                  <a:pt x="28" y="2"/>
                                </a:lnTo>
                                <a:lnTo>
                                  <a:pt x="7" y="8"/>
                                </a:lnTo>
                                <a:lnTo>
                                  <a:pt x="0" y="22"/>
                                </a:lnTo>
                                <a:lnTo>
                                  <a:pt x="13" y="5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160" bIns="-291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565" name="Freeform 48"/>
                          <p:cNvSpPr/>
                          <p:nvPr/>
                        </p:nvSpPr>
                        <p:spPr>
                          <a:xfrm>
                            <a:off x="598680" y="714600"/>
                            <a:ext cx="23760" cy="42840"/>
                          </a:xfrm>
                          <a:custGeom>
                            <a:avLst/>
                            <a:gdLst>
                              <a:gd name="textAreaLeft" fmla="*/ 0 w 23760"/>
                              <a:gd name="textAreaRight" fmla="*/ 24120 w 23760"/>
                              <a:gd name="textAreaTop" fmla="*/ 0 h 42840"/>
                              <a:gd name="textAreaBottom" fmla="*/ 43200 h 42840"/>
                            </a:gdLst>
                            <a:ahLst/>
                            <a:rect l="textAreaLeft" t="textAreaTop" r="textAreaRight" b="textAreaBottom"/>
                            <a:pathLst>
                              <a:path w="73" h="137">
                                <a:moveTo>
                                  <a:pt x="30" y="137"/>
                                </a:moveTo>
                                <a:lnTo>
                                  <a:pt x="17" y="107"/>
                                </a:lnTo>
                                <a:lnTo>
                                  <a:pt x="17" y="65"/>
                                </a:lnTo>
                                <a:lnTo>
                                  <a:pt x="42" y="33"/>
                                </a:lnTo>
                                <a:lnTo>
                                  <a:pt x="73" y="0"/>
                                </a:lnTo>
                                <a:lnTo>
                                  <a:pt x="54" y="19"/>
                                </a:lnTo>
                                <a:lnTo>
                                  <a:pt x="23" y="42"/>
                                </a:lnTo>
                                <a:lnTo>
                                  <a:pt x="0" y="61"/>
                                </a:lnTo>
                                <a:lnTo>
                                  <a:pt x="5" y="77"/>
                                </a:lnTo>
                                <a:lnTo>
                                  <a:pt x="4" y="96"/>
                                </a:lnTo>
                                <a:lnTo>
                                  <a:pt x="4" y="117"/>
                                </a:lnTo>
                                <a:lnTo>
                                  <a:pt x="30" y="13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00" bIns="-36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566" name="Freeform 49"/>
                          <p:cNvSpPr/>
                          <p:nvPr/>
                        </p:nvSpPr>
                        <p:spPr>
                          <a:xfrm>
                            <a:off x="568440" y="738360"/>
                            <a:ext cx="15840" cy="33120"/>
                          </a:xfrm>
                          <a:custGeom>
                            <a:avLst/>
                            <a:gdLst>
                              <a:gd name="textAreaLeft" fmla="*/ 0 w 15840"/>
                              <a:gd name="textAreaRight" fmla="*/ 16200 w 15840"/>
                              <a:gd name="textAreaTop" fmla="*/ 0 h 33120"/>
                              <a:gd name="textAreaBottom" fmla="*/ 33480 h 33120"/>
                            </a:gdLst>
                            <a:ahLst/>
                            <a:rect l="textAreaLeft" t="textAreaTop" r="textAreaRight" b="textAreaBottom"/>
                            <a:pathLst>
                              <a:path w="50" h="106">
                                <a:moveTo>
                                  <a:pt x="22" y="88"/>
                                </a:moveTo>
                                <a:lnTo>
                                  <a:pt x="0" y="56"/>
                                </a:lnTo>
                                <a:lnTo>
                                  <a:pt x="9" y="33"/>
                                </a:lnTo>
                                <a:lnTo>
                                  <a:pt x="28" y="0"/>
                                </a:lnTo>
                                <a:lnTo>
                                  <a:pt x="12" y="57"/>
                                </a:lnTo>
                                <a:lnTo>
                                  <a:pt x="24" y="82"/>
                                </a:lnTo>
                                <a:lnTo>
                                  <a:pt x="50" y="106"/>
                                </a:lnTo>
                                <a:lnTo>
                                  <a:pt x="22" y="88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3320" bIns="-133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567" name="Freeform 50"/>
                          <p:cNvSpPr/>
                          <p:nvPr/>
                        </p:nvSpPr>
                        <p:spPr>
                          <a:xfrm>
                            <a:off x="581040" y="685800"/>
                            <a:ext cx="20520" cy="34920"/>
                          </a:xfrm>
                          <a:custGeom>
                            <a:avLst/>
                            <a:gdLst>
                              <a:gd name="textAreaLeft" fmla="*/ 0 w 20520"/>
                              <a:gd name="textAreaRight" fmla="*/ 20880 w 20520"/>
                              <a:gd name="textAreaTop" fmla="*/ 0 h 34920"/>
                              <a:gd name="textAreaBottom" fmla="*/ 35280 h 34920"/>
                            </a:gdLst>
                            <a:ahLst/>
                            <a:rect l="textAreaLeft" t="textAreaTop" r="textAreaRight" b="textAreaBottom"/>
                            <a:pathLst>
                              <a:path w="68" h="106">
                                <a:moveTo>
                                  <a:pt x="68" y="0"/>
                                </a:moveTo>
                                <a:lnTo>
                                  <a:pt x="36" y="26"/>
                                </a:lnTo>
                                <a:lnTo>
                                  <a:pt x="9" y="53"/>
                                </a:lnTo>
                                <a:lnTo>
                                  <a:pt x="5" y="74"/>
                                </a:lnTo>
                                <a:lnTo>
                                  <a:pt x="0" y="106"/>
                                </a:lnTo>
                                <a:lnTo>
                                  <a:pt x="11" y="81"/>
                                </a:lnTo>
                                <a:lnTo>
                                  <a:pt x="20" y="55"/>
                                </a:lnTo>
                                <a:lnTo>
                                  <a:pt x="49" y="23"/>
                                </a:lnTo>
                                <a:lnTo>
                                  <a:pt x="68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1520" bIns="-11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568" name="Freeform 51"/>
                          <p:cNvSpPr/>
                          <p:nvPr/>
                        </p:nvSpPr>
                        <p:spPr>
                          <a:xfrm>
                            <a:off x="577800" y="749520"/>
                            <a:ext cx="12960" cy="21960"/>
                          </a:xfrm>
                          <a:custGeom>
                            <a:avLst/>
                            <a:gdLst>
                              <a:gd name="textAreaLeft" fmla="*/ 0 w 12960"/>
                              <a:gd name="textAreaRight" fmla="*/ 13320 w 12960"/>
                              <a:gd name="textAreaTop" fmla="*/ 0 h 21960"/>
                              <a:gd name="textAreaBottom" fmla="*/ 22320 h 21960"/>
                            </a:gdLst>
                            <a:ahLst/>
                            <a:rect l="textAreaLeft" t="textAreaTop" r="textAreaRight" b="textAreaBottom"/>
                            <a:pathLst>
                              <a:path w="38" h="67">
                                <a:moveTo>
                                  <a:pt x="15" y="67"/>
                                </a:moveTo>
                                <a:lnTo>
                                  <a:pt x="5" y="45"/>
                                </a:lnTo>
                                <a:lnTo>
                                  <a:pt x="0" y="33"/>
                                </a:lnTo>
                                <a:lnTo>
                                  <a:pt x="11" y="14"/>
                                </a:lnTo>
                                <a:lnTo>
                                  <a:pt x="35" y="0"/>
                                </a:lnTo>
                                <a:lnTo>
                                  <a:pt x="21" y="19"/>
                                </a:lnTo>
                                <a:lnTo>
                                  <a:pt x="13" y="39"/>
                                </a:lnTo>
                                <a:lnTo>
                                  <a:pt x="25" y="45"/>
                                </a:lnTo>
                                <a:lnTo>
                                  <a:pt x="38" y="30"/>
                                </a:lnTo>
                                <a:lnTo>
                                  <a:pt x="32" y="44"/>
                                </a:lnTo>
                                <a:lnTo>
                                  <a:pt x="15" y="6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480" bIns="-244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569" name="Group 52"/>
                      <p:cNvGrpSpPr/>
                      <p:nvPr/>
                    </p:nvGrpSpPr>
                    <p:grpSpPr>
                      <a:xfrm>
                        <a:off x="716040" y="792360"/>
                        <a:ext cx="103320" cy="48960"/>
                        <a:chOff x="716040" y="792360"/>
                        <a:chExt cx="103320" cy="48960"/>
                      </a:xfrm>
                    </p:grpSpPr>
                    <p:sp>
                      <p:nvSpPr>
                        <p:cNvPr id="570" name="Freeform 53"/>
                        <p:cNvSpPr/>
                        <p:nvPr/>
                      </p:nvSpPr>
                      <p:spPr>
                        <a:xfrm>
                          <a:off x="716040" y="792360"/>
                          <a:ext cx="103320" cy="48960"/>
                        </a:xfrm>
                        <a:custGeom>
                          <a:avLst/>
                          <a:gdLst>
                            <a:gd name="textAreaLeft" fmla="*/ 0 w 103320"/>
                            <a:gd name="textAreaRight" fmla="*/ 103680 w 103320"/>
                            <a:gd name="textAreaTop" fmla="*/ 0 h 48960"/>
                            <a:gd name="textAreaBottom" fmla="*/ 49320 h 48960"/>
                          </a:gdLst>
                          <a:ahLst/>
                          <a:rect l="textAreaLeft" t="textAreaTop" r="textAreaRight" b="textAreaBottom"/>
                          <a:pathLst>
                            <a:path w="324" h="159">
                              <a:moveTo>
                                <a:pt x="19" y="39"/>
                              </a:moveTo>
                              <a:lnTo>
                                <a:pt x="78" y="42"/>
                              </a:lnTo>
                              <a:lnTo>
                                <a:pt x="119" y="41"/>
                              </a:lnTo>
                              <a:lnTo>
                                <a:pt x="168" y="19"/>
                              </a:lnTo>
                              <a:lnTo>
                                <a:pt x="209" y="2"/>
                              </a:lnTo>
                              <a:lnTo>
                                <a:pt x="246" y="0"/>
                              </a:lnTo>
                              <a:lnTo>
                                <a:pt x="263" y="15"/>
                              </a:lnTo>
                              <a:lnTo>
                                <a:pt x="288" y="25"/>
                              </a:lnTo>
                              <a:lnTo>
                                <a:pt x="317" y="28"/>
                              </a:lnTo>
                              <a:lnTo>
                                <a:pt x="324" y="42"/>
                              </a:lnTo>
                              <a:lnTo>
                                <a:pt x="321" y="72"/>
                              </a:lnTo>
                              <a:lnTo>
                                <a:pt x="315" y="92"/>
                              </a:lnTo>
                              <a:lnTo>
                                <a:pt x="301" y="108"/>
                              </a:lnTo>
                              <a:lnTo>
                                <a:pt x="279" y="128"/>
                              </a:lnTo>
                              <a:lnTo>
                                <a:pt x="269" y="145"/>
                              </a:lnTo>
                              <a:lnTo>
                                <a:pt x="254" y="158"/>
                              </a:lnTo>
                              <a:lnTo>
                                <a:pt x="241" y="159"/>
                              </a:lnTo>
                              <a:lnTo>
                                <a:pt x="222" y="143"/>
                              </a:lnTo>
                              <a:lnTo>
                                <a:pt x="211" y="150"/>
                              </a:lnTo>
                              <a:lnTo>
                                <a:pt x="192" y="151"/>
                              </a:lnTo>
                              <a:lnTo>
                                <a:pt x="179" y="127"/>
                              </a:lnTo>
                              <a:lnTo>
                                <a:pt x="170" y="130"/>
                              </a:lnTo>
                              <a:lnTo>
                                <a:pt x="158" y="130"/>
                              </a:lnTo>
                              <a:lnTo>
                                <a:pt x="151" y="118"/>
                              </a:lnTo>
                              <a:lnTo>
                                <a:pt x="136" y="127"/>
                              </a:lnTo>
                              <a:lnTo>
                                <a:pt x="123" y="133"/>
                              </a:lnTo>
                              <a:lnTo>
                                <a:pt x="106" y="127"/>
                              </a:lnTo>
                              <a:lnTo>
                                <a:pt x="103" y="115"/>
                              </a:lnTo>
                              <a:lnTo>
                                <a:pt x="101" y="101"/>
                              </a:lnTo>
                              <a:lnTo>
                                <a:pt x="75" y="104"/>
                              </a:lnTo>
                              <a:lnTo>
                                <a:pt x="54" y="108"/>
                              </a:lnTo>
                              <a:lnTo>
                                <a:pt x="50" y="101"/>
                              </a:lnTo>
                              <a:lnTo>
                                <a:pt x="32" y="101"/>
                              </a:lnTo>
                              <a:lnTo>
                                <a:pt x="8" y="83"/>
                              </a:lnTo>
                              <a:lnTo>
                                <a:pt x="0" y="65"/>
                              </a:lnTo>
                              <a:lnTo>
                                <a:pt x="4" y="56"/>
                              </a:lnTo>
                              <a:lnTo>
                                <a:pt x="1" y="41"/>
                              </a:lnTo>
                              <a:lnTo>
                                <a:pt x="19" y="3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8040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20" bIns="25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grpSp>
                      <p:nvGrpSpPr>
                        <p:cNvPr id="571" name="Group 54"/>
                        <p:cNvGrpSpPr/>
                        <p:nvPr/>
                      </p:nvGrpSpPr>
                      <p:grpSpPr>
                        <a:xfrm>
                          <a:off x="730440" y="800280"/>
                          <a:ext cx="77760" cy="37800"/>
                          <a:chOff x="730440" y="800280"/>
                          <a:chExt cx="77760" cy="37800"/>
                        </a:xfrm>
                      </p:grpSpPr>
                      <p:sp>
                        <p:nvSpPr>
                          <p:cNvPr id="572" name="Freeform 55"/>
                          <p:cNvSpPr/>
                          <p:nvPr/>
                        </p:nvSpPr>
                        <p:spPr>
                          <a:xfrm>
                            <a:off x="730440" y="812880"/>
                            <a:ext cx="23760" cy="11160"/>
                          </a:xfrm>
                          <a:custGeom>
                            <a:avLst/>
                            <a:gdLst>
                              <a:gd name="textAreaLeft" fmla="*/ 0 w 23760"/>
                              <a:gd name="textAreaRight" fmla="*/ 24120 w 23760"/>
                              <a:gd name="textAreaTop" fmla="*/ 0 h 11160"/>
                              <a:gd name="textAreaBottom" fmla="*/ 11520 h 11160"/>
                            </a:gdLst>
                            <a:ahLst/>
                            <a:rect l="textAreaLeft" t="textAreaTop" r="textAreaRight" b="textAreaBottom"/>
                            <a:pathLst>
                              <a:path w="75" h="36">
                                <a:moveTo>
                                  <a:pt x="0" y="36"/>
                                </a:moveTo>
                                <a:lnTo>
                                  <a:pt x="39" y="24"/>
                                </a:lnTo>
                                <a:lnTo>
                                  <a:pt x="75" y="0"/>
                                </a:lnTo>
                                <a:lnTo>
                                  <a:pt x="61" y="18"/>
                                </a:lnTo>
                                <a:lnTo>
                                  <a:pt x="45" y="30"/>
                                </a:lnTo>
                                <a:lnTo>
                                  <a:pt x="0" y="3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5280" bIns="-352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573" name="Freeform 56"/>
                          <p:cNvSpPr/>
                          <p:nvPr/>
                        </p:nvSpPr>
                        <p:spPr>
                          <a:xfrm>
                            <a:off x="762120" y="800280"/>
                            <a:ext cx="19080" cy="29880"/>
                          </a:xfrm>
                          <a:custGeom>
                            <a:avLst/>
                            <a:gdLst>
                              <a:gd name="textAreaLeft" fmla="*/ 0 w 19080"/>
                              <a:gd name="textAreaRight" fmla="*/ 19440 w 19080"/>
                              <a:gd name="textAreaTop" fmla="*/ 0 h 29880"/>
                              <a:gd name="textAreaBottom" fmla="*/ 30240 h 29880"/>
                            </a:gdLst>
                            <a:ahLst/>
                            <a:rect l="textAreaLeft" t="textAreaTop" r="textAreaRight" b="textAreaBottom"/>
                            <a:pathLst>
                              <a:path w="61" h="97">
                                <a:moveTo>
                                  <a:pt x="0" y="97"/>
                                </a:moveTo>
                                <a:lnTo>
                                  <a:pt x="21" y="65"/>
                                </a:lnTo>
                                <a:lnTo>
                                  <a:pt x="61" y="0"/>
                                </a:lnTo>
                                <a:lnTo>
                                  <a:pt x="49" y="39"/>
                                </a:lnTo>
                                <a:lnTo>
                                  <a:pt x="42" y="67"/>
                                </a:lnTo>
                                <a:lnTo>
                                  <a:pt x="0" y="9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560" bIns="-165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574" name="Freeform 57"/>
                          <p:cNvSpPr/>
                          <p:nvPr/>
                        </p:nvSpPr>
                        <p:spPr>
                          <a:xfrm>
                            <a:off x="785880" y="800280"/>
                            <a:ext cx="12600" cy="37800"/>
                          </a:xfrm>
                          <a:custGeom>
                            <a:avLst/>
                            <a:gdLst>
                              <a:gd name="textAreaLeft" fmla="*/ 0 w 12600"/>
                              <a:gd name="textAreaRight" fmla="*/ 12960 w 12600"/>
                              <a:gd name="textAreaTop" fmla="*/ 0 h 37800"/>
                              <a:gd name="textAreaBottom" fmla="*/ 38160 h 37800"/>
                            </a:gdLst>
                            <a:ahLst/>
                            <a:rect l="textAreaLeft" t="textAreaTop" r="textAreaRight" b="textAreaBottom"/>
                            <a:pathLst>
                              <a:path w="44" h="117">
                                <a:moveTo>
                                  <a:pt x="0" y="117"/>
                                </a:moveTo>
                                <a:lnTo>
                                  <a:pt x="32" y="91"/>
                                </a:lnTo>
                                <a:lnTo>
                                  <a:pt x="31" y="38"/>
                                </a:lnTo>
                                <a:lnTo>
                                  <a:pt x="9" y="0"/>
                                </a:lnTo>
                                <a:lnTo>
                                  <a:pt x="35" y="36"/>
                                </a:lnTo>
                                <a:lnTo>
                                  <a:pt x="44" y="72"/>
                                </a:lnTo>
                                <a:lnTo>
                                  <a:pt x="41" y="102"/>
                                </a:lnTo>
                                <a:lnTo>
                                  <a:pt x="0" y="11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8640" bIns="-86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575" name="Freeform 58"/>
                          <p:cNvSpPr/>
                          <p:nvPr/>
                        </p:nvSpPr>
                        <p:spPr>
                          <a:xfrm>
                            <a:off x="804960" y="812880"/>
                            <a:ext cx="3240" cy="14400"/>
                          </a:xfrm>
                          <a:custGeom>
                            <a:avLst/>
                            <a:gdLst>
                              <a:gd name="textAreaLeft" fmla="*/ 0 w 3240"/>
                              <a:gd name="textAreaRight" fmla="*/ 3600 w 3240"/>
                              <a:gd name="textAreaTop" fmla="*/ 0 h 14400"/>
                              <a:gd name="textAreaBottom" fmla="*/ 14760 h 14400"/>
                            </a:gdLst>
                            <a:ahLst/>
                            <a:rect l="textAreaLeft" t="textAreaTop" r="textAreaRight" b="textAreaBottom"/>
                            <a:pathLst>
                              <a:path w="13" h="45">
                                <a:moveTo>
                                  <a:pt x="0" y="0"/>
                                </a:moveTo>
                                <a:lnTo>
                                  <a:pt x="13" y="29"/>
                                </a:lnTo>
                                <a:lnTo>
                                  <a:pt x="9" y="45"/>
                                </a:lnTo>
                              </a:path>
                            </a:pathLst>
                          </a:custGeom>
                          <a:noFill/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2040" bIns="-320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576" name="Group 59"/>
                    <p:cNvGrpSpPr/>
                    <p:nvPr/>
                  </p:nvGrpSpPr>
                  <p:grpSpPr>
                    <a:xfrm>
                      <a:off x="744480" y="704880"/>
                      <a:ext cx="123840" cy="106560"/>
                      <a:chOff x="744480" y="704880"/>
                      <a:chExt cx="123840" cy="106560"/>
                    </a:xfrm>
                  </p:grpSpPr>
                  <p:sp>
                    <p:nvSpPr>
                      <p:cNvPr id="577" name="Freeform 60"/>
                      <p:cNvSpPr/>
                      <p:nvPr/>
                    </p:nvSpPr>
                    <p:spPr>
                      <a:xfrm>
                        <a:off x="800280" y="743040"/>
                        <a:ext cx="56880" cy="55440"/>
                      </a:xfrm>
                      <a:custGeom>
                        <a:avLst/>
                        <a:gdLst>
                          <a:gd name="textAreaLeft" fmla="*/ 0 w 56880"/>
                          <a:gd name="textAreaRight" fmla="*/ 57240 w 56880"/>
                          <a:gd name="textAreaTop" fmla="*/ 0 h 55440"/>
                          <a:gd name="textAreaBottom" fmla="*/ 55800 h 55440"/>
                        </a:gdLst>
                        <a:ahLst/>
                        <a:rect l="textAreaLeft" t="textAreaTop" r="textAreaRight" b="textAreaBottom"/>
                        <a:pathLst>
                          <a:path w="184" h="171">
                            <a:moveTo>
                              <a:pt x="13" y="68"/>
                            </a:moveTo>
                            <a:lnTo>
                              <a:pt x="34" y="34"/>
                            </a:lnTo>
                            <a:lnTo>
                              <a:pt x="47" y="22"/>
                            </a:lnTo>
                            <a:lnTo>
                              <a:pt x="77" y="7"/>
                            </a:lnTo>
                            <a:lnTo>
                              <a:pt x="109" y="0"/>
                            </a:lnTo>
                            <a:lnTo>
                              <a:pt x="139" y="0"/>
                            </a:lnTo>
                            <a:lnTo>
                              <a:pt x="157" y="5"/>
                            </a:lnTo>
                            <a:lnTo>
                              <a:pt x="174" y="26"/>
                            </a:lnTo>
                            <a:lnTo>
                              <a:pt x="184" y="55"/>
                            </a:lnTo>
                            <a:lnTo>
                              <a:pt x="181" y="85"/>
                            </a:lnTo>
                            <a:lnTo>
                              <a:pt x="165" y="113"/>
                            </a:lnTo>
                            <a:lnTo>
                              <a:pt x="153" y="133"/>
                            </a:lnTo>
                            <a:lnTo>
                              <a:pt x="119" y="153"/>
                            </a:lnTo>
                            <a:lnTo>
                              <a:pt x="77" y="163"/>
                            </a:lnTo>
                            <a:lnTo>
                              <a:pt x="40" y="171"/>
                            </a:lnTo>
                            <a:lnTo>
                              <a:pt x="15" y="163"/>
                            </a:lnTo>
                            <a:lnTo>
                              <a:pt x="2" y="146"/>
                            </a:lnTo>
                            <a:lnTo>
                              <a:pt x="0" y="118"/>
                            </a:lnTo>
                            <a:lnTo>
                              <a:pt x="13" y="68"/>
                            </a:lnTo>
                            <a:close/>
                          </a:path>
                        </a:pathLst>
                      </a:custGeom>
                      <a:solidFill>
                        <a:srgbClr val="f0f0ff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000" bIns="9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578" name="Freeform 61"/>
                      <p:cNvSpPr/>
                      <p:nvPr/>
                    </p:nvSpPr>
                    <p:spPr>
                      <a:xfrm>
                        <a:off x="824040" y="727200"/>
                        <a:ext cx="44280" cy="33120"/>
                      </a:xfrm>
                      <a:custGeom>
                        <a:avLst/>
                        <a:gdLst>
                          <a:gd name="textAreaLeft" fmla="*/ 0 w 44280"/>
                          <a:gd name="textAreaRight" fmla="*/ 44640 w 44280"/>
                          <a:gd name="textAreaTop" fmla="*/ 0 h 33120"/>
                          <a:gd name="textAreaBottom" fmla="*/ 33480 h 33120"/>
                        </a:gdLst>
                        <a:ahLst/>
                        <a:rect l="textAreaLeft" t="textAreaTop" r="textAreaRight" b="textAreaBottom"/>
                        <a:pathLst>
                          <a:path w="137" h="107">
                            <a:moveTo>
                              <a:pt x="17" y="0"/>
                            </a:moveTo>
                            <a:lnTo>
                              <a:pt x="131" y="63"/>
                            </a:lnTo>
                            <a:lnTo>
                              <a:pt x="136" y="72"/>
                            </a:lnTo>
                            <a:lnTo>
                              <a:pt x="137" y="85"/>
                            </a:lnTo>
                            <a:lnTo>
                              <a:pt x="135" y="95"/>
                            </a:lnTo>
                            <a:lnTo>
                              <a:pt x="131" y="104"/>
                            </a:lnTo>
                            <a:lnTo>
                              <a:pt x="126" y="107"/>
                            </a:lnTo>
                            <a:lnTo>
                              <a:pt x="115" y="107"/>
                            </a:lnTo>
                            <a:lnTo>
                              <a:pt x="11" y="47"/>
                            </a:lnTo>
                            <a:lnTo>
                              <a:pt x="2" y="38"/>
                            </a:lnTo>
                            <a:lnTo>
                              <a:pt x="0" y="26"/>
                            </a:lnTo>
                            <a:lnTo>
                              <a:pt x="2" y="13"/>
                            </a:lnTo>
                            <a:lnTo>
                              <a:pt x="6" y="7"/>
                            </a:lnTo>
                            <a:lnTo>
                              <a:pt x="12" y="1"/>
                            </a:lnTo>
                            <a:lnTo>
                              <a:pt x="17" y="0"/>
                            </a:lnTo>
                            <a:close/>
                          </a:path>
                        </a:pathLst>
                      </a:custGeom>
                      <a:solidFill>
                        <a:srgbClr val="c08040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320" bIns="-13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579" name="Freeform 62"/>
                      <p:cNvSpPr/>
                      <p:nvPr/>
                    </p:nvSpPr>
                    <p:spPr>
                      <a:xfrm>
                        <a:off x="785880" y="728640"/>
                        <a:ext cx="79200" cy="82800"/>
                      </a:xfrm>
                      <a:custGeom>
                        <a:avLst/>
                        <a:gdLst>
                          <a:gd name="textAreaLeft" fmla="*/ 0 w 79200"/>
                          <a:gd name="textAreaRight" fmla="*/ 79560 w 79200"/>
                          <a:gd name="textAreaTop" fmla="*/ 0 h 82800"/>
                          <a:gd name="textAreaBottom" fmla="*/ 83160 h 82800"/>
                        </a:gdLst>
                        <a:ahLst/>
                        <a:rect l="textAreaLeft" t="textAreaTop" r="textAreaRight" b="textAreaBottom"/>
                        <a:pathLst>
                          <a:path w="250" h="260">
                            <a:moveTo>
                              <a:pt x="77" y="0"/>
                            </a:moveTo>
                            <a:lnTo>
                              <a:pt x="150" y="60"/>
                            </a:lnTo>
                            <a:lnTo>
                              <a:pt x="180" y="87"/>
                            </a:lnTo>
                            <a:lnTo>
                              <a:pt x="211" y="118"/>
                            </a:lnTo>
                            <a:lnTo>
                              <a:pt x="229" y="143"/>
                            </a:lnTo>
                            <a:lnTo>
                              <a:pt x="246" y="168"/>
                            </a:lnTo>
                            <a:lnTo>
                              <a:pt x="250" y="198"/>
                            </a:lnTo>
                            <a:lnTo>
                              <a:pt x="247" y="228"/>
                            </a:lnTo>
                            <a:lnTo>
                              <a:pt x="234" y="247"/>
                            </a:lnTo>
                            <a:lnTo>
                              <a:pt x="211" y="260"/>
                            </a:lnTo>
                            <a:lnTo>
                              <a:pt x="155" y="260"/>
                            </a:lnTo>
                            <a:lnTo>
                              <a:pt x="116" y="254"/>
                            </a:lnTo>
                            <a:lnTo>
                              <a:pt x="58" y="238"/>
                            </a:lnTo>
                            <a:lnTo>
                              <a:pt x="47" y="221"/>
                            </a:lnTo>
                            <a:lnTo>
                              <a:pt x="29" y="198"/>
                            </a:lnTo>
                            <a:lnTo>
                              <a:pt x="0" y="186"/>
                            </a:lnTo>
                            <a:lnTo>
                              <a:pt x="26" y="148"/>
                            </a:lnTo>
                            <a:lnTo>
                              <a:pt x="26" y="60"/>
                            </a:lnTo>
                            <a:lnTo>
                              <a:pt x="77" y="0"/>
                            </a:lnTo>
                            <a:close/>
                          </a:path>
                        </a:pathLst>
                      </a:custGeom>
                      <a:solidFill>
                        <a:srgbClr val="e0a080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360" bIns="36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grpSp>
                    <p:nvGrpSpPr>
                      <p:cNvPr id="580" name="Group 63"/>
                      <p:cNvGrpSpPr/>
                      <p:nvPr/>
                    </p:nvGrpSpPr>
                    <p:grpSpPr>
                      <a:xfrm>
                        <a:off x="744480" y="704880"/>
                        <a:ext cx="74880" cy="73080"/>
                        <a:chOff x="744480" y="704880"/>
                        <a:chExt cx="74880" cy="73080"/>
                      </a:xfrm>
                    </p:grpSpPr>
                    <p:sp>
                      <p:nvSpPr>
                        <p:cNvPr id="581" name="Freeform 64"/>
                        <p:cNvSpPr/>
                        <p:nvPr/>
                      </p:nvSpPr>
                      <p:spPr>
                        <a:xfrm>
                          <a:off x="744480" y="722520"/>
                          <a:ext cx="60480" cy="55440"/>
                        </a:xfrm>
                        <a:custGeom>
                          <a:avLst/>
                          <a:gdLst>
                            <a:gd name="textAreaLeft" fmla="*/ 0 w 60480"/>
                            <a:gd name="textAreaRight" fmla="*/ 60840 w 60480"/>
                            <a:gd name="textAreaTop" fmla="*/ 0 h 55440"/>
                            <a:gd name="textAreaBottom" fmla="*/ 55800 h 55440"/>
                          </a:gdLst>
                          <a:ahLst/>
                          <a:rect l="textAreaLeft" t="textAreaTop" r="textAreaRight" b="textAreaBottom"/>
                          <a:pathLst>
                            <a:path w="186" h="172">
                              <a:moveTo>
                                <a:pt x="13" y="70"/>
                              </a:moveTo>
                              <a:lnTo>
                                <a:pt x="35" y="36"/>
                              </a:lnTo>
                              <a:lnTo>
                                <a:pt x="48" y="22"/>
                              </a:lnTo>
                              <a:lnTo>
                                <a:pt x="77" y="7"/>
                              </a:lnTo>
                              <a:lnTo>
                                <a:pt x="112" y="0"/>
                              </a:lnTo>
                              <a:lnTo>
                                <a:pt x="141" y="0"/>
                              </a:lnTo>
                              <a:lnTo>
                                <a:pt x="160" y="6"/>
                              </a:lnTo>
                              <a:lnTo>
                                <a:pt x="177" y="27"/>
                              </a:lnTo>
                              <a:lnTo>
                                <a:pt x="186" y="56"/>
                              </a:lnTo>
                              <a:lnTo>
                                <a:pt x="184" y="88"/>
                              </a:lnTo>
                              <a:lnTo>
                                <a:pt x="167" y="116"/>
                              </a:lnTo>
                              <a:lnTo>
                                <a:pt x="154" y="134"/>
                              </a:lnTo>
                              <a:lnTo>
                                <a:pt x="121" y="153"/>
                              </a:lnTo>
                              <a:lnTo>
                                <a:pt x="77" y="163"/>
                              </a:lnTo>
                              <a:lnTo>
                                <a:pt x="42" y="172"/>
                              </a:lnTo>
                              <a:lnTo>
                                <a:pt x="17" y="163"/>
                              </a:lnTo>
                              <a:lnTo>
                                <a:pt x="4" y="147"/>
                              </a:lnTo>
                              <a:lnTo>
                                <a:pt x="0" y="120"/>
                              </a:lnTo>
                              <a:lnTo>
                                <a:pt x="13" y="7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0f0ff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582" name="Oval 65"/>
                        <p:cNvSpPr/>
                        <p:nvPr/>
                      </p:nvSpPr>
                      <p:spPr>
                        <a:xfrm>
                          <a:off x="752400" y="762120"/>
                          <a:ext cx="15840" cy="14040"/>
                        </a:xfrm>
                        <a:prstGeom prst="ellipse">
                          <a:avLst/>
                        </a:prstGeom>
                        <a:solidFill>
                          <a:srgbClr val="008080"/>
                        </a:solidFill>
                        <a:ln w="3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360" bIns="-3636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583" name="Freeform 66"/>
                        <p:cNvSpPr/>
                        <p:nvPr/>
                      </p:nvSpPr>
                      <p:spPr>
                        <a:xfrm>
                          <a:off x="758880" y="704880"/>
                          <a:ext cx="60480" cy="36360"/>
                        </a:xfrm>
                        <a:custGeom>
                          <a:avLst/>
                          <a:gdLst>
                            <a:gd name="textAreaLeft" fmla="*/ 0 w 60480"/>
                            <a:gd name="textAreaRight" fmla="*/ 60840 w 60480"/>
                            <a:gd name="textAreaTop" fmla="*/ 0 h 36360"/>
                            <a:gd name="textAreaBottom" fmla="*/ 36720 h 36360"/>
                          </a:gdLst>
                          <a:ahLst/>
                          <a:rect l="textAreaLeft" t="textAreaTop" r="textAreaRight" b="textAreaBottom"/>
                          <a:pathLst>
                            <a:path w="193" h="112">
                              <a:moveTo>
                                <a:pt x="28" y="0"/>
                              </a:moveTo>
                              <a:lnTo>
                                <a:pt x="185" y="66"/>
                              </a:lnTo>
                              <a:lnTo>
                                <a:pt x="191" y="75"/>
                              </a:lnTo>
                              <a:lnTo>
                                <a:pt x="193" y="89"/>
                              </a:lnTo>
                              <a:lnTo>
                                <a:pt x="189" y="99"/>
                              </a:lnTo>
                              <a:lnTo>
                                <a:pt x="184" y="108"/>
                              </a:lnTo>
                              <a:lnTo>
                                <a:pt x="176" y="111"/>
                              </a:lnTo>
                              <a:lnTo>
                                <a:pt x="162" y="112"/>
                              </a:lnTo>
                              <a:lnTo>
                                <a:pt x="16" y="49"/>
                              </a:lnTo>
                              <a:lnTo>
                                <a:pt x="4" y="40"/>
                              </a:lnTo>
                              <a:lnTo>
                                <a:pt x="0" y="27"/>
                              </a:lnTo>
                              <a:lnTo>
                                <a:pt x="4" y="14"/>
                              </a:lnTo>
                              <a:lnTo>
                                <a:pt x="9" y="8"/>
                              </a:lnTo>
                              <a:lnTo>
                                <a:pt x="17" y="2"/>
                              </a:lnTo>
                              <a:lnTo>
                                <a:pt x="28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8040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080" bIns="-100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84" name="Group 67"/>
                    <p:cNvGrpSpPr/>
                    <p:nvPr/>
                  </p:nvGrpSpPr>
                  <p:grpSpPr>
                    <a:xfrm>
                      <a:off x="588960" y="758880"/>
                      <a:ext cx="58680" cy="68400"/>
                      <a:chOff x="588960" y="758880"/>
                      <a:chExt cx="58680" cy="68400"/>
                    </a:xfrm>
                  </p:grpSpPr>
                  <p:sp>
                    <p:nvSpPr>
                      <p:cNvPr id="585" name="Freeform 68"/>
                      <p:cNvSpPr/>
                      <p:nvPr/>
                    </p:nvSpPr>
                    <p:spPr>
                      <a:xfrm>
                        <a:off x="588960" y="758880"/>
                        <a:ext cx="52560" cy="66600"/>
                      </a:xfrm>
                      <a:custGeom>
                        <a:avLst/>
                        <a:gdLst>
                          <a:gd name="textAreaLeft" fmla="*/ 0 w 52560"/>
                          <a:gd name="textAreaRight" fmla="*/ 52920 w 52560"/>
                          <a:gd name="textAreaTop" fmla="*/ 0 h 66600"/>
                          <a:gd name="textAreaBottom" fmla="*/ 66960 h 66600"/>
                        </a:gdLst>
                        <a:ahLst/>
                        <a:rect l="textAreaLeft" t="textAreaTop" r="textAreaRight" b="textAreaBottom"/>
                        <a:pathLst>
                          <a:path w="164" h="210">
                            <a:moveTo>
                              <a:pt x="133" y="33"/>
                            </a:moveTo>
                            <a:lnTo>
                              <a:pt x="107" y="6"/>
                            </a:lnTo>
                            <a:lnTo>
                              <a:pt x="89" y="1"/>
                            </a:lnTo>
                            <a:lnTo>
                              <a:pt x="57" y="0"/>
                            </a:lnTo>
                            <a:lnTo>
                              <a:pt x="30" y="16"/>
                            </a:lnTo>
                            <a:lnTo>
                              <a:pt x="15" y="33"/>
                            </a:lnTo>
                            <a:lnTo>
                              <a:pt x="4" y="54"/>
                            </a:lnTo>
                            <a:lnTo>
                              <a:pt x="0" y="78"/>
                            </a:lnTo>
                            <a:lnTo>
                              <a:pt x="1" y="105"/>
                            </a:lnTo>
                            <a:lnTo>
                              <a:pt x="10" y="135"/>
                            </a:lnTo>
                            <a:lnTo>
                              <a:pt x="28" y="159"/>
                            </a:lnTo>
                            <a:lnTo>
                              <a:pt x="48" y="172"/>
                            </a:lnTo>
                            <a:lnTo>
                              <a:pt x="73" y="182"/>
                            </a:lnTo>
                            <a:lnTo>
                              <a:pt x="86" y="201"/>
                            </a:lnTo>
                            <a:lnTo>
                              <a:pt x="99" y="208"/>
                            </a:lnTo>
                            <a:lnTo>
                              <a:pt x="114" y="210"/>
                            </a:lnTo>
                            <a:lnTo>
                              <a:pt x="132" y="206"/>
                            </a:lnTo>
                            <a:lnTo>
                              <a:pt x="151" y="194"/>
                            </a:lnTo>
                            <a:lnTo>
                              <a:pt x="160" y="176"/>
                            </a:lnTo>
                            <a:lnTo>
                              <a:pt x="164" y="150"/>
                            </a:lnTo>
                            <a:lnTo>
                              <a:pt x="154" y="125"/>
                            </a:lnTo>
                            <a:lnTo>
                              <a:pt x="153" y="99"/>
                            </a:lnTo>
                            <a:lnTo>
                              <a:pt x="145" y="63"/>
                            </a:lnTo>
                            <a:lnTo>
                              <a:pt x="133" y="33"/>
                            </a:lnTo>
                            <a:close/>
                          </a:path>
                        </a:pathLst>
                      </a:custGeom>
                      <a:solidFill>
                        <a:srgbClr val="e0a080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160" bIns="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586" name="Freeform 69"/>
                      <p:cNvSpPr/>
                      <p:nvPr/>
                    </p:nvSpPr>
                    <p:spPr>
                      <a:xfrm>
                        <a:off x="595440" y="762120"/>
                        <a:ext cx="52200" cy="65160"/>
                      </a:xfrm>
                      <a:custGeom>
                        <a:avLst/>
                        <a:gdLst>
                          <a:gd name="textAreaLeft" fmla="*/ 0 w 52200"/>
                          <a:gd name="textAreaRight" fmla="*/ 52560 w 52200"/>
                          <a:gd name="textAreaTop" fmla="*/ 0 h 65160"/>
                          <a:gd name="textAreaBottom" fmla="*/ 65520 h 65160"/>
                        </a:gdLst>
                        <a:ahLst/>
                        <a:rect l="textAreaLeft" t="textAreaTop" r="textAreaRight" b="textAreaBottom"/>
                        <a:pathLst>
                          <a:path w="169" h="204">
                            <a:moveTo>
                              <a:pt x="138" y="31"/>
                            </a:moveTo>
                            <a:lnTo>
                              <a:pt x="110" y="6"/>
                            </a:lnTo>
                            <a:lnTo>
                              <a:pt x="92" y="1"/>
                            </a:lnTo>
                            <a:lnTo>
                              <a:pt x="59" y="0"/>
                            </a:lnTo>
                            <a:lnTo>
                              <a:pt x="31" y="13"/>
                            </a:lnTo>
                            <a:lnTo>
                              <a:pt x="15" y="31"/>
                            </a:lnTo>
                            <a:lnTo>
                              <a:pt x="5" y="52"/>
                            </a:lnTo>
                            <a:lnTo>
                              <a:pt x="0" y="75"/>
                            </a:lnTo>
                            <a:lnTo>
                              <a:pt x="1" y="101"/>
                            </a:lnTo>
                            <a:lnTo>
                              <a:pt x="10" y="131"/>
                            </a:lnTo>
                            <a:lnTo>
                              <a:pt x="28" y="155"/>
                            </a:lnTo>
                            <a:lnTo>
                              <a:pt x="50" y="168"/>
                            </a:lnTo>
                            <a:lnTo>
                              <a:pt x="74" y="176"/>
                            </a:lnTo>
                            <a:lnTo>
                              <a:pt x="88" y="195"/>
                            </a:lnTo>
                            <a:lnTo>
                              <a:pt x="101" y="201"/>
                            </a:lnTo>
                            <a:lnTo>
                              <a:pt x="116" y="204"/>
                            </a:lnTo>
                            <a:lnTo>
                              <a:pt x="137" y="198"/>
                            </a:lnTo>
                            <a:lnTo>
                              <a:pt x="156" y="188"/>
                            </a:lnTo>
                            <a:lnTo>
                              <a:pt x="164" y="172"/>
                            </a:lnTo>
                            <a:lnTo>
                              <a:pt x="169" y="145"/>
                            </a:lnTo>
                            <a:lnTo>
                              <a:pt x="159" y="121"/>
                            </a:lnTo>
                            <a:lnTo>
                              <a:pt x="158" y="96"/>
                            </a:lnTo>
                            <a:lnTo>
                              <a:pt x="150" y="62"/>
                            </a:lnTo>
                            <a:lnTo>
                              <a:pt x="138" y="31"/>
                            </a:lnTo>
                            <a:close/>
                          </a:path>
                        </a:pathLst>
                      </a:custGeom>
                      <a:solidFill>
                        <a:srgbClr val="e0a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720" bIns="18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</p:grpSp>
              </p:grpSp>
              <p:grpSp>
                <p:nvGrpSpPr>
                  <p:cNvPr id="587" name="Group 70"/>
                  <p:cNvGrpSpPr/>
                  <p:nvPr/>
                </p:nvGrpSpPr>
                <p:grpSpPr>
                  <a:xfrm>
                    <a:off x="495360" y="822240"/>
                    <a:ext cx="384120" cy="338400"/>
                    <a:chOff x="495360" y="822240"/>
                    <a:chExt cx="384120" cy="338400"/>
                  </a:xfrm>
                </p:grpSpPr>
                <p:sp>
                  <p:nvSpPr>
                    <p:cNvPr id="588" name="Freeform 71"/>
                    <p:cNvSpPr/>
                    <p:nvPr/>
                  </p:nvSpPr>
                  <p:spPr>
                    <a:xfrm>
                      <a:off x="495360" y="822240"/>
                      <a:ext cx="309600" cy="306360"/>
                    </a:xfrm>
                    <a:custGeom>
                      <a:avLst/>
                      <a:gdLst>
                        <a:gd name="textAreaLeft" fmla="*/ 0 w 309600"/>
                        <a:gd name="textAreaRight" fmla="*/ 309960 w 309600"/>
                        <a:gd name="textAreaTop" fmla="*/ 0 h 306360"/>
                        <a:gd name="textAreaBottom" fmla="*/ 306720 h 306360"/>
                      </a:gdLst>
                      <a:ahLst/>
                      <a:rect l="textAreaLeft" t="textAreaTop" r="textAreaRight" b="textAreaBottom"/>
                      <a:pathLst>
                        <a:path w="975" h="967">
                          <a:moveTo>
                            <a:pt x="265" y="0"/>
                          </a:moveTo>
                          <a:lnTo>
                            <a:pt x="327" y="42"/>
                          </a:lnTo>
                          <a:lnTo>
                            <a:pt x="390" y="83"/>
                          </a:lnTo>
                          <a:lnTo>
                            <a:pt x="446" y="109"/>
                          </a:lnTo>
                          <a:lnTo>
                            <a:pt x="634" y="187"/>
                          </a:lnTo>
                          <a:lnTo>
                            <a:pt x="662" y="306"/>
                          </a:lnTo>
                          <a:lnTo>
                            <a:pt x="686" y="368"/>
                          </a:lnTo>
                          <a:lnTo>
                            <a:pt x="707" y="413"/>
                          </a:lnTo>
                          <a:lnTo>
                            <a:pt x="722" y="459"/>
                          </a:lnTo>
                          <a:lnTo>
                            <a:pt x="732" y="506"/>
                          </a:lnTo>
                          <a:lnTo>
                            <a:pt x="731" y="535"/>
                          </a:lnTo>
                          <a:lnTo>
                            <a:pt x="724" y="570"/>
                          </a:lnTo>
                          <a:lnTo>
                            <a:pt x="728" y="611"/>
                          </a:lnTo>
                          <a:lnTo>
                            <a:pt x="744" y="654"/>
                          </a:lnTo>
                          <a:lnTo>
                            <a:pt x="783" y="670"/>
                          </a:lnTo>
                          <a:lnTo>
                            <a:pt x="843" y="685"/>
                          </a:lnTo>
                          <a:lnTo>
                            <a:pt x="884" y="698"/>
                          </a:lnTo>
                          <a:lnTo>
                            <a:pt x="925" y="730"/>
                          </a:lnTo>
                          <a:lnTo>
                            <a:pt x="951" y="764"/>
                          </a:lnTo>
                          <a:lnTo>
                            <a:pt x="968" y="807"/>
                          </a:lnTo>
                          <a:lnTo>
                            <a:pt x="975" y="856"/>
                          </a:lnTo>
                          <a:lnTo>
                            <a:pt x="965" y="930"/>
                          </a:lnTo>
                          <a:lnTo>
                            <a:pt x="232" y="967"/>
                          </a:lnTo>
                          <a:lnTo>
                            <a:pt x="97" y="964"/>
                          </a:lnTo>
                          <a:lnTo>
                            <a:pt x="71" y="930"/>
                          </a:lnTo>
                          <a:lnTo>
                            <a:pt x="46" y="875"/>
                          </a:lnTo>
                          <a:lnTo>
                            <a:pt x="25" y="814"/>
                          </a:lnTo>
                          <a:lnTo>
                            <a:pt x="13" y="763"/>
                          </a:lnTo>
                          <a:lnTo>
                            <a:pt x="4" y="708"/>
                          </a:lnTo>
                          <a:lnTo>
                            <a:pt x="0" y="657"/>
                          </a:lnTo>
                          <a:lnTo>
                            <a:pt x="10" y="573"/>
                          </a:lnTo>
                          <a:lnTo>
                            <a:pt x="25" y="506"/>
                          </a:lnTo>
                          <a:lnTo>
                            <a:pt x="48" y="432"/>
                          </a:lnTo>
                          <a:lnTo>
                            <a:pt x="74" y="361"/>
                          </a:lnTo>
                          <a:lnTo>
                            <a:pt x="104" y="304"/>
                          </a:lnTo>
                          <a:lnTo>
                            <a:pt x="143" y="240"/>
                          </a:lnTo>
                          <a:lnTo>
                            <a:pt x="192" y="187"/>
                          </a:lnTo>
                          <a:lnTo>
                            <a:pt x="237" y="142"/>
                          </a:lnTo>
                          <a:lnTo>
                            <a:pt x="269" y="119"/>
                          </a:lnTo>
                          <a:lnTo>
                            <a:pt x="195" y="83"/>
                          </a:lnTo>
                          <a:lnTo>
                            <a:pt x="265" y="0"/>
                          </a:lnTo>
                          <a:close/>
                        </a:path>
                      </a:pathLst>
                    </a:custGeom>
                    <a:solidFill>
                      <a:srgbClr val="ff60c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89" name="Freeform 72"/>
                    <p:cNvSpPr/>
                    <p:nvPr/>
                  </p:nvSpPr>
                  <p:spPr>
                    <a:xfrm>
                      <a:off x="701640" y="984240"/>
                      <a:ext cx="87480" cy="112680"/>
                    </a:xfrm>
                    <a:custGeom>
                      <a:avLst/>
                      <a:gdLst>
                        <a:gd name="textAreaLeft" fmla="*/ 0 w 87480"/>
                        <a:gd name="textAreaRight" fmla="*/ 87840 w 87480"/>
                        <a:gd name="textAreaTop" fmla="*/ 0 h 112680"/>
                        <a:gd name="textAreaBottom" fmla="*/ 113040 h 112680"/>
                      </a:gdLst>
                      <a:ahLst/>
                      <a:rect l="textAreaLeft" t="textAreaTop" r="textAreaRight" b="textAreaBottom"/>
                      <a:pathLst>
                        <a:path w="273" h="354">
                          <a:moveTo>
                            <a:pt x="0" y="0"/>
                          </a:moveTo>
                          <a:lnTo>
                            <a:pt x="10" y="67"/>
                          </a:lnTo>
                          <a:lnTo>
                            <a:pt x="21" y="120"/>
                          </a:lnTo>
                          <a:lnTo>
                            <a:pt x="43" y="162"/>
                          </a:lnTo>
                          <a:lnTo>
                            <a:pt x="60" y="186"/>
                          </a:lnTo>
                          <a:lnTo>
                            <a:pt x="94" y="205"/>
                          </a:lnTo>
                          <a:lnTo>
                            <a:pt x="154" y="227"/>
                          </a:lnTo>
                          <a:lnTo>
                            <a:pt x="206" y="248"/>
                          </a:lnTo>
                          <a:lnTo>
                            <a:pt x="231" y="259"/>
                          </a:lnTo>
                          <a:lnTo>
                            <a:pt x="253" y="283"/>
                          </a:lnTo>
                          <a:lnTo>
                            <a:pt x="266" y="315"/>
                          </a:lnTo>
                          <a:lnTo>
                            <a:pt x="273" y="354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90" name="Freeform 73"/>
                    <p:cNvSpPr/>
                    <p:nvPr/>
                  </p:nvSpPr>
                  <p:spPr>
                    <a:xfrm>
                      <a:off x="579600" y="862200"/>
                      <a:ext cx="126720" cy="123840"/>
                    </a:xfrm>
                    <a:custGeom>
                      <a:avLst/>
                      <a:gdLst>
                        <a:gd name="textAreaLeft" fmla="*/ 0 w 126720"/>
                        <a:gd name="textAreaRight" fmla="*/ 127080 w 126720"/>
                        <a:gd name="textAreaTop" fmla="*/ 0 h 123840"/>
                        <a:gd name="textAreaBottom" fmla="*/ 124200 h 123840"/>
                      </a:gdLst>
                      <a:ahLst/>
                      <a:rect l="textAreaLeft" t="textAreaTop" r="textAreaRight" b="textAreaBottom"/>
                      <a:pathLst>
                        <a:path w="401" h="390">
                          <a:moveTo>
                            <a:pt x="0" y="7"/>
                          </a:moveTo>
                          <a:lnTo>
                            <a:pt x="13" y="0"/>
                          </a:lnTo>
                          <a:lnTo>
                            <a:pt x="55" y="31"/>
                          </a:lnTo>
                          <a:lnTo>
                            <a:pt x="109" y="63"/>
                          </a:lnTo>
                          <a:lnTo>
                            <a:pt x="153" y="83"/>
                          </a:lnTo>
                          <a:lnTo>
                            <a:pt x="199" y="108"/>
                          </a:lnTo>
                          <a:lnTo>
                            <a:pt x="263" y="141"/>
                          </a:lnTo>
                          <a:lnTo>
                            <a:pt x="302" y="202"/>
                          </a:lnTo>
                          <a:lnTo>
                            <a:pt x="333" y="311"/>
                          </a:lnTo>
                          <a:lnTo>
                            <a:pt x="362" y="222"/>
                          </a:lnTo>
                          <a:lnTo>
                            <a:pt x="385" y="163"/>
                          </a:lnTo>
                          <a:lnTo>
                            <a:pt x="381" y="128"/>
                          </a:lnTo>
                          <a:lnTo>
                            <a:pt x="394" y="182"/>
                          </a:lnTo>
                          <a:lnTo>
                            <a:pt x="401" y="210"/>
                          </a:lnTo>
                          <a:lnTo>
                            <a:pt x="388" y="235"/>
                          </a:lnTo>
                          <a:lnTo>
                            <a:pt x="369" y="282"/>
                          </a:lnTo>
                          <a:lnTo>
                            <a:pt x="346" y="339"/>
                          </a:lnTo>
                          <a:lnTo>
                            <a:pt x="327" y="390"/>
                          </a:lnTo>
                          <a:lnTo>
                            <a:pt x="302" y="304"/>
                          </a:lnTo>
                          <a:lnTo>
                            <a:pt x="280" y="244"/>
                          </a:lnTo>
                          <a:lnTo>
                            <a:pt x="266" y="186"/>
                          </a:lnTo>
                          <a:lnTo>
                            <a:pt x="202" y="128"/>
                          </a:lnTo>
                          <a:lnTo>
                            <a:pt x="90" y="69"/>
                          </a:lnTo>
                          <a:lnTo>
                            <a:pt x="0" y="7"/>
                          </a:lnTo>
                          <a:close/>
                        </a:path>
                      </a:pathLst>
                    </a:custGeom>
                    <a:solidFill>
                      <a:srgbClr val="e040a0"/>
                    </a:solidFill>
                    <a:ln w="3240">
                      <a:solidFill>
                        <a:srgbClr val="e040a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91" name="Freeform 74"/>
                    <p:cNvSpPr/>
                    <p:nvPr/>
                  </p:nvSpPr>
                  <p:spPr>
                    <a:xfrm>
                      <a:off x="585720" y="927000"/>
                      <a:ext cx="54000" cy="103320"/>
                    </a:xfrm>
                    <a:custGeom>
                      <a:avLst/>
                      <a:gdLst>
                        <a:gd name="textAreaLeft" fmla="*/ 0 w 54000"/>
                        <a:gd name="textAreaRight" fmla="*/ 54360 w 54000"/>
                        <a:gd name="textAreaTop" fmla="*/ 0 h 103320"/>
                        <a:gd name="textAreaBottom" fmla="*/ 103680 h 103320"/>
                      </a:gdLst>
                      <a:ahLst/>
                      <a:rect l="textAreaLeft" t="textAreaTop" r="textAreaRight" b="textAreaBottom"/>
                      <a:pathLst>
                        <a:path w="169" h="327">
                          <a:moveTo>
                            <a:pt x="88" y="262"/>
                          </a:moveTo>
                          <a:lnTo>
                            <a:pt x="45" y="220"/>
                          </a:lnTo>
                          <a:lnTo>
                            <a:pt x="31" y="178"/>
                          </a:lnTo>
                          <a:lnTo>
                            <a:pt x="25" y="133"/>
                          </a:lnTo>
                          <a:lnTo>
                            <a:pt x="19" y="73"/>
                          </a:lnTo>
                          <a:lnTo>
                            <a:pt x="43" y="53"/>
                          </a:lnTo>
                          <a:lnTo>
                            <a:pt x="53" y="98"/>
                          </a:lnTo>
                          <a:lnTo>
                            <a:pt x="73" y="119"/>
                          </a:lnTo>
                          <a:lnTo>
                            <a:pt x="81" y="168"/>
                          </a:lnTo>
                          <a:lnTo>
                            <a:pt x="94" y="205"/>
                          </a:lnTo>
                          <a:lnTo>
                            <a:pt x="124" y="237"/>
                          </a:lnTo>
                          <a:lnTo>
                            <a:pt x="147" y="276"/>
                          </a:lnTo>
                          <a:lnTo>
                            <a:pt x="169" y="327"/>
                          </a:lnTo>
                          <a:lnTo>
                            <a:pt x="166" y="283"/>
                          </a:lnTo>
                          <a:lnTo>
                            <a:pt x="160" y="248"/>
                          </a:lnTo>
                          <a:lnTo>
                            <a:pt x="131" y="219"/>
                          </a:lnTo>
                          <a:lnTo>
                            <a:pt x="111" y="181"/>
                          </a:lnTo>
                          <a:lnTo>
                            <a:pt x="95" y="139"/>
                          </a:lnTo>
                          <a:lnTo>
                            <a:pt x="83" y="101"/>
                          </a:lnTo>
                          <a:lnTo>
                            <a:pt x="66" y="73"/>
                          </a:lnTo>
                          <a:lnTo>
                            <a:pt x="61" y="35"/>
                          </a:lnTo>
                          <a:lnTo>
                            <a:pt x="51" y="15"/>
                          </a:lnTo>
                          <a:lnTo>
                            <a:pt x="39" y="0"/>
                          </a:lnTo>
                          <a:lnTo>
                            <a:pt x="18" y="37"/>
                          </a:lnTo>
                          <a:lnTo>
                            <a:pt x="0" y="88"/>
                          </a:lnTo>
                          <a:lnTo>
                            <a:pt x="13" y="98"/>
                          </a:lnTo>
                          <a:lnTo>
                            <a:pt x="13" y="136"/>
                          </a:lnTo>
                          <a:lnTo>
                            <a:pt x="21" y="184"/>
                          </a:lnTo>
                          <a:lnTo>
                            <a:pt x="32" y="219"/>
                          </a:lnTo>
                          <a:lnTo>
                            <a:pt x="53" y="242"/>
                          </a:lnTo>
                          <a:lnTo>
                            <a:pt x="88" y="262"/>
                          </a:lnTo>
                          <a:close/>
                        </a:path>
                      </a:pathLst>
                    </a:custGeom>
                    <a:solidFill>
                      <a:srgbClr val="e040a0"/>
                    </a:solidFill>
                    <a:ln w="3240">
                      <a:solidFill>
                        <a:srgbClr val="e040a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92" name="Freeform 75"/>
                    <p:cNvSpPr/>
                    <p:nvPr/>
                  </p:nvSpPr>
                  <p:spPr>
                    <a:xfrm>
                      <a:off x="503280" y="984240"/>
                      <a:ext cx="30240" cy="71640"/>
                    </a:xfrm>
                    <a:custGeom>
                      <a:avLst/>
                      <a:gdLst>
                        <a:gd name="textAreaLeft" fmla="*/ 0 w 30240"/>
                        <a:gd name="textAreaRight" fmla="*/ 30600 w 30240"/>
                        <a:gd name="textAreaTop" fmla="*/ 0 h 71640"/>
                        <a:gd name="textAreaBottom" fmla="*/ 72000 h 71640"/>
                      </a:gdLst>
                      <a:ahLst/>
                      <a:rect l="textAreaLeft" t="textAreaTop" r="textAreaRight" b="textAreaBottom"/>
                      <a:pathLst>
                        <a:path w="95" h="223">
                          <a:moveTo>
                            <a:pt x="95" y="223"/>
                          </a:moveTo>
                          <a:lnTo>
                            <a:pt x="70" y="214"/>
                          </a:lnTo>
                          <a:lnTo>
                            <a:pt x="46" y="189"/>
                          </a:lnTo>
                          <a:lnTo>
                            <a:pt x="35" y="172"/>
                          </a:lnTo>
                          <a:lnTo>
                            <a:pt x="24" y="131"/>
                          </a:lnTo>
                          <a:lnTo>
                            <a:pt x="18" y="103"/>
                          </a:lnTo>
                          <a:lnTo>
                            <a:pt x="5" y="75"/>
                          </a:lnTo>
                          <a:lnTo>
                            <a:pt x="0" y="44"/>
                          </a:lnTo>
                          <a:lnTo>
                            <a:pt x="9" y="23"/>
                          </a:lnTo>
                          <a:lnTo>
                            <a:pt x="33" y="0"/>
                          </a:lnTo>
                          <a:lnTo>
                            <a:pt x="9" y="22"/>
                          </a:lnTo>
                          <a:lnTo>
                            <a:pt x="3" y="45"/>
                          </a:lnTo>
                          <a:lnTo>
                            <a:pt x="4" y="74"/>
                          </a:lnTo>
                          <a:lnTo>
                            <a:pt x="16" y="99"/>
                          </a:lnTo>
                          <a:lnTo>
                            <a:pt x="28" y="140"/>
                          </a:lnTo>
                          <a:lnTo>
                            <a:pt x="34" y="164"/>
                          </a:lnTo>
                          <a:lnTo>
                            <a:pt x="46" y="191"/>
                          </a:lnTo>
                          <a:lnTo>
                            <a:pt x="72" y="213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0" bIns="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93" name="Freeform 76"/>
                    <p:cNvSpPr/>
                    <p:nvPr/>
                  </p:nvSpPr>
                  <p:spPr>
                    <a:xfrm>
                      <a:off x="506520" y="984240"/>
                      <a:ext cx="30240" cy="71640"/>
                    </a:xfrm>
                    <a:custGeom>
                      <a:avLst/>
                      <a:gdLst>
                        <a:gd name="textAreaLeft" fmla="*/ 0 w 30240"/>
                        <a:gd name="textAreaRight" fmla="*/ 30600 w 30240"/>
                        <a:gd name="textAreaTop" fmla="*/ 0 h 71640"/>
                        <a:gd name="textAreaBottom" fmla="*/ 72000 h 71640"/>
                      </a:gdLst>
                      <a:ahLst/>
                      <a:rect l="textAreaLeft" t="textAreaTop" r="textAreaRight" b="textAreaBottom"/>
                      <a:pathLst>
                        <a:path w="92" h="223">
                          <a:moveTo>
                            <a:pt x="92" y="223"/>
                          </a:moveTo>
                          <a:lnTo>
                            <a:pt x="58" y="194"/>
                          </a:lnTo>
                          <a:lnTo>
                            <a:pt x="42" y="169"/>
                          </a:lnTo>
                          <a:lnTo>
                            <a:pt x="36" y="145"/>
                          </a:lnTo>
                          <a:lnTo>
                            <a:pt x="22" y="101"/>
                          </a:lnTo>
                          <a:lnTo>
                            <a:pt x="13" y="73"/>
                          </a:lnTo>
                          <a:lnTo>
                            <a:pt x="8" y="51"/>
                          </a:lnTo>
                          <a:lnTo>
                            <a:pt x="15" y="26"/>
                          </a:lnTo>
                          <a:lnTo>
                            <a:pt x="31" y="0"/>
                          </a:lnTo>
                          <a:lnTo>
                            <a:pt x="7" y="22"/>
                          </a:lnTo>
                          <a:lnTo>
                            <a:pt x="0" y="45"/>
                          </a:lnTo>
                          <a:lnTo>
                            <a:pt x="1" y="74"/>
                          </a:lnTo>
                          <a:lnTo>
                            <a:pt x="13" y="99"/>
                          </a:lnTo>
                          <a:lnTo>
                            <a:pt x="25" y="140"/>
                          </a:lnTo>
                          <a:lnTo>
                            <a:pt x="32" y="164"/>
                          </a:lnTo>
                          <a:lnTo>
                            <a:pt x="44" y="191"/>
                          </a:lnTo>
                          <a:lnTo>
                            <a:pt x="70" y="213"/>
                          </a:lnTo>
                          <a:lnTo>
                            <a:pt x="92" y="223"/>
                          </a:lnTo>
                          <a:close/>
                        </a:path>
                      </a:pathLst>
                    </a:custGeom>
                    <a:solidFill>
                      <a:srgbClr val="e040a0"/>
                    </a:solidFill>
                    <a:ln w="3240">
                      <a:solidFill>
                        <a:srgbClr val="e040a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0" bIns="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594" name="Group 77"/>
                    <p:cNvGrpSpPr/>
                    <p:nvPr/>
                  </p:nvGrpSpPr>
                  <p:grpSpPr>
                    <a:xfrm>
                      <a:off x="557280" y="1044720"/>
                      <a:ext cx="322200" cy="115920"/>
                      <a:chOff x="557280" y="1044720"/>
                      <a:chExt cx="322200" cy="115920"/>
                    </a:xfrm>
                  </p:grpSpPr>
                  <p:sp>
                    <p:nvSpPr>
                      <p:cNvPr id="595" name="Freeform 78"/>
                      <p:cNvSpPr/>
                      <p:nvPr/>
                    </p:nvSpPr>
                    <p:spPr>
                      <a:xfrm>
                        <a:off x="557280" y="1044720"/>
                        <a:ext cx="320760" cy="115920"/>
                      </a:xfrm>
                      <a:custGeom>
                        <a:avLst/>
                        <a:gdLst>
                          <a:gd name="textAreaLeft" fmla="*/ 0 w 320760"/>
                          <a:gd name="textAreaRight" fmla="*/ 321120 w 320760"/>
                          <a:gd name="textAreaTop" fmla="*/ 0 h 115920"/>
                          <a:gd name="textAreaBottom" fmla="*/ 116280 h 115920"/>
                        </a:gdLst>
                        <a:ahLst/>
                        <a:rect l="textAreaLeft" t="textAreaTop" r="textAreaRight" b="textAreaBottom"/>
                        <a:pathLst>
                          <a:path w="1011" h="367">
                            <a:moveTo>
                              <a:pt x="243" y="0"/>
                            </a:moveTo>
                            <a:lnTo>
                              <a:pt x="259" y="39"/>
                            </a:lnTo>
                            <a:lnTo>
                              <a:pt x="297" y="89"/>
                            </a:lnTo>
                            <a:lnTo>
                              <a:pt x="361" y="125"/>
                            </a:lnTo>
                            <a:lnTo>
                              <a:pt x="451" y="150"/>
                            </a:lnTo>
                            <a:lnTo>
                              <a:pt x="554" y="173"/>
                            </a:lnTo>
                            <a:lnTo>
                              <a:pt x="637" y="176"/>
                            </a:lnTo>
                            <a:lnTo>
                              <a:pt x="723" y="173"/>
                            </a:lnTo>
                            <a:lnTo>
                              <a:pt x="740" y="163"/>
                            </a:lnTo>
                            <a:lnTo>
                              <a:pt x="764" y="135"/>
                            </a:lnTo>
                            <a:lnTo>
                              <a:pt x="784" y="113"/>
                            </a:lnTo>
                            <a:lnTo>
                              <a:pt x="812" y="95"/>
                            </a:lnTo>
                            <a:lnTo>
                              <a:pt x="821" y="73"/>
                            </a:lnTo>
                            <a:lnTo>
                              <a:pt x="835" y="54"/>
                            </a:lnTo>
                            <a:lnTo>
                              <a:pt x="855" y="45"/>
                            </a:lnTo>
                            <a:lnTo>
                              <a:pt x="879" y="36"/>
                            </a:lnTo>
                            <a:lnTo>
                              <a:pt x="915" y="33"/>
                            </a:lnTo>
                            <a:lnTo>
                              <a:pt x="952" y="41"/>
                            </a:lnTo>
                            <a:lnTo>
                              <a:pt x="984" y="57"/>
                            </a:lnTo>
                            <a:lnTo>
                              <a:pt x="1002" y="76"/>
                            </a:lnTo>
                            <a:lnTo>
                              <a:pt x="1009" y="102"/>
                            </a:lnTo>
                            <a:lnTo>
                              <a:pt x="996" y="154"/>
                            </a:lnTo>
                            <a:lnTo>
                              <a:pt x="1008" y="174"/>
                            </a:lnTo>
                            <a:lnTo>
                              <a:pt x="1011" y="198"/>
                            </a:lnTo>
                            <a:lnTo>
                              <a:pt x="1004" y="216"/>
                            </a:lnTo>
                            <a:lnTo>
                              <a:pt x="985" y="237"/>
                            </a:lnTo>
                            <a:lnTo>
                              <a:pt x="973" y="252"/>
                            </a:lnTo>
                            <a:lnTo>
                              <a:pt x="983" y="273"/>
                            </a:lnTo>
                            <a:lnTo>
                              <a:pt x="980" y="296"/>
                            </a:lnTo>
                            <a:lnTo>
                              <a:pt x="969" y="312"/>
                            </a:lnTo>
                            <a:lnTo>
                              <a:pt x="959" y="327"/>
                            </a:lnTo>
                            <a:lnTo>
                              <a:pt x="953" y="353"/>
                            </a:lnTo>
                            <a:lnTo>
                              <a:pt x="942" y="364"/>
                            </a:lnTo>
                            <a:lnTo>
                              <a:pt x="912" y="367"/>
                            </a:lnTo>
                            <a:lnTo>
                              <a:pt x="869" y="366"/>
                            </a:lnTo>
                            <a:lnTo>
                              <a:pt x="830" y="358"/>
                            </a:lnTo>
                            <a:lnTo>
                              <a:pt x="784" y="345"/>
                            </a:lnTo>
                            <a:lnTo>
                              <a:pt x="754" y="329"/>
                            </a:lnTo>
                            <a:lnTo>
                              <a:pt x="733" y="316"/>
                            </a:lnTo>
                            <a:lnTo>
                              <a:pt x="659" y="326"/>
                            </a:lnTo>
                            <a:lnTo>
                              <a:pt x="560" y="339"/>
                            </a:lnTo>
                            <a:lnTo>
                              <a:pt x="486" y="345"/>
                            </a:lnTo>
                            <a:lnTo>
                              <a:pt x="411" y="345"/>
                            </a:lnTo>
                            <a:lnTo>
                              <a:pt x="314" y="342"/>
                            </a:lnTo>
                            <a:lnTo>
                              <a:pt x="255" y="333"/>
                            </a:lnTo>
                            <a:lnTo>
                              <a:pt x="153" y="294"/>
                            </a:lnTo>
                            <a:lnTo>
                              <a:pt x="89" y="259"/>
                            </a:lnTo>
                            <a:lnTo>
                              <a:pt x="51" y="205"/>
                            </a:lnTo>
                            <a:lnTo>
                              <a:pt x="25" y="184"/>
                            </a:lnTo>
                            <a:lnTo>
                              <a:pt x="0" y="129"/>
                            </a:lnTo>
                            <a:lnTo>
                              <a:pt x="45" y="98"/>
                            </a:lnTo>
                            <a:lnTo>
                              <a:pt x="107" y="87"/>
                            </a:lnTo>
                            <a:lnTo>
                              <a:pt x="177" y="26"/>
                            </a:lnTo>
                            <a:lnTo>
                              <a:pt x="217" y="15"/>
                            </a:lnTo>
                            <a:lnTo>
                              <a:pt x="243" y="0"/>
                            </a:lnTo>
                            <a:close/>
                          </a:path>
                        </a:pathLst>
                      </a:custGeom>
                      <a:solidFill>
                        <a:srgbClr val="e0a080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596" name="Freeform 79"/>
                      <p:cNvSpPr/>
                      <p:nvPr/>
                    </p:nvSpPr>
                    <p:spPr>
                      <a:xfrm>
                        <a:off x="831960" y="1066680"/>
                        <a:ext cx="7920" cy="27000"/>
                      </a:xfrm>
                      <a:custGeom>
                        <a:avLst/>
                        <a:gdLst>
                          <a:gd name="textAreaLeft" fmla="*/ 0 w 7920"/>
                          <a:gd name="textAreaRight" fmla="*/ 8280 w 7920"/>
                          <a:gd name="textAreaTop" fmla="*/ 0 h 27000"/>
                          <a:gd name="textAreaBottom" fmla="*/ 27360 h 27000"/>
                        </a:gdLst>
                        <a:ahLst/>
                        <a:rect l="textAreaLeft" t="textAreaTop" r="textAreaRight" b="textAreaBottom"/>
                        <a:pathLst>
                          <a:path w="23" h="85">
                            <a:moveTo>
                              <a:pt x="23" y="0"/>
                            </a:moveTo>
                            <a:lnTo>
                              <a:pt x="12" y="3"/>
                            </a:lnTo>
                            <a:lnTo>
                              <a:pt x="4" y="15"/>
                            </a:lnTo>
                            <a:lnTo>
                              <a:pt x="0" y="27"/>
                            </a:lnTo>
                            <a:lnTo>
                              <a:pt x="0" y="38"/>
                            </a:lnTo>
                            <a:lnTo>
                              <a:pt x="5" y="62"/>
                            </a:lnTo>
                            <a:lnTo>
                              <a:pt x="4" y="85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597" name="Freeform 80"/>
                      <p:cNvSpPr/>
                      <p:nvPr/>
                    </p:nvSpPr>
                    <p:spPr>
                      <a:xfrm>
                        <a:off x="866880" y="1100160"/>
                        <a:ext cx="12600" cy="4680"/>
                      </a:xfrm>
                      <a:custGeom>
                        <a:avLst/>
                        <a:gdLst>
                          <a:gd name="textAreaLeft" fmla="*/ 0 w 12600"/>
                          <a:gd name="textAreaRight" fmla="*/ 12960 w 12600"/>
                          <a:gd name="textAreaTop" fmla="*/ 0 h 4680"/>
                          <a:gd name="textAreaBottom" fmla="*/ 5040 h 4680"/>
                        </a:gdLst>
                        <a:ahLst/>
                        <a:rect l="textAreaLeft" t="textAreaTop" r="textAreaRight" b="textAreaBottom"/>
                        <a:pathLst>
                          <a:path w="42" h="12">
                            <a:moveTo>
                              <a:pt x="42" y="6"/>
                            </a:moveTo>
                            <a:lnTo>
                              <a:pt x="28" y="12"/>
                            </a:lnTo>
                            <a:lnTo>
                              <a:pt x="10" y="9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598" name="Freeform 81"/>
                      <p:cNvSpPr/>
                      <p:nvPr/>
                    </p:nvSpPr>
                    <p:spPr>
                      <a:xfrm>
                        <a:off x="858960" y="1131840"/>
                        <a:ext cx="14040" cy="5040"/>
                      </a:xfrm>
                      <a:custGeom>
                        <a:avLst/>
                        <a:gdLst>
                          <a:gd name="textAreaLeft" fmla="*/ 0 w 14040"/>
                          <a:gd name="textAreaRight" fmla="*/ 14400 w 14040"/>
                          <a:gd name="textAreaTop" fmla="*/ 0 h 5040"/>
                          <a:gd name="textAreaBottom" fmla="*/ 5400 h 5040"/>
                        </a:gdLst>
                        <a:ahLst/>
                        <a:rect l="textAreaLeft" t="textAreaTop" r="textAreaRight" b="textAreaBottom"/>
                        <a:pathLst>
                          <a:path w="45" h="14">
                            <a:moveTo>
                              <a:pt x="45" y="0"/>
                            </a:moveTo>
                            <a:lnTo>
                              <a:pt x="40" y="11"/>
                            </a:lnTo>
                            <a:lnTo>
                              <a:pt x="26" y="14"/>
                            </a:lnTo>
                            <a:lnTo>
                              <a:pt x="13" y="10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599" name="Freeform 82"/>
                      <p:cNvSpPr/>
                      <p:nvPr/>
                    </p:nvSpPr>
                    <p:spPr>
                      <a:xfrm>
                        <a:off x="774720" y="1109880"/>
                        <a:ext cx="19080" cy="34920"/>
                      </a:xfrm>
                      <a:custGeom>
                        <a:avLst/>
                        <a:gdLst>
                          <a:gd name="textAreaLeft" fmla="*/ 0 w 19080"/>
                          <a:gd name="textAreaRight" fmla="*/ 19440 w 19080"/>
                          <a:gd name="textAreaTop" fmla="*/ 0 h 34920"/>
                          <a:gd name="textAreaBottom" fmla="*/ 35280 h 34920"/>
                        </a:gdLst>
                        <a:ahLst/>
                        <a:rect l="textAreaLeft" t="textAreaTop" r="textAreaRight" b="textAreaBottom"/>
                        <a:pathLst>
                          <a:path w="57" h="109">
                            <a:moveTo>
                              <a:pt x="0" y="0"/>
                            </a:moveTo>
                            <a:lnTo>
                              <a:pt x="18" y="15"/>
                            </a:lnTo>
                            <a:lnTo>
                              <a:pt x="39" y="39"/>
                            </a:lnTo>
                            <a:lnTo>
                              <a:pt x="48" y="67"/>
                            </a:lnTo>
                            <a:lnTo>
                              <a:pt x="57" y="84"/>
                            </a:lnTo>
                            <a:lnTo>
                              <a:pt x="48" y="109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520" bIns="-115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600" name="Freeform 83"/>
                      <p:cNvSpPr/>
                      <p:nvPr/>
                    </p:nvSpPr>
                    <p:spPr>
                      <a:xfrm>
                        <a:off x="833400" y="1089000"/>
                        <a:ext cx="19080" cy="9720"/>
                      </a:xfrm>
                      <a:custGeom>
                        <a:avLst/>
                        <a:gdLst>
                          <a:gd name="textAreaLeft" fmla="*/ 0 w 19080"/>
                          <a:gd name="textAreaRight" fmla="*/ 19440 w 19080"/>
                          <a:gd name="textAreaTop" fmla="*/ 0 h 9720"/>
                          <a:gd name="textAreaBottom" fmla="*/ 10080 h 9720"/>
                        </a:gdLst>
                        <a:ahLst/>
                        <a:rect l="textAreaLeft" t="textAreaTop" r="textAreaRight" b="textAreaBottom"/>
                        <a:pathLst>
                          <a:path w="59" h="30">
                            <a:moveTo>
                              <a:pt x="0" y="30"/>
                            </a:moveTo>
                            <a:lnTo>
                              <a:pt x="11" y="16"/>
                            </a:lnTo>
                            <a:lnTo>
                              <a:pt x="24" y="6"/>
                            </a:lnTo>
                            <a:lnTo>
                              <a:pt x="38" y="0"/>
                            </a:lnTo>
                            <a:lnTo>
                              <a:pt x="59" y="2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601" name="Freeform 84"/>
                      <p:cNvSpPr/>
                      <p:nvPr/>
                    </p:nvSpPr>
                    <p:spPr>
                      <a:xfrm>
                        <a:off x="849240" y="1077840"/>
                        <a:ext cx="11160" cy="11160"/>
                      </a:xfrm>
                      <a:custGeom>
                        <a:avLst/>
                        <a:gdLst>
                          <a:gd name="textAreaLeft" fmla="*/ 0 w 11160"/>
                          <a:gd name="textAreaRight" fmla="*/ 11520 w 11160"/>
                          <a:gd name="textAreaTop" fmla="*/ 0 h 11160"/>
                          <a:gd name="textAreaBottom" fmla="*/ 11520 h 11160"/>
                        </a:gdLst>
                        <a:ahLst/>
                        <a:rect l="textAreaLeft" t="textAreaTop" r="textAreaRight" b="textAreaBottom"/>
                        <a:pathLst>
                          <a:path w="38" h="31">
                            <a:moveTo>
                              <a:pt x="38" y="0"/>
                            </a:moveTo>
                            <a:lnTo>
                              <a:pt x="26" y="0"/>
                            </a:lnTo>
                            <a:lnTo>
                              <a:pt x="16" y="5"/>
                            </a:lnTo>
                            <a:lnTo>
                              <a:pt x="9" y="11"/>
                            </a:lnTo>
                            <a:lnTo>
                              <a:pt x="2" y="20"/>
                            </a:lnTo>
                            <a:lnTo>
                              <a:pt x="0" y="31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602" name="Freeform 85"/>
                      <p:cNvSpPr/>
                      <p:nvPr/>
                    </p:nvSpPr>
                    <p:spPr>
                      <a:xfrm>
                        <a:off x="847800" y="1065240"/>
                        <a:ext cx="4680" cy="14400"/>
                      </a:xfrm>
                      <a:custGeom>
                        <a:avLst/>
                        <a:gdLst>
                          <a:gd name="textAreaLeft" fmla="*/ 0 w 4680"/>
                          <a:gd name="textAreaRight" fmla="*/ 5040 w 4680"/>
                          <a:gd name="textAreaTop" fmla="*/ 0 h 14400"/>
                          <a:gd name="textAreaBottom" fmla="*/ 14760 h 14400"/>
                        </a:gdLst>
                        <a:ahLst/>
                        <a:rect l="textAreaLeft" t="textAreaTop" r="textAreaRight" b="textAreaBottom"/>
                        <a:pathLst>
                          <a:path w="15" h="45">
                            <a:moveTo>
                              <a:pt x="15" y="0"/>
                            </a:moveTo>
                            <a:lnTo>
                              <a:pt x="8" y="6"/>
                            </a:lnTo>
                            <a:lnTo>
                              <a:pt x="3" y="19"/>
                            </a:lnTo>
                            <a:lnTo>
                              <a:pt x="0" y="32"/>
                            </a:lnTo>
                            <a:lnTo>
                              <a:pt x="0" y="45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603" name="Freeform 86"/>
                      <p:cNvSpPr/>
                      <p:nvPr/>
                    </p:nvSpPr>
                    <p:spPr>
                      <a:xfrm>
                        <a:off x="838080" y="1071720"/>
                        <a:ext cx="9720" cy="7920"/>
                      </a:xfrm>
                      <a:custGeom>
                        <a:avLst/>
                        <a:gdLst>
                          <a:gd name="textAreaLeft" fmla="*/ 0 w 9720"/>
                          <a:gd name="textAreaRight" fmla="*/ 10080 w 9720"/>
                          <a:gd name="textAreaTop" fmla="*/ 0 h 7920"/>
                          <a:gd name="textAreaBottom" fmla="*/ 8280 h 7920"/>
                        </a:gdLst>
                        <a:ahLst/>
                        <a:rect l="textAreaLeft" t="textAreaTop" r="textAreaRight" b="textAreaBottom"/>
                        <a:pathLst>
                          <a:path w="26" h="25">
                            <a:moveTo>
                              <a:pt x="0" y="0"/>
                            </a:moveTo>
                            <a:lnTo>
                              <a:pt x="11" y="5"/>
                            </a:lnTo>
                            <a:lnTo>
                              <a:pt x="19" y="14"/>
                            </a:lnTo>
                            <a:lnTo>
                              <a:pt x="26" y="25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604" name="Freeform 87"/>
                    <p:cNvSpPr/>
                    <p:nvPr/>
                  </p:nvSpPr>
                  <p:spPr>
                    <a:xfrm>
                      <a:off x="533520" y="1011240"/>
                      <a:ext cx="104760" cy="84240"/>
                    </a:xfrm>
                    <a:custGeom>
                      <a:avLst/>
                      <a:gdLst>
                        <a:gd name="textAreaLeft" fmla="*/ 0 w 104760"/>
                        <a:gd name="textAreaRight" fmla="*/ 105120 w 104760"/>
                        <a:gd name="textAreaTop" fmla="*/ 0 h 84240"/>
                        <a:gd name="textAreaBottom" fmla="*/ 84600 h 84240"/>
                      </a:gdLst>
                      <a:ahLst/>
                      <a:rect l="textAreaLeft" t="textAreaTop" r="textAreaRight" b="textAreaBottom"/>
                      <a:pathLst>
                        <a:path w="333" h="268">
                          <a:moveTo>
                            <a:pt x="0" y="140"/>
                          </a:moveTo>
                          <a:lnTo>
                            <a:pt x="3" y="170"/>
                          </a:lnTo>
                          <a:lnTo>
                            <a:pt x="18" y="191"/>
                          </a:lnTo>
                          <a:lnTo>
                            <a:pt x="19" y="195"/>
                          </a:lnTo>
                          <a:lnTo>
                            <a:pt x="38" y="222"/>
                          </a:lnTo>
                          <a:lnTo>
                            <a:pt x="35" y="227"/>
                          </a:lnTo>
                          <a:lnTo>
                            <a:pt x="55" y="249"/>
                          </a:lnTo>
                          <a:lnTo>
                            <a:pt x="84" y="268"/>
                          </a:lnTo>
                          <a:lnTo>
                            <a:pt x="100" y="249"/>
                          </a:lnTo>
                          <a:lnTo>
                            <a:pt x="120" y="231"/>
                          </a:lnTo>
                          <a:lnTo>
                            <a:pt x="141" y="216"/>
                          </a:lnTo>
                          <a:lnTo>
                            <a:pt x="164" y="214"/>
                          </a:lnTo>
                          <a:lnTo>
                            <a:pt x="196" y="213"/>
                          </a:lnTo>
                          <a:lnTo>
                            <a:pt x="214" y="190"/>
                          </a:lnTo>
                          <a:lnTo>
                            <a:pt x="230" y="170"/>
                          </a:lnTo>
                          <a:lnTo>
                            <a:pt x="251" y="158"/>
                          </a:lnTo>
                          <a:lnTo>
                            <a:pt x="272" y="150"/>
                          </a:lnTo>
                          <a:lnTo>
                            <a:pt x="306" y="143"/>
                          </a:lnTo>
                          <a:lnTo>
                            <a:pt x="328" y="130"/>
                          </a:lnTo>
                          <a:lnTo>
                            <a:pt x="333" y="117"/>
                          </a:lnTo>
                          <a:lnTo>
                            <a:pt x="327" y="84"/>
                          </a:lnTo>
                          <a:lnTo>
                            <a:pt x="323" y="86"/>
                          </a:lnTo>
                          <a:lnTo>
                            <a:pt x="308" y="57"/>
                          </a:lnTo>
                          <a:lnTo>
                            <a:pt x="302" y="43"/>
                          </a:lnTo>
                          <a:lnTo>
                            <a:pt x="302" y="41"/>
                          </a:lnTo>
                          <a:lnTo>
                            <a:pt x="289" y="23"/>
                          </a:lnTo>
                          <a:lnTo>
                            <a:pt x="264" y="0"/>
                          </a:lnTo>
                          <a:lnTo>
                            <a:pt x="220" y="18"/>
                          </a:lnTo>
                          <a:lnTo>
                            <a:pt x="194" y="54"/>
                          </a:lnTo>
                          <a:lnTo>
                            <a:pt x="160" y="69"/>
                          </a:lnTo>
                          <a:lnTo>
                            <a:pt x="109" y="89"/>
                          </a:lnTo>
                          <a:lnTo>
                            <a:pt x="94" y="115"/>
                          </a:lnTo>
                          <a:lnTo>
                            <a:pt x="71" y="117"/>
                          </a:lnTo>
                          <a:lnTo>
                            <a:pt x="40" y="130"/>
                          </a:lnTo>
                          <a:lnTo>
                            <a:pt x="0" y="140"/>
                          </a:lnTo>
                          <a:close/>
                        </a:path>
                      </a:pathLst>
                    </a:custGeom>
                    <a:solidFill>
                      <a:srgbClr val="e040a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800" bIns="37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05" name="Freeform 88"/>
                    <p:cNvSpPr/>
                    <p:nvPr/>
                  </p:nvSpPr>
                  <p:spPr>
                    <a:xfrm>
                      <a:off x="577800" y="857160"/>
                      <a:ext cx="123840" cy="101880"/>
                    </a:xfrm>
                    <a:custGeom>
                      <a:avLst/>
                      <a:gdLst>
                        <a:gd name="textAreaLeft" fmla="*/ 0 w 123840"/>
                        <a:gd name="textAreaRight" fmla="*/ 124200 w 123840"/>
                        <a:gd name="textAreaTop" fmla="*/ 0 h 101880"/>
                        <a:gd name="textAreaBottom" fmla="*/ 102240 h 101880"/>
                      </a:gdLst>
                      <a:ahLst/>
                      <a:rect l="textAreaLeft" t="textAreaTop" r="textAreaRight" b="textAreaBottom"/>
                      <a:pathLst>
                        <a:path w="389" h="317">
                          <a:moveTo>
                            <a:pt x="0" y="0"/>
                          </a:moveTo>
                          <a:lnTo>
                            <a:pt x="59" y="33"/>
                          </a:lnTo>
                          <a:lnTo>
                            <a:pt x="113" y="66"/>
                          </a:lnTo>
                          <a:lnTo>
                            <a:pt x="157" y="86"/>
                          </a:lnTo>
                          <a:lnTo>
                            <a:pt x="203" y="110"/>
                          </a:lnTo>
                          <a:lnTo>
                            <a:pt x="267" y="143"/>
                          </a:lnTo>
                          <a:lnTo>
                            <a:pt x="306" y="205"/>
                          </a:lnTo>
                          <a:lnTo>
                            <a:pt x="337" y="313"/>
                          </a:lnTo>
                          <a:lnTo>
                            <a:pt x="366" y="224"/>
                          </a:lnTo>
                          <a:lnTo>
                            <a:pt x="389" y="165"/>
                          </a:lnTo>
                          <a:lnTo>
                            <a:pt x="386" y="120"/>
                          </a:lnTo>
                          <a:lnTo>
                            <a:pt x="388" y="165"/>
                          </a:lnTo>
                          <a:lnTo>
                            <a:pt x="363" y="223"/>
                          </a:lnTo>
                          <a:lnTo>
                            <a:pt x="341" y="317"/>
                          </a:lnTo>
                          <a:lnTo>
                            <a:pt x="307" y="202"/>
                          </a:lnTo>
                          <a:lnTo>
                            <a:pt x="267" y="144"/>
                          </a:lnTo>
                          <a:lnTo>
                            <a:pt x="202" y="110"/>
                          </a:lnTo>
                          <a:lnTo>
                            <a:pt x="156" y="88"/>
                          </a:lnTo>
                          <a:lnTo>
                            <a:pt x="112" y="66"/>
                          </a:lnTo>
                          <a:lnTo>
                            <a:pt x="56" y="3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e040a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06" name="Freeform 89"/>
                    <p:cNvSpPr/>
                    <p:nvPr/>
                  </p:nvSpPr>
                  <p:spPr>
                    <a:xfrm>
                      <a:off x="590760" y="944640"/>
                      <a:ext cx="47520" cy="85680"/>
                    </a:xfrm>
                    <a:custGeom>
                      <a:avLst/>
                      <a:gdLst>
                        <a:gd name="textAreaLeft" fmla="*/ 0 w 47520"/>
                        <a:gd name="textAreaRight" fmla="*/ 47880 w 47520"/>
                        <a:gd name="textAreaTop" fmla="*/ 0 h 85680"/>
                        <a:gd name="textAreaBottom" fmla="*/ 86040 h 85680"/>
                      </a:gdLst>
                      <a:ahLst/>
                      <a:rect l="textAreaLeft" t="textAreaTop" r="textAreaRight" b="textAreaBottom"/>
                      <a:pathLst>
                        <a:path w="151" h="271">
                          <a:moveTo>
                            <a:pt x="71" y="206"/>
                          </a:moveTo>
                          <a:lnTo>
                            <a:pt x="27" y="164"/>
                          </a:lnTo>
                          <a:lnTo>
                            <a:pt x="13" y="122"/>
                          </a:lnTo>
                          <a:lnTo>
                            <a:pt x="8" y="77"/>
                          </a:lnTo>
                          <a:lnTo>
                            <a:pt x="1" y="17"/>
                          </a:lnTo>
                          <a:lnTo>
                            <a:pt x="15" y="6"/>
                          </a:lnTo>
                          <a:lnTo>
                            <a:pt x="27" y="5"/>
                          </a:lnTo>
                          <a:lnTo>
                            <a:pt x="36" y="42"/>
                          </a:lnTo>
                          <a:lnTo>
                            <a:pt x="56" y="63"/>
                          </a:lnTo>
                          <a:lnTo>
                            <a:pt x="63" y="112"/>
                          </a:lnTo>
                          <a:lnTo>
                            <a:pt x="76" y="149"/>
                          </a:lnTo>
                          <a:lnTo>
                            <a:pt x="107" y="181"/>
                          </a:lnTo>
                          <a:lnTo>
                            <a:pt x="130" y="220"/>
                          </a:lnTo>
                          <a:lnTo>
                            <a:pt x="151" y="271"/>
                          </a:lnTo>
                          <a:lnTo>
                            <a:pt x="126" y="220"/>
                          </a:lnTo>
                          <a:lnTo>
                            <a:pt x="104" y="180"/>
                          </a:lnTo>
                          <a:lnTo>
                            <a:pt x="74" y="148"/>
                          </a:lnTo>
                          <a:lnTo>
                            <a:pt x="62" y="112"/>
                          </a:lnTo>
                          <a:lnTo>
                            <a:pt x="59" y="64"/>
                          </a:lnTo>
                          <a:lnTo>
                            <a:pt x="36" y="46"/>
                          </a:lnTo>
                          <a:lnTo>
                            <a:pt x="32" y="0"/>
                          </a:lnTo>
                          <a:lnTo>
                            <a:pt x="18" y="5"/>
                          </a:lnTo>
                          <a:lnTo>
                            <a:pt x="0" y="17"/>
                          </a:lnTo>
                          <a:lnTo>
                            <a:pt x="2" y="42"/>
                          </a:lnTo>
                          <a:lnTo>
                            <a:pt x="8" y="80"/>
                          </a:lnTo>
                          <a:lnTo>
                            <a:pt x="13" y="115"/>
                          </a:lnTo>
                          <a:lnTo>
                            <a:pt x="27" y="162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240" bIns="39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</p:grpSp>
        <p:sp>
          <p:nvSpPr>
            <p:cNvPr id="607" name="Text Box 90"/>
            <p:cNvSpPr/>
            <p:nvPr/>
          </p:nvSpPr>
          <p:spPr>
            <a:xfrm>
              <a:off x="345600" y="33264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</a:rPr>
                <a:t>！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608" name="Picture 91" descr=""/>
          <p:cNvPicPr/>
          <p:nvPr/>
        </p:nvPicPr>
        <p:blipFill>
          <a:blip r:embed="rId1"/>
          <a:stretch/>
        </p:blipFill>
        <p:spPr>
          <a:xfrm>
            <a:off x="3924360" y="2781360"/>
            <a:ext cx="2087640" cy="20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4T04:52:12Z</dcterms:created>
  <dc:creator>Gan</dc:creator>
  <dc:description/>
  <dc:language>en-US</dc:language>
  <cp:lastModifiedBy>Admin</cp:lastModifiedBy>
  <dcterms:modified xsi:type="dcterms:W3CDTF">2018-11-10T04:30:08Z</dcterms:modified>
  <cp:revision>138</cp:revision>
  <dc:subject/>
  <dc:title>实验3  仪表内阻对测量的影响</dc:title>
</cp:coreProperties>
</file>