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0789-D976-451A-B5AF-6819C174F9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CCA3-C6EB-4AB0-A541-BA842341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5837-3051-4F24-A271-5886439B71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8E9-89D0-4122-995E-162438A8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C41-46A3-46C6-B3EF-2F5980BF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FA8-B417-44B2-8872-5508D54D3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81C-7EB4-4BBF-B413-32A80A85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6FE2-747C-45F0-9D20-EA5974E4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A02-AED6-4207-BB75-1EF74688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077-ABA6-4575-8F34-3482D296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DA8-D778-473D-852F-F2F9EDC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682-2ADA-43AA-BF0F-06E56F48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B30-3DC9-492E-92A2-584201A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113-C6DF-4CF8-AA80-81C48BB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696-B5BD-4348-966A-4B1A0484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917-8CF9-4AA4-A115-D8A758867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050120" y="666720"/>
            <a:ext cx="60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3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5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辨识色环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01, 0.47, 1u, 47u, 1000u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辨识电解电容的极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电位器：找出固定端和活动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极管：找出阳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5280" y="29019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独立模式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h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万用表校核。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1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2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的电压。观察：通道选择、粗调、细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输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V/100m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限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观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保护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设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限流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电源（方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独立模式；方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串联模式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哪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3147840" y="9684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0-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源万用表测试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希望让一台电源在恒流模式下输出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你可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设定电压值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电流值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A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，连接一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欧姆的电阻到输出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828800" y="34718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定电压值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流值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 输出端短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1828800" y="41576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定电压值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v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流值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连接一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欧姆的电阻到输出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1828800" y="48434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8"/>
          <p:cNvSpPr/>
          <p:nvPr/>
        </p:nvSpPr>
        <p:spPr>
          <a:xfrm>
            <a:off x="1114560" y="35352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9"/>
          <p:cNvSpPr/>
          <p:nvPr/>
        </p:nvSpPr>
        <p:spPr>
          <a:xfrm>
            <a:off x="1114560" y="42210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0"/>
          <p:cNvSpPr/>
          <p:nvPr/>
        </p:nvSpPr>
        <p:spPr>
          <a:xfrm>
            <a:off x="1114560" y="49068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8"/>
          <p:cNvSpPr/>
          <p:nvPr/>
        </p:nvSpPr>
        <p:spPr>
          <a:xfrm>
            <a:off x="1828800" y="55292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9"/>
          <p:cNvSpPr/>
          <p:nvPr/>
        </p:nvSpPr>
        <p:spPr>
          <a:xfrm>
            <a:off x="1114560" y="55926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6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17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433440" y="22096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避免电击，请正确连接输出端子后，再打开输出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恒流输出模式下，输出模式显示为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如果输出模式显示为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您可适当 增大电压设置值，电源将自动切换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C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输出模式下，当负载电压超过电压设置值时，电源将自动切换到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V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模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此时， 输出电压等于电压设置值，输出电流则按比例下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 过压 菜单键，设置合适的过压保护值（设置方法请参考“恒压输出”一节的 “设置电压”），然后打开过压保护功能（按 过压 菜单键可切换打开或关闭过压 保护功能）。当实际输出电压大于过压保护值时，输出自动关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160640" y="152280"/>
            <a:ext cx="2330280" cy="210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4297680" y="60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实验能不能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235040" y="1139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电源该怎样设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545640" y="1676520"/>
            <a:ext cx="44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S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mA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&gt;510mV</a:t>
            </a:r>
            <a:r>
              <a:rPr b="1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取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内容占位符 1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717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394000" y="3794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台式万用表双显功能：同时显示电压和电流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6" descr=""/>
          <p:cNvPicPr/>
          <p:nvPr/>
        </p:nvPicPr>
        <p:blipFill>
          <a:blip r:embed="rId2"/>
          <a:stretch/>
        </p:blipFill>
        <p:spPr>
          <a:xfrm>
            <a:off x="7483320" y="417600"/>
            <a:ext cx="533520" cy="3841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8" descr=""/>
          <p:cNvPicPr/>
          <p:nvPr/>
        </p:nvPicPr>
        <p:blipFill>
          <a:blip r:embed="rId3"/>
          <a:stretch/>
        </p:blipFill>
        <p:spPr>
          <a:xfrm>
            <a:off x="8153280" y="417600"/>
            <a:ext cx="5335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1143000" y="304920"/>
            <a:ext cx="7620120" cy="534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752480" y="1814400"/>
            <a:ext cx="6561360" cy="2671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03120" y="457200"/>
            <a:ext cx="8564760" cy="1219320"/>
          </a:xfrm>
          <a:prstGeom prst="rect">
            <a:avLst/>
          </a:prstGeom>
          <a:ln w="0">
            <a:noFill/>
          </a:ln>
        </p:spPr>
      </p:pic>
      <p:sp>
        <p:nvSpPr>
          <p:cNvPr id="134" name="矩形 1"/>
          <p:cNvSpPr/>
          <p:nvPr/>
        </p:nvSpPr>
        <p:spPr>
          <a:xfrm>
            <a:off x="303120" y="47973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双显示屏可同时显示同一信号的两种特性，而在以往则需要使用两台万用表或连续进行两次测量。利用双显示屏，还可显示被测输入信号的测量组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3196800" y="609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伏安表法测量电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2771640" y="3014640"/>
            <a:ext cx="6372360" cy="324792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4"/>
          <p:cNvSpPr/>
          <p:nvPr/>
        </p:nvSpPr>
        <p:spPr>
          <a:xfrm>
            <a:off x="6084720" y="170028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6912000" y="1557360"/>
            <a:ext cx="647640" cy="287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直接箭头连接符 7"/>
          <p:cNvCxnSpPr/>
          <p:nvPr/>
        </p:nvCxnSpPr>
        <p:spPr>
          <a:xfrm flipH="1" flipV="1">
            <a:off x="6084360" y="1699560"/>
            <a:ext cx="1620000" cy="2818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任意多边形 13"/>
          <p:cNvSpPr/>
          <p:nvPr/>
        </p:nvSpPr>
        <p:spPr>
          <a:xfrm>
            <a:off x="8228160" y="1700280"/>
            <a:ext cx="803160" cy="3351240"/>
          </a:xfrm>
          <a:custGeom>
            <a:avLst/>
            <a:gdLst/>
            <a:ahLst/>
            <a:rect l="l" t="t" r="r" b="b"/>
            <a:pathLst>
              <a:path w="867392" h="3331028">
                <a:moveTo>
                  <a:pt x="0" y="3331028"/>
                </a:moveTo>
                <a:cubicBezTo>
                  <a:pt x="334735" y="2935514"/>
                  <a:pt x="669471" y="2540000"/>
                  <a:pt x="794657" y="2166257"/>
                </a:cubicBezTo>
                <a:cubicBezTo>
                  <a:pt x="919843" y="1792514"/>
                  <a:pt x="869043" y="1449614"/>
                  <a:pt x="751114" y="1088571"/>
                </a:cubicBezTo>
                <a:cubicBezTo>
                  <a:pt x="633185" y="727528"/>
                  <a:pt x="360135" y="363764"/>
                  <a:pt x="87085" y="0"/>
                </a:cubicBezTo>
              </a:path>
            </a:pathLst>
          </a:custGeom>
          <a:noFill/>
          <a:ln w="28440">
            <a:solidFill>
              <a:srgbClr val="7030a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箭头连接符 14"/>
          <p:cNvCxnSpPr/>
          <p:nvPr/>
        </p:nvCxnSpPr>
        <p:spPr>
          <a:xfrm flipV="1">
            <a:off x="8204040" y="1699920"/>
            <a:ext cx="53280" cy="2234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2" name="直接箭头连接符 19"/>
          <p:cNvCxnSpPr/>
          <p:nvPr/>
        </p:nvCxnSpPr>
        <p:spPr>
          <a:xfrm flipV="1">
            <a:off x="7956360" y="1718640"/>
            <a:ext cx="208440" cy="486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3" name="TextBox 20"/>
          <p:cNvSpPr/>
          <p:nvPr/>
        </p:nvSpPr>
        <p:spPr>
          <a:xfrm>
            <a:off x="7450920" y="2251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接电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765000"/>
            <a:ext cx="9252000" cy="5543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562320" y="11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reset(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N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不连接在一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要去连接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7280" y="858960"/>
            <a:ext cx="8425080" cy="5608440"/>
          </a:xfrm>
          <a:prstGeom prst="rect">
            <a:avLst/>
          </a:prstGeom>
          <a:ln w="0">
            <a:noFill/>
          </a:ln>
        </p:spPr>
      </p:pic>
      <p:cxnSp>
        <p:nvCxnSpPr>
          <p:cNvPr id="55" name="直接箭头连接符 3"/>
          <p:cNvCxnSpPr/>
          <p:nvPr/>
        </p:nvCxnSpPr>
        <p:spPr>
          <a:xfrm flipH="1">
            <a:off x="7596000" y="5178240"/>
            <a:ext cx="1203840" cy="1045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573280" cy="1230480"/>
          </a:xfrm>
          <a:prstGeom prst="rect">
            <a:avLst/>
          </a:prstGeom>
          <a:ln w="0">
            <a:noFill/>
          </a:ln>
        </p:spPr>
      </p:pic>
      <p:sp>
        <p:nvSpPr>
          <p:cNvPr id="57" name="矩形 2"/>
          <p:cNvSpPr/>
          <p:nvPr/>
        </p:nvSpPr>
        <p:spPr>
          <a:xfrm>
            <a:off x="468360" y="282600"/>
            <a:ext cx="59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通道（档位）选择与输出开关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选择通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当前通道并可设置该通道的电压、电流、过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流保护等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2"/>
          <a:stretch/>
        </p:blipFill>
        <p:spPr>
          <a:xfrm>
            <a:off x="4211640" y="1490760"/>
            <a:ext cx="2505240" cy="252396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1031760" y="2292480"/>
            <a:ext cx="216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向键和单位选择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数字键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旋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76280" y="371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ese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将仪器所有设置恢复为出厂默认值，或调用用户自定义的通道电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流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46040" y="5102280"/>
            <a:ext cx="83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K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于确认参数的设置。长按该键，可锁定前面板按键，此时，除各通道对应的输出开关键和电源开关键之外，前面板其它按键不可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824760" y="1773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参数输入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254160" y="83664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置输出直流电压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电源开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下前面板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键选中通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屏幕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按键，通过数字键盘输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再按下向上方向键选择单位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道对应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键点亮，通过万用表测试输出电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"/>
          <p:cNvSpPr/>
          <p:nvPr/>
        </p:nvSpPr>
        <p:spPr>
          <a:xfrm>
            <a:off x="857160" y="115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源测试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1"/>
          <a:stretch/>
        </p:blipFill>
        <p:spPr>
          <a:xfrm>
            <a:off x="0" y="51120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2952000" y="3078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台式万用表的使用方法与手持式万用表类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3173760" y="5288040"/>
            <a:ext cx="43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：选测量功能，选红色探棒插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：调整档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：电压表并联，电流表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：读取数值以及所用的档位（仪表误差计算公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下箭头 11"/>
          <p:cNvSpPr/>
          <p:nvPr/>
        </p:nvSpPr>
        <p:spPr>
          <a:xfrm>
            <a:off x="6316560" y="2481120"/>
            <a:ext cx="142920" cy="648000"/>
          </a:xfrm>
          <a:prstGeom prst="downArrow">
            <a:avLst>
              <a:gd name="adj1" fmla="val 50000"/>
              <a:gd name="adj2" fmla="val 503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下箭头 13"/>
          <p:cNvSpPr/>
          <p:nvPr/>
        </p:nvSpPr>
        <p:spPr>
          <a:xfrm>
            <a:off x="4067280" y="1004760"/>
            <a:ext cx="1009440" cy="649440"/>
          </a:xfrm>
          <a:prstGeom prst="downArrow">
            <a:avLst>
              <a:gd name="adj1" fmla="val 50000"/>
              <a:gd name="adj2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"/>
          <p:cNvSpPr/>
          <p:nvPr/>
        </p:nvSpPr>
        <p:spPr>
          <a:xfrm>
            <a:off x="189000" y="1122480"/>
            <a:ext cx="864216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负载情况自动在恒压源模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V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恒流源模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间切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恒压模式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电流值小于输出设定值时，工作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恒压源模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绿色指示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V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。此时，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压值保持设定值输出，输出电流值根据负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件变动，直到输出电流的设定值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恒流模式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当电流值到达输出设定值时，启用恒流源模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红色指示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亮。电流值自动维持在电流设定值，此时，输出电压值将低于原电压设定值，实现限制输出功率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当输出电流值低于设定值时，电源自动返回恒压源模式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26"/>
          <p:cNvGrpSpPr/>
          <p:nvPr/>
        </p:nvGrpSpPr>
        <p:grpSpPr>
          <a:xfrm>
            <a:off x="7188120" y="2589120"/>
            <a:ext cx="1614600" cy="571680"/>
            <a:chOff x="7188120" y="2589120"/>
            <a:chExt cx="1614600" cy="571680"/>
          </a:xfrm>
        </p:grpSpPr>
        <p:sp>
          <p:nvSpPr>
            <p:cNvPr id="72" name="直接连接符 15"/>
            <p:cNvSpPr/>
            <p:nvPr/>
          </p:nvSpPr>
          <p:spPr>
            <a:xfrm>
              <a:off x="7188120" y="2803320"/>
              <a:ext cx="6429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20"/>
            <p:cNvSpPr/>
            <p:nvPr/>
          </p:nvSpPr>
          <p:spPr>
            <a:xfrm>
              <a:off x="7831080" y="2803320"/>
              <a:ext cx="0" cy="3574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23"/>
            <p:cNvSpPr/>
            <p:nvPr/>
          </p:nvSpPr>
          <p:spPr>
            <a:xfrm>
              <a:off x="7905960" y="2589120"/>
              <a:ext cx="89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5"/>
          <p:cNvGrpSpPr/>
          <p:nvPr/>
        </p:nvGrpSpPr>
        <p:grpSpPr>
          <a:xfrm>
            <a:off x="6616440" y="1731960"/>
            <a:ext cx="2325240" cy="1827720"/>
            <a:chOff x="6616440" y="1731960"/>
            <a:chExt cx="2325240" cy="1827720"/>
          </a:xfrm>
        </p:grpSpPr>
        <p:cxnSp>
          <p:nvCxnSpPr>
            <p:cNvPr id="76" name="直接箭头连接符 11"/>
            <p:cNvCxnSpPr/>
            <p:nvPr/>
          </p:nvCxnSpPr>
          <p:spPr>
            <a:xfrm>
              <a:off x="6616440" y="3160800"/>
              <a:ext cx="2215080" cy="216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  <a:tailEnd len="med" type="arrow" w="med"/>
            </a:ln>
          </p:spPr>
        </p:cxnSp>
        <p:cxnSp>
          <p:nvCxnSpPr>
            <p:cNvPr id="77" name="直接箭头连接符 13"/>
            <p:cNvCxnSpPr/>
            <p:nvPr/>
          </p:nvCxnSpPr>
          <p:spPr>
            <a:xfrm flipV="1">
              <a:off x="7188120" y="1945800"/>
              <a:ext cx="2160" cy="1572480"/>
            </a:xfrm>
            <a:prstGeom prst="straightConnector1">
              <a:avLst/>
            </a:prstGeom>
            <a:ln w="19080">
              <a:solidFill>
                <a:srgbClr val="7030a0"/>
              </a:solidFill>
              <a:miter/>
              <a:tailEnd len="med" type="arrow" w="med"/>
            </a:ln>
          </p:spPr>
        </p:cxnSp>
        <p:sp>
          <p:nvSpPr>
            <p:cNvPr id="78" name="TextBox 22"/>
            <p:cNvSpPr/>
            <p:nvPr/>
          </p:nvSpPr>
          <p:spPr>
            <a:xfrm>
              <a:off x="8690760" y="3160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24"/>
            <p:cNvSpPr/>
            <p:nvPr/>
          </p:nvSpPr>
          <p:spPr>
            <a:xfrm>
              <a:off x="6833160" y="17319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9"/>
          <p:cNvGrpSpPr/>
          <p:nvPr/>
        </p:nvGrpSpPr>
        <p:grpSpPr>
          <a:xfrm>
            <a:off x="7188120" y="2088720"/>
            <a:ext cx="642960" cy="714960"/>
            <a:chOff x="7188120" y="2088720"/>
            <a:chExt cx="642960" cy="714960"/>
          </a:xfrm>
        </p:grpSpPr>
        <p:sp>
          <p:nvSpPr>
            <p:cNvPr id="81" name="直接连接符 18"/>
            <p:cNvSpPr/>
            <p:nvPr/>
          </p:nvSpPr>
          <p:spPr>
            <a:xfrm flipV="1">
              <a:off x="7831080" y="2088720"/>
              <a:ext cx="0" cy="7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28"/>
            <p:cNvSpPr/>
            <p:nvPr/>
          </p:nvSpPr>
          <p:spPr>
            <a:xfrm>
              <a:off x="7188120" y="2803680"/>
              <a:ext cx="642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Box 1"/>
          <p:cNvSpPr/>
          <p:nvPr/>
        </p:nvSpPr>
        <p:spPr>
          <a:xfrm>
            <a:off x="2535120" y="35244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源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V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模式；过压过流保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4495680" cy="343404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457200" y="373392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避免电击，请正确连接输出端子后，再打开输出开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恒压输出模式下，输出模式显示为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如果输出模式显示为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您可适当 增大电流设置值，电源将自动切换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出模式下，当负载电流超过电流设置值时，电源将自动切换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式。此时， 输出电流等于电流设置值，输出电压则按比例下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 过流 菜单键，设置合适的过流保护值（同“设置电流”）， 然后打开过流保护功能（按 过流 菜单键可切换打开或关闭过流保护功能）。当 实际输出电流大于过流保护值时，输出自动关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2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台电源被设定为：</a:t>
            </a:r>
            <a:r>
              <a:rPr b="0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5 V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华文中宋"/>
                <a:ea typeface="华文中宋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1 A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输出连接到一个电阻负载。要求电源工作在恒压 （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CV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模式下。问：负载的阻值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于 </a:t>
            </a: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28800" y="34718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于 </a:t>
            </a:r>
            <a:r>
              <a:rPr b="0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1828800" y="41576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不能确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828800" y="48434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短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7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8"/>
          <p:cNvSpPr/>
          <p:nvPr/>
        </p:nvSpPr>
        <p:spPr>
          <a:xfrm>
            <a:off x="1114560" y="35352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9"/>
          <p:cNvSpPr/>
          <p:nvPr/>
        </p:nvSpPr>
        <p:spPr>
          <a:xfrm>
            <a:off x="1114560" y="42210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0"/>
          <p:cNvSpPr/>
          <p:nvPr/>
        </p:nvSpPr>
        <p:spPr>
          <a:xfrm>
            <a:off x="1114560" y="49068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1828800" y="55292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以上全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9"/>
          <p:cNvSpPr/>
          <p:nvPr/>
        </p:nvSpPr>
        <p:spPr>
          <a:xfrm>
            <a:off x="1114560" y="55926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6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9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3T05:29:00Z</dcterms:created>
  <dc:creator>lenovo</dc:creator>
  <dc:description/>
  <dc:language>en-US</dc:language>
  <cp:lastModifiedBy>Admin</cp:lastModifiedBy>
  <dcterms:modified xsi:type="dcterms:W3CDTF">2019-01-01T06:03:37Z</dcterms:modified>
  <cp:revision>14</cp:revision>
  <dc:subject/>
  <dc:title>幻灯片 1</dc:title>
</cp:coreProperties>
</file>