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463FEF-3861-487A-84B3-B1056BA29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AEFCDAA-17AE-40D8-9F77-0C67B9E192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F7549-4C4F-4DC3-9CEA-0BAF63E56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77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71640" y="3870720"/>
            <a:ext cx="777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E21A-DF25-4DF1-B754-C21E9428DF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7164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432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02A82-744F-4712-8DB2-C5212731B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99640" y="112500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27280" y="112500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71640" y="387072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99640" y="387072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27280" y="387072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5B383-AAA1-4341-A6A0-6B52E732F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7164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71280" y="-73188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7164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7164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0611-BA27-4654-9F80-932924E6B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432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71640" y="3870720"/>
            <a:ext cx="777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77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71640" y="3870720"/>
            <a:ext cx="777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7164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432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99640" y="112500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27280" y="112500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71640" y="387072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99640" y="387072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27280" y="387072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5A020-49DF-46D3-A15B-6C3B601AF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1C0D-1279-45B8-87E7-94E263F8B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832E-0344-497A-B2FF-8F1B197EF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71280" y="-73188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6A3A-6740-4563-8547-C62B91361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7164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BBE8-3667-46B3-8F38-AD8B6D34E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432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004D-A8BC-436C-82B6-0078871DA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71640" y="3870720"/>
            <a:ext cx="777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3008-6C28-444B-90A9-6111952F1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7164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704196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8DB3-8264-4036-83DC-F4DDD8AA2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8"/>
          <p:cNvSpPr/>
          <p:nvPr/>
        </p:nvSpPr>
        <p:spPr>
          <a:xfrm>
            <a:off x="611280" y="642132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7"/>
          <p:cNvGrpSpPr/>
          <p:nvPr/>
        </p:nvGrpSpPr>
        <p:grpSpPr>
          <a:xfrm>
            <a:off x="152280" y="1773360"/>
            <a:ext cx="8839080" cy="1052280"/>
            <a:chOff x="152280" y="1773360"/>
            <a:chExt cx="8839080" cy="1052280"/>
          </a:xfrm>
        </p:grpSpPr>
        <p:grpSp>
          <p:nvGrpSpPr>
            <p:cNvPr id="48" name="Group 18"/>
            <p:cNvGrpSpPr/>
            <p:nvPr/>
          </p:nvGrpSpPr>
          <p:grpSpPr>
            <a:xfrm>
              <a:off x="438480" y="1881000"/>
              <a:ext cx="694080" cy="474480"/>
              <a:chOff x="438480" y="1881000"/>
              <a:chExt cx="694080" cy="474480"/>
            </a:xfrm>
          </p:grpSpPr>
          <p:sp>
            <p:nvSpPr>
              <p:cNvPr id="49" name="Rectangle 19"/>
              <p:cNvSpPr/>
              <p:nvPr/>
            </p:nvSpPr>
            <p:spPr>
              <a:xfrm>
                <a:off x="438480" y="1881000"/>
                <a:ext cx="4251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20"/>
              <p:cNvSpPr/>
              <p:nvPr/>
            </p:nvSpPr>
            <p:spPr>
              <a:xfrm>
                <a:off x="811080" y="1881000"/>
                <a:ext cx="32148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21"/>
            <p:cNvGrpSpPr/>
            <p:nvPr/>
          </p:nvGrpSpPr>
          <p:grpSpPr>
            <a:xfrm>
              <a:off x="561960" y="2303280"/>
              <a:ext cx="725760" cy="474480"/>
              <a:chOff x="561960" y="2303280"/>
              <a:chExt cx="725760" cy="474480"/>
            </a:xfrm>
          </p:grpSpPr>
          <p:sp>
            <p:nvSpPr>
              <p:cNvPr id="52" name="Rectangle 22"/>
              <p:cNvSpPr/>
              <p:nvPr/>
            </p:nvSpPr>
            <p:spPr>
              <a:xfrm>
                <a:off x="561960" y="2303280"/>
                <a:ext cx="41472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23"/>
              <p:cNvSpPr/>
              <p:nvPr/>
            </p:nvSpPr>
            <p:spPr>
              <a:xfrm>
                <a:off x="925920" y="2303280"/>
                <a:ext cx="36180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24"/>
            <p:cNvSpPr/>
            <p:nvPr/>
          </p:nvSpPr>
          <p:spPr>
            <a:xfrm>
              <a:off x="152280" y="2230200"/>
              <a:ext cx="549720" cy="421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25"/>
            <p:cNvSpPr/>
            <p:nvPr/>
          </p:nvSpPr>
          <p:spPr>
            <a:xfrm>
              <a:off x="775080" y="1773360"/>
              <a:ext cx="3096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26"/>
            <p:cNvSpPr/>
            <p:nvPr/>
          </p:nvSpPr>
          <p:spPr>
            <a:xfrm flipV="1">
              <a:off x="462240" y="2594520"/>
              <a:ext cx="852912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7164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2"/>
          </p:nvPr>
        </p:nvSpPr>
        <p:spPr>
          <a:xfrm>
            <a:off x="7019640" y="6381360"/>
            <a:ext cx="190476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FF7D-2256-48E6-841E-218C50A5891F}" type="datetime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09480" y="1413000"/>
            <a:ext cx="8153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</a:rPr>
              <a:t>数字万用表使用</a:t>
            </a:r>
            <a:br>
              <a:rPr sz="5400"/>
            </a:br>
            <a:br>
              <a:rPr sz="4400"/>
            </a:b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2000" y="1483920"/>
            <a:ext cx="849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注意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显示器仅显示“１” ，表明超过量程或开路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测量线路上的阻抗时，应先将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电路中的电源断开、电容器完全放电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200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档测量：当表笔短接时，显示器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字的显示，测量时应从读数中减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如：读数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1.0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测量结果应该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.0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5080" y="1052640"/>
            <a:ext cx="85676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黑色表笔插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红色表笔插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/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换开关置于相应量程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两表笔并接要测量的两端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测量直流电压时，极性显示红色表笔所接端的极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52360" y="3789360"/>
            <a:ext cx="889164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注意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显示“１”或“－１”，表明超过量程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预先不知道测量大小时，应置于最高档，然后逐步下降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直流高于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00V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或交流高于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00V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有效值）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危险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042560" y="-171360"/>
            <a:ext cx="50166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测量电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2360" y="1195560"/>
            <a:ext cx="91058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入阻抗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M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载保护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m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量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V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效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0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量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0V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0VAC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效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流电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112840" y="2995560"/>
          <a:ext cx="6580440" cy="3384720"/>
        </p:xfrm>
        <a:graphic>
          <a:graphicData uri="http://schemas.openxmlformats.org/drawingml/2006/table">
            <a:tbl>
              <a:tblPr/>
              <a:tblGrid>
                <a:gridCol w="1554120"/>
                <a:gridCol w="1554480"/>
                <a:gridCol w="347184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量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辨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准确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0m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.lm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±(0.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％读数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m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±(0.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％读数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m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±(0.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％读数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0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0m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±(0.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％读数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00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±(0.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％读数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042560" y="-171360"/>
            <a:ext cx="50166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测量电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2360" y="1413000"/>
            <a:ext cx="91058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交流电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179800" y="1413000"/>
          <a:ext cx="6578280" cy="281916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347004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量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辨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准确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m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±(0.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％读数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m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±(0.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％读数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0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0m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±(0.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％读数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50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±(1.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％读数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30"/>
          <p:cNvSpPr/>
          <p:nvPr/>
        </p:nvSpPr>
        <p:spPr>
          <a:xfrm>
            <a:off x="517680" y="4292640"/>
            <a:ext cx="63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流电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档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读数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.791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31"/>
          <p:cNvSpPr/>
          <p:nvPr/>
        </p:nvSpPr>
        <p:spPr>
          <a:xfrm>
            <a:off x="450720" y="4869000"/>
            <a:ext cx="797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.791V±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.791×0.8%+0.001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×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1.791±(0.0143+0.003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1.791± 0.017  (1.774~1.808 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042560" y="-171360"/>
            <a:ext cx="50166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测量电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84320" y="1267920"/>
            <a:ext cx="8564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黑色表笔插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当被测量小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m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红色表笔插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插孔；大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m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插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插孔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换开关置于相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量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两表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串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测量的两端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测量直流电流时，极性显示红色表笔所接端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极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载保护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m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50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恢复保险管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量程无保险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042560" y="-171360"/>
            <a:ext cx="50166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测量电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2000" y="1483920"/>
            <a:ext cx="56149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显示器仅显示“１”或“－１”，表明超过量程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预先不知道测量大小时，应置于最高档，然后逐步下降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直流高于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00mA (m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插孔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0A (20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插孔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),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危险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5859360" y="0"/>
            <a:ext cx="32846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6372360" y="5229360"/>
            <a:ext cx="1224000" cy="9363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042560" y="-171360"/>
            <a:ext cx="50166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测量电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2360" y="1413000"/>
            <a:ext cx="91058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满量程压降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m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流电流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14560" y="2708280"/>
          <a:ext cx="6580080" cy="28195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347184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量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辨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准确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μ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±(0.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％读数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μ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±(0.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％读数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0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0μ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±(1.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％读数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±(2.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％读数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042560" y="-171360"/>
            <a:ext cx="50166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测量电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2360" y="1413000"/>
            <a:ext cx="91058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满量程压降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m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交流电流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114560" y="2708280"/>
          <a:ext cx="6580080" cy="282096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347184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量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辨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准确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μ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±(1.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％读数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μ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±(1.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％读数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0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0μ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±(1.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％读数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0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±(3.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％读数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042560" y="-171360"/>
            <a:ext cx="50166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测量电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252360" y="4005360"/>
            <a:ext cx="55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小电容量程，由于表笔等分布电容的影响，表笔开路时会有一个小的读数，这是正常的，不会影响测量精度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83760" y="1483920"/>
            <a:ext cx="54118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黑色表笔插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红色表笔插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/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换开关置于相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量程位置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电容应该先完全放电后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两表笔接在要测量的电容两端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8" descr=""/>
          <p:cNvPicPr/>
          <p:nvPr/>
        </p:nvPicPr>
        <p:blipFill>
          <a:blip r:embed="rId1"/>
          <a:stretch/>
        </p:blipFill>
        <p:spPr>
          <a:xfrm>
            <a:off x="5859360" y="0"/>
            <a:ext cx="328464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042560" y="-171360"/>
            <a:ext cx="50166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测量电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849240" y="1268280"/>
          <a:ext cx="7643880" cy="2743200"/>
        </p:xfrm>
        <a:graphic>
          <a:graphicData uri="http://schemas.openxmlformats.org/drawingml/2006/table">
            <a:tbl>
              <a:tblPr/>
              <a:tblGrid>
                <a:gridCol w="1739880"/>
                <a:gridCol w="1712880"/>
                <a:gridCol w="4191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量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分辨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准确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20n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10p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±(4.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％读数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200n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p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±(4.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％读数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μ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1n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±(4.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％读数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μ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10n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±(4.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％读数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20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μ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100n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±(5.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％读数＋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字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 Box 33"/>
          <p:cNvSpPr/>
          <p:nvPr/>
        </p:nvSpPr>
        <p:spPr>
          <a:xfrm>
            <a:off x="317520" y="4149720"/>
            <a:ext cx="6912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μ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档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读数 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0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34"/>
          <p:cNvSpPr/>
          <p:nvPr/>
        </p:nvSpPr>
        <p:spPr>
          <a:xfrm>
            <a:off x="517680" y="4724280"/>
            <a:ext cx="797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.069±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.069×4%+0.00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1.069±0.046  (1.023~ 1.115μ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-171360"/>
            <a:ext cx="50166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测量电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一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数字万用表的使用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5600" y="946080"/>
            <a:ext cx="856440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概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采用数字化测量技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被测电量转化成电压信号，并以数字形式加以显示。显示结果一目了然，克服了模拟式（即指针式）万用表人为的测量误差（例如视差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）显示位数及显示特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整数位：能够显示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~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有数字的位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数位：以最大显示值中最高位的数字为分子，而用满量程时最高位的数字作分母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076400" y="5734080"/>
            <a:ext cx="1775160" cy="520560"/>
          </a:xfrm>
          <a:prstGeom prst="rect">
            <a:avLst/>
          </a:prstGeom>
          <a:solidFill>
            <a:srgbClr val="f8e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±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648320" y="5734080"/>
            <a:ext cx="3524040" cy="520560"/>
          </a:xfrm>
          <a:prstGeom prst="rect">
            <a:avLst/>
          </a:prstGeom>
          <a:solidFill>
            <a:srgbClr val="f8e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3 ½</a:t>
            </a:r>
            <a:r>
              <a:rPr b="1" lang="zh-CN" sz="2800" spc="-1" strike="noStrike">
                <a:solidFill>
                  <a:srgbClr val="1c1c1c"/>
                </a:solidFill>
                <a:latin typeface="Times New Roman"/>
              </a:rPr>
              <a:t>位”读作三位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2916360" y="5950080"/>
            <a:ext cx="151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7CD7-F309-4AF1-B718-167F577F88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文本框 5"/>
          <p:cNvSpPr/>
          <p:nvPr/>
        </p:nvSpPr>
        <p:spPr>
          <a:xfrm>
            <a:off x="914400" y="70956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字万用表的准确度是测量结果中系统误差和随机误差的综合，它表示测量结果与真值的一致程度，也反映出测量误差的大小，其公式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文本框 6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a%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测量值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显示误差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文本框 7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a%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测量值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sqrt(3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文本框 8"/>
          <p:cNvSpPr/>
          <p:nvPr/>
        </p:nvSpPr>
        <p:spPr>
          <a:xfrm>
            <a:off x="1828800" y="450072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a%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 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量程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文本框 9"/>
          <p:cNvSpPr/>
          <p:nvPr/>
        </p:nvSpPr>
        <p:spPr>
          <a:xfrm>
            <a:off x="1828800" y="535788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a%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椭圆 10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椭圆 11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椭圆 12"/>
          <p:cNvSpPr/>
          <p:nvPr/>
        </p:nvSpPr>
        <p:spPr>
          <a:xfrm>
            <a:off x="1114560" y="456408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椭圆 13"/>
          <p:cNvSpPr/>
          <p:nvPr/>
        </p:nvSpPr>
        <p:spPr>
          <a:xfrm>
            <a:off x="1114560" y="542124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圆角矩形 14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提交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" name="组合 19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179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83" name="图片 4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8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51640" cy="32828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920" y="-171360"/>
            <a:ext cx="741672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测量二极管以及通断检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324000" y="1514520"/>
            <a:ext cx="8686800" cy="21193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"/>
          <p:cNvSpPr/>
          <p:nvPr/>
        </p:nvSpPr>
        <p:spPr>
          <a:xfrm>
            <a:off x="1042920" y="119160"/>
            <a:ext cx="7850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测量晶体三极管电流放大倍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26920" y="11592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二极管的识别与检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方正报宋繁体"/>
              </a:rPr>
              <a:t>①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极性识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AutoShape 3"/>
          <p:cNvSpPr/>
          <p:nvPr/>
        </p:nvSpPr>
        <p:spPr>
          <a:xfrm rot="5400000">
            <a:off x="2209320" y="2209680"/>
            <a:ext cx="457200" cy="3812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2666880" y="21337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1752480" y="2400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752480" y="201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685960" y="2017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5486400" y="2286000"/>
            <a:ext cx="838080" cy="304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4876920" y="2438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6324480" y="2438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11"/>
          <p:cNvSpPr/>
          <p:nvPr/>
        </p:nvSpPr>
        <p:spPr>
          <a:xfrm>
            <a:off x="6229440" y="2305080"/>
            <a:ext cx="0" cy="287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8769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400800" y="20001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AutoShape 14"/>
          <p:cNvSpPr/>
          <p:nvPr/>
        </p:nvSpPr>
        <p:spPr>
          <a:xfrm rot="16200000">
            <a:off x="5486400" y="3409920"/>
            <a:ext cx="914400" cy="380880"/>
          </a:xfrm>
          <a:prstGeom prst="flowChartDe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5600880" y="40575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16"/>
          <p:cNvSpPr/>
          <p:nvPr/>
        </p:nvSpPr>
        <p:spPr>
          <a:xfrm>
            <a:off x="5829480" y="40384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17"/>
          <p:cNvSpPr/>
          <p:nvPr/>
        </p:nvSpPr>
        <p:spPr>
          <a:xfrm>
            <a:off x="6039000" y="405756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5410080" y="4552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6019920" y="4552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AutoShape 20"/>
          <p:cNvSpPr/>
          <p:nvPr/>
        </p:nvSpPr>
        <p:spPr>
          <a:xfrm rot="5400000">
            <a:off x="2133720" y="4114800"/>
            <a:ext cx="457200" cy="3808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21"/>
          <p:cNvSpPr/>
          <p:nvPr/>
        </p:nvSpPr>
        <p:spPr>
          <a:xfrm>
            <a:off x="2590920" y="4038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1676520" y="430524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23"/>
          <p:cNvSpPr/>
          <p:nvPr/>
        </p:nvSpPr>
        <p:spPr>
          <a:xfrm>
            <a:off x="1676520" y="4303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24"/>
          <p:cNvSpPr/>
          <p:nvPr/>
        </p:nvSpPr>
        <p:spPr>
          <a:xfrm>
            <a:off x="2610000" y="4303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Line 25"/>
          <p:cNvSpPr/>
          <p:nvPr/>
        </p:nvSpPr>
        <p:spPr>
          <a:xfrm flipV="1">
            <a:off x="2666880" y="3733560"/>
            <a:ext cx="3812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Line 26"/>
          <p:cNvSpPr/>
          <p:nvPr/>
        </p:nvSpPr>
        <p:spPr>
          <a:xfrm flipV="1">
            <a:off x="2819520" y="3885840"/>
            <a:ext cx="3808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90720" y="7380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②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二极管正、反压降的测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数字万用表拨至二极管档（        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AutoShape 3"/>
          <p:cNvSpPr/>
          <p:nvPr/>
        </p:nvSpPr>
        <p:spPr>
          <a:xfrm flipH="1" rot="5400000">
            <a:off x="6701760" y="1523520"/>
            <a:ext cx="228600" cy="2286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6948360" y="15080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6473880" y="163836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600200" y="2529000"/>
            <a:ext cx="2133720" cy="281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2057400" y="2833560"/>
            <a:ext cx="129528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AutoShape 8"/>
          <p:cNvSpPr/>
          <p:nvPr/>
        </p:nvSpPr>
        <p:spPr>
          <a:xfrm rot="5400000">
            <a:off x="2019240" y="3595320"/>
            <a:ext cx="15228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2171880" y="361476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1905120" y="36720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Oval 11"/>
          <p:cNvSpPr/>
          <p:nvPr/>
        </p:nvSpPr>
        <p:spPr>
          <a:xfrm>
            <a:off x="2343240" y="3747960"/>
            <a:ext cx="718920" cy="719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2"/>
          <p:cNvSpPr/>
          <p:nvPr/>
        </p:nvSpPr>
        <p:spPr>
          <a:xfrm flipH="1" flipV="1">
            <a:off x="2514240" y="391968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Oval 13"/>
          <p:cNvSpPr/>
          <p:nvPr/>
        </p:nvSpPr>
        <p:spPr>
          <a:xfrm>
            <a:off x="3200400" y="481500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Oval 14"/>
          <p:cNvSpPr/>
          <p:nvPr/>
        </p:nvSpPr>
        <p:spPr>
          <a:xfrm>
            <a:off x="2057400" y="481500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3124080" y="49863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1809720" y="5005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17"/>
          <p:cNvSpPr/>
          <p:nvPr/>
        </p:nvSpPr>
        <p:spPr>
          <a:xfrm>
            <a:off x="5334120" y="3138480"/>
            <a:ext cx="838080" cy="228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8"/>
          <p:cNvSpPr/>
          <p:nvPr/>
        </p:nvSpPr>
        <p:spPr>
          <a:xfrm flipH="1">
            <a:off x="4876920" y="32529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9"/>
          <p:cNvSpPr/>
          <p:nvPr/>
        </p:nvSpPr>
        <p:spPr>
          <a:xfrm flipH="1">
            <a:off x="6172200" y="3233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5105520" y="306216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21"/>
          <p:cNvSpPr/>
          <p:nvPr/>
        </p:nvSpPr>
        <p:spPr>
          <a:xfrm>
            <a:off x="6400800" y="306216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22"/>
          <p:cNvSpPr/>
          <p:nvPr/>
        </p:nvSpPr>
        <p:spPr>
          <a:xfrm>
            <a:off x="6019920" y="3138480"/>
            <a:ext cx="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23"/>
          <p:cNvSpPr/>
          <p:nvPr/>
        </p:nvSpPr>
        <p:spPr>
          <a:xfrm>
            <a:off x="5029200" y="3672000"/>
            <a:ext cx="1522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24"/>
          <p:cNvSpPr/>
          <p:nvPr/>
        </p:nvSpPr>
        <p:spPr>
          <a:xfrm>
            <a:off x="6324480" y="3672000"/>
            <a:ext cx="1526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25"/>
          <p:cNvSpPr/>
          <p:nvPr/>
        </p:nvSpPr>
        <p:spPr>
          <a:xfrm>
            <a:off x="5105520" y="428148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3352680" y="489096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27"/>
          <p:cNvSpPr/>
          <p:nvPr/>
        </p:nvSpPr>
        <p:spPr>
          <a:xfrm>
            <a:off x="2171880" y="489096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2781360" y="489096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29"/>
          <p:cNvSpPr/>
          <p:nvPr/>
        </p:nvSpPr>
        <p:spPr>
          <a:xfrm>
            <a:off x="2762280" y="565308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30"/>
          <p:cNvSpPr/>
          <p:nvPr/>
        </p:nvSpPr>
        <p:spPr>
          <a:xfrm>
            <a:off x="6400800" y="42814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AutoShape 31"/>
          <p:cNvSpPr/>
          <p:nvPr/>
        </p:nvSpPr>
        <p:spPr>
          <a:xfrm flipH="1" rot="5400000">
            <a:off x="5637960" y="2566800"/>
            <a:ext cx="228600" cy="2286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32"/>
          <p:cNvSpPr/>
          <p:nvPr/>
        </p:nvSpPr>
        <p:spPr>
          <a:xfrm>
            <a:off x="5924520" y="25290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33"/>
          <p:cNvSpPr/>
          <p:nvPr/>
        </p:nvSpPr>
        <p:spPr>
          <a:xfrm>
            <a:off x="5410080" y="26812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34"/>
          <p:cNvSpPr/>
          <p:nvPr/>
        </p:nvSpPr>
        <p:spPr>
          <a:xfrm>
            <a:off x="2133720" y="2909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4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35"/>
          <p:cNvSpPr/>
          <p:nvPr/>
        </p:nvSpPr>
        <p:spPr>
          <a:xfrm>
            <a:off x="3200400" y="5958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向压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1981080" y="1371600"/>
            <a:ext cx="2133720" cy="2819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2438280" y="1676520"/>
            <a:ext cx="129564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AutoShape 4"/>
          <p:cNvSpPr/>
          <p:nvPr/>
        </p:nvSpPr>
        <p:spPr>
          <a:xfrm rot="5400000">
            <a:off x="2399760" y="2438280"/>
            <a:ext cx="15264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Line 5"/>
          <p:cNvSpPr/>
          <p:nvPr/>
        </p:nvSpPr>
        <p:spPr>
          <a:xfrm>
            <a:off x="2552760" y="245736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2286000" y="25146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Oval 7"/>
          <p:cNvSpPr/>
          <p:nvPr/>
        </p:nvSpPr>
        <p:spPr>
          <a:xfrm>
            <a:off x="2724120" y="2590920"/>
            <a:ext cx="719280" cy="718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Line 8"/>
          <p:cNvSpPr/>
          <p:nvPr/>
        </p:nvSpPr>
        <p:spPr>
          <a:xfrm flipH="1" flipV="1">
            <a:off x="2895120" y="276228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Oval 9"/>
          <p:cNvSpPr/>
          <p:nvPr/>
        </p:nvSpPr>
        <p:spPr>
          <a:xfrm>
            <a:off x="3581280" y="36576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2438280" y="36576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3505320" y="3828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2190600" y="384804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5715000" y="1981080"/>
            <a:ext cx="838080" cy="228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14"/>
          <p:cNvSpPr/>
          <p:nvPr/>
        </p:nvSpPr>
        <p:spPr>
          <a:xfrm flipH="1">
            <a:off x="5257800" y="20955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15"/>
          <p:cNvSpPr/>
          <p:nvPr/>
        </p:nvSpPr>
        <p:spPr>
          <a:xfrm flipH="1">
            <a:off x="6553080" y="20764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5486400" y="1905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6781680" y="1905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5791320" y="1981080"/>
            <a:ext cx="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5410080" y="2514600"/>
            <a:ext cx="1526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6705720" y="2514600"/>
            <a:ext cx="15228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5486400" y="3124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22"/>
          <p:cNvSpPr/>
          <p:nvPr/>
        </p:nvSpPr>
        <p:spPr>
          <a:xfrm>
            <a:off x="3733920" y="37339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Line 23"/>
          <p:cNvSpPr/>
          <p:nvPr/>
        </p:nvSpPr>
        <p:spPr>
          <a:xfrm>
            <a:off x="2552760" y="37339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24"/>
          <p:cNvSpPr/>
          <p:nvPr/>
        </p:nvSpPr>
        <p:spPr>
          <a:xfrm>
            <a:off x="3162240" y="37339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25"/>
          <p:cNvSpPr/>
          <p:nvPr/>
        </p:nvSpPr>
        <p:spPr>
          <a:xfrm>
            <a:off x="3143160" y="449568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26"/>
          <p:cNvSpPr/>
          <p:nvPr/>
        </p:nvSpPr>
        <p:spPr>
          <a:xfrm>
            <a:off x="6781680" y="31240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AutoShape 27"/>
          <p:cNvSpPr/>
          <p:nvPr/>
        </p:nvSpPr>
        <p:spPr>
          <a:xfrm rot="16200000">
            <a:off x="6019920" y="1409400"/>
            <a:ext cx="228600" cy="2286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28"/>
          <p:cNvSpPr/>
          <p:nvPr/>
        </p:nvSpPr>
        <p:spPr>
          <a:xfrm>
            <a:off x="6019920" y="1371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29"/>
          <p:cNvSpPr/>
          <p:nvPr/>
        </p:nvSpPr>
        <p:spPr>
          <a:xfrm flipH="1">
            <a:off x="5791320" y="15238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30"/>
          <p:cNvSpPr/>
          <p:nvPr/>
        </p:nvSpPr>
        <p:spPr>
          <a:xfrm>
            <a:off x="2514600" y="1752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31"/>
          <p:cNvSpPr/>
          <p:nvPr/>
        </p:nvSpPr>
        <p:spPr>
          <a:xfrm>
            <a:off x="3581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向压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85800" y="33336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③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发光二极管测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正、反向压降与普通二极管的测试方法一致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光二极管的发光检测。将转换开关拨至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FE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处，然后将发光二极管的长（＋）脚插入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PN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孔中，短（－）脚插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孔中，管子发光为正常。若不发光 ，则说明 管脚插反或管子已坏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1981080" y="1828800"/>
            <a:ext cx="2133720" cy="2819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2438280" y="1981080"/>
            <a:ext cx="1295640" cy="609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AutoShape 4"/>
          <p:cNvSpPr/>
          <p:nvPr/>
        </p:nvSpPr>
        <p:spPr>
          <a:xfrm rot="5400000">
            <a:off x="2399760" y="2895480"/>
            <a:ext cx="15264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5"/>
          <p:cNvSpPr/>
          <p:nvPr/>
        </p:nvSpPr>
        <p:spPr>
          <a:xfrm>
            <a:off x="2552760" y="291456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Line 6"/>
          <p:cNvSpPr/>
          <p:nvPr/>
        </p:nvSpPr>
        <p:spPr>
          <a:xfrm>
            <a:off x="2286000" y="29718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7"/>
          <p:cNvSpPr/>
          <p:nvPr/>
        </p:nvSpPr>
        <p:spPr>
          <a:xfrm>
            <a:off x="2724120" y="3319560"/>
            <a:ext cx="719280" cy="718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8"/>
          <p:cNvSpPr/>
          <p:nvPr/>
        </p:nvSpPr>
        <p:spPr>
          <a:xfrm flipV="1">
            <a:off x="2904120" y="3479400"/>
            <a:ext cx="362520" cy="32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Oval 9"/>
          <p:cNvSpPr/>
          <p:nvPr/>
        </p:nvSpPr>
        <p:spPr>
          <a:xfrm>
            <a:off x="3581280" y="41148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3505320" y="4286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2190600" y="430524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251460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AutoShape 14"/>
          <p:cNvSpPr/>
          <p:nvPr/>
        </p:nvSpPr>
        <p:spPr>
          <a:xfrm rot="16200000">
            <a:off x="6324840" y="1828800"/>
            <a:ext cx="761760" cy="457200"/>
          </a:xfrm>
          <a:prstGeom prst="flowChartDe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15"/>
          <p:cNvSpPr/>
          <p:nvPr/>
        </p:nvSpPr>
        <p:spPr>
          <a:xfrm>
            <a:off x="6324480" y="2438280"/>
            <a:ext cx="762120" cy="152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AutoShape 16"/>
          <p:cNvSpPr/>
          <p:nvPr/>
        </p:nvSpPr>
        <p:spPr>
          <a:xfrm rot="5400000">
            <a:off x="6478920" y="2118240"/>
            <a:ext cx="304560" cy="17964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AutoShape 17"/>
          <p:cNvSpPr/>
          <p:nvPr/>
        </p:nvSpPr>
        <p:spPr>
          <a:xfrm flipH="1">
            <a:off x="6750000" y="2247840"/>
            <a:ext cx="108000" cy="15264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18"/>
          <p:cNvSpPr/>
          <p:nvPr/>
        </p:nvSpPr>
        <p:spPr>
          <a:xfrm>
            <a:off x="6858000" y="259092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19"/>
          <p:cNvSpPr/>
          <p:nvPr/>
        </p:nvSpPr>
        <p:spPr>
          <a:xfrm>
            <a:off x="6553080" y="25909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Oval 20"/>
          <p:cNvSpPr/>
          <p:nvPr/>
        </p:nvSpPr>
        <p:spPr>
          <a:xfrm>
            <a:off x="3809880" y="304812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Oval 21"/>
          <p:cNvSpPr/>
          <p:nvPr/>
        </p:nvSpPr>
        <p:spPr>
          <a:xfrm>
            <a:off x="3809880" y="286380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3257640" y="31431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F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Oval 23"/>
          <p:cNvSpPr/>
          <p:nvPr/>
        </p:nvSpPr>
        <p:spPr>
          <a:xfrm>
            <a:off x="3809880" y="266688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3505320" y="24955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3524400" y="270504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26"/>
          <p:cNvSpPr/>
          <p:nvPr/>
        </p:nvSpPr>
        <p:spPr>
          <a:xfrm>
            <a:off x="3524400" y="2895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27"/>
          <p:cNvSpPr/>
          <p:nvPr/>
        </p:nvSpPr>
        <p:spPr>
          <a:xfrm>
            <a:off x="3886200" y="27432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28"/>
          <p:cNvSpPr/>
          <p:nvPr/>
        </p:nvSpPr>
        <p:spPr>
          <a:xfrm>
            <a:off x="3905280" y="3124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29"/>
          <p:cNvSpPr/>
          <p:nvPr/>
        </p:nvSpPr>
        <p:spPr>
          <a:xfrm>
            <a:off x="5181480" y="3124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5181480" y="394344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67816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32"/>
          <p:cNvSpPr/>
          <p:nvPr/>
        </p:nvSpPr>
        <p:spPr>
          <a:xfrm>
            <a:off x="609588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Line 33"/>
          <p:cNvSpPr/>
          <p:nvPr/>
        </p:nvSpPr>
        <p:spPr>
          <a:xfrm flipV="1">
            <a:off x="7238880" y="152352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Line 34"/>
          <p:cNvSpPr/>
          <p:nvPr/>
        </p:nvSpPr>
        <p:spPr>
          <a:xfrm flipV="1">
            <a:off x="7391520" y="1676520"/>
            <a:ext cx="3045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5800" y="115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三极管的判别与检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）三极管极性的识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于小功率三极管来说，有金属外壳和塑料外壳封装两种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3"/>
          <p:cNvSpPr/>
          <p:nvPr/>
        </p:nvSpPr>
        <p:spPr>
          <a:xfrm>
            <a:off x="2284560" y="3235320"/>
            <a:ext cx="1295280" cy="1219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2131920" y="3921120"/>
            <a:ext cx="1447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Oval 5"/>
          <p:cNvSpPr/>
          <p:nvPr/>
        </p:nvSpPr>
        <p:spPr>
          <a:xfrm>
            <a:off x="3255840" y="3692520"/>
            <a:ext cx="152640" cy="15228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Oval 6"/>
          <p:cNvSpPr/>
          <p:nvPr/>
        </p:nvSpPr>
        <p:spPr>
          <a:xfrm>
            <a:off x="2855880" y="3387600"/>
            <a:ext cx="152280" cy="15264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Oval 7"/>
          <p:cNvSpPr/>
          <p:nvPr/>
        </p:nvSpPr>
        <p:spPr>
          <a:xfrm>
            <a:off x="2494080" y="3692520"/>
            <a:ext cx="152280" cy="152280"/>
          </a:xfrm>
          <a:prstGeom prst="ellipse">
            <a:avLst/>
          </a:pr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8"/>
          <p:cNvSpPr/>
          <p:nvPr/>
        </p:nvSpPr>
        <p:spPr>
          <a:xfrm flipH="1">
            <a:off x="2265480" y="3825720"/>
            <a:ext cx="30456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9"/>
          <p:cNvSpPr/>
          <p:nvPr/>
        </p:nvSpPr>
        <p:spPr>
          <a:xfrm>
            <a:off x="2932200" y="306396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Line 10"/>
          <p:cNvSpPr/>
          <p:nvPr/>
        </p:nvSpPr>
        <p:spPr>
          <a:xfrm flipV="1">
            <a:off x="3351240" y="3387240"/>
            <a:ext cx="9144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Line 11"/>
          <p:cNvSpPr/>
          <p:nvPr/>
        </p:nvSpPr>
        <p:spPr>
          <a:xfrm>
            <a:off x="1674720" y="34639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1141560" y="293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位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2036880" y="49118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2741760" y="26258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4132440" y="3043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16"/>
          <p:cNvSpPr/>
          <p:nvPr/>
        </p:nvSpPr>
        <p:spPr>
          <a:xfrm>
            <a:off x="1674720" y="5578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金属外壳封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AutoShape 17"/>
          <p:cNvSpPr/>
          <p:nvPr/>
        </p:nvSpPr>
        <p:spPr>
          <a:xfrm rot="16200000">
            <a:off x="6310440" y="2689200"/>
            <a:ext cx="287280" cy="719280"/>
          </a:xfrm>
          <a:prstGeom prst="flowChartDe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18"/>
          <p:cNvSpPr/>
          <p:nvPr/>
        </p:nvSpPr>
        <p:spPr>
          <a:xfrm>
            <a:off x="6113520" y="3197160"/>
            <a:ext cx="685800" cy="838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19"/>
          <p:cNvSpPr/>
          <p:nvPr/>
        </p:nvSpPr>
        <p:spPr>
          <a:xfrm flipH="1">
            <a:off x="5942160" y="3997440"/>
            <a:ext cx="30456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Line 20"/>
          <p:cNvSpPr/>
          <p:nvPr/>
        </p:nvSpPr>
        <p:spPr>
          <a:xfrm>
            <a:off x="6456240" y="4016520"/>
            <a:ext cx="0" cy="9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Line 21"/>
          <p:cNvSpPr/>
          <p:nvPr/>
        </p:nvSpPr>
        <p:spPr>
          <a:xfrm>
            <a:off x="6627960" y="3997440"/>
            <a:ext cx="38088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Text Box 22"/>
          <p:cNvSpPr/>
          <p:nvPr/>
        </p:nvSpPr>
        <p:spPr>
          <a:xfrm>
            <a:off x="6094440" y="3483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5770440" y="48736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6303960" y="4873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6837480" y="4854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5370480" y="5616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塑料外壳封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1960" y="76320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）三极管的检测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①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判别基极和三极管的类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1600200" y="2212920"/>
            <a:ext cx="2133720" cy="2819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2057400" y="2517840"/>
            <a:ext cx="129528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AutoShape 5"/>
          <p:cNvSpPr/>
          <p:nvPr/>
        </p:nvSpPr>
        <p:spPr>
          <a:xfrm rot="5400000">
            <a:off x="2019240" y="3279600"/>
            <a:ext cx="15264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6"/>
          <p:cNvSpPr/>
          <p:nvPr/>
        </p:nvSpPr>
        <p:spPr>
          <a:xfrm>
            <a:off x="2171880" y="3298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7"/>
          <p:cNvSpPr/>
          <p:nvPr/>
        </p:nvSpPr>
        <p:spPr>
          <a:xfrm>
            <a:off x="1905120" y="33559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Oval 8"/>
          <p:cNvSpPr/>
          <p:nvPr/>
        </p:nvSpPr>
        <p:spPr>
          <a:xfrm>
            <a:off x="2343240" y="3432240"/>
            <a:ext cx="718920" cy="718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9"/>
          <p:cNvSpPr/>
          <p:nvPr/>
        </p:nvSpPr>
        <p:spPr>
          <a:xfrm flipH="1" flipV="1">
            <a:off x="2514240" y="36036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Oval 10"/>
          <p:cNvSpPr/>
          <p:nvPr/>
        </p:nvSpPr>
        <p:spPr>
          <a:xfrm>
            <a:off x="3200400" y="4498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Oval 11"/>
          <p:cNvSpPr/>
          <p:nvPr/>
        </p:nvSpPr>
        <p:spPr>
          <a:xfrm>
            <a:off x="2057400" y="4498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12"/>
          <p:cNvSpPr/>
          <p:nvPr/>
        </p:nvSpPr>
        <p:spPr>
          <a:xfrm>
            <a:off x="3124080" y="4670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1809720" y="46893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14"/>
          <p:cNvSpPr/>
          <p:nvPr/>
        </p:nvSpPr>
        <p:spPr>
          <a:xfrm>
            <a:off x="2171880" y="457524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15"/>
          <p:cNvSpPr/>
          <p:nvPr/>
        </p:nvSpPr>
        <p:spPr>
          <a:xfrm>
            <a:off x="2781360" y="457524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 Box 16"/>
          <p:cNvSpPr/>
          <p:nvPr/>
        </p:nvSpPr>
        <p:spPr>
          <a:xfrm>
            <a:off x="2133720" y="2593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4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AutoShape 17"/>
          <p:cNvSpPr/>
          <p:nvPr/>
        </p:nvSpPr>
        <p:spPr>
          <a:xfrm>
            <a:off x="5715000" y="2556000"/>
            <a:ext cx="457200" cy="3808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AutoShape 18"/>
          <p:cNvSpPr/>
          <p:nvPr/>
        </p:nvSpPr>
        <p:spPr>
          <a:xfrm flipV="1">
            <a:off x="5715000" y="3851280"/>
            <a:ext cx="457200" cy="3808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5943600" y="2098800"/>
            <a:ext cx="0" cy="3238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Line 20"/>
          <p:cNvSpPr/>
          <p:nvPr/>
        </p:nvSpPr>
        <p:spPr>
          <a:xfrm>
            <a:off x="5181480" y="3394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21"/>
          <p:cNvSpPr/>
          <p:nvPr/>
        </p:nvSpPr>
        <p:spPr>
          <a:xfrm>
            <a:off x="5715000" y="2556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22"/>
          <p:cNvSpPr/>
          <p:nvPr/>
        </p:nvSpPr>
        <p:spPr>
          <a:xfrm>
            <a:off x="5715000" y="4232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23"/>
          <p:cNvSpPr/>
          <p:nvPr/>
        </p:nvSpPr>
        <p:spPr>
          <a:xfrm>
            <a:off x="3371760" y="457524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Line 24"/>
          <p:cNvSpPr/>
          <p:nvPr/>
        </p:nvSpPr>
        <p:spPr>
          <a:xfrm>
            <a:off x="5162400" y="33750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5086440" y="3660840"/>
            <a:ext cx="152280" cy="533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26"/>
          <p:cNvSpPr/>
          <p:nvPr/>
        </p:nvSpPr>
        <p:spPr>
          <a:xfrm>
            <a:off x="2762280" y="53182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Rectangle 27"/>
          <p:cNvSpPr/>
          <p:nvPr/>
        </p:nvSpPr>
        <p:spPr>
          <a:xfrm>
            <a:off x="1066680" y="6553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Rectangle 28"/>
          <p:cNvSpPr/>
          <p:nvPr/>
        </p:nvSpPr>
        <p:spPr>
          <a:xfrm rot="5400000">
            <a:off x="5219640" y="5051160"/>
            <a:ext cx="15228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29"/>
          <p:cNvSpPr/>
          <p:nvPr/>
        </p:nvSpPr>
        <p:spPr>
          <a:xfrm>
            <a:off x="4343400" y="21366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Rectangle 30"/>
          <p:cNvSpPr/>
          <p:nvPr/>
        </p:nvSpPr>
        <p:spPr>
          <a:xfrm rot="5400000">
            <a:off x="5238720" y="1869840"/>
            <a:ext cx="15228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31"/>
          <p:cNvSpPr/>
          <p:nvPr/>
        </p:nvSpPr>
        <p:spPr>
          <a:xfrm>
            <a:off x="4343400" y="213660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32"/>
          <p:cNvSpPr/>
          <p:nvPr/>
        </p:nvSpPr>
        <p:spPr>
          <a:xfrm>
            <a:off x="6781680" y="343224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33"/>
          <p:cNvSpPr/>
          <p:nvPr/>
        </p:nvSpPr>
        <p:spPr>
          <a:xfrm flipV="1">
            <a:off x="7391520" y="310824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34"/>
          <p:cNvSpPr/>
          <p:nvPr/>
        </p:nvSpPr>
        <p:spPr>
          <a:xfrm flipV="1">
            <a:off x="7391520" y="2898360"/>
            <a:ext cx="3808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35"/>
          <p:cNvSpPr/>
          <p:nvPr/>
        </p:nvSpPr>
        <p:spPr>
          <a:xfrm>
            <a:off x="7391520" y="358452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36"/>
          <p:cNvSpPr/>
          <p:nvPr/>
        </p:nvSpPr>
        <p:spPr>
          <a:xfrm>
            <a:off x="758196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37"/>
          <p:cNvSpPr/>
          <p:nvPr/>
        </p:nvSpPr>
        <p:spPr>
          <a:xfrm>
            <a:off x="6438960" y="3201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38"/>
          <p:cNvSpPr/>
          <p:nvPr/>
        </p:nvSpPr>
        <p:spPr>
          <a:xfrm>
            <a:off x="7696080" y="25178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39"/>
          <p:cNvSpPr/>
          <p:nvPr/>
        </p:nvSpPr>
        <p:spPr>
          <a:xfrm>
            <a:off x="7029360" y="43275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）准确度高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569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字万用表的准确度是测量结果中系统误差和随机误差的综合，它表示测量结果与真值的一致程度，也反映出测量误差的大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准确度有两种表达式，分别如下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准确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﹪RDG+b﹪F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准确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﹪RDG+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字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D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读数值（即显示值）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满度值。括弧内前一项代表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/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换器和功能转换器的综合误差，后一项是由于数字化处理而带来的误差。对于某块数字万用表而言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与选择的测量项目及量程有关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则基本是固定的，通常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≤a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5800" y="88560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②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判别集电极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和发射极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用数字万用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档可测出三极管的集电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发射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项目、量程开关拨至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FE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此时红、黑两表笔不起作用，根据三极管的类型将三极管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三个脚插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个孔中，若屏幕显示大于一百以上，则说明管子插入正确，若显示只有几十则说明管子引脚插错了孔，需重新测试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1676520" y="1447920"/>
            <a:ext cx="2133360" cy="2819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2133720" y="1600200"/>
            <a:ext cx="129528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AutoShape 4"/>
          <p:cNvSpPr/>
          <p:nvPr/>
        </p:nvSpPr>
        <p:spPr>
          <a:xfrm rot="5400000">
            <a:off x="209520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5"/>
          <p:cNvSpPr/>
          <p:nvPr/>
        </p:nvSpPr>
        <p:spPr>
          <a:xfrm>
            <a:off x="2247840" y="253368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Line 6"/>
          <p:cNvSpPr/>
          <p:nvPr/>
        </p:nvSpPr>
        <p:spPr>
          <a:xfrm>
            <a:off x="1981080" y="25909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Oval 7"/>
          <p:cNvSpPr/>
          <p:nvPr/>
        </p:nvSpPr>
        <p:spPr>
          <a:xfrm>
            <a:off x="2419200" y="2938320"/>
            <a:ext cx="719280" cy="719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8"/>
          <p:cNvSpPr/>
          <p:nvPr/>
        </p:nvSpPr>
        <p:spPr>
          <a:xfrm flipV="1">
            <a:off x="2562120" y="3136320"/>
            <a:ext cx="362160" cy="32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Oval 9"/>
          <p:cNvSpPr/>
          <p:nvPr/>
        </p:nvSpPr>
        <p:spPr>
          <a:xfrm>
            <a:off x="327672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Oval 10"/>
          <p:cNvSpPr/>
          <p:nvPr/>
        </p:nvSpPr>
        <p:spPr>
          <a:xfrm>
            <a:off x="2133720" y="3733920"/>
            <a:ext cx="152280" cy="152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200400" y="3905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1886040" y="39243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2209680" y="1676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Oval 14"/>
          <p:cNvSpPr/>
          <p:nvPr/>
        </p:nvSpPr>
        <p:spPr>
          <a:xfrm>
            <a:off x="3505320" y="266688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Oval 15"/>
          <p:cNvSpPr/>
          <p:nvPr/>
        </p:nvSpPr>
        <p:spPr>
          <a:xfrm>
            <a:off x="3505320" y="248292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2952720" y="2762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F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Oval 17"/>
          <p:cNvSpPr/>
          <p:nvPr/>
        </p:nvSpPr>
        <p:spPr>
          <a:xfrm>
            <a:off x="3505320" y="2286000"/>
            <a:ext cx="108000" cy="1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Text Box 18"/>
          <p:cNvSpPr/>
          <p:nvPr/>
        </p:nvSpPr>
        <p:spPr>
          <a:xfrm>
            <a:off x="3200400" y="21146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19"/>
          <p:cNvSpPr/>
          <p:nvPr/>
        </p:nvSpPr>
        <p:spPr>
          <a:xfrm>
            <a:off x="3219480" y="2324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20"/>
          <p:cNvSpPr/>
          <p:nvPr/>
        </p:nvSpPr>
        <p:spPr>
          <a:xfrm>
            <a:off x="3219480" y="2514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21"/>
          <p:cNvSpPr/>
          <p:nvPr/>
        </p:nvSpPr>
        <p:spPr>
          <a:xfrm>
            <a:off x="25146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AutoShape 22"/>
          <p:cNvSpPr/>
          <p:nvPr/>
        </p:nvSpPr>
        <p:spPr>
          <a:xfrm>
            <a:off x="5410080" y="2057400"/>
            <a:ext cx="457200" cy="3808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AutoShape 23"/>
          <p:cNvSpPr/>
          <p:nvPr/>
        </p:nvSpPr>
        <p:spPr>
          <a:xfrm flipV="1">
            <a:off x="5410080" y="3351960"/>
            <a:ext cx="457200" cy="3812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Line 24"/>
          <p:cNvSpPr/>
          <p:nvPr/>
        </p:nvSpPr>
        <p:spPr>
          <a:xfrm>
            <a:off x="5638680" y="165744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Line 25"/>
          <p:cNvSpPr/>
          <p:nvPr/>
        </p:nvSpPr>
        <p:spPr>
          <a:xfrm>
            <a:off x="5410080" y="2057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Line 26"/>
          <p:cNvSpPr/>
          <p:nvPr/>
        </p:nvSpPr>
        <p:spPr>
          <a:xfrm>
            <a:off x="5410080" y="3733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Line 27"/>
          <p:cNvSpPr/>
          <p:nvPr/>
        </p:nvSpPr>
        <p:spPr>
          <a:xfrm>
            <a:off x="4952880" y="2895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Line 28"/>
          <p:cNvSpPr/>
          <p:nvPr/>
        </p:nvSpPr>
        <p:spPr>
          <a:xfrm flipV="1">
            <a:off x="3581280" y="1828800"/>
            <a:ext cx="838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29"/>
          <p:cNvSpPr/>
          <p:nvPr/>
        </p:nvSpPr>
        <p:spPr>
          <a:xfrm>
            <a:off x="4419720" y="18288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30"/>
          <p:cNvSpPr/>
          <p:nvPr/>
        </p:nvSpPr>
        <p:spPr>
          <a:xfrm>
            <a:off x="3581280" y="2514600"/>
            <a:ext cx="1524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31"/>
          <p:cNvSpPr/>
          <p:nvPr/>
        </p:nvSpPr>
        <p:spPr>
          <a:xfrm>
            <a:off x="3505320" y="2743200"/>
            <a:ext cx="2133360" cy="1371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Line 32"/>
          <p:cNvSpPr/>
          <p:nvPr/>
        </p:nvSpPr>
        <p:spPr>
          <a:xfrm>
            <a:off x="3581280" y="2743200"/>
            <a:ext cx="205740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Line 33"/>
          <p:cNvSpPr/>
          <p:nvPr/>
        </p:nvSpPr>
        <p:spPr>
          <a:xfrm>
            <a:off x="6477120" y="3352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Line 34"/>
          <p:cNvSpPr/>
          <p:nvPr/>
        </p:nvSpPr>
        <p:spPr>
          <a:xfrm flipV="1">
            <a:off x="7086600" y="302868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Line 35"/>
          <p:cNvSpPr/>
          <p:nvPr/>
        </p:nvSpPr>
        <p:spPr>
          <a:xfrm flipV="1">
            <a:off x="7086600" y="28195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Line 36"/>
          <p:cNvSpPr/>
          <p:nvPr/>
        </p:nvSpPr>
        <p:spPr>
          <a:xfrm>
            <a:off x="7086600" y="35053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Text Box 37"/>
          <p:cNvSpPr/>
          <p:nvPr/>
        </p:nvSpPr>
        <p:spPr>
          <a:xfrm>
            <a:off x="7277040" y="3790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8"/>
          <p:cNvSpPr/>
          <p:nvPr/>
        </p:nvSpPr>
        <p:spPr>
          <a:xfrm>
            <a:off x="6134040" y="31226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Text Box 39"/>
          <p:cNvSpPr/>
          <p:nvPr/>
        </p:nvSpPr>
        <p:spPr>
          <a:xfrm>
            <a:off x="6724800" y="4248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Text Box 40"/>
          <p:cNvSpPr/>
          <p:nvPr/>
        </p:nvSpPr>
        <p:spPr>
          <a:xfrm>
            <a:off x="7257960" y="2419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使用之前，应熟悉电源开关、功能及转换开关、输入插孔、专用插口（例如晶体管插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F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电容器插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刚开始测量时仪表会出现跳数现象，应等待显示值稳定之后再去测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尽量避免操作上的误动作，如用电流挡去测电压，用电阻去测电压或电流，用电容挡去测带电的电容器等，以免损坏仪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-27000" y="6948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注意事项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事先无法估计被测电压（或电流）的大小时，应先拨至最高量程试测一次，再根据情况选择合适的量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某些数字万用表具有自动关机功能。使用中如果发现突然消隐，说明电源已被切断，仪表进入“休眠”状态。只要重新启动电源，即可恢复正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测量完毕，先将量程开关拨至最高电压挡，再关闭电源防止下次开始测量时不慎损坏仪表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856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若万用表最高位显示数字 “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其他位消隐，证明仪表已发生过载，应选择更高的量程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当输入电流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m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应将红表笔改接至 “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 A 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插孔，该孔一般未加保护装置，因此测量大电流时间不得超过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~15 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以免锰铜分流电阻发热后改变电阻值，影响读数的准确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2120" y="60156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42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测量电阻、二极管、检查线路通断时，红表笔应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插孔，此时红表笔带正电，黑表笔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插孔带负电，这与模拟表的电阻挡恰好相反。检测二极管、晶体管、发光二极管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电解电容器等有极性的元器件时，必须注意表笔的极性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阻挡测量电阻时，应先将两支表笔短路，测出两根表笔引线的电阻值，一般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~0.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每次测量完毕需把测量结果减去此值，才是实际电阻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9EF9-CDBE-454E-9D9A-D6F7D5B11D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文本框 5"/>
          <p:cNvSpPr/>
          <p:nvPr/>
        </p:nvSpPr>
        <p:spPr>
          <a:xfrm>
            <a:off x="914400" y="42876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下述哪项实验室的万用表不能捡测？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文本框 6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电阻、电容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文本框 7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电压、电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文本框 8"/>
          <p:cNvSpPr/>
          <p:nvPr/>
        </p:nvSpPr>
        <p:spPr>
          <a:xfrm>
            <a:off x="1828800" y="450072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二极管、三极管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文本框 9"/>
          <p:cNvSpPr/>
          <p:nvPr/>
        </p:nvSpPr>
        <p:spPr>
          <a:xfrm>
            <a:off x="1828800" y="535788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电感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椭圆 10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椭圆 11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椭圆 12"/>
          <p:cNvSpPr/>
          <p:nvPr/>
        </p:nvSpPr>
        <p:spPr>
          <a:xfrm>
            <a:off x="1114560" y="456408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椭圆 13"/>
          <p:cNvSpPr/>
          <p:nvPr/>
        </p:nvSpPr>
        <p:spPr>
          <a:xfrm>
            <a:off x="1114560" y="542124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圆角矩形 14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提交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1" name="组合 19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432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36" name="图片 4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3" descr=""/>
          <p:cNvPicPr/>
          <p:nvPr/>
        </p:nvPicPr>
        <p:blipFill>
          <a:blip r:embed="rId1"/>
          <a:stretch/>
        </p:blipFill>
        <p:spPr>
          <a:xfrm>
            <a:off x="900000" y="1035000"/>
            <a:ext cx="68407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547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位半显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大地之间的电位差不得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被测电压高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C60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36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场合，均应小心谨慎，防止触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盖没有盖好前严禁使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测量前，量程开关应置于对应量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入信号不允许超过规定的极限值，以防电击和损坏仪表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严禁量程开关在测量时任意改变档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09480" y="12204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、数字万用表的使用要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5891040" y="0"/>
            <a:ext cx="32832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3"/>
          <p:cNvSpPr/>
          <p:nvPr/>
        </p:nvSpPr>
        <p:spPr>
          <a:xfrm>
            <a:off x="3773520" y="5373720"/>
            <a:ext cx="1863720" cy="1008000"/>
          </a:xfrm>
          <a:prstGeom prst="wedgeRoundRectCallout">
            <a:avLst>
              <a:gd name="adj1" fmla="val 97685"/>
              <a:gd name="adj2" fmla="val -16518"/>
              <a:gd name="adj3" fmla="val 16667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防表笔误接插装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4"/>
          <p:cNvSpPr/>
          <p:nvPr/>
        </p:nvSpPr>
        <p:spPr>
          <a:xfrm>
            <a:off x="7812000" y="981000"/>
            <a:ext cx="1079640" cy="647640"/>
          </a:xfrm>
          <a:prstGeom prst="wedgeRoundRectCallout">
            <a:avLst>
              <a:gd name="adj1" fmla="val 884"/>
              <a:gd name="adj2" fmla="val 198282"/>
              <a:gd name="adj3" fmla="val 16667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开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15"/>
          <p:cNvSpPr/>
          <p:nvPr/>
        </p:nvSpPr>
        <p:spPr>
          <a:xfrm>
            <a:off x="5867280" y="981000"/>
            <a:ext cx="1663920" cy="936720"/>
          </a:xfrm>
          <a:prstGeom prst="wedgeRoundRectCallout">
            <a:avLst>
              <a:gd name="adj1" fmla="val 65935"/>
              <a:gd name="adj2" fmla="val 270509"/>
              <a:gd name="adj3" fmla="val 16667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测量类型选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5219640" y="3213000"/>
            <a:ext cx="3673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用时请及时关闭电源。有欠压显示后，测量数据的准确度将受到影响，请自行更换电池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3851280" cy="21621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5"/>
          <p:cNvSpPr/>
          <p:nvPr/>
        </p:nvSpPr>
        <p:spPr>
          <a:xfrm>
            <a:off x="6732720" y="404640"/>
            <a:ext cx="1590480" cy="576360"/>
          </a:xfrm>
          <a:prstGeom prst="wedgeRoundRectCallout">
            <a:avLst>
              <a:gd name="adj1" fmla="val -114472"/>
              <a:gd name="adj2" fmla="val 359092"/>
              <a:gd name="adj3" fmla="val 16667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欠压指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99640" y="-98640"/>
            <a:ext cx="5681880" cy="100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万用表电池更换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2843280" y="1268280"/>
            <a:ext cx="2370240" cy="4832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3"/>
          <a:stretch/>
        </p:blipFill>
        <p:spPr>
          <a:xfrm>
            <a:off x="250920" y="1268280"/>
            <a:ext cx="24001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-5544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MY61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主要技术指标 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07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境温度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3±5℃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相对湿度：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交流测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频率范围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测试点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Hz/50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响应：平均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弦波有效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517680" y="3284640"/>
            <a:ext cx="4186080" cy="1657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560" y="-100080"/>
            <a:ext cx="50166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测量电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525132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黑色表笔插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红色表笔插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/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换开关置于相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量程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两表笔接在要测量的电路两端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5859360" y="0"/>
            <a:ext cx="328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7"/>
          <p:cNvSpPr/>
          <p:nvPr/>
        </p:nvSpPr>
        <p:spPr>
          <a:xfrm>
            <a:off x="517680" y="492912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例：</a:t>
            </a: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0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档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读数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4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650880" y="5362560"/>
            <a:ext cx="797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.4±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.4×0.8%+0.1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×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）     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3.4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±0.327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= 3.4±0.3  (3.1~3.7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  <a:ea typeface="Courier New"/>
              </a:rPr>
              <a:t>Ω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4352760" y="5799240"/>
            <a:ext cx="47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用大量程测量小量，误差很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93" descr=""/>
          <p:cNvPicPr/>
          <p:nvPr/>
        </p:nvPicPr>
        <p:blipFill>
          <a:blip r:embed="rId1"/>
          <a:stretch/>
        </p:blipFill>
        <p:spPr>
          <a:xfrm>
            <a:off x="900000" y="1035000"/>
            <a:ext cx="6840720" cy="3905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-171360"/>
            <a:ext cx="50166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测量电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04:52:12Z</dcterms:created>
  <dc:creator>Gan</dc:creator>
  <dc:description/>
  <dc:language>en-US</dc:language>
  <cp:lastModifiedBy>lenovo</cp:lastModifiedBy>
  <dcterms:modified xsi:type="dcterms:W3CDTF">2018-07-29T06:39:45Z</dcterms:modified>
  <cp:revision>155</cp:revision>
  <dc:subject/>
  <dc:title>实验3  仪表内阻对测量的影响</dc:title>
</cp:coreProperties>
</file>